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3CB-97B0-4E5C-9FC6-C45320E3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7E6-8DE7-4738-A75B-B66A39F4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4D7-1D19-43D6-BED1-8B298EF0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D78-7E1F-4B84-BF26-8451B1FF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F0DB-D655-458E-8C6A-3DB09ED0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ED74-4002-499B-A608-D567F137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95F0-E27E-41B7-A607-C2C65A0E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3DA7-1704-4AE2-976B-05812753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0ADC-3F45-4F80-B96A-275062B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959E-EE6D-4C14-A4B6-64484455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C7F9-12F1-4253-ABB6-2A15C63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315-8373-4960-8FBC-B9A5F95E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9490-1083-4DA3-A763-D0C1C834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5E52-0B22-4E61-9A78-1CEB7DA7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A9B8-D5F1-40F7-A91E-8925DD74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3717-30F3-46EC-8D1E-E9DD5028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6A99-D980-46BD-8DC3-B8A10E94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E2E-4089-42E1-90D7-C14AF33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D5B-001C-4CBB-8A6E-1AB4E91D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9ED-74D2-4634-A831-911E9972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F59-53C0-46F4-B77C-DE590A06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3AD-0511-4B73-8F6E-DF03398D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BDF-732A-4A78-972B-E1905E8F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796-EA8B-4E26-A4ED-77A08FD6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199FA4-DCA3-4E37-8CE9-497B7E4F15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5D8109-B99C-453E-A86B-D1F7941BD4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95280" y="333360"/>
            <a:ext cx="8424720" cy="5975280"/>
          </a:xfrm>
          <a:prstGeom prst="rect">
            <a:avLst/>
          </a:prstGeom>
          <a:solidFill>
            <a:srgbClr val="60597b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Календарный  год  состоит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з  четырёх  сезонов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наче  их  ещё  называют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«времена  года»: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зим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  <a:ea typeface="Arial"/>
              </a:rPr>
              <a:t>весны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  <a:ea typeface="Arial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лета, </a:t>
            </a:r>
            <a:r>
              <a:rPr b="1" lang="ru-RU" sz="3000" spc="-1" strike="noStrike">
                <a:solidFill>
                  <a:srgbClr val="ffc000"/>
                </a:solidFill>
                <a:latin typeface="Arial"/>
                <a:ea typeface="Arial"/>
              </a:rPr>
              <a:t>осени.</a:t>
            </a:r>
            <a:br>
              <a:rPr sz="3000"/>
            </a:br>
            <a:br>
              <a:rPr sz="3000"/>
            </a:br>
            <a:br>
              <a:rPr sz="3600"/>
            </a:b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Давай  узнаем  поподробнее</a:t>
            </a:r>
            <a:br>
              <a:rPr sz="2400"/>
            </a:b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о  каждом  из  н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м  не  менее, зима – замечательное  время  года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дь  зимой  и  только  зимой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зможны  многие  забавы  и  игры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пример, катание  на  санях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3_5"/>
          <p:cNvPicPr/>
          <p:nvPr/>
        </p:nvPicPr>
        <p:blipFill>
          <a:blip r:embed="rId1"/>
          <a:stretch/>
        </p:blipFill>
        <p:spPr>
          <a:xfrm>
            <a:off x="214200" y="2143080"/>
            <a:ext cx="524196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059489858-28"/>
          <p:cNvPicPr/>
          <p:nvPr/>
        </p:nvPicPr>
        <p:blipFill>
          <a:blip r:embed="rId2"/>
          <a:stretch/>
        </p:blipFill>
        <p:spPr>
          <a:xfrm>
            <a:off x="5572080" y="1643040"/>
            <a:ext cx="3264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коньках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  скользкому  льду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334039"/>
          <p:cNvPicPr/>
          <p:nvPr/>
        </p:nvPicPr>
        <p:blipFill>
          <a:blip r:embed="rId1"/>
          <a:stretch/>
        </p:blipFill>
        <p:spPr>
          <a:xfrm>
            <a:off x="4929120" y="3429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ynv2003_02"/>
          <p:cNvPicPr/>
          <p:nvPr/>
        </p:nvPicPr>
        <p:blipFill>
          <a:blip r:embed="rId2"/>
          <a:stretch/>
        </p:blipFill>
        <p:spPr>
          <a:xfrm>
            <a:off x="3924360" y="189000"/>
            <a:ext cx="5062320" cy="3240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4929120" y="62866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Ь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02926"/>
          <p:cNvPicPr/>
          <p:nvPr/>
        </p:nvPicPr>
        <p:blipFill>
          <a:blip r:embed="rId3"/>
          <a:srcRect l="0" t="0" r="95" b="80"/>
          <a:stretch/>
        </p:blipFill>
        <p:spPr>
          <a:xfrm>
            <a:off x="214200" y="2286000"/>
            <a:ext cx="3649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лыжах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zabavi3-1"/>
          <p:cNvPicPr/>
          <p:nvPr/>
        </p:nvPicPr>
        <p:blipFill>
          <a:blip r:embed="rId1"/>
          <a:stretch/>
        </p:blipFill>
        <p:spPr>
          <a:xfrm>
            <a:off x="3571920" y="357120"/>
            <a:ext cx="5280120" cy="395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fambackenDanik_a"/>
          <p:cNvPicPr/>
          <p:nvPr/>
        </p:nvPicPr>
        <p:blipFill>
          <a:blip r:embed="rId2"/>
          <a:stretch/>
        </p:blipFill>
        <p:spPr>
          <a:xfrm>
            <a:off x="214200" y="1571760"/>
            <a:ext cx="3171960" cy="467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334180"/>
          <p:cNvPicPr/>
          <p:nvPr/>
        </p:nvPicPr>
        <p:blipFill>
          <a:blip r:embed="rId3"/>
          <a:stretch/>
        </p:blipFill>
        <p:spPr>
          <a:xfrm>
            <a:off x="3643200" y="4857840"/>
            <a:ext cx="51469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643200" y="57862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Ы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щё  можно  играть  в  снеж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zabavi2-1"/>
          <p:cNvPicPr/>
          <p:nvPr/>
        </p:nvPicPr>
        <p:blipFill>
          <a:blip r:embed="rId1"/>
          <a:stretch/>
        </p:blipFill>
        <p:spPr>
          <a:xfrm>
            <a:off x="714240" y="1357200"/>
            <a:ext cx="7612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лепить  снегови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Capture-3"/>
          <p:cNvPicPr/>
          <p:nvPr/>
        </p:nvPicPr>
        <p:blipFill>
          <a:blip r:embed="rId1"/>
          <a:stretch/>
        </p:blipFill>
        <p:spPr>
          <a:xfrm>
            <a:off x="4716360" y="1628640"/>
            <a:ext cx="4238640" cy="4581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zabavi4-1"/>
          <p:cNvPicPr/>
          <p:nvPr/>
        </p:nvPicPr>
        <p:blipFill>
          <a:blip r:embed="rId2"/>
          <a:srcRect l="0" t="0" r="78" b="-614"/>
          <a:stretch/>
        </p:blipFill>
        <p:spPr>
          <a:xfrm>
            <a:off x="250920" y="1628640"/>
            <a:ext cx="428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50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Зима  состоит  из  трёх  меся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Первый  месяц  зимы – декаб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23"/>
          <p:cNvPicPr/>
          <p:nvPr/>
        </p:nvPicPr>
        <p:blipFill>
          <a:blip r:embed="rId1"/>
          <a:srcRect l="0" t="0" r="0" b="3606"/>
          <a:stretch/>
        </p:blipFill>
        <p:spPr>
          <a:xfrm>
            <a:off x="4786200" y="2071800"/>
            <a:ext cx="3984840" cy="2879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28760" y="1428840"/>
            <a:ext cx="464328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Декабрь  год  кончает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а  зиму  начинает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е  реки  покрыва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он  прочным  гладким  льд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  Рождество  справляют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  Новый  год  встречаю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е  люди  этим  белы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морозным  декабрё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            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(Т. Керсте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32" repeatCount="2000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22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Второй  месяц  зимы – янва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28760" y="500040"/>
            <a:ext cx="42145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Январь - начало  года,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Силён  его  мороз.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Уснула  вся  природ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Теперь  уж  не  до  гроз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д  снежным  покрывал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коится 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  краю  большом  и  малом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ё  белые  по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Бери  скорее  санки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з  дома  выбега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едем  спозаран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Кататься  в  снежный  кра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            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(Т. Керсте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Capture_7"/>
          <p:cNvPicPr/>
          <p:nvPr/>
        </p:nvPicPr>
        <p:blipFill>
          <a:blip r:embed="rId1"/>
          <a:srcRect l="0" t="0" r="-38" b="0"/>
          <a:stretch/>
        </p:blipFill>
        <p:spPr>
          <a:xfrm>
            <a:off x="4500720" y="1500120"/>
            <a:ext cx="4419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Capture-1"/>
          <p:cNvPicPr/>
          <p:nvPr/>
        </p:nvPicPr>
        <p:blipFill>
          <a:blip r:embed="rId1"/>
          <a:stretch/>
        </p:blipFill>
        <p:spPr>
          <a:xfrm>
            <a:off x="0" y="0"/>
            <a:ext cx="10260000" cy="4373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214200" y="142920"/>
            <a:ext cx="59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И  последний  месяц  зимы – февраль.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В  этом  месяце, а  именно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23  февраля,  мы  отмечаем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День  защитника  Отече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57880" y="2571840"/>
            <a:ext cx="37861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Дуют  ветры  в  феврал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Воют  в  трубах  гром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Змейкой  мчится  по  зем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Лёгкая  позем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Поднимаясь, мчатся  вд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амолётов  звен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Это  празднует  февр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Армии  рожден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(С. Марша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k8"/>
          <p:cNvPicPr/>
          <p:nvPr/>
        </p:nvPicPr>
        <p:blipFill>
          <a:blip r:embed="rId2"/>
          <a:stretch/>
        </p:blipFill>
        <p:spPr>
          <a:xfrm>
            <a:off x="285840" y="4071960"/>
            <a:ext cx="4849560" cy="2519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288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у, теперь  и  ты, наверное, со  мной  согласишься, что  зима – это  очень  интересное  время  года.</a:t>
            </a:r>
            <a:br>
              <a:rPr sz="22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ма, глянь-ка  из  окошк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нать, вчера  недаром  кош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Умывала  нос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язи  нет, весь  двор  одело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ветлело, побелело –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Видно, есть  мороз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 колючий, светло-син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 ветвям  развешан  иней –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Погляди  хоть  ты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но  кто-то  тороваты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жей, белой, пухлой  ват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Все  убрал  кусты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ж  теперь  не  будет  спору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  салазки, да  и  в  гор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Весело  бежать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авда, мама? Не  откажеш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 сама, наверно, скажешь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«Ну, скорей, гулять!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(А. А. Фе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2" descr="Capture_6"/>
          <p:cNvPicPr/>
          <p:nvPr/>
        </p:nvPicPr>
        <p:blipFill>
          <a:blip r:embed="rId1"/>
          <a:srcRect l="0" t="4779" r="0" b="4779"/>
          <a:stretch/>
        </p:blipFill>
        <p:spPr>
          <a:xfrm>
            <a:off x="4929120" y="3929040"/>
            <a:ext cx="3600360" cy="2708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Айсберг"/>
          <p:cNvPicPr/>
          <p:nvPr/>
        </p:nvPicPr>
        <p:blipFill>
          <a:blip r:embed="rId2"/>
          <a:stretch/>
        </p:blipFill>
        <p:spPr>
          <a:xfrm>
            <a:off x="4929120" y="1214280"/>
            <a:ext cx="360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mph" presetID="26" repeatCount="300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50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так, ЗИМА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6760" y="499680"/>
            <a:ext cx="5286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елый сне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ушист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воздухе круж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на землю тих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адает, лож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под утро снег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ле забелел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очно пелено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се его одел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емный лес что шап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накрылся чуд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заснул под не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Крепко, непробудно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жьи дни корот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олнце светит мал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от пришли морозцы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зима наст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руженик – крестьян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ытащил саниш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неговые го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роят ребятишки…        (И. З. Суриков)</a:t>
            </a:r>
            <a:r>
              <a:rPr b="1" i="1" lang="ru-RU" sz="1400" spc="-1" strike="noStrike">
                <a:solidFill>
                  <a:srgbClr val="ffffff"/>
                </a:solidFill>
                <a:latin typeface="Book Antiqu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808360" cy="227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2735280" cy="225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2916360" y="1197000"/>
            <a:ext cx="2736720" cy="228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5940360" y="3716280"/>
            <a:ext cx="280836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Чем  отличается  зима  от  других  сезон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914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974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о-первых, коротким  световым  днём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Утром  солнышко  поздно  встаёт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  вечером  рано садится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оэтому  на  часах  вроде  бы  и  немного времени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  за  окном  уже  темно 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и  мы  не  можем,  как летом, долго  гуля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4643280" y="3286080"/>
            <a:ext cx="4329000" cy="3239640"/>
            <a:chOff x="4643280" y="3286080"/>
            <a:chExt cx="4329000" cy="3239640"/>
          </a:xfrm>
        </p:grpSpPr>
        <p:pic>
          <p:nvPicPr>
            <p:cNvPr id="93" name="Picture 7" descr=""/>
            <p:cNvPicPr/>
            <p:nvPr/>
          </p:nvPicPr>
          <p:blipFill>
            <a:blip r:embed="rId1"/>
            <a:stretch/>
          </p:blipFill>
          <p:spPr>
            <a:xfrm>
              <a:off x="4643280" y="3286080"/>
              <a:ext cx="4329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4643280" y="3286080"/>
              <a:ext cx="432900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3"/>
          <p:cNvGrpSpPr/>
          <p:nvPr/>
        </p:nvGrpSpPr>
        <p:grpSpPr>
          <a:xfrm>
            <a:off x="142920" y="3286080"/>
            <a:ext cx="4527000" cy="3239640"/>
            <a:chOff x="142920" y="3286080"/>
            <a:chExt cx="4527000" cy="3239640"/>
          </a:xfrm>
        </p:grpSpPr>
        <p:pic>
          <p:nvPicPr>
            <p:cNvPr id="96" name="Picture 4" descr=""/>
            <p:cNvPicPr/>
            <p:nvPr/>
          </p:nvPicPr>
          <p:blipFill>
            <a:blip r:embed="rId2"/>
            <a:stretch/>
          </p:blipFill>
          <p:spPr>
            <a:xfrm>
              <a:off x="142920" y="3286080"/>
              <a:ext cx="4527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142920" y="3286080"/>
              <a:ext cx="452700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6948360" y="2635200"/>
            <a:ext cx="186228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200" spc="-1" strike="noStrike">
                <a:solidFill>
                  <a:srgbClr val="666699"/>
                </a:solidFill>
                <a:latin typeface="Arial"/>
                <a:ea typeface="Arial"/>
              </a:rPr>
              <a:t>Во-вторых,  зима  отличается  низкой  температурой воздуха. Поэтому  все  люди, включая и тебя,</a:t>
            </a:r>
            <a:br>
              <a:rPr sz="2200"/>
            </a:br>
            <a:r>
              <a:rPr b="1" lang="ru-RU" sz="2200" spc="-1" strike="noStrike">
                <a:solidFill>
                  <a:srgbClr val="666699"/>
                </a:solidFill>
                <a:latin typeface="Arial"/>
                <a:ea typeface="Arial"/>
              </a:rPr>
              <a:t>тепло  одеваютс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1365120" cy="1450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500200" y="150012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3929040" y="1785960"/>
            <a:ext cx="357048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250920" y="3141720"/>
            <a:ext cx="421632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4714920" y="4500720"/>
            <a:ext cx="1871640" cy="1465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 rot="20580000">
            <a:off x="318240" y="15876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ШАП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215080" y="26431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ВАРЕ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013000" y="364500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ДЖЕМП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042920" y="595008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УРТКА  НА  МЕХ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ИЛИ  ПУХОВ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220280" y="600084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САПОГИ  НА  МЕ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863400" y="585792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ТЕПЛ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ОМБИНЕЗ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92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- третьих, для  зимы  характерн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ие  твёрдые  атмосферные  осадки, как  снег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нег  состоит  из  ледяных  кристаллов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зной  формы – снежинок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  форме  снежинки  чаще  всего  бывают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бо  в  виде  шестиугольных  пластинок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бо  в  виде  шестилучевых  звёздоче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Capture_3"/>
          <p:cNvPicPr/>
          <p:nvPr/>
        </p:nvPicPr>
        <p:blipFill>
          <a:blip r:embed="rId1"/>
          <a:stretch/>
        </p:blipFill>
        <p:spPr>
          <a:xfrm>
            <a:off x="2500200" y="3071880"/>
            <a:ext cx="4025880" cy="3600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580000" y="41544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0" y="28584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- четвертых, зимой  природа  отдыхает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ревья  ещё  осенью  сбросили  свой  наряд  из  листьев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сейчас  спят, укрытые  снег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Capture_5"/>
          <p:cNvPicPr/>
          <p:nvPr/>
        </p:nvPicPr>
        <p:blipFill>
          <a:blip r:embed="rId1"/>
          <a:stretch/>
        </p:blipFill>
        <p:spPr>
          <a:xfrm>
            <a:off x="1357200" y="1571760"/>
            <a:ext cx="642456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доёмы (речки, пруды, озера)  замёрзли –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крылись  толстым  слоем  ль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Capture_4"/>
          <p:cNvPicPr/>
          <p:nvPr/>
        </p:nvPicPr>
        <p:blipFill>
          <a:blip r:embed="rId1"/>
          <a:stretch/>
        </p:blipFill>
        <p:spPr>
          <a:xfrm>
            <a:off x="1285920" y="1428840"/>
            <a:ext cx="6486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ногие  птицы  улетают  на  юг, в  тёплые  страны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  время  перелёта  они  собираются  в  стаи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вытягиваются  клином – так  легче  преодолеть сопротивление  воздуха, а  также   заметить  хищника, например, ястреба  или  сокола, и  подать  сигнал  трев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Cap"/>
          <p:cNvPicPr/>
          <p:nvPr/>
        </p:nvPicPr>
        <p:blipFill>
          <a:blip r:embed="rId1"/>
          <a:stretch/>
        </p:blipFill>
        <p:spPr>
          <a:xfrm>
            <a:off x="1071720" y="2071800"/>
            <a:ext cx="7108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которые  звери (барсуки, сурки, медведи)  залезают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 снежные  норы – берлоги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на  всю  зиму  впадают  в  спячк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0" descr="bears06_1024x768"/>
          <p:cNvPicPr/>
          <p:nvPr/>
        </p:nvPicPr>
        <p:blipFill>
          <a:blip r:embed="rId1"/>
          <a:stretch/>
        </p:blipFill>
        <p:spPr>
          <a:xfrm>
            <a:off x="500040" y="214308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Барсук-2"/>
          <p:cNvPicPr/>
          <p:nvPr/>
        </p:nvPicPr>
        <p:blipFill>
          <a:blip r:embed="rId2"/>
          <a:stretch/>
        </p:blipFill>
        <p:spPr>
          <a:xfrm>
            <a:off x="5000760" y="1714680"/>
            <a:ext cx="2160360" cy="2185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500040" y="550080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ДВЕ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7286760" y="23493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РС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3" descr="syrok"/>
          <p:cNvPicPr/>
          <p:nvPr/>
        </p:nvPicPr>
        <p:blipFill>
          <a:blip r:embed="rId3"/>
          <a:stretch/>
        </p:blipFill>
        <p:spPr>
          <a:xfrm>
            <a:off x="5000760" y="407196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5"/>
          <p:cNvSpPr/>
          <p:nvPr/>
        </p:nvSpPr>
        <p:spPr>
          <a:xfrm>
            <a:off x="7360200" y="48578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рия и Алексей</dc:creator>
  <dc:description/>
  <dc:language>en-US</dc:language>
  <cp:lastModifiedBy>79611</cp:lastModifiedBy>
  <dcterms:modified xsi:type="dcterms:W3CDTF">2023-06-16T18:01:07Z</dcterms:modified>
  <cp:revision>26</cp:revision>
  <dc:subject/>
  <dc:title> Календарный год состоит из четырех сезонов, иначе их еще называют «времена года» -  из зимы, весны, лета и осени.  Давай узнаем поподробнее о каждом из них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380000000000010250600207f5000400038000</vt:lpwstr>
  </property>
</Properties>
</file>