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1C3-4DCB-4B04-BE37-DDBBBB2D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BA8-1A5F-45C3-8A18-0AC8FDE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34E-9BBB-4B45-976E-E729FB91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769-A29B-4B6C-B6F3-1033F7A3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C8B-50DD-433E-8CD0-FF54D00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CB9-9743-4CFA-8E82-C8EA5BF6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3DD4-7F60-4A16-9D3B-B2EEBCAD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7EB-CDEA-4964-B148-842A5514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9809-49C8-41E2-9C64-C039565E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DCE-04A0-4CF9-A325-6A2B230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3937-9E4D-48D5-BC9E-163C41B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ADC-E724-4C18-9A1E-88C94FE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202-8FC2-4C04-9716-EA9E8BD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17E-58F1-4B62-98DE-EF1F36B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D97-9B41-45F7-A253-9275B97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8E61-0AE7-433C-8267-47AB10F0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0EA-9171-4ED6-9322-ACF48646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BF84-7DC8-4142-A673-3C2B73D7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CB93-BA54-4B58-A75C-D82B57D3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B94A-88AB-4CC6-9888-B2206ED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C748-8BD4-46C5-9829-A19615A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151D-C89E-42BD-9C29-956F5C1D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4E8-1C31-4C8D-B9B0-8A0FF3AD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FA27-7097-4F97-8BF6-0677F9B9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4A1A-7A20-448D-8B85-3197B30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5FC6-57E1-4833-BB32-AA45CD6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6127-182E-421D-934B-F628A4F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BE67-BF33-4922-B063-9B38CFA9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A357-371E-4CE9-9348-D798EFE2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DE2B-66E3-43B8-A1A8-4314F669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80C1-494C-4364-8D00-B1A1B00F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4738-2BDB-40D9-B39A-45FFF1B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BDA8-034B-46CB-B697-E92C198B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359-3166-4080-BB23-517AD816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DC80-D5D4-471F-8292-5111A1B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F166-4736-48C6-9FE1-228214FA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D562-61E9-47D2-90F9-D44C9C8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646E-D4AD-4DE2-97DD-17DBD22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CF8A-D684-4D97-856B-A0D7A68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6404-93C7-4984-B216-55E748D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B0F3-54AB-458C-BF6C-EDB0A2B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4DDA-5449-423A-A008-B149FB20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A501-1E7A-4C37-AED0-3FE7435C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C82-F153-4068-9DB6-496AAEF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45D-7BB6-426C-97EA-F017013C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28-C5E1-4309-97A8-5C7024F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A9C-7D8B-4E17-8B85-EEE9B36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587-5B4C-4370-B846-8F0B4C6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9E0E-63E0-44FB-939F-A0703827E828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744-AFF4-4596-8062-3E0D2261A894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260-F590-400D-A192-43A739CC6323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44A-A18D-47B3-9246-B73F12479870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00000" y="2997360"/>
            <a:ext cx="7958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Проектная деятельность, как средство развития познавательного интереса дошкольников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2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4" descr=""/>
          <p:cNvPicPr/>
          <p:nvPr/>
        </p:nvPicPr>
        <p:blipFill>
          <a:blip r:embed="rId1"/>
          <a:stretch/>
        </p:blipFill>
        <p:spPr>
          <a:xfrm>
            <a:off x="993600" y="676440"/>
            <a:ext cx="7407360" cy="81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059280" y="1773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: 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: РМО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способности самостоятельно и творчески осваивать способы познания окружающей действительности через организацию проектно-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98440" y="396720"/>
            <a:ext cx="8474040" cy="72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749680" y="828720"/>
            <a:ext cx="491328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C:\Users\user\AppData\Local\Microsoft\Windows\Temporary Internet Files\Content.Word\PSX_20210131_094145.jpg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C:\Users\user\AppData\Local\Microsoft\Windows\Temporary Internet Files\Content.Word\PSX_20210131_093104.jpg"/>
          <p:cNvPicPr/>
          <p:nvPr/>
        </p:nvPicPr>
        <p:blipFill>
          <a:blip r:embed="rId3"/>
          <a:stretch/>
        </p:blipFill>
        <p:spPr>
          <a:xfrm>
            <a:off x="4932360" y="2205000"/>
            <a:ext cx="28796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321760" cy="5772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" descr="C:\Users\user\Desktop\Птицы на кормушке\Ланская 1.jpg"/>
          <p:cNvPicPr/>
          <p:nvPr/>
        </p:nvPicPr>
        <p:blipFill>
          <a:blip r:embed="rId2"/>
          <a:stretch/>
        </p:blipFill>
        <p:spPr>
          <a:xfrm>
            <a:off x="1692360" y="836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:\Users\user\Desktop\Покормите птиц зимой 2021\Новые фото\IMG_20210129_102936.jpg"/>
          <p:cNvPicPr/>
          <p:nvPr/>
        </p:nvPicPr>
        <p:blipFill>
          <a:blip r:embed="rId3"/>
          <a:stretch/>
        </p:blipFill>
        <p:spPr>
          <a:xfrm>
            <a:off x="5148360" y="2708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Кукла своими руками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8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2195640" y="1916280"/>
            <a:ext cx="468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Подарок для мамы»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0" name="Picture 2" descr="C:\Users\user\Desktop\мама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139680" y="11350800"/>
            <a:ext cx="23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4859280" y="2133720"/>
            <a:ext cx="34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ись знания детей о русской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ережном отношении к природе родного кра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лись понятия, что нет лучше подарка, чем сделанный своими рукам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лась связь с семьями воспитанн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 окончании работы над созданием данных проектов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6T14:37:22Z</dcterms:modified>
  <cp:revision>107</cp:revision>
  <dc:subject/>
  <dc:title>Научное общество учащихся «Поиск» 16-ая районная научно – практическая конференция учащихся</dc:title>
</cp:coreProperties>
</file>