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11A-CAC0-41D8-B4AE-81114926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E3D-CACB-48C1-9165-9C8AD984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C12-EF5F-42E9-A25C-A3841BC9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688-6756-41F6-A121-C5C10212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E547-53E5-4A7C-B24E-55F158FD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432B-1ABC-42CD-9029-2A3D1E9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10A3-50AD-4D59-A8A5-634BA3C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72E7-1EAC-41BD-A106-A09C2B72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F647-9F90-41C1-B4C4-155F7C0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393-A412-4051-9384-E9D316E7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8C37-F904-4E6B-B165-83545CFE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ECA-2698-4DC5-BB97-28C0DF8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95FB-7547-44B9-B2CB-A83C802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402-7271-4254-95B0-701FAEE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ADF-43A9-43BF-A32B-3DB3890A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7AE3-5B6B-47C0-B27A-089C64EC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3B8D-B5B3-4D53-ADD1-04D88187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92FD-2008-4432-87D1-4CF110D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FC41-5A80-4779-ABED-BF8017D5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4DC8-9143-4C07-96D6-A3BD01FB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3AFB-214D-4609-A4D8-D45468D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39D9-0960-4DCD-9BEB-54615BF7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BB9-0D16-4F20-BA97-28D80C2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9545-A266-4D61-8BEF-8F05495E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7F71-2E55-4A0F-B0F0-0962EBD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3FD6-95F0-4EAC-B03B-D8410A4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60F5-4819-4C8B-AC18-1C0C6D1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332D-79DE-4B9B-B838-DF979E0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1EEC-8135-4E4B-BC9E-05AF63F3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B213-6902-4C2A-9B06-033A2A95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48C0-F2CC-46AC-809B-E907C06E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174C-4987-4560-978A-A9B4FAF0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492A-21BC-4D8C-8682-5F4B640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C08-DED9-47F4-9568-1375C83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5DB5-6C6D-40AB-B3DB-95B12CD6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FFE3-5667-497B-8ADE-4B8460D2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09473-F0AD-4510-9BF0-6524DBF1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206C-CE32-45C1-96F5-192712C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1CD7-FBF9-4926-98A4-1E8D4849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EBE3-3BC6-44C5-B090-0065151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360B-677B-4B73-B789-00692F9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81F7-29F1-4E29-8C70-6C60B0A0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3AA5-C3ED-4BB4-B4E0-335BD4BF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234-93D1-4CC9-B974-05DCFD19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FC8-3D4B-40E8-BC89-4D58A61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B64-D890-4A7E-B6C9-1618AF4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5FA-7ED6-4B2C-8DB0-0C0E7BD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4AF-5317-4DEB-896C-862C3F66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655-8D15-4858-8EE3-3E84CF2DF6E7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BE9-7C09-45AB-A073-BCFE4FCE41A2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AE24-300B-431F-A02D-93C62B27EEC0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366-E4F2-4F32-A443-E911B8BC0BAC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81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00000" y="2997360"/>
            <a:ext cx="7958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Проектная деятельность, как средство развития познавательного интереса дошкольников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воспитател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К                                                                              Сегал Ольга Игор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онеж 202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4" descr=""/>
          <p:cNvPicPr/>
          <p:nvPr/>
        </p:nvPicPr>
        <p:blipFill>
          <a:blip r:embed="rId1"/>
          <a:stretch/>
        </p:blipFill>
        <p:spPr>
          <a:xfrm>
            <a:off x="993600" y="676440"/>
            <a:ext cx="7407360" cy="81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3059280" y="1773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: 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е: РМО 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способности самостоятельно и творчески осваивать способы познания окружающей действительности через организацию проектно-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98440" y="396720"/>
            <a:ext cx="8474040" cy="72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749680" y="828720"/>
            <a:ext cx="4913280" cy="519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C:\Users\user\AppData\Local\Microsoft\Windows\Temporary Internet Files\Content.Word\PSX_20210131_094145.jpg"/>
          <p:cNvPicPr/>
          <p:nvPr/>
        </p:nvPicPr>
        <p:blipFill>
          <a:blip r:embed="rId2"/>
          <a:stretch/>
        </p:blipFill>
        <p:spPr>
          <a:xfrm>
            <a:off x="971640" y="206064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C:\Users\user\AppData\Local\Microsoft\Windows\Temporary Internet Files\Content.Word\PSX_20210131_093104.jpg"/>
          <p:cNvPicPr/>
          <p:nvPr/>
        </p:nvPicPr>
        <p:blipFill>
          <a:blip r:embed="rId3"/>
          <a:stretch/>
        </p:blipFill>
        <p:spPr>
          <a:xfrm>
            <a:off x="4932360" y="2205000"/>
            <a:ext cx="28796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321760" cy="5772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" descr="C:\Users\user\Desktop\Птицы на кормушке\Ланская 1.jpg"/>
          <p:cNvPicPr/>
          <p:nvPr/>
        </p:nvPicPr>
        <p:blipFill>
          <a:blip r:embed="rId2"/>
          <a:stretch/>
        </p:blipFill>
        <p:spPr>
          <a:xfrm>
            <a:off x="1692360" y="836640"/>
            <a:ext cx="2879640" cy="3456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:\Users\user\Desktop\Покормите птиц зимой 2021\Новые фото\IMG_20210129_102936.jpg"/>
          <p:cNvPicPr/>
          <p:nvPr/>
        </p:nvPicPr>
        <p:blipFill>
          <a:blip r:embed="rId3"/>
          <a:stretch/>
        </p:blipFill>
        <p:spPr>
          <a:xfrm>
            <a:off x="5148360" y="2708280"/>
            <a:ext cx="338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Кукла своими руками»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8" name="Picture 2" descr="C:\Users\user\Desktop\РМО\IMG_20210311_093600_BURST8.jpg"/>
          <p:cNvPicPr/>
          <p:nvPr/>
        </p:nvPicPr>
        <p:blipFill>
          <a:blip r:embed="rId1"/>
          <a:stretch/>
        </p:blipFill>
        <p:spPr>
          <a:xfrm>
            <a:off x="2195640" y="1916280"/>
            <a:ext cx="468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Подарок для мамы»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0" name="Picture 2" descr="C:\Users\user\Desktop\мама.jpg"/>
          <p:cNvPicPr/>
          <p:nvPr/>
        </p:nvPicPr>
        <p:blipFill>
          <a:blip r:embed="rId1"/>
          <a:stretch/>
        </p:blipFill>
        <p:spPr>
          <a:xfrm>
            <a:off x="468360" y="213372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139680" y="11350800"/>
            <a:ext cx="23256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4859280" y="2133720"/>
            <a:ext cx="34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ись знания детей о русской народной культур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ережном отношении к природе родного кра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лись понятия, что нет лучше подарка, чем сделанный своими рукам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лась связь с семьями воспитанн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о окончании работы над созданием данных проектов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2:44Z</dcterms:created>
  <dc:creator>Ученик_2</dc:creator>
  <dc:description/>
  <dc:language>en-US</dc:language>
  <cp:lastModifiedBy>user</cp:lastModifiedBy>
  <dcterms:modified xsi:type="dcterms:W3CDTF">2023-06-16T14:37:22Z</dcterms:modified>
  <cp:revision>107</cp:revision>
  <dc:subject/>
  <dc:title>Научное общество учащихся «Поиск» 16-ая районная научно – практическая конференция учащихся</dc:title>
</cp:coreProperties>
</file>