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D85-E878-4869-A924-E6FEA256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987-42CD-47B0-B9A6-44912E2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C5F-8BB2-4790-AB40-5A9E72A3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D68-3226-4057-8E3F-EDA9B123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2B88-BF86-4562-A4E8-1C813938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EF2-B1C4-4E67-A34E-6534836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653C-EC38-424F-B560-9EEE6784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4E63-2A60-450B-934A-F3C4444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EA11-7386-43FF-ADC1-BA6A2B8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D64-CE21-4A7B-A6AA-8E1C209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9204-BD21-4EE7-A6A4-0EA84BC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871-0D38-4A4C-96F1-080893E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2944-2003-4A93-8A4A-5D3F23C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B4E-9EF4-44AE-AF16-EC46417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BD90-2859-4E6A-8425-303FF42F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AF59-B63E-4435-806C-06C49386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414-C3C3-4ECF-BDCD-E93A32F2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6654-7ECA-4BEA-BA1C-EFFC4196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55AE-8396-4C2C-BB3F-8CAAEBF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25F7-FBD1-42E0-AD90-BC62CF74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8379-EB7E-4DCA-99BB-D1D5EA1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CCA4-F6F4-4FBA-A8DC-187932AD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F43-F087-45DD-A468-B693A4D6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2D01-CC10-4BE4-BD72-CAE9E6F9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3611-AF36-44E9-BA53-552EF67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133D-D691-41BC-A48E-E76C758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B724-FEE3-445C-96B2-658ED287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B7AB-06DA-4875-BF93-025D84E3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F3A5-AD29-479F-BA30-82905740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AE55-C25C-4597-9F4A-68E85597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C581-3023-46B3-B01F-2A7EFA7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241D-0EC4-472E-80F9-DFEF6DC9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5820-4CC3-4C7D-96B8-742D54EE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11E-D486-4841-BC2F-064614D8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4E80-9A7D-4E69-889F-0AA6FF0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F7C4-0281-40AF-BCC7-00BC1E82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CBAF-1B02-45AC-B267-961E13CC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EB95-9B3C-4773-9554-22C460D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F484-83C5-4FAA-8DCC-139A46B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5C60-F9A5-4096-B431-63D5500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D728-7211-447D-A4FD-3A67AAD6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DF5C-DA23-4ACF-8CAF-40C23CB9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5A92-2353-4F2B-A2DD-E968AA75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C97-0D05-48F7-9AD8-DAFEFE7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2B7-E730-4B7F-81CF-F48D8416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949-2A56-42D6-A796-A44C33A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F1D-9CEC-491C-A382-127E0E1E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AF7-7F1A-4DB2-8041-255EBAF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3638-C094-4B2B-8354-51C8AB4BFC49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B142-A635-4D23-BE3C-B09762FF3216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744-4124-47BD-9C86-763329BF12B6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4983-D967-4825-ACB5-CCB95B54E8A6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81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00000" y="2997360"/>
            <a:ext cx="7958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Проектная деятельность, как средство развития познавательного интереса дошкольников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воспитател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К                                                                              Сегал Ольга Игор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онеж 202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4" descr=""/>
          <p:cNvPicPr/>
          <p:nvPr/>
        </p:nvPicPr>
        <p:blipFill>
          <a:blip r:embed="rId1"/>
          <a:stretch/>
        </p:blipFill>
        <p:spPr>
          <a:xfrm>
            <a:off x="993600" y="676440"/>
            <a:ext cx="7407360" cy="81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3059280" y="1773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: 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е: РМО 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способности самостоятельно и творчески осваивать способы познания окружающей действительности через организацию проектно-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98440" y="396720"/>
            <a:ext cx="8474040" cy="72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749680" y="828720"/>
            <a:ext cx="4913280" cy="519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C:\Users\user\AppData\Local\Microsoft\Windows\Temporary Internet Files\Content.Word\PSX_20210131_094145.jpg"/>
          <p:cNvPicPr/>
          <p:nvPr/>
        </p:nvPicPr>
        <p:blipFill>
          <a:blip r:embed="rId2"/>
          <a:stretch/>
        </p:blipFill>
        <p:spPr>
          <a:xfrm>
            <a:off x="971640" y="206064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C:\Users\user\AppData\Local\Microsoft\Windows\Temporary Internet Files\Content.Word\PSX_20210131_093104.jpg"/>
          <p:cNvPicPr/>
          <p:nvPr/>
        </p:nvPicPr>
        <p:blipFill>
          <a:blip r:embed="rId3"/>
          <a:stretch/>
        </p:blipFill>
        <p:spPr>
          <a:xfrm>
            <a:off x="4932360" y="2205000"/>
            <a:ext cx="28796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321760" cy="5772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" descr="C:\Users\user\Desktop\Птицы на кормушке\Ланская 1.jpg"/>
          <p:cNvPicPr/>
          <p:nvPr/>
        </p:nvPicPr>
        <p:blipFill>
          <a:blip r:embed="rId2"/>
          <a:stretch/>
        </p:blipFill>
        <p:spPr>
          <a:xfrm>
            <a:off x="1692360" y="836640"/>
            <a:ext cx="2879640" cy="3456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:\Users\user\Desktop\Покормите птиц зимой 2021\Новые фото\IMG_20210129_102936.jpg"/>
          <p:cNvPicPr/>
          <p:nvPr/>
        </p:nvPicPr>
        <p:blipFill>
          <a:blip r:embed="rId3"/>
          <a:stretch/>
        </p:blipFill>
        <p:spPr>
          <a:xfrm>
            <a:off x="5148360" y="2708280"/>
            <a:ext cx="338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Кукла своими руками»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8" name="Picture 2" descr="C:\Users\user\Desktop\РМО\IMG_20210311_093600_BURST8.jpg"/>
          <p:cNvPicPr/>
          <p:nvPr/>
        </p:nvPicPr>
        <p:blipFill>
          <a:blip r:embed="rId1"/>
          <a:stretch/>
        </p:blipFill>
        <p:spPr>
          <a:xfrm>
            <a:off x="2195640" y="1916280"/>
            <a:ext cx="468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Подарок для мамы»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0" name="Picture 2" descr="C:\Users\user\Desktop\мама.jpg"/>
          <p:cNvPicPr/>
          <p:nvPr/>
        </p:nvPicPr>
        <p:blipFill>
          <a:blip r:embed="rId1"/>
          <a:stretch/>
        </p:blipFill>
        <p:spPr>
          <a:xfrm>
            <a:off x="468360" y="213372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139680" y="11350800"/>
            <a:ext cx="23256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4859280" y="2133720"/>
            <a:ext cx="34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ись знания детей о русской народной культур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ережном отношении к природе родного кра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лись понятия, что нет лучше подарка, чем сделанный своими рукам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лась связь с семьями воспитанн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о окончании работы над созданием данных проектов: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2:44Z</dcterms:created>
  <dc:creator>Ученик_2</dc:creator>
  <dc:description/>
  <dc:language>en-US</dc:language>
  <cp:lastModifiedBy>user</cp:lastModifiedBy>
  <dcterms:modified xsi:type="dcterms:W3CDTF">2023-06-16T14:37:22Z</dcterms:modified>
  <cp:revision>107</cp:revision>
  <dc:subject/>
  <dc:title>Научное общество учащихся «Поиск» 16-ая районная научно – практическая конференция учащихся</dc:title>
</cp:coreProperties>
</file>