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DC4-2BBB-4D55-8F16-A4D7E79B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21B-E409-41F3-ABFF-F8C7E4B7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7A4-644F-404D-B43B-A3FD1794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C38-D102-407B-84E6-B67185BD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A7A-2B9E-4884-9069-038E4173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5BD-324C-4025-9513-7255EBD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928C-6984-4C3F-9F83-33C1141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6C38-ACAB-48FB-9C76-769EEB2E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849F-2E11-4D93-9F37-A60DBE0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01D7-2028-4228-870F-AC1E49B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9BF4-9DAE-48FD-86C2-8C1A214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BC8-74F1-4196-AAA5-E53EC656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3E2F-400E-409A-AB31-CC3DD5F1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8C17-B80F-4D05-B160-0E32988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F5DD-C5FD-4A07-B6B9-B6CFBAC6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5645-9FA1-4618-B0E8-354C74E0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D927-1BC3-4595-BAB1-53E9B014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AD34-5C1F-46F4-AB9B-2DFC3C61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8A4F-C67D-418A-8B1A-A7CDB359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3AD5-C9A6-4FA9-A5AD-1F0E1E07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70A3-067C-457A-B0C0-CB6ADB70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9CD0-1741-442C-961A-4BD4AE2A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4D2-6E8B-4A92-B1B6-13238B5D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457F-9FFA-4F67-A0DF-F0B55EA2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8B15-B8AB-404A-B5FB-62CC863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1CB7-B084-4F7F-8636-361ABADB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B0BE-C6FF-4B24-8F9D-093DAA5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54CB-E95C-400E-B332-C5691F5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63FC-8074-412B-A0E1-D9F45AA9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DF89-A7F1-464C-81CB-98F1E2E0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A91C-AB4E-411F-8A1E-23CD9F4A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89F1-5D61-4980-9899-064C6DC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DC1B-32A9-450C-B9E1-053C01B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6AE-C2CA-4D16-A111-7C407647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5E31-E33F-4A7A-9E14-0C543CA7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9CBF-350A-45AE-A508-B2B00CEF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20E79-E957-4BF9-940D-B9E60C5A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FC8B-A73C-4940-8B36-F8381583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31B7-8A71-4E17-AA54-61DD5788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8480-FD48-43DA-8667-2C1AA42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577E-3C7D-4384-9B0A-1750365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9A95-F900-44F9-8B6E-4AF4BDFA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4735-FD45-4949-BEDF-E212BBC7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13E-A966-4C5B-977B-5E23B3E4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9CC-DA88-4C3C-9C58-7268928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769-8D2A-42FF-AEB9-E0DAB7C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98D-81FF-42C1-AE35-D4197F6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F0F-02EA-4279-A738-6656D813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0C57-0B29-426B-B5FC-62DA5DE25F25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8BF5-1249-43B9-82C5-19D01234ECB7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496-7DF8-4A65-9978-643F79D0771B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C6B5-70B0-40AA-A4D9-45503B740D5C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81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00000" y="2997360"/>
            <a:ext cx="7958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«Проектная деятельность, как средство развития познавательного интереса дошкольников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воспитател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К                                                                              Сегал Ольга Игор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онеж 202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4" descr=""/>
          <p:cNvPicPr/>
          <p:nvPr/>
        </p:nvPicPr>
        <p:blipFill>
          <a:blip r:embed="rId1"/>
          <a:stretch/>
        </p:blipFill>
        <p:spPr>
          <a:xfrm>
            <a:off x="993600" y="676440"/>
            <a:ext cx="7407360" cy="81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3059280" y="1773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: муницип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е: РМО Совет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способности самостоятельно и творчески осваивать способы познания окружающей действительности через организацию проектно-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98440" y="396720"/>
            <a:ext cx="8474040" cy="72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749680" y="828720"/>
            <a:ext cx="4913280" cy="519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C:\Users\user\AppData\Local\Microsoft\Windows\Temporary Internet Files\Content.Word\PSX_20210131_094145.jpg"/>
          <p:cNvPicPr/>
          <p:nvPr/>
        </p:nvPicPr>
        <p:blipFill>
          <a:blip r:embed="rId2"/>
          <a:stretch/>
        </p:blipFill>
        <p:spPr>
          <a:xfrm>
            <a:off x="971640" y="2060640"/>
            <a:ext cx="295272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C:\Users\user\AppData\Local\Microsoft\Windows\Temporary Internet Files\Content.Word\PSX_20210131_093104.jpg"/>
          <p:cNvPicPr/>
          <p:nvPr/>
        </p:nvPicPr>
        <p:blipFill>
          <a:blip r:embed="rId3"/>
          <a:stretch/>
        </p:blipFill>
        <p:spPr>
          <a:xfrm>
            <a:off x="4932360" y="2205000"/>
            <a:ext cx="28796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321760" cy="57722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" descr="C:\Users\user\Desktop\Птицы на кормушке\Ланская 1.jpg"/>
          <p:cNvPicPr/>
          <p:nvPr/>
        </p:nvPicPr>
        <p:blipFill>
          <a:blip r:embed="rId2"/>
          <a:stretch/>
        </p:blipFill>
        <p:spPr>
          <a:xfrm>
            <a:off x="1692360" y="836640"/>
            <a:ext cx="2879640" cy="3456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:\Users\user\Desktop\Покормите птиц зимой 2021\Новые фото\IMG_20210129_102936.jpg"/>
          <p:cNvPicPr/>
          <p:nvPr/>
        </p:nvPicPr>
        <p:blipFill>
          <a:blip r:embed="rId3"/>
          <a:stretch/>
        </p:blipFill>
        <p:spPr>
          <a:xfrm>
            <a:off x="5148360" y="2708280"/>
            <a:ext cx="338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Кукла своими руками»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8" name="Picture 2" descr="C:\Users\user\Desktop\РМО\IMG_20210311_093600_BURST8.jpg"/>
          <p:cNvPicPr/>
          <p:nvPr/>
        </p:nvPicPr>
        <p:blipFill>
          <a:blip r:embed="rId1"/>
          <a:stretch/>
        </p:blipFill>
        <p:spPr>
          <a:xfrm>
            <a:off x="2195640" y="1916280"/>
            <a:ext cx="468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Подарок для мамы»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0" name="Picture 2" descr="C:\Users\user\Desktop\мама.jpg"/>
          <p:cNvPicPr/>
          <p:nvPr/>
        </p:nvPicPr>
        <p:blipFill>
          <a:blip r:embed="rId1"/>
          <a:stretch/>
        </p:blipFill>
        <p:spPr>
          <a:xfrm>
            <a:off x="468360" y="213372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139680" y="11350800"/>
            <a:ext cx="23256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4859280" y="2133720"/>
            <a:ext cx="34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ись знания детей о русской народной культур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ережном отношении к природе родного кра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лись понятия, что нет лучше подарка, чем сделанный своими рукам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лась связь с семьями воспитанни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о окончании работы над созданием данных проектов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32:44Z</dcterms:created>
  <dc:creator>Ученик_2</dc:creator>
  <dc:description/>
  <dc:language>en-US</dc:language>
  <cp:lastModifiedBy>user</cp:lastModifiedBy>
  <dcterms:modified xsi:type="dcterms:W3CDTF">2023-06-16T14:37:22Z</dcterms:modified>
  <cp:revision>107</cp:revision>
  <dc:subject/>
  <dc:title>Научное общество учащихся «Поиск» 16-ая районная научно – практическая конференция учащихся</dc:title>
</cp:coreProperties>
</file>