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DB8-76A1-4790-BF83-8351449C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82F-346A-4C37-BF31-C7F89D10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8D3-CD6A-4DF1-87C6-BAF5ABEC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EC0-4CED-456E-9978-27C81E6F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00E0-0151-46CA-9A47-424467D6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0324-F58D-4F6B-BAC7-B2121F45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3AFE-0EA3-40EF-B725-8841E706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AE62-A2E3-45E6-9451-69AD6BE4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BC1D-7F9D-4A6A-ABF9-D10976EC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D99F-2434-4EA1-BC5F-22AC53C8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1CB6-E4BF-418D-B39D-8E305B3E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EC5-9312-45B3-8D2A-1EACBA06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D43B-335B-438C-BDEC-A263EA92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8EDB-B392-4511-A08E-D8860CEC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A6D5-F610-4C08-86DC-74819B80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D9FE-7009-416B-A544-0B821257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9563-B090-427C-B72E-F45B2609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A67-A3C0-4D19-8CA5-3A09A296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17F-D4C3-4401-999A-E3D7409C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6EF-81B2-40CB-8530-FEF05126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434-4B42-498B-AA29-78A7A7CC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FF1-0897-44E2-9459-7D4C20C3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DC2-1BE0-4769-8261-E75FC2C3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CA7-0C6B-47AE-94F4-374257DC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1029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29B6-C1D2-429B-B03A-1F21AF33DD5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035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036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037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F8C4-A928-4E24-A00A-D0373BE6CA6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«Построение графиков функций и уравнений, содержащих модули.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47960" y="2895120"/>
            <a:ext cx="42670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Arial"/>
              </a:rPr>
              <a:t>Г.П.Байл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364880" y="6060960"/>
            <a:ext cx="11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2021 г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y = |2|x| - 3|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241960" y="2652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952520" y="251460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Построение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385160" y="3048120"/>
            <a:ext cx="47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) График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2x – 3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для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&gt;0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266720" y="3505320"/>
            <a:ext cx="496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) График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-2x – 3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ля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&lt;0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349160" y="3886200"/>
            <a:ext cx="446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в) Кривые симметричные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носительно оси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x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ля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(x)&lt;0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4784760" y="606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762120" y="2362320"/>
            <a:ext cx="4375800" cy="5576760"/>
            <a:chOff x="762120" y="2362320"/>
            <a:chExt cx="4375800" cy="5576760"/>
          </a:xfrm>
        </p:grpSpPr>
        <p:grpSp>
          <p:nvGrpSpPr>
            <p:cNvPr id="175" name="Group 18"/>
            <p:cNvGrpSpPr/>
            <p:nvPr/>
          </p:nvGrpSpPr>
          <p:grpSpPr>
            <a:xfrm>
              <a:off x="762120" y="2452680"/>
              <a:ext cx="4267080" cy="5486400"/>
              <a:chOff x="762120" y="2452680"/>
              <a:chExt cx="4267080" cy="5486400"/>
            </a:xfrm>
          </p:grpSpPr>
          <p:pic>
            <p:nvPicPr>
              <p:cNvPr id="176" name="Picture 3" descr="E:\Kate\233.wmf"/>
              <p:cNvPicPr/>
              <p:nvPr/>
            </p:nvPicPr>
            <p:blipFill>
              <a:blip r:embed="rId1"/>
              <a:stretch/>
            </p:blipFill>
            <p:spPr>
              <a:xfrm>
                <a:off x="762120" y="2757600"/>
                <a:ext cx="4267080" cy="51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Line 14"/>
              <p:cNvSpPr/>
              <p:nvPr/>
            </p:nvSpPr>
            <p:spPr>
              <a:xfrm>
                <a:off x="2361960" y="6262560"/>
                <a:ext cx="228240" cy="53352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5"/>
              <p:cNvSpPr/>
              <p:nvPr/>
            </p:nvSpPr>
            <p:spPr>
              <a:xfrm flipV="1">
                <a:off x="2590560" y="6262560"/>
                <a:ext cx="228240" cy="53352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6"/>
              <p:cNvSpPr/>
              <p:nvPr/>
            </p:nvSpPr>
            <p:spPr>
              <a:xfrm>
                <a:off x="762120" y="6262560"/>
                <a:ext cx="42670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7"/>
              <p:cNvSpPr/>
              <p:nvPr/>
            </p:nvSpPr>
            <p:spPr>
              <a:xfrm flipV="1">
                <a:off x="2590560" y="2452680"/>
                <a:ext cx="0" cy="548640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1" name="Text Box 19"/>
            <p:cNvSpPr/>
            <p:nvPr/>
          </p:nvSpPr>
          <p:spPr>
            <a:xfrm>
              <a:off x="4868640" y="632448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2735280" y="23623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3" name="Text Box 21"/>
            <p:cNvSpPr/>
            <p:nvPr/>
          </p:nvSpPr>
          <p:spPr>
            <a:xfrm>
              <a:off x="2354040" y="62485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" dur="75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7" dur="75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" dur="75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75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25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y = |x</a:t>
            </a:r>
            <a:r>
              <a:rPr b="1" lang="en-US" sz="7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 – 5|x||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Text Box 1028"/>
          <p:cNvSpPr/>
          <p:nvPr/>
        </p:nvSpPr>
        <p:spPr>
          <a:xfrm>
            <a:off x="4936680" y="238140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Построение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Text Box 1029"/>
          <p:cNvSpPr/>
          <p:nvPr/>
        </p:nvSpPr>
        <p:spPr>
          <a:xfrm>
            <a:off x="4659120" y="2895480"/>
            <a:ext cx="36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)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x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– 5x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ля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&gt;0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Text Box 1030"/>
          <p:cNvSpPr/>
          <p:nvPr/>
        </p:nvSpPr>
        <p:spPr>
          <a:xfrm>
            <a:off x="4659480" y="3352680"/>
            <a:ext cx="35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)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x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+ 5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для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&lt;0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Text Box 1031"/>
          <p:cNvSpPr/>
          <p:nvPr/>
        </p:nvSpPr>
        <p:spPr>
          <a:xfrm>
            <a:off x="4577400" y="3809880"/>
            <a:ext cx="444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в) Кривые симметричные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носительно оси 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л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(x)&lt;0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9" name="Group 1123"/>
          <p:cNvGrpSpPr/>
          <p:nvPr/>
        </p:nvGrpSpPr>
        <p:grpSpPr>
          <a:xfrm>
            <a:off x="762120" y="2060640"/>
            <a:ext cx="4300200" cy="4797360"/>
            <a:chOff x="762120" y="2060640"/>
            <a:chExt cx="4300200" cy="4797360"/>
          </a:xfrm>
        </p:grpSpPr>
        <p:grpSp>
          <p:nvGrpSpPr>
            <p:cNvPr id="190" name="Group 1121"/>
            <p:cNvGrpSpPr/>
            <p:nvPr/>
          </p:nvGrpSpPr>
          <p:grpSpPr>
            <a:xfrm>
              <a:off x="762120" y="2060640"/>
              <a:ext cx="4300200" cy="4797360"/>
              <a:chOff x="762120" y="2060640"/>
              <a:chExt cx="4300200" cy="4797360"/>
            </a:xfrm>
          </p:grpSpPr>
          <p:grpSp>
            <p:nvGrpSpPr>
              <p:cNvPr id="191" name="Group 1117"/>
              <p:cNvGrpSpPr/>
              <p:nvPr/>
            </p:nvGrpSpPr>
            <p:grpSpPr>
              <a:xfrm>
                <a:off x="762120" y="2060640"/>
                <a:ext cx="4300200" cy="4797360"/>
                <a:chOff x="762120" y="2060640"/>
                <a:chExt cx="4300200" cy="4797360"/>
              </a:xfrm>
            </p:grpSpPr>
            <p:grpSp>
              <p:nvGrpSpPr>
                <p:cNvPr id="192" name="Group 1106"/>
                <p:cNvGrpSpPr/>
                <p:nvPr/>
              </p:nvGrpSpPr>
              <p:grpSpPr>
                <a:xfrm>
                  <a:off x="762120" y="2060640"/>
                  <a:ext cx="4300200" cy="4797360"/>
                  <a:chOff x="762120" y="2060640"/>
                  <a:chExt cx="4300200" cy="4797360"/>
                </a:xfrm>
              </p:grpSpPr>
              <p:pic>
                <p:nvPicPr>
                  <p:cNvPr id="193" name="Picture 1027" descr="E:\Kate\234.wmf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62120" y="2365200"/>
                    <a:ext cx="4191120" cy="44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94" name="Group 1105"/>
                  <p:cNvGrpSpPr/>
                  <p:nvPr/>
                </p:nvGrpSpPr>
                <p:grpSpPr>
                  <a:xfrm>
                    <a:off x="2354760" y="2060640"/>
                    <a:ext cx="2707560" cy="3888720"/>
                    <a:chOff x="2354760" y="2060640"/>
                    <a:chExt cx="2707560" cy="3888720"/>
                  </a:xfrm>
                </p:grpSpPr>
                <p:sp>
                  <p:nvSpPr>
                    <p:cNvPr id="195" name="Text Box 1037"/>
                    <p:cNvSpPr/>
                    <p:nvPr/>
                  </p:nvSpPr>
                  <p:spPr>
                    <a:xfrm>
                      <a:off x="2652840" y="2192400"/>
                      <a:ext cx="2570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Text Box 1036"/>
                    <p:cNvSpPr/>
                    <p:nvPr/>
                  </p:nvSpPr>
                  <p:spPr>
                    <a:xfrm>
                      <a:off x="4561200" y="5392800"/>
                      <a:ext cx="3013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Text Box 1058"/>
                    <p:cNvSpPr/>
                    <p:nvPr/>
                  </p:nvSpPr>
                  <p:spPr>
                    <a:xfrm>
                      <a:off x="4793040" y="5489640"/>
                      <a:ext cx="269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Text Box 1059"/>
                    <p:cNvSpPr/>
                    <p:nvPr/>
                  </p:nvSpPr>
                  <p:spPr>
                    <a:xfrm>
                      <a:off x="2659680" y="2060640"/>
                      <a:ext cx="269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Text Box 1060"/>
                    <p:cNvSpPr/>
                    <p:nvPr/>
                  </p:nvSpPr>
                  <p:spPr>
                    <a:xfrm>
                      <a:off x="2354760" y="5413320"/>
                      <a:ext cx="269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0" name="Freeform 1115"/>
                <p:cNvSpPr/>
                <p:nvPr/>
              </p:nvSpPr>
              <p:spPr>
                <a:xfrm>
                  <a:off x="1752840" y="5413320"/>
                  <a:ext cx="838080" cy="1142640"/>
                </a:xfrm>
                <a:prstGeom prst="pie">
                  <a:avLst/>
                </a:prstGeom>
                <a:noFill/>
                <a:ln w="9360">
                  <a:solidFill>
                    <a:srgbClr val="00336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116"/>
                <p:cNvSpPr/>
                <p:nvPr/>
              </p:nvSpPr>
              <p:spPr>
                <a:xfrm>
                  <a:off x="2590920" y="5413320"/>
                  <a:ext cx="838440" cy="1142640"/>
                </a:xfrm>
                <a:prstGeom prst="pie">
                  <a:avLst/>
                </a:prstGeom>
                <a:noFill/>
                <a:ln w="9360">
                  <a:solidFill>
                    <a:srgbClr val="00336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Text Box 1118"/>
              <p:cNvSpPr/>
              <p:nvPr/>
            </p:nvSpPr>
            <p:spPr>
              <a:xfrm>
                <a:off x="2897280" y="220968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03" name="Text Box 1122"/>
            <p:cNvSpPr/>
            <p:nvPr/>
          </p:nvSpPr>
          <p:spPr>
            <a:xfrm>
              <a:off x="2811600" y="250020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7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2" dur="7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7" dur="75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2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|y| = f(x),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где</a:t>
            </a: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 f(x) &gt;= 0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2592720" y="2666880"/>
            <a:ext cx="47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y = +-f(x), 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(x) &gt; = 0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4495680" y="3581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909360" y="4572000"/>
            <a:ext cx="82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График симметричен относительно оси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Ox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9" dur="75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Правило построения: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09840" y="2619360"/>
            <a:ext cx="700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а) Установить область определения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функции из условия: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(x)&gt; =0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608760" y="3533760"/>
            <a:ext cx="41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б) Построить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y = f(x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07320" y="4067280"/>
            <a:ext cx="848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) Построить кривые симметричные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y = f(x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относительно оси O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6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1" dur="3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|y| = </a:t>
            </a:r>
            <a:r>
              <a:rPr b="1" lang="ru-RU" sz="72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/2x + 1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409720" y="236232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Построение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4578480" y="2971800"/>
            <a:ext cx="415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)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бласть определени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ля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/2x + 1&gt; =0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&gt; = -2 .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4502880" y="4191120"/>
            <a:ext cx="386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) График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1/2x +1,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ля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&gt; = -2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683240" y="5257800"/>
            <a:ext cx="44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в) Кривая симметричная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7" name="Group 52"/>
          <p:cNvGrpSpPr/>
          <p:nvPr/>
        </p:nvGrpSpPr>
        <p:grpSpPr>
          <a:xfrm>
            <a:off x="457200" y="2708280"/>
            <a:ext cx="4300200" cy="3692520"/>
            <a:chOff x="457200" y="2708280"/>
            <a:chExt cx="4300200" cy="3692520"/>
          </a:xfrm>
        </p:grpSpPr>
        <p:grpSp>
          <p:nvGrpSpPr>
            <p:cNvPr id="218" name="Group 48"/>
            <p:cNvGrpSpPr/>
            <p:nvPr/>
          </p:nvGrpSpPr>
          <p:grpSpPr>
            <a:xfrm>
              <a:off x="457200" y="2708280"/>
              <a:ext cx="4300200" cy="3692520"/>
              <a:chOff x="457200" y="2708280"/>
              <a:chExt cx="4300200" cy="3692520"/>
            </a:xfrm>
          </p:grpSpPr>
          <p:sp>
            <p:nvSpPr>
              <p:cNvPr id="219" name="Text Box 10"/>
              <p:cNvSpPr/>
              <p:nvPr/>
            </p:nvSpPr>
            <p:spPr>
              <a:xfrm>
                <a:off x="4043520" y="4952880"/>
                <a:ext cx="30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Text Box 11"/>
              <p:cNvSpPr/>
              <p:nvPr/>
            </p:nvSpPr>
            <p:spPr>
              <a:xfrm>
                <a:off x="2119320" y="270828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21" name="Group 47"/>
              <p:cNvGrpSpPr/>
              <p:nvPr/>
            </p:nvGrpSpPr>
            <p:grpSpPr>
              <a:xfrm>
                <a:off x="457200" y="3124080"/>
                <a:ext cx="4300200" cy="3276720"/>
                <a:chOff x="457200" y="3124080"/>
                <a:chExt cx="4300200" cy="3276720"/>
              </a:xfrm>
            </p:grpSpPr>
            <p:pic>
              <p:nvPicPr>
                <p:cNvPr id="222" name="Picture 3" descr="E:\Kate\235.wm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57200" y="3200400"/>
                  <a:ext cx="4191120" cy="315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Line 36"/>
                <p:cNvSpPr/>
                <p:nvPr/>
              </p:nvSpPr>
              <p:spPr>
                <a:xfrm flipV="1">
                  <a:off x="2286000" y="3200400"/>
                  <a:ext cx="0" cy="32004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Text Box 39"/>
                <p:cNvSpPr/>
                <p:nvPr/>
              </p:nvSpPr>
              <p:spPr>
                <a:xfrm>
                  <a:off x="4488120" y="5410080"/>
                  <a:ext cx="26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Text Box 40"/>
                <p:cNvSpPr/>
                <p:nvPr/>
              </p:nvSpPr>
              <p:spPr>
                <a:xfrm>
                  <a:off x="2354400" y="3124080"/>
                  <a:ext cx="26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Text Box 41"/>
                <p:cNvSpPr/>
                <p:nvPr/>
              </p:nvSpPr>
              <p:spPr>
                <a:xfrm>
                  <a:off x="2049840" y="5410080"/>
                  <a:ext cx="26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Line 45"/>
                <p:cNvSpPr/>
                <p:nvPr/>
              </p:nvSpPr>
              <p:spPr>
                <a:xfrm>
                  <a:off x="457200" y="5334120"/>
                  <a:ext cx="411480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8" name="Text Box 51"/>
            <p:cNvSpPr/>
            <p:nvPr/>
          </p:nvSpPr>
          <p:spPr>
            <a:xfrm>
              <a:off x="1601280" y="5257800"/>
              <a:ext cx="47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" dur="75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8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3" dur="75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8" dur="75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|y| = |f(x)|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762840" y="266688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y = +-|f(x)|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048120" y="28954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814920" y="2666880"/>
            <a:ext cx="51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график симметричен относительно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осей O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x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Oy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365200" y="3809880"/>
            <a:ext cx="46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Правило построения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680400" y="4419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а)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y = |f(x)| (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есь в верхней полуплоскости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691560" y="495288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б)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y = -|f(x)| (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кривая симметричная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y = |f(x)|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75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75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4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9" dur="75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|y| = |x</a:t>
            </a:r>
            <a:r>
              <a:rPr b="1" lang="en-US" sz="7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 – 2x|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784400" y="253368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остроение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4417200" y="3191040"/>
            <a:ext cx="37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)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|x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– 2x|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для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&gt;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4433400" y="3657600"/>
            <a:ext cx="38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)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-|x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– 2x|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ля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&lt;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40" name="Group 24"/>
          <p:cNvGrpSpPr/>
          <p:nvPr/>
        </p:nvGrpSpPr>
        <p:grpSpPr>
          <a:xfrm>
            <a:off x="380880" y="2251080"/>
            <a:ext cx="4435560" cy="3668760"/>
            <a:chOff x="380880" y="2251080"/>
            <a:chExt cx="4435560" cy="3668760"/>
          </a:xfrm>
        </p:grpSpPr>
        <p:pic>
          <p:nvPicPr>
            <p:cNvPr id="241" name="Picture 3" descr="E:\Kate\236.wmf"/>
            <p:cNvPicPr/>
            <p:nvPr/>
          </p:nvPicPr>
          <p:blipFill>
            <a:blip r:embed="rId1"/>
            <a:stretch/>
          </p:blipFill>
          <p:spPr>
            <a:xfrm>
              <a:off x="380880" y="2438280"/>
              <a:ext cx="3962520" cy="34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7"/>
            <p:cNvSpPr/>
            <p:nvPr/>
          </p:nvSpPr>
          <p:spPr>
            <a:xfrm>
              <a:off x="4632480" y="42321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43" name="Group 23"/>
            <p:cNvGrpSpPr/>
            <p:nvPr/>
          </p:nvGrpSpPr>
          <p:grpSpPr>
            <a:xfrm>
              <a:off x="1890720" y="2251080"/>
              <a:ext cx="2561760" cy="3583800"/>
              <a:chOff x="1890720" y="2251080"/>
              <a:chExt cx="2561760" cy="3583800"/>
            </a:xfrm>
          </p:grpSpPr>
          <p:sp>
            <p:nvSpPr>
              <p:cNvPr id="244" name="Text Box 19"/>
              <p:cNvSpPr/>
              <p:nvPr/>
            </p:nvSpPr>
            <p:spPr>
              <a:xfrm>
                <a:off x="2125800" y="2251080"/>
                <a:ext cx="345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45" name="Group 22"/>
              <p:cNvGrpSpPr/>
              <p:nvPr/>
            </p:nvGrpSpPr>
            <p:grpSpPr>
              <a:xfrm>
                <a:off x="1890720" y="2860560"/>
                <a:ext cx="2561760" cy="2974320"/>
                <a:chOff x="1890720" y="2860560"/>
                <a:chExt cx="2561760" cy="2974320"/>
              </a:xfrm>
            </p:grpSpPr>
            <p:sp>
              <p:nvSpPr>
                <p:cNvPr id="246" name="Text Box 12"/>
                <p:cNvSpPr/>
                <p:nvPr/>
              </p:nvSpPr>
              <p:spPr>
                <a:xfrm>
                  <a:off x="4176720" y="5375160"/>
                  <a:ext cx="257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Text Box 13"/>
                <p:cNvSpPr/>
                <p:nvPr/>
              </p:nvSpPr>
              <p:spPr>
                <a:xfrm>
                  <a:off x="2271600" y="2860560"/>
                  <a:ext cx="257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Text Box 20"/>
                <p:cNvSpPr/>
                <p:nvPr/>
              </p:nvSpPr>
              <p:spPr>
                <a:xfrm>
                  <a:off x="4106880" y="4765680"/>
                  <a:ext cx="345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Text Box 21"/>
                <p:cNvSpPr/>
                <p:nvPr/>
              </p:nvSpPr>
              <p:spPr>
                <a:xfrm>
                  <a:off x="1890720" y="4689360"/>
                  <a:ext cx="257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" dur="75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6" dur="75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1" dur="75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|y| + |x| = a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Text Box 1027"/>
          <p:cNvSpPr/>
          <p:nvPr/>
        </p:nvSpPr>
        <p:spPr>
          <a:xfrm>
            <a:off x="689760" y="3048120"/>
            <a:ext cx="117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&gt;=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AutoShape 1028"/>
          <p:cNvSpPr/>
          <p:nvPr/>
        </p:nvSpPr>
        <p:spPr>
          <a:xfrm>
            <a:off x="2057400" y="3124080"/>
            <a:ext cx="762120" cy="333360"/>
          </a:xfrm>
          <a:prstGeom prst="rightArrow">
            <a:avLst>
              <a:gd name="adj1" fmla="val 50000"/>
              <a:gd name="adj2" fmla="val 57154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Text Box 1029"/>
          <p:cNvSpPr/>
          <p:nvPr/>
        </p:nvSpPr>
        <p:spPr>
          <a:xfrm>
            <a:off x="2978280" y="2895480"/>
            <a:ext cx="578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|x|&lt;=a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|y|&lt;=a,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т. е. Д(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):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&lt;= x &lt;=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E(f):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–a &lt;= y &lt;=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Text Box 1030"/>
          <p:cNvSpPr/>
          <p:nvPr/>
        </p:nvSpPr>
        <p:spPr>
          <a:xfrm>
            <a:off x="1419480" y="4410000"/>
            <a:ext cx="698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т. к.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|-y|=|y|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|-x|=|x|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график симметричен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носительно осей координат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8380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66"/>
                </a:solidFill>
                <a:latin typeface="Arial"/>
              </a:rPr>
              <a:t>|y|+|x|=3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Text Box 67"/>
          <p:cNvSpPr/>
          <p:nvPr/>
        </p:nvSpPr>
        <p:spPr>
          <a:xfrm>
            <a:off x="6171840" y="2590920"/>
            <a:ext cx="217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Times New Roman"/>
              </a:rPr>
              <a:t>Построение: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Text Box 68"/>
          <p:cNvSpPr/>
          <p:nvPr/>
        </p:nvSpPr>
        <p:spPr>
          <a:xfrm>
            <a:off x="5914800" y="3352680"/>
            <a:ext cx="2995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а) Строим график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x + y = 3 ,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x&gt;0 ,y&gt;0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олучим отрезок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B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Text Box 69"/>
          <p:cNvSpPr/>
          <p:nvPr/>
        </p:nvSpPr>
        <p:spPr>
          <a:xfrm>
            <a:off x="5926680" y="5121360"/>
            <a:ext cx="2983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б) Строим отрезки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имметричные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B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относительно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Ox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Oy. (|y| = |-y| ,|x| = |-x|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59" name="Group 134"/>
          <p:cNvGrpSpPr/>
          <p:nvPr/>
        </p:nvGrpSpPr>
        <p:grpSpPr>
          <a:xfrm>
            <a:off x="1371600" y="2514600"/>
            <a:ext cx="4468320" cy="3733920"/>
            <a:chOff x="1371600" y="2514600"/>
            <a:chExt cx="4468320" cy="3733920"/>
          </a:xfrm>
        </p:grpSpPr>
        <p:sp>
          <p:nvSpPr>
            <p:cNvPr id="260" name="Text Box 56"/>
            <p:cNvSpPr/>
            <p:nvPr/>
          </p:nvSpPr>
          <p:spPr>
            <a:xfrm>
              <a:off x="3650040" y="44053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1" name="Text Box 57"/>
            <p:cNvSpPr/>
            <p:nvPr/>
          </p:nvSpPr>
          <p:spPr>
            <a:xfrm>
              <a:off x="5570640" y="44197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2" name="Text Box 58"/>
            <p:cNvSpPr/>
            <p:nvPr/>
          </p:nvSpPr>
          <p:spPr>
            <a:xfrm>
              <a:off x="3970440" y="251460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3" name="Text Box 61"/>
            <p:cNvSpPr/>
            <p:nvPr/>
          </p:nvSpPr>
          <p:spPr>
            <a:xfrm>
              <a:off x="2286000" y="403848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4" name="Text Box 62"/>
            <p:cNvSpPr/>
            <p:nvPr/>
          </p:nvSpPr>
          <p:spPr>
            <a:xfrm>
              <a:off x="3898800" y="56386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5" name="Text Box 63"/>
            <p:cNvSpPr/>
            <p:nvPr/>
          </p:nvSpPr>
          <p:spPr>
            <a:xfrm>
              <a:off x="5113440" y="403848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6" name="Text Box 64"/>
            <p:cNvSpPr/>
            <p:nvPr/>
          </p:nvSpPr>
          <p:spPr>
            <a:xfrm>
              <a:off x="3970440" y="289548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7" name="Text Box 70"/>
            <p:cNvSpPr/>
            <p:nvPr/>
          </p:nvSpPr>
          <p:spPr>
            <a:xfrm>
              <a:off x="5192280" y="4419720"/>
              <a:ext cx="30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8" name="Text Box 71"/>
            <p:cNvSpPr/>
            <p:nvPr/>
          </p:nvSpPr>
          <p:spPr>
            <a:xfrm>
              <a:off x="3591720" y="2819520"/>
              <a:ext cx="29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9" name="Line 119"/>
            <p:cNvSpPr/>
            <p:nvPr/>
          </p:nvSpPr>
          <p:spPr>
            <a:xfrm>
              <a:off x="1371600" y="4343400"/>
              <a:ext cx="44197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0" name="Line 120"/>
            <p:cNvSpPr/>
            <p:nvPr/>
          </p:nvSpPr>
          <p:spPr>
            <a:xfrm flipV="1">
              <a:off x="3886200" y="2514600"/>
              <a:ext cx="0" cy="3733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1" name="Line 121"/>
            <p:cNvSpPr/>
            <p:nvPr/>
          </p:nvSpPr>
          <p:spPr>
            <a:xfrm>
              <a:off x="2514600" y="4267080"/>
              <a:ext cx="0" cy="152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2" name="Line 124"/>
            <p:cNvSpPr/>
            <p:nvPr/>
          </p:nvSpPr>
          <p:spPr>
            <a:xfrm>
              <a:off x="5257800" y="4267080"/>
              <a:ext cx="0" cy="152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3" name="Line 128"/>
            <p:cNvSpPr/>
            <p:nvPr/>
          </p:nvSpPr>
          <p:spPr>
            <a:xfrm>
              <a:off x="3809880" y="2971800"/>
              <a:ext cx="1526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4" name="Line 129"/>
            <p:cNvSpPr/>
            <p:nvPr/>
          </p:nvSpPr>
          <p:spPr>
            <a:xfrm>
              <a:off x="3809880" y="5715000"/>
              <a:ext cx="1526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5" name="Line 130"/>
            <p:cNvSpPr/>
            <p:nvPr/>
          </p:nvSpPr>
          <p:spPr>
            <a:xfrm>
              <a:off x="3886200" y="2971800"/>
              <a:ext cx="137160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76" name="Line 135"/>
          <p:cNvSpPr/>
          <p:nvPr/>
        </p:nvSpPr>
        <p:spPr>
          <a:xfrm flipH="1">
            <a:off x="3886200" y="4343400"/>
            <a:ext cx="13716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Line 136"/>
          <p:cNvSpPr/>
          <p:nvPr/>
        </p:nvSpPr>
        <p:spPr>
          <a:xfrm flipH="1" flipV="1">
            <a:off x="2514600" y="4343400"/>
            <a:ext cx="13716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Line 137"/>
          <p:cNvSpPr/>
          <p:nvPr/>
        </p:nvSpPr>
        <p:spPr>
          <a:xfrm flipV="1">
            <a:off x="2514600" y="2971800"/>
            <a:ext cx="13716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75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75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45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75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66"/>
                </a:solidFill>
                <a:latin typeface="Arial"/>
              </a:rPr>
              <a:t>Литература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.И. Гайдуков «Абсолютная величина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свещение, 1968 г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Ю.Н. Макарычев, Н.Г. Миндюк «Дополнительные главы к школьному учебнику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свещение, 2019 г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</a:rPr>
              <a:t>АБСОЛЮТНАЯ ВЕЛИЧИН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362320" y="37339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|a|=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588840" y="3102120"/>
            <a:ext cx="3190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,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если а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&gt; 0,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0,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если а = 0,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-а, если а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&lt;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0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3505320" y="3200400"/>
            <a:ext cx="0" cy="1828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1373760" y="5365800"/>
            <a:ext cx="4431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меры: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|8| = 8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2. |-8| = 8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Times New Roman"/>
              </a:rPr>
              <a:t>y = f|x|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5920" y="320040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|x| = |-x|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438280" y="33526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197520" y="3200400"/>
            <a:ext cx="17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|-x| = f|x|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4952880" y="33526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636160" y="3200400"/>
            <a:ext cx="32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y = f|x| -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чётная и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8367480" y="3241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832680" y="4038480"/>
            <a:ext cx="817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график симметричен относительно оси O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50"/>
                            </p:stCondLst>
                            <p:childTnLst>
                              <p:par>
                                <p:cTn id="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50"/>
                            </p:stCondLst>
                            <p:childTnLst>
                              <p:par>
                                <p:cTn id="1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y = 1/4x</a:t>
            </a:r>
            <a:r>
              <a:rPr b="1" lang="en-US" sz="7200" spc="-1" strike="noStrike" baseline="30000">
                <a:solidFill>
                  <a:srgbClr val="006666"/>
                </a:solidFill>
                <a:latin typeface="Arial"/>
              </a:rPr>
              <a:t>2 </a:t>
            </a: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- |x| - 3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5550120" y="2533680"/>
            <a:ext cx="293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y = 1/4x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 - |x| - 3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AutoShape 48"/>
          <p:cNvSpPr/>
          <p:nvPr/>
        </p:nvSpPr>
        <p:spPr>
          <a:xfrm rot="1679400">
            <a:off x="5965920" y="3203280"/>
            <a:ext cx="409320" cy="1193760"/>
          </a:xfrm>
          <a:prstGeom prst="downArrow">
            <a:avLst>
              <a:gd name="adj1" fmla="val 52944"/>
              <a:gd name="adj2" fmla="val 84415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AutoShape 49"/>
          <p:cNvSpPr/>
          <p:nvPr/>
        </p:nvSpPr>
        <p:spPr>
          <a:xfrm rot="19936200">
            <a:off x="7461360" y="3181320"/>
            <a:ext cx="409320" cy="1143000"/>
          </a:xfrm>
          <a:prstGeom prst="downArrow">
            <a:avLst>
              <a:gd name="adj1" fmla="val 52944"/>
              <a:gd name="adj2" fmla="val 80825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Text Box 50"/>
          <p:cNvSpPr/>
          <p:nvPr/>
        </p:nvSpPr>
        <p:spPr>
          <a:xfrm>
            <a:off x="4125600" y="441972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1/4x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- x - 3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Text Box 51"/>
          <p:cNvSpPr/>
          <p:nvPr/>
        </p:nvSpPr>
        <p:spPr>
          <a:xfrm>
            <a:off x="6625440" y="441972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y = 1/4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+ x - 3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Text Box 52"/>
          <p:cNvSpPr/>
          <p:nvPr/>
        </p:nvSpPr>
        <p:spPr>
          <a:xfrm>
            <a:off x="478476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9" name="Group 1139"/>
          <p:cNvGrpSpPr/>
          <p:nvPr/>
        </p:nvGrpSpPr>
        <p:grpSpPr>
          <a:xfrm>
            <a:off x="838080" y="2362320"/>
            <a:ext cx="4267440" cy="4305240"/>
            <a:chOff x="838080" y="2362320"/>
            <a:chExt cx="4267440" cy="4305240"/>
          </a:xfrm>
        </p:grpSpPr>
        <p:pic>
          <p:nvPicPr>
            <p:cNvPr id="120" name="Picture 11" descr="E:\Kate\пр6.wmf"/>
            <p:cNvPicPr/>
            <p:nvPr/>
          </p:nvPicPr>
          <p:blipFill>
            <a:blip r:embed="rId1"/>
            <a:stretch/>
          </p:blipFill>
          <p:spPr>
            <a:xfrm>
              <a:off x="838080" y="2438280"/>
              <a:ext cx="4267440" cy="42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Line 1131"/>
            <p:cNvSpPr/>
            <p:nvPr/>
          </p:nvSpPr>
          <p:spPr>
            <a:xfrm flipV="1">
              <a:off x="2682720" y="2452680"/>
              <a:ext cx="0" cy="419112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Line 1132"/>
            <p:cNvSpPr/>
            <p:nvPr/>
          </p:nvSpPr>
          <p:spPr>
            <a:xfrm>
              <a:off x="853920" y="5348160"/>
              <a:ext cx="41911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Text Box 1135"/>
            <p:cNvSpPr/>
            <p:nvPr/>
          </p:nvSpPr>
          <p:spPr>
            <a:xfrm>
              <a:off x="2675160" y="23623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Text Box 1136"/>
            <p:cNvSpPr/>
            <p:nvPr/>
          </p:nvSpPr>
          <p:spPr>
            <a:xfrm>
              <a:off x="4740120" y="5424480"/>
              <a:ext cx="2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Text Box 1137"/>
            <p:cNvSpPr/>
            <p:nvPr/>
          </p:nvSpPr>
          <p:spPr>
            <a:xfrm>
              <a:off x="2446560" y="53341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4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325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y = 1/2|x|+1/2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5391000" y="245736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y = 1/2|x| + 1/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AutoShape 20"/>
          <p:cNvSpPr/>
          <p:nvPr/>
        </p:nvSpPr>
        <p:spPr>
          <a:xfrm rot="1672200">
            <a:off x="5581800" y="3109680"/>
            <a:ext cx="485640" cy="1218960"/>
          </a:xfrm>
          <a:prstGeom prst="downArrow">
            <a:avLst>
              <a:gd name="adj1" fmla="val 50000"/>
              <a:gd name="adj2" fmla="val 6275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AutoShape 21"/>
          <p:cNvSpPr/>
          <p:nvPr/>
        </p:nvSpPr>
        <p:spPr>
          <a:xfrm rot="19736400">
            <a:off x="7162920" y="3123720"/>
            <a:ext cx="485640" cy="1219320"/>
          </a:xfrm>
          <a:prstGeom prst="downArrow">
            <a:avLst>
              <a:gd name="adj1" fmla="val 50000"/>
              <a:gd name="adj2" fmla="val 62769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4573080" y="419112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1/2x + 1/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16240" y="419112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y = -1/2x + 1/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2" name="Group 94"/>
          <p:cNvGrpSpPr/>
          <p:nvPr/>
        </p:nvGrpSpPr>
        <p:grpSpPr>
          <a:xfrm>
            <a:off x="1066680" y="2362320"/>
            <a:ext cx="3630240" cy="4267080"/>
            <a:chOff x="1066680" y="2362320"/>
            <a:chExt cx="3630240" cy="4267080"/>
          </a:xfrm>
        </p:grpSpPr>
        <p:pic>
          <p:nvPicPr>
            <p:cNvPr id="133" name="Picture 3" descr="E:\Kate\231.wmf"/>
            <p:cNvPicPr/>
            <p:nvPr/>
          </p:nvPicPr>
          <p:blipFill>
            <a:blip r:embed="rId1"/>
            <a:stretch/>
          </p:blipFill>
          <p:spPr>
            <a:xfrm>
              <a:off x="1066680" y="2438280"/>
              <a:ext cx="36068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89"/>
            <p:cNvSpPr/>
            <p:nvPr/>
          </p:nvSpPr>
          <p:spPr>
            <a:xfrm>
              <a:off x="4427640" y="53341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Text Box 90"/>
            <p:cNvSpPr/>
            <p:nvPr/>
          </p:nvSpPr>
          <p:spPr>
            <a:xfrm>
              <a:off x="2598840" y="23623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Text Box 91"/>
            <p:cNvSpPr/>
            <p:nvPr/>
          </p:nvSpPr>
          <p:spPr>
            <a:xfrm>
              <a:off x="2370240" y="53341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4" dur="75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75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75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y = |f(x)|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752480" y="3733920"/>
            <a:ext cx="898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y =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2590920" y="3352680"/>
            <a:ext cx="0" cy="13716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2838600" y="3429000"/>
            <a:ext cx="4171320" cy="1922400"/>
            <a:chOff x="2838600" y="3429000"/>
            <a:chExt cx="4171320" cy="1922400"/>
          </a:xfrm>
        </p:grpSpPr>
        <p:sp>
          <p:nvSpPr>
            <p:cNvPr id="141" name="Text Box 6"/>
            <p:cNvSpPr/>
            <p:nvPr/>
          </p:nvSpPr>
          <p:spPr>
            <a:xfrm>
              <a:off x="2838600" y="3441600"/>
              <a:ext cx="1364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3366"/>
                  </a:solidFill>
                  <a:latin typeface="Times New Roman"/>
                </a:rPr>
                <a:t>f(x), </a:t>
              </a:r>
              <a:endParaRPr b="0" lang="en-US" sz="4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66"/>
                  </a:solidFill>
                  <a:latin typeface="Times New Roman"/>
                </a:rPr>
                <a:t>-f(x), </a:t>
              </a:r>
              <a:endParaRPr b="0" lang="en-US" sz="4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Text Box 7"/>
            <p:cNvSpPr/>
            <p:nvPr/>
          </p:nvSpPr>
          <p:spPr>
            <a:xfrm>
              <a:off x="3889440" y="3429000"/>
              <a:ext cx="31204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3366"/>
                  </a:solidFill>
                  <a:latin typeface="Times New Roman"/>
                </a:rPr>
                <a:t>где </a:t>
              </a:r>
              <a:r>
                <a:rPr b="1" lang="en-US" sz="4000" spc="-1" strike="noStrike">
                  <a:solidFill>
                    <a:srgbClr val="003366"/>
                  </a:solidFill>
                  <a:latin typeface="Times New Roman"/>
                </a:rPr>
                <a:t>f(x) &gt; = 0,</a:t>
              </a:r>
              <a:endParaRPr b="0" lang="en-US" sz="4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3366"/>
                  </a:solidFill>
                  <a:latin typeface="Times New Roman"/>
                </a:rPr>
                <a:t>где </a:t>
              </a:r>
              <a:r>
                <a:rPr b="1" lang="en-US" sz="4000" spc="-1" strike="noStrike">
                  <a:solidFill>
                    <a:srgbClr val="003366"/>
                  </a:solidFill>
                  <a:latin typeface="Times New Roman"/>
                </a:rPr>
                <a:t>f(x) &lt; 0</a:t>
              </a:r>
              <a:r>
                <a:rPr b="1" lang="ru-RU" sz="4000" spc="-1" strike="noStrike">
                  <a:solidFill>
                    <a:srgbClr val="003366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75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y = |x</a:t>
            </a:r>
            <a:r>
              <a:rPr b="1" lang="en-US" sz="7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 – x – 6|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23268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9277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51814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5946840" y="2362320"/>
            <a:ext cx="23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Построение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5081040" y="2971800"/>
            <a:ext cx="38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) График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x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-x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5185440" y="3581280"/>
            <a:ext cx="364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) Участок графика ,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где y&lt;0, отображае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имметрично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носительно оси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x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0" name="Group 36"/>
          <p:cNvGrpSpPr/>
          <p:nvPr/>
        </p:nvGrpSpPr>
        <p:grpSpPr>
          <a:xfrm>
            <a:off x="304920" y="2514600"/>
            <a:ext cx="5257800" cy="4506840"/>
            <a:chOff x="304920" y="2514600"/>
            <a:chExt cx="5257800" cy="4506840"/>
          </a:xfrm>
        </p:grpSpPr>
        <p:sp>
          <p:nvSpPr>
            <p:cNvPr id="151" name="Text Box 24"/>
            <p:cNvSpPr/>
            <p:nvPr/>
          </p:nvSpPr>
          <p:spPr>
            <a:xfrm>
              <a:off x="5037480" y="579096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2" name="Group 35"/>
            <p:cNvGrpSpPr/>
            <p:nvPr/>
          </p:nvGrpSpPr>
          <p:grpSpPr>
            <a:xfrm>
              <a:off x="304920" y="2514600"/>
              <a:ext cx="5257800" cy="4506840"/>
              <a:chOff x="304920" y="2514600"/>
              <a:chExt cx="5257800" cy="4506840"/>
            </a:xfrm>
          </p:grpSpPr>
          <p:grpSp>
            <p:nvGrpSpPr>
              <p:cNvPr id="153" name="Group 28"/>
              <p:cNvGrpSpPr/>
              <p:nvPr/>
            </p:nvGrpSpPr>
            <p:grpSpPr>
              <a:xfrm>
                <a:off x="304920" y="2514600"/>
                <a:ext cx="5257800" cy="4506840"/>
                <a:chOff x="304920" y="2514600"/>
                <a:chExt cx="5257800" cy="4506840"/>
              </a:xfrm>
            </p:grpSpPr>
            <p:pic>
              <p:nvPicPr>
                <p:cNvPr id="154" name="Picture 3" descr="E:\Kate\232.wm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4920" y="2666880"/>
                  <a:ext cx="5257800" cy="4354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5" name="Group 27"/>
                <p:cNvGrpSpPr/>
                <p:nvPr/>
              </p:nvGrpSpPr>
              <p:grpSpPr>
                <a:xfrm>
                  <a:off x="304920" y="2514600"/>
                  <a:ext cx="5181840" cy="4419360"/>
                  <a:chOff x="304920" y="2514600"/>
                  <a:chExt cx="5181840" cy="4419360"/>
                </a:xfrm>
              </p:grpSpPr>
              <p:sp>
                <p:nvSpPr>
                  <p:cNvPr id="156" name="Text Box 16"/>
                  <p:cNvSpPr/>
                  <p:nvPr/>
                </p:nvSpPr>
                <p:spPr>
                  <a:xfrm>
                    <a:off x="5166000" y="5603760"/>
                    <a:ext cx="1839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7" name="Group 23"/>
                  <p:cNvGrpSpPr/>
                  <p:nvPr/>
                </p:nvGrpSpPr>
                <p:grpSpPr>
                  <a:xfrm>
                    <a:off x="304920" y="2514600"/>
                    <a:ext cx="5181840" cy="4419360"/>
                    <a:chOff x="304920" y="2514600"/>
                    <a:chExt cx="5181840" cy="4419360"/>
                  </a:xfrm>
                </p:grpSpPr>
                <p:sp>
                  <p:nvSpPr>
                    <p:cNvPr id="158" name="Line 21"/>
                    <p:cNvSpPr/>
                    <p:nvPr/>
                  </p:nvSpPr>
                  <p:spPr>
                    <a:xfrm>
                      <a:off x="304920" y="5638680"/>
                      <a:ext cx="5181840" cy="0"/>
                    </a:xfrm>
                    <a:prstGeom prst="line">
                      <a:avLst/>
                    </a:prstGeom>
                    <a:ln w="28440">
                      <a:solidFill>
                        <a:srgbClr val="003366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22"/>
                    <p:cNvSpPr/>
                    <p:nvPr/>
                  </p:nvSpPr>
                  <p:spPr>
                    <a:xfrm flipV="1">
                      <a:off x="2590920" y="2514600"/>
                      <a:ext cx="0" cy="4419360"/>
                    </a:xfrm>
                    <a:prstGeom prst="line">
                      <a:avLst/>
                    </a:prstGeom>
                    <a:ln w="28440">
                      <a:solidFill>
                        <a:srgbClr val="003366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0" name="Text Box 25"/>
                  <p:cNvSpPr/>
                  <p:nvPr/>
                </p:nvSpPr>
                <p:spPr>
                  <a:xfrm>
                    <a:off x="2675520" y="2514600"/>
                    <a:ext cx="269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y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Text Box 26"/>
                  <p:cNvSpPr/>
                  <p:nvPr/>
                </p:nvSpPr>
                <p:spPr>
                  <a:xfrm>
                    <a:off x="2354760" y="5624280"/>
                    <a:ext cx="269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2" name="Freeform 34"/>
              <p:cNvSpPr/>
              <p:nvPr/>
            </p:nvSpPr>
            <p:spPr>
              <a:xfrm>
                <a:off x="2133720" y="5562360"/>
                <a:ext cx="1067040" cy="1143000"/>
              </a:xfrm>
              <a:prstGeom prst="pie">
                <a:avLst/>
              </a:prstGeom>
              <a:noFill/>
              <a:ln w="9360">
                <a:solidFill>
                  <a:srgbClr val="0033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75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6" dur="75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1" dur="7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y = |f|x||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517480" y="2438280"/>
            <a:ext cx="46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Правило построения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049760" y="3092400"/>
            <a:ext cx="74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а)Строим график функции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y = f|x|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066680" y="4038480"/>
            <a:ext cx="701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б) Участки графика , где  y&lt;0,     отображаем симметрично относительно оси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x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75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5" dur="75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" dur="75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54:47Z</dcterms:created>
  <dc:creator>Галина</dc:creator>
  <dc:description/>
  <dc:language>en-US</dc:language>
  <cp:lastModifiedBy>001</cp:lastModifiedBy>
  <dcterms:modified xsi:type="dcterms:W3CDTF">2023-06-14T01:29:02Z</dcterms:modified>
  <cp:revision>35</cp:revision>
  <dc:subject/>
  <dc:title>АБСОЛЮТНАЯ ВЕЛИЧИНА</dc:title>
</cp:coreProperties>
</file>