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5B2C-A893-4A48-9A6D-4DDDDFF2C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F11F-A494-4D10-B2F8-3D588FA0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5C2A-0A62-428C-ABD8-46CAD710A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A827-1DC5-4ADC-86BD-BE87B1D3C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B212-60FC-4B76-8E22-50F4F3FBE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D09F-8E5C-4028-9972-48C59778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8153-DB38-4A64-9AA9-EDBFFE49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9733-6300-4FDC-8734-9F8EE01A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A7F5-2E33-45A8-B5F0-B85B1230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CD8F-3D56-4668-A699-12DAC3E0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A300-E44C-4785-9419-520498A1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A387-E91C-4A21-A13C-051879C9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860D-B72A-4874-A92E-E35E7F48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706E-75B7-4B8A-975F-88DBF091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ABEF-26DE-4CE3-9832-D6C787CA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01A2-3B20-4C5F-AA32-91B74F35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8FF2-26CE-49F6-9473-C3974F274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F2FA-7E90-48D7-9BE7-06E75643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C796-BE24-4B4D-B4E1-B5A0B348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EDBE-89E5-4FD2-A89C-26F03D1B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86BD-28A0-4C60-9151-A41698B9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FA2D-E9FD-45AF-B696-EB80553C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0595-F974-4D84-B4F4-668B0199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3CF4-B8C4-4B2E-9B2F-B86AC680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578C-123A-431B-B4D4-52DCF45B06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7679-18C4-4184-91C5-38A6DE94872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81440" y="785520"/>
            <a:ext cx="9325080" cy="27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Тема: «Хлеб всему голова.»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429080" y="2928600"/>
            <a:ext cx="414360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полнила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еница 2 «А» клас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У «Лицей №107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узьмина Анастас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уководитель Авдеева Мария Фёдоров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400" y="5571720"/>
            <a:ext cx="871524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-На Руси в древности пекли дрожжевой хлеб в каждом доме.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Содержимое 4" descr="060_lu.jpg"/>
          <p:cNvPicPr/>
          <p:nvPr/>
        </p:nvPicPr>
        <p:blipFill>
          <a:blip r:embed="rId1"/>
          <a:stretch/>
        </p:blipFill>
        <p:spPr>
          <a:xfrm>
            <a:off x="2286000" y="214200"/>
            <a:ext cx="657216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108000" y="0"/>
            <a:ext cx="9360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С хлебом у русских связано много обрядов: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Содержимое 3" descr="загруженное.jpg"/>
          <p:cNvPicPr/>
          <p:nvPr/>
        </p:nvPicPr>
        <p:blipFill>
          <a:blip r:embed="rId1"/>
          <a:stretch/>
        </p:blipFill>
        <p:spPr>
          <a:xfrm>
            <a:off x="428760" y="1000080"/>
            <a:ext cx="3187440" cy="2643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213840" y="928440"/>
            <a:ext cx="89298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Хлебом и солью встречал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четных гост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Без него не обходилась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и одна свадьб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леб везли вместе с приданым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весты, им встречали молоды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леб  брали с собой в дорогу, чтобы он охранял в пут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 того как человек обращается с хлебом, зависят его сила, здоровье и удача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иметы о хлебе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8571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Не разрешалось, чтобы один человек доедал хлеб за другим – заберешь его счастье и сил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Нельзя во время еды давать хлеб со стола собакам – постигнет бедность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Люди, преломившие хлеб, становятся друзьями на всю жизнь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амым большим грехом на Руси считалось уронить хотя бы одну крошку хлеба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ословицы о хлебе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Хлеба ни куска, так и в горнице тос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Покуда есть хлеб да вода, все не бе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В голодный год лучше хлеба кусок, чем                                                  слиток золота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Евши пирог, вспомни и сухую корочк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Болезнь не беда, коли есть хлеб и вода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Не шуба греет, а хлеб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Хлеб всему голова.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У каждого народа есть свой особый хлеб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Содержимое 6" descr="b46B9WmBRGw.jpg"/>
          <p:cNvPicPr/>
          <p:nvPr/>
        </p:nvPicPr>
        <p:blipFill>
          <a:blip r:embed="rId1"/>
          <a:stretch/>
        </p:blipFill>
        <p:spPr>
          <a:xfrm>
            <a:off x="2143080" y="1643040"/>
            <a:ext cx="500076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Тонкие лепёшки </a:t>
            </a: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рмянского лаваш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Содержимое 3" descr="002.jpg"/>
          <p:cNvPicPr/>
          <p:nvPr/>
        </p:nvPicPr>
        <p:blipFill>
          <a:blip r:embed="rId1"/>
          <a:stretch/>
        </p:blipFill>
        <p:spPr>
          <a:xfrm>
            <a:off x="285840" y="4000680"/>
            <a:ext cx="4038480" cy="2681280"/>
          </a:xfrm>
          <a:prstGeom prst="rect">
            <a:avLst/>
          </a:prstGeom>
          <a:ln w="0">
            <a:noFill/>
          </a:ln>
        </p:spPr>
      </p:pic>
      <p:pic>
        <p:nvPicPr>
          <p:cNvPr id="151" name="Содержимое 6" descr="1296669654_167.jpg"/>
          <p:cNvPicPr/>
          <p:nvPr/>
        </p:nvPicPr>
        <p:blipFill>
          <a:blip r:embed="rId2"/>
          <a:stretch/>
        </p:blipFill>
        <p:spPr>
          <a:xfrm>
            <a:off x="3571920" y="1571760"/>
            <a:ext cx="532296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рузинский хлеб ШОТИ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3" name="Содержимое 5" descr="P2230006.JPG"/>
          <p:cNvPicPr/>
          <p:nvPr/>
        </p:nvPicPr>
        <p:blipFill>
          <a:blip r:embed="rId1"/>
          <a:stretch/>
        </p:blipFill>
        <p:spPr>
          <a:xfrm>
            <a:off x="4500720" y="36432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54" name="Содержимое 6" descr="P2230012.JPG"/>
          <p:cNvPicPr/>
          <p:nvPr/>
        </p:nvPicPr>
        <p:blipFill>
          <a:blip r:embed="rId2"/>
          <a:stretch/>
        </p:blipFill>
        <p:spPr>
          <a:xfrm>
            <a:off x="928800" y="1571760"/>
            <a:ext cx="5786280" cy="3357360"/>
          </a:xfrm>
          <a:prstGeom prst="rect">
            <a:avLst/>
          </a:prstGeom>
          <a:ln w="0">
            <a:noFill/>
          </a:ln>
        </p:spPr>
      </p:pic>
      <p:pic>
        <p:nvPicPr>
          <p:cNvPr id="155" name="Содержимое 6" descr="P2230012.JPG"/>
          <p:cNvPicPr/>
          <p:nvPr/>
        </p:nvPicPr>
        <p:blipFill>
          <a:blip r:embed="rId3"/>
          <a:stretch/>
        </p:blipFill>
        <p:spPr>
          <a:xfrm>
            <a:off x="900000" y="1557360"/>
            <a:ext cx="5786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Эстонский ржаной хлеб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7" name="Содержимое 4" descr="045169ad49ac.jpg"/>
          <p:cNvPicPr/>
          <p:nvPr/>
        </p:nvPicPr>
        <p:blipFill>
          <a:blip r:embed="rId1"/>
          <a:stretch/>
        </p:blipFill>
        <p:spPr>
          <a:xfrm>
            <a:off x="1285920" y="1428840"/>
            <a:ext cx="66438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аратовский калач-</a:t>
            </a: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гордость России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9" name="Содержимое 3" descr="xleb-sk1 (1).jpg"/>
          <p:cNvPicPr/>
          <p:nvPr/>
        </p:nvPicPr>
        <p:blipFill>
          <a:blip r:embed="rId1"/>
          <a:stretch/>
        </p:blipFill>
        <p:spPr>
          <a:xfrm>
            <a:off x="1785960" y="1876320"/>
            <a:ext cx="545940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 как мы относимся к хлебу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1" name="Содержимое 3" descr="IMG_3169.jpg"/>
          <p:cNvPicPr/>
          <p:nvPr/>
        </p:nvPicPr>
        <p:blipFill>
          <a:blip r:embed="rId1"/>
          <a:stretch/>
        </p:blipFill>
        <p:spPr>
          <a:xfrm>
            <a:off x="1428840" y="1600200"/>
            <a:ext cx="61642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Цель: Показать значимость хлеба в жизни людей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дача:- Показать как зерно становится колосом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Рассказать об истории хлебопечения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знакомить с приметами и пословицами о хлебе у русского народа. Какой хлеб едят другие народы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Показать разнообразие продуктов питания из пшеницы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знать как относятся люди сегодня к хлебу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ного ли его остается </a:t>
            </a: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 нашей столовой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Содержимое 3" descr="IMG_3171.jpg"/>
          <p:cNvPicPr/>
          <p:nvPr/>
        </p:nvPicPr>
        <p:blipFill>
          <a:blip r:embed="rId1"/>
          <a:stretch/>
        </p:blipFill>
        <p:spPr>
          <a:xfrm>
            <a:off x="1550880" y="1600200"/>
            <a:ext cx="60422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eec94"/>
                </a:solidFill>
                <a:latin typeface="Times New Roman"/>
              </a:rPr>
              <a:t>Почти все опрошенные знают о том, что есть страны в которых люди голодают!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8000" y="5805360"/>
            <a:ext cx="8218440" cy="3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Давайте помнить заветы предков и беречь хлеб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Picture 4" descr="C:\Users\1\Desktop\Конфер.19\IMG-48b6b61ad9911a2856aaa2fcd102033a-V.jpg"/>
          <p:cNvPicPr/>
          <p:nvPr/>
        </p:nvPicPr>
        <p:blipFill>
          <a:blip r:embed="rId1"/>
          <a:stretch/>
        </p:blipFill>
        <p:spPr>
          <a:xfrm>
            <a:off x="1357200" y="1500120"/>
            <a:ext cx="62866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28880" y="285840"/>
            <a:ext cx="2714760" cy="657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Все мы любим </a:t>
            </a:r>
            <a:r>
              <a:rPr b="1" lang="ru-RU" sz="8000" spc="-1" strike="noStrike">
                <a:solidFill>
                  <a:srgbClr val="a26d18"/>
                </a:solidFill>
                <a:latin typeface="Times New Roman"/>
              </a:rPr>
              <a:t>хлеб!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5" name="Содержимое 7" descr="x_53d2b315.jpg"/>
          <p:cNvPicPr/>
          <p:nvPr/>
        </p:nvPicPr>
        <p:blipFill>
          <a:blip r:embed="rId1"/>
          <a:stretch/>
        </p:blipFill>
        <p:spPr>
          <a:xfrm>
            <a:off x="0" y="96840"/>
            <a:ext cx="6357960" cy="67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7868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Заботливые руки хлебороба сеют его ранней весной в поле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7" name="Содержимое 3" descr="117967_700.jpg"/>
          <p:cNvPicPr/>
          <p:nvPr/>
        </p:nvPicPr>
        <p:blipFill>
          <a:blip r:embed="rId1"/>
          <a:stretch/>
        </p:blipFill>
        <p:spPr>
          <a:xfrm>
            <a:off x="571680" y="1571760"/>
            <a:ext cx="66294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од солнцем, дождем и ветром растут     зерновые   культуры пока     не  нальются   спелым колосом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9" name="Содержимое 3" descr="6662.jpg"/>
          <p:cNvPicPr/>
          <p:nvPr/>
        </p:nvPicPr>
        <p:blipFill>
          <a:blip r:embed="rId1"/>
          <a:stretch/>
        </p:blipFill>
        <p:spPr>
          <a:xfrm>
            <a:off x="393840" y="2428920"/>
            <a:ext cx="57020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8581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  приходит пора сбора урожа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Содержимое 3" descr="42478.jpg"/>
          <p:cNvPicPr/>
          <p:nvPr/>
        </p:nvPicPr>
        <p:blipFill>
          <a:blip r:embed="rId1"/>
          <a:stretch/>
        </p:blipFill>
        <p:spPr>
          <a:xfrm>
            <a:off x="500040" y="1143000"/>
            <a:ext cx="814392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2960" y="277920"/>
            <a:ext cx="804384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ыходят на поля комбайны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Содержимое 3" descr="19_1_big.jpg"/>
          <p:cNvPicPr/>
          <p:nvPr/>
        </p:nvPicPr>
        <p:blipFill>
          <a:blip r:embed="rId1"/>
          <a:stretch/>
        </p:blipFill>
        <p:spPr>
          <a:xfrm>
            <a:off x="1071720" y="1239840"/>
            <a:ext cx="728640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8186760" cy="66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 из зерна намелят муки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и  испекут вкусный хлеб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5" name="Содержимое 7" descr="20090728153945__mg_8914+.jpg"/>
          <p:cNvPicPr/>
          <p:nvPr/>
        </p:nvPicPr>
        <p:blipFill>
          <a:blip r:embed="rId1"/>
          <a:stretch/>
        </p:blipFill>
        <p:spPr>
          <a:xfrm>
            <a:off x="1143000" y="1214280"/>
            <a:ext cx="681048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Хлеб является </a:t>
            </a: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сновной пищей людей!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Первые упоминания о нем были ещё у древних Египтян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Содержимое 3" descr="1271432855_xnxt8wlrqsepzkf.jpeg"/>
          <p:cNvPicPr/>
          <p:nvPr/>
        </p:nvPicPr>
        <p:blipFill>
          <a:blip r:embed="rId1"/>
          <a:stretch/>
        </p:blipFill>
        <p:spPr>
          <a:xfrm>
            <a:off x="785880" y="1428840"/>
            <a:ext cx="76438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6:45:27Z</dcterms:created>
  <dc:creator>Ube</dc:creator>
  <dc:description/>
  <dc:language>en-US</dc:language>
  <cp:lastModifiedBy>1</cp:lastModifiedBy>
  <cp:lastPrinted>2011-11-05T06:41:42Z</cp:lastPrinted>
  <dcterms:modified xsi:type="dcterms:W3CDTF">2023-06-17T11:46:53Z</dcterms:modified>
  <cp:revision>156</cp:revision>
  <dc:subject/>
  <dc:title>Народная мудрость гласит…</dc:title>
</cp:coreProperties>
</file>