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BB4-BD17-4479-99E9-C083F567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C06-04D4-4A0A-BC33-2F6B4D78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577-F4ED-4DF5-A2EB-9A6C3416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04F-EC78-4A50-B27A-9891F494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AD1D-FCC1-4D0F-A5CE-0F5DBDAD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68F-D25D-4212-B46E-FDE2AD5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E786-E030-41F0-8B65-B2CDD0CF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F85-CAC2-462B-900F-690ABBD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A92C-C799-448F-B49E-5B9C0EE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B18D-8CAB-432E-84DF-BD3716C8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B705-8B54-4DF1-A037-EE8BB1E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42A-9509-4E0D-8DA7-4C2FC4E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43C9-A8B4-49DF-A256-03511FF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220-DEDC-4481-AA40-78D820D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66CC-080C-4673-B571-D0A6A847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E5E1-AA98-4C0E-AFD4-955DECC9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A9A7-856E-4004-89A8-41F6F8D7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DDD-2A0F-4E75-9287-5475E3C0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472-3598-40BE-981F-59C71D29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D42-A6CA-436C-BBCB-7A267129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FE6-D5D1-4DB9-B4CA-BDAC5D47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6F8-69FA-403C-A605-0AE3098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BCB-2DAF-4F59-BC94-C3C99A09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42A-EA4B-4451-8BD4-751FA2B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33C-A54A-4FCC-9D62-CAB4A2A984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17A9-91B7-41F0-97B0-17F8B93A0E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81440" y="785520"/>
            <a:ext cx="9325080" cy="27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ема: «Хлеб всему голова.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429080" y="2928600"/>
            <a:ext cx="4143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а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2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 №107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зьмина Анаста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ководитель Авдеева Мария Фёдоров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00" y="5571720"/>
            <a:ext cx="87152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-На Руси в древности пекли дрожжевой хлеб в каждом доме.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Содержимое 4" descr="060_lu.jpg"/>
          <p:cNvPicPr/>
          <p:nvPr/>
        </p:nvPicPr>
        <p:blipFill>
          <a:blip r:embed="rId1"/>
          <a:stretch/>
        </p:blipFill>
        <p:spPr>
          <a:xfrm>
            <a:off x="2286000" y="214200"/>
            <a:ext cx="657216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9360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 хлебом у русских связано много обрядов: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Содержимое 3" descr="загруженное.jpg"/>
          <p:cNvPicPr/>
          <p:nvPr/>
        </p:nvPicPr>
        <p:blipFill>
          <a:blip r:embed="rId1"/>
          <a:stretch/>
        </p:blipFill>
        <p:spPr>
          <a:xfrm>
            <a:off x="428760" y="1000080"/>
            <a:ext cx="3187440" cy="2643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13840" y="928440"/>
            <a:ext cx="8929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Хлебом и солью встреча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етных г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Без него не обходилас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 одна свадьб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леб везли вместе с приданы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есты, им встречали молод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леб  брали с собой в дорогу, чтобы он охранял в пу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того как человек обращается с хлебом, зависят его сила, здоровье и удач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ты о хлеб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8571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 разрешалось, чтобы один человек доедал хлеб за другим – заберешь его счастье и сил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льзя во время еды давать хлеб со стола собакам – постигнет бедно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Люди, преломившие хлеб, становятся друзьями на всю жизнь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амым большим грехом на Руси считалось уронить хотя бы одну крошку хлеб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словицы о хлеб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Хлеба ни куска, так и в горнице тос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куда есть хлеб да вода, все не бе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В голодный год лучше хлеба кусок, чем                                                  слиток золота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Евши пирог, вспомни и сухую короч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Болезнь не беда, коли есть хлеб и вода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Не шуба греет, а хле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Хлеб всему голова.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 каждого народа есть свой особый хлеб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Содержимое 6" descr="b46B9WmBRGw.jpg"/>
          <p:cNvPicPr/>
          <p:nvPr/>
        </p:nvPicPr>
        <p:blipFill>
          <a:blip r:embed="rId1"/>
          <a:stretch/>
        </p:blipFill>
        <p:spPr>
          <a:xfrm>
            <a:off x="2143080" y="1643040"/>
            <a:ext cx="50007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онкие лепёшки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мянского лаваш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Содержимое 3" descr="002.jpg"/>
          <p:cNvPicPr/>
          <p:nvPr/>
        </p:nvPicPr>
        <p:blipFill>
          <a:blip r:embed="rId1"/>
          <a:stretch/>
        </p:blipFill>
        <p:spPr>
          <a:xfrm>
            <a:off x="285840" y="40006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6" descr="1296669654_167.jpg"/>
          <p:cNvPicPr/>
          <p:nvPr/>
        </p:nvPicPr>
        <p:blipFill>
          <a:blip r:embed="rId2"/>
          <a:stretch/>
        </p:blipFill>
        <p:spPr>
          <a:xfrm>
            <a:off x="3571920" y="1571760"/>
            <a:ext cx="5322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зинский хлеб ШОТ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Содержимое 5" descr="P2230006.JPG"/>
          <p:cNvPicPr/>
          <p:nvPr/>
        </p:nvPicPr>
        <p:blipFill>
          <a:blip r:embed="rId1"/>
          <a:stretch/>
        </p:blipFill>
        <p:spPr>
          <a:xfrm>
            <a:off x="4500720" y="3643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6" descr="P2230012.JPG"/>
          <p:cNvPicPr/>
          <p:nvPr/>
        </p:nvPicPr>
        <p:blipFill>
          <a:blip r:embed="rId2"/>
          <a:stretch/>
        </p:blipFill>
        <p:spPr>
          <a:xfrm>
            <a:off x="928800" y="1571760"/>
            <a:ext cx="5786280" cy="335736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6" descr="P2230012.JPG"/>
          <p:cNvPicPr/>
          <p:nvPr/>
        </p:nvPicPr>
        <p:blipFill>
          <a:blip r:embed="rId3"/>
          <a:stretch/>
        </p:blipFill>
        <p:spPr>
          <a:xfrm>
            <a:off x="900000" y="1557360"/>
            <a:ext cx="5786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онский ржаной хлеб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Содержимое 4" descr="045169ad49ac.jpg"/>
          <p:cNvPicPr/>
          <p:nvPr/>
        </p:nvPicPr>
        <p:blipFill>
          <a:blip r:embed="rId1"/>
          <a:stretch/>
        </p:blipFill>
        <p:spPr>
          <a:xfrm>
            <a:off x="1285920" y="1428840"/>
            <a:ext cx="6643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ратовский калач-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гордость Росси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Содержимое 3" descr="xleb-sk1 (1).jpg"/>
          <p:cNvPicPr/>
          <p:nvPr/>
        </p:nvPicPr>
        <p:blipFill>
          <a:blip r:embed="rId1"/>
          <a:stretch/>
        </p:blipFill>
        <p:spPr>
          <a:xfrm>
            <a:off x="1785960" y="1876320"/>
            <a:ext cx="5459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как мы относимся к хлебу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Содержимое 3" descr="IMG_3169.jpg"/>
          <p:cNvPicPr/>
          <p:nvPr/>
        </p:nvPicPr>
        <p:blipFill>
          <a:blip r:embed="rId1"/>
          <a:stretch/>
        </p:blipFill>
        <p:spPr>
          <a:xfrm>
            <a:off x="1428840" y="1600200"/>
            <a:ext cx="6164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: Показать значимость хлеба в жизни люде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а:- Показать как зерно становится колосо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ссказать об истории хлебопечения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 с приметами и пословицами о хлебе у русского народа. Какой хлеб едят другие народ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казать разнообразие продуктов питания из пшеницы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нать как относятся люди сегодня к хлебу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ного ли его остается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 нашей столовой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Содержимое 3" descr="IMG_3171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Почти все опрошенные знают о том, что есть страны в которых люди голодают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5805360"/>
            <a:ext cx="82184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авайте помнить заветы предков и беречь хлеб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4" descr="C:\Users\1\Desktop\Конфер.19\IMG-48b6b61ad9911a2856aaa2fcd102033a-V.jpg"/>
          <p:cNvPicPr/>
          <p:nvPr/>
        </p:nvPicPr>
        <p:blipFill>
          <a:blip r:embed="rId1"/>
          <a:stretch/>
        </p:blipFill>
        <p:spPr>
          <a:xfrm>
            <a:off x="1357200" y="1500120"/>
            <a:ext cx="6286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8880" y="285840"/>
            <a:ext cx="271476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се мы любим </a:t>
            </a:r>
            <a:r>
              <a:rPr b="1" lang="ru-RU" sz="8000" spc="-1" strike="noStrike">
                <a:solidFill>
                  <a:srgbClr val="a26d18"/>
                </a:solidFill>
                <a:latin typeface="Times New Roman"/>
              </a:rPr>
              <a:t>хлеб!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Содержимое 7" descr="x_53d2b315.jpg"/>
          <p:cNvPicPr/>
          <p:nvPr/>
        </p:nvPicPr>
        <p:blipFill>
          <a:blip r:embed="rId1"/>
          <a:stretch/>
        </p:blipFill>
        <p:spPr>
          <a:xfrm>
            <a:off x="0" y="96840"/>
            <a:ext cx="635796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ботливые руки хлебороба сеют его ранней весной в пол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Содержимое 3" descr="117967_700.jpg"/>
          <p:cNvPicPr/>
          <p:nvPr/>
        </p:nvPicPr>
        <p:blipFill>
          <a:blip r:embed="rId1"/>
          <a:stretch/>
        </p:blipFill>
        <p:spPr>
          <a:xfrm>
            <a:off x="571680" y="157176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 солнцем, дождем и ветром растут     зерновые   культуры пока     не  нальются   спелым колосом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Содержимое 3" descr="6662.jpg"/>
          <p:cNvPicPr/>
          <p:nvPr/>
        </p:nvPicPr>
        <p:blipFill>
          <a:blip r:embed="rId1"/>
          <a:stretch/>
        </p:blipFill>
        <p:spPr>
          <a:xfrm>
            <a:off x="393840" y="2428920"/>
            <a:ext cx="5702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  приходит пора сбора урож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Содержимое 3" descr="42478.jpg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960" y="277920"/>
            <a:ext cx="804384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ходят на поля комбайн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Содержимое 3" descr="19_1_big.jpg"/>
          <p:cNvPicPr/>
          <p:nvPr/>
        </p:nvPicPr>
        <p:blipFill>
          <a:blip r:embed="rId1"/>
          <a:stretch/>
        </p:blipFill>
        <p:spPr>
          <a:xfrm>
            <a:off x="1071720" y="12398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8676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из зерна намелят муки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и  испекут вкусный хлеб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Содержимое 7" descr="20090728153945__mg_8914+.jpg"/>
          <p:cNvPicPr/>
          <p:nvPr/>
        </p:nvPicPr>
        <p:blipFill>
          <a:blip r:embed="rId1"/>
          <a:stretch/>
        </p:blipFill>
        <p:spPr>
          <a:xfrm>
            <a:off x="1143000" y="1214280"/>
            <a:ext cx="6810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леб является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ой пищей людей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Первые упоминания о нем были ещё у древних Египтян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Содержимое 3" descr="1271432855_xnxt8wlrqsepzkf.jpeg"/>
          <p:cNvPicPr/>
          <p:nvPr/>
        </p:nvPicPr>
        <p:blipFill>
          <a:blip r:embed="rId1"/>
          <a:stretch/>
        </p:blipFill>
        <p:spPr>
          <a:xfrm>
            <a:off x="785880" y="1428840"/>
            <a:ext cx="7643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45:27Z</dcterms:created>
  <dc:creator>Ube</dc:creator>
  <dc:description/>
  <dc:language>en-US</dc:language>
  <cp:lastModifiedBy>1</cp:lastModifiedBy>
  <cp:lastPrinted>2011-11-05T06:41:42Z</cp:lastPrinted>
  <dcterms:modified xsi:type="dcterms:W3CDTF">2023-06-17T11:46:53Z</dcterms:modified>
  <cp:revision>156</cp:revision>
  <dc:subject/>
  <dc:title>Народная мудрость гласит…</dc:title>
</cp:coreProperties>
</file>