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75B8-CA92-4F1C-9B7C-AD3AB1B67D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587B-B86B-48D7-B48C-1E94F3CD88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837C-5EBC-48B1-9AB6-0BADAEC0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98A1-88CC-469C-835C-ADFC9881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B0C2-6870-4160-9E19-BBCA29E3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C712-CFEF-4D38-B27F-54A2A78B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5583-2E36-414E-A434-4CC09B06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B1CF-71E5-4737-A3D5-F14514CA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FE2E-7964-4B92-9245-673EFDE8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ADC9-E4AA-4CFE-A8C8-3911E4CE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7DFF-A9BC-4EC7-A048-E03035B7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CB0D-5A89-4BFB-8D39-6704CEEA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9E2A-9D2E-4684-A1F4-0A043912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4C50-BEF0-441B-8DD6-15C8B872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366E-6816-445A-A9E0-5EBC513A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6E2C-8A6B-46C6-9484-FAD30825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BA05-0C06-4C64-9308-127D3701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3571-8CA4-420C-9236-6D71C4F9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D6FE-C519-4974-B369-5263D607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7B456-EDB2-467B-B898-2A3CF5BC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827C8-1A70-4E7B-9C75-79FE6818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7EB32-8F36-4EE9-9203-6B1945AF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EB1EB-E02B-4B13-9B6F-AE2F201B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AB325-9F40-469C-B3EA-1521E892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7A24-460D-4A3A-BA38-8669CD3A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3D40A-E2E2-4281-BBC7-0C0A8720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40B76-4EE7-4BB0-8BCF-C377596C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F1950-0BF3-4EDE-8D2F-E7CAEF96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975EB-0945-4F72-BD89-3DED3596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BC68E-9F4A-42F0-8DC6-6AB1ED41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09788-3752-4D75-87EE-9F22B023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131A5-1ADC-4CDA-9809-20D4FEBE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03869-2DFF-47A4-ABF7-D548EE0E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86DE9-72A2-4EB3-A855-0142747D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8A492-E62B-49DD-AAAA-77559FB1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10D1-E5F9-4FD5-B892-B47E7396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B640F-5BC6-45F8-B152-02AF9115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B2924-4B88-4F57-A262-E173B2B1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9E8A6-FA24-40D1-BEA9-69D0839B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85B22-0983-4B17-BABB-35CF7B33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C01C6-F17F-423B-94DA-B9856ECB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EF9FE-CA74-42DB-92E9-2591FEDC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DEFA9-9A7D-4B6B-92B5-975FB660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E3CE1-E4CB-480E-B19F-81EAE697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64802-B1CB-4C59-ADE0-9E87F436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933D-02AA-4E05-993E-E4008AE6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EBA5-D85D-44D3-AAC0-24AC2967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595E-755A-4011-9B2F-DD7FDA0F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029A-7012-41F8-A105-87BCDB5F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C441-A022-4075-B32E-CD6B6419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4302-9286-4400-9DA7-3A8F3AF60AC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6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5916-C68C-4014-A44A-B83D70876AD4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6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1A1A-330E-4081-9405-FA628F0D8E0B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4176-EB5A-4CE4-A76F-7DECD879742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fullsizeMedia" descr=" photo asd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9900cc"/>
                </a:solidFill>
                <a:latin typeface="Calibri"/>
              </a:rPr>
              <a:t>Упражнения с массажными мячиками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4292640"/>
            <a:ext cx="822960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Плотникова С.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Рисунок 1" descr=""/>
          <p:cNvPicPr/>
          <p:nvPr/>
        </p:nvPicPr>
        <p:blipFill>
          <a:blip r:embed="rId2"/>
          <a:stretch/>
        </p:blipFill>
        <p:spPr>
          <a:xfrm>
            <a:off x="457200" y="1844640"/>
            <a:ext cx="368316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fullsizeMedia" descr=" photo asd16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4000" y="97920"/>
            <a:ext cx="830088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</a:rPr>
              <a:t>«Мячик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000" y="620640"/>
            <a:ext cx="821844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вивать ручную умелость и мелкую моторику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ормировать навыки выразительности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пластичности в движени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Я мячом круги катаю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зад-вперед его гоняю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м поглажу я ладошку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 потом сожму немножк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ждым пальцем мяч прижм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 другой рукой начн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 теперь последний трюк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яч летает между рук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вижения соответствуют тексту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684360" y="620640"/>
            <a:ext cx="7427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http://player.myshared.ru/450514/data/images/img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Прямоугольник 2"/>
          <p:cNvSpPr/>
          <p:nvPr/>
        </p:nvSpPr>
        <p:spPr>
          <a:xfrm>
            <a:off x="250920" y="981000"/>
            <a:ext cx="864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жный мячик эффективное средство расслабления мышц и снятия последствий стресса, которое можно использовать ежедневно. Пупырчатая поверхность мяча воздействует на нервные окончания, улучшает приток крови и активизирует кровообращение. При выполнении упражнений с массажным мячиком задействуются глубокие мышечные структуры. Закругленные массажные шипы на поверхности мячика воздействуют на биологически – активные зоны кожи головы, туловища и конечностей. Ребёнку очень полезно катать его в ладошках, а чтобы превратить это упражнение в игру, можно рассказывать стихи. Эти упражнения можно использовать как физкультмину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http://player.myshared.ru/450514/data/images/img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«Игра с ежиком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560" y="620640"/>
            <a:ext cx="8569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ль: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развивать ручную умелость и мелкую мотори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Ёжик выбился из сил-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Яблоки, грибы носил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ы потрем ему бока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до их размять слегка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 потом погладим ножки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тобы отдохнул немножко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 потом почешем брюшко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щекочем возле ушка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Ёж по тропке убежал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м «Спасибо!» пропища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енок жалеет ёжика, гладит, чешет, щекочет. На слова «по тропке убежал» мячик можно катать по столу, коленкам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Рисунок 1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1914480" cy="27036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«Колкие иголки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0965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ль: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вивать ручную умелость и мелкую моторику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ормировать навыки выразительности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пластичности в движени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 сосны, у пихты, ёлки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чень колкие иголки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о еще сильней, чем ельник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ас уколет можжевельник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ебенок катает мяч между ладонями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 запястью, ножкам и т. д. сначала медленно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 потом ускоряя темп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http://img-fotki.yandex.ru/get/6421/87902893.16/0_13c4c3_36f45943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«Ласковый еж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вать ручную умелость и мелкую моторику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ировать навыки выразительности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пластичности в движени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ладь мои ладошки, ёж!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ы колючий, ну и что ж?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 хочу тебя погладить,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 хочу с тобой поладить! </a:t>
            </a:r>
            <a:br>
              <a:rPr sz="26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ебенок прокатывает мяч между ладошками, можно катать стопой, массажировать любую часть тела, заменяя слова в текст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Рисунок 3" descr=""/>
          <p:cNvPicPr/>
          <p:nvPr/>
        </p:nvPicPr>
        <p:blipFill>
          <a:blip r:embed="rId2"/>
          <a:stretch/>
        </p:blipFill>
        <p:spPr>
          <a:xfrm>
            <a:off x="5219640" y="4653000"/>
            <a:ext cx="2143080" cy="21114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Arial Black"/>
              </a:rPr>
              <a:t>«Испечем мы каравай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8360" y="1096920"/>
            <a:ext cx="822960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звивать ручную умелость и мелкую моторик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Месим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месим тесто </a:t>
            </a:r>
            <a:r>
              <a:rPr b="0" lang="ru-RU" sz="2800" spc="-1" strike="noStrike">
                <a:solidFill>
                  <a:srgbClr val="595959"/>
                </a:solidFill>
                <a:latin typeface="Times New Roman"/>
              </a:rPr>
              <a:t>(сжимаем мяч в правой руке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Есть в печи место </a:t>
            </a:r>
            <a:r>
              <a:rPr b="0" lang="ru-RU" sz="2800" spc="-1" strike="noStrike">
                <a:solidFill>
                  <a:srgbClr val="595959"/>
                </a:solidFill>
                <a:latin typeface="Times New Roman"/>
              </a:rPr>
              <a:t>(перекладываем в левую руку и сжимаем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Испечем мы каравай </a:t>
            </a:r>
            <a:r>
              <a:rPr b="0" lang="ru-RU" sz="2800" spc="-1" strike="noStrike">
                <a:solidFill>
                  <a:srgbClr val="595959"/>
                </a:solidFill>
                <a:latin typeface="Times New Roman"/>
              </a:rPr>
              <a:t>(несколько раз энергично сжимаем мяч обеими руками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Перекладывай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 валяй </a:t>
            </a:r>
            <a:r>
              <a:rPr b="0" lang="ru-RU" sz="2800" spc="-1" strike="noStrike">
                <a:solidFill>
                  <a:srgbClr val="595959"/>
                </a:solidFill>
                <a:latin typeface="Times New Roman"/>
              </a:rPr>
              <a:t>(катаем мяч ладошками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8" descr="http://img1.gtsstatic.com/wallpapers/645dd21fac99f63ddb5bffb37fbf4cc5_large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«Месим тесто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9540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вать ручную умелость и мелкую моторик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есим, месим тесто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— сжимаем массажный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ячик в одной руке. </a:t>
            </a:r>
            <a:br>
              <a:rPr sz="28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Есть в печке место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— перекладываем и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жимаем мяч другой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укой. </a:t>
            </a:r>
            <a:br>
              <a:rPr sz="28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Я для милой мамочки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— сжимаем мяч двумя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уками несколько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з. </a:t>
            </a:r>
            <a:br>
              <a:rPr sz="28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спеку два пряничка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— катаем мяч между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адонями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http://knu.znate.ru/pars_docs/refs/533/532694/532694_html_m63213bd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216000"/>
            <a:ext cx="845820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</a:rPr>
              <a:t>«Орех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вать ручную умелость и мелкую моторику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ировать навыки выразительности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пластичности в движени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Я катаю свой орех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 ладоням снизу вверх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 потом обратно,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Чтоб стало мне приятно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Я катаю свой орех,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Чтобы стал круглее всех. 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вижения соответствуют тексту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560" y="189000"/>
            <a:ext cx="764388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</a:rPr>
              <a:t>«Непростой шарик»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11280" y="764640"/>
            <a:ext cx="8075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вать ручную умелость и мелкую моторику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ировать навыки выразительности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пластичности в движени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тот шарик непростой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есь колючий, вот такой!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еж ладошками кладем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м ладошки разотрем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верх, вниз его катаем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вои ручки развиваем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вижения соответствуют тексту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0:20:44Z</dcterms:created>
  <dc:creator>side</dc:creator>
  <dc:description/>
  <dc:language>en-US</dc:language>
  <cp:lastModifiedBy>Dimtriy</cp:lastModifiedBy>
  <dcterms:modified xsi:type="dcterms:W3CDTF">2023-06-17T01:44:29Z</dcterms:modified>
  <cp:revision>62</cp:revision>
  <dc:subject/>
  <dc:title>Your Title Here…</dc:title>
</cp:coreProperties>
</file>