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57F1-7075-4F66-9E2F-7DCC54490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A3E6-27A2-4A12-9D16-39074BF1B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0B9-89CB-4559-B3DF-E196FB93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AC7-561B-453B-A593-E27F5C80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335-A4B1-45EC-8390-649F7A65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8FE-6B90-4162-BF88-DD1C1B7F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8189-4803-472B-AC9A-8506B4D6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EDAC-4596-4102-9D1B-27B374FE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D24F-3A7C-4E68-97BC-653ADF44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A454-DA4C-4001-A026-2D1406C8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29EC-B006-4F97-89E1-ADB517B0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8731-0AA1-454B-8131-33E0588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B862-A7F5-4925-9662-309BE96E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2B8-4458-4282-9794-77AC2527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D1B-3BFB-4F0B-B172-9CE9F409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AFAD-83E4-449E-9A8C-3BDF5B4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5493-727B-4244-B648-1444A899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8AA6-F673-4DB0-85ED-68E4280D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DD83-0A38-4D8D-B0A1-6BA9F8A0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7235-E8B7-4B03-B604-E65F3753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E766E-A450-4665-BAF0-C1EE9ACC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3A90-BC0C-4672-972D-1C5E780E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1E24-8A0B-423D-AC99-30999A1D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A9BA-678A-44B0-8184-89A7012B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B19-D82A-4A20-A47B-293B2B38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BBCC-646E-4286-BC6E-E5246CF0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F59C-CD8B-4159-AC8C-ABBF17E5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414E-8455-4B6A-A2A0-B05F1F2B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3195A-160D-4F0E-B9FF-7898657C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5684-0B09-4758-B83D-BC9DAF77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1C1D-9D71-44EC-B285-5A7131FE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0C36-821C-491C-B21D-66B340B0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CD15-62DD-4198-86C5-C5CE4617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BA98-E564-48E2-80DC-7F4B411E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BF809-A91D-4D3F-A6C5-DD9C8246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94A-7D1D-49CE-813A-AF7AE135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C132-47F1-4BA9-AA84-1472BA34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F9C1-D840-49C8-AC4A-7E299BC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C25C-CBB0-4CDE-9DD1-85821307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63AB-AA3E-447E-A201-AB28AAD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97F4-2805-4503-94AC-F38B204F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1191-31C7-45A4-80AB-C20C8EE4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1FA55-8222-4AE3-9041-02424239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2B7E-688B-434C-8AA8-7E7F3AFE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6A50-7300-482C-9139-3B2EAC3E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7AD-E08C-48B1-B7DD-A4D25D1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45C-172E-4D3F-AC19-16BF0467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06E-E114-49E2-9C92-B23F19B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7FD-92B1-4AD4-8C6A-86D91801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049-D377-47EF-B108-3A900827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9351-FC11-41F5-887B-31639133C1C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DCE5-57DC-4C31-B222-51368292089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D2F-01B9-4810-8174-56B1CBC4551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F902-5171-4462-B94D-05EEF47F3BE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9900cc"/>
                </a:solidFill>
                <a:latin typeface="Calibri"/>
              </a:rPr>
              <a:t>Упражнения с массажными мячикам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4292640"/>
            <a:ext cx="82296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Плотникова С.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1" descr=""/>
          <p:cNvPicPr/>
          <p:nvPr/>
        </p:nvPicPr>
        <p:blipFill>
          <a:blip r:embed="rId2"/>
          <a:stretch/>
        </p:blipFill>
        <p:spPr>
          <a:xfrm>
            <a:off x="457200" y="1844640"/>
            <a:ext cx="368316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97920"/>
            <a:ext cx="830088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«Мячик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000" y="620640"/>
            <a:ext cx="821844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 мячом круги ката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д-вперед его гоня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 поглажу я ладошк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потом сожму немножк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ждым пальцем мяч приж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другой рукой нач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теперь последний трюк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яч летает между рук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я соответствуют тексту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250920" y="98100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ный мячик эффективное средство расслабления мышц и снятия последствий стресса, которое можно использовать ежедневно. Пупырчатая поверхность мяча воздействует на нервные окончания, улучшает приток крови и активизирует кровообращение. При выполнении упражнений с массажным мячиком задействуются глубокие мышечные структуры. Закругленные массажные шипы на поверхности мячика воздействуют на биологически – активные зоны кожи головы, туловища и конечностей. Ребёнку очень полезно катать его в ладошках, а чтобы превратить это упражнение в игру, можно рассказывать стихи. Эти упражнения можно использовать как физкультмин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«Игра с ежиком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560" y="62064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азвивать ручную умелость и мелкую мотори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Ёжик выбился из сил-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блоки, грибы носи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потрем ему бока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до их размять слегка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потом погладим ножк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бы отдохнул немножко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потом почешем брюшко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щекочем возле ушка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Ёж по тропке убежал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м «Спасибо!» пропища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енок жалеет ёжика, гладит, чешет, щекочет. На слова «по тропке убежал» мячик можно катать по столу, коленкам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1914480" cy="27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«Колкие иголки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09656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 сосны, у пихты, ёлки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чень колкие иголк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еще сильней, чем ельник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с уколет можжевельник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бенок катает мяч между ладоням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запястью, ножкам и т. д. сначала медленно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потом ускоряя темп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«Ласковый еж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дь мои ладошки, ёж!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ы колючий, ну и что ж?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хочу тебя погладить,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хочу с тобой поладить! </a:t>
            </a:r>
            <a:br>
              <a:rPr sz="26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бенок прокатывает мяч между ладошками, можно катать стопой, массажировать любую часть тела, заменяя слова в текс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5219640" y="4653000"/>
            <a:ext cx="2143080" cy="2111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 Black"/>
              </a:rPr>
              <a:t>«Испечем мы каравай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1096920"/>
            <a:ext cx="82296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Месим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месим тесто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(сжимаем мяч в правой рук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Есть в печи место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(перекладываем в левую руку и сжимаем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Испечем мы каравай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(несколько раз энергично сжимаем мяч обеими рукам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Перекладывай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валяй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(катаем мяч ладошкам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8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«Месим тесто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954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есим, месим тесто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сжимаем массажный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ячик в одной руке. 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сть в печке место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перекладываем и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жимаем мяч другой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кой. 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Я для милой мамочки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сжимаем мяч двум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ками несколько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. 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пеку два пряничк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катаем мяч между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адонями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16000"/>
            <a:ext cx="84582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«Орех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 катаю свой орех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ладоням снизу вверх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 потом обратно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об стало мне приятно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 катаю свой орех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обы стал круглее всех. 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я соответствуют тексту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6438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«Непростой шарик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1280" y="764640"/>
            <a:ext cx="8075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ручную умелость и мелкую моторик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ластичности в движен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т шарик непростой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сь колючий, вот такой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ж ладошками кладем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 ладошки разотрем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верх, вниз его катаем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и ручки развиваем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ижения соответствуют тексту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Dimtriy</cp:lastModifiedBy>
  <dcterms:modified xsi:type="dcterms:W3CDTF">2023-06-17T01:44:29Z</dcterms:modified>
  <cp:revision>62</cp:revision>
  <dc:subject/>
  <dc:title>Your Title Here…</dc:title>
</cp:coreProperties>
</file>