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5.jpeg" ContentType="image/jpeg"/>
  <Override PartName="/ppt/media/image2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56D-FA09-4B19-A057-336039D9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2F7-AC59-4B1A-8E56-97495460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E59-B5C1-4895-99BE-74FADEE5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C0C-D463-4001-82A1-786C9685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C5D65-0872-4925-A3C3-12D90519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8C2AB-4226-483D-9643-D97D5181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005CF-8C15-4876-929E-ADA35E71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5A8F7-1BD4-4B1E-BFC7-42CE9A8F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D01C5-FB0E-408D-B705-F0BF490B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8C43F-644C-4A41-ADF7-61F972A2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D1649-AFC6-4E02-9AB1-2057B50B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9475-8236-47A1-9062-1B7136FA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29D7F-DED3-4D07-833F-0828F17A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8BE2B-9D0C-426A-9B3D-A4EC3FB8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E0BB5-47B3-46CF-8B73-3179CCE2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ECB66-CFA0-4BE7-91DA-620B3861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FB0C8-D42B-4D1A-9E4B-FE02A056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9843D-BFEE-4F3F-AA34-757EA5C1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97E9-5E7D-4CE0-9BED-AD596CE8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AD9E-93A8-4524-8A05-007E7647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9940-7938-46F2-B0F3-3AB2F490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2DECA-5818-4956-A37E-F06B0644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C9BF-EF8D-438E-812C-2C7E7B8F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3DCD2-520F-4CAA-8AED-8E609B59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889E9-FFCA-4AAD-8189-DA145BDB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977B1-1EC1-4183-90F9-D62A6657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E95E-C852-4E53-82B7-B0552A79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4EDE9-4E3A-4168-88FD-D88E1498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A2CA-FAA5-45AD-AA85-8C34FEFB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75868-25F2-436E-B84A-3FD4D399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B16CA9-8552-4C18-8F15-64C3A126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8AC49-6376-4124-AADC-EC174C31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6829CD-C75A-4331-B24A-FCAFA2B5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8ADC-BF65-4260-8E88-06930555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FBC428-645A-4B47-B469-36DBEDEA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1C5810-D59A-487F-ACD5-7605CBBC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25ACD9-7D61-4ED1-B5A5-960F6620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C67812-70AC-41CB-87FF-260D4674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05D3AE-B017-4620-A127-F3A13292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E331E9-95A7-4316-BF8D-3AF6A813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12E6E3-0A04-48E2-81AD-E2956B85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F0932-CA2C-490D-9316-3A272850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2D6372-D2E9-48BA-8485-CAF9B70A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1D0-4964-46FC-AD78-D1825765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E1B-15A1-4BFD-AFCF-3CB76F73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430-C02C-49D5-81C7-5D24174F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1D6-94F3-4AA0-8763-990E76BF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FC6-4D0E-4597-826F-60165F47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D717-1E4E-4144-83CF-659CE4D7433A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5A8B-54D6-4AE1-9553-E0843A28BBC1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5430-501E-4703-A03D-432149C3B803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E538-DE83-41D1-9DCB-934D8469D123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1671480" y="639720"/>
            <a:ext cx="585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Times New Roman"/>
              </a:rPr>
              <a:t>"Wiem gdzie nie</a:t>
            </a:r>
            <a:r>
              <a:rPr b="0" lang="ru-RU" sz="28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eece1"/>
                </a:solidFill>
                <a:latin typeface="Times New Roman"/>
              </a:rPr>
              <a:t>bêdê " – </a:t>
            </a:r>
            <a:br>
              <a:rPr sz="2800"/>
            </a:br>
            <a:r>
              <a:rPr b="1" lang="ru-RU" sz="2800" spc="-1" strike="noStrike">
                <a:solidFill>
                  <a:srgbClr val="eeece1"/>
                </a:solidFill>
                <a:latin typeface="Times New Roman"/>
              </a:rPr>
              <a:t>"Знаю, где меня не будет".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Стефан Бан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фреска на стене универа"/>
          <p:cNvPicPr/>
          <p:nvPr/>
        </p:nvPicPr>
        <p:blipFill>
          <a:blip r:embed="rId1"/>
          <a:stretch/>
        </p:blipFill>
        <p:spPr>
          <a:xfrm>
            <a:off x="1763640" y="2349360"/>
            <a:ext cx="2762280" cy="327672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pic>
        <p:nvPicPr>
          <p:cNvPr id="172" name="Picture 6" descr="imagesCA2EXKGO"/>
          <p:cNvPicPr/>
          <p:nvPr/>
        </p:nvPicPr>
        <p:blipFill>
          <a:blip r:embed="rId2"/>
          <a:stretch/>
        </p:blipFill>
        <p:spPr>
          <a:xfrm>
            <a:off x="5651640" y="2852640"/>
            <a:ext cx="2209680" cy="221004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214200" y="285840"/>
            <a:ext cx="87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Сначала друзья облюбовали кафе "Рома" ("Рим"). Но после того, как Банах задолжал заведению крупную сумму,  хозяин отказался продлить кредит. И Банах с друзьями переместился в кафе напротив. Это была "Скотская кавярня" (Kawiarnia Szkocka или "Шотландское кафе"). Именно это кафе вошло в истор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785880" y="2519280"/>
            <a:ext cx="4444920" cy="333864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sp>
        <p:nvSpPr>
          <p:cNvPr id="199" name="TextBox 6"/>
          <p:cNvSpPr/>
          <p:nvPr/>
        </p:nvSpPr>
        <p:spPr>
          <a:xfrm>
            <a:off x="1725120" y="614376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тландское каф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7" descr="C:\Documents and Settings\Loner\Мои документы\Мои рисунки\Picasso_30015.jpg"/>
          <p:cNvPicPr/>
          <p:nvPr/>
        </p:nvPicPr>
        <p:blipFill>
          <a:blip r:embed="rId2"/>
          <a:srcRect l="2580" t="3751" r="6894" b="6246"/>
          <a:stretch/>
        </p:blipFill>
        <p:spPr>
          <a:xfrm>
            <a:off x="5715000" y="2643120"/>
            <a:ext cx="2500200" cy="342900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357120" y="2858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Они писали на больших мраморных столешницах свои формулы и теоремы. А когда под утро они расходились, официант аккуратно вытирал стол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3645000" y="621504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ьфред Тар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C:\Documents and Settings\Loner\Мои документы\Мои рисунки\Serpinskiy_V__F_-P001_.jpg"/>
          <p:cNvPicPr/>
          <p:nvPr/>
        </p:nvPicPr>
        <p:blipFill>
          <a:blip r:embed="rId1"/>
          <a:stretch/>
        </p:blipFill>
        <p:spPr>
          <a:xfrm>
            <a:off x="6429240" y="3786120"/>
            <a:ext cx="1625760" cy="21668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204" name="TextBox 5"/>
          <p:cNvSpPr/>
          <p:nvPr/>
        </p:nvSpPr>
        <p:spPr>
          <a:xfrm>
            <a:off x="6225840" y="62150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цлав Серпи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215120" y="2143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нислав У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9" descr="C:\Documents and Settings\Loner\Мои документы\Мои рисунки\r_pic.jpg"/>
          <p:cNvPicPr/>
          <p:nvPr/>
        </p:nvPicPr>
        <p:blipFill>
          <a:blip r:embed="rId2"/>
          <a:stretch/>
        </p:blipFill>
        <p:spPr>
          <a:xfrm>
            <a:off x="214200" y="1714680"/>
            <a:ext cx="4691160" cy="3249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C:\Documents and Settings\Loner\Мои документы\Мои рисунки\Stanislaw_Ulam_ID_badge.png"/>
          <p:cNvPicPr/>
          <p:nvPr/>
        </p:nvPicPr>
        <p:blipFill>
          <a:blip r:embed="rId3"/>
          <a:stretch/>
        </p:blipFill>
        <p:spPr>
          <a:xfrm>
            <a:off x="5357880" y="1571760"/>
            <a:ext cx="1774800" cy="18572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08" name="Picture 5" descr="C:\Documents and Settings\Loner\Мои документы\Мои рисунки\200px-Alfred_Tarski.jpg"/>
          <p:cNvPicPr/>
          <p:nvPr/>
        </p:nvPicPr>
        <p:blipFill>
          <a:blip r:embed="rId4"/>
          <a:srcRect l="0" t="0" r="15604" b="0"/>
          <a:stretch/>
        </p:blipFill>
        <p:spPr>
          <a:xfrm>
            <a:off x="3714840" y="4286160"/>
            <a:ext cx="2081160" cy="17146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900000" y="692280"/>
            <a:ext cx="4319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По воспоминаниям Улама, одно из заседаний длилось 17 часов подряд. Они доказывали какую-то особенно сложную теорему. Стол был исписан полностью. К утру следующего дня теорема была доказана. Довольные,  уставшие и хмельные они вышли из кафе. Официант привычно вытер стол... Теорема не восстановлена до сего д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6" descr="C:\Documents and Settings\Loner\Мои документы\Мои рисунки\Kazimierz_Kuratowski.jpg"/>
          <p:cNvPicPr/>
          <p:nvPr/>
        </p:nvPicPr>
        <p:blipFill>
          <a:blip r:embed="rId1"/>
          <a:stretch/>
        </p:blipFill>
        <p:spPr>
          <a:xfrm>
            <a:off x="5500800" y="928800"/>
            <a:ext cx="2539800" cy="337824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sp>
        <p:nvSpPr>
          <p:cNvPr id="211" name="TextBox 4"/>
          <p:cNvSpPr/>
          <p:nvPr/>
        </p:nvSpPr>
        <p:spPr>
          <a:xfrm>
            <a:off x="5362920" y="507204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зимир Курат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755640" y="692280"/>
            <a:ext cx="8043840" cy="42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Пожалуй, о Львовской математической школе мы ничего не узнали бы до сих пор, если бы в дело не вмешалась женщина ("шерше ля фам"). Супруга Стефана Банаха совершила весьма простое, но исторически нетленное действие: она купила обычную конторскую тетрадь, принесла ее бармену "Скотской кавярни" и попросила выдавать  ее всякий раз, когда математики  сподобятся пачкать столы снова. Так появился "Скотский сшытак" - ныне реликвия математического мира. Тетрадь была устроена очень просто: на левой странице записывалась проблема, на правой - решение, если оно находилось. В тетради около двухсот проблем. Некоторые не имеют решения до сих пор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Шотландская книга с автографами Банаха и Улама"/>
          <p:cNvPicPr/>
          <p:nvPr/>
        </p:nvPicPr>
        <p:blipFill>
          <a:blip r:embed="rId1"/>
          <a:stretch/>
        </p:blipFill>
        <p:spPr>
          <a:xfrm>
            <a:off x="4932360" y="4581360"/>
            <a:ext cx="2390760" cy="180180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42920" y="692280"/>
            <a:ext cx="6084720" cy="54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Решение теорем и задач не было рутинным занятием. Это был особого рода ритуал и игра. Собиралась компания математиков, они что-то заказывали. Потом кто-то из них заявлял проблему. За каждую проблему обязательно назначался приз. Призы были, например, следующие: пять пляшек пива, ужин в ресторане гостиницы "Жорж", фондю в женевском ресторане или живой гусь.  После этого за столом воцарялось долгое молчание, которое могло длиться до часа и более...</a:t>
            </a:r>
            <a:br>
              <a:rPr sz="2400"/>
            </a:b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Как – то молодой шведский математик доказал теорему из "Шотландской тетради" (запись 1936 года) за которую был назначен гусь. И престарелый Мазур - автор задачи - торжественно вручил пр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6286680" y="1643040"/>
            <a:ext cx="2428560" cy="317808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85840" y="500040"/>
            <a:ext cx="88581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1939 год. Дыхание войны, несчастную судьбу Польши и свою собственную несчастную участь ощущали все.  Приход немцев окончательно уничтожил школу... Среди математиков было немало евреев.  Банах для прокорма семьи был вынужден кормить кровью вшей в Институте исследования тифа. Время веселых посиделок в Шотландском кафе закончилось навсегда.  </a:t>
            </a:r>
            <a:br>
              <a:rPr sz="2400"/>
            </a:b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Немецкая оккупация стала чудовищным испытанием для львовских поляков и еврее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C:\Documents and Settings\Loner\Мои документы\Мои рисунки\mazur-ulam1.jpg"/>
          <p:cNvPicPr/>
          <p:nvPr/>
        </p:nvPicPr>
        <p:blipFill>
          <a:blip r:embed="rId1"/>
          <a:stretch/>
        </p:blipFill>
        <p:spPr>
          <a:xfrm>
            <a:off x="5572080" y="3214800"/>
            <a:ext cx="2065320" cy="307188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sp>
        <p:nvSpPr>
          <p:cNvPr id="218" name="Прямоугольник 3"/>
          <p:cNvSpPr/>
          <p:nvPr/>
        </p:nvSpPr>
        <p:spPr>
          <a:xfrm>
            <a:off x="3569760" y="507204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зур и У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646200" y="333360"/>
            <a:ext cx="849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ece1"/>
                </a:solidFill>
                <a:latin typeface="Times New Roman"/>
              </a:rPr>
              <a:t>Шотландская тетрадь была сохранена благодаря супруге Стефана Банаха, а впоследствии сын Банаха вывез тетрадь в Польшу.</a:t>
            </a:r>
            <a:br>
              <a:rPr sz="2000"/>
            </a:br>
            <a:r>
              <a:rPr b="0" lang="ru-RU" sz="2000" spc="-1" strike="noStrike">
                <a:solidFill>
                  <a:srgbClr val="eeece1"/>
                </a:solidFill>
                <a:latin typeface="Times New Roman"/>
              </a:rPr>
              <a:t>Лучший ученик Банаха - Станислав Улам, стал одним из активных участников Манхэттенского проекта и одним из отцов водородной бомбы. Именно благодаря нему  Шотландская тетрадь была издана и получила известность на Западе. А Львовская математическая школа вошла в историю мировой математики. Приоритет в создании теории линейных операторов какое-то время пытался оспаривать Ноберт Винер - отец кибернетики, но после ознакомления с работами Стефана Банаха признал приоритет последнего..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imagesCA4QJSHD"/>
          <p:cNvPicPr/>
          <p:nvPr/>
        </p:nvPicPr>
        <p:blipFill>
          <a:blip r:embed="rId1"/>
          <a:srcRect l="22311" t="0" r="22202" b="0"/>
          <a:stretch/>
        </p:blipFill>
        <p:spPr>
          <a:xfrm>
            <a:off x="3059280" y="3645000"/>
            <a:ext cx="1512720" cy="272412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pic>
        <p:nvPicPr>
          <p:cNvPr id="221" name="Picture 6" descr="imagesCAINM3ND"/>
          <p:cNvPicPr/>
          <p:nvPr/>
        </p:nvPicPr>
        <p:blipFill>
          <a:blip r:embed="rId2"/>
          <a:srcRect l="18096" t="0" r="17660" b="0"/>
          <a:stretch/>
        </p:blipFill>
        <p:spPr>
          <a:xfrm>
            <a:off x="5651640" y="3357720"/>
            <a:ext cx="2082600" cy="324000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539640" y="836640"/>
            <a:ext cx="770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ece1"/>
                </a:solidFill>
                <a:latin typeface="Times New Roman"/>
              </a:rPr>
              <a:t>Именем Банаха названа маленькая улица во Львове рядом с Лычаковским кладбищем. </a:t>
            </a:r>
            <a:br>
              <a:rPr sz="2000"/>
            </a:br>
            <a:r>
              <a:rPr b="0" lang="ru-RU" sz="2000" spc="-1" strike="noStrike">
                <a:solidFill>
                  <a:srgbClr val="eeece1"/>
                </a:solidFill>
                <a:latin typeface="Times New Roman"/>
              </a:rPr>
              <a:t>У Банаха была любимая присказка: "надежда - мать глупцов". И еще он любил говорить:</a:t>
            </a:r>
            <a:br>
              <a:rPr sz="2000"/>
            </a:b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"Wiem gdzie nie bêdê " - "Знаю, где меня не будет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C:\Documents and Settings\Loner\Мои документы\Мои рисунки\1285420702_123857043_1-----1285420702.jpg"/>
          <p:cNvPicPr/>
          <p:nvPr/>
        </p:nvPicPr>
        <p:blipFill>
          <a:blip r:embed="rId1"/>
          <a:stretch/>
        </p:blipFill>
        <p:spPr>
          <a:xfrm>
            <a:off x="1214280" y="2643120"/>
            <a:ext cx="3500640" cy="3772080"/>
          </a:xfrm>
          <a:prstGeom prst="rect">
            <a:avLst/>
          </a:prstGeom>
          <a:ln w="28440">
            <a:solidFill>
              <a:srgbClr val="948a54"/>
            </a:solidFill>
            <a:miter/>
          </a:ln>
        </p:spPr>
      </p:pic>
      <p:pic>
        <p:nvPicPr>
          <p:cNvPr id="224" name="Picture 3" descr="C:\Documents and Settings\Loner\Мои документы\Мои рисунки\imagesCAGSDO46.jpg"/>
          <p:cNvPicPr/>
          <p:nvPr/>
        </p:nvPicPr>
        <p:blipFill>
          <a:blip r:embed="rId2"/>
          <a:stretch/>
        </p:blipFill>
        <p:spPr>
          <a:xfrm>
            <a:off x="3786120" y="4572000"/>
            <a:ext cx="3210120" cy="2000160"/>
          </a:xfrm>
          <a:prstGeom prst="rect">
            <a:avLst/>
          </a:prstGeom>
          <a:ln w="28440">
            <a:solidFill>
              <a:srgbClr val="948a54"/>
            </a:solidFill>
            <a:miter/>
          </a:ln>
        </p:spPr>
      </p:pic>
      <p:pic>
        <p:nvPicPr>
          <p:cNvPr id="225" name="Picture 5" descr="imagesCAKW01JM"/>
          <p:cNvPicPr/>
          <p:nvPr/>
        </p:nvPicPr>
        <p:blipFill>
          <a:blip r:embed="rId3"/>
          <a:stretch/>
        </p:blipFill>
        <p:spPr>
          <a:xfrm>
            <a:off x="5857920" y="2784600"/>
            <a:ext cx="1643040" cy="2476440"/>
          </a:xfrm>
          <a:prstGeom prst="rect">
            <a:avLst/>
          </a:prstGeom>
          <a:ln w="28440">
            <a:solidFill>
              <a:srgbClr val="948a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468360" y="69228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За всю многовековую историю Львова был только один относительно короткий отрезок времени, когда этот город стал крупнейшим европейским центром мысли (в одном ряду с Парижем, Геттингеном, Кембриджем и Веной). И это случилось во многом  благодаря известному математику Стефану Банах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imagesCAB3G1PY"/>
          <p:cNvPicPr/>
          <p:nvPr/>
        </p:nvPicPr>
        <p:blipFill>
          <a:blip r:embed="rId1"/>
          <a:stretch/>
        </p:blipFill>
        <p:spPr>
          <a:xfrm>
            <a:off x="1332000" y="4149720"/>
            <a:ext cx="2361960" cy="117324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pic>
        <p:nvPicPr>
          <p:cNvPr id="175" name="Picture 8" descr="imagesCA9IH77D"/>
          <p:cNvPicPr/>
          <p:nvPr/>
        </p:nvPicPr>
        <p:blipFill>
          <a:blip r:embed="rId2"/>
          <a:stretch/>
        </p:blipFill>
        <p:spPr>
          <a:xfrm>
            <a:off x="5429160" y="3500280"/>
            <a:ext cx="1884600" cy="234972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7"/>
          <p:cNvSpPr/>
          <p:nvPr/>
        </p:nvSpPr>
        <p:spPr>
          <a:xfrm>
            <a:off x="684360" y="620640"/>
            <a:ext cx="799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В сегодняшнем Львове про Банаха Вам, вероятно, не расскажут. И это отчасти справедливо, если не считать, что существуют явления, превосходящие по своим масштабам границы национальных культу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8" descr="imagesCAAZLLY9"/>
          <p:cNvPicPr/>
          <p:nvPr/>
        </p:nvPicPr>
        <p:blipFill>
          <a:blip r:embed="rId1"/>
          <a:stretch/>
        </p:blipFill>
        <p:spPr>
          <a:xfrm>
            <a:off x="6072120" y="2928960"/>
            <a:ext cx="1289160" cy="172404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pic>
        <p:nvPicPr>
          <p:cNvPr id="178" name="Picture 2" descr="C:\Documents and Settings\Loner\Мои документы\Мои рисунки\45165879_matematika.jpg"/>
          <p:cNvPicPr/>
          <p:nvPr/>
        </p:nvPicPr>
        <p:blipFill>
          <a:blip r:embed="rId2"/>
          <a:stretch/>
        </p:blipFill>
        <p:spPr>
          <a:xfrm>
            <a:off x="857160" y="2357280"/>
            <a:ext cx="4786560" cy="3829320"/>
          </a:xfrm>
          <a:prstGeom prst="rect">
            <a:avLst/>
          </a:prstGeom>
          <a:ln w="28440">
            <a:solidFill>
              <a:srgbClr val="948a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0"/>
          <p:cNvSpPr/>
          <p:nvPr/>
        </p:nvSpPr>
        <p:spPr>
          <a:xfrm>
            <a:off x="324000" y="76500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Стефан Банах любил только две вещи: математику и хорошую дружескую посиделку. Из соединения этих двух вещей в принципе и возникло то, что потом было названо Львовской математической школ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1" descr="imagesCAB3SG4S"/>
          <p:cNvPicPr/>
          <p:nvPr/>
        </p:nvPicPr>
        <p:blipFill>
          <a:blip r:embed="rId1"/>
          <a:stretch/>
        </p:blipFill>
        <p:spPr>
          <a:xfrm>
            <a:off x="1500120" y="2714760"/>
            <a:ext cx="2235240" cy="304776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pic>
        <p:nvPicPr>
          <p:cNvPr id="181" name="Picture 12" descr="C:\Documents and Settings\Loner\Мои документы\Мои рисунки\ArticleImage_2_59162.jpg"/>
          <p:cNvPicPr/>
          <p:nvPr/>
        </p:nvPicPr>
        <p:blipFill>
          <a:blip r:embed="rId2"/>
          <a:srcRect l="0" t="0" r="0" b="9195"/>
          <a:stretch/>
        </p:blipFill>
        <p:spPr>
          <a:xfrm>
            <a:off x="4643280" y="2143080"/>
            <a:ext cx="2646360" cy="3571920"/>
          </a:xfrm>
          <a:prstGeom prst="rect">
            <a:avLst/>
          </a:prstGeom>
          <a:ln w="95400">
            <a:solidFill>
              <a:srgbClr val="333399"/>
            </a:solidFill>
            <a:miter/>
          </a:ln>
        </p:spPr>
      </p:pic>
      <p:sp>
        <p:nvSpPr>
          <p:cNvPr id="182" name="TextBox 4"/>
          <p:cNvSpPr/>
          <p:nvPr/>
        </p:nvSpPr>
        <p:spPr>
          <a:xfrm>
            <a:off x="5076720" y="6286680"/>
            <a:ext cx="33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ец Банаха, Стефан Греч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Loner\Мои документы\Мои рисунки\Mathematics.jpg"/>
          <p:cNvPicPr/>
          <p:nvPr/>
        </p:nvPicPr>
        <p:blipFill>
          <a:blip r:embed="rId1"/>
          <a:stretch/>
        </p:blipFill>
        <p:spPr>
          <a:xfrm>
            <a:off x="3643200" y="2446200"/>
            <a:ext cx="5143680" cy="3857760"/>
          </a:xfrm>
          <a:prstGeom prst="rect">
            <a:avLst/>
          </a:prstGeom>
          <a:ln w="28440">
            <a:solidFill>
              <a:srgbClr val="948a54"/>
            </a:solidFill>
            <a:miter/>
          </a:ln>
        </p:spPr>
      </p:pic>
      <p:sp>
        <p:nvSpPr>
          <p:cNvPr id="184" name="Text Box 8"/>
          <p:cNvSpPr/>
          <p:nvPr/>
        </p:nvSpPr>
        <p:spPr>
          <a:xfrm>
            <a:off x="1000080" y="428760"/>
            <a:ext cx="69850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Стефан не имел законченного высшего образования. Открыл Банаха старейшина польской математики Гуго Штейнгауз.  И как написал сам Гуго в своих мемуарах: «это было самое главное открытие в моей жизни».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9" descr="C:\Documents and Settings\Loner\Мои документы\Мои рисунки\SHTEINGAUZ_Gugo_Dionisi_3.jpg"/>
          <p:cNvPicPr/>
          <p:nvPr/>
        </p:nvPicPr>
        <p:blipFill>
          <a:blip r:embed="rId2"/>
          <a:stretch/>
        </p:blipFill>
        <p:spPr>
          <a:xfrm>
            <a:off x="2428920" y="3214800"/>
            <a:ext cx="2571840" cy="31636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209520" y="564372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го Штейнгау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714240" y="285840"/>
            <a:ext cx="764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Штейнгауз решил проверить парня и сформулировал для него заковыристую задачку, решения которой не знал сам. Это была задача о сходимости в среднем частичных сумм рядов Фурье. Банах  решил задачу за несколько дней. Это настолько поразило Штейнгауза, что он немедленно предложил неизвестному математику совместную публикацию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5143680" y="2643120"/>
            <a:ext cx="2571480" cy="3810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cuments and Settings\Loner\Мои документы\Мои рисунки\1253811042_bd4fd1acc3.jpg"/>
          <p:cNvPicPr/>
          <p:nvPr/>
        </p:nvPicPr>
        <p:blipFill>
          <a:blip r:embed="rId2"/>
          <a:stretch/>
        </p:blipFill>
        <p:spPr>
          <a:xfrm>
            <a:off x="2643120" y="3929040"/>
            <a:ext cx="2928960" cy="2197080"/>
          </a:xfrm>
          <a:prstGeom prst="rect">
            <a:avLst/>
          </a:prstGeom>
          <a:ln w="28440">
            <a:solidFill>
              <a:srgbClr val="948a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755640" y="765000"/>
            <a:ext cx="69231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Меньше чем через два года с рекомендациями Штейнгауза Банах получил место ассистента во Львовском университете.  Еще через два года он получил  докторскую степень. Ее присудили,  в нарушение всех университетских традиций, человеку, который не имел высшего образования. А еще через 2 года  - в 1924 году он получает должность профессора Львовского университета и избирается членом-корреспондентом Польской академии наук.  Вскоре он становится признанным лидером среди львовских математико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428760" y="42876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Благодаря Банаху, Штейнгаузу, Куратовскому, Мазуру и др. во Львове в 20-30-е годы прошлого века сформировалась математическая школа мирового уровн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C:\Documents and Settings\Loner\Мои документы\Мои рисунки\Яна Казимира во Львове возле церкви Св.Николая,где Банах возглавлял кафедру ....jpg"/>
          <p:cNvPicPr/>
          <p:nvPr/>
        </p:nvPicPr>
        <p:blipFill>
          <a:blip r:embed="rId1"/>
          <a:stretch/>
        </p:blipFill>
        <p:spPr>
          <a:xfrm>
            <a:off x="285840" y="1857240"/>
            <a:ext cx="5905440" cy="44294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6357960" y="235728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ица Яна Казимира во Львове возле церкви Св.Николая, где Банах возглавлял кафедру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468360" y="83664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Интеллектуальная жизнь кипела отнюдь не в академических стенах. Она бурлила в многочисленных кавярнях и иных питейных заведениях Львова, коими он всегда славился. Заводилой был Банах. Жизнерадостный любитель бесконечных посиделок за рюмкой и умными беседами о математик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http://xage.ru/media/uploads/2012/9/picasso/last.jpg"/>
          <p:cNvPicPr/>
          <p:nvPr/>
        </p:nvPicPr>
        <p:blipFill>
          <a:blip r:embed="rId1"/>
          <a:stretch/>
        </p:blipFill>
        <p:spPr>
          <a:xfrm>
            <a:off x="4202280" y="2928960"/>
            <a:ext cx="3412800" cy="3438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C:\Documents and Settings\Loner\Мои документы\Мои рисунки\Cafe_terrace.jpg"/>
          <p:cNvPicPr/>
          <p:nvPr/>
        </p:nvPicPr>
        <p:blipFill>
          <a:blip r:embed="rId2"/>
          <a:stretch/>
        </p:blipFill>
        <p:spPr>
          <a:xfrm>
            <a:off x="1071720" y="3214800"/>
            <a:ext cx="25812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15:07:39Z</dcterms:created>
  <dc:creator>Aleksej</dc:creator>
  <dc:description/>
  <dc:language>en-US</dc:language>
  <cp:lastModifiedBy>User</cp:lastModifiedBy>
  <dcterms:modified xsi:type="dcterms:W3CDTF">2018-11-27T08:20:33Z</dcterms:modified>
  <cp:revision>17</cp:revision>
  <dc:subject/>
  <dc:title>Слайд 1</dc:title>
</cp:coreProperties>
</file>