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C788-5FBE-478B-813B-E78821B3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31E1-E6A8-4555-9865-B1154706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0776-541A-49B8-97D3-DC6CC549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3ECD-79BF-4D32-B12F-4E99F38F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88B8-BE23-4A96-B8BA-9B457910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4CF-9C42-469C-8EB2-18FBC2E5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CBD-CF5D-4A5A-B2EC-DAF6CD90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DD19-28AF-4376-8675-02C62EEB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AE2-BD78-4F5E-9075-D1895785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8FF8-77E9-453A-AA19-EF1D2169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753-CCF3-46C0-B757-F742C281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C4D4-CD28-4100-A105-6E091549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96F3-036A-494F-B71B-593C87F62C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2640" y="6094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вторим местоимения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рочитайте текст и определите его тему и основную мысл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пределит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ря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деж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стои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762120" y="57150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2209680" y="57150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2743200" y="1981080"/>
            <a:ext cx="6172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х было 20 молодых лётчиков, которых готовили к первому полёту в космос. Юрий Гагарин был одним из них. Никто не мог даже предположить, кому из них предстоит открыть дорогу к звёздам. Доброжелательный, надёжный, Юрий никому не завидовал, никого не считал лучше или хуже себя. Он легко брал на себя инициативу, работал упорно и с удовольствием.12 апреля 1961 года стартовал космический корабль «Восток» с пилотом-космонавтом Ю. А. Гагариным на бор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C:\Users\User\Desktop\y__0ipVaCRg.jpg"/>
          <p:cNvPicPr/>
          <p:nvPr/>
        </p:nvPicPr>
        <p:blipFill>
          <a:blip r:embed="rId1"/>
          <a:stretch/>
        </p:blipFill>
        <p:spPr>
          <a:xfrm>
            <a:off x="76320" y="2157480"/>
            <a:ext cx="2666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Ответы:  4, 8, 9,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)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)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3)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4) –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так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цве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5)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6)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7)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8) за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этим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зд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9) после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тольких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попы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0)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1)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2) возле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т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ре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761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(личн., Р.п), которых(относ., Р.п), из них (личн., Р.п), никто(отриц., И.п), кому (относит., Д.п.) , из них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ичн., Р.п), никому (отриц., Д.п), никого (отриц., Р.п.),себя (возвр., Р.п), он (личн., И.п),  на себя (возвр.В.п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esktop\a830979ec3f24f1a13ec46cc7221cc97.jpeg"/>
          <p:cNvPicPr/>
          <p:nvPr/>
        </p:nvPicPr>
        <p:blipFill>
          <a:blip r:embed="rId2"/>
          <a:stretch/>
        </p:blipFill>
        <p:spPr>
          <a:xfrm>
            <a:off x="0" y="15840"/>
            <a:ext cx="912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:\Users\User\Desktop\slide-3.jpg"/>
          <p:cNvPicPr/>
          <p:nvPr/>
        </p:nvPicPr>
        <p:blipFill>
          <a:blip r:embed="rId1"/>
          <a:stretch/>
        </p:blipFill>
        <p:spPr>
          <a:xfrm>
            <a:off x="520560" y="236520"/>
            <a:ext cx="815364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User\Desktop\ocr.jpg"/>
          <p:cNvPicPr/>
          <p:nvPr/>
        </p:nvPicPr>
        <p:blipFill>
          <a:blip r:embed="rId2"/>
          <a:stretch/>
        </p:blipFill>
        <p:spPr>
          <a:xfrm>
            <a:off x="0" y="304920"/>
            <a:ext cx="91821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346212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2" descr=""/>
          <p:cNvPicPr/>
          <p:nvPr/>
        </p:nvPicPr>
        <p:blipFill>
          <a:blip r:embed="rId2"/>
          <a:stretch/>
        </p:blipFill>
        <p:spPr>
          <a:xfrm>
            <a:off x="590400" y="304920"/>
            <a:ext cx="864576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«Открываем» новые знания</a:t>
            </a:r>
            <a:br>
              <a:rPr sz="3600"/>
            </a:br>
            <a:r>
              <a:rPr b="0" lang="ru-RU" sz="4400" spc="-1" strike="noStrike">
                <a:solidFill>
                  <a:srgbClr val="a50021"/>
                </a:solidFill>
                <a:latin typeface="Arial"/>
              </a:rPr>
              <a:t>Указательные местоим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1600200"/>
          <a:ext cx="8229600" cy="2286000"/>
        </p:xfrm>
        <a:graphic>
          <a:graphicData uri="http://schemas.openxmlformats.org/drawingml/2006/table">
            <a:tbl>
              <a:tblPr/>
              <a:tblGrid>
                <a:gridCol w="914400"/>
                <a:gridCol w="1143000"/>
                <a:gridCol w="1143000"/>
                <a:gridCol w="1143000"/>
                <a:gridCol w="1295280"/>
                <a:gridCol w="1295280"/>
                <a:gridCol w="12956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азря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ест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Знач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опрос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стоян-ные призна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зменяют-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интакси-ческая ро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2666880" y="4038480"/>
            <a:ext cx="358164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Arial"/>
              </a:rPr>
              <a:t>Указательные местоим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33520" y="1219320"/>
          <a:ext cx="8229600" cy="3219480"/>
        </p:xfrm>
        <a:graphic>
          <a:graphicData uri="http://schemas.openxmlformats.org/drawingml/2006/table">
            <a:tbl>
              <a:tblPr/>
              <a:tblGrid>
                <a:gridCol w="914400"/>
                <a:gridCol w="1143000"/>
                <a:gridCol w="1143000"/>
                <a:gridCol w="1143000"/>
                <a:gridCol w="1295280"/>
                <a:gridCol w="1371600"/>
                <a:gridCol w="1219320"/>
              </a:tblGrid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азря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ест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Знач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опрос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стоян-ные призна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зменяют-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интакси-ческая ро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0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-тель-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ь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-тельное   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яд (указатель-ные местоим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дежам, некоторые - по родам и числ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т быть любыми членами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3352680" y="4640400"/>
            <a:ext cx="22100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Выпишите номера словосочетаний 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с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указательными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 местоимения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) помнить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) скольк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) моего сос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4) такой цве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5) кое-где видне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6) видно отсю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7) обещать с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8) за этим зд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9) после стольких попы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0) всюду раздаё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1) приветствую т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2) возле той ре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"/>
          <p:cNvPicPr/>
          <p:nvPr/>
        </p:nvPicPr>
        <p:blipFill>
          <a:blip r:embed="rId1"/>
          <a:stretch/>
        </p:blipFill>
        <p:spPr>
          <a:xfrm>
            <a:off x="5410080" y="2438280"/>
            <a:ext cx="34340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07:50:44Z</dcterms:created>
  <dc:creator>Нина</dc:creator>
  <dc:description/>
  <dc:language>en-US</dc:language>
  <cp:lastModifiedBy>User</cp:lastModifiedBy>
  <dcterms:modified xsi:type="dcterms:W3CDTF">2023-04-11T20:24:28Z</dcterms:modified>
  <cp:revision>3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