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D08-3D21-4A69-8B89-A054C05B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FE39-58A9-464E-958F-BD1BFC7B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65AC-A66A-472E-9BD3-DEA530DE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E2DD-B2A7-4C18-BDB8-E42364FA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4799-8E5E-491F-BB44-AB5DA430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A0A-F8FD-4F2B-8563-029D5CFF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067F-2D3C-4829-90A9-E5BD8B3F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B6A9-A69F-4A5E-BAD8-E0353075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2DD-7D54-4A06-B9D0-FD6C7CCD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CDF-8D38-4457-B089-9CD75E0B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7CA0-1A0C-4DCD-85E2-CBEC18B2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2F0-8AC7-4C2A-B66A-BFC89EA4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771D-16B0-4B05-9418-02B7BAD496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2640" y="6094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вторим местоимения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рочитайте текст и определите его тему и основную мысл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пределит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ря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деж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тои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762120" y="57150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2209680" y="57150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2743200" y="1981080"/>
            <a:ext cx="6172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х было 20 молодых лётчиков, которых готовили к первому полёту в космос. Юрий Гагарин был одним из них. Никто не мог даже предположить, кому из них предстоит открыть дорогу к звёздам. Доброжелательный, надёжный, Юрий никому не завидовал, никого не считал лучше или хуже себя. Он легко брал на себя инициативу, работал упорно и с удовольствием.12 апреля 1961 года стартовал космический корабль «Восток» с пилотом-космонавтом Ю. А. Гагариным на бор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C:\Users\User\Desktop\y__0ipVaCRg.jpg"/>
          <p:cNvPicPr/>
          <p:nvPr/>
        </p:nvPicPr>
        <p:blipFill>
          <a:blip r:embed="rId1"/>
          <a:stretch/>
        </p:blipFill>
        <p:spPr>
          <a:xfrm>
            <a:off x="76320" y="2157480"/>
            <a:ext cx="2666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Ответы:  4, 8, 9,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)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)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3)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4) –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так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цв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)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6)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7)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8) за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эти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зд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9) после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тольких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попы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0)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1)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2) возле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т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ре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761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(личн., Р.п), которых(относ., Р.п), из них (личн., Р.п), никто(отриц., И.п), кому (относит., Д.п.) , из них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ичн., Р.п), никому (отриц., Д.п), никого (отриц., Р.п.),себя (возвр., Р.п), он (личн., И.п),  на себя (возвр.В.п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esktop\a830979ec3f24f1a13ec46cc7221cc97.jpeg"/>
          <p:cNvPicPr/>
          <p:nvPr/>
        </p:nvPicPr>
        <p:blipFill>
          <a:blip r:embed="rId2"/>
          <a:stretch/>
        </p:blipFill>
        <p:spPr>
          <a:xfrm>
            <a:off x="0" y="15840"/>
            <a:ext cx="912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:\Users\User\Desktop\slide-3.jpg"/>
          <p:cNvPicPr/>
          <p:nvPr/>
        </p:nvPicPr>
        <p:blipFill>
          <a:blip r:embed="rId1"/>
          <a:stretch/>
        </p:blipFill>
        <p:spPr>
          <a:xfrm>
            <a:off x="520560" y="236520"/>
            <a:ext cx="815364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User\Desktop\ocr.jpg"/>
          <p:cNvPicPr/>
          <p:nvPr/>
        </p:nvPicPr>
        <p:blipFill>
          <a:blip r:embed="rId2"/>
          <a:stretch/>
        </p:blipFill>
        <p:spPr>
          <a:xfrm>
            <a:off x="0" y="304920"/>
            <a:ext cx="91821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346212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2" descr=""/>
          <p:cNvPicPr/>
          <p:nvPr/>
        </p:nvPicPr>
        <p:blipFill>
          <a:blip r:embed="rId2"/>
          <a:stretch/>
        </p:blipFill>
        <p:spPr>
          <a:xfrm>
            <a:off x="590400" y="304920"/>
            <a:ext cx="864576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«Открываем» новые знания</a:t>
            </a:r>
            <a:br>
              <a:rPr sz="3600"/>
            </a:br>
            <a:r>
              <a:rPr b="0" lang="ru-RU" sz="4400" spc="-1" strike="noStrike">
                <a:solidFill>
                  <a:srgbClr val="a50021"/>
                </a:solidFill>
                <a:latin typeface="Arial"/>
              </a:rPr>
              <a:t>Указательные местоим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600200"/>
          <a:ext cx="8229600" cy="228600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143000"/>
                <a:gridCol w="1143000"/>
                <a:gridCol w="1295280"/>
                <a:gridCol w="1295280"/>
                <a:gridCol w="12956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азря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ест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нач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опрос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стоян-ные призна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зменяют-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интакси-ческая ро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2666880" y="4038480"/>
            <a:ext cx="358164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Arial"/>
              </a:rPr>
              <a:t>Указательные местоим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33520" y="1219320"/>
          <a:ext cx="8229600" cy="321948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143000"/>
                <a:gridCol w="1143000"/>
                <a:gridCol w="1295280"/>
                <a:gridCol w="1371600"/>
                <a:gridCol w="121932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азря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ест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нач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опрос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стоян-ные призна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зменяют-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интакси-ческая ро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0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-тель-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ь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-тельное   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яд (указатель-ные местоим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дежам, некоторые - по родам и числ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быть любыми членами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3352680" y="4640400"/>
            <a:ext cx="22100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Выпишите номера словосочетаний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с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указательными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 местоимения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) помнить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) скольк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) моего сос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4) такой цв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5) кое-где видне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6) видно отсю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7) обещать с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8) за этим зд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9) после стольких попы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0) всюду раздаё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1) приветствую т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2) возле той ре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34340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07:50:44Z</dcterms:created>
  <dc:creator>Нина</dc:creator>
  <dc:description/>
  <dc:language>en-US</dc:language>
  <cp:lastModifiedBy>User</cp:lastModifiedBy>
  <dcterms:modified xsi:type="dcterms:W3CDTF">2023-04-11T20:24:28Z</dcterms:modified>
  <cp:revision>3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