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B364-D55B-4963-8E05-1D4D47CA0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4AA0-9FA4-435D-BA2F-31F82BAA08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E652-D3CF-41AC-B1C4-A469DCF78D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C025-3C44-41D9-836A-CD9063D4E6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D036-3C7A-4EA7-A812-6E9A1C0188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CB18-282C-43B3-8A5A-4667765BC9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340E-9041-4699-9A29-3BCC9B5456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3EA3-842C-4346-9759-97E679EA05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8667-C5D4-4AF1-8F97-7114626157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88DC-8451-4228-B26A-B966DB1891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5880-3A6C-4C75-8396-2EE6696871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04005-BE9F-4293-9743-245C520CC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3C79-EF0D-4175-B20C-9FF0B33EC2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C9E2A-7282-4D4B-A8A0-328F7DBFF2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8FDF4-0B66-45F2-8AA2-B77DF17862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C7EBD-6DC6-4CF7-A4DB-E8CED30B17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4EB68-67C6-4848-8D96-D5FF024500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B7FAF-6FE6-44C8-9CA1-62E5A9D2AD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7B401-8E5F-415F-91F7-C40342E471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15718-2187-4966-83F8-8CA3F880CD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D4D00-7EC3-455E-8A06-3C601E2295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7E01C-9782-4F86-849E-0C92C0E8A7D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BFE3B-DE92-4655-B689-C62392068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8879-1BB8-45D9-95A4-62C9AE6716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19549-0695-4D05-8024-90598D3F68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A2695-D63F-4A90-B546-AC1E4092D1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FD6C5-5388-4E05-867C-5C550C3A4B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71781-4C4E-497E-8CC7-6DCCC5744D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CB046-7AA4-4566-AC7D-EAF5384AB1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9DFCB-9310-4E26-A331-68ED309683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471D6-8126-4008-A71A-AFA5B9B0C6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790FD-270E-4E7A-B707-41F4CF7114F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870B9-823D-44F1-9FF2-DCBF634B7F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2BF9E-70BB-4E5D-A896-2E95B730A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B8B0-8B3E-4EDF-8973-49A1EFB43A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82A34-17A2-4E8C-B96F-5F4AD83BB7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B6734-2900-444A-A2B4-17BFC6966E5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640DD-B6BB-48FF-A936-364A58F08F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3C93-76A8-45A9-B4E4-753A33A2D0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6776-975B-4405-BAD8-4E93AADADB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7557-3C3C-43BE-89F4-7674834B3F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D15D-73E7-46D4-8FD0-B852F0D38D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C725-081C-4112-9117-C1D9D3ECC7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BF90-BF1E-49EC-B9B8-42E3F4C129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76FE-332D-4861-B967-0296F297E2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4EFC-A31F-4A8E-BBC9-AC0201A0BE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C7B1-9FAF-4524-834B-79E8742C2D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07CE-55EC-4B49-82CD-C2C8090681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89CE-E9B0-466E-8DE4-6FB4C03627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AC6E-0098-4020-9A23-D814670967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199F-75ED-40E7-A3AB-9B4828421A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FB6F78-8064-4CF8-952C-8A68B7A8443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9F962F-4675-4715-BAAA-96514D82CC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A44B9-B6D7-4A19-9E35-CC9B393E2E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184B9-E516-4727-AC29-BDA06668E94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5255B-5A72-4F40-8D43-5B31338F6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D4F5-0F4A-4EC2-9AA2-C66BFFF96DD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B7ECD-BB9E-45F2-BC75-34F6402E82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8654F-2B2D-40CE-A18C-6A48A0C1C4D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C7938-213C-4E97-85AE-9A47BDACC0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48237-4E7B-467D-9498-4001F190C7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1F889-7AA8-415B-8F1E-234514FAC0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8750D-01C8-49E6-AD17-DA674D0744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7DA7C-6487-403B-A325-5663AAAC0C9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E35B4-7E44-4A22-8D07-846CD8889E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1340B-F906-4831-84AC-7A8480F55B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B472A-5CF9-45DB-A5E0-A81B63361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52DF-77BE-4600-A4F4-5969C2B607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6653F-3F2C-4853-98F2-C06AC910A42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81417-1FF1-47A1-850C-A5A4C5CFF8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4E1EA-827D-409A-A78E-E7C2B246CA4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B09BD-319B-4EF1-AABD-2F7B8D4745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04FA5-8FE7-4A81-8F57-A55EBA84D8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426D2-A875-4BC6-A9DA-007712A68FC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072DF-1396-4115-A76B-58EF74AD70F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15036-1F34-495E-9706-F7F3F6480F2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81669-89FF-4504-AF56-E1C4E086DB0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21A1-8460-4603-A560-17415C0815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3B13-E867-49ED-AD22-A0AB9E3E74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5252-5332-4787-938C-E0226B7BEF2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3897-3001-456C-A723-90C36250F5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32D9-00EF-4DC9-9381-CBC42D92C79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8D58-03A2-4D94-B6F7-F7879654164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FF58-3BAA-4DE0-98C5-81F018FC7C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3A80-0B29-45EE-B823-96A8FB458C1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0A94-3A8C-4AF8-9FF2-4F47EE6CBF5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2C0C-F312-42AB-AB5D-4346B903653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9F89-D422-433D-A786-452510C8122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B6F84-28EE-47BC-991E-9C158E645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A98A-7D3B-42CE-A945-E036C1EC345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AE98-0DB0-4926-9711-E6634EF9BF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9238E-B549-4475-AAEF-372A56C2F2A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08C37-A902-4128-B293-9100B1736D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59CE1-554D-404C-A8CC-B54055709A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2A039-C4BB-4F35-B399-8604C43C3FB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51695-7F1C-41BE-9DF8-ABCE34E651C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38664-AEA6-4F30-9CCB-A5A52668D5A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A4B7A-295D-45B4-8BCD-8D801A00296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1828C-DC6A-414E-BE8B-5A4EB9507B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68745-40AD-4D2F-B694-3CE26194F6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3141-751D-4D16-A0CF-063FA1A1FC6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F8D56-EA1E-448B-A45C-F02E520CD53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4D321-B5C8-46BD-A547-0876D98B60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737AF-CF08-45A8-B8A4-DFC3589235E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A32D8-131E-46B0-974F-663E7BC1154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55936-F227-4E7E-97B4-4E1E888A888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91565-C2A5-47F6-B870-C5E707FC7A9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B7545-9DCF-4590-992B-2687CA91DAE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11D04-E8B6-4280-9902-46A9ADBDA06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6A9AF-E5D5-42AE-B085-FFA476AE250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6C1E5-D40C-4189-9BCF-E3EE9B1F4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614B-6924-4650-9733-B95757C22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F6F1-FCC6-4742-88E2-58FEBBA89F4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411F8-A682-48D8-BC76-9137A76FA0D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409A4-03D8-4B82-9E74-280AB36CB99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8FBEA-6B32-41A5-B1EF-4A722251395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02F6C-8B6D-4CCD-8766-BD48C6BF713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FB223-0EDA-4ECB-84B6-D2F0FBB0E8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9BE3F-C5CB-4720-9A0B-66F8AC2AF86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2306-144A-4389-8A05-FF10E29E17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6D08E-DC7D-4329-AD83-6BDBDDEACB3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4A51-5681-486B-8211-BFEE0B7188A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83D9-4C1F-4123-88E6-126D493DB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58E2-924F-4146-9B98-6BC296EBB6C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B383B-2DEE-4D7E-B9C6-E5BD862C280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BBDF-3F0A-4424-B858-8840A70E161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39DD9-197E-42B1-8D2D-122A316C891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6FC2-9771-4D74-80AB-4C8374793B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0293-E291-4914-8309-4AB4676BC92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5040-8C86-47F8-A1E2-CDC9D66AF54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9158-843B-4F91-82B7-3FC825B77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8403-8664-4AD8-A50C-26638D84A8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08B2-0D40-4BB7-B644-268E019CB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669F-E351-48BA-BB02-5948F16625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328-728B-4972-9B3F-F9AD379EDA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E85-88CB-46C1-B412-F5C04C1017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0BF-C4BE-47C0-A859-5B2793DB45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34C-7C38-49EF-BE50-1027709F4B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900-0AD4-4B85-8262-0F2801009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5FB5-3683-4194-AC9B-5BE77BEC0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B8D-07F8-4613-B224-C5A377E129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822-1E55-4847-8618-9423876CB2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557-D9C7-456F-A07E-FB513725BF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62A-2B0B-4FEE-A5B9-0D09CFEABA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D69-4583-41D7-8297-DDB30E6E32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EC9-8751-4EA6-B76D-3E7E4478EC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A8F-F5F1-40A3-8B85-BB1A370D8D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82000-5F3A-49C1-BA31-502D15DA53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14A35-F32F-4E15-8AF4-B8DA6F23C1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416B9-9459-4A6D-B0BF-E71D57E60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2F3A-E12A-4493-9E75-AEC57214E8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E7FA-8F49-48D6-9DB3-307C63E34F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657B-2E0D-4726-82CE-12605B836B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219D-DFE1-4BCB-BB97-4488FD8278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F08BF-E57B-4708-9558-373CC8128D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7999-4196-4604-B2D2-E69FEB1D84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A2E6A-0953-4E79-827A-DA4F753183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EEDE-25D9-49BE-83E8-5CF2AEFB58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1DD2-C03F-4890-B28F-7DFAF11868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6A1D-D9DF-49B3-9002-71DA4C09E3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D2BC4-F82B-48D8-825F-1BF5C2E7F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BD2C-A102-45FA-B01F-FE0C09132F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D74FC-5E9E-4AE0-AC1B-B5A3A02869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D798-F2FE-40D5-B0FF-8330C0C402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120B2-4847-4D97-B0E8-DEF9AAB6D6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7628-2E55-4DDD-B244-7C43DACC0C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AA3E3-9CE8-458B-938A-62C85EAEF9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41F0A-CCCD-4B38-BC91-3BEAC18752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8366F-50F9-45D5-A94A-AE913A1ADA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8E8D-CBA0-4141-9F26-646DEEC4BA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7AFA-4CFC-468F-BFB8-5E06751227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63647-B798-4D6C-B508-F77F012D0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7AB6-FEDE-4D37-9DA7-7EB354EBCF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FDA0F-5426-4651-992E-62E0CA3A82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A70-A3A2-4D69-9829-EECA2F0583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72D-603A-45B8-92A6-FDFA822910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BFB5-45F7-462D-85CC-CA9141780E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EA1B-A068-4244-8F09-459FB026A5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5FF-4E3D-4087-8E0D-67EB47E538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8B36-F093-424A-A069-59C94AF335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DA06-1023-4A1F-A701-9F1866AF38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2BAE-EE10-40F9-A222-8EE6E5C451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CEB-7964-48E5-9686-09E9975F8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5BC5-C2ED-4D66-B81C-BB06A27DC8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527-5381-4529-A3B0-427EC077C2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A10B-A5C0-47DD-B3EE-6034713C24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5F40-FA52-4AEE-B955-C373648DE2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8017B-C5A1-4A76-B85D-0E77AE240E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5ABC6-0D65-4C77-822F-FB250B763A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43A75-C660-4BA9-81A5-5AD7597CAD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11F09-B1A4-4A66-A96B-1418D592B2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1F5D9-66D1-40DE-92A5-0AE9508738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B9D1B-89FF-4516-9206-2D42FFBF71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A1B3CD-E632-4022-83B8-99F0D04A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7D83-8B96-47F7-A05C-946EBB6D62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9D2CD-626F-46C8-AEDE-2646348011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0FC26-A8A7-4561-BC22-9D3B8D6583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243F7-9E4B-4E6F-9A92-C7800AB1FE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3D683-D01D-4047-9F25-92FBD26A96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F2DFB-DAFC-4A69-AE4C-30BEC4AD29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DB838-77DD-4537-BFE8-034BEECC8D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6D110-ABF8-4263-8551-9FB4A4BC40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D6C4F-B186-4D7E-B9EB-C4FBEC442C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DEFDF-E66B-4B31-A0D7-E7CE88E37F5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CC8C8-A7EB-4304-91E1-5B5253613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057F-584A-4DE9-902E-4F775197D0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8840"/>
            <a:ext cx="77709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4BE77-2FDD-466D-8B42-ABE7354E41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AD2AF-199A-4E5E-95FF-FC0312C846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7D951-B7C5-429E-AE2B-F1C4D58EC5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5E01E-F541-4A46-B8EC-F38750F6A3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4400"/>
            <a:ext cx="77709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6C4A9-FCD8-4790-8004-AC24F3943A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236664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7760" y="4154400"/>
            <a:ext cx="379188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6C32F-02A9-48D5-A4EB-071570E916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44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0720" y="236664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44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0720" y="4154400"/>
            <a:ext cx="25020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BDD79-1472-4BF8-8B7A-2DBB4EE1CF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953B-22C0-4F82-BCB1-48A32612D86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9F0C-4635-48C0-9796-B6ED281315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B8A4-8958-4B74-A053-2FF005D02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961A1A-2F08-487D-A4FC-E3AF0832136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DB4417-1512-44ED-9F92-8C26DFAEBC0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1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1D8115-92C4-4B02-8345-D75D7BA72F1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639663-270A-4E47-92F3-7A97E5CE9A6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05673D-C10B-4BC5-8FCF-C07675FCB83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14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B8B051-B13F-447F-A140-670B80CA0C0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5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6959BF-0884-4B0F-8482-921A041E4B6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16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80A3C6-E010-4AAA-8609-A67094FBBD2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17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10EE66-D561-481D-993E-C88A776BBB5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18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3D301E-6D09-44EA-838B-145F71EA2FD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06C0F5-0268-4A2E-8E84-FBB711FC1F7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EA241-5DF8-4C4E-B7D5-D9346EF7071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E7ACB-AD76-4BF7-885B-F7EEEF22DE9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6F9A5D-BCC2-4056-9FAE-17A8D559BB2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6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E6A539-BD3F-4E88-893F-C855D96BAFB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7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C967C0-0826-446D-A7C4-F1233001986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82722-A266-4D3A-81EF-94FD2156A0B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09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6640"/>
            <a:ext cx="77709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5883120"/>
            <a:ext cx="50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9"/>
          </p:nvPr>
        </p:nvSpPr>
        <p:spPr>
          <a:xfrm>
            <a:off x="7885080" y="5883120"/>
            <a:ext cx="571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FDCC00-6BCE-4D2A-B63D-6F0AD92ECC5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85800" y="18900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w Cen MT"/>
              </a:rPr>
              <a:t>ДОБРЫЙ ДЕНЬ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w Cen MT"/>
              </a:rPr>
              <a:t>Я РАДА ПРИВЕТСТВОВАТЬ ВАС НА УРОКЕ ФИЗИ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00280" y="2214720"/>
            <a:ext cx="754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6858000"/>
            <a:ext cx="85406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79280" y="404640"/>
            <a:ext cx="8640720" cy="187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12c19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e12c19"/>
                </a:solidFill>
                <a:latin typeface="Arial"/>
              </a:rPr>
              <a:t>Вопрос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бота силы тяжести при  движении тела из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99"/>
              </a:buClr>
              <a:buFont typeface="Arial"/>
              <a:buAutoNum type="arabicPlain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отенциально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энергией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qh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1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очку  2 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99"/>
              </a:buClr>
              <a:buFont typeface="Arial"/>
              <a:buAutoNum type="arabicPlain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тенциальной энергией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qh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2920" y="2924280"/>
            <a:ext cx="345780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12c1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149720"/>
            <a:ext cx="36734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12c1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332000" y="5229360"/>
            <a:ext cx="38178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A</a:t>
            </a:r>
            <a:r>
              <a:rPr b="1" lang="ru-RU" sz="1200" spc="-1" strike="noStrike">
                <a:solidFill>
                  <a:srgbClr val="e12c19"/>
                </a:solidFill>
                <a:latin typeface="Arial"/>
              </a:rPr>
              <a:t>тяж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= mqh</a:t>
            </a:r>
            <a:r>
              <a:rPr b="1" lang="en-US" sz="1400" spc="-1" strike="noStrike">
                <a:solidFill>
                  <a:srgbClr val="e12c1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312920" y="1300320"/>
            <a:ext cx="65181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w Cen MT"/>
              </a:rPr>
              <a:t>ОТВЕТЫ К ТЕ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12920" y="3886200"/>
            <a:ext cx="651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4316400" cy="328464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4643280" y="6480"/>
            <a:ext cx="4357800" cy="32670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120600" y="3429000"/>
            <a:ext cx="4375080" cy="32796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4611600" y="3573360"/>
            <a:ext cx="438948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4441680" cy="333216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4572000" y="25560"/>
            <a:ext cx="4475160" cy="3355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0" y="3462480"/>
            <a:ext cx="4441680" cy="33321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4572000" y="3462480"/>
            <a:ext cx="44751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КРИТЕРИИ 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5» – 8 –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4» – 6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3» - 4 –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«2» – 2 -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8360" y="189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e93d1b"/>
                </a:solidFill>
                <a:latin typeface="Tw Cen MT"/>
              </a:rPr>
              <a:t>ПОТЕНЦИАЛЬНАЯ ЭНЕРГИЯ</a:t>
            </a:r>
            <a:r>
              <a:rPr b="1" i="1" lang="ru-RU" sz="3200" spc="-1" strike="noStrike">
                <a:solidFill>
                  <a:srgbClr val="10da32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c08ce"/>
                </a:solidFill>
                <a:latin typeface="Tw Cen MT"/>
              </a:rPr>
              <a:t>ХАРАКТЕРИЗУЕТ ВЗАИМОДЕЙСТВУЮЩИЕ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211640" y="3284640"/>
            <a:ext cx="460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e93d1b"/>
                </a:solidFill>
                <a:latin typeface="Tw Cen MT"/>
              </a:rPr>
              <a:t>КИНЕТИЧЕСКАЯ ЭНЕР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c08ce"/>
                </a:solidFill>
                <a:latin typeface="Tw Cen MT"/>
              </a:rPr>
              <a:t>ХАРАКТЕРИЗУЕТ ДВИЖУЩИЕС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85800" y="61920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w Cen MT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" y="1557360"/>
            <a:ext cx="39434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АДЕНИЕ КАМНЯ МАССОЙ 5 КГ С ВЫСОТЫ 1,25 М ДЛИЛОСЬ 0,5 С. НЕ УЧИТЫВАЯ ДЕЙСТВИЕ СОПРОТИВЛЕНИЯ, ОПРЕДЕЛИТЕ КИНЕТИЧЕСКУЮ И ПОТЕНЦИАЛЬНУЮ ЭНЕРГИЮ, А ТАКЖЕ ИХ СУММУ В ТРЕХ ТОЧКАХ: А) В НАЧАЛЕ ПАДЕНИЯ; Б) В КОНЦЕ ПАДЕНИЯ; В) НА ВЫСОТЕ 1 М, СКОРОСТЬ КАМНЯ НА ЭТОЙ ВЫСОТЕ РАВНА 2,2 М/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8289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ОЛНАЯ МЕХАНИЧЕСКАЯ ЭНЕ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906a6"/>
                </a:solidFill>
                <a:latin typeface="Tw Cen MT"/>
              </a:rPr>
              <a:t>СУММА КИНЕТИЧЕСКОЙ И ПОТЕНЦИАЛЬНОЙ ЭНЕРГИИ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 = EK + 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K + EP=CON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ИЗМЕНЕНИЕ ЭНЕРГ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ПРИ ПАДЕНИИ МЯ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" y="1773360"/>
            <a:ext cx="77724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A= - (E</a:t>
            </a:r>
            <a:r>
              <a:rPr b="1" lang="ru-RU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e93d1b"/>
                </a:solidFill>
                <a:latin typeface="Times New Roman"/>
                <a:ea typeface="Times New Roman"/>
              </a:rPr>
              <a:t>2 – EP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A= EK2 – EK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2 – EK1 = - (EP2 – EP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2 – EK1 = - EP2 + EP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93d1b"/>
                </a:solidFill>
                <a:latin typeface="Tw Cen MT"/>
              </a:rPr>
              <a:t>EK1 + EP1 = EK2 + E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312920" y="1300320"/>
            <a:ext cx="65181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w Cen MT"/>
              </a:rPr>
              <a:t>ТЕМА УРОКА: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w Cen MT"/>
              </a:rPr>
              <a:t>ЗАКОН СОХРАНЕНИЯ МЕХАНИЧЕСКОЙ ЭН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85800" y="1700280"/>
            <a:ext cx="77724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ПРОВЕРОЧНЫЙ 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12920" y="3886200"/>
            <a:ext cx="651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МЕТЬ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ФОРМУЛИРОВАТЬ ЗАКОН СОХРАНЕНИЯ МЕХАНИЧЕСКОЙ ЭНЕР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НАТЬ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МАТЕМАТИЧЕСКУЮ ЗАПИСЬ ЗАК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ИМЕНЯТЬ 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ФОРМУЛУ ПРИ РЕШЕНИИ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93d1b"/>
                </a:solidFill>
                <a:latin typeface="Script MT Bold"/>
              </a:rPr>
              <a:t>ЗАКОН СОХРАНЕНИЯ ЭНЕРГИИ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119700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c08ce"/>
                </a:solidFill>
                <a:latin typeface="Tw Cen MT"/>
              </a:rPr>
              <a:t>СУММА КИНЕТИЧЕСКОЙ И ПОТЕНЦИАЛЬНОЙ ЭНЕРГИЙ ТЕЛ, СОСТАВЛЯЮЩИХ ЗАМКНУТУЮ СИСТЕМУ И ВЗАИМОДЕЙСТВУЮЩИХ МЕЖДУ СОБОЙ СИЛАМИ ТЯГОТЕНИЯ И СИЛАМИ УПРУГОСТИ, ОСТАЕТСЯ ПОСТОЯ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e93d1b"/>
                </a:solidFill>
                <a:latin typeface="Tw Cen MT"/>
              </a:rPr>
              <a:t>EK1 + EP1 = EK2 + EP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85800" y="404640"/>
            <a:ext cx="77724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w Cen MT"/>
              </a:rPr>
              <a:t>ВОЛЬФГАНГ ЭРНСТ ПА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85800" y="1916280"/>
            <a:ext cx="3379680" cy="450684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4629240" y="1916280"/>
            <a:ext cx="38289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ШВЕЙЦАРСКИЙ ФИЗИК-ТЕОРЕТИК, РАБОТАВШИЙ В ОБЛАСТИ ФИЗИКИ ЭЛЕМЕНТАРНЫХ ЧАСТИЦ И КВАНТОВОЙ МЕХАНИКИ. ЛАУРЕАТ НОБЕЛЕВСКОЙ ПРЕМИИ ПО ФИЗИКЕ ЗА 1945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w Cen MT"/>
              </a:rPr>
              <a:t>ЗАДАЧА №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АЛЬЧИК НАЧИНАЕТ СКАТЫВАТЬСЯ НА САНКАХ С ГОРЫ ВЫСОТОЙ 20 М. С КАКОЙ СКОРОСТЬЮ ОН МИНУЕТ ВЫСОТУ 10 М? ТРЕНИЕМ ПРЕНЕБ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ча №2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87400" y="2235240"/>
            <a:ext cx="757080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я, летевшая горизонтально со скоростью 40 м/с, попадает в брус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шенный на нити длиной 4 м, и застревает в нем. Определить угол, на который отклонится брусок, если масса пули 20 г, а бруска 5 к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ЗАДАЧА ДЛЯ САМОСТОЯТЕЛЬНОГО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9280" y="2200320"/>
            <a:ext cx="9418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клону горы длиной 500 м скат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 массой 60 кг с высоты 10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реднюю силу сопроти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атывании са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основания горы они имели скорость 8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корость санок равна ну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 algn="ctr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УЧИТЬ ЗАПИСИ КОНСПЕКТ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 algn="ctr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ЗАДАНИЕ ПО КАРТОЧКАМ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5 – 4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4 – 3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НА ОЦЕНКУ 3 - 2 ЗАДАЧ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w Cen MT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1700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СЕГОДНЯ НА ЗАНЯТИИ УЗНАЛ 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НЕ ПОНРАВИЛИСЬ НА УРОКЕ МОМЕН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ЧУВСТВУЮ С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Я УЗНАЛ НА ЗАНЯТИИ НОВОЕ 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НЕ БЫЛО СЕГОДНЯ НА ЗАНЯТИ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УРОК БЫ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854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12c19"/>
                </a:solidFill>
                <a:latin typeface="Tw Cen MT"/>
              </a:rPr>
              <a:t>ВОПРОС 1.</a:t>
            </a:r>
            <a:br>
              <a:rPr sz="3600"/>
            </a:br>
            <a:r>
              <a:rPr b="0" lang="ru-RU" sz="3600" spc="-1" strike="noStrike">
                <a:solidFill>
                  <a:srgbClr val="e12c19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КАК НАЗЫВАЕТСЯ ЕДИНИЦА РАБОТЫ В С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228600"/>
            <a:ext cx="856116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e12c19"/>
                </a:solidFill>
                <a:latin typeface="Tw Cen MT"/>
              </a:rPr>
              <a:t>ВОПРОС 2.</a:t>
            </a:r>
            <a:br>
              <a:rPr sz="3200"/>
            </a:br>
            <a:r>
              <a:rPr b="0" lang="ru-RU" sz="2500" spc="-1" strike="noStrike">
                <a:solidFill>
                  <a:srgbClr val="000099"/>
                </a:solidFill>
                <a:latin typeface="Tw Cen MT"/>
              </a:rPr>
              <a:t>КАКОЕ ВЫРАЖЕНИЕ ОПРЕДЕЛЯЕТ ПОТЕНЦИАЛЬНУЮ ЭНЕРГИЮ ПРУЖИНЫ?</a:t>
            </a: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411280" y="2349360"/>
            <a:ext cx="2448000" cy="122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84720" y="3787920"/>
            <a:ext cx="251928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411280" y="5013360"/>
            <a:ext cx="251964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kx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24000" y="333360"/>
            <a:ext cx="851040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12c19"/>
                </a:solidFill>
                <a:latin typeface="Tw Cen MT"/>
              </a:rPr>
              <a:t>ВОПРОС </a:t>
            </a:r>
            <a:r>
              <a:rPr b="0" lang="en-US" sz="4000" spc="-1" strike="noStrike">
                <a:solidFill>
                  <a:srgbClr val="e12c19"/>
                </a:solidFill>
                <a:latin typeface="Tw Cen MT"/>
              </a:rPr>
              <a:t>3</a:t>
            </a:r>
            <a:r>
              <a:rPr b="0" lang="ru-RU" sz="4000" spc="-1" strike="noStrike">
                <a:solidFill>
                  <a:srgbClr val="e12c19"/>
                </a:solidFill>
                <a:latin typeface="Tw Cen MT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НА КАКОЙ ВЫСОТЕ ОТ ПОВЕРХНОСТИ ЗЕМЛИ ТЕЛО МАССОЙ 3 КГ ИМЕЕТ ПОТЕНЦИАЛЬНУЮ ЭНЕРГИЮ 60 ДЖ (</a:t>
            </a:r>
            <a:r>
              <a:rPr b="0" lang="en-US" sz="2800" spc="-1" strike="noStrike">
                <a:solidFill>
                  <a:srgbClr val="000099"/>
                </a:solidFill>
                <a:latin typeface="Tw Cen MT"/>
              </a:rPr>
              <a:t>G=10 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М/С</a:t>
            </a:r>
            <a:r>
              <a:rPr b="0" lang="en-US" sz="2800" spc="-1" strike="noStrike">
                <a:solidFill>
                  <a:srgbClr val="000099"/>
                </a:solidFill>
                <a:latin typeface="Tw Cen MT"/>
                <a:ea typeface="Arial"/>
              </a:rPr>
              <a:t>²</a:t>
            </a:r>
            <a:r>
              <a:rPr b="0" lang="ru-RU" sz="2800" spc="-1" strike="noStrike">
                <a:solidFill>
                  <a:srgbClr val="000099"/>
                </a:solidFill>
                <a:latin typeface="Tw Cen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55640" y="549360"/>
            <a:ext cx="7620120" cy="183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4</a:t>
            </a:r>
            <a:r>
              <a:rPr b="0" lang="ru-RU" sz="3200" spc="-1" strike="noStrike">
                <a:solidFill>
                  <a:srgbClr val="e12c1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ак изменится кинетическая энергия тела  при увеличении его скорости в 3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85800" y="533520"/>
            <a:ext cx="7989840" cy="183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абота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A=F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Scos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равна нулю, если угол, образованный векторами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F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и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1916280"/>
            <a:ext cx="287280" cy="1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64000" y="1916280"/>
            <a:ext cx="287640" cy="1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11280" y="3068640"/>
            <a:ext cx="3313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a)  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4360" y="429264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4360" y="544500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 = 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85800" y="533520"/>
            <a:ext cx="7620120" cy="226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Вопрос </a:t>
            </a:r>
            <a:r>
              <a:rPr b="0" lang="en-US" sz="4400" spc="-1" strike="noStrike">
                <a:solidFill>
                  <a:srgbClr val="e12c19"/>
                </a:solidFill>
                <a:latin typeface="Times New Roman"/>
              </a:rPr>
              <a:t>6</a:t>
            </a:r>
            <a:r>
              <a:rPr b="0" lang="ru-RU" sz="4400" spc="-1" strike="noStrike">
                <a:solidFill>
                  <a:srgbClr val="e12c1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Автомобиль движется с постоянной скоростью 72 км/ч. Сила тяги автомобиля 1000 Н. Мощность двигателя равн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9280" y="6708600"/>
            <a:ext cx="854100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5280" y="260280"/>
            <a:ext cx="8497800" cy="16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12c19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e12c19"/>
                </a:solidFill>
                <a:latin typeface="Arial"/>
              </a:rPr>
              <a:t>Вопрос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бота всех сил, действующих на тело, при изм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нии скорости от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v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195640" y="3068640"/>
            <a:ext cx="2447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_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m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2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56000" y="4221000"/>
            <a:ext cx="2233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m (v - v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56000" y="5445000"/>
            <a:ext cx="208908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 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 - 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евгения</cp:lastModifiedBy>
  <dcterms:modified xsi:type="dcterms:W3CDTF">2019-11-19T17:49:49Z</dcterms:modified>
  <cp:revision>29</cp:revision>
  <dc:subject/>
  <dc:title>Заголовок</dc:title>
</cp:coreProperties>
</file>