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1534-7D92-4031-9415-81C4928AB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35CB-BB17-4AE7-956B-5F93323A923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5FFFD-76B1-479F-BE68-BEA0E1D4B47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E9A6A-C4DD-4CE8-AE91-E75232A75F2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7D59B-51C4-425F-964A-F4FC0F533F7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E0123-A0A3-4465-B4B5-E23ABF2BDF1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B6732-5EA5-46DB-AEDF-BB63D23C02C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5DE42-13D9-4B5D-A882-9DC5BAA4E77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24672-E8AC-4CF3-9B84-0B80FD5A609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84644-BC6E-4BB6-BE9C-B2B5DF453F3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7F702-CAD1-4259-8DE3-834B5E9823E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E1FA9B-9AC1-4A5C-8CFE-0DB3DA3BD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3F48-FEA2-42AE-B518-7C3A520DC48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EFA264-BE34-4850-84C9-E9F0F30B10C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E19F24-A515-4F1A-9016-3442F4F9A8F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A30230-F263-4B83-B238-D1556559F4B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71CCBA-CB67-42C9-96DD-8BFEF9BDD99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5799C4-0515-4BAA-A76A-F669AE83105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B1AFEC-9DB1-4DD2-8D24-D5833DB6D3A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70EDB0-E5AD-4AC3-A4E1-F22F1D478C3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22DCBD-D0DD-46B3-8B8F-63DCD491D11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D09BBF-5FCB-4675-B886-AF66C1CF863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D920A6-469A-44DD-B944-65A0EB740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563D-867E-4C5B-88E8-19EC4F8C3AF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511337-EB4E-4051-A1D9-A95FB9DE4A7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D227B2-E858-41EF-B20C-FC1EC125380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4F7C91-0C5E-48AD-B368-C1B4E31C6BE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B008C1-2B49-479D-898E-C47ECBAA881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EF97D8-4AA2-4C80-84CA-462CE14248E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3BDF5A-7B7C-422C-A5F2-6BFE8D58982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8C5470-41CC-49C9-BB54-735615394D6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B75DAF-3454-4D3C-85BD-803F61FCEED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EEBD17-33CB-4F4D-8959-EFAEA15D5FE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693D17-CBD0-4D7E-932A-255CC7134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14D51-8E14-401E-93F0-62F81D75811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F33504-7DAE-4FF6-BDAD-4C7A05C798C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006454-CDC8-49F1-942F-A828C29F596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71054F-5040-4D59-85A6-7039115EBD3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84EF1-15FB-4817-964F-F7EB44E1B99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112D7-4BEF-4291-877C-9EB7E956688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3EFBE-F335-426A-B78A-3135E190354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4A91D-944E-4598-BC38-2C913528E26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3C93F-0638-4D17-A10E-B37A7F3DDAA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5808B-F258-4145-9529-2E237197597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C2534-E28F-4E49-9009-CCCC9F766D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59256-5EBA-4277-B11A-6BD58568E8B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0AE75-296A-45FD-9C2A-EFE347F160E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B4FB1-5F87-4F44-B660-B19515919F2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A461A-A1BC-4FEE-9B99-D1963591325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DBCBB-647F-4BC0-842D-BCB09D97EAB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197CC-1ACF-41D4-A543-AC49BD67982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1F836D-AE54-42AF-BDCE-22535A54E07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17B020-AAA2-40AF-BD4A-7FEEE843E07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D1510E-29DD-4C5F-8D0E-9B9F7F93AD0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B3736A-C53E-4A82-9ABA-4C935A438F0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EAB556-4BFB-48FA-9B71-E1E3FA8714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7C052-A42E-4865-8A72-07EF294C499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BBD0ED-2B86-4733-9DA0-749AD23B77E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4D8717-11F1-4288-9049-10F8EDFD68E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A46E32-79F7-432A-BBE0-4868F8D64C2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A82A4E-F606-4C04-A004-44226086D2F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C1AC59-A0F2-43E3-B247-BCBF66A302B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6D5BD0-C423-4725-849C-11FC295D079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82BD82-2F47-4657-9A0D-DB0C04963B5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63312-72A2-4370-B2FB-FBA5EC85FA3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F0AB0-6623-4833-8411-9CBC31F3D17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D7A759-FE0C-4175-A93B-7102CB63D0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4A6CC-1DCA-49FD-91D5-5AFB417F19D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A74CB-DAF1-4452-BF58-E223B6926A3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54878-8050-4E24-AEAE-F0AC39469EB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5346B2-9AE6-4C2E-AC63-F2C78074DAB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28E9F-B22C-4A04-A8F7-A1C69ACE29B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2F64E-319E-4165-B8D9-20314B5DCC0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48B65C-D99D-43F6-8AE2-CCDA942E350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6F04B8-91C4-42D9-A250-695C5A7D6C1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35C16B-5C7E-49BE-9A72-84169E4CF38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E5960-D147-4719-89F8-00CCA3F6916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D0FD8-6C6D-465C-A07C-A96A2E20EA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46E53-DA6E-4BA7-B28F-0C672B54C87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A53F4-3A7E-416A-ADC5-01C137145B9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6366D-625B-4B82-A1F7-D9C7085A016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0FAE3-56CD-4E57-8BFF-ADD339E8557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744BF-EB71-4B9D-805E-BE84217FEC1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60ED0-95E4-4E13-8DD2-D0D37459713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E0294-F10D-4725-B89B-57667AE88D7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1D056-50BF-428F-AEE9-6056F153B00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C7E8E-8B1E-44AF-9C91-DA7B9E058E7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5C38F-7BCD-400A-8E6C-443BEADB7EE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7B7E0-D7A7-42CA-A5E4-50DAB03290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30D59-C972-447F-9386-C7CD7D940E0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B8050-CB69-4C32-8F8A-811D84D2D4F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B7F70A-D882-4B82-A1C8-78A0A4A1A22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47771C-CD28-4ECA-99A6-6A0A68B74F4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37FF89-5FEC-4EA6-A112-7731EB3BD3C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B1DA7A-7717-4E97-9DE3-AF530959531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72D818-941F-4E09-A02F-ACE6E596E1A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C9C834-37D5-4D3F-8274-ABDB6F49FD2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C76AF0-A719-44B7-B3AC-1D293FD7B69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6F5D49-4ACD-41F7-AB62-98C9259A6EA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31EE5F-5F42-4F0B-9749-CF9BCA56B8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D7D6-FF5C-4246-A09F-DE4256F3418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12A824-9B99-43E3-A69A-FFEF7D8683F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EC6175-3108-464A-A701-EACA7857751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3119F9-762F-4FE0-BD1A-6853A313C71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62A74B-4CA8-402E-9354-2E0BAB949B9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E8605-8B71-4ED0-9F74-2A99D1186E0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7B255B-3541-4E93-A2A8-C7EB944B324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F1652-B596-45F3-936D-14AA59E86EF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60074E-4646-4658-BD9E-95A92A05225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B49FFF-84BE-4C66-978C-429CE22C1F3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A2917-790C-401B-9606-BA6D095645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4249F-B84B-4593-8EEA-5A5188C48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8BACB-8BAA-462B-B135-E1074725093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20DFE5-7483-45BA-8C63-B90A73BF2E0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2390B0-95CC-4455-B651-98B5F2A2543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3B289-1AB3-4FA0-93F0-F5B36369DE5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B30A6D-0E75-46A7-927E-0161A029665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452653-A14F-4A80-A096-EAD50472901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6496C-491D-4711-9488-84ED883305B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E4998-74EA-41AE-9C79-6ECF3DB04B1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EFD4F-F879-4306-817C-E4E5BD98565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245E5-EE12-4E8C-90BF-55C620D5821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03D22-EF6E-452A-B829-7E00670210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9DE88-D887-4D11-9346-92935B91C5C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37875-9654-4B07-B5DE-EAA850ABBCB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363A0-5727-46CA-9DE3-0759BBBC0B8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E632C-648E-4EF4-AF12-A2D67F12D9C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AF462-8B57-4AFF-8881-64F21356547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99FA5-E9AB-4396-BD7A-9AF6A6DD385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38269-AD99-4711-A8F9-B043676DD70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45EA0-16D3-478E-B3D0-4EBE8FC73C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7DD5-20D5-4FCB-B308-BC2891AD2A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895A-F01B-4D5D-810F-E9113C5B19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B29C8-4B06-4DEF-B805-30EBA95453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6398-0EA0-41C8-A526-2BD72A7D9E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904-3967-473D-88FD-61425B24DD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972-5614-4FFA-A3F7-8A62B301A6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970B-6EB3-4A72-AC0D-F380889167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492-1CCA-4563-BB90-B4B11727A4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48EE-7756-45A4-A38A-281DA37814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5745-46A3-464E-B086-85D3D33F65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1BA-4B09-4F2F-9150-56E7D7F9AD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0013-2D9B-40F8-8CC6-835F150BD2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AE34-4D70-4ED3-AC00-85D5629F30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33B2-6079-4157-A27C-7039AFA93B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0652-A46E-46E5-A083-6A5BFC317A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EE02-5A7F-43E2-9191-DDC11FC474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70995-13F1-4050-BE49-1A2650DE7A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8C2BF-95C5-4B88-997C-1D9AD9823A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D1FC6-7F22-4B5A-8512-7DADEA43B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6B50-2B00-423C-8D3A-169FFE6271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BDCF7-FD55-46CA-9F92-3F68C8980D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675A4-AA5C-4D9C-A5A6-898FD41B9D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E1C7A-DC50-443A-A4A4-41A085FCAD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5D3CC-7494-4FC6-B96D-7EC1EEC130A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093BC-5A74-4451-8EE5-6888685784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8ED0C-C2B3-4C0C-9FEA-EC295209A8D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010B4-8551-411E-A69E-3E81E706FB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73A6A-4C9B-4524-8DF3-100B4ACCBF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FE345-DBD3-4209-8802-8C2025B5AE2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FE405-205E-4A53-BF1B-E1F597B51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8066-CD75-439C-B938-96E7EAA68F3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A37E8-CF14-4E2E-8F37-E16819994C4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3827A-FC40-49B2-B721-6D293CBE2C6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9C669-0239-406B-9FB4-5EFC9454284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7CA06-D8E4-4C8E-982A-C5996859B79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869E9-266B-404F-9EAD-5E03493D69A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53F87-9B7F-4B70-949C-A2A5F5AC1CF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3A8AA-AB60-4581-A2EA-DA1628E922D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7AC14-3F79-4B4C-93CD-5DD514D7D9B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AC4DE-9851-4CCF-89D4-FA8E54AA331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EC998-8C0E-42F2-9E0C-7754BE2AD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E0C2-57E0-49B0-9C7D-1BD10E2801B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126CA-6CE2-48FF-B8DE-C2A04B7DB7F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B22E-C813-484A-9313-FE3BE365F13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082F-D7A4-4DA8-943F-7ECB2F30156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A98E-FDFE-407D-9A8F-5BA73979C72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A492-34D8-44C1-A33A-116519D5FDB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9650-5B5A-403A-8C51-5D3CA8E8B2E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8AFC-F16A-4A56-9537-856312D645C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3A7F-52A3-4331-AEF1-167CCF9619F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9E13-6F92-407E-A55A-46863DE02B8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BF38-337C-474F-8A58-A112669F5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1F76-D691-4C06-94D7-7F152B6E2DA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AEB3-1CDC-49FB-B74E-C896C161F8A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7B11-1840-4C94-9815-E99B8BF25B0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CF34-3DD9-4E00-898F-6B16093A8B8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5F6D93-2913-4899-BA32-5E58471789B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E79812-D4C2-4010-8E48-9E38DB5886E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E748CA-3F3E-47BF-A8B6-C21F3E7C16C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643E26-1145-4F71-A43B-42B013AA6C0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4A38B8-13FC-4525-8820-3E5BC34CA2F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A07792-DBB5-4300-98C1-E7377098E21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66BBF7-A222-4EC5-A973-F4D78082F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A326-1E0D-49DE-B868-6A4AF900F04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9CCED4-1612-4F73-A090-172695122EB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BF45EC-F838-45C5-99A1-13FC6DEFFFE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F3A695-BC14-46BB-AB80-09E8BCD9B12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4FAB8C-D74B-43A5-B6E6-25CEEC757D3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D279DC-80EC-409F-9253-87BF1C381F6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25F96-176B-452C-A86C-A3BDF416CEE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1C49A-7E01-4F86-830F-7454BB6AB6B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A1706-F068-4D78-A6AE-FAD39711DD3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543E9-AA5A-4B87-837F-1E49131E164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5650A-BA4C-4430-80B7-AC0252964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5DCF-C6D6-42D8-8E9E-839B0347791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4AFA0-A3B2-42AC-84E7-EB913D630B2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E6633-F3AA-437F-8972-732926B23E5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C4B60-6793-4E0F-82AE-C6D8798F8D7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C9CCB-971F-4EF8-A8FC-3B433D34F49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F8BCC-BFA0-472F-81FB-A6D1C01597D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C8EDF-4F90-4454-A620-76CB03CD03B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773FF-4B47-4248-9948-CBEAFD5A652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E3B09-E318-4685-8A58-16CF5BB04FE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B58C5-DD8E-403E-AC78-BA31F686F41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484CA-6EDA-4D15-AACA-C7E20E9DC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C256B6-F4C6-402E-993F-15F57F598F88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0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1C392D-8BAF-436C-9A4B-ADCB4006A15A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11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0C7AAA-BB7D-4181-99AC-A37C2789846A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2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BB6DD4-F17C-4794-9843-81B0E28F58EE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Num" idx="13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DBBFE4-FF39-4BC5-9DA9-81A99BB6D713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Num" idx="14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45E74E-40E8-4F78-9BEF-A227F0B5ED4B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Num" idx="15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98F2CA-7B33-471D-86D0-D8C280EBD615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sldNum" idx="16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8986B4-8125-43F8-B9AF-655E0DF7973D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sldNum" idx="17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0FD14B-9FF9-4F8D-9775-8183C7CD47DA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sldNum" idx="18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273532-81E2-484C-97BA-0D1337AC544A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FB0B69-5FA3-4236-8687-F74846B2B31D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2E64B8-BD65-457A-94FD-8120967684AA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4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870980-F941-4EC7-8E6F-6CAFD3DADCF8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5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B631A9-2F0C-4970-B657-ACC72E303E97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6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5A3E89-DA31-4A07-857E-1327846C603C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7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E7BB4A-DB8D-40F9-9299-23E119991E9F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8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ED598A-01E1-4C95-AC9F-0ED8073ED2AE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9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30DE40-2C2E-4B78-83C5-69A60B80A252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685800" y="189000"/>
            <a:ext cx="7772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w Cen MT"/>
              </a:rPr>
              <a:t>ДОБРЫЙ ДЕНЬ!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w Cen MT"/>
              </a:rPr>
              <a:t>Я РАДА ПРИВЕТСТВОВАТЬ ВАС НА УРОКЕ ФИЗИК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800280" y="2214720"/>
            <a:ext cx="754380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0920" y="6858000"/>
            <a:ext cx="8540640" cy="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79280" y="404640"/>
            <a:ext cx="8640720" cy="1872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12c19"/>
                </a:solidFill>
                <a:latin typeface="Arial"/>
              </a:rPr>
              <a:t>                  </a:t>
            </a:r>
            <a:r>
              <a:rPr b="1" lang="ru-RU" sz="4400" spc="-1" strike="noStrike">
                <a:solidFill>
                  <a:srgbClr val="e12c19"/>
                </a:solidFill>
                <a:latin typeface="Arial"/>
              </a:rPr>
              <a:t>Вопрос 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абота силы тяжести при  движении тела из 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99"/>
              </a:buClr>
              <a:buFont typeface="Arial"/>
              <a:buAutoNum type="arabicPlain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потенциальной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энергией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qh</a:t>
            </a: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1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точку  2  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99"/>
              </a:buClr>
              <a:buFont typeface="Arial"/>
              <a:buAutoNum type="arabicPlain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тенциальной энергией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qh</a:t>
            </a: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2920" y="2924280"/>
            <a:ext cx="3457800" cy="649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а)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 A</a:t>
            </a:r>
            <a:r>
              <a:rPr b="1" lang="ru-RU" sz="1200" spc="-1" strike="noStrike">
                <a:solidFill>
                  <a:srgbClr val="e12c19"/>
                </a:solidFill>
                <a:latin typeface="Arial"/>
              </a:rPr>
              <a:t>тяж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= mqh</a:t>
            </a:r>
            <a:r>
              <a:rPr b="1" lang="en-US" sz="1000" spc="-1" strike="noStrike">
                <a:solidFill>
                  <a:srgbClr val="e12c1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e12c19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mqh</a:t>
            </a:r>
            <a:r>
              <a:rPr b="1" lang="en-US" sz="1000" spc="-1" strike="noStrike">
                <a:solidFill>
                  <a:srgbClr val="e12c1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419640" y="4149720"/>
            <a:ext cx="367344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а)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 A</a:t>
            </a:r>
            <a:r>
              <a:rPr b="1" lang="ru-RU" sz="1200" spc="-1" strike="noStrike">
                <a:solidFill>
                  <a:srgbClr val="e12c19"/>
                </a:solidFill>
                <a:latin typeface="Arial"/>
              </a:rPr>
              <a:t>тяж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= mqh</a:t>
            </a:r>
            <a:r>
              <a:rPr b="1" lang="ru-RU" sz="1200" spc="-1" strike="noStrike">
                <a:solidFill>
                  <a:srgbClr val="e12c1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e12c1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mqh</a:t>
            </a:r>
            <a:r>
              <a:rPr b="1" lang="ru-RU" sz="1200" spc="-1" strike="noStrike">
                <a:solidFill>
                  <a:srgbClr val="e12c19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332000" y="5229360"/>
            <a:ext cx="381780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в)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 A</a:t>
            </a:r>
            <a:r>
              <a:rPr b="1" lang="ru-RU" sz="1200" spc="-1" strike="noStrike">
                <a:solidFill>
                  <a:srgbClr val="e12c19"/>
                </a:solidFill>
                <a:latin typeface="Arial"/>
              </a:rPr>
              <a:t>тяж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= mqh</a:t>
            </a:r>
            <a:r>
              <a:rPr b="1" lang="en-US" sz="1400" spc="-1" strike="noStrike">
                <a:solidFill>
                  <a:srgbClr val="e12c1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312920" y="1300320"/>
            <a:ext cx="651816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w Cen MT"/>
              </a:rPr>
              <a:t>ОТВЕТЫ К ТЕС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312920" y="3886200"/>
            <a:ext cx="651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4316400" cy="328464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2"/>
          <a:stretch/>
        </p:blipFill>
        <p:spPr>
          <a:xfrm>
            <a:off x="4643280" y="6480"/>
            <a:ext cx="4357800" cy="326700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3"/>
          <a:stretch/>
        </p:blipFill>
        <p:spPr>
          <a:xfrm>
            <a:off x="120600" y="3429000"/>
            <a:ext cx="4375080" cy="327960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4"/>
          <a:stretch/>
        </p:blipFill>
        <p:spPr>
          <a:xfrm>
            <a:off x="4611600" y="3573360"/>
            <a:ext cx="4389480" cy="32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4441680" cy="333216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4572000" y="25560"/>
            <a:ext cx="4475160" cy="335592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3"/>
          <a:stretch/>
        </p:blipFill>
        <p:spPr>
          <a:xfrm>
            <a:off x="0" y="3462480"/>
            <a:ext cx="4441680" cy="333216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4"/>
          <a:stretch/>
        </p:blipFill>
        <p:spPr>
          <a:xfrm>
            <a:off x="4572000" y="3462480"/>
            <a:ext cx="447516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w Cen MT"/>
              </a:rPr>
              <a:t>КРИТЕРИИ ОЦЕНИ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«5» – 8 – 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«4» – 6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«3» - 4 –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«2» – 2 -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68360" y="189000"/>
            <a:ext cx="4824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e93d1b"/>
                </a:solidFill>
                <a:latin typeface="Tw Cen MT"/>
              </a:rPr>
              <a:t>ПОТЕНЦИАЛЬНАЯ ЭНЕРГИЯ</a:t>
            </a:r>
            <a:r>
              <a:rPr b="1" i="1" lang="ru-RU" sz="3200" spc="-1" strike="noStrike">
                <a:solidFill>
                  <a:srgbClr val="10da32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c08ce"/>
                </a:solidFill>
                <a:latin typeface="Tw Cen MT"/>
              </a:rPr>
              <a:t>ХАРАКТЕРИЗУЕТ ВЗАИМОДЕЙСТВУЮЩИЕ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211640" y="3284640"/>
            <a:ext cx="4608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e93d1b"/>
                </a:solidFill>
                <a:latin typeface="Tw Cen MT"/>
              </a:rPr>
              <a:t>КИНЕТИЧЕСКАЯ ЭНЕРГ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c08ce"/>
                </a:solidFill>
                <a:latin typeface="Tw Cen MT"/>
              </a:rPr>
              <a:t>ХАРАКТЕРИЗУЕТ ДВИЖУЩИЕСЯ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685800" y="619200"/>
            <a:ext cx="77724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w Cen MT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85800" y="1557360"/>
            <a:ext cx="39434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ПАДЕНИЕ КАМНЯ МАССОЙ 5 КГ С ВЫСОТЫ 1,25 М ДЛИЛОСЬ 0,5 С. НЕ УЧИТЫВАЯ ДЕЙСТВИЕ СОПРОТИВЛЕНИЯ, ОПРЕДЕЛИТЕ КИНЕТИЧЕСКУЮ И ПОТЕНЦИАЛЬНУЮ ЭНЕРГИЮ, А ТАКЖЕ ИХ СУММУ В ТРЕХ ТОЧКАХ: А) В НАЧАЛЕ ПАДЕНИЯ; Б) В КОНЦЕ ПАДЕНИЯ; В) НА ВЫСОТЕ 1 М, СКОРОСТЬ КАМНЯ НА ЭТОЙ ВЫСОТЕ РАВНА 2,2 М/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828960" cy="255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ПОЛНАЯ МЕХАНИЧЕСКАЯ ЭНЕР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906a6"/>
                </a:solidFill>
                <a:latin typeface="Tw Cen MT"/>
              </a:rPr>
              <a:t>СУММА КИНЕТИЧЕСКОЙ И ПОТЕНЦИАЛЬНОЙ ЭНЕРГИИ Т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e93d1b"/>
                </a:solidFill>
                <a:latin typeface="Tw Cen MT"/>
              </a:rPr>
              <a:t>E = EK + E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e93d1b"/>
                </a:solidFill>
                <a:latin typeface="Tw Cen MT"/>
              </a:rPr>
              <a:t>EK + EP=CON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85800" y="0"/>
            <a:ext cx="77724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ИЗМЕНЕНИЕ ЭНЕРГИ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ПРИ ПАДЕНИИ МЯ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85800" y="1773360"/>
            <a:ext cx="77724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e93d1b"/>
                </a:solidFill>
                <a:latin typeface="Times New Roman"/>
                <a:ea typeface="Times New Roman"/>
              </a:rPr>
              <a:t>A= - (E</a:t>
            </a:r>
            <a:r>
              <a:rPr b="1" lang="ru-RU" sz="4000" spc="-1" strike="noStrike">
                <a:solidFill>
                  <a:srgbClr val="e93d1b"/>
                </a:solidFill>
                <a:latin typeface="Times New Roman"/>
                <a:ea typeface="Times New Roman"/>
              </a:rPr>
              <a:t>Р</a:t>
            </a:r>
            <a:r>
              <a:rPr b="1" lang="en-US" sz="4000" spc="-1" strike="noStrike">
                <a:solidFill>
                  <a:srgbClr val="e93d1b"/>
                </a:solidFill>
                <a:latin typeface="Times New Roman"/>
                <a:ea typeface="Times New Roman"/>
              </a:rPr>
              <a:t>2 – EP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e93d1b"/>
                </a:solidFill>
                <a:latin typeface="Tw Cen MT"/>
              </a:rPr>
              <a:t>A= EK2 – EK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e93d1b"/>
                </a:solidFill>
                <a:latin typeface="Tw Cen MT"/>
              </a:rPr>
              <a:t>EK2 – EK1 = - (EP2 – EP1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e93d1b"/>
                </a:solidFill>
                <a:latin typeface="Tw Cen MT"/>
              </a:rPr>
              <a:t>EK2 – EK1 = - EP2 + EP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e93d1b"/>
                </a:solidFill>
                <a:latin typeface="Tw Cen MT"/>
              </a:rPr>
              <a:t>EK1 + EP1 = EK2 + EP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1312920" y="1300320"/>
            <a:ext cx="651816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w Cen MT"/>
              </a:rPr>
              <a:t>ТЕМА УРОКА: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Tw Cen MT"/>
              </a:rPr>
              <a:t>ЗАКОН СОХРАНЕНИЯ МЕХАНИЧЕСКОЙ ЭНЕРГ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71600" y="4221000"/>
            <a:ext cx="64008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685800" y="1700280"/>
            <a:ext cx="777240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 Black"/>
              </a:rPr>
              <a:t>ПРОВЕРОЧНЫЙ ТЕС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312920" y="3886200"/>
            <a:ext cx="651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w Cen MT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УМЕТЬ</a:t>
            </a: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 ФОРМУЛИРОВАТЬ ЗАКОН СОХРАНЕНИЯ МЕХАНИЧЕСКОЙ ЭНЕР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ЗНАТЬ</a:t>
            </a: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 МАТЕМАТИЧЕСКУЮ ЗАПИСЬ ЗАКО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ПРИМЕНЯТЬ </a:t>
            </a: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ФОРМУЛУ ПРИ РЕШЕНИИ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e93d1b"/>
                </a:solidFill>
                <a:latin typeface="Script MT Bold"/>
              </a:rPr>
              <a:t>ЗАКОН СОХРАНЕНИЯ ЭНЕРГИИ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85800" y="1197000"/>
            <a:ext cx="77724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c08ce"/>
                </a:solidFill>
                <a:latin typeface="Tw Cen MT"/>
              </a:rPr>
              <a:t>СУММА КИНЕТИЧЕСКОЙ И ПОТЕНЦИАЛЬНОЙ ЭНЕРГИЙ ТЕЛ, СОСТАВЛЯЮЩИХ ЗАМКНУТУЮ СИСТЕМУ И ВЗАИМОДЕЙСТВУЮЩИХ МЕЖДУ СОБОЙ СИЛАМИ ТЯГОТЕНИЯ И СИЛАМИ УПРУГОСТИ, ОСТАЕТСЯ ПОСТОЯ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e93d1b"/>
                </a:solidFill>
                <a:latin typeface="Tw Cen MT"/>
              </a:rPr>
              <a:t>EK1 + EP1 = EK2 + EP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685800" y="404640"/>
            <a:ext cx="77724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w Cen MT"/>
              </a:rPr>
              <a:t>ВОЛЬФГАНГ ЭРНСТ ПАУ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685800" y="1916280"/>
            <a:ext cx="3379680" cy="4506840"/>
          </a:xfrm>
          <a:prstGeom prst="rect">
            <a:avLst/>
          </a:prstGeom>
          <a:ln w="0">
            <a:noFill/>
          </a:ln>
        </p:spPr>
      </p:pic>
      <p:sp>
        <p:nvSpPr>
          <p:cNvPr id="836" name=""/>
          <p:cNvSpPr/>
          <p:nvPr/>
        </p:nvSpPr>
        <p:spPr>
          <a:xfrm>
            <a:off x="4629240" y="1916280"/>
            <a:ext cx="382896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ШВЕЙЦАРСКИЙ ФИЗИК-ТЕОРЕТИК, РАБОТАВШИЙ В ОБЛАСТИ ФИЗИКИ ЭЛЕМЕНТАРНЫХ ЧАСТИЦ И КВАНТОВОЙ МЕХАНИКИ. ЛАУРЕАТ НОБЕЛЕВСКОЙ ПРЕМИИ ПО ФИЗИКЕ ЗА 1945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w Cen MT"/>
              </a:rPr>
              <a:t>ЗАДАЧА №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МАЛЬЧИК НАЧИНАЕТ СКАТЫВАТЬСЯ НА САНКАХ С ГОРЫ ВЫСОТОЙ 20 М. С КАКОЙ СКОРОСТЬЮ ОН МИНУЕТ ВЫСОТУ 10 М? ТРЕНИЕМ ПРЕНЕБРЕ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Задача №2.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887400" y="2235240"/>
            <a:ext cx="757080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ля, летевшая горизонтально со скоростью 40 м/с, попадает в брусо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шенный на нити длиной 4 м, и застревает в нем. Определить угол, на который отклонится брусок, если масса пули 20 г, а бруска 5 кг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w Cen MT"/>
              </a:rPr>
              <a:t>ЗАДАЧА ДЛЯ САМОСТОЯТЕЛЬНОГО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79280" y="2200320"/>
            <a:ext cx="941868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клону горы длиной 500 м скатыва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и массой 60 кг с высоты 10 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среднюю силу сопроти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катывании сано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 основания горы они имели скорость 8 м/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ая скорость санок равна нул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w Cen MT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741240" indent="-741240" algn="ctr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УЧИТЬ ЗАПИСИ КОНСПЕКТ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 algn="ctr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ЗАДАНИЕ ПО КАРТОЧКАМ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НА ОЦЕНКУ 5 – 4 ЗАДАЧ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НА ОЦЕНКУ 4 – 3 ЗАДАЧ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НА ОЦЕНКУ 3 - 2 ЗАДАЧ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w Cen MT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85800" y="1700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Я СЕГОДНЯ НА ЗАНЯТИИ УЗНАЛ 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МНЕ ПОНРАВИЛИСЬ НА УРОКЕ МОМЕНТ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Я ЧУВСТВУЮ СЕБ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Я УЗНАЛ НА ЗАНЯТИИ НОВОЕ 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МНЕ БЫЛО СЕГОДНЯ НА ЗАНЯТИ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УРОК БЫ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8540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12c19"/>
                </a:solidFill>
                <a:latin typeface="Tw Cen MT"/>
              </a:rPr>
              <a:t>ВОПРОС 1.</a:t>
            </a:r>
            <a:br>
              <a:rPr sz="3600"/>
            </a:br>
            <a:r>
              <a:rPr b="0" lang="ru-RU" sz="3600" spc="-1" strike="noStrike">
                <a:solidFill>
                  <a:srgbClr val="e12c19"/>
                </a:solidFill>
                <a:latin typeface="Tw Cen MT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w Cen MT"/>
              </a:rPr>
              <a:t>КАК НАЗЫВАЕТСЯ ЕДИНИЦА РАБОТЫ В С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228600"/>
            <a:ext cx="8561160" cy="190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500"/>
            </a:br>
            <a:br>
              <a:rPr sz="2500"/>
            </a:br>
            <a:r>
              <a:rPr b="0" lang="ru-RU" sz="3200" spc="-1" strike="noStrike">
                <a:solidFill>
                  <a:srgbClr val="e12c19"/>
                </a:solidFill>
                <a:latin typeface="Tw Cen MT"/>
              </a:rPr>
              <a:t>ВОПРОС 2.</a:t>
            </a:r>
            <a:br>
              <a:rPr sz="3200"/>
            </a:br>
            <a:r>
              <a:rPr b="0" lang="ru-RU" sz="2500" spc="-1" strike="noStrike">
                <a:solidFill>
                  <a:srgbClr val="000099"/>
                </a:solidFill>
                <a:latin typeface="Tw Cen MT"/>
              </a:rPr>
              <a:t>КАКОЕ ВЫРАЖЕНИЕ ОПРЕДЕЛЯЕТ ПОТЕНЦИАЛЬНУЮ ЭНЕРГИЮ ПРУЖИНЫ?</a:t>
            </a:r>
            <a:r>
              <a:rPr b="0" lang="en-US" sz="3600" spc="-1" strike="noStrike">
                <a:solidFill>
                  <a:srgbClr val="000099"/>
                </a:solidFill>
                <a:latin typeface="Tw Cen MT"/>
              </a:rPr>
              <a:t>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411280" y="2349360"/>
            <a:ext cx="2448000" cy="122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а) 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</a:rPr>
              <a:t>mv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284720" y="3787920"/>
            <a:ext cx="2519280" cy="100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б)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mq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411280" y="5013360"/>
            <a:ext cx="251964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в) 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</a:rPr>
              <a:t>kx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324000" y="333360"/>
            <a:ext cx="8510400" cy="201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12c19"/>
                </a:solidFill>
                <a:latin typeface="Tw Cen MT"/>
              </a:rPr>
              <a:t>ВОПРОС </a:t>
            </a:r>
            <a:r>
              <a:rPr b="0" lang="en-US" sz="4000" spc="-1" strike="noStrike">
                <a:solidFill>
                  <a:srgbClr val="e12c19"/>
                </a:solidFill>
                <a:latin typeface="Tw Cen MT"/>
              </a:rPr>
              <a:t>3</a:t>
            </a:r>
            <a:r>
              <a:rPr b="0" lang="ru-RU" sz="4000" spc="-1" strike="noStrike">
                <a:solidFill>
                  <a:srgbClr val="e12c19"/>
                </a:solidFill>
                <a:latin typeface="Tw Cen MT"/>
              </a:rPr>
              <a:t>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w Cen MT"/>
              </a:rPr>
              <a:t>НА КАКОЙ ВЫСОТЕ ОТ ПОВЕРХНОСТИ ЗЕМЛИ ТЕЛО МАССОЙ 3 КГ ИМЕЕТ ПОТЕНЦИАЛЬНУЮ ЭНЕРГИЮ 60 ДЖ (</a:t>
            </a:r>
            <a:r>
              <a:rPr b="0" lang="en-US" sz="2800" spc="-1" strike="noStrike">
                <a:solidFill>
                  <a:srgbClr val="000099"/>
                </a:solidFill>
                <a:latin typeface="Tw Cen MT"/>
              </a:rPr>
              <a:t>G=10 </a:t>
            </a:r>
            <a:r>
              <a:rPr b="0" lang="ru-RU" sz="2800" spc="-1" strike="noStrike">
                <a:solidFill>
                  <a:srgbClr val="000099"/>
                </a:solidFill>
                <a:latin typeface="Tw Cen MT"/>
              </a:rPr>
              <a:t>М/С</a:t>
            </a:r>
            <a:r>
              <a:rPr b="0" lang="en-US" sz="2800" spc="-1" strike="noStrike">
                <a:solidFill>
                  <a:srgbClr val="000099"/>
                </a:solidFill>
                <a:latin typeface="Tw Cen MT"/>
                <a:ea typeface="Arial"/>
              </a:rPr>
              <a:t>²</a:t>
            </a:r>
            <a:r>
              <a:rPr b="0" lang="ru-RU" sz="2800" spc="-1" strike="noStrike">
                <a:solidFill>
                  <a:srgbClr val="000099"/>
                </a:solidFill>
                <a:latin typeface="Tw Cen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755640" y="549360"/>
            <a:ext cx="7620120" cy="183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12c19"/>
                </a:solidFill>
                <a:latin typeface="Times New Roman"/>
              </a:rPr>
              <a:t>Вопрос 4</a:t>
            </a:r>
            <a:r>
              <a:rPr b="0" lang="ru-RU" sz="3200" spc="-1" strike="noStrike">
                <a:solidFill>
                  <a:srgbClr val="e12c1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Как изменится кинетическая энергия тела  при увеличении его скорости в 3 раз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685800" y="533520"/>
            <a:ext cx="7989840" cy="183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12c19"/>
                </a:solidFill>
                <a:latin typeface="Times New Roman"/>
              </a:rPr>
              <a:t>Вопрос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Работа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A=F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·Scos</a:t>
            </a:r>
            <a:r>
              <a:rPr b="0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α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равна нулю, если угол, образованный векторами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F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и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716360" y="1916280"/>
            <a:ext cx="287280" cy="1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364000" y="1916280"/>
            <a:ext cx="287640" cy="1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11280" y="3068640"/>
            <a:ext cx="33130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a)  0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e12c19"/>
                </a:solidFill>
                <a:latin typeface="Arial"/>
              </a:rPr>
              <a:t>≤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e12c19"/>
                </a:solidFill>
                <a:latin typeface="Arial"/>
              </a:rPr>
              <a:t>α</a:t>
            </a:r>
            <a:r>
              <a:rPr b="1" lang="el-GR" sz="2400" spc="-1" strike="noStrike">
                <a:solidFill>
                  <a:srgbClr val="e12c19"/>
                </a:solidFill>
                <a:latin typeface="Arial"/>
                <a:ea typeface="Arial"/>
              </a:rPr>
              <a:t>≤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84360" y="4292640"/>
            <a:ext cx="331128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б) 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90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&lt;</a:t>
            </a:r>
            <a:r>
              <a:rPr b="1" lang="el-GR" sz="2400" spc="-1" strike="noStrike">
                <a:solidFill>
                  <a:srgbClr val="e12c19"/>
                </a:solidFill>
                <a:latin typeface="Arial"/>
              </a:rPr>
              <a:t>α≤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180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84360" y="5445000"/>
            <a:ext cx="331128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в) </a:t>
            </a:r>
            <a:r>
              <a:rPr b="1" lang="el-GR" sz="2400" spc="-1" strike="noStrike">
                <a:solidFill>
                  <a:srgbClr val="e12c19"/>
                </a:solidFill>
                <a:latin typeface="Arial"/>
              </a:rPr>
              <a:t>α</a:t>
            </a: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 = 90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685800" y="533520"/>
            <a:ext cx="7620120" cy="2266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12c19"/>
                </a:solidFill>
                <a:latin typeface="Times New Roman"/>
              </a:rPr>
              <a:t>Вопрос </a:t>
            </a:r>
            <a:r>
              <a:rPr b="0" lang="en-US" sz="4400" spc="-1" strike="noStrike">
                <a:solidFill>
                  <a:srgbClr val="e12c19"/>
                </a:solidFill>
                <a:latin typeface="Times New Roman"/>
              </a:rPr>
              <a:t>6</a:t>
            </a:r>
            <a:r>
              <a:rPr b="0" lang="ru-RU" sz="4400" spc="-1" strike="noStrike">
                <a:solidFill>
                  <a:srgbClr val="e12c19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Автомобиль движется с постоянной скоростью 72 км/ч. Сила тяги автомобиля 1000 Н. Мощность двигателя равн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79280" y="6708600"/>
            <a:ext cx="854100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95280" y="260280"/>
            <a:ext cx="8497800" cy="1656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12c19"/>
                </a:solidFill>
                <a:latin typeface="Arial"/>
              </a:rPr>
              <a:t>                  </a:t>
            </a:r>
            <a:r>
              <a:rPr b="0" lang="ru-RU" sz="4400" spc="-1" strike="noStrike">
                <a:solidFill>
                  <a:srgbClr val="e12c19"/>
                </a:solidFill>
                <a:latin typeface="Arial"/>
              </a:rPr>
              <a:t>Вопрос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абота всех сил, действующих на тело, при изм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ении скорости от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v</a:t>
            </a: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о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195640" y="3068640"/>
            <a:ext cx="244764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а)  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</a:rPr>
              <a:t>mv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 _ 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mv</a:t>
            </a:r>
            <a:r>
              <a:rPr b="1" lang="en-US" sz="10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0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e12c19"/>
                </a:solidFill>
                <a:latin typeface="Arial"/>
                <a:ea typeface="Arial"/>
              </a:rPr>
              <a:t>2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356000" y="4221000"/>
            <a:ext cx="2233800" cy="5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б)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 m (v - v</a:t>
            </a:r>
            <a:r>
              <a:rPr b="1" lang="en-US" sz="1000" spc="-1" strike="noStrike">
                <a:solidFill>
                  <a:srgbClr val="e12c19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556000" y="5445000"/>
            <a:ext cx="2089080" cy="6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в)    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</a:rPr>
              <a:t>v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 - v</a:t>
            </a:r>
            <a:r>
              <a:rPr b="1" lang="en-US" sz="10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0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e12c19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1:12:03Z</dcterms:created>
  <dc:creator>Андрей</dc:creator>
  <dc:description/>
  <dc:language>en-US</dc:language>
  <cp:lastModifiedBy>евгения</cp:lastModifiedBy>
  <dcterms:modified xsi:type="dcterms:W3CDTF">2019-11-19T17:49:49Z</dcterms:modified>
  <cp:revision>29</cp:revision>
  <dc:subject/>
  <dc:title>Заголовок</dc:title>
</cp:coreProperties>
</file>