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441-35F1-43F7-81A1-AF16C4C0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D57-651E-4A56-BB61-CB5CF178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4EC-C4F3-423D-9283-47059135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95A-2431-45D2-94F1-86335810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6FBF-6923-4E8E-99E3-C87ED431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01E4-EF39-4625-A5D9-5AB05FA5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726A-71F6-436F-9FBA-A25E9657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B88-1AA5-4C7C-A16C-6B860147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A4C1-CA65-4EBD-970F-0BE6EC0C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1C16-2B8D-4249-B875-0ADF0273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5863-5DB7-43CD-92B7-43181AA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771-CA2A-4042-8C1F-51FE9153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5CEA-4B6A-4174-B786-D9CB7542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300E-E0B0-4319-8C51-B5A0B7B1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EA6F-9357-4E2E-A1B2-4F892AD9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5DB0-1F50-485E-9899-CBA09730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6E6F-0AB8-4711-859A-B3B60756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02B5-EDD9-4E88-95BF-1CF92C9D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DD43-827E-4B58-BFFC-C1BFEB59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E2BA-01AC-4C82-B7F7-E216608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1B57-EB5C-4800-8521-366485CB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E4BE-6E27-4099-BAFB-F1BC096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9B6-2E28-42B5-AEFF-A3CE020A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C227-5D64-44EF-ADC0-D9CBD109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E270-FC80-4180-B7D1-9F9C49B8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6818-D5CC-4911-A623-3578472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BBA4-430D-4995-A44E-AD45FEEE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0F47-9029-4E10-B79C-FE0673A1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A088-407A-4ABE-A782-DF77AF9D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EE6B-446B-450B-A76E-365B328D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9F6AE-09FA-4E11-9DA6-D5419633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ECEBB-11CA-400D-8B53-A0A986E8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26BF-F236-4D27-A221-A956FC56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955-0687-4DDE-9C57-2E297351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08B2-CB91-4D1E-A6F1-0525E157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E0EF-46ED-494D-8284-A7D95EE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C94D-04C3-49F1-A5AF-D482464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DF46-6196-418C-91D6-B8DFC97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DCF9-591F-4A19-8B7E-5FAB9F8D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0BBF-A9BD-4712-BB9E-76E9E658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0C8C-5D24-4F2B-AB78-E7B71739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7AC59-9DAB-48EE-81CC-BF35509E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C552-10E3-4CA1-8816-D4382BA1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FEBBA-FC44-4C12-AE98-92762818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8CB-CFB8-48FC-B90C-06D88932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F7924-F250-4895-AB6F-49DEE7FF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6B043-B970-4692-810E-53EBE563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EC76-4B75-4913-A098-D24453FD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D05B-C57B-4723-90E6-AC153E5E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9052E-E6BD-4B72-A678-DF6EF988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9D4E2-79A0-4970-BD02-7D4AAA3B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7C29-D3CA-419F-AB38-97B583B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D0AF6-E42C-45E4-906A-AF3D9AA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3036-A545-49E2-BE71-C184179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58194-FADE-42CE-B753-3DABEFFB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A25-9499-4470-9C7D-B77F0F77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3207-031E-4EAE-8C4C-D595FBB6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AC4-FB6F-43FE-A83A-B731B73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BF6-F44C-4B96-A335-219A0A8D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80C-21E7-4461-862F-EF61DCDC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30F9-9253-4D98-9E9B-88B03DB8438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11F4-3283-4A5F-B10D-BAB7380DFBE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B1DA-FEAF-4918-88EA-5E643DD986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D2DB-BB30-41C6-AA8F-3464F83930A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CB8-4268-4E1B-8E05-68352F8FD2C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огопедические игры с детьми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3" descr="http://900igr.net/up/datai/264120/0004-002-.jpg"/>
          <p:cNvPicPr/>
          <p:nvPr/>
        </p:nvPicPr>
        <p:blipFill>
          <a:blip r:embed="rId1"/>
          <a:stretch/>
        </p:blipFill>
        <p:spPr>
          <a:xfrm>
            <a:off x="2050920" y="3057480"/>
            <a:ext cx="5356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Gothic"/>
                <a:ea typeface="BatangChe"/>
              </a:rPr>
              <a:t>СПАСИБО ЗА ВНИМ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логопедические игр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амые разнообразные задания и упражнения, прямо или косвенно способствующие развитию речевых навы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88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. Эмоциональное общение родителей с ребенком с момента рождения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. Общение ребенка с другими детьм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3. Речь взрослого – образец для подражания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4. Развитие мелкой моторики рук (шнуровки, игры с пуговицами, с прищепками, лепка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5. Чтение детской художественной литературы (читать нужно каждый день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6. Игры с ребенком взрослых и друз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7. Большое значение для развития речи младшего дошкольника имеет  обогащение словаря в процессе наблюдений за природо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9886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аиболее важные виды деятельности для успешного развития речи детей 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2160" y="952560"/>
            <a:ext cx="7772400" cy="2044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правляясь с ребенком на прогулку 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716000" y="2492280"/>
            <a:ext cx="424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говорите с ним о том, какая сегодня погода, какое небо, что есть на небе?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в какую одежду мы одеты, почему, с чем это связано?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какое сейчас время года?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кормить птиц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знакомить с народными пословицами и приметам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рочитать стихотворение, вспомнить песенку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играть в игру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6" name="Picture 2" descr="http://glazzdorov.ru/wp-content/uploads/2016/11/mozhno-li-gulyat-esli-u-rebenka-konyunktivit-2-768x511.jpg"/>
          <p:cNvPicPr/>
          <p:nvPr/>
        </p:nvPicPr>
        <p:blipFill>
          <a:blip r:embed="rId1"/>
          <a:stretch/>
        </p:blipFill>
        <p:spPr>
          <a:xfrm>
            <a:off x="0" y="2852640"/>
            <a:ext cx="4718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гры на закрепление различных речевых навыков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8" name="Picture 5" descr="https://malysh-ma.ru/wp-content/uploads/2017/02/083.jpg"/>
          <p:cNvPicPr/>
          <p:nvPr/>
        </p:nvPicPr>
        <p:blipFill>
          <a:blip r:embed="rId1"/>
          <a:stretch/>
        </p:blipFill>
        <p:spPr>
          <a:xfrm>
            <a:off x="5219640" y="1916280"/>
            <a:ext cx="3159360" cy="210636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5522040" y="14130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аю мам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179280" y="3860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шебные палоч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http://www.maam.ru/upload/blogs/e9f07fcd9d160e78308b9a26f9294b91.jpg.jpg"/>
          <p:cNvPicPr/>
          <p:nvPr/>
        </p:nvPicPr>
        <p:blipFill>
          <a:blip r:embed="rId2"/>
          <a:stretch/>
        </p:blipFill>
        <p:spPr>
          <a:xfrm>
            <a:off x="395280" y="4365720"/>
            <a:ext cx="2992320" cy="22431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8"/>
          <p:cNvSpPr/>
          <p:nvPr/>
        </p:nvSpPr>
        <p:spPr>
          <a:xfrm>
            <a:off x="3959280" y="407664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слова можно вынуть из борща?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из холодильника, из винегрет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6320" y="14130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готовим с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https://www.syl.ru/misc/i/ai/153883/506474.jpg"/>
          <p:cNvPicPr/>
          <p:nvPr/>
        </p:nvPicPr>
        <p:blipFill>
          <a:blip r:embed="rId3"/>
          <a:srcRect l="13032" t="7267" r="14382" b="9200"/>
          <a:stretch/>
        </p:blipFill>
        <p:spPr>
          <a:xfrm>
            <a:off x="179280" y="1773360"/>
            <a:ext cx="1770120" cy="208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http://d18smxb8cfeurn.cloudfront.net/wp-content/uploads/2014/08/orangejuice-1.jpg"/>
          <p:cNvPicPr/>
          <p:nvPr/>
        </p:nvPicPr>
        <p:blipFill>
          <a:blip r:embed="rId4"/>
          <a:srcRect l="6729" t="5884" r="9177" b="2942"/>
          <a:stretch/>
        </p:blipFill>
        <p:spPr>
          <a:xfrm>
            <a:off x="2484360" y="1844640"/>
            <a:ext cx="1582920" cy="1963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http://svoyatarelka.ru/wp-content/uploads/2016/12/borsh_kiyevskiy-768x512.jpg"/>
          <p:cNvPicPr/>
          <p:nvPr/>
        </p:nvPicPr>
        <p:blipFill>
          <a:blip r:embed="rId5"/>
          <a:srcRect l="0" t="11815" r="5500" b="0"/>
          <a:stretch/>
        </p:blipFill>
        <p:spPr>
          <a:xfrm>
            <a:off x="5148360" y="4797360"/>
            <a:ext cx="30240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62800" cy="635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ры по дороге в детский сад (в магазин)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4859280" y="4869000"/>
            <a:ext cx="42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331560" y="11970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замет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heaclub.ru/tim/44c259b585ce0d40f30157b699c83e53/kotenok-britanskoi-vislouhoi.jpg"/>
          <p:cNvPicPr/>
          <p:nvPr/>
        </p:nvPicPr>
        <p:blipFill>
          <a:blip r:embed="rId1"/>
          <a:srcRect l="34726" t="0" r="7062" b="0"/>
          <a:stretch/>
        </p:blipFill>
        <p:spPr>
          <a:xfrm>
            <a:off x="250920" y="1700280"/>
            <a:ext cx="1584360" cy="170172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5"/>
          <p:cNvSpPr/>
          <p:nvPr/>
        </p:nvSpPr>
        <p:spPr>
          <a:xfrm>
            <a:off x="2911680" y="126828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скажи словеч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https://kotyata.net/wp-content/uploads/2013/02/wpid-fotografiyami_kotyat_i_koshek.jpg"/>
          <p:cNvPicPr/>
          <p:nvPr/>
        </p:nvPicPr>
        <p:blipFill>
          <a:blip r:embed="rId2"/>
          <a:stretch/>
        </p:blipFill>
        <p:spPr>
          <a:xfrm>
            <a:off x="2771640" y="1700280"/>
            <a:ext cx="2719440" cy="18730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7"/>
          <p:cNvSpPr/>
          <p:nvPr/>
        </p:nvSpPr>
        <p:spPr>
          <a:xfrm>
            <a:off x="6096960" y="1341360"/>
            <a:ext cx="26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тивополож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flamber.ru/files/photos/1199890225/1207044109_g.jpg"/>
          <p:cNvPicPr/>
          <p:nvPr/>
        </p:nvPicPr>
        <p:blipFill>
          <a:blip r:embed="rId3"/>
          <a:stretch/>
        </p:blipFill>
        <p:spPr>
          <a:xfrm>
            <a:off x="5940360" y="1844640"/>
            <a:ext cx="2841840" cy="18684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9"/>
          <p:cNvSpPr/>
          <p:nvPr/>
        </p:nvSpPr>
        <p:spPr>
          <a:xfrm>
            <a:off x="1411560" y="378936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аким бывает?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" descr="http://dog-foto.narod.ru/photo/nazhmite-na-kartinku-s-sobakami-chtoby22.jpg"/>
          <p:cNvPicPr/>
          <p:nvPr/>
        </p:nvPicPr>
        <p:blipFill>
          <a:blip r:embed="rId4"/>
          <a:stretch/>
        </p:blipFill>
        <p:spPr>
          <a:xfrm>
            <a:off x="1042920" y="4365720"/>
            <a:ext cx="3106800" cy="22050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2"/>
          <p:cNvSpPr/>
          <p:nvPr/>
        </p:nvSpPr>
        <p:spPr>
          <a:xfrm>
            <a:off x="4938120" y="386064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то можно сделать?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://zartak.ru/upload/iblock/aaa/aaab226edb066b0a9fa93a654ef1f21f.jpeg"/>
          <p:cNvPicPr/>
          <p:nvPr/>
        </p:nvPicPr>
        <p:blipFill>
          <a:blip r:embed="rId5"/>
          <a:stretch/>
        </p:blipFill>
        <p:spPr>
          <a:xfrm>
            <a:off x="5003640" y="4437000"/>
            <a:ext cx="24609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924360" y="2349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250920" y="33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от предмет, а из чего люди сделали его?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nadommebel.ru/images/__user__/CatalogMebeliFoto/Stoly/9025.jpg"/>
          <p:cNvPicPr/>
          <p:nvPr/>
        </p:nvPicPr>
        <p:blipFill>
          <a:blip r:embed="rId1"/>
          <a:stretch/>
        </p:blipFill>
        <p:spPr>
          <a:xfrm>
            <a:off x="395280" y="1125360"/>
            <a:ext cx="3456000" cy="24530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5435640" y="40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то внутри?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http://poilki.com.ua/image/cache/data/products/bg-footer-500x500.jpg"/>
          <p:cNvPicPr/>
          <p:nvPr/>
        </p:nvPicPr>
        <p:blipFill>
          <a:blip r:embed="rId2"/>
          <a:srcRect l="0" t="12903" r="0" b="16131"/>
          <a:stretch/>
        </p:blipFill>
        <p:spPr>
          <a:xfrm>
            <a:off x="5003640" y="1268280"/>
            <a:ext cx="2740320" cy="19447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7"/>
          <p:cNvSpPr/>
          <p:nvPr/>
        </p:nvSpPr>
        <p:spPr>
          <a:xfrm>
            <a:off x="1403280" y="3860640"/>
            <a:ext cx="64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чиняем стишок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очереди придумываем строчки стихо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адкие», «соленые», «кислые»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ы  дом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3" descr="http://usolie.info/upload/iblock/039/039217b23949d2fe5996bf0202cf9af8.jpeg"/>
          <p:cNvPicPr/>
          <p:nvPr/>
        </p:nvPicPr>
        <p:blipFill>
          <a:blip r:embed="rId1"/>
          <a:stretch/>
        </p:blipFill>
        <p:spPr>
          <a:xfrm>
            <a:off x="250920" y="1413000"/>
            <a:ext cx="2835360" cy="18828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4"/>
          <p:cNvSpPr/>
          <p:nvPr/>
        </p:nvSpPr>
        <p:spPr>
          <a:xfrm>
            <a:off x="3213360" y="9810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ислое — слад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605520" y="9810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вощи фр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https://c.pxhere.com/photos/d2/ae/fruit_fruit_plate_lemon_apple_pear_star_fruit_carambola-711804.jpg!d"/>
          <p:cNvPicPr/>
          <p:nvPr/>
        </p:nvPicPr>
        <p:blipFill>
          <a:blip r:embed="rId2"/>
          <a:stretch/>
        </p:blipFill>
        <p:spPr>
          <a:xfrm>
            <a:off x="3203640" y="1413000"/>
            <a:ext cx="2403360" cy="16603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6223680" y="9079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Тонет – плава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https://millionpokupok.ru/files/images/items/70/70693z4ce59f9f.jpg"/>
          <p:cNvPicPr/>
          <p:nvPr/>
        </p:nvPicPr>
        <p:blipFill>
          <a:blip r:embed="rId3"/>
          <a:srcRect l="0" t="10215" r="0" b="14188"/>
          <a:stretch/>
        </p:blipFill>
        <p:spPr>
          <a:xfrm>
            <a:off x="5724360" y="1413000"/>
            <a:ext cx="3243600" cy="151128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9"/>
          <p:cNvSpPr/>
          <p:nvPr/>
        </p:nvSpPr>
        <p:spPr>
          <a:xfrm>
            <a:off x="1083960" y="357336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Деревянное – железн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https://artnow.ru/img/185000/185036.jpg"/>
          <p:cNvPicPr/>
          <p:nvPr/>
        </p:nvPicPr>
        <p:blipFill>
          <a:blip r:embed="rId4"/>
          <a:srcRect l="14599" t="9710" r="16055" b="12638"/>
          <a:stretch/>
        </p:blipFill>
        <p:spPr>
          <a:xfrm>
            <a:off x="179280" y="4149720"/>
            <a:ext cx="1881360" cy="158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http://ds04.infourok.ru/uploads/ex/095b/0007f89a-dcfe18b7/1/img0.jpg"/>
          <p:cNvPicPr/>
          <p:nvPr/>
        </p:nvPicPr>
        <p:blipFill>
          <a:blip r:embed="rId5"/>
          <a:srcRect l="0" t="17341" r="0" b="0"/>
          <a:stretch/>
        </p:blipFill>
        <p:spPr>
          <a:xfrm>
            <a:off x="2195640" y="4005360"/>
            <a:ext cx="2859120" cy="1773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5292720" y="3357720"/>
            <a:ext cx="25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адай по описа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4" descr="http://ravden.3dn.ru/Raskraski/Raznoe/3058.jpg"/>
          <p:cNvPicPr/>
          <p:nvPr/>
        </p:nvPicPr>
        <p:blipFill>
          <a:blip r:embed="rId6"/>
          <a:srcRect l="15382" t="17126" r="12818" b="14491"/>
          <a:stretch/>
        </p:blipFill>
        <p:spPr>
          <a:xfrm>
            <a:off x="5940360" y="4076640"/>
            <a:ext cx="1411200" cy="100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http://21region.org/uploads/posts/2013-03/1363516074_10.jpeg"/>
          <p:cNvPicPr/>
          <p:nvPr/>
        </p:nvPicPr>
        <p:blipFill>
          <a:blip r:embed="rId7"/>
          <a:srcRect l="17921" t="10220" r="16428" b="2964"/>
          <a:stretch/>
        </p:blipFill>
        <p:spPr>
          <a:xfrm>
            <a:off x="7667640" y="3860640"/>
            <a:ext cx="792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2817360" y="47628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«Лишний проду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http://www.vceznaika.ru/production/images/big/510798.jpg"/>
          <p:cNvPicPr/>
          <p:nvPr/>
        </p:nvPicPr>
        <p:blipFill>
          <a:blip r:embed="rId1"/>
          <a:srcRect l="6249" t="4416" r="50018" b="70186"/>
          <a:stretch/>
        </p:blipFill>
        <p:spPr>
          <a:xfrm>
            <a:off x="395280" y="981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lass.veryphoto.ru/img-q5y5x5n4g4041406i4p4j436i5h5e4t2r4z5/upload/2013/09/generator/limon_29260420_orig_.jpeg"/>
          <p:cNvPicPr/>
          <p:nvPr/>
        </p:nvPicPr>
        <p:blipFill>
          <a:blip r:embed="rId2"/>
          <a:srcRect l="8872" t="7887" r="11301" b="13272"/>
          <a:stretch/>
        </p:blipFill>
        <p:spPr>
          <a:xfrm>
            <a:off x="2411280" y="981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4"/>
          <p:cNvSpPr/>
          <p:nvPr/>
        </p:nvSpPr>
        <p:spPr>
          <a:xfrm>
            <a:off x="2935080" y="285264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льшой малень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https://4.404content.com/1/BE/26/1154848922717390114/fullsize.jpg"/>
          <p:cNvPicPr/>
          <p:nvPr/>
        </p:nvPicPr>
        <p:blipFill>
          <a:blip r:embed="rId3"/>
          <a:stretch/>
        </p:blipFill>
        <p:spPr>
          <a:xfrm>
            <a:off x="2411280" y="3429000"/>
            <a:ext cx="4859640" cy="2978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http://www.vceznaika.ru/production/images/big/510798.jpg"/>
          <p:cNvPicPr/>
          <p:nvPr/>
        </p:nvPicPr>
        <p:blipFill>
          <a:blip r:embed="rId4"/>
          <a:srcRect l="6249" t="73613" r="54618" b="2803"/>
          <a:stretch/>
        </p:blipFill>
        <p:spPr>
          <a:xfrm>
            <a:off x="4546440" y="1052640"/>
            <a:ext cx="1825920" cy="1555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http://www.vceznaika.ru/production/images/big/510798.jpg"/>
          <p:cNvPicPr/>
          <p:nvPr/>
        </p:nvPicPr>
        <p:blipFill>
          <a:blip r:embed="rId5"/>
          <a:srcRect l="57809" t="37556" r="6276" b="35943"/>
          <a:stretch/>
        </p:blipFill>
        <p:spPr>
          <a:xfrm>
            <a:off x="6804000" y="981000"/>
            <a:ext cx="1655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5T13:06:54Z</dcterms:created>
  <dc:creator>Аня</dc:creator>
  <dc:description/>
  <dc:language>en-US</dc:language>
  <cp:lastModifiedBy>Аня</cp:lastModifiedBy>
  <dcterms:modified xsi:type="dcterms:W3CDTF">2018-01-16T17:47:46Z</dcterms:modified>
  <cp:revision>20</cp:revision>
  <dc:subject/>
  <dc:title>Логопедические игры с детьми</dc:title>
</cp:coreProperties>
</file>