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077-B2B1-4E7A-826C-0C59BDA3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C8B-29E1-4465-BDA0-CF76F188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7B2-3A0A-4EF4-92C1-3298A2EF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C24-53EB-4E50-9DC9-560FBFEB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6A35-7D08-49AA-BDD9-F6BDF12C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2540-F036-489C-B380-1CBA76D8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1671-6DD1-4CBA-8FA5-9EC2B139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0473-F20E-48C0-AEB1-CA603526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82A4-CD2D-4CEC-B9E4-A30850CF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F5B2-0A13-456C-AC6C-2ABAB0CB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9A7C-5704-44F3-B474-0B99812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302-F366-49A6-8227-8E6FD165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8D7F-2F58-4150-8AC8-9C69C65D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332A-7D19-411F-BDAA-7D58B925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DE42-9393-412D-9337-CA4E9693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7E96-F3CC-4EDE-9E10-8A70D1F9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D4C8-EDE9-4D78-B727-4AA567EA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F86B-EEFE-4B1B-B13E-DE431609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FDB0-24E1-485F-965A-11884FAC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2C87-4AE2-49B3-9871-0E2B27D4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DC92-8427-4A5B-8EB1-0252DA34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1845-2305-4D89-8D45-C7FBA1AC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DF5-0A67-4E45-B59C-96001BD8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459A-B7CD-4E0F-B895-58570587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6624-4573-4F4C-981C-07E35BE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52B3E-3C6E-4900-BD62-264A32D4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8BB4-034E-43A9-8306-01A9A85C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3DABB-F37A-4874-96D4-36E6FD92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B5B78-963E-49BA-AAB5-5FC64F08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5033F-A545-44F6-A5D1-B7B7577C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C7866-D076-4A9C-A478-97B64D23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A089E-9BDC-493B-961C-E4ECBD0B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0B868-1DA1-41EA-B3D7-FB43667E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460-9EF3-4590-841D-97397289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3D5F2-8965-4464-9F38-C45C9444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4BBC-B28A-46AD-9D41-C4A9DA4D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07272-BF73-43EC-825F-2713B357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8BEA2-2D38-4C39-8E06-3F2A938E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DF3FE-1476-4063-842C-16AF2774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5A7D5-4240-41F4-9745-54AA2207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B8FC7-FE75-4900-AF24-33390034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AEA47-E1E3-43C6-B28C-EE219586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FD554-A408-4AE3-9C28-16C96C67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C54C1-709B-4C9D-9CA3-AC97E07B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84C-A1BF-4B29-AEC5-9BE0513E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60673-4FAE-4F7A-97EE-269CC7A3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C5B50-7789-4D6D-BD35-1D0941C1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2EC7-0833-4EFC-BB72-8E69ECBF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46495-DDAC-406A-9C61-5A4FD114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9C976-1A9C-43DD-A352-F3F445CC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EE47F-25CB-470A-9CE0-17D89D12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24C6-6E01-4C85-8D6B-672EF72C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D36E4-82E5-4A05-A78F-D2DB19D6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EDCD4-4AE8-409D-BF7A-41E88A54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2B1E0-5783-434F-B466-8642D6ED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D21-1F03-4255-915E-643F0710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A714F-7467-46F2-B4A8-7027D9B2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80C-F8E4-4740-AD74-551B9DDF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E4E-3380-4153-AEF2-B208AFCB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8D2-9F5E-4127-8010-79B7A442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D685-E7F2-459F-B8F3-ED9ECCC7675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5F9D-D18A-489E-B7A7-36CED446AE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17F7-AABB-44A9-A122-6CF217DE6A9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EB6B-C3EC-4704-B940-BE0E3E9DC43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2072-B914-477B-87FE-B35876D69E7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огопедические игры с детьми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3" descr="http://900igr.net/up/datai/264120/0004-002-.jpg"/>
          <p:cNvPicPr/>
          <p:nvPr/>
        </p:nvPicPr>
        <p:blipFill>
          <a:blip r:embed="rId1"/>
          <a:stretch/>
        </p:blipFill>
        <p:spPr>
          <a:xfrm>
            <a:off x="2050920" y="3057480"/>
            <a:ext cx="5356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Gothic"/>
                <a:ea typeface="BatangChe"/>
              </a:rPr>
              <a:t>СПАСИБО ЗА ВНИМ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логопедические игры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амые разнообразные задания и упражнения, прямо или косвенно способствующие развитию речевых навы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0" y="3200400"/>
            <a:ext cx="88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1. Эмоциональное общение родителей с ребенком с момента рождения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2. Общение ребенка с другими детьм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3. Речь взрослого – образец для подражания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4. Развитие мелкой моторики рук (шнуровки, игры с пуговицами, с прищепками, лепка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5. Чтение детской художественной литературы (читать нужно каждый день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6. Игры с ребенком взрослых и друзе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7. Большое значение для развития речи младшего дошкольника имеет  обогащение словаря в процессе наблюдений за природо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98864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аиболее важные виды деятельности для успешного развития речи детей 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2160" y="952560"/>
            <a:ext cx="7772400" cy="2044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правляясь с ребенком на прогулку </a:t>
            </a:r>
            <a:br>
              <a:rPr sz="36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716000" y="2492280"/>
            <a:ext cx="424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поговорите с ним о том, какая сегодня погода, какое небо, что есть на небе?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в какую одежду мы одеты, почему, с чем это связано?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какое сейчас время года?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покормить птиц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познакомить с народными пословицами и приметам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прочитать стихотворение, вспомнить песенку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поиграть в игру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6" name="Picture 2" descr="http://glazzdorov.ru/wp-content/uploads/2016/11/mozhno-li-gulyat-esli-u-rebenka-konyunktivit-2-768x511.jpg"/>
          <p:cNvPicPr/>
          <p:nvPr/>
        </p:nvPicPr>
        <p:blipFill>
          <a:blip r:embed="rId1"/>
          <a:stretch/>
        </p:blipFill>
        <p:spPr>
          <a:xfrm>
            <a:off x="0" y="2852640"/>
            <a:ext cx="4718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гры на закрепление различных речевых навыков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8" name="Picture 5" descr="https://malysh-ma.ru/wp-content/uploads/2017/02/083.jpg"/>
          <p:cNvPicPr/>
          <p:nvPr/>
        </p:nvPicPr>
        <p:blipFill>
          <a:blip r:embed="rId1"/>
          <a:stretch/>
        </p:blipFill>
        <p:spPr>
          <a:xfrm>
            <a:off x="5219640" y="1916280"/>
            <a:ext cx="3159360" cy="210636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5522040" y="141300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гаю мам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179280" y="3860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шебные палоч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http://www.maam.ru/upload/blogs/e9f07fcd9d160e78308b9a26f9294b91.jpg.jpg"/>
          <p:cNvPicPr/>
          <p:nvPr/>
        </p:nvPicPr>
        <p:blipFill>
          <a:blip r:embed="rId2"/>
          <a:stretch/>
        </p:blipFill>
        <p:spPr>
          <a:xfrm>
            <a:off x="395280" y="4365720"/>
            <a:ext cx="2992320" cy="22431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8"/>
          <p:cNvSpPr/>
          <p:nvPr/>
        </p:nvSpPr>
        <p:spPr>
          <a:xfrm>
            <a:off x="3959280" y="407664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слова можно вынуть из борща?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из холодильника, из винегрета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6320" y="14130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готовим с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https://www.syl.ru/misc/i/ai/153883/506474.jpg"/>
          <p:cNvPicPr/>
          <p:nvPr/>
        </p:nvPicPr>
        <p:blipFill>
          <a:blip r:embed="rId3"/>
          <a:srcRect l="13032" t="7267" r="14382" b="9200"/>
          <a:stretch/>
        </p:blipFill>
        <p:spPr>
          <a:xfrm>
            <a:off x="179280" y="1773360"/>
            <a:ext cx="1770120" cy="2087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http://d18smxb8cfeurn.cloudfront.net/wp-content/uploads/2014/08/orangejuice-1.jpg"/>
          <p:cNvPicPr/>
          <p:nvPr/>
        </p:nvPicPr>
        <p:blipFill>
          <a:blip r:embed="rId4"/>
          <a:srcRect l="6729" t="5884" r="9177" b="2942"/>
          <a:stretch/>
        </p:blipFill>
        <p:spPr>
          <a:xfrm>
            <a:off x="2484360" y="1844640"/>
            <a:ext cx="1582920" cy="1963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http://svoyatarelka.ru/wp-content/uploads/2016/12/borsh_kiyevskiy-768x512.jpg"/>
          <p:cNvPicPr/>
          <p:nvPr/>
        </p:nvPicPr>
        <p:blipFill>
          <a:blip r:embed="rId5"/>
          <a:srcRect l="0" t="11815" r="5500" b="0"/>
          <a:stretch/>
        </p:blipFill>
        <p:spPr>
          <a:xfrm>
            <a:off x="5148360" y="4797360"/>
            <a:ext cx="30240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62800" cy="635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гры по дороге в детский сад (в магазин)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Прямоугольник 2"/>
          <p:cNvSpPr/>
          <p:nvPr/>
        </p:nvSpPr>
        <p:spPr>
          <a:xfrm>
            <a:off x="4859280" y="4869000"/>
            <a:ext cx="42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331560" y="119700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замет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http://heaclub.ru/tim/44c259b585ce0d40f30157b699c83e53/kotenok-britanskoi-vislouhoi.jpg"/>
          <p:cNvPicPr/>
          <p:nvPr/>
        </p:nvPicPr>
        <p:blipFill>
          <a:blip r:embed="rId1"/>
          <a:srcRect l="34726" t="0" r="7062" b="0"/>
          <a:stretch/>
        </p:blipFill>
        <p:spPr>
          <a:xfrm>
            <a:off x="250920" y="1700280"/>
            <a:ext cx="1584360" cy="170172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5"/>
          <p:cNvSpPr/>
          <p:nvPr/>
        </p:nvSpPr>
        <p:spPr>
          <a:xfrm>
            <a:off x="2911680" y="126828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скажи словечк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https://kotyata.net/wp-content/uploads/2013/02/wpid-fotografiyami_kotyat_i_koshek.jpg"/>
          <p:cNvPicPr/>
          <p:nvPr/>
        </p:nvPicPr>
        <p:blipFill>
          <a:blip r:embed="rId2"/>
          <a:stretch/>
        </p:blipFill>
        <p:spPr>
          <a:xfrm>
            <a:off x="2771640" y="1700280"/>
            <a:ext cx="2719440" cy="18730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7"/>
          <p:cNvSpPr/>
          <p:nvPr/>
        </p:nvSpPr>
        <p:spPr>
          <a:xfrm>
            <a:off x="6096960" y="1341360"/>
            <a:ext cx="26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тивополож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http://flamber.ru/files/photos/1199890225/1207044109_g.jpg"/>
          <p:cNvPicPr/>
          <p:nvPr/>
        </p:nvPicPr>
        <p:blipFill>
          <a:blip r:embed="rId3"/>
          <a:stretch/>
        </p:blipFill>
        <p:spPr>
          <a:xfrm>
            <a:off x="5940360" y="1844640"/>
            <a:ext cx="2841840" cy="18684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9"/>
          <p:cNvSpPr/>
          <p:nvPr/>
        </p:nvSpPr>
        <p:spPr>
          <a:xfrm>
            <a:off x="1411560" y="378936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аким бывает?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8" descr="http://dog-foto.narod.ru/photo/nazhmite-na-kartinku-s-sobakami-chtoby22.jpg"/>
          <p:cNvPicPr/>
          <p:nvPr/>
        </p:nvPicPr>
        <p:blipFill>
          <a:blip r:embed="rId4"/>
          <a:stretch/>
        </p:blipFill>
        <p:spPr>
          <a:xfrm>
            <a:off x="1042920" y="4365720"/>
            <a:ext cx="3106800" cy="22050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12"/>
          <p:cNvSpPr/>
          <p:nvPr/>
        </p:nvSpPr>
        <p:spPr>
          <a:xfrm>
            <a:off x="4938120" y="386064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Что можно сделать?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http://zartak.ru/upload/iblock/aaa/aaab226edb066b0a9fa93a654ef1f21f.jpeg"/>
          <p:cNvPicPr/>
          <p:nvPr/>
        </p:nvPicPr>
        <p:blipFill>
          <a:blip r:embed="rId5"/>
          <a:stretch/>
        </p:blipFill>
        <p:spPr>
          <a:xfrm>
            <a:off x="5003640" y="4437000"/>
            <a:ext cx="24609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3924360" y="2349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"/>
          <p:cNvSpPr/>
          <p:nvPr/>
        </p:nvSpPr>
        <p:spPr>
          <a:xfrm>
            <a:off x="250920" y="33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от предмет, а из чего люди сделали его?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nadommebel.ru/images/__user__/CatalogMebeliFoto/Stoly/9025.jpg"/>
          <p:cNvPicPr/>
          <p:nvPr/>
        </p:nvPicPr>
        <p:blipFill>
          <a:blip r:embed="rId1"/>
          <a:stretch/>
        </p:blipFill>
        <p:spPr>
          <a:xfrm>
            <a:off x="395280" y="1125360"/>
            <a:ext cx="3456000" cy="24530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"/>
          <p:cNvSpPr/>
          <p:nvPr/>
        </p:nvSpPr>
        <p:spPr>
          <a:xfrm>
            <a:off x="5435640" y="404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Что внутри?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http://poilki.com.ua/image/cache/data/products/bg-footer-500x500.jpg"/>
          <p:cNvPicPr/>
          <p:nvPr/>
        </p:nvPicPr>
        <p:blipFill>
          <a:blip r:embed="rId2"/>
          <a:srcRect l="0" t="12903" r="0" b="16131"/>
          <a:stretch/>
        </p:blipFill>
        <p:spPr>
          <a:xfrm>
            <a:off x="5003640" y="1268280"/>
            <a:ext cx="2740320" cy="19447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7"/>
          <p:cNvSpPr/>
          <p:nvPr/>
        </p:nvSpPr>
        <p:spPr>
          <a:xfrm>
            <a:off x="1403280" y="3860640"/>
            <a:ext cx="64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очиняем стишок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очереди придумываем строчки стихо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адкие», «соленые», «кислые»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ы  дом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6" name="Picture 3" descr="http://usolie.info/upload/iblock/039/039217b23949d2fe5996bf0202cf9af8.jpeg"/>
          <p:cNvPicPr/>
          <p:nvPr/>
        </p:nvPicPr>
        <p:blipFill>
          <a:blip r:embed="rId1"/>
          <a:stretch/>
        </p:blipFill>
        <p:spPr>
          <a:xfrm>
            <a:off x="250920" y="1413000"/>
            <a:ext cx="2835360" cy="18828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4"/>
          <p:cNvSpPr/>
          <p:nvPr/>
        </p:nvSpPr>
        <p:spPr>
          <a:xfrm>
            <a:off x="3213360" y="98100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ислое — слад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"/>
          <p:cNvSpPr/>
          <p:nvPr/>
        </p:nvSpPr>
        <p:spPr>
          <a:xfrm>
            <a:off x="605520" y="98100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вощи фр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https://c.pxhere.com/photos/d2/ae/fruit_fruit_plate_lemon_apple_pear_star_fruit_carambola-711804.jpg!d"/>
          <p:cNvPicPr/>
          <p:nvPr/>
        </p:nvPicPr>
        <p:blipFill>
          <a:blip r:embed="rId2"/>
          <a:stretch/>
        </p:blipFill>
        <p:spPr>
          <a:xfrm>
            <a:off x="3203640" y="1413000"/>
            <a:ext cx="2403360" cy="16603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7"/>
          <p:cNvSpPr/>
          <p:nvPr/>
        </p:nvSpPr>
        <p:spPr>
          <a:xfrm>
            <a:off x="6223680" y="9079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«Тонет – плава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" descr="https://millionpokupok.ru/files/images/items/70/70693z4ce59f9f.jpg"/>
          <p:cNvPicPr/>
          <p:nvPr/>
        </p:nvPicPr>
        <p:blipFill>
          <a:blip r:embed="rId3"/>
          <a:srcRect l="0" t="10215" r="0" b="14188"/>
          <a:stretch/>
        </p:blipFill>
        <p:spPr>
          <a:xfrm>
            <a:off x="5724360" y="1413000"/>
            <a:ext cx="3243600" cy="151128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9"/>
          <p:cNvSpPr/>
          <p:nvPr/>
        </p:nvSpPr>
        <p:spPr>
          <a:xfrm>
            <a:off x="1083960" y="357336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«Деревянное – железн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9" descr="https://artnow.ru/img/185000/185036.jpg"/>
          <p:cNvPicPr/>
          <p:nvPr/>
        </p:nvPicPr>
        <p:blipFill>
          <a:blip r:embed="rId4"/>
          <a:srcRect l="14599" t="9710" r="16055" b="12638"/>
          <a:stretch/>
        </p:blipFill>
        <p:spPr>
          <a:xfrm>
            <a:off x="179280" y="4149720"/>
            <a:ext cx="1881360" cy="158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http://ds04.infourok.ru/uploads/ex/095b/0007f89a-dcfe18b7/1/img0.jpg"/>
          <p:cNvPicPr/>
          <p:nvPr/>
        </p:nvPicPr>
        <p:blipFill>
          <a:blip r:embed="rId5"/>
          <a:srcRect l="0" t="17341" r="0" b="0"/>
          <a:stretch/>
        </p:blipFill>
        <p:spPr>
          <a:xfrm>
            <a:off x="2195640" y="4005360"/>
            <a:ext cx="2859120" cy="1773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5292720" y="3357720"/>
            <a:ext cx="25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адай по описа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4" descr="http://ravden.3dn.ru/Raskraski/Raznoe/3058.jpg"/>
          <p:cNvPicPr/>
          <p:nvPr/>
        </p:nvPicPr>
        <p:blipFill>
          <a:blip r:embed="rId6"/>
          <a:srcRect l="15382" t="17126" r="12818" b="14491"/>
          <a:stretch/>
        </p:blipFill>
        <p:spPr>
          <a:xfrm>
            <a:off x="5940360" y="4076640"/>
            <a:ext cx="1411200" cy="100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http://21region.org/uploads/posts/2013-03/1363516074_10.jpeg"/>
          <p:cNvPicPr/>
          <p:nvPr/>
        </p:nvPicPr>
        <p:blipFill>
          <a:blip r:embed="rId7"/>
          <a:srcRect l="17921" t="10220" r="16428" b="2964"/>
          <a:stretch/>
        </p:blipFill>
        <p:spPr>
          <a:xfrm>
            <a:off x="7667640" y="3860640"/>
            <a:ext cx="792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2817360" y="47628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«Лишний проду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http://www.vceznaika.ru/production/images/big/510798.jpg"/>
          <p:cNvPicPr/>
          <p:nvPr/>
        </p:nvPicPr>
        <p:blipFill>
          <a:blip r:embed="rId1"/>
          <a:srcRect l="6249" t="4416" r="50018" b="70186"/>
          <a:stretch/>
        </p:blipFill>
        <p:spPr>
          <a:xfrm>
            <a:off x="395280" y="981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lass.veryphoto.ru/img-q5y5x5n4g4041406i4p4j436i5h5e4t2r4z5/upload/2013/09/generator/limon_29260420_orig_.jpeg"/>
          <p:cNvPicPr/>
          <p:nvPr/>
        </p:nvPicPr>
        <p:blipFill>
          <a:blip r:embed="rId2"/>
          <a:srcRect l="8872" t="7887" r="11301" b="13272"/>
          <a:stretch/>
        </p:blipFill>
        <p:spPr>
          <a:xfrm>
            <a:off x="2411280" y="981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4"/>
          <p:cNvSpPr/>
          <p:nvPr/>
        </p:nvSpPr>
        <p:spPr>
          <a:xfrm>
            <a:off x="2935080" y="285264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льшой маленьк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https://4.404content.com/1/BE/26/1154848922717390114/fullsize.jpg"/>
          <p:cNvPicPr/>
          <p:nvPr/>
        </p:nvPicPr>
        <p:blipFill>
          <a:blip r:embed="rId3"/>
          <a:stretch/>
        </p:blipFill>
        <p:spPr>
          <a:xfrm>
            <a:off x="2411280" y="3429000"/>
            <a:ext cx="4859640" cy="2978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http://www.vceznaika.ru/production/images/big/510798.jpg"/>
          <p:cNvPicPr/>
          <p:nvPr/>
        </p:nvPicPr>
        <p:blipFill>
          <a:blip r:embed="rId4"/>
          <a:srcRect l="6249" t="73613" r="54618" b="2803"/>
          <a:stretch/>
        </p:blipFill>
        <p:spPr>
          <a:xfrm>
            <a:off x="4546440" y="1052640"/>
            <a:ext cx="1825920" cy="1555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http://www.vceznaika.ru/production/images/big/510798.jpg"/>
          <p:cNvPicPr/>
          <p:nvPr/>
        </p:nvPicPr>
        <p:blipFill>
          <a:blip r:embed="rId5"/>
          <a:srcRect l="57809" t="37556" r="6276" b="35943"/>
          <a:stretch/>
        </p:blipFill>
        <p:spPr>
          <a:xfrm>
            <a:off x="6804000" y="981000"/>
            <a:ext cx="1655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5T13:06:54Z</dcterms:created>
  <dc:creator>Аня</dc:creator>
  <dc:description/>
  <dc:language>en-US</dc:language>
  <cp:lastModifiedBy>Аня</cp:lastModifiedBy>
  <dcterms:modified xsi:type="dcterms:W3CDTF">2018-01-16T17:47:46Z</dcterms:modified>
  <cp:revision>20</cp:revision>
  <dc:subject/>
  <dc:title>Логопедические игры с детьми</dc:title>
</cp:coreProperties>
</file>