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18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2654-07B5-40DA-AED1-C401B0EFE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6079-D61B-40D3-BA80-D2808B18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BC62-79D6-4846-845F-079803D0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4AC0-F18F-4297-8FAF-5B7336D17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9871-1EF5-409D-BD7B-18680D77F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4407-2815-435F-B34F-46BF70CF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575C-BAD6-40E1-A601-13F7AD91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4D15-3D61-42F9-B89E-23AA23C7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CED5-27BC-4900-B327-EE120D14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A802-CEA2-4456-881C-38BC8E3D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7D9A-6D95-41B7-8B6A-50DB0888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84BA-59D1-4D33-AD04-B2039A27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0A36-BAE6-45B3-8199-2230872F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2F3B-8AA8-4F96-B4DC-DEF4C46A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A1AF-3E0A-43D7-8C4C-D4F0FB2B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99C5-8B6F-460B-B0D3-D373C9969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35D1-CB89-4674-98D5-953732A2F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38F4-3A27-4D9D-95E7-554C22C8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BF1F-15D1-4A1E-9169-5723412A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7786-3BBB-444F-9547-3D9DF0A5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25B3-4B6B-4FFB-8241-2280CFD3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9992-7BBA-44AF-B536-7D0CACB9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FA34-AA68-43EF-BBB1-88CD7821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93B8-465C-454F-8069-EE70E59B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7178-BBA5-41BD-8763-699245E816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10080" y="59760"/>
              <a:ext cx="3620160" cy="6132600"/>
              <a:chOff x="5410080" y="59760"/>
              <a:chExt cx="3620160" cy="61326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3320" y="344520"/>
                <a:ext cx="211392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6240"/>
                <a:ext cx="90540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520" y="2588400"/>
                <a:ext cx="43884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400" y="671040"/>
                <a:ext cx="388440" cy="55008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3200" y="2645280"/>
                <a:ext cx="16308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9880" y="1243080"/>
                <a:ext cx="19008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360" y="2930400"/>
                <a:ext cx="52308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764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080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16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20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560" y="5195880"/>
              <a:ext cx="175824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8640" y="1033560"/>
              <a:ext cx="1015200" cy="1261800"/>
              <a:chOff x="4148640" y="1033560"/>
              <a:chExt cx="1015200" cy="126180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2640" y="1071360"/>
                <a:ext cx="285840" cy="378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760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8680" y="1962000"/>
                <a:ext cx="511200" cy="1598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9480" y="296280"/>
              <a:ext cx="893160" cy="824760"/>
              <a:chOff x="5649480" y="296280"/>
              <a:chExt cx="893160" cy="824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1080" y="79020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9960" y="47052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200" y="39600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70200" y="5259960"/>
              <a:ext cx="1059120" cy="829800"/>
              <a:chOff x="970200" y="525996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2520" y="5524920"/>
                <a:ext cx="250920" cy="299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480" y="5735160"/>
                <a:ext cx="429480" cy="2487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1560" y="5384520"/>
                <a:ext cx="448920" cy="1267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480" y="443520"/>
              <a:ext cx="1689840" cy="1146600"/>
              <a:chOff x="375480" y="443520"/>
              <a:chExt cx="168984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5000" y="1062000"/>
                <a:ext cx="355320" cy="5302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040" y="5871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280" y="110052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4320" y="3712320"/>
              <a:ext cx="1155600" cy="1607760"/>
              <a:chOff x="73843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904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9760" y="4455360"/>
                <a:ext cx="60804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2320" y="3781080"/>
                <a:ext cx="635760" cy="224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400" y="3240"/>
              <a:ext cx="136764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3960" y="160560"/>
              <a:ext cx="108036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836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872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376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08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58ED-A7C8-4112-8068-863129FD1350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Прямоугольник 1" descr=""/>
          <p:cNvPicPr/>
          <p:nvPr/>
        </p:nvPicPr>
        <p:blipFill>
          <a:blip r:embed="rId1"/>
          <a:stretch/>
        </p:blipFill>
        <p:spPr>
          <a:xfrm>
            <a:off x="1378080" y="1584360"/>
            <a:ext cx="7119720" cy="23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Книга 2"/>
          <p:cNvPicPr/>
          <p:nvPr/>
        </p:nvPicPr>
        <p:blipFill>
          <a:blip r:embed="rId1"/>
          <a:stretch/>
        </p:blipFill>
        <p:spPr>
          <a:xfrm>
            <a:off x="4610160" y="1143000"/>
            <a:ext cx="4533840" cy="5715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Книга"/>
          <p:cNvPicPr/>
          <p:nvPr/>
        </p:nvPicPr>
        <p:blipFill>
          <a:blip r:embed="rId2"/>
          <a:stretch/>
        </p:blipFill>
        <p:spPr>
          <a:xfrm>
            <a:off x="0" y="0"/>
            <a:ext cx="46162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3" descr="станок"/>
          <p:cNvPicPr/>
          <p:nvPr/>
        </p:nvPicPr>
        <p:blipFill>
          <a:blip r:embed="rId1"/>
          <a:stretch/>
        </p:blipFill>
        <p:spPr>
          <a:xfrm>
            <a:off x="0" y="0"/>
            <a:ext cx="453564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Первопечатник"/>
          <p:cNvPicPr/>
          <p:nvPr/>
        </p:nvPicPr>
        <p:blipFill>
          <a:blip r:embed="rId2"/>
          <a:stretch/>
        </p:blipFill>
        <p:spPr>
          <a:xfrm>
            <a:off x="4629240" y="333360"/>
            <a:ext cx="45147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4" descr="Elektrobiblioteka-bumajnaya-kniga-soedinena-s-kompyterom"/>
          <p:cNvPicPr/>
          <p:nvPr/>
        </p:nvPicPr>
        <p:blipFill>
          <a:blip r:embed="rId1"/>
          <a:stretch/>
        </p:blipFill>
        <p:spPr>
          <a:xfrm>
            <a:off x="1476360" y="0"/>
            <a:ext cx="619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-----3~1"/>
          <p:cNvPicPr/>
          <p:nvPr/>
        </p:nvPicPr>
        <p:blipFill>
          <a:blip r:embed="rId1"/>
          <a:stretch/>
        </p:blipFill>
        <p:spPr>
          <a:xfrm>
            <a:off x="0" y="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8028000" cy="5699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Безымянный"/>
          <p:cNvPicPr/>
          <p:nvPr/>
        </p:nvPicPr>
        <p:blipFill>
          <a:blip r:embed="rId2"/>
          <a:stretch/>
        </p:blipFill>
        <p:spPr>
          <a:xfrm>
            <a:off x="7308720" y="2492280"/>
            <a:ext cx="183528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Picture 13" descr="slov4"/>
          <p:cNvPicPr/>
          <p:nvPr/>
        </p:nvPicPr>
        <p:blipFill>
          <a:blip r:embed="rId1"/>
          <a:stretch/>
        </p:blipFill>
        <p:spPr>
          <a:xfrm>
            <a:off x="900000" y="0"/>
            <a:ext cx="74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2432160" y="404640"/>
            <a:ext cx="382752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E:\ЛИСТ пальмы!!!!!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41432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940360" cy="4635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пергамент"/>
          <p:cNvPicPr/>
          <p:nvPr/>
        </p:nvPicPr>
        <p:blipFill>
          <a:blip r:embed="rId2"/>
          <a:stretch/>
        </p:blipFill>
        <p:spPr>
          <a:xfrm>
            <a:off x="5467320" y="2905200"/>
            <a:ext cx="367668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766764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4T03:54:44Z</dcterms:created>
  <dc:creator>Наталья Владимировна</dc:creator>
  <dc:description/>
  <dc:language>en-US</dc:language>
  <cp:lastModifiedBy>ADM</cp:lastModifiedBy>
  <dcterms:modified xsi:type="dcterms:W3CDTF">2016-11-10T06:30:54Z</dcterms:modified>
  <cp:revision>13</cp:revision>
  <dc:subject/>
  <dc:title>Слайд 1</dc:title>
</cp:coreProperties>
</file>