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EC6-A22F-4A6E-88E0-3888579A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F5F-C393-47A2-96EE-ACAD9442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B2A-6E94-47D3-8432-B185BC5E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94A-2070-4848-B535-EAB0B39C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5E56-69E7-4B57-B4E0-5DADE8FB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75C6-9493-4DB3-AE20-7506B6A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5F31-03DE-4E7B-A530-A34BFEFD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1937-B10A-4637-9211-E76ABBDE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D6AC-2817-42C9-BA19-950497D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9B46-54BC-44C2-8F24-390CF095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DE75-F59D-4724-A0E3-BC29856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B49-C014-4541-918B-D65BAE2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C8BF-BC31-4507-984F-79DF9386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57A9-A9B6-4717-A697-63402B75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5D59-4BC2-4652-85C1-D4BE5CBA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00D0-41ED-4C6D-A052-621BA9BF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44E-2160-4601-92F1-339C8E24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C1E-E6BC-4BEB-8F2A-CB07C668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DA0-31EB-495B-B184-B6DEC5F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F0A-CB2B-430F-A57D-EA533231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261-7C5D-4B5D-94FB-C0D0C8A0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54E-AF4E-4536-A6CD-129FB1F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27E-BAB0-4897-8891-171151D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40E-00D5-403D-A28D-69F0C728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DF6-6D17-4F26-B27F-ECDCEA3F8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59760"/>
              <a:ext cx="3620160" cy="6132600"/>
              <a:chOff x="5410080" y="59760"/>
              <a:chExt cx="362016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1040"/>
                <a:ext cx="388440" cy="5500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20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6280"/>
              <a:ext cx="893160" cy="824760"/>
              <a:chOff x="564948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96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20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200" y="5259960"/>
              <a:ext cx="1059120" cy="829800"/>
              <a:chOff x="97020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48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3520"/>
              <a:ext cx="1689840" cy="1146600"/>
              <a:chOff x="375480" y="44352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2000"/>
                <a:ext cx="3553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871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05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4320" y="3712320"/>
              <a:ext cx="1155600" cy="1607760"/>
              <a:chOff x="73843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90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7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23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4768-AAA3-4799-BF13-B305731294A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1584360"/>
            <a:ext cx="711972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Книга 2"/>
          <p:cNvPicPr/>
          <p:nvPr/>
        </p:nvPicPr>
        <p:blipFill>
          <a:blip r:embed="rId1"/>
          <a:stretch/>
        </p:blipFill>
        <p:spPr>
          <a:xfrm>
            <a:off x="4610160" y="1143000"/>
            <a:ext cx="4533840" cy="571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Книга"/>
          <p:cNvPicPr/>
          <p:nvPr/>
        </p:nvPicPr>
        <p:blipFill>
          <a:blip r:embed="rId2"/>
          <a:stretch/>
        </p:blipFill>
        <p:spPr>
          <a:xfrm>
            <a:off x="0" y="0"/>
            <a:ext cx="4616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станок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Первопечатник"/>
          <p:cNvPicPr/>
          <p:nvPr/>
        </p:nvPicPr>
        <p:blipFill>
          <a:blip r:embed="rId2"/>
          <a:stretch/>
        </p:blipFill>
        <p:spPr>
          <a:xfrm>
            <a:off x="4629240" y="333360"/>
            <a:ext cx="4514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Elektrobiblioteka-bumajnaya-kniga-soedinena-s-kompyterom"/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-----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028000" cy="569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Безымянный"/>
          <p:cNvPicPr/>
          <p:nvPr/>
        </p:nvPicPr>
        <p:blipFill>
          <a:blip r:embed="rId2"/>
          <a:stretch/>
        </p:blipFill>
        <p:spPr>
          <a:xfrm>
            <a:off x="7308720" y="2492280"/>
            <a:ext cx="1835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13" descr="slov4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432160" y="404640"/>
            <a:ext cx="3827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ЛИСТ пальмы!!!!!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4143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635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пергамент"/>
          <p:cNvPicPr/>
          <p:nvPr/>
        </p:nvPicPr>
        <p:blipFill>
          <a:blip r:embed="rId2"/>
          <a:stretch/>
        </p:blipFill>
        <p:spPr>
          <a:xfrm>
            <a:off x="5467320" y="2905200"/>
            <a:ext cx="36766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6676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3:54:44Z</dcterms:created>
  <dc:creator>Наталья Владимировна</dc:creator>
  <dc:description/>
  <dc:language>en-US</dc:language>
  <cp:lastModifiedBy>ADM</cp:lastModifiedBy>
  <dcterms:modified xsi:type="dcterms:W3CDTF">2016-11-10T06:30:54Z</dcterms:modified>
  <cp:revision>13</cp:revision>
  <dc:subject/>
  <dc:title>Слайд 1</dc:title>
</cp:coreProperties>
</file>