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8CD-C88C-43CF-B29C-7B74BC36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FB5-5AE7-45CF-B1D7-08E74A2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FC-DFD2-4BA9-BDC6-3D4417C0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E11-7C1E-4A84-B339-95F5BE18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BA1-2909-41A2-8120-9298BD94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258-3454-42E6-94EC-9791008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5E-934A-408E-8342-A29687F8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F79-CB0E-4141-984B-BCCF4C3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4E0-27B4-417C-8DE7-7782EE0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761-DD71-4938-9EFE-453C88A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FF0-2E72-4DFF-A19C-6CC0BF2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BBA-73C1-4A3B-8F6D-2B34DA4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75AD-DCCD-4253-A5BC-2367326764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ающиеся в задержкой психического развития.</a:t>
            </a:r>
            <a:br>
              <a:rPr sz="28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ему им трудно учиться? </a:t>
            </a:r>
            <a:br>
              <a:rPr sz="2800"/>
            </a:b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отовность к обучению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боту выполнила : учитель-логопед Родион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дной из существенных причин трудностей обучения детей с задержкой психического развития (ЗПР) является сниженная готовность к школьному обуче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 поступающих в первый класс долгое время сохраняется поведение дошкольника. Им трудно соблюдать школьные правила, они чаще ведут себя, следуя эмоциональному порыву. Преобладание игровых интересов замедляет формирование начальных навыков учебной работы и учебной мотивации, дети не стремятся к получению новых знаний, неусидчивы, быстро теряют интерес к зада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000" y="40464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достаточная готовность к обучению проявляется в сниженной способности к организованной и целенаправленной деятельности. Дети действуют непоследовательно, не знают, как приступить к работе, перескакивают с одного действия на другое, не завершая зад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 момент начала школьного обучения запас знаний и представлений об окружающем мире остается ограниченным. Сниженная познавательная активность приводит к тому, что дети с ЗПР оказываются плохо осведомлены даже о тех жизненных явлениях, которые хорошо знакомы им из повседневной жизни: сезонная последовательность, различия признаков конкретных предметов, знание признаков изменений в природе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55280" y="549360"/>
            <a:ext cx="7859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мышлении трудности проявляются в том, что даже в наглядно-образном плане им тяжело провести планомерный анализ, выделить признаки предмета, сделать обобщение, сравн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ыслительные процессы характеризуются снижением познавательных интересов, замедленность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устойчивость концентрации внимания и снижение его объема приводят к тому, что дети не замечают и не выделяют значимые детали, ориентируются на бросающиеся в глаза признаки, поверхностно воспринимают демонстрируемый материал. У них замедлено восприятие, им нужно дополнительно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000" y="98064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начимые для школьного обучения графомоторные функции недостаточно сформированны. Дети не видят границы клетки в тетради, не могут выполнить точные графические узоры с соблюдением разметки, могут игнорировать часть ли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ложняют формирование первоначальных учебных навыков и пространственно-временные трудности. Дети путают лево и право, плохо ориентируются на поверхности листа, не могут правильно употреблять пространственные пред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ение грамоте затрудняется низкой способностью ребенка правильно определять последовательность звуков в слове, выделять заданный звук в словах, различать звонкие и глухие звуки, синтезировать отдельные звуки в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бучение математике затрудняется слабыми представлениями о количестве и числовой последовательности, форме предметов; неточностью усвоение математических понятий «столько же», «больше-меньше на», «поровну» и др.; слабым владением элементарных математических навыков – уравнивание предметов по количеству, сравнение множества предметов, объединение предмето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11556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обенности усвоения учебны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ецифические трудности возникают у детей с ЗПР на уровне понимания и осознания учебного материала. Так, труднопроизносимые, длинные слова со стечением согласных плохо воспринимаются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оторные трудности замедляют формирование навыка пись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ети с ЗПР долгое время не запоминают образ буквы, не овладевают навыками плавного письма, часто имеют небрежный поче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ладшие школьники с трудом запоминают и применяют орфографические правила. Как правило они не замечают опасные для написания места, не понимают, где следует сделать проверку. Школьники испытывают сложности подбора проверочных слов, не могут правильно согласовать части речи в словосочетаниях и предложениях, неверно образуют новы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числительные навыки у детей с ЗПР формируются с запозданием. Им трудно дается запоминание состава числа, устный счет. При этом механическое запоминание числовой последовательности не нарушено. Усвоение алгоритмов письменных вычислений требует многократных повторений и закреплений. При решение арифметических задач плохо ориентируются в условии задачи. Они не выделяют в них существенные связи и представленные предметно-количественные отношения. Довольно часто решают задачу случайным образом, не вникнув в ее содерж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еречисленные особенности определяют необходимость специальной поддержки обучающихся с задержкой психическ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Родионова Ирина Георгиевна</cp:lastModifiedBy>
  <dcterms:modified xsi:type="dcterms:W3CDTF">2023-06-19T07:38:44Z</dcterms:modified>
  <cp:revision>494</cp:revision>
  <dc:subject/>
  <dc:title>Diapositiva 1</dc:title>
</cp:coreProperties>
</file>