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DA72-B37B-4D8B-92E7-59F2CB31F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EEBA-6E91-449A-9815-35462EF8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A4BF-933D-4247-9C3D-D42150BCB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3432-C625-4126-AEC2-05BD7740D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4266-BBF9-4714-B05B-E2C7D93A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16B9-FF4F-480E-84F1-2D774880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223B-663E-410C-BD91-FCD0D8B3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0B70-CD7F-40B7-A757-128C782D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4B77-D022-420D-A867-AF18492C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4F1F-EF79-430B-A170-ACAAE919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C43F-E59A-4D89-925E-D04E588B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F2FB-92D6-4D4D-B031-16547B2A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27F4-B5AA-4823-997C-FEB53CA912D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125360"/>
            <a:ext cx="867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Обучающиеся в задержкой психического развития.</a:t>
            </a:r>
            <a:br>
              <a:rPr sz="2800"/>
            </a:br>
            <a:r>
              <a:rPr b="1" i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очему им трудно учиться? </a:t>
            </a:r>
            <a:br>
              <a:rPr sz="2800"/>
            </a:br>
            <a:r>
              <a:rPr b="1" i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Готовность к обучению в шко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00000" y="522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аботу выполнила : учитель-логопед Родионова И.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11280" y="105264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Одной из существенных причин трудностей обучения детей с задержкой психического развития (ЗПР) является сниженная готовность к школьному обучению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У поступающих в первый класс долгое время сохраняется поведение дошкольника. Им трудно соблюдать школьные правила, они чаще ведут себя, следуя эмоциональному порыву. Преобладание игровых интересов замедляет формирование начальных навыков учебной работы и учебной мотивации, дети не стремятся к получению новых знаний, неусидчивы, быстро теряют интерес к заданию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4000" y="404640"/>
            <a:ext cx="8280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Недостаточная готовность к обучению проявляется в сниженной способности к организованной и целенаправленной деятельности. Дети действуют непоследовательно, не знают, как приступить к работе, перескакивают с одного действия на другое, не завершая задани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На момент начала школьного обучения запас знаний и представлений об окружающем мире остается ограниченным. Сниженная познавательная активность приводит к тому, что дети с ЗПР оказываются плохо осведомлены даже о тех жизненных явлениях, которые хорошо знакомы им из повседневной жизни: сезонная последовательность, различия признаков конкретных предметов, знание признаков изменений в природе и д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755280" y="549360"/>
            <a:ext cx="78598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В мышлении трудности проявляются в том, что даже в наглядно-образном плане им тяжело провести планомерный анализ, выделить признаки предмета, сделать обобщение, сравнени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Мыслительные процессы характеризуются снижением познавательных интересов, замедленностью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Неустойчивость концентрации внимания и снижение его объема приводят к тому, что дети не замечают и не выделяют значимые детали, ориентируются на бросающиеся в глаза признаки, поверхностно воспринимают демонстрируемый материал. У них замедлено восприятие, им нужно дополнительное врем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4000" y="980640"/>
            <a:ext cx="821844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Значимые для школьного обучения графомоторные функции недостаточно сформированны. Дети не видят границы клетки в тетради, не могут выполнить точные графические узоры с соблюдением разметки, могут игнорировать часть лис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Осложняют формирование первоначальных учебных навыков и пространственно-временные трудности. Дети путают лево и право, плохо ориентируются на поверхности листа, не могут правильно употреблять пространственные предлог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75564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Обучение грамоте затрудняется низкой способностью ребенка правильно определять последовательность звуков в слове, выделять заданный звук в словах, различать звонкие и глухие звуки, синтезировать отдельные звуки в сло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Обучение математике затрудняется слабыми представлениями о количестве и числовой последовательности, форме предметов; неточностью усвоение математических понятий «столько же», «больше-меньше на», «поровну» и др.; слабым владением элементарных математических навыков – уравнивание предметов по количеству, сравнение множества предметов, объединение предметов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55640" y="115560"/>
            <a:ext cx="822960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Особенности усвоения учебных зн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пецифические трудности возникают у детей с ЗПР на уровне понимания и осознания учебного материала. Так, труднопроизносимые, длинные слова со стечением согласных плохо воспринимаются деть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Моторные трудности замедляют формирование навыка пись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Дети с ЗПР долгое время не запоминают образ буквы, не овладевают навыками плавного письма, часто имеют небрежный почер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Младшие школьники с трудом запоминают и применяют орфографические правила. Как правило они не замечают опасные для написания места, не понимают, где следует сделать проверку. Школьники испытывают сложности подбора проверочных слов, не могут правильно согласовать части речи в словосочетаниях и предложениях, неверно образуют новые сло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4000" y="692280"/>
            <a:ext cx="8002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Вычислительные навыки у детей с ЗПР формируются с запозданием. Им трудно дается запоминание состава числа, устный счет. При этом механическое запоминание числовой последовательности не нарушено. Усвоение алгоритмов письменных вычислений требует многократных повторений и закреплений. При решение арифметических задач плохо ориентируются в условии задачи. Они не выделяют в них существенные связи и представленные предметно-количественные отношения. Довольно часто решают задачу случайным образом, не вникнув в ее содержа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еречисленные особенности определяют необходимость специальной поддержки обучающихся с задержкой психического 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Родионова Ирина Георгиевна</cp:lastModifiedBy>
  <dcterms:modified xsi:type="dcterms:W3CDTF">2023-06-19T07:38:44Z</dcterms:modified>
  <cp:revision>494</cp:revision>
  <dc:subject/>
  <dc:title>Diapositiva 1</dc:title>
</cp:coreProperties>
</file>