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DCC6-F64C-40CC-8E1E-02F7A8F64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B08D-01AD-46C8-B177-8CBDC418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E2E0A-275E-44E2-90FE-60E53F88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3FB05-5FC0-4A44-A1A6-C1A4AD3F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7D9D7-8443-4706-93CA-797ADEA0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1C8A6-56A2-4511-B334-7BA82C44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D08898-DD48-446D-A77A-18065795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DFAAF-3EB6-4FE7-820E-E6210DB3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1EFF4-3A5A-4B2E-AE6E-45DE72AE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8E938-AC24-4861-965F-F640B7F5B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691FC-5174-4C06-AA7C-780543A88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B7B5-BC2C-43C6-9E24-985876E40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249A-7AAD-496F-90C7-59C9AAB7D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25C3-A63A-4496-BB43-A6BC6BE9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E0AE-1EE9-4390-939F-8D55AAC0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2CBC-7B57-48AA-97D0-F85F78C1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F039-F052-4143-A150-EB1B30E0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CA7D-0C19-4BA2-87DC-397AE882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1676-F10F-4E5B-9A8A-04D9C750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B199-6F70-4CA2-B009-7BD3E1FC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3C5A-1272-4F3D-8A3C-D16AF668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98CF-87D5-4177-814C-D017B46D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94C9-0DE9-4D39-A9D7-BCAEB083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C9DA-00FD-44DB-84EA-9446BC86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2A2E-F2C9-40B0-940C-58274D095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F801-612E-4634-B7AA-4E2D3E26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A3175-F32D-4D6D-A1AE-7EF8DF3A5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03889-8D37-4D7F-B9DA-7FE0A338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0306A-30FF-4FEC-906E-9E74AEDC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E7822-40DA-4638-B5ED-C4C16663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05AC3-8FA4-4BA2-83A0-0F3C9AC0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1A70-7E89-4323-9BC0-04EF94BA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0D29D-EC60-46D1-88D9-E79DF792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E541D-52CD-43C2-B37B-13D7E483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37C84-7F67-46C3-9965-C1E9C889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DA78E-AC6E-401B-B671-0508B4ED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FCF1A-48A9-4822-BA5A-9A9D13DA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661BF-6632-4D2B-A269-2B54891B2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97E90-369B-4E50-A73F-58E17D1D7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BCA07-A93F-4B3F-ACFB-1F3630BD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9BCC6-D475-4A0A-84D8-31EA279B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276D5-E55D-4AAB-B3CA-9D3A9D0A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74D4-51F2-4B4B-8D77-6E902AB6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C83EC-5BE3-438E-830F-B350AE06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F891A-8483-496F-8DB1-A7DAC897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51921-AA45-4419-9465-CF02A342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1D4B7-21EF-4186-81A7-4065AE2D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98EF7-1EA1-42F6-8540-D08CEB4E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7E729-8DBB-496C-A494-FAE10E90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03491-333C-4F52-8178-B393A52A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9F7D4-BCA6-44E2-991F-CD66FEF1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EF629-62F3-4089-9937-21F9859F1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24581-EF1A-4886-956B-3EA5CA26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BE2F-6232-4ECD-95B2-F481B255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587D0-8471-4DA1-B9F4-C8A3E9FC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6163F-78C3-4EF9-83D8-7A7B7C4D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82628-884B-47A8-B766-3D16BC35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A458A-2BEE-431A-9D26-FCD9B4AD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F93EA-58F9-42E9-8E8D-FFECC945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4802F-2629-4245-A318-A60C8A3D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37F52-F714-44A9-97E1-DC14F01C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49C88-256B-444B-B424-BDD12F7B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DC864-5A7D-47E6-B5DF-BCCFA686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7515E-2B44-416A-B63D-2B8C59534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4271-AF4C-490C-A669-E5634C6B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3B8B4-52F5-4072-98B9-353491D6A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A6A3B-D6B8-4270-A9F5-67E8535BE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7585C-8359-4451-9E3E-1E5F1731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015E2-5EB1-4E83-B51E-6B99F4EE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E55D3-AB24-48D1-86CC-946DC25D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6694A-F578-47D5-BCEA-871C2648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DB677-9F90-492B-8EEC-14519C1E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38672-04E5-43D6-8990-E081C4DF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45990-4B32-410B-9858-36F42DB7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1F711-E3AA-40BF-BF03-61408F48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450D-D097-43E8-9898-29A694BA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03B22-EEF8-4676-8867-9845675E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C45AB-C007-4532-9073-A5A9568B3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5E9F2-5488-4CC6-818D-6744AE846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D2636-A973-4186-888D-6437E52D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C8068-0D82-484A-A2F5-C8617034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009B0-F8B5-40A1-AFE0-9721439C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D6B09-039C-4D4B-A299-C3882852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A6004-7328-45DF-BF3D-C3CA0B0F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A1A6B-A49A-4CFB-B805-E3F2D6A1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37F12-AEE7-40AC-B1F8-D9D23E4B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1106-482D-4E94-9DE8-5270CCD1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10829-9B06-4B6F-8534-108DCFB6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6FC45-8E00-41D1-A04B-9AE14DB4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3F743-FE8E-40FD-936E-15328421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8732B-5AC0-46FE-9170-D44F9DD2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68D56-F127-4370-89D9-302FA8507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FB624-B176-4A20-B624-D81A44B0B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10852-023F-41A6-9933-6DD848D0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0CF85-6E76-4C35-908C-F74BDCD7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0DDFD-B955-4D69-91E1-CA9B656B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FF5D8-9D1B-48ED-B7B5-3973B412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5D3D-E924-4150-B5BC-5B81D89E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1E512-4474-461F-877C-B2C7967F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12656-281D-4154-AC16-6477AB78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942EC-AAF6-4D64-B484-9E5B279E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08DBB-D71C-40C8-BE34-6EAA92B5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C71CD-4965-4A3C-8A04-CF364ED0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31A7C-7F9A-40AE-8C88-9599B017E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95D38-D238-4AF6-B2E8-B44ED6ED4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80DD8-AFDB-43BA-8263-56BF72C05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2F9D5-504E-4298-97D8-D5EE46F2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57D70-BA83-41A0-9018-90109B1B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735B7B7-C773-4F97-B28F-18AE85A513C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ED66F76-D2B6-44CF-9418-9D1F6C71BBC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435C53B-29F7-4376-AAD8-06819AAD384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11744B6-2E01-432F-8518-66E8579D385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260F429-3559-43D2-BFC9-9944CAB7FEE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0F7319A-BD25-4DEF-8193-FE59DB44C64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3DDC761-38A8-431C-9164-C04FB754F24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E28EB36-9229-4213-8D1D-7CD58091918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069BC3-327F-4048-99DC-E8084F5BD8E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"/>
          <p:cNvSpPr/>
          <p:nvPr/>
        </p:nvSpPr>
        <p:spPr>
          <a:xfrm>
            <a:off x="3032280" y="1103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2"/>
          <p:cNvSpPr/>
          <p:nvPr/>
        </p:nvSpPr>
        <p:spPr>
          <a:xfrm>
            <a:off x="228600" y="1600200"/>
            <a:ext cx="876312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212745"/>
                </a:solidFill>
                <a:latin typeface="Mangal"/>
              </a:rPr>
              <a:t>Задачи на построение сечения в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212745"/>
                </a:solidFill>
                <a:latin typeface="Mangal"/>
              </a:rPr>
              <a:t>параллелепипед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12745"/>
                </a:solidFill>
                <a:latin typeface="Mangal"/>
              </a:rPr>
              <a:t>Геометрия-10</a:t>
            </a:r>
            <a:r>
              <a:rPr b="1" lang="en-US" sz="3200" spc="-1" strike="noStrike">
                <a:solidFill>
                  <a:srgbClr val="212745"/>
                </a:solidFill>
                <a:latin typeface="Mangal"/>
              </a:rPr>
              <a:t> </a:t>
            </a:r>
            <a:r>
              <a:rPr b="1" lang="ru-RU" sz="3200" spc="-1" strike="noStrike">
                <a:solidFill>
                  <a:srgbClr val="212745"/>
                </a:solidFill>
                <a:latin typeface="Mangal"/>
              </a:rPr>
              <a:t>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12745"/>
                </a:solidFill>
                <a:latin typeface="Mangal"/>
              </a:rPr>
              <a:t>Учитель: Саркисова Карина Александр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12745"/>
                </a:solidFill>
                <a:latin typeface="Mangal"/>
              </a:rPr>
              <a:t>МБОУ СОШ № 6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12745"/>
                </a:solidFill>
                <a:latin typeface="Mangal"/>
              </a:rPr>
              <a:t>г.Курча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1"/>
          <p:cNvGrpSpPr/>
          <p:nvPr/>
        </p:nvGrpSpPr>
        <p:grpSpPr>
          <a:xfrm>
            <a:off x="457200" y="-195120"/>
            <a:ext cx="8758080" cy="2552400"/>
            <a:chOff x="457200" y="-195120"/>
            <a:chExt cx="8758080" cy="2552400"/>
          </a:xfrm>
        </p:grpSpPr>
        <p:pic>
          <p:nvPicPr>
            <p:cNvPr id="402" name="Picture 2" descr=""/>
            <p:cNvPicPr/>
            <p:nvPr/>
          </p:nvPicPr>
          <p:blipFill>
            <a:blip r:embed="rId1"/>
            <a:stretch/>
          </p:blipFill>
          <p:spPr>
            <a:xfrm>
              <a:off x="457200" y="-195120"/>
              <a:ext cx="8758080" cy="25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Text Box 3"/>
            <p:cNvSpPr/>
            <p:nvPr/>
          </p:nvSpPr>
          <p:spPr>
            <a:xfrm>
              <a:off x="457200" y="-195120"/>
              <a:ext cx="8758080" cy="25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Text Box 4"/>
          <p:cNvSpPr/>
          <p:nvPr/>
        </p:nvSpPr>
        <p:spPr>
          <a:xfrm>
            <a:off x="615960" y="1981080"/>
            <a:ext cx="8229600" cy="37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Mangal"/>
              </a:rPr>
              <a:t>Секущая плоскость</a:t>
            </a:r>
            <a:r>
              <a:rPr b="0" lang="en-US" sz="2200" spc="-1" strike="noStrike">
                <a:solidFill>
                  <a:srgbClr val="212745"/>
                </a:solidFill>
                <a:latin typeface="Mangal"/>
              </a:rPr>
              <a:t> </a:t>
            </a:r>
            <a:r>
              <a:rPr b="0" lang="ru-RU" sz="2200" spc="-1" strike="noStrike">
                <a:solidFill>
                  <a:srgbClr val="212745"/>
                </a:solidFill>
                <a:latin typeface="Mangal"/>
              </a:rPr>
              <a:t>параллелепипеда</a:t>
            </a:r>
            <a:r>
              <a:rPr b="0" lang="ru-RU" sz="2200" spc="-1" strike="noStrike">
                <a:solidFill>
                  <a:srgbClr val="404040"/>
                </a:solidFill>
                <a:latin typeface="Mangal"/>
              </a:rPr>
              <a:t> – это плоскость, по обе стороны от которой имеются точки данного параллелепипед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Group 5"/>
          <p:cNvGrpSpPr/>
          <p:nvPr/>
        </p:nvGrpSpPr>
        <p:grpSpPr>
          <a:xfrm>
            <a:off x="5105160" y="3117960"/>
            <a:ext cx="2588040" cy="2361960"/>
            <a:chOff x="5105160" y="3117960"/>
            <a:chExt cx="2588040" cy="2361960"/>
          </a:xfrm>
        </p:grpSpPr>
        <p:sp>
          <p:nvSpPr>
            <p:cNvPr id="406" name="Freeform 6"/>
            <p:cNvSpPr/>
            <p:nvPr/>
          </p:nvSpPr>
          <p:spPr>
            <a:xfrm>
              <a:off x="5116680" y="3397320"/>
              <a:ext cx="780840" cy="103176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7"/>
            <p:cNvSpPr/>
            <p:nvPr/>
          </p:nvSpPr>
          <p:spPr>
            <a:xfrm>
              <a:off x="5116680" y="3408480"/>
              <a:ext cx="296640" cy="988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Freeform 8"/>
            <p:cNvSpPr/>
            <p:nvPr/>
          </p:nvSpPr>
          <p:spPr>
            <a:xfrm>
              <a:off x="5116680" y="3703680"/>
              <a:ext cx="774360" cy="72540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9"/>
            <p:cNvSpPr/>
            <p:nvPr/>
          </p:nvSpPr>
          <p:spPr>
            <a:xfrm>
              <a:off x="5424480" y="3379680"/>
              <a:ext cx="457200" cy="30636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10"/>
            <p:cNvSpPr/>
            <p:nvPr/>
          </p:nvSpPr>
          <p:spPr>
            <a:xfrm>
              <a:off x="5105520" y="4381560"/>
              <a:ext cx="2584440" cy="109836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1" name="Group 11"/>
            <p:cNvGrpSpPr/>
            <p:nvPr/>
          </p:nvGrpSpPr>
          <p:grpSpPr>
            <a:xfrm>
              <a:off x="5105160" y="3117960"/>
              <a:ext cx="2588040" cy="2360880"/>
              <a:chOff x="5105160" y="3117960"/>
              <a:chExt cx="2588040" cy="2360880"/>
            </a:xfrm>
          </p:grpSpPr>
          <p:grpSp>
            <p:nvGrpSpPr>
              <p:cNvPr id="412" name="Group 12"/>
              <p:cNvGrpSpPr/>
              <p:nvPr/>
            </p:nvGrpSpPr>
            <p:grpSpPr>
              <a:xfrm>
                <a:off x="5105160" y="3117960"/>
                <a:ext cx="2588040" cy="2360880"/>
                <a:chOff x="5105160" y="3117960"/>
                <a:chExt cx="2588040" cy="2360880"/>
              </a:xfrm>
            </p:grpSpPr>
            <p:sp>
              <p:nvSpPr>
                <p:cNvPr id="413" name="Freeform 13"/>
                <p:cNvSpPr/>
                <p:nvPr/>
              </p:nvSpPr>
              <p:spPr>
                <a:xfrm>
                  <a:off x="5121360" y="3117960"/>
                  <a:ext cx="565200" cy="5731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14"/>
                <p:cNvSpPr/>
                <p:nvPr/>
              </p:nvSpPr>
              <p:spPr>
                <a:xfrm>
                  <a:off x="7101000" y="3117960"/>
                  <a:ext cx="581040" cy="6001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cxnSp>
              <p:nvCxnSpPr>
                <p:cNvPr id="415" name="AutoShape 15"/>
                <p:cNvCxnSpPr>
                  <a:stCxn id="413" idx="2"/>
                  <a:endCxn id="414" idx="2"/>
                </p:cNvCxnSpPr>
                <p:nvPr/>
              </p:nvCxnSpPr>
              <p:spPr>
                <a:xfrm>
                  <a:off x="5686200" y="3117960"/>
                  <a:ext cx="1997640" cy="2160"/>
                </a:xfrm>
                <a:prstGeom prst="bentConnector3">
                  <a:avLst>
                    <a:gd name="adj1" fmla="val 50000"/>
                  </a:avLst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  <p:sp>
              <p:nvSpPr>
                <p:cNvPr id="416" name="Freeform 17"/>
                <p:cNvSpPr/>
                <p:nvPr/>
              </p:nvSpPr>
              <p:spPr>
                <a:xfrm>
                  <a:off x="7105680" y="4886280"/>
                  <a:ext cx="576360" cy="5842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cxnSp>
              <p:nvCxnSpPr>
                <p:cNvPr id="417" name="AutoShape 18"/>
                <p:cNvCxnSpPr>
                  <a:stCxn id="416" idx="2"/>
                  <a:endCxn id="418" idx="2"/>
                </p:cNvCxnSpPr>
                <p:nvPr/>
              </p:nvCxnSpPr>
              <p:spPr>
                <a:xfrm flipV="1" rot="10800000">
                  <a:off x="5104800" y="5470200"/>
                  <a:ext cx="2000880" cy="7200"/>
                </a:xfrm>
                <a:prstGeom prst="bentConnector3">
                  <a:avLst>
                    <a:gd name="adj1" fmla="val 49991"/>
                  </a:avLst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  <p:cxnSp>
              <p:nvCxnSpPr>
                <p:cNvPr id="419" name="AutoShape 19"/>
                <p:cNvCxnSpPr/>
                <p:nvPr/>
              </p:nvCxnSpPr>
              <p:spPr>
                <a:xfrm>
                  <a:off x="5105520" y="5477040"/>
                  <a:ext cx="2160" cy="2160"/>
                </a:xfrm>
                <a:prstGeom prst="bentConnector3">
                  <a:avLst>
                    <a:gd name="adj1" fmla="val 40000"/>
                  </a:avLst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  <p:sp>
              <p:nvSpPr>
                <p:cNvPr id="418" name="Freeform 20"/>
                <p:cNvSpPr/>
                <p:nvPr/>
              </p:nvSpPr>
              <p:spPr>
                <a:xfrm>
                  <a:off x="5105520" y="3691080"/>
                  <a:ext cx="15840" cy="1785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21"/>
                <p:cNvSpPr/>
                <p:nvPr/>
              </p:nvSpPr>
              <p:spPr>
                <a:xfrm>
                  <a:off x="7105680" y="3718080"/>
                  <a:ext cx="11160" cy="1758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22"/>
                <p:cNvSpPr/>
                <p:nvPr/>
              </p:nvSpPr>
              <p:spPr>
                <a:xfrm>
                  <a:off x="7686720" y="3117960"/>
                  <a:ext cx="6480" cy="17352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2" name="Freeform 23"/>
              <p:cNvSpPr/>
              <p:nvPr/>
            </p:nvSpPr>
            <p:spPr>
              <a:xfrm>
                <a:off x="5116680" y="4834080"/>
                <a:ext cx="554040" cy="639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24"/>
              <p:cNvSpPr/>
              <p:nvPr/>
            </p:nvSpPr>
            <p:spPr>
              <a:xfrm>
                <a:off x="7124760" y="4881600"/>
                <a:ext cx="558720" cy="5731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Freeform 26"/>
              <p:cNvSpPr/>
              <p:nvPr/>
            </p:nvSpPr>
            <p:spPr>
              <a:xfrm>
                <a:off x="5681520" y="3117960"/>
                <a:ext cx="5040" cy="1698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5" name="Freeform 27"/>
            <p:cNvSpPr/>
            <p:nvPr/>
          </p:nvSpPr>
          <p:spPr>
            <a:xfrm>
              <a:off x="5105520" y="4381560"/>
              <a:ext cx="582480" cy="107640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28"/>
            <p:cNvSpPr/>
            <p:nvPr/>
          </p:nvSpPr>
          <p:spPr>
            <a:xfrm>
              <a:off x="5688000" y="4381560"/>
              <a:ext cx="1986120" cy="468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29"/>
            <p:cNvSpPr/>
            <p:nvPr/>
          </p:nvSpPr>
          <p:spPr>
            <a:xfrm>
              <a:off x="7120080" y="4381560"/>
              <a:ext cx="547560" cy="10922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8" name="Прямая соединительная линия 31"/>
          <p:cNvSpPr/>
          <p:nvPr/>
        </p:nvSpPr>
        <p:spPr>
          <a:xfrm>
            <a:off x="5121360" y="3691080"/>
            <a:ext cx="198432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Прямая соединительная линия 33"/>
          <p:cNvSpPr/>
          <p:nvPr/>
        </p:nvSpPr>
        <p:spPr>
          <a:xfrm>
            <a:off x="5670720" y="4834080"/>
            <a:ext cx="2016000" cy="1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1"/>
          <p:cNvSpPr/>
          <p:nvPr/>
        </p:nvSpPr>
        <p:spPr>
          <a:xfrm>
            <a:off x="380880" y="304920"/>
            <a:ext cx="6248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angal"/>
              </a:rPr>
              <a:t>Параллелепипед имеет  шесть гран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angal"/>
              </a:rPr>
              <a:t>Его сечениями могут бы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1" name="Group 2"/>
          <p:cNvGrpSpPr/>
          <p:nvPr/>
        </p:nvGrpSpPr>
        <p:grpSpPr>
          <a:xfrm>
            <a:off x="6019560" y="1219320"/>
            <a:ext cx="2588040" cy="2284560"/>
            <a:chOff x="6019560" y="1219320"/>
            <a:chExt cx="2588040" cy="2284560"/>
          </a:xfrm>
        </p:grpSpPr>
        <p:sp>
          <p:nvSpPr>
            <p:cNvPr id="432" name="Freeform 3"/>
            <p:cNvSpPr/>
            <p:nvPr/>
          </p:nvSpPr>
          <p:spPr>
            <a:xfrm>
              <a:off x="6035760" y="1219320"/>
              <a:ext cx="2562120" cy="227952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4"/>
            <p:cNvSpPr/>
            <p:nvPr/>
          </p:nvSpPr>
          <p:spPr>
            <a:xfrm>
              <a:off x="6035760" y="2658960"/>
              <a:ext cx="904680" cy="838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6019560" y="1224000"/>
              <a:ext cx="2588040" cy="2279880"/>
              <a:chOff x="6019560" y="1224000"/>
              <a:chExt cx="2588040" cy="2279880"/>
            </a:xfrm>
          </p:grpSpPr>
          <p:grpSp>
            <p:nvGrpSpPr>
              <p:cNvPr id="435" name="Group 6"/>
              <p:cNvGrpSpPr/>
              <p:nvPr/>
            </p:nvGrpSpPr>
            <p:grpSpPr>
              <a:xfrm>
                <a:off x="6019560" y="1224000"/>
                <a:ext cx="2588040" cy="2279880"/>
                <a:chOff x="6019560" y="1224000"/>
                <a:chExt cx="2588040" cy="2279880"/>
              </a:xfrm>
            </p:grpSpPr>
            <p:sp>
              <p:nvSpPr>
                <p:cNvPr id="436" name="Freeform 7"/>
                <p:cNvSpPr/>
                <p:nvPr/>
              </p:nvSpPr>
              <p:spPr>
                <a:xfrm>
                  <a:off x="6035760" y="1225440"/>
                  <a:ext cx="565200" cy="5540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8"/>
                <p:cNvSpPr/>
                <p:nvPr/>
              </p:nvSpPr>
              <p:spPr>
                <a:xfrm>
                  <a:off x="8015400" y="1225440"/>
                  <a:ext cx="581040" cy="5796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cxnSp>
              <p:nvCxnSpPr>
                <p:cNvPr id="438" name="AutoShape 9"/>
                <p:cNvCxnSpPr>
                  <a:stCxn id="436" idx="2"/>
                  <a:endCxn id="437" idx="2"/>
                </p:cNvCxnSpPr>
                <p:nvPr/>
              </p:nvCxnSpPr>
              <p:spPr>
                <a:xfrm>
                  <a:off x="6600600" y="1224000"/>
                  <a:ext cx="1997640" cy="2160"/>
                </a:xfrm>
                <a:prstGeom prst="bentConnector3">
                  <a:avLst>
                    <a:gd name="adj1" fmla="val 50000"/>
                  </a:avLst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  <p:sp>
              <p:nvSpPr>
                <p:cNvPr id="439" name="Freeform 11"/>
                <p:cNvSpPr/>
                <p:nvPr/>
              </p:nvSpPr>
              <p:spPr>
                <a:xfrm>
                  <a:off x="8020080" y="2932200"/>
                  <a:ext cx="576360" cy="5634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cxnSp>
              <p:nvCxnSpPr>
                <p:cNvPr id="440" name="AutoShape 12"/>
                <p:cNvCxnSpPr>
                  <a:stCxn id="439" idx="2"/>
                  <a:endCxn id="441" idx="2"/>
                </p:cNvCxnSpPr>
                <p:nvPr/>
              </p:nvCxnSpPr>
              <p:spPr>
                <a:xfrm flipV="1" rot="10800000">
                  <a:off x="6019200" y="3495240"/>
                  <a:ext cx="2000880" cy="7200"/>
                </a:xfrm>
                <a:prstGeom prst="bentConnector3">
                  <a:avLst>
                    <a:gd name="adj1" fmla="val 49991"/>
                  </a:avLst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  <p:cxnSp>
              <p:nvCxnSpPr>
                <p:cNvPr id="442" name="AutoShape 13"/>
                <p:cNvCxnSpPr/>
                <p:nvPr/>
              </p:nvCxnSpPr>
              <p:spPr>
                <a:xfrm>
                  <a:off x="6019920" y="3502080"/>
                  <a:ext cx="2160" cy="2160"/>
                </a:xfrm>
                <a:prstGeom prst="bentConnector3">
                  <a:avLst>
                    <a:gd name="adj1" fmla="val 40000"/>
                  </a:avLst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  <p:sp>
              <p:nvSpPr>
                <p:cNvPr id="441" name="Freeform 14"/>
                <p:cNvSpPr/>
                <p:nvPr/>
              </p:nvSpPr>
              <p:spPr>
                <a:xfrm>
                  <a:off x="6019920" y="1778040"/>
                  <a:ext cx="15840" cy="17240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15"/>
                <p:cNvSpPr/>
                <p:nvPr/>
              </p:nvSpPr>
              <p:spPr>
                <a:xfrm>
                  <a:off x="8020080" y="1805040"/>
                  <a:ext cx="11160" cy="16970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16"/>
                <p:cNvSpPr/>
                <p:nvPr/>
              </p:nvSpPr>
              <p:spPr>
                <a:xfrm>
                  <a:off x="8601120" y="1225440"/>
                  <a:ext cx="6480" cy="16765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5" name="Freeform 17"/>
              <p:cNvSpPr/>
              <p:nvPr/>
            </p:nvSpPr>
            <p:spPr>
              <a:xfrm>
                <a:off x="6031080" y="2881440"/>
                <a:ext cx="554040" cy="617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18"/>
              <p:cNvSpPr/>
              <p:nvPr/>
            </p:nvSpPr>
            <p:spPr>
              <a:xfrm>
                <a:off x="8039160" y="2927520"/>
                <a:ext cx="558720" cy="5540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20"/>
              <p:cNvSpPr/>
              <p:nvPr/>
            </p:nvSpPr>
            <p:spPr>
              <a:xfrm>
                <a:off x="6595920" y="1225440"/>
                <a:ext cx="5040" cy="1640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8" name="Freeform 21"/>
            <p:cNvSpPr/>
            <p:nvPr/>
          </p:nvSpPr>
          <p:spPr>
            <a:xfrm>
              <a:off x="8361360" y="2095560"/>
              <a:ext cx="236520" cy="10555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22"/>
            <p:cNvSpPr/>
            <p:nvPr/>
          </p:nvSpPr>
          <p:spPr>
            <a:xfrm>
              <a:off x="6951600" y="3166920"/>
              <a:ext cx="1409760" cy="32256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23"/>
            <p:cNvSpPr/>
            <p:nvPr/>
          </p:nvSpPr>
          <p:spPr>
            <a:xfrm>
              <a:off x="6357960" y="1219320"/>
              <a:ext cx="1147680" cy="25380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24"/>
            <p:cNvSpPr/>
            <p:nvPr/>
          </p:nvSpPr>
          <p:spPr>
            <a:xfrm>
              <a:off x="7516800" y="1225440"/>
              <a:ext cx="1081080" cy="85428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25"/>
            <p:cNvSpPr/>
            <p:nvPr/>
          </p:nvSpPr>
          <p:spPr>
            <a:xfrm>
              <a:off x="6046920" y="1461960"/>
              <a:ext cx="311040" cy="11858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3" name="Group 26"/>
          <p:cNvGrpSpPr/>
          <p:nvPr/>
        </p:nvGrpSpPr>
        <p:grpSpPr>
          <a:xfrm>
            <a:off x="3071160" y="3500280"/>
            <a:ext cx="2740680" cy="2436840"/>
            <a:chOff x="3071160" y="3500280"/>
            <a:chExt cx="2740680" cy="2436840"/>
          </a:xfrm>
        </p:grpSpPr>
        <p:sp>
          <p:nvSpPr>
            <p:cNvPr id="454" name="Freeform 27"/>
            <p:cNvSpPr/>
            <p:nvPr/>
          </p:nvSpPr>
          <p:spPr>
            <a:xfrm>
              <a:off x="3083040" y="4836960"/>
              <a:ext cx="2725560" cy="110016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5" name="Group 28"/>
            <p:cNvGrpSpPr/>
            <p:nvPr/>
          </p:nvGrpSpPr>
          <p:grpSpPr>
            <a:xfrm>
              <a:off x="3071160" y="3500280"/>
              <a:ext cx="2740680" cy="2436840"/>
              <a:chOff x="3071160" y="3500280"/>
              <a:chExt cx="2740680" cy="2436840"/>
            </a:xfrm>
          </p:grpSpPr>
          <p:grpSp>
            <p:nvGrpSpPr>
              <p:cNvPr id="456" name="Group 29"/>
              <p:cNvGrpSpPr/>
              <p:nvPr/>
            </p:nvGrpSpPr>
            <p:grpSpPr>
              <a:xfrm>
                <a:off x="3071160" y="3500280"/>
                <a:ext cx="2740680" cy="2436840"/>
                <a:chOff x="3071160" y="3500280"/>
                <a:chExt cx="2740680" cy="2436840"/>
              </a:xfrm>
            </p:grpSpPr>
            <p:sp>
              <p:nvSpPr>
                <p:cNvPr id="457" name="Freeform 30"/>
                <p:cNvSpPr/>
                <p:nvPr/>
              </p:nvSpPr>
              <p:spPr>
                <a:xfrm>
                  <a:off x="3089160" y="3500280"/>
                  <a:ext cx="598680" cy="5918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Freeform 31"/>
                <p:cNvSpPr/>
                <p:nvPr/>
              </p:nvSpPr>
              <p:spPr>
                <a:xfrm>
                  <a:off x="5184720" y="3500280"/>
                  <a:ext cx="614520" cy="620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cxnSp>
              <p:nvCxnSpPr>
                <p:cNvPr id="459" name="AutoShape 32"/>
                <p:cNvCxnSpPr>
                  <a:stCxn id="457" idx="2"/>
                  <a:endCxn id="458" idx="2"/>
                </p:cNvCxnSpPr>
                <p:nvPr/>
              </p:nvCxnSpPr>
              <p:spPr>
                <a:xfrm>
                  <a:off x="3686040" y="3500280"/>
                  <a:ext cx="2115360" cy="2160"/>
                </a:xfrm>
                <a:prstGeom prst="bentConnector3">
                  <a:avLst>
                    <a:gd name="adj1" fmla="val 49991"/>
                  </a:avLst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  <p:sp>
              <p:nvSpPr>
                <p:cNvPr id="460" name="Freeform 34"/>
                <p:cNvSpPr/>
                <p:nvPr/>
              </p:nvSpPr>
              <p:spPr>
                <a:xfrm>
                  <a:off x="5191200" y="5325840"/>
                  <a:ext cx="609480" cy="6033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cxnSp>
              <p:nvCxnSpPr>
                <p:cNvPr id="461" name="AutoShape 35"/>
                <p:cNvCxnSpPr>
                  <a:stCxn id="460" idx="2"/>
                  <a:endCxn id="462" idx="2"/>
                </p:cNvCxnSpPr>
                <p:nvPr/>
              </p:nvCxnSpPr>
              <p:spPr>
                <a:xfrm flipV="1" rot="10800000">
                  <a:off x="3071160" y="5928840"/>
                  <a:ext cx="2120040" cy="6840"/>
                </a:xfrm>
                <a:prstGeom prst="bentConnector3">
                  <a:avLst>
                    <a:gd name="adj1" fmla="val 50000"/>
                  </a:avLst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  <p:cxnSp>
              <p:nvCxnSpPr>
                <p:cNvPr id="463" name="AutoShape 36"/>
                <p:cNvCxnSpPr/>
                <p:nvPr/>
              </p:nvCxnSpPr>
              <p:spPr>
                <a:xfrm>
                  <a:off x="3071880" y="5934960"/>
                  <a:ext cx="2160" cy="2520"/>
                </a:xfrm>
                <a:prstGeom prst="bentConnector3">
                  <a:avLst>
                    <a:gd name="adj1" fmla="val 40000"/>
                  </a:avLst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  <p:sp>
              <p:nvSpPr>
                <p:cNvPr id="462" name="Freeform 37"/>
                <p:cNvSpPr/>
                <p:nvPr/>
              </p:nvSpPr>
              <p:spPr>
                <a:xfrm>
                  <a:off x="3071880" y="4092120"/>
                  <a:ext cx="15840" cy="18432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4" name="Freeform 38"/>
                <p:cNvSpPr/>
                <p:nvPr/>
              </p:nvSpPr>
              <p:spPr>
                <a:xfrm>
                  <a:off x="5191200" y="4120920"/>
                  <a:ext cx="11160" cy="18144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39"/>
                <p:cNvSpPr/>
                <p:nvPr/>
              </p:nvSpPr>
              <p:spPr>
                <a:xfrm>
                  <a:off x="5805360" y="3500280"/>
                  <a:ext cx="6480" cy="1792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6" name="Freeform 40"/>
              <p:cNvSpPr/>
              <p:nvPr/>
            </p:nvSpPr>
            <p:spPr>
              <a:xfrm>
                <a:off x="3083040" y="5271840"/>
                <a:ext cx="585720" cy="6602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41"/>
              <p:cNvSpPr/>
              <p:nvPr/>
            </p:nvSpPr>
            <p:spPr>
              <a:xfrm>
                <a:off x="5208480" y="5321160"/>
                <a:ext cx="592200" cy="5918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43"/>
              <p:cNvSpPr/>
              <p:nvPr/>
            </p:nvSpPr>
            <p:spPr>
              <a:xfrm>
                <a:off x="3681360" y="3500280"/>
                <a:ext cx="4680" cy="1752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9" name="Freeform 44"/>
            <p:cNvSpPr/>
            <p:nvPr/>
          </p:nvSpPr>
          <p:spPr>
            <a:xfrm>
              <a:off x="3083040" y="4836960"/>
              <a:ext cx="598320" cy="8287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Freeform 45"/>
            <p:cNvSpPr/>
            <p:nvPr/>
          </p:nvSpPr>
          <p:spPr>
            <a:xfrm>
              <a:off x="3071880" y="5665680"/>
              <a:ext cx="803160" cy="26640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46"/>
            <p:cNvSpPr/>
            <p:nvPr/>
          </p:nvSpPr>
          <p:spPr>
            <a:xfrm>
              <a:off x="3892320" y="5632200"/>
              <a:ext cx="1602000" cy="304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47"/>
            <p:cNvSpPr/>
            <p:nvPr/>
          </p:nvSpPr>
          <p:spPr>
            <a:xfrm>
              <a:off x="5500800" y="4865400"/>
              <a:ext cx="301320" cy="7603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Freeform 48"/>
            <p:cNvSpPr/>
            <p:nvPr/>
          </p:nvSpPr>
          <p:spPr>
            <a:xfrm>
              <a:off x="3699000" y="4831920"/>
              <a:ext cx="2092320" cy="1620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4" name="Group 49"/>
          <p:cNvGrpSpPr/>
          <p:nvPr/>
        </p:nvGrpSpPr>
        <p:grpSpPr>
          <a:xfrm>
            <a:off x="112320" y="2700360"/>
            <a:ext cx="2588040" cy="2362320"/>
            <a:chOff x="112320" y="2700360"/>
            <a:chExt cx="2588040" cy="2362320"/>
          </a:xfrm>
        </p:grpSpPr>
        <p:sp>
          <p:nvSpPr>
            <p:cNvPr id="475" name="Freeform 50"/>
            <p:cNvSpPr/>
            <p:nvPr/>
          </p:nvSpPr>
          <p:spPr>
            <a:xfrm>
              <a:off x="123840" y="2979720"/>
              <a:ext cx="781200" cy="103176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Freeform 51"/>
            <p:cNvSpPr/>
            <p:nvPr/>
          </p:nvSpPr>
          <p:spPr>
            <a:xfrm>
              <a:off x="123840" y="2990880"/>
              <a:ext cx="297000" cy="988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Freeform 52"/>
            <p:cNvSpPr/>
            <p:nvPr/>
          </p:nvSpPr>
          <p:spPr>
            <a:xfrm>
              <a:off x="123840" y="3286080"/>
              <a:ext cx="774720" cy="72540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Freeform 53"/>
            <p:cNvSpPr/>
            <p:nvPr/>
          </p:nvSpPr>
          <p:spPr>
            <a:xfrm>
              <a:off x="431640" y="2962440"/>
              <a:ext cx="457200" cy="30636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Freeform 54"/>
            <p:cNvSpPr/>
            <p:nvPr/>
          </p:nvSpPr>
          <p:spPr>
            <a:xfrm>
              <a:off x="112680" y="3963960"/>
              <a:ext cx="2584440" cy="1098720"/>
            </a:xfrm>
            <a:prstGeom prst="pi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0" name="Group 55"/>
            <p:cNvGrpSpPr/>
            <p:nvPr/>
          </p:nvGrpSpPr>
          <p:grpSpPr>
            <a:xfrm>
              <a:off x="112320" y="2700360"/>
              <a:ext cx="2588040" cy="2360880"/>
              <a:chOff x="112320" y="2700360"/>
              <a:chExt cx="2588040" cy="2360880"/>
            </a:xfrm>
          </p:grpSpPr>
          <p:grpSp>
            <p:nvGrpSpPr>
              <p:cNvPr id="481" name="Group 56"/>
              <p:cNvGrpSpPr/>
              <p:nvPr/>
            </p:nvGrpSpPr>
            <p:grpSpPr>
              <a:xfrm>
                <a:off x="112320" y="2700360"/>
                <a:ext cx="2588040" cy="2360880"/>
                <a:chOff x="112320" y="2700360"/>
                <a:chExt cx="2588040" cy="2360880"/>
              </a:xfrm>
            </p:grpSpPr>
            <p:sp>
              <p:nvSpPr>
                <p:cNvPr id="482" name="Freeform 57"/>
                <p:cNvSpPr/>
                <p:nvPr/>
              </p:nvSpPr>
              <p:spPr>
                <a:xfrm>
                  <a:off x="128520" y="2700360"/>
                  <a:ext cx="565200" cy="5731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Freeform 58"/>
                <p:cNvSpPr/>
                <p:nvPr/>
              </p:nvSpPr>
              <p:spPr>
                <a:xfrm>
                  <a:off x="2108160" y="2700360"/>
                  <a:ext cx="581040" cy="6001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cxnSp>
              <p:nvCxnSpPr>
                <p:cNvPr id="484" name="AutoShape 59"/>
                <p:cNvCxnSpPr>
                  <a:stCxn id="482" idx="2"/>
                  <a:endCxn id="483" idx="2"/>
                </p:cNvCxnSpPr>
                <p:nvPr/>
              </p:nvCxnSpPr>
              <p:spPr>
                <a:xfrm>
                  <a:off x="693360" y="2700360"/>
                  <a:ext cx="1996200" cy="2160"/>
                </a:xfrm>
                <a:prstGeom prst="bentConnector3">
                  <a:avLst>
                    <a:gd name="adj1" fmla="val 50000"/>
                  </a:avLst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  <p:sp>
              <p:nvSpPr>
                <p:cNvPr id="485" name="Freeform 61"/>
                <p:cNvSpPr/>
                <p:nvPr/>
              </p:nvSpPr>
              <p:spPr>
                <a:xfrm>
                  <a:off x="2112840" y="4468680"/>
                  <a:ext cx="576360" cy="5842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cxnSp>
              <p:nvCxnSpPr>
                <p:cNvPr id="486" name="AutoShape 62"/>
                <p:cNvCxnSpPr>
                  <a:stCxn id="485" idx="2"/>
                  <a:endCxn id="487" idx="2"/>
                </p:cNvCxnSpPr>
                <p:nvPr/>
              </p:nvCxnSpPr>
              <p:spPr>
                <a:xfrm flipV="1" rot="10800000">
                  <a:off x="111960" y="5052600"/>
                  <a:ext cx="2000880" cy="7200"/>
                </a:xfrm>
                <a:prstGeom prst="bentConnector3">
                  <a:avLst>
                    <a:gd name="adj1" fmla="val 49991"/>
                  </a:avLst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  <p:cxnSp>
              <p:nvCxnSpPr>
                <p:cNvPr id="488" name="AutoShape 63"/>
                <p:cNvCxnSpPr/>
                <p:nvPr/>
              </p:nvCxnSpPr>
              <p:spPr>
                <a:xfrm>
                  <a:off x="112320" y="5059440"/>
                  <a:ext cx="2520" cy="2160"/>
                </a:xfrm>
                <a:prstGeom prst="bentConnector3">
                  <a:avLst>
                    <a:gd name="adj1" fmla="val 50000"/>
                  </a:avLst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  <p:sp>
              <p:nvSpPr>
                <p:cNvPr id="487" name="Freeform 64"/>
                <p:cNvSpPr/>
                <p:nvPr/>
              </p:nvSpPr>
              <p:spPr>
                <a:xfrm>
                  <a:off x="112680" y="3273480"/>
                  <a:ext cx="15840" cy="1785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Freeform 65"/>
                <p:cNvSpPr/>
                <p:nvPr/>
              </p:nvSpPr>
              <p:spPr>
                <a:xfrm>
                  <a:off x="2112840" y="3300480"/>
                  <a:ext cx="11160" cy="1758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66"/>
                <p:cNvSpPr/>
                <p:nvPr/>
              </p:nvSpPr>
              <p:spPr>
                <a:xfrm>
                  <a:off x="2693880" y="2700360"/>
                  <a:ext cx="6480" cy="17352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1" name="Freeform 67"/>
              <p:cNvSpPr/>
              <p:nvPr/>
            </p:nvSpPr>
            <p:spPr>
              <a:xfrm>
                <a:off x="123840" y="4416480"/>
                <a:ext cx="554040" cy="639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68"/>
              <p:cNvSpPr/>
              <p:nvPr/>
            </p:nvSpPr>
            <p:spPr>
              <a:xfrm>
                <a:off x="2131920" y="4464000"/>
                <a:ext cx="558720" cy="5731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70"/>
              <p:cNvSpPr/>
              <p:nvPr/>
            </p:nvSpPr>
            <p:spPr>
              <a:xfrm>
                <a:off x="689040" y="2700360"/>
                <a:ext cx="4680" cy="1698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4" name="Freeform 71"/>
            <p:cNvSpPr/>
            <p:nvPr/>
          </p:nvSpPr>
          <p:spPr>
            <a:xfrm>
              <a:off x="112680" y="3963960"/>
              <a:ext cx="582480" cy="107640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Freeform 72"/>
            <p:cNvSpPr/>
            <p:nvPr/>
          </p:nvSpPr>
          <p:spPr>
            <a:xfrm>
              <a:off x="695160" y="3963960"/>
              <a:ext cx="1986120" cy="468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Freeform 73"/>
            <p:cNvSpPr/>
            <p:nvPr/>
          </p:nvSpPr>
          <p:spPr>
            <a:xfrm>
              <a:off x="2127240" y="3963960"/>
              <a:ext cx="547560" cy="10922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7" name="Text Box 74"/>
          <p:cNvSpPr/>
          <p:nvPr/>
        </p:nvSpPr>
        <p:spPr>
          <a:xfrm>
            <a:off x="228600" y="160020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angal"/>
              </a:rPr>
              <a:t>Треугольник  и четырех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75"/>
          <p:cNvSpPr/>
          <p:nvPr/>
        </p:nvSpPr>
        <p:spPr>
          <a:xfrm>
            <a:off x="3505320" y="29718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angal"/>
              </a:rPr>
              <a:t>Пяти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76"/>
          <p:cNvSpPr/>
          <p:nvPr/>
        </p:nvSpPr>
        <p:spPr>
          <a:xfrm>
            <a:off x="6300720" y="762120"/>
            <a:ext cx="23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angal"/>
              </a:rPr>
              <a:t>Шести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Прямая соединительная линия 83"/>
          <p:cNvSpPr/>
          <p:nvPr/>
        </p:nvSpPr>
        <p:spPr>
          <a:xfrm>
            <a:off x="3668760" y="5272200"/>
            <a:ext cx="2136600" cy="20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Прямая соединительная линия 85"/>
          <p:cNvSpPr/>
          <p:nvPr/>
        </p:nvSpPr>
        <p:spPr>
          <a:xfrm>
            <a:off x="3087720" y="4092480"/>
            <a:ext cx="2103480" cy="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Прямая соединительная линия 87"/>
          <p:cNvSpPr/>
          <p:nvPr/>
        </p:nvSpPr>
        <p:spPr>
          <a:xfrm>
            <a:off x="677880" y="4416480"/>
            <a:ext cx="2016000" cy="1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Прямая соединительная линия 89"/>
          <p:cNvSpPr/>
          <p:nvPr/>
        </p:nvSpPr>
        <p:spPr>
          <a:xfrm>
            <a:off x="6572160" y="2857680"/>
            <a:ext cx="2013120" cy="4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Прямая соединительная линия 95"/>
          <p:cNvSpPr/>
          <p:nvPr/>
        </p:nvSpPr>
        <p:spPr>
          <a:xfrm>
            <a:off x="165240" y="3273480"/>
            <a:ext cx="194760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Прямая соединительная линия 100"/>
          <p:cNvSpPr/>
          <p:nvPr/>
        </p:nvSpPr>
        <p:spPr>
          <a:xfrm>
            <a:off x="6000840" y="1785960"/>
            <a:ext cx="201924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1"/>
          <p:cNvSpPr/>
          <p:nvPr/>
        </p:nvSpPr>
        <p:spPr>
          <a:xfrm>
            <a:off x="533520" y="533520"/>
            <a:ext cx="27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Mangal"/>
              </a:rPr>
              <a:t>Задача №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2"/>
          <p:cNvSpPr/>
          <p:nvPr/>
        </p:nvSpPr>
        <p:spPr>
          <a:xfrm>
            <a:off x="609480" y="1546200"/>
            <a:ext cx="8229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ан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а ребрах параллелепипеда даны  три точки  А, В и 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строить сечение параллелепипеда плоскостью АВ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3"/>
          <p:cNvSpPr/>
          <p:nvPr/>
        </p:nvSpPr>
        <p:spPr>
          <a:xfrm>
            <a:off x="596880" y="3352680"/>
            <a:ext cx="8001000" cy="22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строение сечения зависит от расположения точек, поэтому рассмотрим некоторые частные случа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1"/>
          <p:cNvSpPr/>
          <p:nvPr/>
        </p:nvSpPr>
        <p:spPr>
          <a:xfrm>
            <a:off x="1793880" y="4371840"/>
            <a:ext cx="6512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2"/>
          <p:cNvSpPr/>
          <p:nvPr/>
        </p:nvSpPr>
        <p:spPr>
          <a:xfrm>
            <a:off x="326880" y="20224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 u="sng">
                <a:solidFill>
                  <a:srgbClr val="404040"/>
                </a:solidFill>
                <a:uFillTx/>
                <a:latin typeface="Trebuchet MS"/>
              </a:rPr>
              <a:t>1 вариант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Line 3"/>
          <p:cNvSpPr/>
          <p:nvPr/>
        </p:nvSpPr>
        <p:spPr>
          <a:xfrm>
            <a:off x="3483000" y="3367080"/>
            <a:ext cx="68580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Line 4"/>
          <p:cNvSpPr/>
          <p:nvPr/>
        </p:nvSpPr>
        <p:spPr>
          <a:xfrm>
            <a:off x="4027320" y="2973240"/>
            <a:ext cx="1800" cy="608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3" name="Group 5"/>
          <p:cNvGrpSpPr/>
          <p:nvPr/>
        </p:nvGrpSpPr>
        <p:grpSpPr>
          <a:xfrm>
            <a:off x="3044160" y="3092400"/>
            <a:ext cx="1167840" cy="1274400"/>
            <a:chOff x="3044160" y="3092400"/>
            <a:chExt cx="1167840" cy="1274400"/>
          </a:xfrm>
        </p:grpSpPr>
        <p:sp>
          <p:nvSpPr>
            <p:cNvPr id="514" name="AutoShape 6"/>
            <p:cNvSpPr/>
            <p:nvPr/>
          </p:nvSpPr>
          <p:spPr>
            <a:xfrm rot="12360000">
              <a:off x="3239280" y="3198960"/>
              <a:ext cx="731880" cy="1060920"/>
            </a:xfrm>
            <a:prstGeom prst="triangle">
              <a:avLst>
                <a:gd name="adj" fmla="val 59463"/>
              </a:avLst>
            </a:prstGeom>
            <a:solidFill>
              <a:srgbClr val="4e67c8">
                <a:alpha val="49000"/>
              </a:srgbClr>
            </a:solidFill>
            <a:ln w="15840">
              <a:solidFill>
                <a:srgbClr val="71b3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5" name="Group 7"/>
            <p:cNvGrpSpPr/>
            <p:nvPr/>
          </p:nvGrpSpPr>
          <p:grpSpPr>
            <a:xfrm>
              <a:off x="3261600" y="3116160"/>
              <a:ext cx="950400" cy="1057320"/>
              <a:chOff x="3261600" y="3116160"/>
              <a:chExt cx="950400" cy="1057320"/>
            </a:xfrm>
          </p:grpSpPr>
          <p:sp>
            <p:nvSpPr>
              <p:cNvPr id="516" name="Line 8"/>
              <p:cNvSpPr/>
              <p:nvPr/>
            </p:nvSpPr>
            <p:spPr>
              <a:xfrm>
                <a:off x="3559320" y="3116160"/>
                <a:ext cx="650880" cy="267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Line 9"/>
              <p:cNvSpPr/>
              <p:nvPr/>
            </p:nvSpPr>
            <p:spPr>
              <a:xfrm flipH="1">
                <a:off x="3262680" y="3116160"/>
                <a:ext cx="297720" cy="1057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Line 10"/>
              <p:cNvSpPr/>
              <p:nvPr/>
            </p:nvSpPr>
            <p:spPr>
              <a:xfrm flipH="1">
                <a:off x="3261600" y="3381480"/>
                <a:ext cx="950400" cy="789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19" name="Group 11"/>
          <p:cNvGrpSpPr/>
          <p:nvPr/>
        </p:nvGrpSpPr>
        <p:grpSpPr>
          <a:xfrm>
            <a:off x="3065400" y="2619360"/>
            <a:ext cx="2971800" cy="2589480"/>
            <a:chOff x="3065400" y="2619360"/>
            <a:chExt cx="2971800" cy="2589480"/>
          </a:xfrm>
        </p:grpSpPr>
        <p:grpSp>
          <p:nvGrpSpPr>
            <p:cNvPr id="520" name="Group 12"/>
            <p:cNvGrpSpPr/>
            <p:nvPr/>
          </p:nvGrpSpPr>
          <p:grpSpPr>
            <a:xfrm>
              <a:off x="3445920" y="2771280"/>
              <a:ext cx="2591280" cy="2437560"/>
              <a:chOff x="3445920" y="2771280"/>
              <a:chExt cx="2591280" cy="2437560"/>
            </a:xfrm>
          </p:grpSpPr>
          <p:grpSp>
            <p:nvGrpSpPr>
              <p:cNvPr id="521" name="Group 13"/>
              <p:cNvGrpSpPr/>
              <p:nvPr/>
            </p:nvGrpSpPr>
            <p:grpSpPr>
              <a:xfrm>
                <a:off x="3445920" y="2771280"/>
                <a:ext cx="2591280" cy="2437560"/>
                <a:chOff x="3445920" y="2771280"/>
                <a:chExt cx="2591280" cy="2437560"/>
              </a:xfrm>
            </p:grpSpPr>
            <p:sp>
              <p:nvSpPr>
                <p:cNvPr id="522" name="Freeform 14"/>
                <p:cNvSpPr/>
                <p:nvPr/>
              </p:nvSpPr>
              <p:spPr>
                <a:xfrm>
                  <a:off x="3462480" y="2771640"/>
                  <a:ext cx="564840" cy="5922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15"/>
                <p:cNvSpPr/>
                <p:nvPr/>
              </p:nvSpPr>
              <p:spPr>
                <a:xfrm>
                  <a:off x="5445000" y="2771640"/>
                  <a:ext cx="581040" cy="6210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cxnSp>
              <p:nvCxnSpPr>
                <p:cNvPr id="524" name="AutoShape 16"/>
                <p:cNvCxnSpPr>
                  <a:stCxn id="522" idx="2"/>
                  <a:endCxn id="523" idx="2"/>
                </p:cNvCxnSpPr>
                <p:nvPr/>
              </p:nvCxnSpPr>
              <p:spPr>
                <a:xfrm>
                  <a:off x="4027320" y="2771280"/>
                  <a:ext cx="1999440" cy="2520"/>
                </a:xfrm>
                <a:prstGeom prst="bentConnector3">
                  <a:avLst>
                    <a:gd name="adj1" fmla="val 49990"/>
                  </a:avLst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  <p:sp>
              <p:nvSpPr>
                <p:cNvPr id="525" name="Freeform 18"/>
                <p:cNvSpPr/>
                <p:nvPr/>
              </p:nvSpPr>
              <p:spPr>
                <a:xfrm>
                  <a:off x="5450040" y="4597560"/>
                  <a:ext cx="576000" cy="6030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cxnSp>
              <p:nvCxnSpPr>
                <p:cNvPr id="526" name="AutoShape 19"/>
                <p:cNvCxnSpPr>
                  <a:stCxn id="525" idx="2"/>
                  <a:endCxn id="527" idx="2"/>
                </p:cNvCxnSpPr>
                <p:nvPr/>
              </p:nvCxnSpPr>
              <p:spPr>
                <a:xfrm flipV="1" rot="10800000">
                  <a:off x="3445920" y="5200200"/>
                  <a:ext cx="2004120" cy="7200"/>
                </a:xfrm>
                <a:prstGeom prst="bentConnector3">
                  <a:avLst>
                    <a:gd name="adj1" fmla="val 50000"/>
                  </a:avLst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  <p:cxnSp>
              <p:nvCxnSpPr>
                <p:cNvPr id="528" name="AutoShape 20"/>
                <p:cNvCxnSpPr/>
                <p:nvPr/>
              </p:nvCxnSpPr>
              <p:spPr>
                <a:xfrm>
                  <a:off x="3446640" y="5207040"/>
                  <a:ext cx="2160" cy="2160"/>
                </a:xfrm>
                <a:prstGeom prst="bentConnector3">
                  <a:avLst>
                    <a:gd name="adj1" fmla="val 40000"/>
                  </a:avLst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  <p:sp>
              <p:nvSpPr>
                <p:cNvPr id="527" name="Freeform 21"/>
                <p:cNvSpPr/>
                <p:nvPr/>
              </p:nvSpPr>
              <p:spPr>
                <a:xfrm>
                  <a:off x="3446640" y="3363840"/>
                  <a:ext cx="15840" cy="1844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22"/>
                <p:cNvSpPr/>
                <p:nvPr/>
              </p:nvSpPr>
              <p:spPr>
                <a:xfrm>
                  <a:off x="5450040" y="3390840"/>
                  <a:ext cx="10800" cy="18162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23"/>
                <p:cNvSpPr/>
                <p:nvPr/>
              </p:nvSpPr>
              <p:spPr>
                <a:xfrm>
                  <a:off x="6031080" y="2771640"/>
                  <a:ext cx="6120" cy="17924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1" name="Freeform 24"/>
              <p:cNvSpPr/>
              <p:nvPr/>
            </p:nvSpPr>
            <p:spPr>
              <a:xfrm>
                <a:off x="3457440" y="4543560"/>
                <a:ext cx="554040" cy="6602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Freeform 25"/>
              <p:cNvSpPr/>
              <p:nvPr/>
            </p:nvSpPr>
            <p:spPr>
              <a:xfrm>
                <a:off x="5467320" y="4592520"/>
                <a:ext cx="558720" cy="592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Freeform 27"/>
              <p:cNvSpPr/>
              <p:nvPr/>
            </p:nvSpPr>
            <p:spPr>
              <a:xfrm>
                <a:off x="4022640" y="2771640"/>
                <a:ext cx="4680" cy="1754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4" name="Text Box 28"/>
            <p:cNvSpPr/>
            <p:nvPr/>
          </p:nvSpPr>
          <p:spPr>
            <a:xfrm>
              <a:off x="3200400" y="354960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Text Box 29"/>
            <p:cNvSpPr/>
            <p:nvPr/>
          </p:nvSpPr>
          <p:spPr>
            <a:xfrm>
              <a:off x="3446640" y="261936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Text Box 30"/>
            <p:cNvSpPr/>
            <p:nvPr/>
          </p:nvSpPr>
          <p:spPr>
            <a:xfrm>
              <a:off x="4029120" y="2847960"/>
              <a:ext cx="412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Text Box 31"/>
            <p:cNvSpPr/>
            <p:nvPr/>
          </p:nvSpPr>
          <p:spPr>
            <a:xfrm>
              <a:off x="3065400" y="391464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Text Box 32"/>
            <p:cNvSpPr/>
            <p:nvPr/>
          </p:nvSpPr>
          <p:spPr>
            <a:xfrm>
              <a:off x="3294000" y="284796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Text Box 33"/>
            <p:cNvSpPr/>
            <p:nvPr/>
          </p:nvSpPr>
          <p:spPr>
            <a:xfrm>
              <a:off x="4032360" y="33782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0" name="Прямая соединительная линия 35"/>
          <p:cNvSpPr/>
          <p:nvPr/>
        </p:nvSpPr>
        <p:spPr>
          <a:xfrm>
            <a:off x="4011480" y="4543560"/>
            <a:ext cx="1989360" cy="2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Прямая соединительная линия 43"/>
          <p:cNvSpPr/>
          <p:nvPr/>
        </p:nvSpPr>
        <p:spPr>
          <a:xfrm>
            <a:off x="3462480" y="3363840"/>
            <a:ext cx="198756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1"/>
          <p:cNvGrpSpPr/>
          <p:nvPr/>
        </p:nvGrpSpPr>
        <p:grpSpPr>
          <a:xfrm>
            <a:off x="3865680" y="2306520"/>
            <a:ext cx="3033360" cy="2973240"/>
            <a:chOff x="3865680" y="2306520"/>
            <a:chExt cx="3033360" cy="2973240"/>
          </a:xfrm>
        </p:grpSpPr>
        <p:sp>
          <p:nvSpPr>
            <p:cNvPr id="543" name="Freeform 2"/>
            <p:cNvSpPr/>
            <p:nvPr/>
          </p:nvSpPr>
          <p:spPr>
            <a:xfrm>
              <a:off x="3884400" y="2315880"/>
              <a:ext cx="3014640" cy="29638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Freeform 3"/>
            <p:cNvSpPr/>
            <p:nvPr/>
          </p:nvSpPr>
          <p:spPr>
            <a:xfrm>
              <a:off x="3865680" y="4153320"/>
              <a:ext cx="1064520" cy="10915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Freeform 4"/>
            <p:cNvSpPr/>
            <p:nvPr/>
          </p:nvSpPr>
          <p:spPr>
            <a:xfrm>
              <a:off x="6597720" y="3506040"/>
              <a:ext cx="279000" cy="13723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Freeform 5"/>
            <p:cNvSpPr/>
            <p:nvPr/>
          </p:nvSpPr>
          <p:spPr>
            <a:xfrm>
              <a:off x="4941000" y="4848480"/>
              <a:ext cx="1659600" cy="41868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Freeform 6"/>
            <p:cNvSpPr/>
            <p:nvPr/>
          </p:nvSpPr>
          <p:spPr>
            <a:xfrm>
              <a:off x="4255560" y="2315880"/>
              <a:ext cx="1348920" cy="3283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Freeform 7"/>
            <p:cNvSpPr/>
            <p:nvPr/>
          </p:nvSpPr>
          <p:spPr>
            <a:xfrm>
              <a:off x="5607720" y="2306520"/>
              <a:ext cx="1272240" cy="111060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Freeform 8"/>
            <p:cNvSpPr/>
            <p:nvPr/>
          </p:nvSpPr>
          <p:spPr>
            <a:xfrm>
              <a:off x="3884400" y="2630160"/>
              <a:ext cx="366120" cy="154368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0" name="Text Box 9"/>
          <p:cNvSpPr/>
          <p:nvPr/>
        </p:nvSpPr>
        <p:spPr>
          <a:xfrm>
            <a:off x="1793880" y="4371840"/>
            <a:ext cx="6512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10"/>
          <p:cNvSpPr/>
          <p:nvPr/>
        </p:nvSpPr>
        <p:spPr>
          <a:xfrm>
            <a:off x="419040" y="1600200"/>
            <a:ext cx="53341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 u="sng">
                <a:solidFill>
                  <a:srgbClr val="404040"/>
                </a:solidFill>
                <a:uFillTx/>
                <a:latin typeface="Trebuchet MS"/>
              </a:rPr>
              <a:t>2 вариант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2" name="Group 11"/>
          <p:cNvGrpSpPr/>
          <p:nvPr/>
        </p:nvGrpSpPr>
        <p:grpSpPr>
          <a:xfrm>
            <a:off x="3340080" y="1755720"/>
            <a:ext cx="4114800" cy="4284720"/>
            <a:chOff x="3340080" y="1755720"/>
            <a:chExt cx="4114800" cy="4284720"/>
          </a:xfrm>
        </p:grpSpPr>
        <p:grpSp>
          <p:nvGrpSpPr>
            <p:cNvPr id="553" name="Group 12"/>
            <p:cNvGrpSpPr/>
            <p:nvPr/>
          </p:nvGrpSpPr>
          <p:grpSpPr>
            <a:xfrm>
              <a:off x="3484440" y="1755720"/>
              <a:ext cx="3434040" cy="3510360"/>
              <a:chOff x="3484440" y="1755720"/>
              <a:chExt cx="3434040" cy="3510360"/>
            </a:xfrm>
          </p:grpSpPr>
          <p:grpSp>
            <p:nvGrpSpPr>
              <p:cNvPr id="554" name="Group 13"/>
              <p:cNvGrpSpPr/>
              <p:nvPr/>
            </p:nvGrpSpPr>
            <p:grpSpPr>
              <a:xfrm>
                <a:off x="3873240" y="2301480"/>
                <a:ext cx="3045240" cy="2964600"/>
                <a:chOff x="3873240" y="2301480"/>
                <a:chExt cx="3045240" cy="2964600"/>
              </a:xfrm>
            </p:grpSpPr>
            <p:grpSp>
              <p:nvGrpSpPr>
                <p:cNvPr id="555" name="Group 14"/>
                <p:cNvGrpSpPr/>
                <p:nvPr/>
              </p:nvGrpSpPr>
              <p:grpSpPr>
                <a:xfrm>
                  <a:off x="3873240" y="2301480"/>
                  <a:ext cx="3045240" cy="2964600"/>
                  <a:chOff x="3873240" y="2301480"/>
                  <a:chExt cx="3045240" cy="2964600"/>
                </a:xfrm>
              </p:grpSpPr>
              <p:sp>
                <p:nvSpPr>
                  <p:cNvPr id="556" name="Freeform 15"/>
                  <p:cNvSpPr/>
                  <p:nvPr/>
                </p:nvSpPr>
                <p:spPr>
                  <a:xfrm>
                    <a:off x="3890880" y="2301840"/>
                    <a:ext cx="665280" cy="7207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Freeform 16"/>
                  <p:cNvSpPr/>
                  <p:nvPr/>
                </p:nvSpPr>
                <p:spPr>
                  <a:xfrm>
                    <a:off x="6222960" y="2301840"/>
                    <a:ext cx="682560" cy="754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558" name="AutoShape 17"/>
                  <p:cNvCxnSpPr>
                    <a:stCxn id="556" idx="2"/>
                    <a:endCxn id="557" idx="2"/>
                  </p:cNvCxnSpPr>
                  <p:nvPr/>
                </p:nvCxnSpPr>
                <p:spPr>
                  <a:xfrm>
                    <a:off x="4556160" y="2301480"/>
                    <a:ext cx="2349720" cy="2520"/>
                  </a:xfrm>
                  <a:prstGeom prst="bentConnector3">
                    <a:avLst>
                      <a:gd name="adj1" fmla="val 50000"/>
                    </a:avLst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</p:cxnSp>
              <p:sp>
                <p:nvSpPr>
                  <p:cNvPr id="559" name="Freeform 19"/>
                  <p:cNvSpPr/>
                  <p:nvPr/>
                </p:nvSpPr>
                <p:spPr>
                  <a:xfrm>
                    <a:off x="6227640" y="4522680"/>
                    <a:ext cx="677880" cy="7336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560" name="AutoShape 20"/>
                  <p:cNvCxnSpPr>
                    <a:stCxn id="559" idx="2"/>
                    <a:endCxn id="561" idx="2"/>
                  </p:cNvCxnSpPr>
                  <p:nvPr/>
                </p:nvCxnSpPr>
                <p:spPr>
                  <a:xfrm flipV="1" rot="10800000">
                    <a:off x="3872880" y="5256000"/>
                    <a:ext cx="2356560" cy="8640"/>
                  </a:xfrm>
                  <a:prstGeom prst="bentConnector3">
                    <a:avLst>
                      <a:gd name="adj1" fmla="val 49992"/>
                    </a:avLst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562" name="AutoShape 21"/>
                  <p:cNvCxnSpPr/>
                  <p:nvPr/>
                </p:nvCxnSpPr>
                <p:spPr>
                  <a:xfrm>
                    <a:off x="3873600" y="5264280"/>
                    <a:ext cx="2160" cy="2160"/>
                  </a:xfrm>
                  <a:prstGeom prst="bentConnector3">
                    <a:avLst>
                      <a:gd name="adj1" fmla="val 40000"/>
                    </a:avLst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</p:cxnSp>
              <p:sp>
                <p:nvSpPr>
                  <p:cNvPr id="561" name="Freeform 22"/>
                  <p:cNvSpPr/>
                  <p:nvPr/>
                </p:nvSpPr>
                <p:spPr>
                  <a:xfrm>
                    <a:off x="3873600" y="3022560"/>
                    <a:ext cx="19080" cy="22431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Freeform 23"/>
                  <p:cNvSpPr/>
                  <p:nvPr/>
                </p:nvSpPr>
                <p:spPr>
                  <a:xfrm>
                    <a:off x="6227640" y="3056040"/>
                    <a:ext cx="12960" cy="22082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Freeform 24"/>
                  <p:cNvSpPr/>
                  <p:nvPr/>
                </p:nvSpPr>
                <p:spPr>
                  <a:xfrm>
                    <a:off x="6912000" y="2301840"/>
                    <a:ext cx="6480" cy="2179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5" name="Freeform 25"/>
                <p:cNvSpPr/>
                <p:nvPr/>
              </p:nvSpPr>
              <p:spPr>
                <a:xfrm>
                  <a:off x="3886200" y="4456080"/>
                  <a:ext cx="652320" cy="803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26"/>
                <p:cNvSpPr/>
                <p:nvPr/>
              </p:nvSpPr>
              <p:spPr>
                <a:xfrm>
                  <a:off x="6249960" y="4518000"/>
                  <a:ext cx="657360" cy="7207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28"/>
                <p:cNvSpPr/>
                <p:nvPr/>
              </p:nvSpPr>
              <p:spPr>
                <a:xfrm>
                  <a:off x="4551480" y="2301840"/>
                  <a:ext cx="4680" cy="21337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8" name="Text Box 29"/>
              <p:cNvSpPr/>
              <p:nvPr/>
            </p:nvSpPr>
            <p:spPr>
              <a:xfrm>
                <a:off x="3892680" y="2095560"/>
                <a:ext cx="590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4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Text Box 30"/>
              <p:cNvSpPr/>
              <p:nvPr/>
            </p:nvSpPr>
            <p:spPr>
              <a:xfrm>
                <a:off x="3484440" y="3641760"/>
                <a:ext cx="6858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4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Text Box 31"/>
              <p:cNvSpPr/>
              <p:nvPr/>
            </p:nvSpPr>
            <p:spPr>
              <a:xfrm>
                <a:off x="5394240" y="1755720"/>
                <a:ext cx="6858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ru-RU" sz="4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1" name="Text Box 32"/>
            <p:cNvSpPr/>
            <p:nvPr/>
          </p:nvSpPr>
          <p:spPr>
            <a:xfrm>
              <a:off x="4483080" y="5262480"/>
              <a:ext cx="685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Text Box 33"/>
            <p:cNvSpPr/>
            <p:nvPr/>
          </p:nvSpPr>
          <p:spPr>
            <a:xfrm>
              <a:off x="6464160" y="4729320"/>
              <a:ext cx="6858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Text Box 34"/>
            <p:cNvSpPr/>
            <p:nvPr/>
          </p:nvSpPr>
          <p:spPr>
            <a:xfrm>
              <a:off x="6769080" y="3129120"/>
              <a:ext cx="6858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Text Box 35"/>
            <p:cNvSpPr/>
            <p:nvPr/>
          </p:nvSpPr>
          <p:spPr>
            <a:xfrm>
              <a:off x="3340080" y="5643720"/>
              <a:ext cx="6858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5" name="Прямая соединительная линия 37"/>
          <p:cNvSpPr/>
          <p:nvPr/>
        </p:nvSpPr>
        <p:spPr>
          <a:xfrm>
            <a:off x="4572000" y="4429080"/>
            <a:ext cx="2286000" cy="7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Прямая соединительная линия 40"/>
          <p:cNvSpPr/>
          <p:nvPr/>
        </p:nvSpPr>
        <p:spPr>
          <a:xfrm>
            <a:off x="3892680" y="3022560"/>
            <a:ext cx="2334960" cy="3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ксим</dc:creator>
  <dc:description/>
  <dc:language>en-US</dc:language>
  <cp:lastModifiedBy>карина</cp:lastModifiedBy>
  <dcterms:modified xsi:type="dcterms:W3CDTF">2004-01-03T22:59:24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