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26A-796E-4393-B2BC-51C92E4B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26C-D52A-4C7F-BCF5-3AB148DC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E1D8B-B998-4FB5-8EB2-F3A432BE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991D7-27CA-4606-A2EB-CF014826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83EAD-2D7B-4D35-86F0-78C8FCEA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AF23B-560D-493D-9A5F-84428841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D2F31-5F3F-4971-B534-873F4F2A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0DB36-29C4-4D2B-98B8-857E673D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7E781-218B-459D-85A4-DBFEBD37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3D488-06E2-4AC5-9974-10287C0D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0BAAE-1F09-421A-8A75-CD0CA3F6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E34-A864-4104-BCB5-187276A4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B99-401F-4BEF-93BC-CED8EA43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37EC-3F0C-48F6-81A4-63B11E66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70E0-F1D1-4D79-8D30-CCD7855B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1F1-F8CB-489E-BFA0-A6D1BFA4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D7C3-791E-4992-B1E5-F75A4105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8521-CA91-4CAA-BE4E-2FA64C8E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F058-2972-42A7-8862-A27C7943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E1C7-D23A-49E5-AB03-DAA90416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D14-D4EA-460A-881F-F6E2A3EE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B02C-8E80-4EFF-A370-DB2FC82F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F9BB-FD9A-402F-AD83-F096F4B0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2751-FCCB-41F8-867F-02EF0128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46C1-BBEE-4632-A3CF-2654E1EC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7967-8D52-4E2B-B65F-696C7790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D4D34-0FAD-4FAF-BABF-E666C9F7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B5DC-1BE4-493C-9B90-FA7B4DD1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950D9-16B2-4867-9378-79E0FC48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29A5-BEB6-472F-B968-C77637C3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7410-4BBF-4814-BE0D-EF7CE34D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05D-CBE9-439A-87A9-35FCB685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AFF5-3C4B-47CA-A361-C08BE7C6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C9A91-C636-476E-BB71-72F06CF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2702-4A85-4851-8EDB-F6855F32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DE24-3E13-4571-A8A5-CA1CB4BE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96E0-9531-4E99-9657-486DD5CE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4A90C-28C2-452A-A70C-690338A9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30D9-C23C-4F14-BB0E-84F09944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D795-3E60-408D-B4B7-2C9C8526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2540E-7475-40CF-808E-E3ED217B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0E18E-6B45-4BCC-847B-7988662F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6B8-1EE9-42D7-AB81-D553241F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3080F-08C7-47A8-BC9B-16868E01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178E-EDEE-45AE-9D50-03CF2C73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61ED-56AC-49EB-8FD6-7AA3ACB3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53E5-56C2-4223-B654-503A8249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122A-89C8-4C16-892B-FFCCC4F6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8D51-2DDD-4D24-9B7F-0378B740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DD535-0E29-4720-93DA-502304A8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5008D-7AD9-4D39-A353-058C0438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CA6E-70B5-4013-B21D-A0616227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38380-DEAD-49AF-BDEB-1008AA0C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4AF-00E7-4576-8BB9-B1AA93DC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F7A27-381D-44B4-8187-21802481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84F7C-3FCD-4ADE-8596-96EF130A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E6BD2-F648-41EA-9933-9E30A545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3630F-255F-4BAC-8C50-D5FAE425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BFF29-47B4-4620-A4FE-12616302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2E554-9ABD-4CD1-8B9A-EA08D4D6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6A92-FBDD-400D-859B-BD9B36F1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1CA21-B63A-4F6A-9638-EF4365B6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A975-7673-4FE3-9082-93657699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E9AD-C9EC-4872-91DE-BB796562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525-8222-4A33-A90E-2B64B769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AAD0C-ED4E-495A-829C-290A970A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9F7DA-EEE3-4DAD-BECD-3CB1E626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B9B69-1AE3-42EB-BCAD-CFA72CFE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E8764-BC66-4965-B95B-03D36FA4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00082-3AD2-442D-BB54-6E59A965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2FD00-FCC5-4BA8-82DF-CB7917DB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AB722-E491-42E4-B755-6D5316EF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0763A-0203-4E6C-8BB5-01C53521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50EDF-424E-4CD5-9AE4-710EDF87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094DC-3FE3-4CFD-AAA3-994C20B7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2FD-598D-43F6-ABFA-F4EE456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03F37-833B-4742-AD3C-050FCB1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1D12E-5C3F-4A58-8F76-A8A39CC2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ACFE0-9256-4672-A7DF-627FD040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C8167-486A-46BA-AC9D-13F344A0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03950-2A0A-4265-9182-38AC4DF1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797C4-C7FE-4BCF-8CFB-D2438584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D83C0-0AC1-40EA-B4E0-1E65A7B2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1C44E-0C05-4574-A437-97AD86EF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53073-4427-49B0-937E-9A80B4DC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67A04-519A-4D20-8E7D-9F5CEF62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74D-8282-43D7-82B3-495659A8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403AE-6CF8-400F-BB1A-9E95BF9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F0858-6737-4605-BD82-3B9E9372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D35B0-F2B7-45B5-9954-420F40E5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340CF-EEBE-47D2-9C13-08F6CE4B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B9CD3-E568-45B4-9449-8211E2E3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1F56E-1589-4BA3-82AF-6A762303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02BBD-F35E-448D-91B4-3AFBCFBC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46A04-CC9C-4092-8759-6099D22D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F33C7-D5D2-41A2-A67D-C426FA01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96A66-F205-41FD-A960-69588EA0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132-EE66-4FF5-B497-300492F2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CF804-C39E-42ED-A4DD-C26DB5EB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E4462-924D-4185-A647-EB79F82B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B81C1-58E6-4E1D-8EBF-F5B50D4B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FBC73-A16E-4AB0-B38D-F751C072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68ED0-7816-46A7-9538-BD63F986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88980-134D-457A-A502-6A3A5FA5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41DE0-3947-4594-B55D-D917E7B6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FE82E-27D3-495C-A1C8-AAB8247C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AED62-596E-4513-B47D-A037E754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BE063-56A9-49B2-8E3E-717D82B5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0A0E8B-3004-41B7-8534-81D491B65D5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09EDFC-933D-46A0-AA2A-F1AE3DE4F8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A923ED-B62C-4E34-8199-6C67701283E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5F8E2F-7CF6-446D-9D71-6998CFFA1DA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E6DC2D-4148-4E00-AB55-95F8EC7188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794465-30C5-419A-8921-34A7DFC3702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0F7DDC-A380-4B49-87BE-7A3A1027142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954FBA-D760-4739-93A8-B0E85D500AD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D010EE-094B-455B-B4C5-1C8A088B745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3032280" y="110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228600" y="1600200"/>
            <a:ext cx="87631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212745"/>
                </a:solidFill>
                <a:latin typeface="Mangal"/>
              </a:rPr>
              <a:t>Задачи на построение сечения в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212745"/>
                </a:solidFill>
                <a:latin typeface="Mangal"/>
              </a:rPr>
              <a:t>параллелепипед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12745"/>
                </a:solidFill>
                <a:latin typeface="Mangal"/>
              </a:rPr>
              <a:t>Геометрия-10</a:t>
            </a:r>
            <a:r>
              <a:rPr b="1" lang="en-US" sz="3200" spc="-1" strike="noStrike">
                <a:solidFill>
                  <a:srgbClr val="212745"/>
                </a:solidFill>
                <a:latin typeface="Mangal"/>
              </a:rPr>
              <a:t> </a:t>
            </a:r>
            <a:r>
              <a:rPr b="1" lang="ru-RU" sz="3200" spc="-1" strike="noStrike">
                <a:solidFill>
                  <a:srgbClr val="212745"/>
                </a:solidFill>
                <a:latin typeface="Mangal"/>
              </a:rPr>
              <a:t>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Mangal"/>
              </a:rPr>
              <a:t>Учитель: Саркисова Карина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Mangal"/>
              </a:rPr>
              <a:t>МБОУ СОШ № 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Mangal"/>
              </a:rPr>
              <a:t>г.Курч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"/>
          <p:cNvGrpSpPr/>
          <p:nvPr/>
        </p:nvGrpSpPr>
        <p:grpSpPr>
          <a:xfrm>
            <a:off x="457200" y="-195120"/>
            <a:ext cx="8758080" cy="2552400"/>
            <a:chOff x="457200" y="-195120"/>
            <a:chExt cx="8758080" cy="2552400"/>
          </a:xfrm>
        </p:grpSpPr>
        <p:pic>
          <p:nvPicPr>
            <p:cNvPr id="402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-195120"/>
              <a:ext cx="8758080" cy="25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3"/>
            <p:cNvSpPr/>
            <p:nvPr/>
          </p:nvSpPr>
          <p:spPr>
            <a:xfrm>
              <a:off x="457200" y="-195120"/>
              <a:ext cx="8758080" cy="25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Text Box 4"/>
          <p:cNvSpPr/>
          <p:nvPr/>
        </p:nvSpPr>
        <p:spPr>
          <a:xfrm>
            <a:off x="615960" y="1981080"/>
            <a:ext cx="82296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Mangal"/>
              </a:rPr>
              <a:t>Секущая плоскость</a:t>
            </a:r>
            <a:r>
              <a:rPr b="0" lang="en-US" sz="2200" spc="-1" strike="noStrike">
                <a:solidFill>
                  <a:srgbClr val="212745"/>
                </a:solidFill>
                <a:latin typeface="Mangal"/>
              </a:rPr>
              <a:t> </a:t>
            </a:r>
            <a:r>
              <a:rPr b="0" lang="ru-RU" sz="2200" spc="-1" strike="noStrike">
                <a:solidFill>
                  <a:srgbClr val="212745"/>
                </a:solidFill>
                <a:latin typeface="Mangal"/>
              </a:rPr>
              <a:t>параллелепипеда</a:t>
            </a:r>
            <a:r>
              <a:rPr b="0" lang="ru-RU" sz="2200" spc="-1" strike="noStrike">
                <a:solidFill>
                  <a:srgbClr val="404040"/>
                </a:solidFill>
                <a:latin typeface="Mangal"/>
              </a:rPr>
              <a:t> – это плоскость, по обе стороны от которой имеются точки данного параллелепипе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5105160" y="3117960"/>
            <a:ext cx="2588040" cy="2361960"/>
            <a:chOff x="5105160" y="3117960"/>
            <a:chExt cx="2588040" cy="2361960"/>
          </a:xfrm>
        </p:grpSpPr>
        <p:sp>
          <p:nvSpPr>
            <p:cNvPr id="406" name="Freeform 6"/>
            <p:cNvSpPr/>
            <p:nvPr/>
          </p:nvSpPr>
          <p:spPr>
            <a:xfrm>
              <a:off x="5116680" y="3397320"/>
              <a:ext cx="780840" cy="10317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5116680" y="3408480"/>
              <a:ext cx="296640" cy="988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5116680" y="3703680"/>
              <a:ext cx="774360" cy="7254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5424480" y="3379680"/>
              <a:ext cx="457200" cy="3063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5105520" y="4381560"/>
              <a:ext cx="2584440" cy="10983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1" name="Group 11"/>
            <p:cNvGrpSpPr/>
            <p:nvPr/>
          </p:nvGrpSpPr>
          <p:grpSpPr>
            <a:xfrm>
              <a:off x="5105160" y="3117960"/>
              <a:ext cx="2588040" cy="2360880"/>
              <a:chOff x="5105160" y="3117960"/>
              <a:chExt cx="2588040" cy="2360880"/>
            </a:xfrm>
          </p:grpSpPr>
          <p:grpSp>
            <p:nvGrpSpPr>
              <p:cNvPr id="412" name="Group 12"/>
              <p:cNvGrpSpPr/>
              <p:nvPr/>
            </p:nvGrpSpPr>
            <p:grpSpPr>
              <a:xfrm>
                <a:off x="5105160" y="3117960"/>
                <a:ext cx="2588040" cy="2360880"/>
                <a:chOff x="5105160" y="3117960"/>
                <a:chExt cx="2588040" cy="2360880"/>
              </a:xfrm>
            </p:grpSpPr>
            <p:sp>
              <p:nvSpPr>
                <p:cNvPr id="413" name="Freeform 13"/>
                <p:cNvSpPr/>
                <p:nvPr/>
              </p:nvSpPr>
              <p:spPr>
                <a:xfrm>
                  <a:off x="5121360" y="3117960"/>
                  <a:ext cx="565200" cy="573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4"/>
                <p:cNvSpPr/>
                <p:nvPr/>
              </p:nvSpPr>
              <p:spPr>
                <a:xfrm>
                  <a:off x="7101000" y="3117960"/>
                  <a:ext cx="581040" cy="600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15" name="AutoShape 15"/>
                <p:cNvCxnSpPr>
                  <a:stCxn id="413" idx="2"/>
                  <a:endCxn id="414" idx="2"/>
                </p:cNvCxnSpPr>
                <p:nvPr/>
              </p:nvCxnSpPr>
              <p:spPr>
                <a:xfrm>
                  <a:off x="5686200" y="3117960"/>
                  <a:ext cx="1997640" cy="216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16" name="Freeform 17"/>
                <p:cNvSpPr/>
                <p:nvPr/>
              </p:nvSpPr>
              <p:spPr>
                <a:xfrm>
                  <a:off x="7105680" y="4886280"/>
                  <a:ext cx="576360" cy="584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17" name="AutoShape 18"/>
                <p:cNvCxnSpPr>
                  <a:stCxn id="416" idx="2"/>
                  <a:endCxn id="418" idx="2"/>
                </p:cNvCxnSpPr>
                <p:nvPr/>
              </p:nvCxnSpPr>
              <p:spPr>
                <a:xfrm flipV="1" rot="10800000">
                  <a:off x="5104800" y="5470200"/>
                  <a:ext cx="2000880" cy="7200"/>
                </a:xfrm>
                <a:prstGeom prst="bentConnector3">
                  <a:avLst>
                    <a:gd name="adj1" fmla="val 49991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419" name="AutoShape 19"/>
                <p:cNvCxnSpPr/>
                <p:nvPr/>
              </p:nvCxnSpPr>
              <p:spPr>
                <a:xfrm>
                  <a:off x="5105520" y="5477040"/>
                  <a:ext cx="2160" cy="2160"/>
                </a:xfrm>
                <a:prstGeom prst="bentConnector3">
                  <a:avLst>
                    <a:gd name="adj1" fmla="val 4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18" name="Freeform 20"/>
                <p:cNvSpPr/>
                <p:nvPr/>
              </p:nvSpPr>
              <p:spPr>
                <a:xfrm>
                  <a:off x="5105520" y="3691080"/>
                  <a:ext cx="15840" cy="178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21"/>
                <p:cNvSpPr/>
                <p:nvPr/>
              </p:nvSpPr>
              <p:spPr>
                <a:xfrm>
                  <a:off x="7105680" y="3718080"/>
                  <a:ext cx="11160" cy="1758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22"/>
                <p:cNvSpPr/>
                <p:nvPr/>
              </p:nvSpPr>
              <p:spPr>
                <a:xfrm>
                  <a:off x="7686720" y="3117960"/>
                  <a:ext cx="6480" cy="1735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2" name="Freeform 23"/>
              <p:cNvSpPr/>
              <p:nvPr/>
            </p:nvSpPr>
            <p:spPr>
              <a:xfrm>
                <a:off x="5116680" y="4834080"/>
                <a:ext cx="554040" cy="63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24"/>
              <p:cNvSpPr/>
              <p:nvPr/>
            </p:nvSpPr>
            <p:spPr>
              <a:xfrm>
                <a:off x="7124760" y="4881600"/>
                <a:ext cx="558720" cy="573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26"/>
              <p:cNvSpPr/>
              <p:nvPr/>
            </p:nvSpPr>
            <p:spPr>
              <a:xfrm>
                <a:off x="5681520" y="3117960"/>
                <a:ext cx="5040" cy="1698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5" name="Freeform 27"/>
            <p:cNvSpPr/>
            <p:nvPr/>
          </p:nvSpPr>
          <p:spPr>
            <a:xfrm>
              <a:off x="5105520" y="4381560"/>
              <a:ext cx="582480" cy="10764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28"/>
            <p:cNvSpPr/>
            <p:nvPr/>
          </p:nvSpPr>
          <p:spPr>
            <a:xfrm>
              <a:off x="5688000" y="4381560"/>
              <a:ext cx="1986120" cy="46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9"/>
            <p:cNvSpPr/>
            <p:nvPr/>
          </p:nvSpPr>
          <p:spPr>
            <a:xfrm>
              <a:off x="7120080" y="4381560"/>
              <a:ext cx="547560" cy="10922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Прямая соединительная линия 31"/>
          <p:cNvSpPr/>
          <p:nvPr/>
        </p:nvSpPr>
        <p:spPr>
          <a:xfrm>
            <a:off x="5121360" y="3691080"/>
            <a:ext cx="198432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ая соединительная линия 33"/>
          <p:cNvSpPr/>
          <p:nvPr/>
        </p:nvSpPr>
        <p:spPr>
          <a:xfrm>
            <a:off x="5670720" y="4834080"/>
            <a:ext cx="2016000" cy="1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380880" y="30492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ngal"/>
              </a:rPr>
              <a:t>Параллелепипед имеет  шесть гра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angal"/>
              </a:rPr>
              <a:t>Его сечениями могут бы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Group 2"/>
          <p:cNvGrpSpPr/>
          <p:nvPr/>
        </p:nvGrpSpPr>
        <p:grpSpPr>
          <a:xfrm>
            <a:off x="6019560" y="1219320"/>
            <a:ext cx="2588040" cy="2284560"/>
            <a:chOff x="6019560" y="1219320"/>
            <a:chExt cx="2588040" cy="2284560"/>
          </a:xfrm>
        </p:grpSpPr>
        <p:sp>
          <p:nvSpPr>
            <p:cNvPr id="432" name="Freeform 3"/>
            <p:cNvSpPr/>
            <p:nvPr/>
          </p:nvSpPr>
          <p:spPr>
            <a:xfrm>
              <a:off x="6035760" y="1219320"/>
              <a:ext cx="2562120" cy="227952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4"/>
            <p:cNvSpPr/>
            <p:nvPr/>
          </p:nvSpPr>
          <p:spPr>
            <a:xfrm>
              <a:off x="6035760" y="2658960"/>
              <a:ext cx="904680" cy="838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6019560" y="1224000"/>
              <a:ext cx="2588040" cy="2279880"/>
              <a:chOff x="6019560" y="1224000"/>
              <a:chExt cx="2588040" cy="2279880"/>
            </a:xfrm>
          </p:grpSpPr>
          <p:grpSp>
            <p:nvGrpSpPr>
              <p:cNvPr id="435" name="Group 6"/>
              <p:cNvGrpSpPr/>
              <p:nvPr/>
            </p:nvGrpSpPr>
            <p:grpSpPr>
              <a:xfrm>
                <a:off x="6019560" y="1224000"/>
                <a:ext cx="2588040" cy="2279880"/>
                <a:chOff x="6019560" y="1224000"/>
                <a:chExt cx="2588040" cy="2279880"/>
              </a:xfrm>
            </p:grpSpPr>
            <p:sp>
              <p:nvSpPr>
                <p:cNvPr id="436" name="Freeform 7"/>
                <p:cNvSpPr/>
                <p:nvPr/>
              </p:nvSpPr>
              <p:spPr>
                <a:xfrm>
                  <a:off x="6035760" y="1225440"/>
                  <a:ext cx="565200" cy="554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8"/>
                <p:cNvSpPr/>
                <p:nvPr/>
              </p:nvSpPr>
              <p:spPr>
                <a:xfrm>
                  <a:off x="8015400" y="1225440"/>
                  <a:ext cx="581040" cy="579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38" name="AutoShape 9"/>
                <p:cNvCxnSpPr>
                  <a:stCxn id="436" idx="2"/>
                  <a:endCxn id="437" idx="2"/>
                </p:cNvCxnSpPr>
                <p:nvPr/>
              </p:nvCxnSpPr>
              <p:spPr>
                <a:xfrm>
                  <a:off x="6600600" y="1224000"/>
                  <a:ext cx="1997640" cy="216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39" name="Freeform 11"/>
                <p:cNvSpPr/>
                <p:nvPr/>
              </p:nvSpPr>
              <p:spPr>
                <a:xfrm>
                  <a:off x="8020080" y="2932200"/>
                  <a:ext cx="576360" cy="563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40" name="AutoShape 12"/>
                <p:cNvCxnSpPr>
                  <a:stCxn id="439" idx="2"/>
                  <a:endCxn id="441" idx="2"/>
                </p:cNvCxnSpPr>
                <p:nvPr/>
              </p:nvCxnSpPr>
              <p:spPr>
                <a:xfrm flipV="1" rot="10800000">
                  <a:off x="6019200" y="3495240"/>
                  <a:ext cx="2000880" cy="7200"/>
                </a:xfrm>
                <a:prstGeom prst="bentConnector3">
                  <a:avLst>
                    <a:gd name="adj1" fmla="val 49991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442" name="AutoShape 13"/>
                <p:cNvCxnSpPr/>
                <p:nvPr/>
              </p:nvCxnSpPr>
              <p:spPr>
                <a:xfrm>
                  <a:off x="6019920" y="3502080"/>
                  <a:ext cx="2160" cy="2160"/>
                </a:xfrm>
                <a:prstGeom prst="bentConnector3">
                  <a:avLst>
                    <a:gd name="adj1" fmla="val 4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41" name="Freeform 14"/>
                <p:cNvSpPr/>
                <p:nvPr/>
              </p:nvSpPr>
              <p:spPr>
                <a:xfrm>
                  <a:off x="6019920" y="1778040"/>
                  <a:ext cx="15840" cy="1724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15"/>
                <p:cNvSpPr/>
                <p:nvPr/>
              </p:nvSpPr>
              <p:spPr>
                <a:xfrm>
                  <a:off x="8020080" y="1805040"/>
                  <a:ext cx="11160" cy="1697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16"/>
                <p:cNvSpPr/>
                <p:nvPr/>
              </p:nvSpPr>
              <p:spPr>
                <a:xfrm>
                  <a:off x="8601120" y="1225440"/>
                  <a:ext cx="6480" cy="1676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Freeform 17"/>
              <p:cNvSpPr/>
              <p:nvPr/>
            </p:nvSpPr>
            <p:spPr>
              <a:xfrm>
                <a:off x="6031080" y="2881440"/>
                <a:ext cx="554040" cy="61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8"/>
              <p:cNvSpPr/>
              <p:nvPr/>
            </p:nvSpPr>
            <p:spPr>
              <a:xfrm>
                <a:off x="8039160" y="2927520"/>
                <a:ext cx="558720" cy="554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0"/>
              <p:cNvSpPr/>
              <p:nvPr/>
            </p:nvSpPr>
            <p:spPr>
              <a:xfrm>
                <a:off x="6595920" y="1225440"/>
                <a:ext cx="5040" cy="1640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Freeform 21"/>
            <p:cNvSpPr/>
            <p:nvPr/>
          </p:nvSpPr>
          <p:spPr>
            <a:xfrm>
              <a:off x="8361360" y="2095560"/>
              <a:ext cx="236520" cy="10555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22"/>
            <p:cNvSpPr/>
            <p:nvPr/>
          </p:nvSpPr>
          <p:spPr>
            <a:xfrm>
              <a:off x="6951600" y="3166920"/>
              <a:ext cx="1409760" cy="322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23"/>
            <p:cNvSpPr/>
            <p:nvPr/>
          </p:nvSpPr>
          <p:spPr>
            <a:xfrm>
              <a:off x="6357960" y="1219320"/>
              <a:ext cx="1147680" cy="2538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24"/>
            <p:cNvSpPr/>
            <p:nvPr/>
          </p:nvSpPr>
          <p:spPr>
            <a:xfrm>
              <a:off x="7516800" y="1225440"/>
              <a:ext cx="1081080" cy="8542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25"/>
            <p:cNvSpPr/>
            <p:nvPr/>
          </p:nvSpPr>
          <p:spPr>
            <a:xfrm>
              <a:off x="6046920" y="1461960"/>
              <a:ext cx="311040" cy="11858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3" name="Group 26"/>
          <p:cNvGrpSpPr/>
          <p:nvPr/>
        </p:nvGrpSpPr>
        <p:grpSpPr>
          <a:xfrm>
            <a:off x="3071160" y="3500280"/>
            <a:ext cx="2740680" cy="2436840"/>
            <a:chOff x="3071160" y="3500280"/>
            <a:chExt cx="2740680" cy="2436840"/>
          </a:xfrm>
        </p:grpSpPr>
        <p:sp>
          <p:nvSpPr>
            <p:cNvPr id="454" name="Freeform 27"/>
            <p:cNvSpPr/>
            <p:nvPr/>
          </p:nvSpPr>
          <p:spPr>
            <a:xfrm>
              <a:off x="3083040" y="4836960"/>
              <a:ext cx="2725560" cy="11001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Group 28"/>
            <p:cNvGrpSpPr/>
            <p:nvPr/>
          </p:nvGrpSpPr>
          <p:grpSpPr>
            <a:xfrm>
              <a:off x="3071160" y="3500280"/>
              <a:ext cx="2740680" cy="2436840"/>
              <a:chOff x="3071160" y="3500280"/>
              <a:chExt cx="2740680" cy="2436840"/>
            </a:xfrm>
          </p:grpSpPr>
          <p:grpSp>
            <p:nvGrpSpPr>
              <p:cNvPr id="456" name="Group 29"/>
              <p:cNvGrpSpPr/>
              <p:nvPr/>
            </p:nvGrpSpPr>
            <p:grpSpPr>
              <a:xfrm>
                <a:off x="3071160" y="3500280"/>
                <a:ext cx="2740680" cy="2436840"/>
                <a:chOff x="3071160" y="3500280"/>
                <a:chExt cx="2740680" cy="2436840"/>
              </a:xfrm>
            </p:grpSpPr>
            <p:sp>
              <p:nvSpPr>
                <p:cNvPr id="457" name="Freeform 30"/>
                <p:cNvSpPr/>
                <p:nvPr/>
              </p:nvSpPr>
              <p:spPr>
                <a:xfrm>
                  <a:off x="3089160" y="3500280"/>
                  <a:ext cx="598680" cy="591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1"/>
                <p:cNvSpPr/>
                <p:nvPr/>
              </p:nvSpPr>
              <p:spPr>
                <a:xfrm>
                  <a:off x="5184720" y="3500280"/>
                  <a:ext cx="614520" cy="620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59" name="AutoShape 32"/>
                <p:cNvCxnSpPr>
                  <a:stCxn id="457" idx="2"/>
                  <a:endCxn id="458" idx="2"/>
                </p:cNvCxnSpPr>
                <p:nvPr/>
              </p:nvCxnSpPr>
              <p:spPr>
                <a:xfrm>
                  <a:off x="3686040" y="3500280"/>
                  <a:ext cx="2115360" cy="2160"/>
                </a:xfrm>
                <a:prstGeom prst="bentConnector3">
                  <a:avLst>
                    <a:gd name="adj1" fmla="val 49991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60" name="Freeform 34"/>
                <p:cNvSpPr/>
                <p:nvPr/>
              </p:nvSpPr>
              <p:spPr>
                <a:xfrm>
                  <a:off x="5191200" y="5325840"/>
                  <a:ext cx="609480" cy="603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61" name="AutoShape 35"/>
                <p:cNvCxnSpPr>
                  <a:stCxn id="460" idx="2"/>
                  <a:endCxn id="462" idx="2"/>
                </p:cNvCxnSpPr>
                <p:nvPr/>
              </p:nvCxnSpPr>
              <p:spPr>
                <a:xfrm flipV="1" rot="10800000">
                  <a:off x="3071160" y="5928840"/>
                  <a:ext cx="2120040" cy="684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463" name="AutoShape 36"/>
                <p:cNvCxnSpPr/>
                <p:nvPr/>
              </p:nvCxnSpPr>
              <p:spPr>
                <a:xfrm>
                  <a:off x="3071880" y="5934960"/>
                  <a:ext cx="2160" cy="2520"/>
                </a:xfrm>
                <a:prstGeom prst="bentConnector3">
                  <a:avLst>
                    <a:gd name="adj1" fmla="val 4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62" name="Freeform 37"/>
                <p:cNvSpPr/>
                <p:nvPr/>
              </p:nvSpPr>
              <p:spPr>
                <a:xfrm>
                  <a:off x="3071880" y="4092120"/>
                  <a:ext cx="15840" cy="1843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8"/>
                <p:cNvSpPr/>
                <p:nvPr/>
              </p:nvSpPr>
              <p:spPr>
                <a:xfrm>
                  <a:off x="5191200" y="4120920"/>
                  <a:ext cx="11160" cy="1814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9"/>
                <p:cNvSpPr/>
                <p:nvPr/>
              </p:nvSpPr>
              <p:spPr>
                <a:xfrm>
                  <a:off x="5805360" y="3500280"/>
                  <a:ext cx="6480" cy="1792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Freeform 40"/>
              <p:cNvSpPr/>
              <p:nvPr/>
            </p:nvSpPr>
            <p:spPr>
              <a:xfrm>
                <a:off x="3083040" y="5271840"/>
                <a:ext cx="585720" cy="660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1"/>
              <p:cNvSpPr/>
              <p:nvPr/>
            </p:nvSpPr>
            <p:spPr>
              <a:xfrm>
                <a:off x="5208480" y="5321160"/>
                <a:ext cx="592200" cy="591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3"/>
              <p:cNvSpPr/>
              <p:nvPr/>
            </p:nvSpPr>
            <p:spPr>
              <a:xfrm>
                <a:off x="3681360" y="3500280"/>
                <a:ext cx="4680" cy="1752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9" name="Freeform 44"/>
            <p:cNvSpPr/>
            <p:nvPr/>
          </p:nvSpPr>
          <p:spPr>
            <a:xfrm>
              <a:off x="3083040" y="4836960"/>
              <a:ext cx="598320" cy="8287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45"/>
            <p:cNvSpPr/>
            <p:nvPr/>
          </p:nvSpPr>
          <p:spPr>
            <a:xfrm>
              <a:off x="3071880" y="5665680"/>
              <a:ext cx="803160" cy="2664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46"/>
            <p:cNvSpPr/>
            <p:nvPr/>
          </p:nvSpPr>
          <p:spPr>
            <a:xfrm>
              <a:off x="3892320" y="5632200"/>
              <a:ext cx="1602000" cy="304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47"/>
            <p:cNvSpPr/>
            <p:nvPr/>
          </p:nvSpPr>
          <p:spPr>
            <a:xfrm>
              <a:off x="5500800" y="4865400"/>
              <a:ext cx="301320" cy="760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48"/>
            <p:cNvSpPr/>
            <p:nvPr/>
          </p:nvSpPr>
          <p:spPr>
            <a:xfrm>
              <a:off x="3699000" y="4831920"/>
              <a:ext cx="2092320" cy="162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49"/>
          <p:cNvGrpSpPr/>
          <p:nvPr/>
        </p:nvGrpSpPr>
        <p:grpSpPr>
          <a:xfrm>
            <a:off x="112320" y="2700360"/>
            <a:ext cx="2588040" cy="2362320"/>
            <a:chOff x="112320" y="2700360"/>
            <a:chExt cx="2588040" cy="2362320"/>
          </a:xfrm>
        </p:grpSpPr>
        <p:sp>
          <p:nvSpPr>
            <p:cNvPr id="475" name="Freeform 50"/>
            <p:cNvSpPr/>
            <p:nvPr/>
          </p:nvSpPr>
          <p:spPr>
            <a:xfrm>
              <a:off x="123840" y="2979720"/>
              <a:ext cx="781200" cy="10317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51"/>
            <p:cNvSpPr/>
            <p:nvPr/>
          </p:nvSpPr>
          <p:spPr>
            <a:xfrm>
              <a:off x="123840" y="2990880"/>
              <a:ext cx="297000" cy="988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52"/>
            <p:cNvSpPr/>
            <p:nvPr/>
          </p:nvSpPr>
          <p:spPr>
            <a:xfrm>
              <a:off x="123840" y="3286080"/>
              <a:ext cx="774720" cy="7254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53"/>
            <p:cNvSpPr/>
            <p:nvPr/>
          </p:nvSpPr>
          <p:spPr>
            <a:xfrm>
              <a:off x="431640" y="2962440"/>
              <a:ext cx="457200" cy="3063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54"/>
            <p:cNvSpPr/>
            <p:nvPr/>
          </p:nvSpPr>
          <p:spPr>
            <a:xfrm>
              <a:off x="112680" y="3963960"/>
              <a:ext cx="2584440" cy="10987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Group 55"/>
            <p:cNvGrpSpPr/>
            <p:nvPr/>
          </p:nvGrpSpPr>
          <p:grpSpPr>
            <a:xfrm>
              <a:off x="112320" y="2700360"/>
              <a:ext cx="2588040" cy="2360880"/>
              <a:chOff x="112320" y="2700360"/>
              <a:chExt cx="2588040" cy="2360880"/>
            </a:xfrm>
          </p:grpSpPr>
          <p:grpSp>
            <p:nvGrpSpPr>
              <p:cNvPr id="481" name="Group 56"/>
              <p:cNvGrpSpPr/>
              <p:nvPr/>
            </p:nvGrpSpPr>
            <p:grpSpPr>
              <a:xfrm>
                <a:off x="112320" y="2700360"/>
                <a:ext cx="2588040" cy="2360880"/>
                <a:chOff x="112320" y="2700360"/>
                <a:chExt cx="2588040" cy="2360880"/>
              </a:xfrm>
            </p:grpSpPr>
            <p:sp>
              <p:nvSpPr>
                <p:cNvPr id="482" name="Freeform 57"/>
                <p:cNvSpPr/>
                <p:nvPr/>
              </p:nvSpPr>
              <p:spPr>
                <a:xfrm>
                  <a:off x="128520" y="2700360"/>
                  <a:ext cx="565200" cy="573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58"/>
                <p:cNvSpPr/>
                <p:nvPr/>
              </p:nvSpPr>
              <p:spPr>
                <a:xfrm>
                  <a:off x="2108160" y="2700360"/>
                  <a:ext cx="581040" cy="600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84" name="AutoShape 59"/>
                <p:cNvCxnSpPr>
                  <a:stCxn id="482" idx="2"/>
                  <a:endCxn id="483" idx="2"/>
                </p:cNvCxnSpPr>
                <p:nvPr/>
              </p:nvCxnSpPr>
              <p:spPr>
                <a:xfrm>
                  <a:off x="693360" y="2700360"/>
                  <a:ext cx="1996200" cy="216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85" name="Freeform 61"/>
                <p:cNvSpPr/>
                <p:nvPr/>
              </p:nvSpPr>
              <p:spPr>
                <a:xfrm>
                  <a:off x="2112840" y="4468680"/>
                  <a:ext cx="576360" cy="584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486" name="AutoShape 62"/>
                <p:cNvCxnSpPr>
                  <a:stCxn id="485" idx="2"/>
                  <a:endCxn id="487" idx="2"/>
                </p:cNvCxnSpPr>
                <p:nvPr/>
              </p:nvCxnSpPr>
              <p:spPr>
                <a:xfrm flipV="1" rot="10800000">
                  <a:off x="111960" y="5052600"/>
                  <a:ext cx="2000880" cy="7200"/>
                </a:xfrm>
                <a:prstGeom prst="bentConnector3">
                  <a:avLst>
                    <a:gd name="adj1" fmla="val 49991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488" name="AutoShape 63"/>
                <p:cNvCxnSpPr/>
                <p:nvPr/>
              </p:nvCxnSpPr>
              <p:spPr>
                <a:xfrm>
                  <a:off x="112320" y="5059440"/>
                  <a:ext cx="2520" cy="216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487" name="Freeform 64"/>
                <p:cNvSpPr/>
                <p:nvPr/>
              </p:nvSpPr>
              <p:spPr>
                <a:xfrm>
                  <a:off x="112680" y="3273480"/>
                  <a:ext cx="15840" cy="178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65"/>
                <p:cNvSpPr/>
                <p:nvPr/>
              </p:nvSpPr>
              <p:spPr>
                <a:xfrm>
                  <a:off x="2112840" y="3300480"/>
                  <a:ext cx="11160" cy="1758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66"/>
                <p:cNvSpPr/>
                <p:nvPr/>
              </p:nvSpPr>
              <p:spPr>
                <a:xfrm>
                  <a:off x="2693880" y="2700360"/>
                  <a:ext cx="6480" cy="1735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" name="Freeform 67"/>
              <p:cNvSpPr/>
              <p:nvPr/>
            </p:nvSpPr>
            <p:spPr>
              <a:xfrm>
                <a:off x="123840" y="4416480"/>
                <a:ext cx="554040" cy="63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68"/>
              <p:cNvSpPr/>
              <p:nvPr/>
            </p:nvSpPr>
            <p:spPr>
              <a:xfrm>
                <a:off x="2131920" y="4464000"/>
                <a:ext cx="558720" cy="573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70"/>
              <p:cNvSpPr/>
              <p:nvPr/>
            </p:nvSpPr>
            <p:spPr>
              <a:xfrm>
                <a:off x="689040" y="2700360"/>
                <a:ext cx="4680" cy="1698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4" name="Freeform 71"/>
            <p:cNvSpPr/>
            <p:nvPr/>
          </p:nvSpPr>
          <p:spPr>
            <a:xfrm>
              <a:off x="112680" y="3963960"/>
              <a:ext cx="582480" cy="10764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72"/>
            <p:cNvSpPr/>
            <p:nvPr/>
          </p:nvSpPr>
          <p:spPr>
            <a:xfrm>
              <a:off x="695160" y="3963960"/>
              <a:ext cx="1986120" cy="46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73"/>
            <p:cNvSpPr/>
            <p:nvPr/>
          </p:nvSpPr>
          <p:spPr>
            <a:xfrm>
              <a:off x="2127240" y="3963960"/>
              <a:ext cx="547560" cy="10922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Text Box 74"/>
          <p:cNvSpPr/>
          <p:nvPr/>
        </p:nvSpPr>
        <p:spPr>
          <a:xfrm>
            <a:off x="228600" y="16002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angal"/>
              </a:rPr>
              <a:t>Треугольник  и 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75"/>
          <p:cNvSpPr/>
          <p:nvPr/>
        </p:nvSpPr>
        <p:spPr>
          <a:xfrm>
            <a:off x="3505320" y="2971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angal"/>
              </a:rPr>
              <a:t>Пяти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76"/>
          <p:cNvSpPr/>
          <p:nvPr/>
        </p:nvSpPr>
        <p:spPr>
          <a:xfrm>
            <a:off x="6300720" y="76212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angal"/>
              </a:rPr>
              <a:t>Шести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Прямая соединительная линия 83"/>
          <p:cNvSpPr/>
          <p:nvPr/>
        </p:nvSpPr>
        <p:spPr>
          <a:xfrm>
            <a:off x="3668760" y="5272200"/>
            <a:ext cx="21366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ая соединительная линия 85"/>
          <p:cNvSpPr/>
          <p:nvPr/>
        </p:nvSpPr>
        <p:spPr>
          <a:xfrm>
            <a:off x="3087720" y="4092480"/>
            <a:ext cx="210348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ая соединительная линия 87"/>
          <p:cNvSpPr/>
          <p:nvPr/>
        </p:nvSpPr>
        <p:spPr>
          <a:xfrm>
            <a:off x="677880" y="4416480"/>
            <a:ext cx="2016000" cy="1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ая соединительная линия 89"/>
          <p:cNvSpPr/>
          <p:nvPr/>
        </p:nvSpPr>
        <p:spPr>
          <a:xfrm>
            <a:off x="6572160" y="2857680"/>
            <a:ext cx="2013120" cy="4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ая соединительная линия 95"/>
          <p:cNvSpPr/>
          <p:nvPr/>
        </p:nvSpPr>
        <p:spPr>
          <a:xfrm>
            <a:off x="165240" y="3273480"/>
            <a:ext cx="19476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рямая соединительная линия 100"/>
          <p:cNvSpPr/>
          <p:nvPr/>
        </p:nvSpPr>
        <p:spPr>
          <a:xfrm>
            <a:off x="6000840" y="1785960"/>
            <a:ext cx="201924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533520" y="533520"/>
            <a:ext cx="27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angal"/>
              </a:rPr>
              <a:t>Задача №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"/>
          <p:cNvSpPr/>
          <p:nvPr/>
        </p:nvSpPr>
        <p:spPr>
          <a:xfrm>
            <a:off x="609480" y="154620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 ребрах параллелепипеда даны  три точки  А, В и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строить сечение параллелепипеда плоскостью АВ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596880" y="3352680"/>
            <a:ext cx="800100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строение сечения зависит от расположения точек, поэтому рассмотрим некоторые частные случа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1793880" y="4371840"/>
            <a:ext cx="651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326880" y="20224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1 вариан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3"/>
          <p:cNvSpPr/>
          <p:nvPr/>
        </p:nvSpPr>
        <p:spPr>
          <a:xfrm>
            <a:off x="3483000" y="3367080"/>
            <a:ext cx="68580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4027320" y="297324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5"/>
          <p:cNvGrpSpPr/>
          <p:nvPr/>
        </p:nvGrpSpPr>
        <p:grpSpPr>
          <a:xfrm>
            <a:off x="3044160" y="3092400"/>
            <a:ext cx="1167840" cy="1274400"/>
            <a:chOff x="3044160" y="3092400"/>
            <a:chExt cx="1167840" cy="1274400"/>
          </a:xfrm>
        </p:grpSpPr>
        <p:sp>
          <p:nvSpPr>
            <p:cNvPr id="514" name="AutoShape 6"/>
            <p:cNvSpPr/>
            <p:nvPr/>
          </p:nvSpPr>
          <p:spPr>
            <a:xfrm rot="12360000">
              <a:off x="3239280" y="3198960"/>
              <a:ext cx="731880" cy="1060920"/>
            </a:xfrm>
            <a:prstGeom prst="triangle">
              <a:avLst>
                <a:gd name="adj" fmla="val 59463"/>
              </a:avLst>
            </a:prstGeom>
            <a:solidFill>
              <a:srgbClr val="4e67c8">
                <a:alpha val="49000"/>
              </a:srgbClr>
            </a:solidFill>
            <a:ln w="15840">
              <a:solidFill>
                <a:srgbClr val="71b3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Group 7"/>
            <p:cNvGrpSpPr/>
            <p:nvPr/>
          </p:nvGrpSpPr>
          <p:grpSpPr>
            <a:xfrm>
              <a:off x="3261600" y="3116160"/>
              <a:ext cx="950400" cy="1057320"/>
              <a:chOff x="3261600" y="3116160"/>
              <a:chExt cx="950400" cy="1057320"/>
            </a:xfrm>
          </p:grpSpPr>
          <p:sp>
            <p:nvSpPr>
              <p:cNvPr id="516" name="Line 8"/>
              <p:cNvSpPr/>
              <p:nvPr/>
            </p:nvSpPr>
            <p:spPr>
              <a:xfrm>
                <a:off x="3559320" y="3116160"/>
                <a:ext cx="650880" cy="26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9"/>
              <p:cNvSpPr/>
              <p:nvPr/>
            </p:nvSpPr>
            <p:spPr>
              <a:xfrm flipH="1">
                <a:off x="3262680" y="3116160"/>
                <a:ext cx="297720" cy="105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0"/>
              <p:cNvSpPr/>
              <p:nvPr/>
            </p:nvSpPr>
            <p:spPr>
              <a:xfrm flipH="1">
                <a:off x="3261600" y="3381480"/>
                <a:ext cx="950400" cy="78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11"/>
          <p:cNvGrpSpPr/>
          <p:nvPr/>
        </p:nvGrpSpPr>
        <p:grpSpPr>
          <a:xfrm>
            <a:off x="3065400" y="2619360"/>
            <a:ext cx="2971800" cy="2589480"/>
            <a:chOff x="3065400" y="2619360"/>
            <a:chExt cx="2971800" cy="2589480"/>
          </a:xfrm>
        </p:grpSpPr>
        <p:grpSp>
          <p:nvGrpSpPr>
            <p:cNvPr id="520" name="Group 12"/>
            <p:cNvGrpSpPr/>
            <p:nvPr/>
          </p:nvGrpSpPr>
          <p:grpSpPr>
            <a:xfrm>
              <a:off x="3445920" y="2771280"/>
              <a:ext cx="2591280" cy="2437560"/>
              <a:chOff x="3445920" y="2771280"/>
              <a:chExt cx="2591280" cy="2437560"/>
            </a:xfrm>
          </p:grpSpPr>
          <p:grpSp>
            <p:nvGrpSpPr>
              <p:cNvPr id="521" name="Group 13"/>
              <p:cNvGrpSpPr/>
              <p:nvPr/>
            </p:nvGrpSpPr>
            <p:grpSpPr>
              <a:xfrm>
                <a:off x="3445920" y="2771280"/>
                <a:ext cx="2591280" cy="2437560"/>
                <a:chOff x="3445920" y="2771280"/>
                <a:chExt cx="2591280" cy="2437560"/>
              </a:xfrm>
            </p:grpSpPr>
            <p:sp>
              <p:nvSpPr>
                <p:cNvPr id="522" name="Freeform 14"/>
                <p:cNvSpPr/>
                <p:nvPr/>
              </p:nvSpPr>
              <p:spPr>
                <a:xfrm>
                  <a:off x="3462480" y="2771640"/>
                  <a:ext cx="564840" cy="592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5"/>
                <p:cNvSpPr/>
                <p:nvPr/>
              </p:nvSpPr>
              <p:spPr>
                <a:xfrm>
                  <a:off x="5445000" y="2771640"/>
                  <a:ext cx="581040" cy="621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524" name="AutoShape 16"/>
                <p:cNvCxnSpPr>
                  <a:stCxn id="522" idx="2"/>
                  <a:endCxn id="523" idx="2"/>
                </p:cNvCxnSpPr>
                <p:nvPr/>
              </p:nvCxnSpPr>
              <p:spPr>
                <a:xfrm>
                  <a:off x="4027320" y="2771280"/>
                  <a:ext cx="1999440" cy="2520"/>
                </a:xfrm>
                <a:prstGeom prst="bentConnector3">
                  <a:avLst>
                    <a:gd name="adj1" fmla="val 4999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525" name="Freeform 18"/>
                <p:cNvSpPr/>
                <p:nvPr/>
              </p:nvSpPr>
              <p:spPr>
                <a:xfrm>
                  <a:off x="5450040" y="4597560"/>
                  <a:ext cx="576000" cy="603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526" name="AutoShape 19"/>
                <p:cNvCxnSpPr>
                  <a:stCxn id="525" idx="2"/>
                  <a:endCxn id="527" idx="2"/>
                </p:cNvCxnSpPr>
                <p:nvPr/>
              </p:nvCxnSpPr>
              <p:spPr>
                <a:xfrm flipV="1" rot="10800000">
                  <a:off x="3445920" y="5200200"/>
                  <a:ext cx="2004120" cy="7200"/>
                </a:xfrm>
                <a:prstGeom prst="bentConnector3">
                  <a:avLst>
                    <a:gd name="adj1" fmla="val 5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528" name="AutoShape 20"/>
                <p:cNvCxnSpPr/>
                <p:nvPr/>
              </p:nvCxnSpPr>
              <p:spPr>
                <a:xfrm>
                  <a:off x="3446640" y="5207040"/>
                  <a:ext cx="2160" cy="2160"/>
                </a:xfrm>
                <a:prstGeom prst="bentConnector3">
                  <a:avLst>
                    <a:gd name="adj1" fmla="val 40000"/>
                  </a:avLst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sp>
              <p:nvSpPr>
                <p:cNvPr id="527" name="Freeform 21"/>
                <p:cNvSpPr/>
                <p:nvPr/>
              </p:nvSpPr>
              <p:spPr>
                <a:xfrm>
                  <a:off x="3446640" y="3363840"/>
                  <a:ext cx="15840" cy="1844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22"/>
                <p:cNvSpPr/>
                <p:nvPr/>
              </p:nvSpPr>
              <p:spPr>
                <a:xfrm>
                  <a:off x="5450040" y="3390840"/>
                  <a:ext cx="10800" cy="1816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23"/>
                <p:cNvSpPr/>
                <p:nvPr/>
              </p:nvSpPr>
              <p:spPr>
                <a:xfrm>
                  <a:off x="6031080" y="2771640"/>
                  <a:ext cx="6120" cy="17924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Freeform 24"/>
              <p:cNvSpPr/>
              <p:nvPr/>
            </p:nvSpPr>
            <p:spPr>
              <a:xfrm>
                <a:off x="3457440" y="4543560"/>
                <a:ext cx="554040" cy="660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25"/>
              <p:cNvSpPr/>
              <p:nvPr/>
            </p:nvSpPr>
            <p:spPr>
              <a:xfrm>
                <a:off x="5467320" y="4592520"/>
                <a:ext cx="558720" cy="592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27"/>
              <p:cNvSpPr/>
              <p:nvPr/>
            </p:nvSpPr>
            <p:spPr>
              <a:xfrm>
                <a:off x="4022640" y="2771640"/>
                <a:ext cx="4680" cy="1754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4" name="Text Box 28"/>
            <p:cNvSpPr/>
            <p:nvPr/>
          </p:nvSpPr>
          <p:spPr>
            <a:xfrm>
              <a:off x="3200400" y="35496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29"/>
            <p:cNvSpPr/>
            <p:nvPr/>
          </p:nvSpPr>
          <p:spPr>
            <a:xfrm>
              <a:off x="3446640" y="26193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30"/>
            <p:cNvSpPr/>
            <p:nvPr/>
          </p:nvSpPr>
          <p:spPr>
            <a:xfrm>
              <a:off x="4029120" y="2847960"/>
              <a:ext cx="41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1"/>
            <p:cNvSpPr/>
            <p:nvPr/>
          </p:nvSpPr>
          <p:spPr>
            <a:xfrm>
              <a:off x="3065400" y="39146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32"/>
            <p:cNvSpPr/>
            <p:nvPr/>
          </p:nvSpPr>
          <p:spPr>
            <a:xfrm>
              <a:off x="3294000" y="284796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Text Box 33"/>
            <p:cNvSpPr/>
            <p:nvPr/>
          </p:nvSpPr>
          <p:spPr>
            <a:xfrm>
              <a:off x="4032360" y="33782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Прямая соединительная линия 35"/>
          <p:cNvSpPr/>
          <p:nvPr/>
        </p:nvSpPr>
        <p:spPr>
          <a:xfrm>
            <a:off x="4011480" y="4543560"/>
            <a:ext cx="1989360" cy="2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Прямая соединительная линия 43"/>
          <p:cNvSpPr/>
          <p:nvPr/>
        </p:nvSpPr>
        <p:spPr>
          <a:xfrm>
            <a:off x="3462480" y="3363840"/>
            <a:ext cx="198756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1"/>
          <p:cNvGrpSpPr/>
          <p:nvPr/>
        </p:nvGrpSpPr>
        <p:grpSpPr>
          <a:xfrm>
            <a:off x="3865680" y="2306520"/>
            <a:ext cx="3033360" cy="2973240"/>
            <a:chOff x="3865680" y="2306520"/>
            <a:chExt cx="3033360" cy="2973240"/>
          </a:xfrm>
        </p:grpSpPr>
        <p:sp>
          <p:nvSpPr>
            <p:cNvPr id="543" name="Freeform 2"/>
            <p:cNvSpPr/>
            <p:nvPr/>
          </p:nvSpPr>
          <p:spPr>
            <a:xfrm>
              <a:off x="3884400" y="2315880"/>
              <a:ext cx="3014640" cy="29638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3"/>
            <p:cNvSpPr/>
            <p:nvPr/>
          </p:nvSpPr>
          <p:spPr>
            <a:xfrm>
              <a:off x="3865680" y="4153320"/>
              <a:ext cx="1064520" cy="10915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4"/>
            <p:cNvSpPr/>
            <p:nvPr/>
          </p:nvSpPr>
          <p:spPr>
            <a:xfrm>
              <a:off x="6597720" y="3506040"/>
              <a:ext cx="279000" cy="13723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4941000" y="4848480"/>
              <a:ext cx="1659600" cy="4186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4255560" y="2315880"/>
              <a:ext cx="1348920" cy="3283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5607720" y="2306520"/>
              <a:ext cx="1272240" cy="11106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3884400" y="2630160"/>
              <a:ext cx="366120" cy="15436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Text Box 9"/>
          <p:cNvSpPr/>
          <p:nvPr/>
        </p:nvSpPr>
        <p:spPr>
          <a:xfrm>
            <a:off x="1793880" y="4371840"/>
            <a:ext cx="651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419040" y="1600200"/>
            <a:ext cx="5334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2 вариан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Group 11"/>
          <p:cNvGrpSpPr/>
          <p:nvPr/>
        </p:nvGrpSpPr>
        <p:grpSpPr>
          <a:xfrm>
            <a:off x="3340080" y="1755720"/>
            <a:ext cx="4114800" cy="4284720"/>
            <a:chOff x="3340080" y="1755720"/>
            <a:chExt cx="4114800" cy="4284720"/>
          </a:xfrm>
        </p:grpSpPr>
        <p:grpSp>
          <p:nvGrpSpPr>
            <p:cNvPr id="553" name="Group 12"/>
            <p:cNvGrpSpPr/>
            <p:nvPr/>
          </p:nvGrpSpPr>
          <p:grpSpPr>
            <a:xfrm>
              <a:off x="3484440" y="1755720"/>
              <a:ext cx="3434040" cy="3510360"/>
              <a:chOff x="3484440" y="1755720"/>
              <a:chExt cx="3434040" cy="3510360"/>
            </a:xfrm>
          </p:grpSpPr>
          <p:grpSp>
            <p:nvGrpSpPr>
              <p:cNvPr id="554" name="Group 13"/>
              <p:cNvGrpSpPr/>
              <p:nvPr/>
            </p:nvGrpSpPr>
            <p:grpSpPr>
              <a:xfrm>
                <a:off x="3873240" y="2301480"/>
                <a:ext cx="3045240" cy="2964600"/>
                <a:chOff x="3873240" y="2301480"/>
                <a:chExt cx="3045240" cy="2964600"/>
              </a:xfrm>
            </p:grpSpPr>
            <p:grpSp>
              <p:nvGrpSpPr>
                <p:cNvPr id="555" name="Group 14"/>
                <p:cNvGrpSpPr/>
                <p:nvPr/>
              </p:nvGrpSpPr>
              <p:grpSpPr>
                <a:xfrm>
                  <a:off x="3873240" y="2301480"/>
                  <a:ext cx="3045240" cy="2964600"/>
                  <a:chOff x="3873240" y="2301480"/>
                  <a:chExt cx="3045240" cy="2964600"/>
                </a:xfrm>
              </p:grpSpPr>
              <p:sp>
                <p:nvSpPr>
                  <p:cNvPr id="556" name="Freeform 15"/>
                  <p:cNvSpPr/>
                  <p:nvPr/>
                </p:nvSpPr>
                <p:spPr>
                  <a:xfrm>
                    <a:off x="3890880" y="2301840"/>
                    <a:ext cx="665280" cy="720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Freeform 16"/>
                  <p:cNvSpPr/>
                  <p:nvPr/>
                </p:nvSpPr>
                <p:spPr>
                  <a:xfrm>
                    <a:off x="6222960" y="2301840"/>
                    <a:ext cx="682560" cy="754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558" name="AutoShape 17"/>
                  <p:cNvCxnSpPr>
                    <a:stCxn id="556" idx="2"/>
                    <a:endCxn id="557" idx="2"/>
                  </p:cNvCxnSpPr>
                  <p:nvPr/>
                </p:nvCxnSpPr>
                <p:spPr>
                  <a:xfrm>
                    <a:off x="4556160" y="2301480"/>
                    <a:ext cx="2349720" cy="252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</p:cxnSp>
              <p:sp>
                <p:nvSpPr>
                  <p:cNvPr id="559" name="Freeform 19"/>
                  <p:cNvSpPr/>
                  <p:nvPr/>
                </p:nvSpPr>
                <p:spPr>
                  <a:xfrm>
                    <a:off x="6227640" y="4522680"/>
                    <a:ext cx="677880" cy="7336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560" name="AutoShape 20"/>
                  <p:cNvCxnSpPr>
                    <a:stCxn id="559" idx="2"/>
                    <a:endCxn id="561" idx="2"/>
                  </p:cNvCxnSpPr>
                  <p:nvPr/>
                </p:nvCxnSpPr>
                <p:spPr>
                  <a:xfrm flipV="1" rot="10800000">
                    <a:off x="3872880" y="5256000"/>
                    <a:ext cx="2356560" cy="8640"/>
                  </a:xfrm>
                  <a:prstGeom prst="bentConnector3">
                    <a:avLst>
                      <a:gd name="adj1" fmla="val 49992"/>
                    </a:avLst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562" name="AutoShape 21"/>
                  <p:cNvCxnSpPr/>
                  <p:nvPr/>
                </p:nvCxnSpPr>
                <p:spPr>
                  <a:xfrm>
                    <a:off x="3873600" y="5264280"/>
                    <a:ext cx="2160" cy="2160"/>
                  </a:xfrm>
                  <a:prstGeom prst="bentConnector3">
                    <a:avLst>
                      <a:gd name="adj1" fmla="val 40000"/>
                    </a:avLst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</p:cxnSp>
              <p:sp>
                <p:nvSpPr>
                  <p:cNvPr id="561" name="Freeform 22"/>
                  <p:cNvSpPr/>
                  <p:nvPr/>
                </p:nvSpPr>
                <p:spPr>
                  <a:xfrm>
                    <a:off x="3873600" y="3022560"/>
                    <a:ext cx="19080" cy="2243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23"/>
                  <p:cNvSpPr/>
                  <p:nvPr/>
                </p:nvSpPr>
                <p:spPr>
                  <a:xfrm>
                    <a:off x="6227640" y="3056040"/>
                    <a:ext cx="12960" cy="2208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Freeform 24"/>
                  <p:cNvSpPr/>
                  <p:nvPr/>
                </p:nvSpPr>
                <p:spPr>
                  <a:xfrm>
                    <a:off x="6912000" y="2301840"/>
                    <a:ext cx="6480" cy="2179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" name="Freeform 25"/>
                <p:cNvSpPr/>
                <p:nvPr/>
              </p:nvSpPr>
              <p:spPr>
                <a:xfrm>
                  <a:off x="3886200" y="4456080"/>
                  <a:ext cx="652320" cy="803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6"/>
                <p:cNvSpPr/>
                <p:nvPr/>
              </p:nvSpPr>
              <p:spPr>
                <a:xfrm>
                  <a:off x="6249960" y="4518000"/>
                  <a:ext cx="657360" cy="720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28"/>
                <p:cNvSpPr/>
                <p:nvPr/>
              </p:nvSpPr>
              <p:spPr>
                <a:xfrm>
                  <a:off x="4551480" y="2301840"/>
                  <a:ext cx="4680" cy="2133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Text Box 29"/>
              <p:cNvSpPr/>
              <p:nvPr/>
            </p:nvSpPr>
            <p:spPr>
              <a:xfrm>
                <a:off x="3892680" y="2095560"/>
                <a:ext cx="590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30"/>
              <p:cNvSpPr/>
              <p:nvPr/>
            </p:nvSpPr>
            <p:spPr>
              <a:xfrm>
                <a:off x="3484440" y="3641760"/>
                <a:ext cx="6858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31"/>
              <p:cNvSpPr/>
              <p:nvPr/>
            </p:nvSpPr>
            <p:spPr>
              <a:xfrm>
                <a:off x="5394240" y="1755720"/>
                <a:ext cx="6858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1" name="Text Box 32"/>
            <p:cNvSpPr/>
            <p:nvPr/>
          </p:nvSpPr>
          <p:spPr>
            <a:xfrm>
              <a:off x="4483080" y="5262480"/>
              <a:ext cx="685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33"/>
            <p:cNvSpPr/>
            <p:nvPr/>
          </p:nvSpPr>
          <p:spPr>
            <a:xfrm>
              <a:off x="6464160" y="4729320"/>
              <a:ext cx="685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34"/>
            <p:cNvSpPr/>
            <p:nvPr/>
          </p:nvSpPr>
          <p:spPr>
            <a:xfrm>
              <a:off x="6769080" y="3129120"/>
              <a:ext cx="685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Text Box 35"/>
            <p:cNvSpPr/>
            <p:nvPr/>
          </p:nvSpPr>
          <p:spPr>
            <a:xfrm>
              <a:off x="3340080" y="5643720"/>
              <a:ext cx="685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Прямая соединительная линия 37"/>
          <p:cNvSpPr/>
          <p:nvPr/>
        </p:nvSpPr>
        <p:spPr>
          <a:xfrm>
            <a:off x="4572000" y="4429080"/>
            <a:ext cx="228600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ая соединительная линия 40"/>
          <p:cNvSpPr/>
          <p:nvPr/>
        </p:nvSpPr>
        <p:spPr>
          <a:xfrm>
            <a:off x="3892680" y="3022560"/>
            <a:ext cx="2334960" cy="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сим</dc:creator>
  <dc:description/>
  <dc:language>en-US</dc:language>
  <cp:lastModifiedBy>карина</cp:lastModifiedBy>
  <dcterms:modified xsi:type="dcterms:W3CDTF">2004-01-03T22:59:2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