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gif" ContentType="image/gif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7.gif" ContentType="image/gif"/>
  <Override PartName="/ppt/media/image15.jpeg" ContentType="image/jpeg"/>
  <Override PartName="/ppt/media/image1.gif" ContentType="image/gif"/>
  <Override PartName="/ppt/media/image2.jpeg" ContentType="image/jpeg"/>
  <Override PartName="/ppt/media/image4.jpeg" ContentType="image/jpeg"/>
  <Override PartName="/ppt/media/image5.gif" ContentType="image/gif"/>
  <Override PartName="/ppt/media/image14.jpeg" ContentType="image/jpeg"/>
  <Override PartName="/ppt/media/image6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8AA9-5199-42F7-9EB8-54FB59518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FE6D-D288-4B7B-98E9-71FB5103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2591-ECAB-4472-9A97-BB8C3B70F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E1C4-2446-4509-BD43-0B89FCDF2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FA7FF-191B-4B6F-BD6B-B72FA4B49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06F7-0271-4D51-A327-C3FD0644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5D2B-2BE7-4349-BD32-AA7662A3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ED07-DA49-427D-BF8D-0AF0F1C9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1FE2-6C55-4249-B9DE-6161D0B2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ACCD-5AF0-40B7-AF6A-FF84B784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4890-FDD6-4DDA-A191-17FFAEE8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1CE7-B253-4C46-A7B7-05EBCDDD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D1486-0730-47DB-9A8F-48BED8F5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C681-C7C1-4DD7-90FB-EC5EBDC9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21E0-BB26-40A6-B393-9E38F63F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712E-1261-4678-9B22-229A461E7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FF491-33F4-4013-8746-54BA75105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4D50-ECC8-4C87-A554-9992CFD1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F63C-08CC-4225-BDB1-B27185AA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75F3-B256-4051-BFE9-378191A5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978B-6535-4CB9-84A9-D42EEEB2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2C87-F409-46F7-AECB-E68A80D5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27CA-3974-4CCA-91B3-241D7B8C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7C61-CBE5-4BAC-8B30-B2E538E0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3FEC-3995-4A17-8614-02F2DE437A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5AEC-8E66-4E02-91D9-C7013CE65CA6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050560" y="596880"/>
            <a:ext cx="6597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Verdana"/>
              </a:rPr>
              <a:t>Нетрадиционные родительские собрания </a:t>
            </a:r>
            <a:br>
              <a:rPr sz="4800"/>
            </a:br>
            <a:r>
              <a:rPr b="1" lang="ru-RU" sz="4800" spc="-1" strike="noStrike">
                <a:solidFill>
                  <a:srgbClr val="ff0066"/>
                </a:solidFill>
                <a:latin typeface="Verdana"/>
              </a:rPr>
              <a:t>в начальных классах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Verdana"/>
              </a:rPr>
              <a:t>Патлина Надежда Леонидовн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Verdana"/>
              </a:rPr>
              <a:t>учитель МБОУ СОШ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Verdana"/>
              </a:rPr>
              <a:t>П. Пионерский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Picture 4" descr="AG00142_"/>
          <p:cNvPicPr/>
          <p:nvPr/>
        </p:nvPicPr>
        <p:blipFill>
          <a:blip r:embed="rId1"/>
          <a:stretch/>
        </p:blipFill>
        <p:spPr>
          <a:xfrm>
            <a:off x="611280" y="2708280"/>
            <a:ext cx="1555560" cy="1942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24364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Verdana"/>
              </a:rPr>
              <a:t>Спасибо за внимание!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0" name="Picture 19" descr="сканирование0014"/>
          <p:cNvPicPr/>
          <p:nvPr/>
        </p:nvPicPr>
        <p:blipFill>
          <a:blip r:embed="rId1"/>
          <a:stretch/>
        </p:blipFill>
        <p:spPr>
          <a:xfrm>
            <a:off x="468360" y="3933720"/>
            <a:ext cx="3699000" cy="2440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0" descr="2"/>
          <p:cNvPicPr/>
          <p:nvPr/>
        </p:nvPicPr>
        <p:blipFill>
          <a:blip r:embed="rId2"/>
          <a:stretch/>
        </p:blipFill>
        <p:spPr>
          <a:xfrm>
            <a:off x="4859280" y="3933720"/>
            <a:ext cx="3600360" cy="2446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2" descr="PA010015"/>
          <p:cNvPicPr/>
          <p:nvPr/>
        </p:nvPicPr>
        <p:blipFill>
          <a:blip r:embed="rId3"/>
          <a:stretch/>
        </p:blipFill>
        <p:spPr>
          <a:xfrm>
            <a:off x="2771640" y="1249200"/>
            <a:ext cx="3384720" cy="25354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62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Родительское собрание -- это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39610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Verdana"/>
              </a:rPr>
              <a:t>и педагогическое просвещение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Verdana"/>
              </a:rPr>
              <a:t>и консультаци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Verdana"/>
              </a:rPr>
              <a:t>и открытый урок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Verdana"/>
              </a:rPr>
              <a:t>и семейный праздник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2" name="Picture 9" descr="сканирование0017"/>
          <p:cNvPicPr/>
          <p:nvPr/>
        </p:nvPicPr>
        <p:blipFill>
          <a:blip r:embed="rId1"/>
          <a:stretch/>
        </p:blipFill>
        <p:spPr>
          <a:xfrm>
            <a:off x="4356000" y="2133720"/>
            <a:ext cx="4038840" cy="2608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720"/>
                            </p:stCondLst>
                            <p:childTnLst>
                              <p:par>
                                <p:cTn id="3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6220"/>
                            </p:stCondLst>
                            <p:childTnLst>
                              <p:par>
                                <p:cTn id="3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8420"/>
                            </p:stCondLst>
                            <p:childTnLst>
                              <p:par>
                                <p:cTn id="4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620"/>
                            </p:stCondLst>
                            <p:childTnLst>
                              <p:par>
                                <p:cTn id="4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Verdana"/>
              </a:rPr>
              <a:t>Педагогическое просвещен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Verdana"/>
              </a:rPr>
              <a:t>Теоретические вопрос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Verdana"/>
              </a:rPr>
              <a:t>Анализ педагогических ситуаций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Verdana"/>
              </a:rPr>
              <a:t>Анкетирование и анализ результато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Verdana"/>
              </a:rPr>
              <a:t>Дискусси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Verdana"/>
              </a:rPr>
              <a:t>Мини-сценк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5" name="Picture 24" descr=""/>
          <p:cNvPicPr/>
          <p:nvPr/>
        </p:nvPicPr>
        <p:blipFill>
          <a:blip r:embed="rId1"/>
          <a:stretch/>
        </p:blipFill>
        <p:spPr>
          <a:xfrm>
            <a:off x="7451640" y="620640"/>
            <a:ext cx="1081080" cy="9302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9" descr="6"/>
          <p:cNvPicPr/>
          <p:nvPr/>
        </p:nvPicPr>
        <p:blipFill>
          <a:blip r:embed="rId2"/>
          <a:stretch/>
        </p:blipFill>
        <p:spPr>
          <a:xfrm>
            <a:off x="4140360" y="3429000"/>
            <a:ext cx="3271680" cy="21528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0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Verdana"/>
              </a:rPr>
              <a:t>Консультац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Verdana"/>
              </a:rPr>
              <a:t>индивидуальная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                 </a:t>
            </a:r>
            <a:r>
              <a:rPr b="1" lang="ru-RU" sz="2400" spc="-1" strike="noStrike">
                <a:solidFill>
                  <a:srgbClr val="3399ff"/>
                </a:solidFill>
                <a:latin typeface="Verdana"/>
              </a:rPr>
              <a:t>коллективная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беседы                                      информация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диалоги                                  о содержани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памятки                                  программного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                                     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материала                          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Picture 16" descr=""/>
          <p:cNvPicPr/>
          <p:nvPr/>
        </p:nvPicPr>
        <p:blipFill>
          <a:blip r:embed="rId1"/>
          <a:stretch/>
        </p:blipFill>
        <p:spPr>
          <a:xfrm>
            <a:off x="539640" y="443700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2"/>
          <a:stretch/>
        </p:blipFill>
        <p:spPr>
          <a:xfrm>
            <a:off x="7596360" y="443700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1" descr="PA010018р"/>
          <p:cNvPicPr/>
          <p:nvPr/>
        </p:nvPicPr>
        <p:blipFill>
          <a:blip r:embed="rId3"/>
          <a:stretch/>
        </p:blipFill>
        <p:spPr>
          <a:xfrm>
            <a:off x="2627280" y="3500280"/>
            <a:ext cx="3240000" cy="2427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1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8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4850"/>
                            </p:stCondLst>
                            <p:childTnLst>
                              <p:par>
                                <p:cTn id="12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132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259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Verdana"/>
              </a:rPr>
              <a:t>Открытый урок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3" name="Picture 8" descr=""/>
          <p:cNvPicPr/>
          <p:nvPr/>
        </p:nvPicPr>
        <p:blipFill>
          <a:blip r:embed="rId1"/>
          <a:stretch/>
        </p:blipFill>
        <p:spPr>
          <a:xfrm>
            <a:off x="1116000" y="5157720"/>
            <a:ext cx="2017800" cy="12621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P2250280я1"/>
          <p:cNvPicPr/>
          <p:nvPr/>
        </p:nvPicPr>
        <p:blipFill>
          <a:blip r:embed="rId2"/>
          <a:stretch/>
        </p:blipFill>
        <p:spPr>
          <a:xfrm>
            <a:off x="4427640" y="2924280"/>
            <a:ext cx="3886200" cy="29113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PC170001р1"/>
          <p:cNvPicPr/>
          <p:nvPr/>
        </p:nvPicPr>
        <p:blipFill>
          <a:blip r:embed="rId3"/>
          <a:stretch/>
        </p:blipFill>
        <p:spPr>
          <a:xfrm>
            <a:off x="611280" y="1197000"/>
            <a:ext cx="3527280" cy="264492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Verdana"/>
              </a:rPr>
              <a:t>Семейный праздник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867280" y="1600200"/>
            <a:ext cx="28195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Verdana"/>
              </a:rPr>
              <a:t>игр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Verdana"/>
              </a:rPr>
              <a:t>конкурс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Verdana"/>
              </a:rPr>
              <a:t>стих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Verdana"/>
              </a:rPr>
              <a:t>сценк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Verdana"/>
              </a:rPr>
              <a:t>частушк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Verdana"/>
              </a:rPr>
              <a:t>выставк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Verdana"/>
              </a:rPr>
              <a:t>чаепитие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8" name="Picture 8" descr=""/>
          <p:cNvPicPr/>
          <p:nvPr/>
        </p:nvPicPr>
        <p:blipFill>
          <a:blip r:embed="rId1"/>
          <a:stretch/>
        </p:blipFill>
        <p:spPr>
          <a:xfrm>
            <a:off x="6732720" y="5229360"/>
            <a:ext cx="1266840" cy="1295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2" descr="сканирование0015"/>
          <p:cNvPicPr/>
          <p:nvPr/>
        </p:nvPicPr>
        <p:blipFill>
          <a:blip r:embed="rId2"/>
          <a:stretch/>
        </p:blipFill>
        <p:spPr>
          <a:xfrm>
            <a:off x="971640" y="2060640"/>
            <a:ext cx="4038480" cy="2636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Verdana"/>
              </a:rPr>
              <a:t>Родительское собрание «Педагогика понимания»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9640" y="508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cc00"/>
                </a:solidFill>
                <a:latin typeface="Verdana"/>
              </a:rPr>
              <a:t>Цель: помочь учащимся понять роль воспитателя в педагогической деятельности учител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2" name="Picture 14" descr="4"/>
          <p:cNvPicPr/>
          <p:nvPr/>
        </p:nvPicPr>
        <p:blipFill>
          <a:blip r:embed="rId1"/>
          <a:stretch/>
        </p:blipFill>
        <p:spPr>
          <a:xfrm>
            <a:off x="900000" y="2205000"/>
            <a:ext cx="3152880" cy="2151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6" descr="1"/>
          <p:cNvPicPr/>
          <p:nvPr/>
        </p:nvPicPr>
        <p:blipFill>
          <a:blip r:embed="rId2"/>
          <a:stretch/>
        </p:blipFill>
        <p:spPr>
          <a:xfrm>
            <a:off x="5076720" y="2205000"/>
            <a:ext cx="3165480" cy="21510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94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530028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Сценки, физкультминутки вместе с родителям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5" name="Picture 28" descr="3"/>
          <p:cNvPicPr/>
          <p:nvPr/>
        </p:nvPicPr>
        <p:blipFill>
          <a:blip r:embed="rId1"/>
          <a:stretch/>
        </p:blipFill>
        <p:spPr>
          <a:xfrm>
            <a:off x="755640" y="2349360"/>
            <a:ext cx="3697200" cy="23781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9" descr="5"/>
          <p:cNvPicPr/>
          <p:nvPr/>
        </p:nvPicPr>
        <p:blipFill>
          <a:blip r:embed="rId2"/>
          <a:stretch/>
        </p:blipFill>
        <p:spPr>
          <a:xfrm>
            <a:off x="4932360" y="981000"/>
            <a:ext cx="3524400" cy="2414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Verdana"/>
              </a:rPr>
              <a:t>Что дают нестандартные родительские собрания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Verdana"/>
              </a:rPr>
              <a:t>Высокую посещаемост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Verdana"/>
              </a:rPr>
              <a:t>Сближают учителя, родителей, детей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Verdana"/>
              </a:rPr>
              <a:t>Частично решают проблему семейного досуг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Verdana"/>
              </a:rPr>
              <a:t>Нет назидательности со стороны учителя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Verdana"/>
              </a:rPr>
              <a:t>Родители учатся правильно помогать детям дом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Verdana"/>
              </a:rPr>
              <a:t>Родители видят уровень знаний, активность детей в сравнении с другим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Verdana"/>
              </a:rPr>
              <a:t>Нет обид и недомолвок между учителями и родителям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14:26:45Z</dcterms:created>
  <dc:creator>Оля</dc:creator>
  <dc:description/>
  <dc:language>en-US</dc:language>
  <cp:lastModifiedBy>Х</cp:lastModifiedBy>
  <dcterms:modified xsi:type="dcterms:W3CDTF">2018-11-04T17:55:23Z</dcterms:modified>
  <cp:revision>11</cp:revision>
  <dc:subject/>
  <dc:title>Нетрадиционные родительские собрания в начальных классах</dc:title>
</cp:coreProperties>
</file>