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1.gif" ContentType="image/gif"/>
  <Override PartName="/ppt/media/image2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A81-07E8-481C-8CA5-EF4885E8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0A3-C0C3-4B93-A8B6-85A5C7A6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EEF-9C07-4B82-957F-47C1D94F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800-F1FB-45EB-B5C5-B7F79A8C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11B7-7B46-49CE-B347-72FCAAF9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54A9-7516-4604-A8BC-A31AEE58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FD99-18E6-4A3A-90A7-9D5FC200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D255-BBBB-4E06-8B2E-554698A4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4EFE-D2E9-43D2-B70E-D14BE7CB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4A03-6D84-484E-A1B7-11C83168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A956-5B24-4372-8D48-9F5EA2B0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66B-7D32-47C2-8DF5-6F1309AE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9DB3-EF64-48F6-AAA2-2E3EAE71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AB5F-EC72-49EB-BC05-B4FBF46F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9F89-4E6F-44A4-9CF0-4A0C81EE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8E21-40CB-4AE5-B993-EC0A8628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E600-945C-4774-9F40-E2C8A634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1A4-3353-4D5B-8205-05A92B6F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20E-64EA-4E9F-BB0C-F9B156B5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C94-45DD-4D01-8F47-F4BC57B7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F96-11E2-4590-A96B-C3635C75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4EB-6841-4A18-8A6A-4EBFF581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281-090D-4EAB-A104-9D514455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A87-17D3-4DF6-B795-C5BDE012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F8E0-F48A-4C1B-B17C-993B32BAF2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F17B-C1F2-44AC-AC8E-C0F99464BF0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0560" y="596880"/>
            <a:ext cx="6597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Verdana"/>
              </a:rPr>
              <a:t>Нетрадиционные родительские собрания 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Verdana"/>
              </a:rPr>
              <a:t>в начальных классах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Патлина Надежда Леонидов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учитель МБОУ СОШ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П. Пионерск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4" descr="AG00142_"/>
          <p:cNvPicPr/>
          <p:nvPr/>
        </p:nvPicPr>
        <p:blipFill>
          <a:blip r:embed="rId1"/>
          <a:stretch/>
        </p:blipFill>
        <p:spPr>
          <a:xfrm>
            <a:off x="611280" y="2708280"/>
            <a:ext cx="1555560" cy="1942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436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Picture 19" descr="сканирование0014"/>
          <p:cNvPicPr/>
          <p:nvPr/>
        </p:nvPicPr>
        <p:blipFill>
          <a:blip r:embed="rId1"/>
          <a:stretch/>
        </p:blipFill>
        <p:spPr>
          <a:xfrm>
            <a:off x="468360" y="3933720"/>
            <a:ext cx="3699000" cy="2440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0" descr="2"/>
          <p:cNvPicPr/>
          <p:nvPr/>
        </p:nvPicPr>
        <p:blipFill>
          <a:blip r:embed="rId2"/>
          <a:stretch/>
        </p:blipFill>
        <p:spPr>
          <a:xfrm>
            <a:off x="4859280" y="3933720"/>
            <a:ext cx="3600360" cy="244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2" descr="PA010015"/>
          <p:cNvPicPr/>
          <p:nvPr/>
        </p:nvPicPr>
        <p:blipFill>
          <a:blip r:embed="rId3"/>
          <a:stretch/>
        </p:blipFill>
        <p:spPr>
          <a:xfrm>
            <a:off x="2771640" y="1249200"/>
            <a:ext cx="3384720" cy="253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2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Родительское собрание -- эт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961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и педагогическое просвещ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и консультац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и открытый уро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и семейный праздни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9" descr="сканирование0017"/>
          <p:cNvPicPr/>
          <p:nvPr/>
        </p:nvPicPr>
        <p:blipFill>
          <a:blip r:embed="rId1"/>
          <a:stretch/>
        </p:blipFill>
        <p:spPr>
          <a:xfrm>
            <a:off x="4356000" y="2133720"/>
            <a:ext cx="4038840" cy="2608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22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420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62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Verdana"/>
              </a:rPr>
              <a:t>Педагогическое просвещ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Теоретические вопро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Анализ педагогических ситуац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Анкетирование и анализ результат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Дискусс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Мини-сцен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24" descr=""/>
          <p:cNvPicPr/>
          <p:nvPr/>
        </p:nvPicPr>
        <p:blipFill>
          <a:blip r:embed="rId1"/>
          <a:stretch/>
        </p:blipFill>
        <p:spPr>
          <a:xfrm>
            <a:off x="7451640" y="620640"/>
            <a:ext cx="1081080" cy="930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9" descr="6"/>
          <p:cNvPicPr/>
          <p:nvPr/>
        </p:nvPicPr>
        <p:blipFill>
          <a:blip r:embed="rId2"/>
          <a:stretch/>
        </p:blipFill>
        <p:spPr>
          <a:xfrm>
            <a:off x="4140360" y="3429000"/>
            <a:ext cx="3271680" cy="2152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онсультац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индивидуальная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                </a:t>
            </a: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коллективная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беседы                                      информац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диалоги                                  о содержан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памятки                                  программн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материала  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539640" y="4437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2"/>
          <a:stretch/>
        </p:blipFill>
        <p:spPr>
          <a:xfrm>
            <a:off x="7596360" y="4437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PA010018р"/>
          <p:cNvPicPr/>
          <p:nvPr/>
        </p:nvPicPr>
        <p:blipFill>
          <a:blip r:embed="rId3"/>
          <a:stretch/>
        </p:blipFill>
        <p:spPr>
          <a:xfrm>
            <a:off x="2627280" y="3500280"/>
            <a:ext cx="3240000" cy="2427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Открытый ур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17800" cy="1262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P2250280я1"/>
          <p:cNvPicPr/>
          <p:nvPr/>
        </p:nvPicPr>
        <p:blipFill>
          <a:blip r:embed="rId2"/>
          <a:stretch/>
        </p:blipFill>
        <p:spPr>
          <a:xfrm>
            <a:off x="4427640" y="292428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PC170001р1"/>
          <p:cNvPicPr/>
          <p:nvPr/>
        </p:nvPicPr>
        <p:blipFill>
          <a:blip r:embed="rId3"/>
          <a:stretch/>
        </p:blipFill>
        <p:spPr>
          <a:xfrm>
            <a:off x="611280" y="1197000"/>
            <a:ext cx="3527280" cy="26449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Verdana"/>
              </a:rPr>
              <a:t>Семейный праздни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игр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конкурс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стих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сцен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частуш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выстав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чаепит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6732720" y="5229360"/>
            <a:ext cx="1266840" cy="1295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сканирование0015"/>
          <p:cNvPicPr/>
          <p:nvPr/>
        </p:nvPicPr>
        <p:blipFill>
          <a:blip r:embed="rId2"/>
          <a:stretch/>
        </p:blipFill>
        <p:spPr>
          <a:xfrm>
            <a:off x="971640" y="2060640"/>
            <a:ext cx="4038480" cy="2636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Родительское собрание «Педагогика понимания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508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00"/>
                </a:solidFill>
                <a:latin typeface="Verdana"/>
              </a:rPr>
              <a:t>Цель: помочь учащимся понять роль воспитателя в педагогической деятельности учител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14" descr="4"/>
          <p:cNvPicPr/>
          <p:nvPr/>
        </p:nvPicPr>
        <p:blipFill>
          <a:blip r:embed="rId1"/>
          <a:stretch/>
        </p:blipFill>
        <p:spPr>
          <a:xfrm>
            <a:off x="900000" y="2205000"/>
            <a:ext cx="3152880" cy="2151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1"/>
          <p:cNvPicPr/>
          <p:nvPr/>
        </p:nvPicPr>
        <p:blipFill>
          <a:blip r:embed="rId2"/>
          <a:stretch/>
        </p:blipFill>
        <p:spPr>
          <a:xfrm>
            <a:off x="5076720" y="2205000"/>
            <a:ext cx="3165480" cy="2151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4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ценки, физкультминутки вместе с родителя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28" descr="3"/>
          <p:cNvPicPr/>
          <p:nvPr/>
        </p:nvPicPr>
        <p:blipFill>
          <a:blip r:embed="rId1"/>
          <a:stretch/>
        </p:blipFill>
        <p:spPr>
          <a:xfrm>
            <a:off x="755640" y="2349360"/>
            <a:ext cx="3697200" cy="2378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5"/>
          <p:cNvPicPr/>
          <p:nvPr/>
        </p:nvPicPr>
        <p:blipFill>
          <a:blip r:embed="rId2"/>
          <a:stretch/>
        </p:blipFill>
        <p:spPr>
          <a:xfrm>
            <a:off x="4932360" y="981000"/>
            <a:ext cx="3524400" cy="241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Verdana"/>
              </a:rPr>
              <a:t>Что дают нестандартные родительские собрания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Высокую посещаем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Сближают учителя, родителей, дет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Частично решают проблему семейного досуг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Нет назидательности со стороны учител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Родители учатся правильно помогать детям до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Родители видят уровень знаний, активность детей в сравнении с други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Verdana"/>
              </a:rPr>
              <a:t>Нет обид и недомолвок между учителями и родителя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4:26:45Z</dcterms:created>
  <dc:creator>Оля</dc:creator>
  <dc:description/>
  <dc:language>en-US</dc:language>
  <cp:lastModifiedBy>Х</cp:lastModifiedBy>
  <dcterms:modified xsi:type="dcterms:W3CDTF">2018-11-04T17:55:23Z</dcterms:modified>
  <cp:revision>11</cp:revision>
  <dc:subject/>
  <dc:title>Нетрадиционные родительские собрания в начальных классах</dc:title>
</cp:coreProperties>
</file>