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82116058029015"/>
          <c:y val="0.021669018343076"/>
          <c:w val="0.929714857428714"/>
          <c:h val="0.81425115904051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Твое объяснение опоздания выслушают</c:v>
                </c:pt>
                <c:pt idx="1">
                  <c:v>На твое опоздание не обратят внимания</c:v>
                </c:pt>
                <c:pt idx="2">
                  <c:v>Тебя отругаю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8</c:v>
                </c:pt>
                <c:pt idx="1">
                  <c:v>2</c:v>
                </c:pt>
                <c:pt idx="2">
                  <c:v>5</c:v>
                </c:pt>
              </c:numCache>
            </c:numRef>
          </c:val>
        </c:ser>
        <c:gapWidth val="150"/>
        <c:overlap val="0"/>
        <c:axId val="49188017"/>
        <c:axId val="18914438"/>
      </c:barChart>
      <c:catAx>
        <c:axId val="4918801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18914438"/>
        <c:crosses val="autoZero"/>
        <c:auto val="1"/>
        <c:lblAlgn val="ctr"/>
        <c:lblOffset val="100"/>
        <c:noMultiLvlLbl val="0"/>
      </c:catAx>
      <c:valAx>
        <c:axId val="18914438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188017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61480740370185"/>
          <c:y val="0.0199055642996019"/>
          <c:w val="0.942783891945973"/>
          <c:h val="0.808999166743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Дома</c:v>
                </c:pt>
                <c:pt idx="1">
                  <c:v>В школе</c:v>
                </c:pt>
                <c:pt idx="2">
                  <c:v>Среди друзе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8</c:v>
                </c:pt>
                <c:pt idx="1">
                  <c:v>2</c:v>
                </c:pt>
                <c:pt idx="2">
                  <c:v>5</c:v>
                </c:pt>
              </c:numCache>
            </c:numRef>
          </c:val>
        </c:ser>
        <c:gapWidth val="150"/>
        <c:overlap val="0"/>
        <c:axId val="51850973"/>
        <c:axId val="29013028"/>
      </c:barChart>
      <c:catAx>
        <c:axId val="5185097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29013028"/>
        <c:crosses val="autoZero"/>
        <c:auto val="1"/>
        <c:lblAlgn val="ctr"/>
        <c:lblOffset val="100"/>
        <c:noMultiLvlLbl val="0"/>
      </c:catAx>
      <c:valAx>
        <c:axId val="29013028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850973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61480740370185"/>
          <c:y val="0.0322192389593556"/>
          <c:w val="0.942783891945973"/>
          <c:h val="0.808999166743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Сразу расскажешь об этом родителям</c:v>
                </c:pt>
                <c:pt idx="1">
                  <c:v>Расскажешь об этом, но дождешься удобной минуты</c:v>
                </c:pt>
                <c:pt idx="2">
                  <c:v>Вообще об этом не расскажешь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1</c:v>
                </c:pt>
                <c:pt idx="1">
                  <c:v>2</c:v>
                </c:pt>
                <c:pt idx="2">
                  <c:v>5</c:v>
                </c:pt>
              </c:numCache>
            </c:numRef>
          </c:val>
        </c:ser>
        <c:gapWidth val="150"/>
        <c:overlap val="0"/>
        <c:axId val="56086528"/>
        <c:axId val="74458012"/>
      </c:barChart>
      <c:catAx>
        <c:axId val="5608652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74458012"/>
        <c:crosses val="autoZero"/>
        <c:auto val="1"/>
        <c:lblAlgn val="ctr"/>
        <c:lblOffset val="100"/>
        <c:noMultiLvlLbl val="0"/>
      </c:catAx>
      <c:valAx>
        <c:axId val="74458012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086528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83366683341671"/>
          <c:y val="0.0199055642996019"/>
          <c:w val="0.942783891945973"/>
          <c:h val="0.808999166743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Отругают</c:v>
                </c:pt>
                <c:pt idx="1">
                  <c:v>Посочувствуют</c:v>
                </c:pt>
                <c:pt idx="2">
                  <c:v>Накажу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3</c:v>
                </c:pt>
                <c:pt idx="1">
                  <c:v>6</c:v>
                </c:pt>
                <c:pt idx="2">
                  <c:v>6</c:v>
                </c:pt>
              </c:numCache>
            </c:numRef>
          </c:val>
        </c:ser>
        <c:gapWidth val="150"/>
        <c:overlap val="0"/>
        <c:axId val="55986817"/>
        <c:axId val="714258"/>
      </c:barChart>
      <c:catAx>
        <c:axId val="5598681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714258"/>
        <c:crosses val="autoZero"/>
        <c:auto val="1"/>
        <c:lblAlgn val="ctr"/>
        <c:lblOffset val="100"/>
        <c:noMultiLvlLbl val="0"/>
      </c:catAx>
      <c:valAx>
        <c:axId val="714258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986817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Молчать</c:v>
                </c:pt>
                <c:pt idx="1">
                  <c:v>Оправдываться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6</c:v>
                </c:pt>
                <c:pt idx="1">
                  <c:v>9</c:v>
                </c:pt>
              </c:numCache>
            </c:numRef>
          </c:val>
        </c:ser>
        <c:gapWidth val="150"/>
        <c:overlap val="0"/>
        <c:axId val="91917504"/>
        <c:axId val="25315244"/>
      </c:barChart>
      <c:catAx>
        <c:axId val="9191750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25315244"/>
        <c:crosses val="autoZero"/>
        <c:auto val="1"/>
        <c:lblAlgn val="ctr"/>
        <c:lblOffset val="100"/>
        <c:noMultiLvlLbl val="0"/>
      </c:catAx>
      <c:valAx>
        <c:axId val="25315244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917504"/>
        <c:crosses val="autoZero"/>
        <c:crossBetween val="between"/>
        <c:majorUnit val="1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13765127442364"/>
          <c:y val="0.0199055642996019"/>
          <c:w val="0.942735447231425"/>
          <c:h val="0.808999166743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Согласишься с этим</c:v>
                </c:pt>
                <c:pt idx="1">
                  <c:v>Промолчишь</c:v>
                </c:pt>
                <c:pt idx="2">
                  <c:v>Будешь доказывать свою правоту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</c:v>
                </c:pt>
                <c:pt idx="1">
                  <c:v>7</c:v>
                </c:pt>
                <c:pt idx="2">
                  <c:v>7</c:v>
                </c:pt>
              </c:numCache>
            </c:numRef>
          </c:val>
        </c:ser>
        <c:gapWidth val="150"/>
        <c:overlap val="0"/>
        <c:axId val="10014631"/>
        <c:axId val="40796916"/>
      </c:barChart>
      <c:catAx>
        <c:axId val="1001463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40796916"/>
        <c:crosses val="autoZero"/>
        <c:auto val="1"/>
        <c:lblAlgn val="ctr"/>
        <c:lblOffset val="100"/>
        <c:noMultiLvlLbl val="0"/>
      </c:catAx>
      <c:valAx>
        <c:axId val="40796916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014631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61480740370185"/>
          <c:y val="0.0199055642996019"/>
          <c:w val="0.942783891945973"/>
          <c:h val="0.808999166743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Простишь, если они просят прощения</c:v>
                </c:pt>
                <c:pt idx="1">
                  <c:v>Молча проглотишь обиду</c:v>
                </c:pt>
                <c:pt idx="2">
                  <c:v>Накажешь при удобном случа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7</c:v>
                </c:pt>
                <c:pt idx="1">
                  <c:v>3</c:v>
                </c:pt>
                <c:pt idx="2">
                  <c:v>5</c:v>
                </c:pt>
              </c:numCache>
            </c:numRef>
          </c:val>
        </c:ser>
        <c:gapWidth val="150"/>
        <c:overlap val="0"/>
        <c:axId val="93852908"/>
        <c:axId val="12461570"/>
      </c:barChart>
      <c:catAx>
        <c:axId val="9385290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12461570"/>
        <c:crosses val="autoZero"/>
        <c:auto val="1"/>
        <c:lblAlgn val="ctr"/>
        <c:lblOffset val="100"/>
        <c:noMultiLvlLbl val="0"/>
      </c:catAx>
      <c:valAx>
        <c:axId val="12461570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852908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Родителям </c:v>
                </c:pt>
                <c:pt idx="1">
                  <c:v>Друзьям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3</c:v>
                </c:pt>
                <c:pt idx="1">
                  <c:v>2</c:v>
                </c:pt>
              </c:numCache>
            </c:numRef>
          </c:val>
        </c:ser>
        <c:gapWidth val="150"/>
        <c:overlap val="0"/>
        <c:axId val="50733953"/>
        <c:axId val="53258744"/>
      </c:barChart>
      <c:catAx>
        <c:axId val="5073395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53258744"/>
        <c:crosses val="autoZero"/>
        <c:auto val="1"/>
        <c:lblAlgn val="ctr"/>
        <c:lblOffset val="100"/>
        <c:noMultiLvlLbl val="0"/>
      </c:catAx>
      <c:valAx>
        <c:axId val="53258744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733953"/>
        <c:crosses val="autoZero"/>
        <c:crossBetween val="between"/>
        <c:majorUnit val="1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Вместе со всеми  за столом</c:v>
                </c:pt>
                <c:pt idx="1">
                  <c:v>В своей комнат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0</c:v>
                </c:pt>
                <c:pt idx="1">
                  <c:v>5</c:v>
                </c:pt>
              </c:numCache>
            </c:numRef>
          </c:val>
        </c:ser>
        <c:gapWidth val="150"/>
        <c:overlap val="0"/>
        <c:axId val="42085617"/>
        <c:axId val="37979413"/>
      </c:barChart>
      <c:catAx>
        <c:axId val="4208561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37979413"/>
        <c:crosses val="autoZero"/>
        <c:auto val="1"/>
        <c:lblAlgn val="ctr"/>
        <c:lblOffset val="100"/>
        <c:noMultiLvlLbl val="0"/>
      </c:catAx>
      <c:valAx>
        <c:axId val="37979413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2085617"/>
        <c:crosses val="autoZero"/>
        <c:crossBetween val="between"/>
        <c:majorUnit val="1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61480740370185"/>
          <c:y val="0.0199055642996019"/>
          <c:w val="0.942783891945973"/>
          <c:h val="0.808999166743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человек</c:v>
                </c:pt>
              </c:strCache>
            </c:strRef>
          </c:tx>
          <c:spPr>
            <a:gradFill>
              <a:gsLst>
                <a:gs pos="0">
                  <a:srgbClr val="66008f"/>
                </a:gs>
                <a:gs pos="100000">
                  <a:srgbClr val="ba0066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Соглашаются</c:v>
                </c:pt>
                <c:pt idx="1">
                  <c:v>Не обращают на это внимание</c:v>
                </c:pt>
                <c:pt idx="2">
                  <c:v>Не соглашаются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8</c:v>
                </c:pt>
                <c:pt idx="1">
                  <c:v>2</c:v>
                </c:pt>
                <c:pt idx="2">
                  <c:v>5</c:v>
                </c:pt>
              </c:numCache>
            </c:numRef>
          </c:val>
        </c:ser>
        <c:gapWidth val="150"/>
        <c:overlap val="0"/>
        <c:axId val="1670116"/>
        <c:axId val="66326397"/>
      </c:barChart>
      <c:catAx>
        <c:axId val="167011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ff0000"/>
                </a:solidFill>
                <a:latin typeface="Georgia"/>
              </a:defRPr>
            </a:pPr>
          </a:p>
        </c:txPr>
        <c:crossAx val="66326397"/>
        <c:crosses val="autoZero"/>
        <c:auto val="1"/>
        <c:lblAlgn val="ctr"/>
        <c:lblOffset val="100"/>
        <c:noMultiLvlLbl val="0"/>
      </c:catAx>
      <c:valAx>
        <c:axId val="66326397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70116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A6EFE2-EAD4-4A7F-B96C-49301F83B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C0F85C-057D-4419-9834-03D3A438F66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E4D-5AAE-4526-9F7A-1B952A2C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EC5-B4BF-43FF-84A8-3E7C8143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DDF-6AEE-4CA2-857F-65A85AA6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C39-AE11-4E29-8822-EE885697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8965-E95B-409D-96A2-C3FD7160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792F-6D7F-4319-BB36-02840670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A546-9411-4282-973E-C5CC1873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359F-C519-40AC-A367-7D00954C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252E-F025-47A7-A313-4F7825D7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15A7-053B-44C6-A48B-20C207D5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D975-ACA5-4A4F-8F98-3E794B9F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1D3-E9CA-438B-9F65-EC57A255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D5DB-2323-4F5E-9CD4-F51541D9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77A0-BCCA-4D3E-9C1C-7777DA36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7D1C-1645-4B2E-A200-94E0312D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35AB-8988-41E8-9F54-FDC2279E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1157-93A8-4BAD-B400-E462CBD3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992-FCCB-45A2-8630-9D61B992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906-B15E-4E98-AF46-30D55FF1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546-D685-40A2-823A-B7C01765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7B2-92F7-4979-85B1-BD168687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0B8-9A63-4508-A123-F0EFD1A9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016-E63B-4566-8CBF-C35561C0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999-0ABA-4159-826B-74FEC2FC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6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6BFAC0-447D-4B51-B415-9997710A442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6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CBDBF8-E5FF-400B-9BEA-F41D925862A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316160" y="692640"/>
            <a:ext cx="656964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6600" spc="-1" strike="noStrike">
                <a:solidFill>
                  <a:srgbClr val="7030a0"/>
                </a:solidFill>
                <a:latin typeface="Georgia"/>
              </a:rPr>
              <a:t>Родительско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600" spc="-1" strike="noStrike">
                <a:solidFill>
                  <a:srgbClr val="7030a0"/>
                </a:solidFill>
                <a:latin typeface="Georgia"/>
              </a:rPr>
              <a:t>собр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285920" y="3000240"/>
            <a:ext cx="6238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Сколько человеческого счастья разбилось вдребезги только потому, что кто-то кому-то не сказал: «Извин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И.Д.Виль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000080" y="932400"/>
            <a:ext cx="6643440" cy="5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3. За плохую оцен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286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Диаграмма 5"/>
          <p:cNvGraphicFramePr/>
          <p:nvPr/>
        </p:nvGraphicFramePr>
        <p:xfrm>
          <a:off x="1619640" y="1484640"/>
          <a:ext cx="5756760" cy="388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928800" y="786240"/>
            <a:ext cx="678636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4. Если тебя родители ругают, то ты будеш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3457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Диаграмма 4"/>
          <p:cNvGraphicFramePr/>
          <p:nvPr/>
        </p:nvGraphicFramePr>
        <p:xfrm>
          <a:off x="1835640" y="1628640"/>
          <a:ext cx="4857480" cy="3642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357200" y="790560"/>
            <a:ext cx="662796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5. Если тебя накажут несправедливо, 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24573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Диаграмма 4"/>
          <p:cNvGraphicFramePr/>
          <p:nvPr/>
        </p:nvGraphicFramePr>
        <p:xfrm>
          <a:off x="2051640" y="1556640"/>
          <a:ext cx="5324400" cy="388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214280" y="720000"/>
            <a:ext cx="650052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6. Если тебя обидели, ты своих обидч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57200" y="2171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Диаграмма 4"/>
          <p:cNvGraphicFramePr/>
          <p:nvPr/>
        </p:nvGraphicFramePr>
        <p:xfrm>
          <a:off x="1619640" y="1556640"/>
          <a:ext cx="5756760" cy="388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714240" y="362880"/>
            <a:ext cx="721476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7. Если у тебя на душе плохо, ты обращаешься 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Диаграмма 3"/>
          <p:cNvGraphicFramePr/>
          <p:nvPr/>
        </p:nvGraphicFramePr>
        <p:xfrm>
          <a:off x="1714320" y="1357200"/>
          <a:ext cx="5089320" cy="3799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357200" y="719280"/>
            <a:ext cx="5786280" cy="5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8. Если в доме гости, 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Диаграмма 2"/>
          <p:cNvGraphicFramePr/>
          <p:nvPr/>
        </p:nvGraphicFramePr>
        <p:xfrm>
          <a:off x="1714320" y="1357200"/>
          <a:ext cx="5428800" cy="3727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9" name="Rectangle 3"/>
          <p:cNvSpPr/>
          <p:nvPr/>
        </p:nvSpPr>
        <p:spPr>
          <a:xfrm>
            <a:off x="457200" y="2809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000080" y="647640"/>
            <a:ext cx="685764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9. Если о тебе говорят плохо, то твои родители с эт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Диаграмма 3"/>
          <p:cNvGraphicFramePr/>
          <p:nvPr/>
        </p:nvGraphicFramePr>
        <p:xfrm>
          <a:off x="1547640" y="1412640"/>
          <a:ext cx="5756760" cy="388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214280" y="791640"/>
            <a:ext cx="657180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10. Ты себя лучше чувствуешь, когда 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3666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Диаграмма 4"/>
          <p:cNvGraphicFramePr/>
          <p:nvPr/>
        </p:nvGraphicFramePr>
        <p:xfrm>
          <a:off x="1619640" y="1628640"/>
          <a:ext cx="5756760" cy="388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1043640" y="2133000"/>
            <a:ext cx="7214760" cy="2283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002060"/>
                </a:solidFill>
                <a:latin typeface="Georgia"/>
              </a:rPr>
              <a:t>Каковы причины появления трудных дете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835640" y="620640"/>
            <a:ext cx="6120360" cy="466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Причины детской неуправля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ричина первая – </a:t>
            </a:r>
            <a:r>
              <a:rPr b="1" i="1" lang="ru-RU" sz="1800" spc="-1" strike="noStrike">
                <a:solidFill>
                  <a:srgbClr val="7030a0"/>
                </a:solidFill>
                <a:latin typeface="Georgia"/>
              </a:rPr>
              <a:t>борьба за внимание. </a:t>
            </a: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Непослушание – это тоже возможность привлечь к себе внимание. Внимание необходимо для эмоционального благополу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ричина вторая – </a:t>
            </a:r>
            <a:r>
              <a:rPr b="1" i="1" lang="ru-RU" sz="1800" spc="-1" strike="noStrike">
                <a:solidFill>
                  <a:srgbClr val="7030a0"/>
                </a:solidFill>
                <a:latin typeface="Georgia"/>
              </a:rPr>
              <a:t>борьба за самоутверждение.</a:t>
            </a:r>
            <a:r>
              <a:rPr b="1" i="1" lang="en-US" sz="18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Ребенок объявляет войну бесконечным указаниям, замечаниям и опасениям взрослых. Возможность иметь свое мнение, и принимать собственное решение – это возможность приобретать свой опыт, пусть даже ошибочный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619640" y="1989000"/>
            <a:ext cx="6192360" cy="301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чебная деятельность детей. Их дисципл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еседа на тему  «Мой ребенок становится труд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зно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936000" y="908640"/>
            <a:ext cx="72158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Arno Pro Smbd Caption"/>
              </a:rPr>
              <a:t>Повестка собр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403640" y="1124640"/>
            <a:ext cx="626436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ричина третья – </a:t>
            </a:r>
            <a:r>
              <a:rPr b="1" i="1" lang="ru-RU" sz="1800" spc="-1" strike="noStrike">
                <a:solidFill>
                  <a:srgbClr val="7030a0"/>
                </a:solidFill>
                <a:latin typeface="Georgia"/>
              </a:rPr>
              <a:t>желание мщения</a:t>
            </a: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. Ребенок может мст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За сравнение не в его пользу со старшими или младшими братьями и сестр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Унижение друг друга членами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Разводы и появление в доме нового члена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Несправедливость и невыполненные обещ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Чрезмерное проявление любви взрослых друг к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ричина четвертая – </a:t>
            </a:r>
            <a:r>
              <a:rPr b="1" i="1" lang="ru-RU" sz="1800" spc="-1" strike="noStrike">
                <a:solidFill>
                  <a:srgbClr val="7030a0"/>
                </a:solidFill>
                <a:latin typeface="Georgia"/>
              </a:rPr>
              <a:t>неверие в собственный успех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1800" spc="-1" strike="noStrike">
                <a:solidFill>
                  <a:srgbClr val="0070c0"/>
                </a:solidFill>
                <a:latin typeface="Georgia"/>
              </a:rPr>
              <a:t>обусловленное учебными неуспехами, взаимоотношениями в классе и с учителем, низкой самооцен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1331640" y="1772640"/>
            <a:ext cx="6408360" cy="301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002060"/>
                </a:solidFill>
                <a:latin typeface="Georgia"/>
              </a:rPr>
              <a:t>Каковы способы решения проблем в общении с ребенко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654336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2060"/>
                </a:solidFill>
                <a:latin typeface="Georgia"/>
              </a:rPr>
              <a:t>Полезные советы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331640" y="764640"/>
            <a:ext cx="6696360" cy="5273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если Вы хотите добиться послушания ребёнка, то все  воспитательные оздействия сводите к одному:  меньше рассуждай,  а выполняй то, что требуют взросл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если Вы хотите увидеть и сформировать в ребёнке личность, то учите его видеть и поступать самостоятельно, проявлять инициативу, организованность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твёрдость иной раз может быть полезнее ла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ребёнок, который добился своего с помощью каприза, будет прибегать к этому способу всё ча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если ребёнок убеждён, что в большинстве случаев получит от нас поддержку и одобрение, наше недовольство заставит его задум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857160" y="714240"/>
            <a:ext cx="750060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Истинная сущность воспитательной работы… заключается вовсе не в ваших разговорах с ребенком, не в прямом воздействии на ребенка, а в организации жизни вашей семьи, вашей личной и общественной жизни и в организации жизни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А. Макарен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1331640" y="1196640"/>
            <a:ext cx="66726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8000" spc="-1" strike="noStrike">
                <a:solidFill>
                  <a:srgbClr val="002060"/>
                </a:solidFill>
                <a:latin typeface="Georgia"/>
              </a:rPr>
              <a:t>Спасибо з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8000" spc="-1" strike="noStrike">
                <a:solidFill>
                  <a:srgbClr val="002060"/>
                </a:solidFill>
                <a:latin typeface="Georgia"/>
              </a:rPr>
              <a:t>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899640" y="1412640"/>
            <a:ext cx="7143480" cy="44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2060"/>
                </a:solidFill>
                <a:latin typeface="Georgia"/>
              </a:rPr>
              <a:t>Измени свое мнение о вещах, которые тебя огорчают, и ты будешь в полной безопасности от ни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Марк Авре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1475640" y="980640"/>
            <a:ext cx="61203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Семья – это место приземления для старших, стартовая площадка для младших и маячок взаимоотношений для кажд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42960" y="642960"/>
            <a:ext cx="800064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Мы сильно заблуждаемся, если думаем, что жизнь ребенка в школьном возрасте вся принадлежит школе; нет, школа имеет только весьма небольшую долю в том естественном развитии дитяти, на которое гораздо больше влияния оказывает время, природа и семей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. Уш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971640" y="1772640"/>
            <a:ext cx="7172640" cy="277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2060"/>
                </a:solidFill>
                <a:latin typeface="Georgia"/>
              </a:rPr>
              <a:t>Трудный ребенок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2060"/>
                </a:solidFill>
                <a:latin typeface="Georgia"/>
              </a:rPr>
              <a:t>Что за этими словами, какой 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403640" y="1412640"/>
            <a:ext cx="669636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2060"/>
                </a:solidFill>
                <a:latin typeface="Georgia"/>
              </a:rPr>
              <a:t>Результаты анкетирования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Опрошено 15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2486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83640" y="553320"/>
            <a:ext cx="757224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1. Если ты задерживаешься после школы , 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Диаграмма 2"/>
          <p:cNvGraphicFramePr/>
          <p:nvPr/>
        </p:nvGraphicFramePr>
        <p:xfrm>
          <a:off x="1691640" y="1484640"/>
          <a:ext cx="5756760" cy="3571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428840" y="576000"/>
            <a:ext cx="642924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2. Если ты получишь плохую оценку, 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7200" y="3305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Диаграмма 4"/>
          <p:cNvGraphicFramePr/>
          <p:nvPr/>
        </p:nvGraphicFramePr>
        <p:xfrm>
          <a:off x="1619640" y="1556640"/>
          <a:ext cx="5756760" cy="388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10351676</Template>
  <TotalTime>389</TotalTime>
  <Application>LibreOffice/7.4.7.2$Linux_X86_64 LibreOffice_project/40$Build-2</Application>
  <AppVersion>15.0000</AppVersion>
  <Words>549</Words>
  <Paragraphs>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7:30:48Z</dcterms:created>
  <dc:creator>Natali</dc:creator>
  <dc:description/>
  <dc:language>en-US</dc:language>
  <cp:lastModifiedBy>Начальная школа</cp:lastModifiedBy>
  <dcterms:modified xsi:type="dcterms:W3CDTF">2012-01-18T08:35:50Z</dcterms:modified>
  <cp:revision>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