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82116058029015"/>
          <c:y val="0.021669018343076"/>
          <c:w val="0.929714857428714"/>
          <c:h val="0.81425115904051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Твое объяснение опоздания выслушают</c:v>
                </c:pt>
                <c:pt idx="1">
                  <c:v>На твое опоздание не обратят внимания</c:v>
                </c:pt>
                <c:pt idx="2">
                  <c:v>Тебя отругаю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8</c:v>
                </c:pt>
                <c:pt idx="1">
                  <c:v>2</c:v>
                </c:pt>
                <c:pt idx="2">
                  <c:v>5</c:v>
                </c:pt>
              </c:numCache>
            </c:numRef>
          </c:val>
        </c:ser>
        <c:gapWidth val="150"/>
        <c:overlap val="0"/>
        <c:axId val="10606878"/>
        <c:axId val="31368964"/>
      </c:barChart>
      <c:catAx>
        <c:axId val="1060687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31368964"/>
        <c:crosses val="autoZero"/>
        <c:auto val="1"/>
        <c:lblAlgn val="ctr"/>
        <c:lblOffset val="100"/>
        <c:noMultiLvlLbl val="0"/>
      </c:catAx>
      <c:valAx>
        <c:axId val="31368964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606878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61480740370185"/>
          <c:y val="0.0199055642996019"/>
          <c:w val="0.942783891945973"/>
          <c:h val="0.808999166743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Дома</c:v>
                </c:pt>
                <c:pt idx="1">
                  <c:v>В школе</c:v>
                </c:pt>
                <c:pt idx="2">
                  <c:v>Среди друзе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8</c:v>
                </c:pt>
                <c:pt idx="1">
                  <c:v>2</c:v>
                </c:pt>
                <c:pt idx="2">
                  <c:v>5</c:v>
                </c:pt>
              </c:numCache>
            </c:numRef>
          </c:val>
        </c:ser>
        <c:gapWidth val="150"/>
        <c:overlap val="0"/>
        <c:axId val="16675847"/>
        <c:axId val="69812594"/>
      </c:barChart>
      <c:catAx>
        <c:axId val="1667584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69812594"/>
        <c:crosses val="autoZero"/>
        <c:auto val="1"/>
        <c:lblAlgn val="ctr"/>
        <c:lblOffset val="100"/>
        <c:noMultiLvlLbl val="0"/>
      </c:catAx>
      <c:valAx>
        <c:axId val="69812594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675847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61480740370185"/>
          <c:y val="0.0322192389593556"/>
          <c:w val="0.942783891945973"/>
          <c:h val="0.808999166743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Сразу расскажешь об этом родителям</c:v>
                </c:pt>
                <c:pt idx="1">
                  <c:v>Расскажешь об этом, но дождешься удобной минуты</c:v>
                </c:pt>
                <c:pt idx="2">
                  <c:v>Вообще об этом не расскажешь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1</c:v>
                </c:pt>
                <c:pt idx="1">
                  <c:v>2</c:v>
                </c:pt>
                <c:pt idx="2">
                  <c:v>5</c:v>
                </c:pt>
              </c:numCache>
            </c:numRef>
          </c:val>
        </c:ser>
        <c:gapWidth val="150"/>
        <c:overlap val="0"/>
        <c:axId val="75220738"/>
        <c:axId val="91183787"/>
      </c:barChart>
      <c:catAx>
        <c:axId val="7522073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91183787"/>
        <c:crosses val="autoZero"/>
        <c:auto val="1"/>
        <c:lblAlgn val="ctr"/>
        <c:lblOffset val="100"/>
        <c:noMultiLvlLbl val="0"/>
      </c:catAx>
      <c:valAx>
        <c:axId val="91183787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220738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83366683341671"/>
          <c:y val="0.0199055642996019"/>
          <c:w val="0.942783891945973"/>
          <c:h val="0.808999166743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Отругают</c:v>
                </c:pt>
                <c:pt idx="1">
                  <c:v>Посочувствуют</c:v>
                </c:pt>
                <c:pt idx="2">
                  <c:v>Накажу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3</c:v>
                </c:pt>
                <c:pt idx="1">
                  <c:v>6</c:v>
                </c:pt>
                <c:pt idx="2">
                  <c:v>6</c:v>
                </c:pt>
              </c:numCache>
            </c:numRef>
          </c:val>
        </c:ser>
        <c:gapWidth val="150"/>
        <c:overlap val="0"/>
        <c:axId val="80616576"/>
        <c:axId val="45703556"/>
      </c:barChart>
      <c:catAx>
        <c:axId val="8061657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45703556"/>
        <c:crosses val="autoZero"/>
        <c:auto val="1"/>
        <c:lblAlgn val="ctr"/>
        <c:lblOffset val="100"/>
        <c:noMultiLvlLbl val="0"/>
      </c:catAx>
      <c:valAx>
        <c:axId val="45703556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616576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Молчать</c:v>
                </c:pt>
                <c:pt idx="1">
                  <c:v>Оправдываться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6</c:v>
                </c:pt>
                <c:pt idx="1">
                  <c:v>9</c:v>
                </c:pt>
              </c:numCache>
            </c:numRef>
          </c:val>
        </c:ser>
        <c:gapWidth val="150"/>
        <c:overlap val="0"/>
        <c:axId val="15712168"/>
        <c:axId val="67442648"/>
      </c:barChart>
      <c:catAx>
        <c:axId val="1571216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67442648"/>
        <c:crosses val="autoZero"/>
        <c:auto val="1"/>
        <c:lblAlgn val="ctr"/>
        <c:lblOffset val="100"/>
        <c:noMultiLvlLbl val="0"/>
      </c:catAx>
      <c:valAx>
        <c:axId val="67442648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5712168"/>
        <c:crosses val="autoZero"/>
        <c:crossBetween val="between"/>
        <c:majorUnit val="1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13765127442364"/>
          <c:y val="0.0199055642996019"/>
          <c:w val="0.942735447231425"/>
          <c:h val="0.808999166743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Согласишься с этим</c:v>
                </c:pt>
                <c:pt idx="1">
                  <c:v>Промолчишь</c:v>
                </c:pt>
                <c:pt idx="2">
                  <c:v>Будешь доказывать свою правоту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</c:v>
                </c:pt>
                <c:pt idx="1">
                  <c:v>7</c:v>
                </c:pt>
                <c:pt idx="2">
                  <c:v>7</c:v>
                </c:pt>
              </c:numCache>
            </c:numRef>
          </c:val>
        </c:ser>
        <c:gapWidth val="150"/>
        <c:overlap val="0"/>
        <c:axId val="3847291"/>
        <c:axId val="70430798"/>
      </c:barChart>
      <c:catAx>
        <c:axId val="384729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70430798"/>
        <c:crosses val="autoZero"/>
        <c:auto val="1"/>
        <c:lblAlgn val="ctr"/>
        <c:lblOffset val="100"/>
        <c:noMultiLvlLbl val="0"/>
      </c:catAx>
      <c:valAx>
        <c:axId val="70430798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47291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61480740370185"/>
          <c:y val="0.0199055642996019"/>
          <c:w val="0.942783891945973"/>
          <c:h val="0.808999166743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Простишь, если они просят прощения</c:v>
                </c:pt>
                <c:pt idx="1">
                  <c:v>Молча проглотишь обиду</c:v>
                </c:pt>
                <c:pt idx="2">
                  <c:v>Накажешь при удобном случа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7</c:v>
                </c:pt>
                <c:pt idx="1">
                  <c:v>3</c:v>
                </c:pt>
                <c:pt idx="2">
                  <c:v>5</c:v>
                </c:pt>
              </c:numCache>
            </c:numRef>
          </c:val>
        </c:ser>
        <c:gapWidth val="150"/>
        <c:overlap val="0"/>
        <c:axId val="12909995"/>
        <c:axId val="73706713"/>
      </c:barChart>
      <c:catAx>
        <c:axId val="1290999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73706713"/>
        <c:crosses val="autoZero"/>
        <c:auto val="1"/>
        <c:lblAlgn val="ctr"/>
        <c:lblOffset val="100"/>
        <c:noMultiLvlLbl val="0"/>
      </c:catAx>
      <c:valAx>
        <c:axId val="73706713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909995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Родителям </c:v>
                </c:pt>
                <c:pt idx="1">
                  <c:v>Друзьям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3</c:v>
                </c:pt>
                <c:pt idx="1">
                  <c:v>2</c:v>
                </c:pt>
              </c:numCache>
            </c:numRef>
          </c:val>
        </c:ser>
        <c:gapWidth val="150"/>
        <c:overlap val="0"/>
        <c:axId val="53916545"/>
        <c:axId val="86499287"/>
      </c:barChart>
      <c:catAx>
        <c:axId val="5391654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86499287"/>
        <c:crosses val="autoZero"/>
        <c:auto val="1"/>
        <c:lblAlgn val="ctr"/>
        <c:lblOffset val="100"/>
        <c:noMultiLvlLbl val="0"/>
      </c:catAx>
      <c:valAx>
        <c:axId val="86499287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916545"/>
        <c:crosses val="autoZero"/>
        <c:crossBetween val="between"/>
        <c:majorUnit val="1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Вместе со всеми  за столом</c:v>
                </c:pt>
                <c:pt idx="1">
                  <c:v>В своей комнат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0</c:v>
                </c:pt>
                <c:pt idx="1">
                  <c:v>5</c:v>
                </c:pt>
              </c:numCache>
            </c:numRef>
          </c:val>
        </c:ser>
        <c:gapWidth val="150"/>
        <c:overlap val="0"/>
        <c:axId val="17210614"/>
        <c:axId val="21638774"/>
      </c:barChart>
      <c:catAx>
        <c:axId val="1721061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21638774"/>
        <c:crosses val="autoZero"/>
        <c:auto val="1"/>
        <c:lblAlgn val="ctr"/>
        <c:lblOffset val="100"/>
        <c:noMultiLvlLbl val="0"/>
      </c:catAx>
      <c:valAx>
        <c:axId val="21638774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7210614"/>
        <c:crosses val="autoZero"/>
        <c:crossBetween val="between"/>
        <c:majorUnit val="1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61480740370185"/>
          <c:y val="0.0199055642996019"/>
          <c:w val="0.942783891945973"/>
          <c:h val="0.808999166743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Соглашаются</c:v>
                </c:pt>
                <c:pt idx="1">
                  <c:v>Не обращают на это внимание</c:v>
                </c:pt>
                <c:pt idx="2">
                  <c:v>Не соглашаются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8</c:v>
                </c:pt>
                <c:pt idx="1">
                  <c:v>2</c:v>
                </c:pt>
                <c:pt idx="2">
                  <c:v>5</c:v>
                </c:pt>
              </c:numCache>
            </c:numRef>
          </c:val>
        </c:ser>
        <c:gapWidth val="150"/>
        <c:overlap val="0"/>
        <c:axId val="43293929"/>
        <c:axId val="99877775"/>
      </c:barChart>
      <c:catAx>
        <c:axId val="4329392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99877775"/>
        <c:crosses val="autoZero"/>
        <c:auto val="1"/>
        <c:lblAlgn val="ctr"/>
        <c:lblOffset val="100"/>
        <c:noMultiLvlLbl val="0"/>
      </c:catAx>
      <c:valAx>
        <c:axId val="99877775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293929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1A7E97-E3FE-409F-A0F5-F0C87A28C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C46DF6-0F71-4978-A2FF-C8F2B24005E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B2C-A8A8-4A8C-A20F-30680DAA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724-92BC-4F76-8DBD-EC82C72F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349-84AE-4CDB-82D7-69C23E18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FAA-927E-4CB2-9289-58F99592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E7EE-4C40-4586-812F-2EE72F89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A46C-6756-48A1-8226-99FA5374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CBA7-F083-4E76-AD60-FF2115D9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7E7C-F3AC-469A-858F-B6BBD99F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8B86-025A-49A5-B515-DBC95572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E60F-1727-4A50-BFE3-8707B933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3AE8-528E-41FF-B1BC-4CD6AC40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782-117E-40B8-8120-E4F13B03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06A7-97FD-41CD-96F2-90E82892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A306-E2A4-4563-BBF8-39C72907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B7BD-1A5A-4E53-A181-5881A38B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063D-2666-4F8E-8000-FEF70CB3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3C48-5613-4A03-9646-53A78E5B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57E-5664-41BB-9C25-9E81609C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5B8-6B04-44B7-801D-C730DEB6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C40-D699-45E7-82EE-C1386F8F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ED1-5A4A-41FC-9BED-35D293BC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60A-6094-40F0-8E0A-D4D084A3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B4F-8261-4A5B-B176-CF3BBFF3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F8B-68B6-43BB-A7D9-870DF652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6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C6B8CB-67B9-48A4-8333-81F6FE31F52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6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B70ADD-F4EA-4494-B1DC-9C463517940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316160" y="692640"/>
            <a:ext cx="656964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6600" spc="-1" strike="noStrike">
                <a:solidFill>
                  <a:srgbClr val="7030a0"/>
                </a:solidFill>
                <a:latin typeface="Georgia"/>
              </a:rPr>
              <a:t>Родительско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600" spc="-1" strike="noStrike">
                <a:solidFill>
                  <a:srgbClr val="7030a0"/>
                </a:solidFill>
                <a:latin typeface="Georgia"/>
              </a:rPr>
              <a:t>собр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285920" y="3000240"/>
            <a:ext cx="6238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Сколько человеческого счастья разбилось вдребезги только потому, что кто-то кому-то не сказал: «Извин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И.Д.Виль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000080" y="932400"/>
            <a:ext cx="6643440" cy="5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3. За плохую оцен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286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Диаграмма 5"/>
          <p:cNvGraphicFramePr/>
          <p:nvPr/>
        </p:nvGraphicFramePr>
        <p:xfrm>
          <a:off x="1619640" y="1484640"/>
          <a:ext cx="5756760" cy="388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928800" y="786240"/>
            <a:ext cx="678636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4. Если тебя родители ругают, то ты будеш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3457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Диаграмма 4"/>
          <p:cNvGraphicFramePr/>
          <p:nvPr/>
        </p:nvGraphicFramePr>
        <p:xfrm>
          <a:off x="1835640" y="1628640"/>
          <a:ext cx="4857480" cy="3642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357200" y="790560"/>
            <a:ext cx="662796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5. Если тебя накажут несправедливо, 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24573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Диаграмма 4"/>
          <p:cNvGraphicFramePr/>
          <p:nvPr/>
        </p:nvGraphicFramePr>
        <p:xfrm>
          <a:off x="2051640" y="1556640"/>
          <a:ext cx="5324400" cy="388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214280" y="720000"/>
            <a:ext cx="650052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6. Если тебя обидели, ты своих обидч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57200" y="2171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Диаграмма 4"/>
          <p:cNvGraphicFramePr/>
          <p:nvPr/>
        </p:nvGraphicFramePr>
        <p:xfrm>
          <a:off x="1619640" y="1556640"/>
          <a:ext cx="5756760" cy="388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714240" y="362880"/>
            <a:ext cx="721476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7. Если у тебя на душе плохо, ты обращаешься 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Диаграмма 3"/>
          <p:cNvGraphicFramePr/>
          <p:nvPr/>
        </p:nvGraphicFramePr>
        <p:xfrm>
          <a:off x="1714320" y="1357200"/>
          <a:ext cx="5089320" cy="3799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357200" y="719280"/>
            <a:ext cx="5786280" cy="5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8. Если в доме гости, 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Диаграмма 2"/>
          <p:cNvGraphicFramePr/>
          <p:nvPr/>
        </p:nvGraphicFramePr>
        <p:xfrm>
          <a:off x="1714320" y="1357200"/>
          <a:ext cx="5428800" cy="3727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9" name="Rectangle 3"/>
          <p:cNvSpPr/>
          <p:nvPr/>
        </p:nvSpPr>
        <p:spPr>
          <a:xfrm>
            <a:off x="457200" y="2809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000080" y="647640"/>
            <a:ext cx="685764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9. Если о тебе говорят плохо, то твои родители с эт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Диаграмма 3"/>
          <p:cNvGraphicFramePr/>
          <p:nvPr/>
        </p:nvGraphicFramePr>
        <p:xfrm>
          <a:off x="1547640" y="1412640"/>
          <a:ext cx="5756760" cy="388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214280" y="791640"/>
            <a:ext cx="657180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10. Ты себя лучше чувствуешь, когда 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3666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Диаграмма 4"/>
          <p:cNvGraphicFramePr/>
          <p:nvPr/>
        </p:nvGraphicFramePr>
        <p:xfrm>
          <a:off x="1619640" y="1628640"/>
          <a:ext cx="5756760" cy="388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1043640" y="2133000"/>
            <a:ext cx="7214760" cy="2283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002060"/>
                </a:solidFill>
                <a:latin typeface="Georgia"/>
              </a:rPr>
              <a:t>Каковы причины появления трудных дете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835640" y="620640"/>
            <a:ext cx="6120360" cy="466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Причины детской неуправля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ричина первая – </a:t>
            </a:r>
            <a:r>
              <a:rPr b="1" i="1" lang="ru-RU" sz="1800" spc="-1" strike="noStrike">
                <a:solidFill>
                  <a:srgbClr val="7030a0"/>
                </a:solidFill>
                <a:latin typeface="Georgia"/>
              </a:rPr>
              <a:t>борьба за внимание. </a:t>
            </a: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Непослушание – это тоже возможность привлечь к себе внимание. Внимание необходимо для эмоционального благополу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ричина вторая – </a:t>
            </a:r>
            <a:r>
              <a:rPr b="1" i="1" lang="ru-RU" sz="1800" spc="-1" strike="noStrike">
                <a:solidFill>
                  <a:srgbClr val="7030a0"/>
                </a:solidFill>
                <a:latin typeface="Georgia"/>
              </a:rPr>
              <a:t>борьба за самоутверждение.</a:t>
            </a:r>
            <a:r>
              <a:rPr b="1" i="1" lang="en-US" sz="18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Ребенок объявляет войну бесконечным указаниям, замечаниям и опасениям взрослых. Возможность иметь свое мнение, и принимать собственное решение – это возможность приобретать свой опыт, пусть даже ошибочный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619640" y="1989000"/>
            <a:ext cx="6192360" cy="301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чебная деятельность детей. Их дисципл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еседа на тему  «Мой ребенок становится труд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зно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936000" y="908640"/>
            <a:ext cx="72158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Arno Pro Smbd Caption"/>
              </a:rPr>
              <a:t>Повестка собр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403640" y="1124640"/>
            <a:ext cx="626436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ричина третья – </a:t>
            </a:r>
            <a:r>
              <a:rPr b="1" i="1" lang="ru-RU" sz="1800" spc="-1" strike="noStrike">
                <a:solidFill>
                  <a:srgbClr val="7030a0"/>
                </a:solidFill>
                <a:latin typeface="Georgia"/>
              </a:rPr>
              <a:t>желание мщения</a:t>
            </a: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. Ребенок может мст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За сравнение не в его пользу со старшими или младшими братьями и сестр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Унижение друг друга членами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Разводы и появление в доме нового члена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Несправедливость и невыполненные обещ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Чрезмерное проявление любви взрослых друг к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ричина четвертая – </a:t>
            </a:r>
            <a:r>
              <a:rPr b="1" i="1" lang="ru-RU" sz="1800" spc="-1" strike="noStrike">
                <a:solidFill>
                  <a:srgbClr val="7030a0"/>
                </a:solidFill>
                <a:latin typeface="Georgia"/>
              </a:rPr>
              <a:t>неверие в собственный успех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обусловленное учебными неуспехами, взаимоотношениями в классе и с учителем, низкой самооцен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1331640" y="1772640"/>
            <a:ext cx="6408360" cy="301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002060"/>
                </a:solidFill>
                <a:latin typeface="Georgia"/>
              </a:rPr>
              <a:t>Каковы способы решения проблем в общении с ребенко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654336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2060"/>
                </a:solidFill>
                <a:latin typeface="Georgia"/>
              </a:rPr>
              <a:t>Полезные советы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331640" y="764640"/>
            <a:ext cx="6696360" cy="5273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если Вы хотите добиться послушания ребёнка, то все  воспитательные оздействия сводите к одному:  меньше рассуждай,  а выполняй то, что требуют взросл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если Вы хотите увидеть и сформировать в ребёнке личность, то учите его видеть и поступать самостоятельно, проявлять инициативу, организованность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твёрдость иной раз может быть полезнее ла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ребёнок, который добился своего с помощью каприза, будет прибегать к этому способу всё ча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если ребёнок убеждён, что в большинстве случаев получит от нас поддержку и одобрение, наше недовольство заставит его задум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857160" y="714240"/>
            <a:ext cx="750060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Истинная сущность воспитательной работы… заключается вовсе не в ваших разговорах с ребенком, не в прямом воздействии на ребенка, а в организации жизни вашей семьи, вашей личной и общественной жизни и в организации жизни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А. Макарен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1331640" y="1196640"/>
            <a:ext cx="66726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8000" spc="-1" strike="noStrike">
                <a:solidFill>
                  <a:srgbClr val="002060"/>
                </a:solidFill>
                <a:latin typeface="Georgia"/>
              </a:rPr>
              <a:t>Спасибо з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8000" spc="-1" strike="noStrike">
                <a:solidFill>
                  <a:srgbClr val="002060"/>
                </a:solidFill>
                <a:latin typeface="Georgia"/>
              </a:rPr>
              <a:t>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899640" y="1412640"/>
            <a:ext cx="7143480" cy="44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2060"/>
                </a:solidFill>
                <a:latin typeface="Georgia"/>
              </a:rPr>
              <a:t>Измени свое мнение о вещах, которые тебя огорчают, и ты будешь в полной безопасности от ни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Марк Авре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1475640" y="980640"/>
            <a:ext cx="61203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Семья – это место приземления для старших, стартовая площадка для младших и маячок взаимоотношений для кажд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42960" y="642960"/>
            <a:ext cx="800064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Мы сильно заблуждаемся, если думаем, что жизнь ребенка в школьном возрасте вся принадлежит школе; нет, школа имеет только весьма небольшую долю в том естественном развитии дитяти, на которое гораздо больше влияния оказывает время, природа и семей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. Уш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971640" y="1772640"/>
            <a:ext cx="7172640" cy="277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2060"/>
                </a:solidFill>
                <a:latin typeface="Georgia"/>
              </a:rPr>
              <a:t>Трудный ребенок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2060"/>
                </a:solidFill>
                <a:latin typeface="Georgia"/>
              </a:rPr>
              <a:t>Что за этими словами, какой 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403640" y="1412640"/>
            <a:ext cx="669636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2060"/>
                </a:solidFill>
                <a:latin typeface="Georgia"/>
              </a:rPr>
              <a:t>Результаты анкетирования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Опрошено 15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2486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83640" y="553320"/>
            <a:ext cx="757224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1. Если ты задерживаешься после школы , 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Диаграмма 2"/>
          <p:cNvGraphicFramePr/>
          <p:nvPr/>
        </p:nvGraphicFramePr>
        <p:xfrm>
          <a:off x="1691640" y="1484640"/>
          <a:ext cx="5756760" cy="3571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428840" y="576000"/>
            <a:ext cx="642924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2. Если ты получишь плохую оценку, 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7200" y="3305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Диаграмма 4"/>
          <p:cNvGraphicFramePr/>
          <p:nvPr/>
        </p:nvGraphicFramePr>
        <p:xfrm>
          <a:off x="1619640" y="1556640"/>
          <a:ext cx="5756760" cy="388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10351676</Template>
  <TotalTime>389</TotalTime>
  <Application>LibreOffice/7.4.7.2$Linux_X86_64 LibreOffice_project/40$Build-2</Application>
  <AppVersion>15.0000</AppVersion>
  <Words>549</Words>
  <Paragraphs>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7:30:48Z</dcterms:created>
  <dc:creator>Natali</dc:creator>
  <dc:description/>
  <dc:language>en-US</dc:language>
  <cp:lastModifiedBy>Начальная школа</cp:lastModifiedBy>
  <dcterms:modified xsi:type="dcterms:W3CDTF">2012-01-18T08:35:50Z</dcterms:modified>
  <cp:revision>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