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643-7258-4763-9504-CD4CE995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C74-7C8C-46F7-9A9C-81310F78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0F8-226F-4A98-A8F2-93A06359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9DE-DC1E-489C-908A-C7431E8D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9CB-4631-43BC-A01A-B79D69AB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50B-9329-4B42-8EA2-834CECD8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760-B8D0-4156-81A6-62819AD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DEC-074D-48AD-B897-2686D1C0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631-E230-4716-87F0-731C20BD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631-477E-45D4-AD9F-164B98C8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AB0-41A8-4350-A8FB-10F5227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92B-7CBE-4801-9F55-5D24A12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CE78-7361-403A-96BA-E6499AD36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322440"/>
            <a:ext cx="7772400" cy="66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Моя семья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еть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17960"/>
            <a:ext cx="6400800" cy="76824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«Октябрьский детский сад №7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 воспитатель СЕЛЮТИНА  М.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C:\Users\Азм\Desktop\бухтатая\OJIN3827.JPG"/>
          <p:cNvPicPr/>
          <p:nvPr/>
        </p:nvPicPr>
        <p:blipFill>
          <a:blip r:embed="rId1"/>
          <a:stretch/>
        </p:blipFill>
        <p:spPr>
          <a:xfrm>
            <a:off x="1571760" y="142884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Users\Азм\Desktop\бухтатая\KCSZ0477.JPG"/>
          <p:cNvPicPr/>
          <p:nvPr/>
        </p:nvPicPr>
        <p:blipFill>
          <a:blip r:embed="rId2"/>
          <a:stretch/>
        </p:blipFill>
        <p:spPr>
          <a:xfrm>
            <a:off x="4071960" y="1500120"/>
            <a:ext cx="38336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проект «Самая Любима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:\Users\Азм\Desktop\новый день матери\IMG_0744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1339920"/>
            <a:ext cx="224964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Азм\Desktop\новый день матери\IMG_0740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43160" y="1500120"/>
            <a:ext cx="178596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Азм\Desktop\новый день матери\IMG_0800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5286240" y="1554120"/>
            <a:ext cx="1928880" cy="96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C:\Users\Азм\Desktop\новый день матери\IMG_E0563.JPG"/>
          <p:cNvPicPr/>
          <p:nvPr/>
        </p:nvPicPr>
        <p:blipFill>
          <a:blip r:embed="rId4"/>
          <a:stretch/>
        </p:blipFill>
        <p:spPr>
          <a:xfrm>
            <a:off x="2643120" y="3027240"/>
            <a:ext cx="228600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C:\Users\Азм\Desktop\новый день матери\IMG_E0586.JPG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5214960" y="2946240"/>
            <a:ext cx="1413000" cy="142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C:\Users\Азм\Desktop\новый день матери\IMG_E0600.JPG"/>
          <p:cNvPicPr/>
          <p:nvPr/>
        </p:nvPicPr>
        <p:blipFill>
          <a:blip r:embed="rId6"/>
          <a:stretch/>
        </p:blipFill>
        <p:spPr>
          <a:xfrm>
            <a:off x="714240" y="26798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C:\Users\Азм\Desktop\новый день матери\IMG_0483.JPG"/>
          <p:cNvPicPr/>
          <p:nvPr/>
        </p:nvPicPr>
        <p:blipFill>
          <a:blip r:embed="rId7"/>
          <a:stretch/>
        </p:blipFill>
        <p:spPr>
          <a:xfrm>
            <a:off x="6929280" y="2840040"/>
            <a:ext cx="1573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йонном конкурсе «Звезда по имени –МАМА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C:\Users\Азм\Desktop\март2023\IMG_E4398.JPG"/>
          <p:cNvPicPr/>
          <p:nvPr/>
        </p:nvPicPr>
        <p:blipFill>
          <a:blip r:embed="rId1"/>
          <a:stretch/>
        </p:blipFill>
        <p:spPr>
          <a:xfrm>
            <a:off x="785880" y="1500120"/>
            <a:ext cx="3562200" cy="25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Азм\Desktop\март2023\IMG_E4383.JPG"/>
          <p:cNvPicPr/>
          <p:nvPr/>
        </p:nvPicPr>
        <p:blipFill>
          <a:blip r:embed="rId2"/>
          <a:stretch/>
        </p:blipFill>
        <p:spPr>
          <a:xfrm>
            <a:off x="4714920" y="1428840"/>
            <a:ext cx="3571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23 февра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C:\Users\Азм\Desktop\новый день матери\IMG_9921.JPG"/>
          <p:cNvPicPr/>
          <p:nvPr/>
        </p:nvPicPr>
        <p:blipFill>
          <a:blip r:embed="rId1"/>
          <a:stretch/>
        </p:blipFill>
        <p:spPr>
          <a:xfrm>
            <a:off x="2286000" y="131112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соревнований «Лыжня Росс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Азм\Desktop\март2023\IMG_E3578.JPG"/>
          <p:cNvPicPr/>
          <p:nvPr/>
        </p:nvPicPr>
        <p:blipFill>
          <a:blip r:embed="rId1"/>
          <a:stretch/>
        </p:blipFill>
        <p:spPr>
          <a:xfrm>
            <a:off x="1643040" y="1403280"/>
            <a:ext cx="55720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 посвященный празднованию «Дня матер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Азм\Desktop\новый день матери\KTPW4943.JPG"/>
          <p:cNvPicPr/>
          <p:nvPr/>
        </p:nvPicPr>
        <p:blipFill>
          <a:blip r:embed="rId2"/>
          <a:stretch/>
        </p:blipFill>
        <p:spPr>
          <a:xfrm>
            <a:off x="928800" y="1606680"/>
            <a:ext cx="7358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 «День матер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Азм\Desktop\новый день матери\OAIN5746.JPG"/>
          <p:cNvPicPr/>
          <p:nvPr/>
        </p:nvPicPr>
        <p:blipFill>
          <a:blip r:embed="rId2"/>
          <a:stretch/>
        </p:blipFill>
        <p:spPr>
          <a:xfrm>
            <a:off x="1714680" y="1714680"/>
            <a:ext cx="54291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йонном фестивале «Мы единый народ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и каза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Азм\Desktop\новый день матери\IMG_9922.PNG"/>
          <p:cNvPicPr/>
          <p:nvPr/>
        </p:nvPicPr>
        <p:blipFill>
          <a:blip r:embed="rId1"/>
          <a:stretch/>
        </p:blipFill>
        <p:spPr>
          <a:xfrm>
            <a:off x="1214280" y="1446120"/>
            <a:ext cx="2928960" cy="1460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Азм\Desktop\новый день матери\IMG_9987.PNG"/>
          <p:cNvPicPr/>
          <p:nvPr/>
        </p:nvPicPr>
        <p:blipFill>
          <a:blip r:embed="rId2"/>
          <a:stretch/>
        </p:blipFill>
        <p:spPr>
          <a:xfrm>
            <a:off x="4857840" y="1339920"/>
            <a:ext cx="2450880" cy="137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Азм\Desktop\новый день матери\LSCE3787.JPG"/>
          <p:cNvPicPr/>
          <p:nvPr/>
        </p:nvPicPr>
        <p:blipFill>
          <a:blip r:embed="rId3"/>
          <a:stretch/>
        </p:blipFill>
        <p:spPr>
          <a:xfrm>
            <a:off x="1428840" y="3051000"/>
            <a:ext cx="2500200" cy="140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Азм\Desktop\новый день матери\LXWJ6471.JPG"/>
          <p:cNvPicPr/>
          <p:nvPr/>
        </p:nvPicPr>
        <p:blipFill>
          <a:blip r:embed="rId4"/>
          <a:stretch/>
        </p:blipFill>
        <p:spPr>
          <a:xfrm>
            <a:off x="4429080" y="3081240"/>
            <a:ext cx="32148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ка «Как старик корову продавал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Users\Азм\Desktop\март2023\IMG_4261.JPG"/>
          <p:cNvPicPr/>
          <p:nvPr/>
        </p:nvPicPr>
        <p:blipFill>
          <a:blip r:embed="rId1"/>
          <a:stretch/>
        </p:blipFill>
        <p:spPr>
          <a:xfrm>
            <a:off x="1357200" y="1660680"/>
            <a:ext cx="3108600" cy="155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Азм\Desktop\март2023\IMG_4268.JPG"/>
          <p:cNvPicPr/>
          <p:nvPr/>
        </p:nvPicPr>
        <p:blipFill>
          <a:blip r:embed="rId2"/>
          <a:stretch/>
        </p:blipFill>
        <p:spPr>
          <a:xfrm>
            <a:off x="4714920" y="2089080"/>
            <a:ext cx="30718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8 март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C:\Users\Азм\Desktop\март2023\DWFT7149.JPG"/>
          <p:cNvPicPr/>
          <p:nvPr/>
        </p:nvPicPr>
        <p:blipFill>
          <a:blip r:embed="rId2"/>
          <a:stretch/>
        </p:blipFill>
        <p:spPr>
          <a:xfrm>
            <a:off x="5286240" y="1177920"/>
            <a:ext cx="3402000" cy="191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Азм\Desktop\март2023\DNNL1200.JPG"/>
          <p:cNvPicPr/>
          <p:nvPr/>
        </p:nvPicPr>
        <p:blipFill>
          <a:blip r:embed="rId3"/>
          <a:stretch/>
        </p:blipFill>
        <p:spPr>
          <a:xfrm>
            <a:off x="571680" y="1339920"/>
            <a:ext cx="3309840" cy="1861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C:\Users\Азм\Desktop\март2023\IMG_4343.JPG"/>
          <p:cNvPicPr/>
          <p:nvPr/>
        </p:nvPicPr>
        <p:blipFill>
          <a:blip r:embed="rId4"/>
          <a:stretch/>
        </p:blipFill>
        <p:spPr>
          <a:xfrm>
            <a:off x="2786040" y="3054240"/>
            <a:ext cx="32148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блемы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920" y="642960"/>
            <a:ext cx="8786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духовно – нравственных начал, формирования патриотических чувств к своей семь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оложительное отношение к семье и семейным традициям на современном этапе развития общества обязывают дошкольные образовательные учреждения развивать познавательный интерес и любовь к семье, ее традициям, ценностям, моральным нормам поведения в обществ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 прежде должен осознать себя членом семьи, неотъемлемой частью своей малой родины, гражданином России,  жителем планеты Зем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детей с понятием «Семья» невозможно без непосредственной поддержки самой семьи. Семья для ребенка - это мир, в котором закладываются основы морали, отношение к родным и близким людям. Членов семьи объединяет кровное родство, любовь, общие интересы, традиции, праздники. Именно в семье прививаются такие понятия как «сострадание», «милосердие», «доброта», «мужественность», «женственность», «сплоченность», «единство», «помощь ближним», «уважение к старшим», «чувство ответственност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для реализации проекта мы запланировали тесное сотрудничество с семьями наших воспитанников. Наш проект это замечательный способ рассказать детям о роли семьи в жизни каждого человека,  формирование личности ребёнка, укрепление и развитие детско-родитель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рганизационно – педагогических условий для формирования у детей дошкольного возраста духовно-нравственного отношения и чувства сопричастности к родному дому, семье, семейным ценностям и традици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патриотических чувств у старших дошкольников через положительное отношение к семье и семейным традиц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ной деятель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тить знания детей о своей семье, о нравственном отношении к членам семьи, семейным традициям, расширять знания о ближнем окружении, учить разбираться в родственных связях (брат, сестра, бабушка, дедушка), проявлять заботу о родных люд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оммуникативные навыки и творческие способности детей, познавательный интерес, любознательность, фантазию, воображение в процессе совместной деятельности взрослых с дет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детей любовь и уважение к членам семьи, показать ценность семьи для кажд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активному вовлечению родителей в совместную деятельность с ребенком в условиях семьи и детского са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ировать способности членов семьи для развития творческого потенциала у детей и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988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- творческ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 долгосроч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в течении текущего года 2022-2023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ДОУ, воспитатели, музыкальный руководитель,  физинструктор, родители воспитанн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осуществления проектной  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нный проект осуществляется в рамках педагогической системы ДОУ, осуществление работы с социальными .партнерами села Октябрьского.(Музей, библиотека, РДК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усвоить, что мир семьи – э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ной дом, уют, тепл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заимопонимание, любовь, уваж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здники, тради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 доверительных и партнерских отношений между всеми участниками проекта, развитие творческих способностей у детей и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еализации проек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– образовательная деятельност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игры со взрослым, сверстниками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вижные, речевые, пальчиковые, хороводные игры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деятельност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наглядного материала, иллюстраций, книг, открыток, просмотр мультимедийных презентаций о семь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гровая деятельность дет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деятельность (трудовые поручения и др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выступл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проектом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75096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первы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Определение уровня сформированности познавательных процессов, возможности детей в познании семьи, ее членах, семейных традиций, праздник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Определение задач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Изучение программно-методического обеспече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дбор материал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второ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Определение структуры образовательной деятельност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Разработка перспективного плана, основных направлений деятельност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трети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Создание условий, побуждающих детей к познавательной и творческой деятельност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ализация плана и основных направлений проек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четвёрты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Презентация работ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Итоговая диагностика (анкетирование) дете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ектной деятельности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750960"/>
            <a:ext cx="864396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 передавать детям в увлекательной форме разнообразную информацию о семье, семейных традиция, ценностях, праздниках, увлечени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возможность детям  проявлять творчески способности в осуществлении художественно-эстетического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наглядную опору для углубленного формирования представлений о семье, семейных традициях, праздниках, увлечениях: тематический альбом «Семья», мультимедийную презентацию «Семья и семейные традиции», альбом раскрасок и тематических картинок о профессиях мамы и папы, домашних обязанностях в семье, традици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родителя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борники с рассказами, стихотворениями, пословицами и поговорками о семь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участия во всех мероприятиях Д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выставки детских рисунков, творческих работ и поделок: «Самая  любимая мама», «Мой папа-самый лучший!», «Наша семья», «Праздник к нам идет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4:38:57Z</dcterms:created>
  <dc:creator>Азм</dc:creator>
  <dc:description/>
  <dc:language>en-US</dc:language>
  <cp:lastModifiedBy>Азм</cp:lastModifiedBy>
  <dcterms:modified xsi:type="dcterms:W3CDTF">2023-06-19T16:43:21Z</dcterms:modified>
  <cp:revision>24</cp:revision>
  <dc:subject/>
  <dc:title>Проект «Моя семья» «Дети XXI столетья»</dc:title>
</cp:coreProperties>
</file>