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47D-7A0C-4013-85AB-F08ECB92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EDD-3A16-4FF8-8D5E-F83168DB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68C-98C7-44B1-AAB0-67B8B9FF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1AE-9DD4-4B6D-B2F9-7BCC67DB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5E7-84C1-454C-8637-97224401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CCF-4006-491D-99B0-7E651624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408-A39A-467B-A378-9C8CA9B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C85-5587-4AA8-B0D8-211C8D3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4DC-C285-47C1-A398-6AE5E06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FF-1E67-4563-850E-056A527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C46-1DA0-4AD6-9B8A-D2A6A73C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9B5-AED1-4097-BF6A-69FD586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623C-BEEB-4F06-9712-C2E1F47D8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322440"/>
            <a:ext cx="7772400" cy="66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Моя семья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еть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17960"/>
            <a:ext cx="6400800" cy="7682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«Октябрьский детский сад №7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 СЕЛЮТИНА  М.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C:\Users\Азм\Desktop\бухтатая\OJIN3827.JPG"/>
          <p:cNvPicPr/>
          <p:nvPr/>
        </p:nvPicPr>
        <p:blipFill>
          <a:blip r:embed="rId1"/>
          <a:stretch/>
        </p:blipFill>
        <p:spPr>
          <a:xfrm>
            <a:off x="1571760" y="142884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Азм\Desktop\бухтатая\KCSZ0477.JPG"/>
          <p:cNvPicPr/>
          <p:nvPr/>
        </p:nvPicPr>
        <p:blipFill>
          <a:blip r:embed="rId2"/>
          <a:stretch/>
        </p:blipFill>
        <p:spPr>
          <a:xfrm>
            <a:off x="4071960" y="1500120"/>
            <a:ext cx="3833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проект «Самая Любима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Азм\Desktop\новый день матери\IMG_074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339920"/>
            <a:ext cx="224964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Азм\Desktop\новый день матери\IMG_0740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43160" y="1500120"/>
            <a:ext cx="178596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Азм\Desktop\новый день матери\IMG_0800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5286240" y="1554120"/>
            <a:ext cx="1928880" cy="96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C:\Users\Азм\Desktop\новый день матери\IMG_E0563.JPG"/>
          <p:cNvPicPr/>
          <p:nvPr/>
        </p:nvPicPr>
        <p:blipFill>
          <a:blip r:embed="rId4"/>
          <a:stretch/>
        </p:blipFill>
        <p:spPr>
          <a:xfrm>
            <a:off x="2643120" y="302724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:\Users\Азм\Desktop\новый день матери\IMG_E0586.JPG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5214960" y="2946240"/>
            <a:ext cx="1413000" cy="142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C:\Users\Азм\Desktop\новый день матери\IMG_E0600.JPG"/>
          <p:cNvPicPr/>
          <p:nvPr/>
        </p:nvPicPr>
        <p:blipFill>
          <a:blip r:embed="rId6"/>
          <a:stretch/>
        </p:blipFill>
        <p:spPr>
          <a:xfrm>
            <a:off x="714240" y="26798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C:\Users\Азм\Desktop\новый день матери\IMG_0483.JPG"/>
          <p:cNvPicPr/>
          <p:nvPr/>
        </p:nvPicPr>
        <p:blipFill>
          <a:blip r:embed="rId7"/>
          <a:stretch/>
        </p:blipFill>
        <p:spPr>
          <a:xfrm>
            <a:off x="6929280" y="2840040"/>
            <a:ext cx="1573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ом конкурсе «Звезда по имени –МАМА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C:\Users\Азм\Desktop\март2023\IMG_E4398.JPG"/>
          <p:cNvPicPr/>
          <p:nvPr/>
        </p:nvPicPr>
        <p:blipFill>
          <a:blip r:embed="rId1"/>
          <a:stretch/>
        </p:blipFill>
        <p:spPr>
          <a:xfrm>
            <a:off x="785880" y="1500120"/>
            <a:ext cx="3562200" cy="25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Азм\Desktop\март2023\IMG_E4383.JPG"/>
          <p:cNvPicPr/>
          <p:nvPr/>
        </p:nvPicPr>
        <p:blipFill>
          <a:blip r:embed="rId2"/>
          <a:stretch/>
        </p:blipFill>
        <p:spPr>
          <a:xfrm>
            <a:off x="4714920" y="1428840"/>
            <a:ext cx="3571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23 февра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C:\Users\Азм\Desktop\новый день матери\IMG_9921.JPG"/>
          <p:cNvPicPr/>
          <p:nvPr/>
        </p:nvPicPr>
        <p:blipFill>
          <a:blip r:embed="rId1"/>
          <a:stretch/>
        </p:blipFill>
        <p:spPr>
          <a:xfrm>
            <a:off x="2286000" y="13111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оревнований «Лыжня 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Азм\Desktop\март2023\IMG_E3578.JPG"/>
          <p:cNvPicPr/>
          <p:nvPr/>
        </p:nvPicPr>
        <p:blipFill>
          <a:blip r:embed="rId1"/>
          <a:stretch/>
        </p:blipFill>
        <p:spPr>
          <a:xfrm>
            <a:off x="1643040" y="1403280"/>
            <a:ext cx="55720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 посвященный празднованию «Дня матер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зм\Desktop\новый день матери\KTPW4943.JPG"/>
          <p:cNvPicPr/>
          <p:nvPr/>
        </p:nvPicPr>
        <p:blipFill>
          <a:blip r:embed="rId2"/>
          <a:stretch/>
        </p:blipFill>
        <p:spPr>
          <a:xfrm>
            <a:off x="928800" y="1606680"/>
            <a:ext cx="7358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 «День матер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Азм\Desktop\новый день матери\OAIN5746.JPG"/>
          <p:cNvPicPr/>
          <p:nvPr/>
        </p:nvPicPr>
        <p:blipFill>
          <a:blip r:embed="rId2"/>
          <a:stretch/>
        </p:blipFill>
        <p:spPr>
          <a:xfrm>
            <a:off x="1714680" y="1714680"/>
            <a:ext cx="54291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ом фестивале «Мы единый народ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и каз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Азм\Desktop\новый день матери\IMG_9922.PNG"/>
          <p:cNvPicPr/>
          <p:nvPr/>
        </p:nvPicPr>
        <p:blipFill>
          <a:blip r:embed="rId1"/>
          <a:stretch/>
        </p:blipFill>
        <p:spPr>
          <a:xfrm>
            <a:off x="1214280" y="1446120"/>
            <a:ext cx="2928960" cy="146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Азм\Desktop\новый день матери\IMG_9987.PNG"/>
          <p:cNvPicPr/>
          <p:nvPr/>
        </p:nvPicPr>
        <p:blipFill>
          <a:blip r:embed="rId2"/>
          <a:stretch/>
        </p:blipFill>
        <p:spPr>
          <a:xfrm>
            <a:off x="4857840" y="1339920"/>
            <a:ext cx="2450880" cy="137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Азм\Desktop\новый день матери\LSCE3787.JPG"/>
          <p:cNvPicPr/>
          <p:nvPr/>
        </p:nvPicPr>
        <p:blipFill>
          <a:blip r:embed="rId3"/>
          <a:stretch/>
        </p:blipFill>
        <p:spPr>
          <a:xfrm>
            <a:off x="1428840" y="3051000"/>
            <a:ext cx="2500200" cy="140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Азм\Desktop\новый день матери\LXWJ6471.JPG"/>
          <p:cNvPicPr/>
          <p:nvPr/>
        </p:nvPicPr>
        <p:blipFill>
          <a:blip r:embed="rId4"/>
          <a:stretch/>
        </p:blipFill>
        <p:spPr>
          <a:xfrm>
            <a:off x="4429080" y="3081240"/>
            <a:ext cx="32148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ка «Как старик корову продавал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Users\Азм\Desktop\март2023\IMG_4261.JPG"/>
          <p:cNvPicPr/>
          <p:nvPr/>
        </p:nvPicPr>
        <p:blipFill>
          <a:blip r:embed="rId1"/>
          <a:stretch/>
        </p:blipFill>
        <p:spPr>
          <a:xfrm>
            <a:off x="1357200" y="1660680"/>
            <a:ext cx="3108600" cy="155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Азм\Desktop\март2023\IMG_4268.JPG"/>
          <p:cNvPicPr/>
          <p:nvPr/>
        </p:nvPicPr>
        <p:blipFill>
          <a:blip r:embed="rId2"/>
          <a:stretch/>
        </p:blipFill>
        <p:spPr>
          <a:xfrm>
            <a:off x="4714920" y="2089080"/>
            <a:ext cx="3071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8 март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:\Users\Азм\Desktop\март2023\DWFT7149.JPG"/>
          <p:cNvPicPr/>
          <p:nvPr/>
        </p:nvPicPr>
        <p:blipFill>
          <a:blip r:embed="rId2"/>
          <a:stretch/>
        </p:blipFill>
        <p:spPr>
          <a:xfrm>
            <a:off x="5286240" y="1177920"/>
            <a:ext cx="3402000" cy="191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Азм\Desktop\март2023\DNNL1200.JPG"/>
          <p:cNvPicPr/>
          <p:nvPr/>
        </p:nvPicPr>
        <p:blipFill>
          <a:blip r:embed="rId3"/>
          <a:stretch/>
        </p:blipFill>
        <p:spPr>
          <a:xfrm>
            <a:off x="571680" y="1339920"/>
            <a:ext cx="3309840" cy="186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Users\Азм\Desktop\март2023\IMG_4343.JPG"/>
          <p:cNvPicPr/>
          <p:nvPr/>
        </p:nvPicPr>
        <p:blipFill>
          <a:blip r:embed="rId4"/>
          <a:stretch/>
        </p:blipFill>
        <p:spPr>
          <a:xfrm>
            <a:off x="2786040" y="3054240"/>
            <a:ext cx="3214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64296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духовно – нравственных начал, формирования патриотических чувств к своей семь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оложительное отношение к семье и семейным традициям на современном этапе развития общества обязывают дошкольные образовательные учреждения развивать познавательный интерес и любовь к семье, ее традициям, ценностям, моральным нормам поведения в обществ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 прежде должен осознать себя членом семьи, неотъемлемой частью своей малой родины, гражданином России,  жителем планеты Зем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 понятием «Семья» невозможно без непосредственной поддержки самой семьи. Семья для ребенка - это мир, в котором закладываются основы морали, отношение к родным и близким людям. Членов семьи объединяет кровное родство, любовь, общие интересы, традиции, праздники. Именно в семье прививаются такие понятия как «сострадание», «милосердие», «доброта», «мужественность», «женственность», «сплоченность», «единство», «помощь ближним», «уважение к старшим», «чувство ответственно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для реализации проекта мы запланировали тесное сотрудничество с семьями наших воспитанников. Наш проект это замечательный способ рассказать детям о роли семьи в жизни каждого человека,  формирование личности ребёнка, укрепление и развитие детско-родитель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рганизационно – педагогических условий для формирования у детей дошкольного возраста духовно-нравственного отношения и чувства сопричастности к родному дому, семье, семейным ценностям и традиц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атриотических чувств у старших дошкольников через положительное отношение к семье и семейным традиц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ной 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тить знания детей о своей семье, о нравственном отношении к членам семьи, семейным традициям, расширять знания о ближнем окружении, учить разбираться в родственных связях (брат, сестра, бабушка, дедушка), проявлять заботу о родных люд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навыки и творческие способности детей, познавательный интерес, любознательность, фантазию, воображение в процессе совместной деятельности взрослых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любовь и уважение к членам семьи, показать ценность семьи для кажд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активному вовлечению родителей в совместную деятельность с ребенком в условиях семьи и детского са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ировать способности членов семьи для развития творческого потенциала у детей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988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- творческ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 долгосроч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в течении текущего года 2022-2023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ДОУ, воспитатели, музыкальный руководитель,  физинструктор, родители воспитан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осуществления проектной  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нный проект осуществляется в рамках педагогической системы ДОУ, осуществление работы с социальными .партнерами села Октябрьского.(Музей, библиотека, РДК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своить, что мир семьи – э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ной дом, уют, тепл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заимопонимание, любовь, уваж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здники, трад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 доверительных и партнерских отношений между всеми участниками проекта, развитие творческих способностей у детей и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еализации проек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– образовательная деятель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игры со взрослым, сверстникам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вижные, речевые, пальчиковые, хороводные игры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деятель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наглядного материала, иллюстраций, книг, открыток, просмотр мультимедийных презентаций о семь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 (трудовые поручения и др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выступл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75096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первы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пределение уровня сформированности познавательных процессов, возможности детей в познании семьи, ее членах, семейных традиций, праздник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Определение задач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Изучение программно-методического обеспеч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дбор материал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второ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пределение структуры образовательно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Разработка перспективного плана, основных направлени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трети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Создание условий, побуждающих детей к познавательной и творческой деятельн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ализация плана и основных направлений про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четвёрты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Презентация работ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Итоговая диагностика (анкетирование) дет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ектной деятельности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750960"/>
            <a:ext cx="864396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передавать детям в увлекательной форме разнообразную информацию о семье, семейных традиция, ценностях, праздниках, увлечен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возможность детям  проявлять творчески способности в осуществлении художественно-эстетического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наглядную опору для углубленного формирования представлений о семье, семейных традициях, праздниках, увлечениях: тематический альбом «Семья», мультимедийную презентацию «Семья и семейные традиции», альбом раскрасок и тематических картинок о профессиях мамы и папы, домашних обязанностях в семье, традиц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родителя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борники с рассказами, стихотворениями, пословицами и поговорками о семь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участия во всех мероприятиях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ыставки детских рисунков, творческих работ и поделок: «Самая  любимая мама», «Мой папа-самый лучший!», «Наша семья», «Праздник к нам идет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4:38:57Z</dcterms:created>
  <dc:creator>Азм</dc:creator>
  <dc:description/>
  <dc:language>en-US</dc:language>
  <cp:lastModifiedBy>Азм</cp:lastModifiedBy>
  <dcterms:modified xsi:type="dcterms:W3CDTF">2023-06-19T16:43:21Z</dcterms:modified>
  <cp:revision>24</cp:revision>
  <dc:subject/>
  <dc:title>Проект «Моя семья» «Дети XXI столетья»</dc:title>
</cp:coreProperties>
</file>