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jpeg" ContentType="image/jpeg"/>
  <Override PartName="/ppt/media/image30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31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1.jpeg" ContentType="image/jpeg"/>
  <Override PartName="/ppt/media/image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42B-EE4C-47F4-AAD8-CCDE42E4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1F9-63C6-4BFE-96B3-AEC50D8B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F1C-C9CE-448E-A0D3-CBD90FD3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4AB-5496-474B-92B9-00F8E6D0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1B0-F793-49C1-8F84-F6243CF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3B0-7CFE-4601-A7D3-D1CF0E51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43A-335D-4D9D-A17D-9FF47BC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055-90F2-4A2E-A557-CCF06AFF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56E-D7B2-43F2-B24A-6D1E1212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27F-0379-44B3-BD52-36129376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20A-4059-4CF4-9F40-95AF352F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F6B-A679-4288-94B4-D6E550D4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9DF7-E681-4015-BAE7-5548607C2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073160" y="457200"/>
            <a:ext cx="7680240" cy="3309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95280" y="333360"/>
            <a:ext cx="8497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Стихи отличаются от проз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1) ритм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2) рифм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3) выразительностью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                            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яркостью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) краткостью, точность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11280" y="1341360"/>
            <a:ext cx="828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акой секрет открыл читателям поэ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Arial"/>
              </a:rPr>
              <a:t>-Когда становится светлее на св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Что об этом говорится в стихотвор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-Как автор обращается к дет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Почему Б. Заходеру нравится, когда смеются де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-Давайте постараемся перечитать текст стихотворения, выделяя голосом нужные инто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273760" y="189000"/>
            <a:ext cx="43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Товарищам 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24000" y="62064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вопрос волнует Бориса Заходера?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- Почему он решил найти на него ответ ?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- Смог ли Б. Заходер на него ответить?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тили ли вы, что названия животных, трав написаны с большой буквы? Почему?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- К кому он обратился за помощью?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- Что считали самым красивым животные и растения, к которым он обращался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то мог славить поля?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- Кто мог сказать, что самое красивое полярные льды?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- Кто мог считать самым красивым горы? Степь? Мерцанье звезд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Что вы считаете самым красивым7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- Так можно ли ответить на вопрос: «Что красивей всего?» 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Каждый считает красивым то, что ему нрав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2272680" y="115920"/>
            <a:ext cx="438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Что красивей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611280" y="404640"/>
            <a:ext cx="82818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Научимся читать выразительно. Вспомним, о чём говорит нам каждый зна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Точка – понижение голоса, пауза.(черта)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Запятая, двоеточие – маленькая пауза.(маленькие черточки)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Вопросительный знак – повышение голоса, большая пауза, задавание во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Arial"/>
              </a:rPr>
              <a:t>(две черты)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Восклицательный знак – повышение голоса, большая пауза, знак радости, восхищения. (две чер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684360" y="476280"/>
            <a:ext cx="338292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казка про доброго нос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684360" y="1844640"/>
            <a:ext cx="3382920" cy="1079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Мартышкин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84360" y="3429000"/>
            <a:ext cx="3382920" cy="1079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Мохнатая Азб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images.mreadz.com/153/152120/1.jpg"/>
          <p:cNvPicPr/>
          <p:nvPr/>
        </p:nvPicPr>
        <p:blipFill>
          <a:blip r:embed="rId2"/>
          <a:stretch/>
        </p:blipFill>
        <p:spPr>
          <a:xfrm>
            <a:off x="3924360" y="1552680"/>
            <a:ext cx="5049720" cy="513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755640" y="5661000"/>
            <a:ext cx="7488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L4kND7teM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льтфильм Кит и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happymults.com/uploads/posts/2014-11/1416143914_kit.i.kot1.jpg"/>
          <p:cNvPicPr/>
          <p:nvPr/>
        </p:nvPicPr>
        <p:blipFill>
          <a:blip r:embed="rId2"/>
          <a:stretch/>
        </p:blipFill>
        <p:spPr>
          <a:xfrm>
            <a:off x="1311120" y="274680"/>
            <a:ext cx="6351840" cy="4803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971640" y="5661000"/>
            <a:ext cx="7632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o5lGW2XL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тичка Та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moymult.ru/forums/Ptichka_Tary.jpg"/>
          <p:cNvPicPr/>
          <p:nvPr/>
        </p:nvPicPr>
        <p:blipFill>
          <a:blip r:embed="rId2"/>
          <a:stretch/>
        </p:blipFill>
        <p:spPr>
          <a:xfrm>
            <a:off x="1187280" y="620640"/>
            <a:ext cx="7005960" cy="4784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250920" y="321300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бавной обезьяне бросили бананы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росили бананы забавной обезьян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512640" y="60480"/>
            <a:ext cx="712656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ttp://img-fotki.yandex.ru/get/9161/208575877.d2/0_dfab3_6eab554d_XL.png"/>
          <p:cNvPicPr/>
          <p:nvPr/>
        </p:nvPicPr>
        <p:blipFill>
          <a:blip r:embed="rId3"/>
          <a:stretch/>
        </p:blipFill>
        <p:spPr>
          <a:xfrm>
            <a:off x="6300720" y="1052640"/>
            <a:ext cx="252900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250920" y="242100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с жадностью пьёт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е чувствует жажд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бел -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упается только однажды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смело ныряет в кипящую вод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бе на беду, но на радость народу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обрые люди (Вот это загадка!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кажу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ак жалко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кажу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ак сладк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070720" y="26028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гадки Бориса Заход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4913280" y="5035680"/>
            <a:ext cx="3621240" cy="150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clipart.net.ua/images/clip3768.jpg"/>
          <p:cNvPicPr/>
          <p:nvPr/>
        </p:nvPicPr>
        <p:blipFill>
          <a:blip r:embed="rId3"/>
          <a:stretch/>
        </p:blipFill>
        <p:spPr>
          <a:xfrm>
            <a:off x="5580000" y="981000"/>
            <a:ext cx="3313080" cy="26496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2"/>
          <a:stretch/>
        </p:blipFill>
        <p:spPr>
          <a:xfrm>
            <a:off x="371520" y="4821120"/>
            <a:ext cx="3097080" cy="15066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539640" y="18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хмурилось неб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верно, не в духе!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ают, летаю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ые мухи!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сятся слух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елые мух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олько летаю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даже - не т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dragonartz.net/wp-content/uploads/2008/10/_vector-snow-backgrounds-preview1-by-dragonart.jpg"/>
          <p:cNvPicPr/>
          <p:nvPr/>
        </p:nvPicPr>
        <p:blipFill>
          <a:blip r:embed="rId3"/>
          <a:stretch/>
        </p:blipFill>
        <p:spPr>
          <a:xfrm>
            <a:off x="3851280" y="1628640"/>
            <a:ext cx="4859280" cy="4859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1" descr=""/>
          <p:cNvPicPr/>
          <p:nvPr/>
        </p:nvPicPr>
        <p:blipFill>
          <a:blip r:embed="rId2"/>
          <a:stretch/>
        </p:blipFill>
        <p:spPr>
          <a:xfrm>
            <a:off x="-122400" y="5181480"/>
            <a:ext cx="5316840" cy="15051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611280" y="260280"/>
            <a:ext cx="54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и предки, ваши пред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одной качались ветк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теперь нас держат в клетке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ли это, де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www.zooclub.ru/attach/fotogal/clip/primat/21.jpg"/>
          <p:cNvPicPr/>
          <p:nvPr/>
        </p:nvPicPr>
        <p:blipFill>
          <a:blip r:embed="rId3"/>
          <a:stretch/>
        </p:blipFill>
        <p:spPr>
          <a:xfrm>
            <a:off x="3708360" y="1916280"/>
            <a:ext cx="4762440" cy="4190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2"/>
          <a:stretch/>
        </p:blipFill>
        <p:spPr>
          <a:xfrm>
            <a:off x="96840" y="5108400"/>
            <a:ext cx="5468760" cy="1505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539640" y="260280"/>
            <a:ext cx="61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хозяин - мальчик Роби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приятель - Пятач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раз был облаку подобен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прост, но он не дурач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его прогулка - праздни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мёд особый нюх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плюшевый проказни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онок 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stihomania.com/images/otkrytka-vinni.jpg"/>
          <p:cNvPicPr/>
          <p:nvPr/>
        </p:nvPicPr>
        <p:blipFill>
          <a:blip r:embed="rId3"/>
          <a:srcRect l="17025" t="0" r="7092" b="0"/>
          <a:stretch/>
        </p:blipFill>
        <p:spPr>
          <a:xfrm>
            <a:off x="5292720" y="1700280"/>
            <a:ext cx="3851280" cy="4721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" descr=""/>
          <p:cNvPicPr/>
          <p:nvPr/>
        </p:nvPicPr>
        <p:blipFill>
          <a:blip r:embed="rId2"/>
          <a:stretch/>
        </p:blipFill>
        <p:spPr>
          <a:xfrm>
            <a:off x="231840" y="5035680"/>
            <a:ext cx="4657680" cy="15048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539640" y="189000"/>
            <a:ext cx="59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везде вдвоём всегд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ерята – неразлей вод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и его пушистый дру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тник, медведик  Винни-Пу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если это не секр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ее дайте мне отв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этот милый толстячо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н мамы-хрюшки -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vignette2.wikia.nocookie.net/vinni/images/6/69/A_7c639b12.jpg/revision/latest/scale-to-width-down/180?cb=20140320080534&amp;path-prefix=ru"/>
          <p:cNvPicPr/>
          <p:nvPr/>
        </p:nvPicPr>
        <p:blipFill>
          <a:blip r:embed="rId3"/>
          <a:stretch/>
        </p:blipFill>
        <p:spPr>
          <a:xfrm>
            <a:off x="5003640" y="1119240"/>
            <a:ext cx="4140360" cy="555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bk-detstvo.narod.ru/zahoder_crossword_stihi_bi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826920" y="90792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-Произведения какого автора мы сегодня чита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Чем он вам запомни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-Какие виды работы с его текстами постарались выпол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611280" y="549360"/>
            <a:ext cx="633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е удалось на уро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не понрав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порадовался 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Я могу похвалить себя за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С каким настроением заканчиваем урок?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D:\клипарты\Дети\0_96265_a9d2b9d4_L.png"/>
          <p:cNvPicPr/>
          <p:nvPr/>
        </p:nvPicPr>
        <p:blipFill>
          <a:blip r:embed="rId2"/>
          <a:stretch/>
        </p:blipFill>
        <p:spPr>
          <a:xfrm>
            <a:off x="4859280" y="506520"/>
            <a:ext cx="4484880" cy="6351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2500200" y="1916280"/>
            <a:ext cx="41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чка про Б.Заход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k-detstvo.narod.ru/zahod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040920" y="3500280"/>
            <a:ext cx="581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годняшний урок 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вяти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ому из любимейш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сателей страны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рису Заходе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076720" y="2637000"/>
            <a:ext cx="329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орис Владими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хо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1918 – 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ttp://go3.imgsmail.ru/imgpreview?key=33118e91b9de4f1d&amp;mb=imgdb_preview_241"/>
          <p:cNvPicPr/>
          <p:nvPr/>
        </p:nvPicPr>
        <p:blipFill>
          <a:blip r:embed="rId2"/>
          <a:stretch/>
        </p:blipFill>
        <p:spPr>
          <a:xfrm>
            <a:off x="731880" y="1968480"/>
            <a:ext cx="3217680" cy="4419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95280" y="26028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тстве самым главным увлечением Заходера были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очень сильно любил читать и рано начал придумывать сказки, стихи, заг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ис Заходер не только поэт, но еще и сказочник. Героями его сказок становятся “братья наши меньшие” – птицы, звери,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g0.liveinternet.ru/images/attach/c/8/104/884/104884348_1378744592_biography_zahoder_photo_08_big.jpg"/>
          <p:cNvPicPr/>
          <p:nvPr/>
        </p:nvPicPr>
        <p:blipFill>
          <a:blip r:embed="rId2"/>
          <a:stretch/>
        </p:blipFill>
        <p:spPr>
          <a:xfrm>
            <a:off x="3492360" y="3112920"/>
            <a:ext cx="5056200" cy="35402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4" descr="http://www.murzilka.org/upload/chitaem%20vmeste/Zahoder/golovastik.jpg"/>
          <p:cNvPicPr/>
          <p:nvPr/>
        </p:nvPicPr>
        <p:blipFill>
          <a:blip r:embed="rId3"/>
          <a:stretch/>
        </p:blipFill>
        <p:spPr>
          <a:xfrm>
            <a:off x="611280" y="3213000"/>
            <a:ext cx="2475000" cy="3384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635280" y="1052640"/>
            <a:ext cx="516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ценариям или по мотивам сказок писателя “Русачок”, “Кит и Кот”, Серая Звездочка” сняты мультипликационные филь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ис Заходер еще и переводчик. С его помощью переведены на русский язык известные произведения, такие как: А. Мильне “Вини-Пух и Все-Все-Все”, А. Линдгрен “Малыш и Карлсон, который живет на крыше”, Л. Кэрролл “Алиса в Стране Чудес”, П. Треверс “Мэри Поппинс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bk-detstvo.narod.ru/images/zahoder_portrait.gif"/>
          <p:cNvPicPr/>
          <p:nvPr/>
        </p:nvPicPr>
        <p:blipFill>
          <a:blip r:embed="rId2"/>
          <a:stretch/>
        </p:blipFill>
        <p:spPr>
          <a:xfrm>
            <a:off x="0" y="-171360"/>
            <a:ext cx="373392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284720" y="3333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перевод книги Л. Кэрролла “Алиса в Стане Чудес” Борис Заходер был награжден почетным дипломом Андерсена. Это лучшая награда для любого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ие композиторы писали песни на стихи Б. Заход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е известные из них – это песенки Винни–Пуха, Мэри Поппинс, Алисы из Страны Чуд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todnb.ru/content/gallery/orig_495ca4b6e109449cdb131a2b1f194622.jpg"/>
          <p:cNvPicPr/>
          <p:nvPr/>
        </p:nvPicPr>
        <p:blipFill>
          <a:blip r:embed="rId2"/>
          <a:stretch/>
        </p:blipFill>
        <p:spPr>
          <a:xfrm>
            <a:off x="468360" y="333360"/>
            <a:ext cx="2476440" cy="32655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Picture 6" descr="http://j.livelib.ru/boocover/1000094716/l/013e/A._Miln_B._Zahoder_L._Kerroll__A._Miln_B._Zahoder._VinniPuh_i_VseVseVse._L._Kerr.jpg"/>
          <p:cNvPicPr/>
          <p:nvPr/>
        </p:nvPicPr>
        <p:blipFill>
          <a:blip r:embed="rId3"/>
          <a:stretch/>
        </p:blipFill>
        <p:spPr>
          <a:xfrm>
            <a:off x="1325520" y="3500280"/>
            <a:ext cx="2414520" cy="31291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серая звездочка"/>
          <p:cNvPicPr/>
          <p:nvPr/>
        </p:nvPicPr>
        <p:blipFill>
          <a:blip r:embed="rId2"/>
          <a:stretch/>
        </p:blipFill>
        <p:spPr>
          <a:xfrm>
            <a:off x="214200" y="285840"/>
            <a:ext cx="2206800" cy="28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9" descr="p1204910"/>
          <p:cNvPicPr/>
          <p:nvPr/>
        </p:nvPicPr>
        <p:blipFill>
          <a:blip r:embed="rId3"/>
          <a:stretch/>
        </p:blipFill>
        <p:spPr>
          <a:xfrm>
            <a:off x="7072200" y="214200"/>
            <a:ext cx="1789200" cy="288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7" descr="big"/>
          <p:cNvPicPr/>
          <p:nvPr/>
        </p:nvPicPr>
        <p:blipFill>
          <a:blip r:embed="rId4"/>
          <a:stretch/>
        </p:blipFill>
        <p:spPr>
          <a:xfrm>
            <a:off x="4857840" y="214200"/>
            <a:ext cx="198756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11" descr="p159180"/>
          <p:cNvPicPr/>
          <p:nvPr/>
        </p:nvPicPr>
        <p:blipFill>
          <a:blip r:embed="rId5"/>
          <a:stretch/>
        </p:blipFill>
        <p:spPr>
          <a:xfrm>
            <a:off x="6929280" y="3714840"/>
            <a:ext cx="18892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309218"/>
          <p:cNvPicPr/>
          <p:nvPr/>
        </p:nvPicPr>
        <p:blipFill>
          <a:blip r:embed="rId6"/>
          <a:stretch/>
        </p:blipFill>
        <p:spPr>
          <a:xfrm>
            <a:off x="4886280" y="3714840"/>
            <a:ext cx="170964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17" descr="rusachok"/>
          <p:cNvPicPr/>
          <p:nvPr/>
        </p:nvPicPr>
        <p:blipFill>
          <a:blip r:embed="rId7"/>
          <a:stretch/>
        </p:blipFill>
        <p:spPr>
          <a:xfrm>
            <a:off x="2428920" y="3857760"/>
            <a:ext cx="22492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4" descr="9"/>
          <p:cNvPicPr/>
          <p:nvPr/>
        </p:nvPicPr>
        <p:blipFill>
          <a:blip r:embed="rId8"/>
          <a:stretch/>
        </p:blipFill>
        <p:spPr>
          <a:xfrm>
            <a:off x="214200" y="3714840"/>
            <a:ext cx="1984320" cy="27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10" descr="p1304065"/>
          <p:cNvPicPr/>
          <p:nvPr/>
        </p:nvPicPr>
        <p:blipFill>
          <a:blip r:embed="rId9"/>
          <a:stretch/>
        </p:blipFill>
        <p:spPr>
          <a:xfrm>
            <a:off x="2786040" y="214200"/>
            <a:ext cx="1889280" cy="301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j.livelib.ru/boocover/1001112575/l/fd8b/Boris_Zahoder__Tovarischam_detyam.jpg"/>
          <p:cNvPicPr/>
          <p:nvPr/>
        </p:nvPicPr>
        <p:blipFill>
          <a:blip r:embed="rId2"/>
          <a:stretch/>
        </p:blipFill>
        <p:spPr>
          <a:xfrm>
            <a:off x="539640" y="404640"/>
            <a:ext cx="3768840" cy="5616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6" name="Picture 2" descr="http://cdn.fishki.net/upload/post/201509/09/1657578/zahoder_plakat.jpg"/>
          <p:cNvPicPr/>
          <p:nvPr/>
        </p:nvPicPr>
        <p:blipFill>
          <a:blip r:embed="rId3"/>
          <a:stretch/>
        </p:blipFill>
        <p:spPr>
          <a:xfrm>
            <a:off x="4716360" y="189000"/>
            <a:ext cx="4287960" cy="604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6:56:37Z</dcterms:created>
  <dc:creator>Еленга Берюхова</dc:creator>
  <dc:description/>
  <dc:language>en-US</dc:language>
  <cp:lastModifiedBy>Microsoft </cp:lastModifiedBy>
  <dcterms:modified xsi:type="dcterms:W3CDTF">2016-03-13T14:48:28Z</dcterms:modified>
  <cp:revision>13</cp:revision>
  <dc:subject/>
  <dc:title>Слайд 1</dc:title>
</cp:coreProperties>
</file>