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0CC-7433-4D54-9D6F-6C35B9BA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4BA-6281-4553-812D-F3D5944B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23E-5FE2-4173-A56C-1A6595CF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1A6-B803-4145-B808-1BA9AB6F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F87-F0A9-4969-A1E0-8B4ACC11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3D3-B60B-4DF3-ACB1-CD1745D5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345-BA22-4D6C-846D-C4DA6DFC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3C3-152B-42D4-B7CE-968C14C2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3C2-B1EC-4466-9017-AFCE1B78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2FC-D030-4C21-A9C1-F63D18A9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564-0AE7-49B1-9CA0-F61AA9CC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195-6BB7-49AA-AD1C-7B440BB2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295A-DC84-4B23-93C0-E05386055E2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 Light"/>
              </a:rPr>
              <a:t>Среда программирования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alibri Light"/>
              </a:rPr>
              <a:t>«КУМИР»</a:t>
            </a:r>
            <a:br>
              <a:rPr sz="41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Исполнитель</a:t>
            </a:r>
            <a:r>
              <a:rPr b="1" lang="ru-RU" sz="7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500" spc="-1" strike="noStrike">
                <a:solidFill>
                  <a:srgbClr val="ff0000"/>
                </a:solidFill>
                <a:latin typeface="Calibri"/>
              </a:rPr>
              <a:t>Чертежник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1081440" y="263160"/>
            <a:ext cx="70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нитель Чертеж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44360" y="1244520"/>
            <a:ext cx="8915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нитель Чертежни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назначен для постро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унков, чертежей, графиков и т. д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бесконечном во все стороны листе, который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тежным лис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чертежном листе зада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моугольная система координ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единицу измерения в этой системе координат будем называть единицей Чертежника (сокращенно е. ч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2148120" y="291960"/>
            <a:ext cx="5138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нтерфейс сре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граммирова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У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2416320"/>
            <a:ext cx="91440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051200" y="335160"/>
            <a:ext cx="70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нитель Чертеж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0240" y="1285200"/>
            <a:ext cx="8915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тежник име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ое может подниматься, опускаться и перемещаться при выполнении команд програм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еремещении опущенного пера за ним ост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 — отрез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т старого положения пера до нов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395280" y="1287720"/>
            <a:ext cx="867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дение Чертежника описывается состоянием его пе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- координата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во внутренней системе координат чертеж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- режимо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ня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ежим перемеще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 рисова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пуще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ежим перемеще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 рис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 цветом черн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1249920" y="335160"/>
            <a:ext cx="66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Состояния Чертеж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42920" y="1678680"/>
            <a:ext cx="88581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нять пе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пустить пе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меститься в точ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арг вещ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, 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меститься на векто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арг вещ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, 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рать чернил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арг стр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цв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опускается 9 цве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черный, белый, красный, оранжевый, желтый, зеленый, голубой, синий, фиолетов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1464840" y="335160"/>
            <a:ext cx="62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Команды Чертеж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4734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867560" cy="41338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2"/>
          <a:stretch/>
        </p:blipFill>
        <p:spPr>
          <a:xfrm>
            <a:off x="5292720" y="2349360"/>
            <a:ext cx="3621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01:24:58Z</dcterms:created>
  <dc:creator>kev</dc:creator>
  <dc:description/>
  <dc:language>en-US</dc:language>
  <cp:lastModifiedBy>Учитель</cp:lastModifiedBy>
  <dcterms:modified xsi:type="dcterms:W3CDTF">2022-10-07T12:34:44Z</dcterms:modified>
  <cp:revision>47</cp:revision>
  <dc:subject/>
  <dc:title>Слайд 1</dc:title>
</cp:coreProperties>
</file>