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89F-D92A-4060-BC0E-CDFB96BA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8F3-2104-4562-9268-4630E0FD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193-F750-4424-AB9C-C41996D5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68E-63FC-434C-B8AF-5015D535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023-FBED-4CA6-83C1-A474248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57E-0A95-4C80-9EC8-4FC5261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C69-B226-4BB6-A2DD-CC7FD7C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858-A0AA-4E32-987E-CB45585E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386-BB77-4877-9CF4-9F4616F7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406-3224-444B-9795-025842CF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7C4-B716-4DC1-ADBE-4484A11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445-270A-461D-8409-4A365B3E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0EB7-0726-4C9E-A99E-A227FC7E9FA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Среда программирования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«КУМИР»</a:t>
            </a:r>
            <a:br>
              <a:rPr sz="41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Исполнитель</a:t>
            </a:r>
            <a:r>
              <a:rPr b="1" lang="ru-RU" sz="7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500" spc="-1" strike="noStrike">
                <a:solidFill>
                  <a:srgbClr val="ff0000"/>
                </a:solidFill>
                <a:latin typeface="Calibri"/>
              </a:rPr>
              <a:t>Чертежник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081440" y="263160"/>
            <a:ext cx="70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нитель Чертеж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44360" y="1244520"/>
            <a:ext cx="891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нитель Чертежн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назначен для постро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унков, чертежей, графиков и т. д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есконечном во все стороны листе, которы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ежным лис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чертежном листе зада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оугольная система координ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единицу измерения в этой системе координат будем называть единицей Чертежника (сокращенно е. ч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2148120" y="291960"/>
            <a:ext cx="513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терфейс сре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граммир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У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2416320"/>
            <a:ext cx="9144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051200" y="335160"/>
            <a:ext cx="70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нитель Чертеж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240" y="128520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ежник име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ое может подниматься, опускаться и перемещаться при выполнении команд програм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еремещении опущенного пера за ним ост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 — отрез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старого положения пера до нов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95280" y="1287720"/>
            <a:ext cx="867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 Чертежника описывается состоянием его пе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координат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во внутренней системе координат чертеж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режимо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ня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жим перемещ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 рисо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ще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жим перемещ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 рис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цветом чер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249920" y="335160"/>
            <a:ext cx="66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Состояния Черте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42920" y="1678680"/>
            <a:ext cx="8858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нять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стить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меститься в точ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арг вещ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,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меститься на вект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арг вещ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,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черни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арг с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ц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опускается 9 цве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черный, белый, красный, оранжевый, желтый, зеленый, голубой, синий, фиолетов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464840" y="335160"/>
            <a:ext cx="62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анды Черте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4734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867560" cy="4133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621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1:24:58Z</dcterms:created>
  <dc:creator>kev</dc:creator>
  <dc:description/>
  <dc:language>en-US</dc:language>
  <cp:lastModifiedBy>Учитель</cp:lastModifiedBy>
  <dcterms:modified xsi:type="dcterms:W3CDTF">2022-10-07T12:34:44Z</dcterms:modified>
  <cp:revision>47</cp:revision>
  <dc:subject/>
  <dc:title>Слайд 1</dc:title>
</cp:coreProperties>
</file>