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12.png" ContentType="image/png"/>
  <Override PartName="/ppt/media/image19.jpeg" ContentType="image/jpeg"/>
  <Override PartName="/ppt/media/image7.png" ContentType="image/png"/>
  <Override PartName="/ppt/media/image1.jpeg" ContentType="image/jpeg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6.gif" ContentType="image/gif"/>
  <Override PartName="/ppt/media/image5.png" ContentType="image/png"/>
  <Override PartName="/ppt/media/image10.jpeg" ContentType="image/jpe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D58A8-3130-46A6-B7D8-F4A316953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7499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1434960" y="2966400"/>
            <a:ext cx="7499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3C450-7A5A-42E2-89D2-FDF3567DC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365976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5277960" y="1085760"/>
            <a:ext cx="365976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95181D-3A11-4A29-9CCC-161A28081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9628D5-661D-4161-A136-D271C14F0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1434960" y="206280"/>
            <a:ext cx="749952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1CC8E3-D60D-4588-A970-57CCD6A7F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5277960" y="1085760"/>
            <a:ext cx="365976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1434960" y="296640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07C0BC-CDDF-4737-ADFD-4E096357C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365976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5277960" y="108576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5277960" y="296640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C5DEFF-5021-4B9A-90DF-A304349F6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5277960" y="108576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1434960" y="2966400"/>
            <a:ext cx="7499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9F617B-6E6C-43C0-8493-07CFD246C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7499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1434960" y="2966400"/>
            <a:ext cx="7499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1D9E5B-611C-445A-AA04-57C5E3FE0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5277960" y="108576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1434960" y="296640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5277960" y="296640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29D9CE-A765-4DB4-9967-7EF480EF1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2414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3970440" y="1085760"/>
            <a:ext cx="2414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506280" y="1085760"/>
            <a:ext cx="2414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1434960" y="2966400"/>
            <a:ext cx="2414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2" name="PlaceHolder 6"/>
          <p:cNvSpPr>
            <a:spLocks noGrp="1"/>
          </p:cNvSpPr>
          <p:nvPr>
            <p:ph/>
          </p:nvPr>
        </p:nvSpPr>
        <p:spPr>
          <a:xfrm>
            <a:off x="3970440" y="2966400"/>
            <a:ext cx="2414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3" name="PlaceHolder 7"/>
          <p:cNvSpPr>
            <a:spLocks noGrp="1"/>
          </p:cNvSpPr>
          <p:nvPr>
            <p:ph/>
          </p:nvPr>
        </p:nvSpPr>
        <p:spPr>
          <a:xfrm>
            <a:off x="6506280" y="2966400"/>
            <a:ext cx="2414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BCE31F-B23B-4551-9B83-8A2180600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3455B6-6BBA-493C-8BFC-3718E7F98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277960" y="108576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434960" y="296640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5277960" y="296640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82D90-83FD-461B-944A-B2EB3C8E6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subTitle"/>
          </p:nvPr>
        </p:nvSpPr>
        <p:spPr>
          <a:xfrm>
            <a:off x="1434960" y="1085760"/>
            <a:ext cx="7499520" cy="36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2BA898-5102-4B36-A289-6199A3354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749952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228C91-E699-4856-8A5C-75A5CBD4E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365976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5277960" y="1085760"/>
            <a:ext cx="365976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1518FB-73F7-4ECF-AB01-B7DA4D317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3BBF94-C206-4066-9884-FDE374D5B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ubTitle"/>
          </p:nvPr>
        </p:nvSpPr>
        <p:spPr>
          <a:xfrm>
            <a:off x="1434960" y="206280"/>
            <a:ext cx="749952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81FB10-B41A-4CC4-8E3D-BCE657E05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5277960" y="1085760"/>
            <a:ext cx="365976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1434960" y="296640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F2E2A2-C98D-4C37-810F-305E582D8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365976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5277960" y="108576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5277960" y="296640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75DA76-92D7-4624-8568-37F997041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5277960" y="108576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1434960" y="2966400"/>
            <a:ext cx="7499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8AD218-E17B-4655-8F6B-9D70A19AF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7499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1434960" y="2966400"/>
            <a:ext cx="7499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1DC07B-4C2B-4447-8A1B-2E0CD0AE9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5277960" y="108576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1434960" y="296640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5277960" y="296640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07BE2E-D44A-45D5-9E63-ED8D2ED67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2414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970440" y="1085760"/>
            <a:ext cx="2414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506280" y="1085760"/>
            <a:ext cx="2414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1434960" y="2966400"/>
            <a:ext cx="2414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970440" y="2966400"/>
            <a:ext cx="2414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6506280" y="2966400"/>
            <a:ext cx="2414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81F09-2E7D-479B-B63F-95C089AE4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2414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3970440" y="1085760"/>
            <a:ext cx="2414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6506280" y="1085760"/>
            <a:ext cx="2414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1434960" y="2966400"/>
            <a:ext cx="2414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8" name="PlaceHolder 6"/>
          <p:cNvSpPr>
            <a:spLocks noGrp="1"/>
          </p:cNvSpPr>
          <p:nvPr>
            <p:ph/>
          </p:nvPr>
        </p:nvSpPr>
        <p:spPr>
          <a:xfrm>
            <a:off x="3970440" y="2966400"/>
            <a:ext cx="2414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9" name="PlaceHolder 7"/>
          <p:cNvSpPr>
            <a:spLocks noGrp="1"/>
          </p:cNvSpPr>
          <p:nvPr>
            <p:ph/>
          </p:nvPr>
        </p:nvSpPr>
        <p:spPr>
          <a:xfrm>
            <a:off x="6506280" y="2966400"/>
            <a:ext cx="2414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F08AA6-EA43-43D5-9953-B34C1C722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086DF4-F525-4DE8-986C-4F34B0DDA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subTitle"/>
          </p:nvPr>
        </p:nvSpPr>
        <p:spPr>
          <a:xfrm>
            <a:off x="1434960" y="1085760"/>
            <a:ext cx="7499520" cy="36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DB2301-78C2-4E3E-BF29-6A78E1186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749952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A5CC02-46D4-466D-8CDD-7167C5DAF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365976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5277960" y="1085760"/>
            <a:ext cx="365976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960D5C-EBA1-4809-B197-42A6F8DDB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BDB2C0-9FF7-4F63-A3B5-2741CECC5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ubTitle"/>
          </p:nvPr>
        </p:nvSpPr>
        <p:spPr>
          <a:xfrm>
            <a:off x="1434960" y="206280"/>
            <a:ext cx="749952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E0FAF9-5B2E-4399-84EF-53DC67508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5277960" y="1085760"/>
            <a:ext cx="365976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1434960" y="296640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E40B52-8DD6-4865-A51F-CFED12B44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365976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5277960" y="108576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277960" y="296640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65E7D0-4171-4D2C-981B-3F58A9C8A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277960" y="108576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1434960" y="2966400"/>
            <a:ext cx="7499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2DDC20-CBD1-4C8D-959C-44679A9BC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A8E71-0D11-40A0-BD2D-C177BBDB2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7499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1434960" y="2966400"/>
            <a:ext cx="7499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12DE03-2837-4607-8A23-6AA34BA42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5277960" y="108576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1434960" y="296640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/>
          </p:nvPr>
        </p:nvSpPr>
        <p:spPr>
          <a:xfrm>
            <a:off x="5277960" y="296640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CAB736-2B2B-4D88-BF8A-66C8CD3F4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2414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3970440" y="1085760"/>
            <a:ext cx="2414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6506280" y="1085760"/>
            <a:ext cx="2414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/>
          </p:nvPr>
        </p:nvSpPr>
        <p:spPr>
          <a:xfrm>
            <a:off x="1434960" y="2966400"/>
            <a:ext cx="2414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4" name="PlaceHolder 6"/>
          <p:cNvSpPr>
            <a:spLocks noGrp="1"/>
          </p:cNvSpPr>
          <p:nvPr>
            <p:ph/>
          </p:nvPr>
        </p:nvSpPr>
        <p:spPr>
          <a:xfrm>
            <a:off x="3970440" y="2966400"/>
            <a:ext cx="2414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5" name="PlaceHolder 7"/>
          <p:cNvSpPr>
            <a:spLocks noGrp="1"/>
          </p:cNvSpPr>
          <p:nvPr>
            <p:ph/>
          </p:nvPr>
        </p:nvSpPr>
        <p:spPr>
          <a:xfrm>
            <a:off x="6506280" y="2966400"/>
            <a:ext cx="2414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ACC02E-CD20-4344-A7EB-C90A27164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E1552D-424F-4AB0-8076-3CF4121AA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 type="subTitle"/>
          </p:nvPr>
        </p:nvSpPr>
        <p:spPr>
          <a:xfrm>
            <a:off x="1434960" y="1085760"/>
            <a:ext cx="7499520" cy="36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7C124B-CB07-4A3B-B21D-197BDA13B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749952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533261-B04B-4946-9BB3-17A36F287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365976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277960" y="1085760"/>
            <a:ext cx="365976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D191D9-4CC6-4D08-93C0-FE6B3F29A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84D5B2-EB98-41BF-BE96-43C8B6280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subTitle"/>
          </p:nvPr>
        </p:nvSpPr>
        <p:spPr>
          <a:xfrm>
            <a:off x="1434960" y="206280"/>
            <a:ext cx="749952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EF90F6-AB0A-4A1B-B825-2F7A3AB32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5277960" y="1085760"/>
            <a:ext cx="365976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1434960" y="296640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1A776F-73F4-4C90-9EF2-C57336E61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434960" y="1085760"/>
            <a:ext cx="7499520" cy="36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50C3E-DEFC-487D-9BEC-C2A97D9E9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365976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5277960" y="108576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5277960" y="296640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A3C8B7-43D1-48F7-9E82-4B791562F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5277960" y="108576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1434960" y="2966400"/>
            <a:ext cx="7499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EB0019-F921-457E-A5D8-64F6ABEB7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7499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1434960" y="2966400"/>
            <a:ext cx="7499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A4862C-31B7-4464-BB8F-E788D7511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5277960" y="108576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1434960" y="296640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5277960" y="296640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B445E5-D458-4586-8CDA-01D320650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2414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3970440" y="1085760"/>
            <a:ext cx="2414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6506280" y="1085760"/>
            <a:ext cx="2414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/>
          </p:nvPr>
        </p:nvSpPr>
        <p:spPr>
          <a:xfrm>
            <a:off x="1434960" y="2966400"/>
            <a:ext cx="2414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0" name="PlaceHolder 6"/>
          <p:cNvSpPr>
            <a:spLocks noGrp="1"/>
          </p:cNvSpPr>
          <p:nvPr>
            <p:ph/>
          </p:nvPr>
        </p:nvSpPr>
        <p:spPr>
          <a:xfrm>
            <a:off x="3970440" y="2966400"/>
            <a:ext cx="2414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1" name="PlaceHolder 7"/>
          <p:cNvSpPr>
            <a:spLocks noGrp="1"/>
          </p:cNvSpPr>
          <p:nvPr>
            <p:ph/>
          </p:nvPr>
        </p:nvSpPr>
        <p:spPr>
          <a:xfrm>
            <a:off x="6506280" y="2966400"/>
            <a:ext cx="2414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490923-0EE6-442D-AAC2-BFF722738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749952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8CC13-4EDD-46D7-B330-DE2F93DE3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365976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277960" y="1085760"/>
            <a:ext cx="365976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BEEF1-FF40-464E-A03A-10BF0369E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8E251-85DC-44BB-910F-D08AC06F1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1434960" y="206280"/>
            <a:ext cx="749952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97F5B-DB68-4A20-B426-03D45679C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277960" y="1085760"/>
            <a:ext cx="365976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434960" y="296640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F9999-916C-4F8B-A3BD-2686E039A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1434960" y="1085760"/>
            <a:ext cx="7499520" cy="36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086F1-3A86-4B68-81BE-6DCC0187C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365976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277960" y="108576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277960" y="296640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017F4-F761-4A90-A673-9A3311EDE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277960" y="108576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434960" y="2966400"/>
            <a:ext cx="7499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A235E-78E4-4730-8899-AF7DC0DEE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7499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1434960" y="2966400"/>
            <a:ext cx="7499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78A51-FBF4-4703-8BC2-9AF502141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277960" y="108576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434960" y="296640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5277960" y="296640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38708-7D8D-4E78-AB01-1857E8E13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2414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970440" y="1085760"/>
            <a:ext cx="2414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506280" y="1085760"/>
            <a:ext cx="2414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1434960" y="2966400"/>
            <a:ext cx="2414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970440" y="2966400"/>
            <a:ext cx="2414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506280" y="2966400"/>
            <a:ext cx="2414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0858B-5485-4B27-9D99-20A81F6CC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32DB14-D8A1-45F6-8C8B-9F7F505C6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1434960" y="1085760"/>
            <a:ext cx="7499520" cy="36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35601A-3C81-482A-956B-66B997374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749952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029CFF-9648-45B2-8E93-87F0F12A2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365976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5277960" y="1085760"/>
            <a:ext cx="365976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C7D554-511F-4AE5-9923-C9D365534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7FA728-B9EC-41AB-8D21-32BCFF57B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749952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CF66E-A98D-4A00-B045-AE9ECE94F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1434960" y="206280"/>
            <a:ext cx="749952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8FB210-6B0F-40EC-96AD-8E11A71FA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277960" y="1085760"/>
            <a:ext cx="365976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434960" y="296640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36F84E-2502-415F-A061-CD1712365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365976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277960" y="108576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277960" y="296640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392CE7-C4CE-491B-B6A1-467EBBC88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08576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2966400"/>
            <a:ext cx="7499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182E22-70E8-49C6-B801-A782B2580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7499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1434960" y="2966400"/>
            <a:ext cx="7499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5A388C-4A4D-4292-BBF9-D50C35DA7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277960" y="108576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434960" y="296640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5277960" y="296640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74ECB0-69AD-4829-A0DD-50A8F10DA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2414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970440" y="1085760"/>
            <a:ext cx="2414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506280" y="1085760"/>
            <a:ext cx="2414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1434960" y="2966400"/>
            <a:ext cx="2414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970440" y="2966400"/>
            <a:ext cx="2414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506280" y="2966400"/>
            <a:ext cx="2414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BB62BA-A6D7-4A0C-A3C2-4DD60B4DE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ED9E34-4CFD-44BA-A5E1-8AE67CFD6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1434960" y="1085760"/>
            <a:ext cx="7499520" cy="36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C24301-7877-4F35-B4BB-C62EB8058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749952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F3B0D3-2493-405B-AE40-B9C699652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365976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77960" y="1085760"/>
            <a:ext cx="365976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F0535-A590-4A36-8DA7-386D2019C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365976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277960" y="1085760"/>
            <a:ext cx="365976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02067A-57EF-4620-A0C8-737E559DB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CD249A-7315-4307-9EA7-4C530259F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1434960" y="206280"/>
            <a:ext cx="749952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BAE8DA-1D8E-41CC-B536-E3DAFFC30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277960" y="1085760"/>
            <a:ext cx="365976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1434960" y="296640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2C1195-A267-4B5B-AE3F-FF0548EB6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365976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08576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5277960" y="296640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CDE306-B1C7-4DD8-9D72-A6D084579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08576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1434960" y="2966400"/>
            <a:ext cx="7499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FE3F52-5011-4CA7-8C90-B7326AAE9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7499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1434960" y="2966400"/>
            <a:ext cx="7499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36A497-1982-4768-A232-1F791B469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5277960" y="108576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1434960" y="296640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5277960" y="296640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8C1CEF-0F5A-4D53-8816-1090A45A3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2414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970440" y="1085760"/>
            <a:ext cx="2414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506280" y="1085760"/>
            <a:ext cx="2414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1434960" y="2966400"/>
            <a:ext cx="2414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3970440" y="2966400"/>
            <a:ext cx="2414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6506280" y="2966400"/>
            <a:ext cx="2414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107DC9-0892-426A-A52B-C3231F52B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63D04D-A7C6-4991-BB73-7B50ACBE0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0850B-AA3E-49D2-BEF4-307BEE489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1434960" y="1085760"/>
            <a:ext cx="7499520" cy="36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5E42EE-6FBF-478F-96C5-CDA8FD2DF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749952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BB879F-FB1C-44D3-A62E-8B3F21CEE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365976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5277960" y="1085760"/>
            <a:ext cx="365976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3529B2-BF1E-4880-9440-4427483C3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6B0460-2C27-471D-A85A-6B9821003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1434960" y="206280"/>
            <a:ext cx="749952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07609A-739B-4044-B071-A825B426E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5277960" y="1085760"/>
            <a:ext cx="365976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1434960" y="296640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A8CC77-EC0E-4747-818A-538709FE1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365976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08576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277960" y="296640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63244F-7C94-4848-A85B-04F8F8B4F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277960" y="108576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1434960" y="2966400"/>
            <a:ext cx="7499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F6302B-820B-4FE2-8EFD-0C3D8645E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7499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1434960" y="2966400"/>
            <a:ext cx="7499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638288-DA5D-41D5-8B42-9E3D20EED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5277960" y="108576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1434960" y="296640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5277960" y="296640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037DA3-8EC1-499C-A06A-89B4D9D01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1434960" y="206280"/>
            <a:ext cx="749952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A815C-12DD-44D5-B33F-EBDE8D183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2414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970440" y="1085760"/>
            <a:ext cx="2414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506280" y="1085760"/>
            <a:ext cx="2414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1434960" y="2966400"/>
            <a:ext cx="2414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970440" y="2966400"/>
            <a:ext cx="2414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6506280" y="2966400"/>
            <a:ext cx="2414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2AA981-B0F9-4105-ACDD-556526C72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48ED94-D8C3-49E6-8990-5138232F6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1434960" y="1085760"/>
            <a:ext cx="7499520" cy="36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F9E2E2-75C4-425C-AE8B-E5B208E11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749952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2B6DED-33F9-4264-A945-3F74695FB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365976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5277960" y="1085760"/>
            <a:ext cx="365976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276F74-1190-4D8C-B370-FB13F4D95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71FF59-B66D-462E-9A45-32898DB39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ubTitle"/>
          </p:nvPr>
        </p:nvSpPr>
        <p:spPr>
          <a:xfrm>
            <a:off x="1434960" y="206280"/>
            <a:ext cx="749952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86D204-3931-4135-B698-3A23E8F69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5277960" y="1085760"/>
            <a:ext cx="365976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1434960" y="296640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F848BF-47AA-475A-83B2-04E62229A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365976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5277960" y="108576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277960" y="296640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C578E7-5C14-4B69-91DF-1C4044DDA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5277960" y="108576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1434960" y="2966400"/>
            <a:ext cx="7499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ADD889-2E01-4301-84E5-F89E765E3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085760"/>
            <a:ext cx="365976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296640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B2C07-63D9-44BB-A04C-1FCCD97FC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7499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1434960" y="2966400"/>
            <a:ext cx="7499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D50BE1-498B-4A4F-A4B8-9E6CFA935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5277960" y="108576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1434960" y="296640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5277960" y="296640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413DE7-FE7B-4096-8ACC-A0E1A0171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2414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970440" y="1085760"/>
            <a:ext cx="2414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506280" y="1085760"/>
            <a:ext cx="2414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1434960" y="2966400"/>
            <a:ext cx="2414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2" name="PlaceHolder 6"/>
          <p:cNvSpPr>
            <a:spLocks noGrp="1"/>
          </p:cNvSpPr>
          <p:nvPr>
            <p:ph/>
          </p:nvPr>
        </p:nvSpPr>
        <p:spPr>
          <a:xfrm>
            <a:off x="3970440" y="2966400"/>
            <a:ext cx="2414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3" name="PlaceHolder 7"/>
          <p:cNvSpPr>
            <a:spLocks noGrp="1"/>
          </p:cNvSpPr>
          <p:nvPr>
            <p:ph/>
          </p:nvPr>
        </p:nvSpPr>
        <p:spPr>
          <a:xfrm>
            <a:off x="6506280" y="2966400"/>
            <a:ext cx="2414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5BCF6A-54D0-4B39-A5C7-CFDD8D889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2C4E75-6F2B-479E-81C0-B0AEED6AD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ubTitle"/>
          </p:nvPr>
        </p:nvSpPr>
        <p:spPr>
          <a:xfrm>
            <a:off x="1434960" y="1085760"/>
            <a:ext cx="7499520" cy="36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416C6F-4BDD-4442-A3CC-F49408656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749952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49D47A-DB65-43FF-B8B7-629F693B7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365976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5277960" y="1085760"/>
            <a:ext cx="365976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89A8F3-2186-42A6-ABA5-BF65DB89E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C175D6-2954-440A-A1C2-789BBF95C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ubTitle"/>
          </p:nvPr>
        </p:nvSpPr>
        <p:spPr>
          <a:xfrm>
            <a:off x="1434960" y="206280"/>
            <a:ext cx="749952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BD71D7-F372-4F5D-A51E-E13F4AB19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5277960" y="1085760"/>
            <a:ext cx="365976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1434960" y="296640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25E84D-9582-45A2-9889-AB7A0D465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365976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77960" y="108576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277960" y="296640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F4FED-E170-4C84-B47E-623B7073C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365976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277960" y="108576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5277960" y="296640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81CB55-42B1-42EB-9A1E-82D68DC0E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5277960" y="108576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1434960" y="2966400"/>
            <a:ext cx="7499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E107B4-9461-4B50-A435-D19C8568B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7499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1434960" y="2966400"/>
            <a:ext cx="7499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A72801-0BDA-47C8-B306-2F90C97BC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5277960" y="108576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1434960" y="296640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5277960" y="296640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DCBFF3-F00C-4891-A15B-48E5F4A45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2414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3970440" y="1085760"/>
            <a:ext cx="2414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6506280" y="1085760"/>
            <a:ext cx="2414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1434960" y="2966400"/>
            <a:ext cx="2414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8" name="PlaceHolder 6"/>
          <p:cNvSpPr>
            <a:spLocks noGrp="1"/>
          </p:cNvSpPr>
          <p:nvPr>
            <p:ph/>
          </p:nvPr>
        </p:nvSpPr>
        <p:spPr>
          <a:xfrm>
            <a:off x="3970440" y="2966400"/>
            <a:ext cx="2414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9" name="PlaceHolder 7"/>
          <p:cNvSpPr>
            <a:spLocks noGrp="1"/>
          </p:cNvSpPr>
          <p:nvPr>
            <p:ph/>
          </p:nvPr>
        </p:nvSpPr>
        <p:spPr>
          <a:xfrm>
            <a:off x="6506280" y="2966400"/>
            <a:ext cx="2414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EFE199-D486-4F18-BD99-172089D3F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E39A69-52BB-481C-B5BD-69B146C26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1434960" y="1085760"/>
            <a:ext cx="7499520" cy="36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4B1F78-16B9-46DB-BE38-4B0D37591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749952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027748-497E-4472-8D45-87D47B27E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365976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277960" y="1085760"/>
            <a:ext cx="365976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DCE6B0-2117-4F4A-B597-3A2C22732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714CB6-2F19-41C9-96F8-11F5196E4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277960" y="108576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434960" y="2966400"/>
            <a:ext cx="7499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61BA6-CF3A-4B2D-BFA6-E7C1387E6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1434960" y="206280"/>
            <a:ext cx="749952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76B85C-DE4C-46BD-AA98-565A75BBF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5277960" y="1085760"/>
            <a:ext cx="365976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1434960" y="296640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EC822B-4B1D-4D93-908E-4336F0798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365976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5277960" y="108576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5277960" y="296640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0193AB-DF64-4D40-AA90-24B3396F7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5277960" y="108576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1434960" y="2966400"/>
            <a:ext cx="7499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2295BE-CD69-4A68-911D-D1FA377A1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7499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1434960" y="2966400"/>
            <a:ext cx="7499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44447D-0E54-4BF9-A430-32D713DCA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5277960" y="108576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1434960" y="296640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5277960" y="296640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06EAC3-9450-4D55-A394-3774DD8E8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2414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970440" y="1085760"/>
            <a:ext cx="2414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506280" y="1085760"/>
            <a:ext cx="2414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1434960" y="2966400"/>
            <a:ext cx="2414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3970440" y="2966400"/>
            <a:ext cx="2414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6506280" y="2966400"/>
            <a:ext cx="2414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F42000-84ED-473D-8135-5103FC885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0C6C6D-CE29-4810-BA81-8D0019EB1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1434960" y="1085760"/>
            <a:ext cx="7499520" cy="36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5CCBCA-C876-488C-BF10-4777CAFC4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749952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7AB6EE-1B17-465C-985C-88F3F66DA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gif"/><Relationship Id="rId8" Type="http://schemas.openxmlformats.org/officeDocument/2006/relationships/image" Target="../media/image3.png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611280"/>
            <a:ext cx="1638360" cy="122868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179640 h 1228680"/>
              <a:gd name="textAreaBottom" fmla="*/ 1049040 h 1228680"/>
            </a:gdLst>
            <a:ahLst/>
            <a:rect l="textAreaLeft" t="textAreaTop" r="textAreaRight" b="textAreaBottom"/>
            <a:pathLst>
              <a:path w="1638887" h="1229165">
                <a:moveTo>
                  <a:pt x="1638887" y="614583"/>
                </a:moveTo>
                <a:lnTo>
                  <a:pt x="1638887" y="614583"/>
                </a:lnTo>
                <a:arcTo wR="819444" hR="614583" stAng="0" swAng="5402120"/>
                <a:lnTo>
                  <a:pt x="819444" y="614583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15840"/>
            <a:ext cx="1703520" cy="127656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212760" y="712800"/>
            <a:ext cx="1073160" cy="1012680"/>
            <a:chOff x="212760" y="712800"/>
            <a:chExt cx="1073160" cy="101268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212760" y="712800"/>
              <a:ext cx="1073160" cy="101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912600"/>
              <a:ext cx="795240" cy="58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5143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085760"/>
            <a:ext cx="749952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575640" indent="-21276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797040" indent="-20556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987120" indent="-15552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167120" indent="-16416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167120" indent="-16416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167120" indent="-16416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472932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4729320"/>
            <a:ext cx="289548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4729320"/>
            <a:ext cx="45720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2DA8B-2A2E-4AF0-905E-2A63819B30D1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51436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Rectangle 46"/>
          <p:cNvSpPr/>
          <p:nvPr/>
        </p:nvSpPr>
        <p:spPr>
          <a:xfrm flipH="1">
            <a:off x="2086920" y="4840200"/>
            <a:ext cx="6948360" cy="270000"/>
          </a:xfrm>
          <a:prstGeom prst="rect">
            <a:avLst/>
          </a:prstGeom>
          <a:solidFill>
            <a:srgbClr val="007b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Line 48"/>
          <p:cNvSpPr/>
          <p:nvPr/>
        </p:nvSpPr>
        <p:spPr>
          <a:xfrm flipV="1">
            <a:off x="1908000" y="4840200"/>
            <a:ext cx="0" cy="270000"/>
          </a:xfrm>
          <a:prstGeom prst="line">
            <a:avLst/>
          </a:prstGeom>
          <a:ln w="15840">
            <a:solidFill>
              <a:srgbClr val="71c4f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Rectangle 57"/>
          <p:cNvSpPr/>
          <p:nvPr/>
        </p:nvSpPr>
        <p:spPr>
          <a:xfrm flipH="1">
            <a:off x="2050200" y="4840200"/>
            <a:ext cx="71640" cy="270000"/>
          </a:xfrm>
          <a:prstGeom prst="rect">
            <a:avLst/>
          </a:prstGeom>
          <a:solidFill>
            <a:srgbClr val="e374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Rectangle 55"/>
          <p:cNvSpPr/>
          <p:nvPr/>
        </p:nvSpPr>
        <p:spPr>
          <a:xfrm>
            <a:off x="1440" y="141120"/>
            <a:ext cx="9142560" cy="5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Line 129"/>
          <p:cNvSpPr/>
          <p:nvPr/>
        </p:nvSpPr>
        <p:spPr>
          <a:xfrm flipV="1">
            <a:off x="108000" y="4840200"/>
            <a:ext cx="0" cy="270000"/>
          </a:xfrm>
          <a:prstGeom prst="line">
            <a:avLst/>
          </a:prstGeom>
          <a:ln w="15840">
            <a:solidFill>
              <a:srgbClr val="71c4f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Rectangle 54"/>
          <p:cNvSpPr/>
          <p:nvPr/>
        </p:nvSpPr>
        <p:spPr>
          <a:xfrm>
            <a:off x="108000" y="230040"/>
            <a:ext cx="8567640" cy="73080"/>
          </a:xfrm>
          <a:prstGeom prst="rect">
            <a:avLst/>
          </a:prstGeom>
          <a:solidFill>
            <a:srgbClr val="007b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Line 131"/>
          <p:cNvSpPr/>
          <p:nvPr/>
        </p:nvSpPr>
        <p:spPr>
          <a:xfrm flipH="1">
            <a:off x="108000" y="195120"/>
            <a:ext cx="8640720" cy="0"/>
          </a:xfrm>
          <a:prstGeom prst="line">
            <a:avLst/>
          </a:prstGeom>
          <a:ln w="15840">
            <a:solidFill>
              <a:srgbClr val="71c4f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" name="Picture 132" descr="rabot"/>
          <p:cNvPicPr/>
          <p:nvPr/>
        </p:nvPicPr>
        <p:blipFill>
          <a:blip r:embed="rId4"/>
          <a:stretch/>
        </p:blipFill>
        <p:spPr>
          <a:xfrm>
            <a:off x="179280" y="0"/>
            <a:ext cx="1225800" cy="919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4" name="Прямоугольник 22"/>
          <p:cNvGrpSpPr/>
          <p:nvPr/>
        </p:nvGrpSpPr>
        <p:grpSpPr>
          <a:xfrm>
            <a:off x="646200" y="701640"/>
            <a:ext cx="4803840" cy="3662280"/>
            <a:chOff x="646200" y="701640"/>
            <a:chExt cx="4803840" cy="3662280"/>
          </a:xfrm>
        </p:grpSpPr>
        <p:pic>
          <p:nvPicPr>
            <p:cNvPr id="465" name="Прямоугольник 22" descr=""/>
            <p:cNvPicPr/>
            <p:nvPr/>
          </p:nvPicPr>
          <p:blipFill>
            <a:blip r:embed="rId3"/>
            <a:stretch/>
          </p:blipFill>
          <p:spPr>
            <a:xfrm>
              <a:off x="646200" y="701640"/>
              <a:ext cx="4803840" cy="366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"/>
            <p:cNvSpPr/>
            <p:nvPr/>
          </p:nvSpPr>
          <p:spPr>
            <a:xfrm>
              <a:off x="762120" y="800280"/>
              <a:ext cx="4572000" cy="342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7" name="Блок-схема: процесс 24"/>
          <p:cNvSpPr/>
          <p:nvPr/>
        </p:nvSpPr>
        <p:spPr>
          <a:xfrm rot="19468200">
            <a:off x="396720" y="716040"/>
            <a:ext cx="685800" cy="1522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Блок-схема: процесс 25"/>
          <p:cNvSpPr/>
          <p:nvPr/>
        </p:nvSpPr>
        <p:spPr>
          <a:xfrm flipH="1" rot="2103600">
            <a:off x="5003280" y="703080"/>
            <a:ext cx="649440" cy="1522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1434960" y="1085760"/>
            <a:ext cx="749952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575640" indent="-21276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797040" indent="-20556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987120" indent="-15552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167120" indent="-16416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167120" indent="-16416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167120" indent="-16416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 type="dt" idx="28"/>
          </p:nvPr>
        </p:nvSpPr>
        <p:spPr>
          <a:xfrm>
            <a:off x="3580920" y="472932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 type="ftr" idx="29"/>
          </p:nvPr>
        </p:nvSpPr>
        <p:spPr>
          <a:xfrm>
            <a:off x="5714640" y="4729320"/>
            <a:ext cx="289548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 type="sldNum" idx="30"/>
          </p:nvPr>
        </p:nvSpPr>
        <p:spPr>
          <a:xfrm>
            <a:off x="8613720" y="4729320"/>
            <a:ext cx="45720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E1341-0045-47D7-BCF9-6498BDF90FD8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Пирог 6"/>
          <p:cNvSpPr/>
          <p:nvPr/>
        </p:nvSpPr>
        <p:spPr>
          <a:xfrm>
            <a:off x="-816120" y="-611280"/>
            <a:ext cx="1638360" cy="122868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179640 h 1228680"/>
              <a:gd name="textAreaBottom" fmla="*/ 1049040 h 1228680"/>
            </a:gdLst>
            <a:ahLst/>
            <a:rect l="textAreaLeft" t="textAreaTop" r="textAreaRight" b="textAreaBottom"/>
            <a:pathLst>
              <a:path w="1638887" h="1229165">
                <a:moveTo>
                  <a:pt x="1638887" y="614583"/>
                </a:moveTo>
                <a:lnTo>
                  <a:pt x="1638887" y="614583"/>
                </a:lnTo>
                <a:arcTo wR="819444" hR="614583" stAng="0" swAng="5402120"/>
                <a:lnTo>
                  <a:pt x="819444" y="614583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Овал 7"/>
          <p:cNvSpPr/>
          <p:nvPr/>
        </p:nvSpPr>
        <p:spPr>
          <a:xfrm>
            <a:off x="168120" y="15840"/>
            <a:ext cx="1703520" cy="127656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2" name="Кольцо 10"/>
          <p:cNvGrpSpPr/>
          <p:nvPr/>
        </p:nvGrpSpPr>
        <p:grpSpPr>
          <a:xfrm>
            <a:off x="212760" y="712800"/>
            <a:ext cx="1073160" cy="1012680"/>
            <a:chOff x="212760" y="712800"/>
            <a:chExt cx="1073160" cy="1012680"/>
          </a:xfrm>
        </p:grpSpPr>
        <p:pic>
          <p:nvPicPr>
            <p:cNvPr id="51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212760" y="712800"/>
              <a:ext cx="1073160" cy="101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4" name=""/>
            <p:cNvSpPr/>
            <p:nvPr/>
          </p:nvSpPr>
          <p:spPr>
            <a:xfrm rot="2315400">
              <a:off x="347400" y="912600"/>
              <a:ext cx="795240" cy="58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5" name="Прямоугольник 11"/>
          <p:cNvSpPr/>
          <p:nvPr/>
        </p:nvSpPr>
        <p:spPr>
          <a:xfrm>
            <a:off x="1012680" y="0"/>
            <a:ext cx="8131320" cy="5143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Прямоугольник 14"/>
          <p:cNvSpPr/>
          <p:nvPr/>
        </p:nvSpPr>
        <p:spPr>
          <a:xfrm>
            <a:off x="1014480" y="0"/>
            <a:ext cx="73080" cy="51436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46"/>
          <p:cNvSpPr/>
          <p:nvPr/>
        </p:nvSpPr>
        <p:spPr>
          <a:xfrm flipH="1">
            <a:off x="2086920" y="4840200"/>
            <a:ext cx="6948360" cy="270000"/>
          </a:xfrm>
          <a:prstGeom prst="rect">
            <a:avLst/>
          </a:prstGeom>
          <a:solidFill>
            <a:srgbClr val="007b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Line 48"/>
          <p:cNvSpPr/>
          <p:nvPr/>
        </p:nvSpPr>
        <p:spPr>
          <a:xfrm flipV="1">
            <a:off x="1908000" y="4840200"/>
            <a:ext cx="0" cy="270000"/>
          </a:xfrm>
          <a:prstGeom prst="line">
            <a:avLst/>
          </a:prstGeom>
          <a:ln w="15840">
            <a:solidFill>
              <a:srgbClr val="71c4f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57"/>
          <p:cNvSpPr/>
          <p:nvPr/>
        </p:nvSpPr>
        <p:spPr>
          <a:xfrm flipH="1">
            <a:off x="2050200" y="4840200"/>
            <a:ext cx="71640" cy="270000"/>
          </a:xfrm>
          <a:prstGeom prst="rect">
            <a:avLst/>
          </a:prstGeom>
          <a:solidFill>
            <a:srgbClr val="e374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55"/>
          <p:cNvSpPr/>
          <p:nvPr/>
        </p:nvSpPr>
        <p:spPr>
          <a:xfrm>
            <a:off x="1440" y="141120"/>
            <a:ext cx="9142560" cy="5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Line 129"/>
          <p:cNvSpPr/>
          <p:nvPr/>
        </p:nvSpPr>
        <p:spPr>
          <a:xfrm flipV="1">
            <a:off x="108000" y="4840200"/>
            <a:ext cx="0" cy="270000"/>
          </a:xfrm>
          <a:prstGeom prst="line">
            <a:avLst/>
          </a:prstGeom>
          <a:ln w="15840">
            <a:solidFill>
              <a:srgbClr val="71c4f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54"/>
          <p:cNvSpPr/>
          <p:nvPr/>
        </p:nvSpPr>
        <p:spPr>
          <a:xfrm>
            <a:off x="108000" y="230040"/>
            <a:ext cx="8567640" cy="73080"/>
          </a:xfrm>
          <a:prstGeom prst="rect">
            <a:avLst/>
          </a:prstGeom>
          <a:solidFill>
            <a:srgbClr val="007b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Line 131"/>
          <p:cNvSpPr/>
          <p:nvPr/>
        </p:nvSpPr>
        <p:spPr>
          <a:xfrm flipH="1">
            <a:off x="108000" y="195120"/>
            <a:ext cx="8640720" cy="0"/>
          </a:xfrm>
          <a:prstGeom prst="line">
            <a:avLst/>
          </a:prstGeom>
          <a:ln w="15840">
            <a:solidFill>
              <a:srgbClr val="71c4f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4" name="Picture 132" descr="rabot"/>
          <p:cNvPicPr/>
          <p:nvPr/>
        </p:nvPicPr>
        <p:blipFill>
          <a:blip r:embed="rId4"/>
          <a:stretch/>
        </p:blipFill>
        <p:spPr>
          <a:xfrm>
            <a:off x="179280" y="0"/>
            <a:ext cx="1225800" cy="919080"/>
          </a:xfrm>
          <a:prstGeom prst="rect">
            <a:avLst/>
          </a:prstGeom>
          <a:ln w="0">
            <a:noFill/>
          </a:ln>
        </p:spPr>
      </p:pic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1434960" y="1085760"/>
            <a:ext cx="749952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575640" indent="-21276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797040" indent="-20556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987120" indent="-15552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167120" indent="-16416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167120" indent="-16416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167120" indent="-16416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 type="dt" idx="31"/>
          </p:nvPr>
        </p:nvSpPr>
        <p:spPr>
          <a:xfrm>
            <a:off x="3580920" y="472932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 type="ftr" idx="32"/>
          </p:nvPr>
        </p:nvSpPr>
        <p:spPr>
          <a:xfrm>
            <a:off x="5714640" y="4729320"/>
            <a:ext cx="289548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 type="sldNum" idx="33"/>
          </p:nvPr>
        </p:nvSpPr>
        <p:spPr>
          <a:xfrm>
            <a:off x="8613720" y="4729320"/>
            <a:ext cx="45720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F345A-C435-44DA-9794-3E74C8D11CEF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Пирог 6"/>
          <p:cNvSpPr/>
          <p:nvPr/>
        </p:nvSpPr>
        <p:spPr>
          <a:xfrm>
            <a:off x="-816120" y="-611280"/>
            <a:ext cx="1638360" cy="122868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179640 h 1228680"/>
              <a:gd name="textAreaBottom" fmla="*/ 1049040 h 1228680"/>
            </a:gdLst>
            <a:ahLst/>
            <a:rect l="textAreaLeft" t="textAreaTop" r="textAreaRight" b="textAreaBottom"/>
            <a:pathLst>
              <a:path w="1638887" h="1229165">
                <a:moveTo>
                  <a:pt x="1638887" y="614583"/>
                </a:moveTo>
                <a:lnTo>
                  <a:pt x="1638887" y="614583"/>
                </a:lnTo>
                <a:arcTo wR="819444" hR="614583" stAng="0" swAng="5402120"/>
                <a:lnTo>
                  <a:pt x="819444" y="614583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Овал 7"/>
          <p:cNvSpPr/>
          <p:nvPr/>
        </p:nvSpPr>
        <p:spPr>
          <a:xfrm>
            <a:off x="168120" y="15840"/>
            <a:ext cx="1703520" cy="127656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8" name="Кольцо 10"/>
          <p:cNvGrpSpPr/>
          <p:nvPr/>
        </p:nvGrpSpPr>
        <p:grpSpPr>
          <a:xfrm>
            <a:off x="212760" y="712800"/>
            <a:ext cx="1073160" cy="1012680"/>
            <a:chOff x="212760" y="712800"/>
            <a:chExt cx="1073160" cy="1012680"/>
          </a:xfrm>
        </p:grpSpPr>
        <p:pic>
          <p:nvPicPr>
            <p:cNvPr id="569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212760" y="712800"/>
              <a:ext cx="1073160" cy="101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0" name=""/>
            <p:cNvSpPr/>
            <p:nvPr/>
          </p:nvSpPr>
          <p:spPr>
            <a:xfrm rot="2315400">
              <a:off x="347400" y="912600"/>
              <a:ext cx="795240" cy="58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1" name="Прямоугольник 11"/>
          <p:cNvSpPr/>
          <p:nvPr/>
        </p:nvSpPr>
        <p:spPr>
          <a:xfrm>
            <a:off x="1012680" y="0"/>
            <a:ext cx="8131320" cy="5143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Прямоугольник 14"/>
          <p:cNvSpPr/>
          <p:nvPr/>
        </p:nvSpPr>
        <p:spPr>
          <a:xfrm>
            <a:off x="1014480" y="0"/>
            <a:ext cx="73080" cy="51436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Rectangle 46"/>
          <p:cNvSpPr/>
          <p:nvPr/>
        </p:nvSpPr>
        <p:spPr>
          <a:xfrm flipH="1">
            <a:off x="2086920" y="4840200"/>
            <a:ext cx="6948360" cy="270000"/>
          </a:xfrm>
          <a:prstGeom prst="rect">
            <a:avLst/>
          </a:prstGeom>
          <a:solidFill>
            <a:srgbClr val="007b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Line 48"/>
          <p:cNvSpPr/>
          <p:nvPr/>
        </p:nvSpPr>
        <p:spPr>
          <a:xfrm flipV="1">
            <a:off x="1908000" y="4840200"/>
            <a:ext cx="0" cy="270000"/>
          </a:xfrm>
          <a:prstGeom prst="line">
            <a:avLst/>
          </a:prstGeom>
          <a:ln w="15840">
            <a:solidFill>
              <a:srgbClr val="71c4f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Rectangle 57"/>
          <p:cNvSpPr/>
          <p:nvPr/>
        </p:nvSpPr>
        <p:spPr>
          <a:xfrm flipH="1">
            <a:off x="2050200" y="4840200"/>
            <a:ext cx="71640" cy="270000"/>
          </a:xfrm>
          <a:prstGeom prst="rect">
            <a:avLst/>
          </a:prstGeom>
          <a:solidFill>
            <a:srgbClr val="e374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Rectangle 55"/>
          <p:cNvSpPr/>
          <p:nvPr/>
        </p:nvSpPr>
        <p:spPr>
          <a:xfrm>
            <a:off x="1440" y="141120"/>
            <a:ext cx="9142560" cy="5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Line 129"/>
          <p:cNvSpPr/>
          <p:nvPr/>
        </p:nvSpPr>
        <p:spPr>
          <a:xfrm flipV="1">
            <a:off x="108000" y="4840200"/>
            <a:ext cx="0" cy="270000"/>
          </a:xfrm>
          <a:prstGeom prst="line">
            <a:avLst/>
          </a:prstGeom>
          <a:ln w="15840">
            <a:solidFill>
              <a:srgbClr val="71c4f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Rectangle 54"/>
          <p:cNvSpPr/>
          <p:nvPr/>
        </p:nvSpPr>
        <p:spPr>
          <a:xfrm>
            <a:off x="108000" y="230040"/>
            <a:ext cx="8567640" cy="73080"/>
          </a:xfrm>
          <a:prstGeom prst="rect">
            <a:avLst/>
          </a:prstGeom>
          <a:solidFill>
            <a:srgbClr val="007b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Line 131"/>
          <p:cNvSpPr/>
          <p:nvPr/>
        </p:nvSpPr>
        <p:spPr>
          <a:xfrm flipH="1">
            <a:off x="108000" y="195120"/>
            <a:ext cx="8640720" cy="0"/>
          </a:xfrm>
          <a:prstGeom prst="line">
            <a:avLst/>
          </a:prstGeom>
          <a:ln w="15840">
            <a:solidFill>
              <a:srgbClr val="71c4f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0" name="Picture 132" descr="rabot"/>
          <p:cNvPicPr/>
          <p:nvPr/>
        </p:nvPicPr>
        <p:blipFill>
          <a:blip r:embed="rId4"/>
          <a:stretch/>
        </p:blipFill>
        <p:spPr>
          <a:xfrm>
            <a:off x="179280" y="0"/>
            <a:ext cx="1225800" cy="919080"/>
          </a:xfrm>
          <a:prstGeom prst="rect">
            <a:avLst/>
          </a:prstGeom>
          <a:ln w="0">
            <a:noFill/>
          </a:ln>
        </p:spPr>
      </p:pic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1434960" y="1085760"/>
            <a:ext cx="749952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575640" indent="-21276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797040" indent="-20556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987120" indent="-15552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167120" indent="-16416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167120" indent="-16416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167120" indent="-16416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 type="dt" idx="34"/>
          </p:nvPr>
        </p:nvSpPr>
        <p:spPr>
          <a:xfrm>
            <a:off x="3580920" y="472932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 type="ftr" idx="35"/>
          </p:nvPr>
        </p:nvSpPr>
        <p:spPr>
          <a:xfrm>
            <a:off x="5714640" y="4729320"/>
            <a:ext cx="289548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5"/>
          <p:cNvSpPr>
            <a:spLocks noGrp="1"/>
          </p:cNvSpPr>
          <p:nvPr>
            <p:ph type="sldNum" idx="36"/>
          </p:nvPr>
        </p:nvSpPr>
        <p:spPr>
          <a:xfrm>
            <a:off x="8613720" y="4729320"/>
            <a:ext cx="45720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A4456-1005-4839-84BA-183451AC6191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Пирог 6"/>
          <p:cNvSpPr/>
          <p:nvPr/>
        </p:nvSpPr>
        <p:spPr>
          <a:xfrm>
            <a:off x="-816120" y="-611280"/>
            <a:ext cx="1638360" cy="122868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179640 h 1228680"/>
              <a:gd name="textAreaBottom" fmla="*/ 1049040 h 1228680"/>
            </a:gdLst>
            <a:ahLst/>
            <a:rect l="textAreaLeft" t="textAreaTop" r="textAreaRight" b="textAreaBottom"/>
            <a:pathLst>
              <a:path w="1638887" h="1229165">
                <a:moveTo>
                  <a:pt x="1638887" y="614583"/>
                </a:moveTo>
                <a:lnTo>
                  <a:pt x="1638887" y="614583"/>
                </a:lnTo>
                <a:arcTo wR="819444" hR="614583" stAng="0" swAng="5402120"/>
                <a:lnTo>
                  <a:pt x="819444" y="614583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Овал 7"/>
          <p:cNvSpPr/>
          <p:nvPr/>
        </p:nvSpPr>
        <p:spPr>
          <a:xfrm>
            <a:off x="168120" y="15840"/>
            <a:ext cx="1703520" cy="127656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Кольцо 10"/>
          <p:cNvGrpSpPr/>
          <p:nvPr/>
        </p:nvGrpSpPr>
        <p:grpSpPr>
          <a:xfrm>
            <a:off x="212760" y="712800"/>
            <a:ext cx="1073160" cy="1012680"/>
            <a:chOff x="212760" y="712800"/>
            <a:chExt cx="1073160" cy="1012680"/>
          </a:xfrm>
        </p:grpSpPr>
        <p:pic>
          <p:nvPicPr>
            <p:cNvPr id="59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212760" y="712800"/>
              <a:ext cx="1073160" cy="101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 rot="2315400">
              <a:off x="347400" y="912600"/>
              <a:ext cx="795240" cy="58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Прямоугольник 11"/>
          <p:cNvSpPr/>
          <p:nvPr/>
        </p:nvSpPr>
        <p:spPr>
          <a:xfrm>
            <a:off x="1012680" y="0"/>
            <a:ext cx="8131320" cy="5143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14"/>
          <p:cNvSpPr/>
          <p:nvPr/>
        </p:nvSpPr>
        <p:spPr>
          <a:xfrm>
            <a:off x="1014480" y="0"/>
            <a:ext cx="73080" cy="51436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46"/>
          <p:cNvSpPr/>
          <p:nvPr/>
        </p:nvSpPr>
        <p:spPr>
          <a:xfrm flipH="1">
            <a:off x="2086920" y="4840200"/>
            <a:ext cx="6948360" cy="270000"/>
          </a:xfrm>
          <a:prstGeom prst="rect">
            <a:avLst/>
          </a:prstGeom>
          <a:solidFill>
            <a:srgbClr val="007b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48"/>
          <p:cNvSpPr/>
          <p:nvPr/>
        </p:nvSpPr>
        <p:spPr>
          <a:xfrm flipV="1">
            <a:off x="1908000" y="4840200"/>
            <a:ext cx="0" cy="270000"/>
          </a:xfrm>
          <a:prstGeom prst="line">
            <a:avLst/>
          </a:prstGeom>
          <a:ln w="15840">
            <a:solidFill>
              <a:srgbClr val="71c4f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57"/>
          <p:cNvSpPr/>
          <p:nvPr/>
        </p:nvSpPr>
        <p:spPr>
          <a:xfrm flipH="1">
            <a:off x="2050200" y="4840200"/>
            <a:ext cx="71640" cy="270000"/>
          </a:xfrm>
          <a:prstGeom prst="rect">
            <a:avLst/>
          </a:prstGeom>
          <a:solidFill>
            <a:srgbClr val="e374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55"/>
          <p:cNvSpPr/>
          <p:nvPr/>
        </p:nvSpPr>
        <p:spPr>
          <a:xfrm>
            <a:off x="1440" y="141120"/>
            <a:ext cx="9142560" cy="5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129"/>
          <p:cNvSpPr/>
          <p:nvPr/>
        </p:nvSpPr>
        <p:spPr>
          <a:xfrm flipV="1">
            <a:off x="108000" y="4840200"/>
            <a:ext cx="0" cy="270000"/>
          </a:xfrm>
          <a:prstGeom prst="line">
            <a:avLst/>
          </a:prstGeom>
          <a:ln w="15840">
            <a:solidFill>
              <a:srgbClr val="71c4f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54"/>
          <p:cNvSpPr/>
          <p:nvPr/>
        </p:nvSpPr>
        <p:spPr>
          <a:xfrm>
            <a:off x="108000" y="230040"/>
            <a:ext cx="8567640" cy="73080"/>
          </a:xfrm>
          <a:prstGeom prst="rect">
            <a:avLst/>
          </a:prstGeom>
          <a:solidFill>
            <a:srgbClr val="007b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131"/>
          <p:cNvSpPr/>
          <p:nvPr/>
        </p:nvSpPr>
        <p:spPr>
          <a:xfrm flipH="1">
            <a:off x="108000" y="195120"/>
            <a:ext cx="8640720" cy="0"/>
          </a:xfrm>
          <a:prstGeom prst="line">
            <a:avLst/>
          </a:prstGeom>
          <a:ln w="15840">
            <a:solidFill>
              <a:srgbClr val="71c4f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132" descr="rabot"/>
          <p:cNvPicPr/>
          <p:nvPr/>
        </p:nvPicPr>
        <p:blipFill>
          <a:blip r:embed="rId4"/>
          <a:stretch/>
        </p:blipFill>
        <p:spPr>
          <a:xfrm>
            <a:off x="179280" y="0"/>
            <a:ext cx="1225800" cy="919080"/>
          </a:xfrm>
          <a:prstGeom prst="rect">
            <a:avLst/>
          </a:prstGeom>
          <a:ln w="0">
            <a:noFill/>
          </a:ln>
        </p:spPr>
      </p:pic>
      <p:grpSp>
        <p:nvGrpSpPr>
          <p:cNvPr id="71" name="Овал 22"/>
          <p:cNvGrpSpPr/>
          <p:nvPr/>
        </p:nvGrpSpPr>
        <p:grpSpPr>
          <a:xfrm>
            <a:off x="914400" y="1054080"/>
            <a:ext cx="231840" cy="177840"/>
            <a:chOff x="914400" y="1054080"/>
            <a:chExt cx="231840" cy="177840"/>
          </a:xfrm>
        </p:grpSpPr>
        <p:pic>
          <p:nvPicPr>
            <p:cNvPr id="72" name="Овал 22" descr=""/>
            <p:cNvPicPr/>
            <p:nvPr/>
          </p:nvPicPr>
          <p:blipFill>
            <a:blip r:embed="rId5"/>
            <a:stretch/>
          </p:blipFill>
          <p:spPr>
            <a:xfrm>
              <a:off x="914400" y="1054080"/>
              <a:ext cx="231840" cy="17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"/>
            <p:cNvSpPr/>
            <p:nvPr/>
          </p:nvSpPr>
          <p:spPr>
            <a:xfrm>
              <a:off x="952560" y="1082520"/>
              <a:ext cx="149040" cy="11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Овал 24"/>
          <p:cNvSpPr/>
          <p:nvPr/>
        </p:nvSpPr>
        <p:spPr>
          <a:xfrm>
            <a:off x="1157400" y="1008000"/>
            <a:ext cx="63360" cy="4932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5"/>
          <p:cNvSpPr/>
          <p:nvPr/>
        </p:nvSpPr>
        <p:spPr>
          <a:xfrm>
            <a:off x="0" y="1220760"/>
            <a:ext cx="9144000" cy="2430360"/>
          </a:xfrm>
          <a:prstGeom prst="rect">
            <a:avLst/>
          </a:prstGeom>
          <a:gradFill rotWithShape="0">
            <a:gsLst>
              <a:gs pos="0">
                <a:srgbClr val="71c4f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6"/>
          <p:cNvSpPr/>
          <p:nvPr/>
        </p:nvSpPr>
        <p:spPr>
          <a:xfrm>
            <a:off x="0" y="1222200"/>
            <a:ext cx="9144000" cy="2646360"/>
          </a:xfrm>
          <a:prstGeom prst="rect">
            <a:avLst/>
          </a:prstGeom>
          <a:blipFill rotWithShape="0">
            <a:blip r:embed="rId6">
              <a:alphaModFix amt="45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"/>
          <p:cNvSpPr/>
          <p:nvPr/>
        </p:nvSpPr>
        <p:spPr>
          <a:xfrm>
            <a:off x="0" y="1112760"/>
            <a:ext cx="9144000" cy="109440"/>
          </a:xfrm>
          <a:prstGeom prst="rect">
            <a:avLst/>
          </a:prstGeom>
          <a:solidFill>
            <a:srgbClr val="244e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9"/>
          <p:cNvSpPr/>
          <p:nvPr/>
        </p:nvSpPr>
        <p:spPr>
          <a:xfrm>
            <a:off x="0" y="3867120"/>
            <a:ext cx="9144000" cy="108000"/>
          </a:xfrm>
          <a:prstGeom prst="rect">
            <a:avLst/>
          </a:prstGeom>
          <a:solidFill>
            <a:srgbClr val="244e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12"/>
          <p:cNvSpPr/>
          <p:nvPr/>
        </p:nvSpPr>
        <p:spPr>
          <a:xfrm>
            <a:off x="755640" y="1816200"/>
            <a:ext cx="7561440" cy="0"/>
          </a:xfrm>
          <a:prstGeom prst="line">
            <a:avLst/>
          </a:prstGeom>
          <a:ln w="15840">
            <a:solidFill>
              <a:srgbClr val="71c4f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25" descr="GEARS4"/>
          <p:cNvPicPr/>
          <p:nvPr/>
        </p:nvPicPr>
        <p:blipFill>
          <a:blip r:embed="rId7"/>
          <a:stretch/>
        </p:blipFill>
        <p:spPr>
          <a:xfrm>
            <a:off x="7812000" y="195120"/>
            <a:ext cx="1017720" cy="8017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7" descr="rabot"/>
          <p:cNvPicPr/>
          <p:nvPr/>
        </p:nvPicPr>
        <p:blipFill>
          <a:blip r:embed="rId8"/>
          <a:stretch/>
        </p:blipFill>
        <p:spPr>
          <a:xfrm>
            <a:off x="250920" y="2895480"/>
            <a:ext cx="1800000" cy="13510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4" descr="06"/>
          <p:cNvPicPr/>
          <p:nvPr/>
        </p:nvPicPr>
        <p:blipFill>
          <a:blip r:embed="rId9"/>
          <a:stretch/>
        </p:blipFill>
        <p:spPr>
          <a:xfrm>
            <a:off x="826920" y="3975120"/>
            <a:ext cx="1081080" cy="5382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1434960" y="1085760"/>
            <a:ext cx="749952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575640" indent="-21276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797040" indent="-20556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987120" indent="-15552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167120" indent="-16416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167120" indent="-16416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167120" indent="-16416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4"/>
          </p:nvPr>
        </p:nvSpPr>
        <p:spPr>
          <a:xfrm>
            <a:off x="3580920" y="472932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5"/>
          </p:nvPr>
        </p:nvSpPr>
        <p:spPr>
          <a:xfrm>
            <a:off x="5714640" y="4729320"/>
            <a:ext cx="289548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6"/>
          </p:nvPr>
        </p:nvSpPr>
        <p:spPr>
          <a:xfrm>
            <a:off x="8613720" y="4729320"/>
            <a:ext cx="45720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72E5C-1A31-4F41-AC1A-74BD9FC5BB7F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Пирог 6"/>
          <p:cNvSpPr/>
          <p:nvPr/>
        </p:nvSpPr>
        <p:spPr>
          <a:xfrm>
            <a:off x="-816120" y="-611280"/>
            <a:ext cx="1638360" cy="122868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179640 h 1228680"/>
              <a:gd name="textAreaBottom" fmla="*/ 1049040 h 1228680"/>
            </a:gdLst>
            <a:ahLst/>
            <a:rect l="textAreaLeft" t="textAreaTop" r="textAreaRight" b="textAreaBottom"/>
            <a:pathLst>
              <a:path w="1638887" h="1229165">
                <a:moveTo>
                  <a:pt x="1638887" y="614583"/>
                </a:moveTo>
                <a:lnTo>
                  <a:pt x="1638887" y="614583"/>
                </a:lnTo>
                <a:arcTo wR="819444" hR="614583" stAng="0" swAng="5402120"/>
                <a:lnTo>
                  <a:pt x="819444" y="614583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Овал 7"/>
          <p:cNvSpPr/>
          <p:nvPr/>
        </p:nvSpPr>
        <p:spPr>
          <a:xfrm>
            <a:off x="168120" y="15840"/>
            <a:ext cx="1703520" cy="127656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Кольцо 10"/>
          <p:cNvGrpSpPr/>
          <p:nvPr/>
        </p:nvGrpSpPr>
        <p:grpSpPr>
          <a:xfrm>
            <a:off x="212760" y="712800"/>
            <a:ext cx="1073160" cy="1012680"/>
            <a:chOff x="212760" y="712800"/>
            <a:chExt cx="1073160" cy="1012680"/>
          </a:xfrm>
        </p:grpSpPr>
        <p:pic>
          <p:nvPicPr>
            <p:cNvPr id="127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212760" y="712800"/>
              <a:ext cx="1073160" cy="101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"/>
            <p:cNvSpPr/>
            <p:nvPr/>
          </p:nvSpPr>
          <p:spPr>
            <a:xfrm rot="2315400">
              <a:off x="347400" y="912600"/>
              <a:ext cx="795240" cy="58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Прямоугольник 11"/>
          <p:cNvSpPr/>
          <p:nvPr/>
        </p:nvSpPr>
        <p:spPr>
          <a:xfrm>
            <a:off x="1012680" y="0"/>
            <a:ext cx="8131320" cy="5143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Прямоугольник 14"/>
          <p:cNvSpPr/>
          <p:nvPr/>
        </p:nvSpPr>
        <p:spPr>
          <a:xfrm>
            <a:off x="1014480" y="0"/>
            <a:ext cx="73080" cy="51436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46"/>
          <p:cNvSpPr/>
          <p:nvPr/>
        </p:nvSpPr>
        <p:spPr>
          <a:xfrm flipH="1">
            <a:off x="2086920" y="4840200"/>
            <a:ext cx="6948360" cy="270000"/>
          </a:xfrm>
          <a:prstGeom prst="rect">
            <a:avLst/>
          </a:prstGeom>
          <a:solidFill>
            <a:srgbClr val="007b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48"/>
          <p:cNvSpPr/>
          <p:nvPr/>
        </p:nvSpPr>
        <p:spPr>
          <a:xfrm flipV="1">
            <a:off x="1908000" y="4840200"/>
            <a:ext cx="0" cy="270000"/>
          </a:xfrm>
          <a:prstGeom prst="line">
            <a:avLst/>
          </a:prstGeom>
          <a:ln w="15840">
            <a:solidFill>
              <a:srgbClr val="71c4f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57"/>
          <p:cNvSpPr/>
          <p:nvPr/>
        </p:nvSpPr>
        <p:spPr>
          <a:xfrm flipH="1">
            <a:off x="2050200" y="4840200"/>
            <a:ext cx="71640" cy="270000"/>
          </a:xfrm>
          <a:prstGeom prst="rect">
            <a:avLst/>
          </a:prstGeom>
          <a:solidFill>
            <a:srgbClr val="e374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55"/>
          <p:cNvSpPr/>
          <p:nvPr/>
        </p:nvSpPr>
        <p:spPr>
          <a:xfrm>
            <a:off x="1440" y="141120"/>
            <a:ext cx="9142560" cy="5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129"/>
          <p:cNvSpPr/>
          <p:nvPr/>
        </p:nvSpPr>
        <p:spPr>
          <a:xfrm flipV="1">
            <a:off x="108000" y="4840200"/>
            <a:ext cx="0" cy="270000"/>
          </a:xfrm>
          <a:prstGeom prst="line">
            <a:avLst/>
          </a:prstGeom>
          <a:ln w="15840">
            <a:solidFill>
              <a:srgbClr val="71c4f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54"/>
          <p:cNvSpPr/>
          <p:nvPr/>
        </p:nvSpPr>
        <p:spPr>
          <a:xfrm>
            <a:off x="108000" y="230040"/>
            <a:ext cx="8567640" cy="73080"/>
          </a:xfrm>
          <a:prstGeom prst="rect">
            <a:avLst/>
          </a:prstGeom>
          <a:solidFill>
            <a:srgbClr val="007b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131"/>
          <p:cNvSpPr/>
          <p:nvPr/>
        </p:nvSpPr>
        <p:spPr>
          <a:xfrm flipH="1">
            <a:off x="108000" y="195120"/>
            <a:ext cx="8640720" cy="0"/>
          </a:xfrm>
          <a:prstGeom prst="line">
            <a:avLst/>
          </a:prstGeom>
          <a:ln w="15840">
            <a:solidFill>
              <a:srgbClr val="71c4f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132" descr="rabot"/>
          <p:cNvPicPr/>
          <p:nvPr/>
        </p:nvPicPr>
        <p:blipFill>
          <a:blip r:embed="rId4"/>
          <a:stretch/>
        </p:blipFill>
        <p:spPr>
          <a:xfrm>
            <a:off x="179280" y="0"/>
            <a:ext cx="1225800" cy="91908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1434960" y="1085760"/>
            <a:ext cx="749952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575640" indent="-21276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797040" indent="-20556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987120" indent="-15552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167120" indent="-16416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167120" indent="-16416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167120" indent="-16416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7"/>
          </p:nvPr>
        </p:nvSpPr>
        <p:spPr>
          <a:xfrm>
            <a:off x="3580920" y="472932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8"/>
          </p:nvPr>
        </p:nvSpPr>
        <p:spPr>
          <a:xfrm>
            <a:off x="5714640" y="4729320"/>
            <a:ext cx="289548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9"/>
          </p:nvPr>
        </p:nvSpPr>
        <p:spPr>
          <a:xfrm>
            <a:off x="8613720" y="4729320"/>
            <a:ext cx="45720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8C765-87B0-45A2-BA62-F56252848B70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Прямоугольник 22"/>
          <p:cNvSpPr/>
          <p:nvPr/>
        </p:nvSpPr>
        <p:spPr>
          <a:xfrm>
            <a:off x="2282760" y="0"/>
            <a:ext cx="6858000" cy="5143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Прямоугольник 24"/>
          <p:cNvSpPr/>
          <p:nvPr/>
        </p:nvSpPr>
        <p:spPr>
          <a:xfrm>
            <a:off x="2286000" y="0"/>
            <a:ext cx="76320" cy="51436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Овал 25"/>
          <p:cNvGrpSpPr/>
          <p:nvPr/>
        </p:nvGrpSpPr>
        <p:grpSpPr>
          <a:xfrm>
            <a:off x="2163600" y="2103480"/>
            <a:ext cx="231840" cy="176040"/>
            <a:chOff x="2163600" y="2103480"/>
            <a:chExt cx="231840" cy="176040"/>
          </a:xfrm>
        </p:grpSpPr>
        <p:pic>
          <p:nvPicPr>
            <p:cNvPr id="183" name="Овал 25" descr=""/>
            <p:cNvPicPr/>
            <p:nvPr/>
          </p:nvPicPr>
          <p:blipFill>
            <a:blip r:embed="rId3"/>
            <a:stretch/>
          </p:blipFill>
          <p:spPr>
            <a:xfrm>
              <a:off x="2163600" y="2103480"/>
              <a:ext cx="231840" cy="17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"/>
            <p:cNvSpPr/>
            <p:nvPr/>
          </p:nvSpPr>
          <p:spPr>
            <a:xfrm>
              <a:off x="2203560" y="2133720"/>
              <a:ext cx="147600" cy="11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" name="Овал 26"/>
          <p:cNvSpPr/>
          <p:nvPr/>
        </p:nvSpPr>
        <p:spPr>
          <a:xfrm>
            <a:off x="2408400" y="2058840"/>
            <a:ext cx="63360" cy="4932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1434960" y="1085760"/>
            <a:ext cx="749952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575640" indent="-21276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797040" indent="-20556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987120" indent="-15552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167120" indent="-16416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167120" indent="-16416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167120" indent="-16416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 type="dt" idx="10"/>
          </p:nvPr>
        </p:nvSpPr>
        <p:spPr>
          <a:xfrm>
            <a:off x="3580920" y="472932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 type="ftr" idx="11"/>
          </p:nvPr>
        </p:nvSpPr>
        <p:spPr>
          <a:xfrm>
            <a:off x="5714640" y="4729320"/>
            <a:ext cx="289548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 type="sldNum" idx="12"/>
          </p:nvPr>
        </p:nvSpPr>
        <p:spPr>
          <a:xfrm>
            <a:off x="8613720" y="4729320"/>
            <a:ext cx="45720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D1547-A02B-4249-9D20-C2601B00619A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Пирог 6"/>
          <p:cNvSpPr/>
          <p:nvPr/>
        </p:nvSpPr>
        <p:spPr>
          <a:xfrm>
            <a:off x="-816120" y="-611280"/>
            <a:ext cx="1638360" cy="122868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179640 h 1228680"/>
              <a:gd name="textAreaBottom" fmla="*/ 1049040 h 1228680"/>
            </a:gdLst>
            <a:ahLst/>
            <a:rect l="textAreaLeft" t="textAreaTop" r="textAreaRight" b="textAreaBottom"/>
            <a:pathLst>
              <a:path w="1638887" h="1229165">
                <a:moveTo>
                  <a:pt x="1638887" y="614583"/>
                </a:moveTo>
                <a:lnTo>
                  <a:pt x="1638887" y="614583"/>
                </a:lnTo>
                <a:arcTo wR="819444" hR="614583" stAng="0" swAng="5402120"/>
                <a:lnTo>
                  <a:pt x="819444" y="614583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Овал 7"/>
          <p:cNvSpPr/>
          <p:nvPr/>
        </p:nvSpPr>
        <p:spPr>
          <a:xfrm>
            <a:off x="168120" y="15840"/>
            <a:ext cx="1703520" cy="127656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" name="Кольцо 10"/>
          <p:cNvGrpSpPr/>
          <p:nvPr/>
        </p:nvGrpSpPr>
        <p:grpSpPr>
          <a:xfrm>
            <a:off x="212760" y="712800"/>
            <a:ext cx="1073160" cy="1012680"/>
            <a:chOff x="212760" y="712800"/>
            <a:chExt cx="1073160" cy="1012680"/>
          </a:xfrm>
        </p:grpSpPr>
        <p:pic>
          <p:nvPicPr>
            <p:cNvPr id="230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212760" y="712800"/>
              <a:ext cx="1073160" cy="101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"/>
            <p:cNvSpPr/>
            <p:nvPr/>
          </p:nvSpPr>
          <p:spPr>
            <a:xfrm rot="2315400">
              <a:off x="347400" y="912600"/>
              <a:ext cx="795240" cy="58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Прямоугольник 11"/>
          <p:cNvSpPr/>
          <p:nvPr/>
        </p:nvSpPr>
        <p:spPr>
          <a:xfrm>
            <a:off x="1012680" y="0"/>
            <a:ext cx="8131320" cy="5143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Прямоугольник 14"/>
          <p:cNvSpPr/>
          <p:nvPr/>
        </p:nvSpPr>
        <p:spPr>
          <a:xfrm>
            <a:off x="1014480" y="0"/>
            <a:ext cx="73080" cy="51436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46"/>
          <p:cNvSpPr/>
          <p:nvPr/>
        </p:nvSpPr>
        <p:spPr>
          <a:xfrm flipH="1">
            <a:off x="2086920" y="4840200"/>
            <a:ext cx="6948360" cy="270000"/>
          </a:xfrm>
          <a:prstGeom prst="rect">
            <a:avLst/>
          </a:prstGeom>
          <a:solidFill>
            <a:srgbClr val="007b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48"/>
          <p:cNvSpPr/>
          <p:nvPr/>
        </p:nvSpPr>
        <p:spPr>
          <a:xfrm flipV="1">
            <a:off x="1908000" y="4840200"/>
            <a:ext cx="0" cy="270000"/>
          </a:xfrm>
          <a:prstGeom prst="line">
            <a:avLst/>
          </a:prstGeom>
          <a:ln w="15840">
            <a:solidFill>
              <a:srgbClr val="71c4f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57"/>
          <p:cNvSpPr/>
          <p:nvPr/>
        </p:nvSpPr>
        <p:spPr>
          <a:xfrm flipH="1">
            <a:off x="2050200" y="4840200"/>
            <a:ext cx="71640" cy="270000"/>
          </a:xfrm>
          <a:prstGeom prst="rect">
            <a:avLst/>
          </a:prstGeom>
          <a:solidFill>
            <a:srgbClr val="e374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55"/>
          <p:cNvSpPr/>
          <p:nvPr/>
        </p:nvSpPr>
        <p:spPr>
          <a:xfrm>
            <a:off x="1440" y="141120"/>
            <a:ext cx="9142560" cy="5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129"/>
          <p:cNvSpPr/>
          <p:nvPr/>
        </p:nvSpPr>
        <p:spPr>
          <a:xfrm flipV="1">
            <a:off x="108000" y="4840200"/>
            <a:ext cx="0" cy="270000"/>
          </a:xfrm>
          <a:prstGeom prst="line">
            <a:avLst/>
          </a:prstGeom>
          <a:ln w="15840">
            <a:solidFill>
              <a:srgbClr val="71c4f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54"/>
          <p:cNvSpPr/>
          <p:nvPr/>
        </p:nvSpPr>
        <p:spPr>
          <a:xfrm>
            <a:off x="108000" y="230040"/>
            <a:ext cx="8567640" cy="73080"/>
          </a:xfrm>
          <a:prstGeom prst="rect">
            <a:avLst/>
          </a:prstGeom>
          <a:solidFill>
            <a:srgbClr val="007b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131"/>
          <p:cNvSpPr/>
          <p:nvPr/>
        </p:nvSpPr>
        <p:spPr>
          <a:xfrm flipH="1">
            <a:off x="108000" y="195120"/>
            <a:ext cx="8640720" cy="0"/>
          </a:xfrm>
          <a:prstGeom prst="line">
            <a:avLst/>
          </a:prstGeom>
          <a:ln w="15840">
            <a:solidFill>
              <a:srgbClr val="71c4f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132" descr="rabot"/>
          <p:cNvPicPr/>
          <p:nvPr/>
        </p:nvPicPr>
        <p:blipFill>
          <a:blip r:embed="rId4"/>
          <a:stretch/>
        </p:blipFill>
        <p:spPr>
          <a:xfrm>
            <a:off x="179280" y="0"/>
            <a:ext cx="1225800" cy="919080"/>
          </a:xfrm>
          <a:prstGeom prst="rect">
            <a:avLst/>
          </a:prstGeom>
          <a:ln w="0">
            <a:noFill/>
          </a:ln>
        </p:spPr>
      </p:pic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1434960" y="1085760"/>
            <a:ext cx="749952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575640" indent="-21276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797040" indent="-20556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987120" indent="-15552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167120" indent="-16416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167120" indent="-16416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167120" indent="-16416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dt" idx="13"/>
          </p:nvPr>
        </p:nvSpPr>
        <p:spPr>
          <a:xfrm>
            <a:off x="3580920" y="472932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 type="ftr" idx="14"/>
          </p:nvPr>
        </p:nvSpPr>
        <p:spPr>
          <a:xfrm>
            <a:off x="5714640" y="4729320"/>
            <a:ext cx="289548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 type="sldNum" idx="15"/>
          </p:nvPr>
        </p:nvSpPr>
        <p:spPr>
          <a:xfrm>
            <a:off x="8613720" y="4729320"/>
            <a:ext cx="45720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EAF3E-A45D-4FA5-BF46-AD6AEECE4A12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1434960" y="1085760"/>
            <a:ext cx="749952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575640" indent="-21276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797040" indent="-20556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987120" indent="-15552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167120" indent="-16416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167120" indent="-16416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167120" indent="-16416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 type="dt" idx="16"/>
          </p:nvPr>
        </p:nvSpPr>
        <p:spPr>
          <a:xfrm>
            <a:off x="3580920" y="472932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 type="ftr" idx="17"/>
          </p:nvPr>
        </p:nvSpPr>
        <p:spPr>
          <a:xfrm>
            <a:off x="5714640" y="4729320"/>
            <a:ext cx="289548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 type="sldNum" idx="18"/>
          </p:nvPr>
        </p:nvSpPr>
        <p:spPr>
          <a:xfrm>
            <a:off x="8613720" y="4729320"/>
            <a:ext cx="45720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3BF8B-E57B-420A-A836-F62BA36C8416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Пирог 6"/>
          <p:cNvSpPr/>
          <p:nvPr/>
        </p:nvSpPr>
        <p:spPr>
          <a:xfrm>
            <a:off x="-816120" y="-611280"/>
            <a:ext cx="1638360" cy="122868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179640 h 1228680"/>
              <a:gd name="textAreaBottom" fmla="*/ 1049040 h 1228680"/>
            </a:gdLst>
            <a:ahLst/>
            <a:rect l="textAreaLeft" t="textAreaTop" r="textAreaRight" b="textAreaBottom"/>
            <a:pathLst>
              <a:path w="1638887" h="1229165">
                <a:moveTo>
                  <a:pt x="1638887" y="614583"/>
                </a:moveTo>
                <a:lnTo>
                  <a:pt x="1638887" y="614583"/>
                </a:lnTo>
                <a:arcTo wR="819444" hR="614583" stAng="0" swAng="5402120"/>
                <a:lnTo>
                  <a:pt x="819444" y="614583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Овал 7"/>
          <p:cNvSpPr/>
          <p:nvPr/>
        </p:nvSpPr>
        <p:spPr>
          <a:xfrm>
            <a:off x="168120" y="15840"/>
            <a:ext cx="1703520" cy="127656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6" name="Кольцо 10"/>
          <p:cNvGrpSpPr/>
          <p:nvPr/>
        </p:nvGrpSpPr>
        <p:grpSpPr>
          <a:xfrm>
            <a:off x="212760" y="712800"/>
            <a:ext cx="1073160" cy="1012680"/>
            <a:chOff x="212760" y="712800"/>
            <a:chExt cx="1073160" cy="1012680"/>
          </a:xfrm>
        </p:grpSpPr>
        <p:pic>
          <p:nvPicPr>
            <p:cNvPr id="327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212760" y="712800"/>
              <a:ext cx="1073160" cy="101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8" name=""/>
            <p:cNvSpPr/>
            <p:nvPr/>
          </p:nvSpPr>
          <p:spPr>
            <a:xfrm rot="2315400">
              <a:off x="347400" y="912600"/>
              <a:ext cx="795240" cy="58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9" name="Прямоугольник 11"/>
          <p:cNvSpPr/>
          <p:nvPr/>
        </p:nvSpPr>
        <p:spPr>
          <a:xfrm>
            <a:off x="1012680" y="0"/>
            <a:ext cx="8131320" cy="5143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Прямоугольник 14"/>
          <p:cNvSpPr/>
          <p:nvPr/>
        </p:nvSpPr>
        <p:spPr>
          <a:xfrm>
            <a:off x="1014480" y="0"/>
            <a:ext cx="73080" cy="51436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46"/>
          <p:cNvSpPr/>
          <p:nvPr/>
        </p:nvSpPr>
        <p:spPr>
          <a:xfrm flipH="1">
            <a:off x="2086920" y="4840200"/>
            <a:ext cx="6948360" cy="270000"/>
          </a:xfrm>
          <a:prstGeom prst="rect">
            <a:avLst/>
          </a:prstGeom>
          <a:solidFill>
            <a:srgbClr val="007b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Line 48"/>
          <p:cNvSpPr/>
          <p:nvPr/>
        </p:nvSpPr>
        <p:spPr>
          <a:xfrm flipV="1">
            <a:off x="1908000" y="4840200"/>
            <a:ext cx="0" cy="270000"/>
          </a:xfrm>
          <a:prstGeom prst="line">
            <a:avLst/>
          </a:prstGeom>
          <a:ln w="15840">
            <a:solidFill>
              <a:srgbClr val="71c4f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57"/>
          <p:cNvSpPr/>
          <p:nvPr/>
        </p:nvSpPr>
        <p:spPr>
          <a:xfrm flipH="1">
            <a:off x="2050200" y="4840200"/>
            <a:ext cx="71640" cy="270000"/>
          </a:xfrm>
          <a:prstGeom prst="rect">
            <a:avLst/>
          </a:prstGeom>
          <a:solidFill>
            <a:srgbClr val="e374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55"/>
          <p:cNvSpPr/>
          <p:nvPr/>
        </p:nvSpPr>
        <p:spPr>
          <a:xfrm>
            <a:off x="1440" y="141120"/>
            <a:ext cx="9142560" cy="5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Line 129"/>
          <p:cNvSpPr/>
          <p:nvPr/>
        </p:nvSpPr>
        <p:spPr>
          <a:xfrm flipV="1">
            <a:off x="108000" y="4840200"/>
            <a:ext cx="0" cy="270000"/>
          </a:xfrm>
          <a:prstGeom prst="line">
            <a:avLst/>
          </a:prstGeom>
          <a:ln w="15840">
            <a:solidFill>
              <a:srgbClr val="71c4f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54"/>
          <p:cNvSpPr/>
          <p:nvPr/>
        </p:nvSpPr>
        <p:spPr>
          <a:xfrm>
            <a:off x="108000" y="230040"/>
            <a:ext cx="8567640" cy="73080"/>
          </a:xfrm>
          <a:prstGeom prst="rect">
            <a:avLst/>
          </a:prstGeom>
          <a:solidFill>
            <a:srgbClr val="007b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Line 131"/>
          <p:cNvSpPr/>
          <p:nvPr/>
        </p:nvSpPr>
        <p:spPr>
          <a:xfrm flipH="1">
            <a:off x="108000" y="195120"/>
            <a:ext cx="8640720" cy="0"/>
          </a:xfrm>
          <a:prstGeom prst="line">
            <a:avLst/>
          </a:prstGeom>
          <a:ln w="15840">
            <a:solidFill>
              <a:srgbClr val="71c4f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Picture 132" descr="rabot"/>
          <p:cNvPicPr/>
          <p:nvPr/>
        </p:nvPicPr>
        <p:blipFill>
          <a:blip r:embed="rId4"/>
          <a:stretch/>
        </p:blipFill>
        <p:spPr>
          <a:xfrm>
            <a:off x="179280" y="0"/>
            <a:ext cx="1225800" cy="919080"/>
          </a:xfrm>
          <a:prstGeom prst="rect">
            <a:avLst/>
          </a:prstGeom>
          <a:ln w="0">
            <a:noFill/>
          </a:ln>
        </p:spPr>
      </p:pic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1434960" y="1085760"/>
            <a:ext cx="749952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575640" indent="-21276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797040" indent="-20556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987120" indent="-15552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167120" indent="-16416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167120" indent="-16416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167120" indent="-16416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 type="dt" idx="19"/>
          </p:nvPr>
        </p:nvSpPr>
        <p:spPr>
          <a:xfrm>
            <a:off x="3580920" y="472932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 type="ftr" idx="20"/>
          </p:nvPr>
        </p:nvSpPr>
        <p:spPr>
          <a:xfrm>
            <a:off x="5714640" y="4729320"/>
            <a:ext cx="289548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 type="sldNum" idx="21"/>
          </p:nvPr>
        </p:nvSpPr>
        <p:spPr>
          <a:xfrm>
            <a:off x="8613720" y="4729320"/>
            <a:ext cx="45720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D718A-DC12-442D-B148-932E88FEBCBC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Прямоугольник 22"/>
          <p:cNvSpPr/>
          <p:nvPr/>
        </p:nvSpPr>
        <p:spPr>
          <a:xfrm>
            <a:off x="1014480" y="0"/>
            <a:ext cx="8129520" cy="5143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Прямоугольник 24"/>
          <p:cNvSpPr/>
          <p:nvPr/>
        </p:nvSpPr>
        <p:spPr>
          <a:xfrm>
            <a:off x="1014480" y="0"/>
            <a:ext cx="73080" cy="51436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1434960" y="1085760"/>
            <a:ext cx="749952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575640" indent="-21276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797040" indent="-20556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987120" indent="-15552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167120" indent="-16416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167120" indent="-16416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167120" indent="-16416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dt" idx="22"/>
          </p:nvPr>
        </p:nvSpPr>
        <p:spPr>
          <a:xfrm>
            <a:off x="3580920" y="472932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 type="ftr" idx="23"/>
          </p:nvPr>
        </p:nvSpPr>
        <p:spPr>
          <a:xfrm>
            <a:off x="5714640" y="4729320"/>
            <a:ext cx="289548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 type="sldNum" idx="24"/>
          </p:nvPr>
        </p:nvSpPr>
        <p:spPr>
          <a:xfrm>
            <a:off x="8613720" y="4729320"/>
            <a:ext cx="45720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558C2-1FC3-4767-B038-C57EE081F258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1434960" y="1085760"/>
            <a:ext cx="749952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575640" indent="-21276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797040" indent="-20556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987120" indent="-15552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167120" indent="-16416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167120" indent="-16416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167120" indent="-16416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 type="dt" idx="25"/>
          </p:nvPr>
        </p:nvSpPr>
        <p:spPr>
          <a:xfrm>
            <a:off x="3580920" y="472932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 type="ftr" idx="26"/>
          </p:nvPr>
        </p:nvSpPr>
        <p:spPr>
          <a:xfrm>
            <a:off x="5714640" y="4729320"/>
            <a:ext cx="289548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 type="sldNum" idx="27"/>
          </p:nvPr>
        </p:nvSpPr>
        <p:spPr>
          <a:xfrm>
            <a:off x="8613720" y="4729320"/>
            <a:ext cx="45720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45F4A-FCE4-4F27-9538-9360975FA438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8.jpeg"/><Relationship Id="rId3" Type="http://schemas.openxmlformats.org/officeDocument/2006/relationships/image" Target="../media/image18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3486240" y="1339920"/>
            <a:ext cx="5657760" cy="13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0000"/>
                </a:solidFill>
                <a:latin typeface="Corbel"/>
              </a:rPr>
              <a:t>Основы воспитания финансовой грамотности детей дошкольного возраста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623" name="Picture 27" descr="http://skazylesa.ru/wp-content/uploads/2018/01/hvfh-photo1.jpg"/>
          <p:cNvPicPr/>
          <p:nvPr/>
        </p:nvPicPr>
        <p:blipFill>
          <a:blip r:embed="rId1"/>
          <a:stretch/>
        </p:blipFill>
        <p:spPr>
          <a:xfrm>
            <a:off x="0" y="0"/>
            <a:ext cx="1785960" cy="1138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571680" y="142560"/>
            <a:ext cx="837216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</a:t>
            </a:r>
            <a:r>
              <a:rPr b="1" lang="ru-RU" sz="2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гра « Кто кем работает?»</a:t>
            </a:r>
            <a:endParaRPr b="0" lang="en-US" sz="25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48" name=""/>
          <p:cNvSpPr txBox="1"/>
          <p:nvPr/>
        </p:nvSpPr>
        <p:spPr>
          <a:xfrm>
            <a:off x="-143280" y="856800"/>
            <a:ext cx="928692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5280" indent="-282600">
              <a:lnSpc>
                <a:spcPct val="90000"/>
              </a:lnSpc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Цель</a:t>
            </a:r>
            <a:r>
              <a:rPr b="0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. На примере сказочных героев закрепить и расширить представление о профессии. Воспитывать желание познавать многообразный мир профессий, уважение к человеку-труженику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95280" indent="-282600">
              <a:lnSpc>
                <a:spcPct val="90000"/>
              </a:lnSpc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атериал.</a:t>
            </a:r>
            <a:r>
              <a:rPr b="0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 Кукла-Загадка, рисунки с изображениями людей разных профессий и сказочных героев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95280" indent="-282600">
              <a:lnSpc>
                <a:spcPct val="90000"/>
              </a:lnSpc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уть игры: </a:t>
            </a:r>
            <a:r>
              <a:rPr b="0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кажите детям картинки, на которых изображены люди разных профессий. Дети, ориентируясь по рисункам, называют профессии родителей, своих близких, всех тех, с кем они встречаются. Получив из кассы картинки с изображениями сказочных героев, просит отгадать их профессии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95280" indent="-2826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</a:t>
            </a:r>
            <a:r>
              <a:rPr b="0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здайте девочкам рисунки с изображением сказочных персонажей, а мальчикам - с изображениями людей разных профессий. По сигналу колокольчика девочки и мальчики начинают искать свою пару и по двое садятся за столы, а затем по очереди доказывают правильность своего выбора. Можно предложить детям, чтобы с помощью движений, имитаций и других образных действий они показали профессию своего героя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95280" indent="-2826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</a:t>
            </a:r>
            <a:r>
              <a:rPr b="0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рганизуйте постепенный переход к сюжетно – ролевым игр на эту тему. Можно провести и беседы о том, как относится к своему труду герой, кто производит товары, а кто предоставляет услуги (если дети знакомы с этими понятиями)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95280" indent="-282600">
              <a:lnSpc>
                <a:spcPct val="90000"/>
              </a:lnSpc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med">
    <p:checke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TextBox 1"/>
          <p:cNvSpPr/>
          <p:nvPr/>
        </p:nvSpPr>
        <p:spPr>
          <a:xfrm>
            <a:off x="1569600" y="1717560"/>
            <a:ext cx="6026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сюжетно-ролевой игре участники учатся действовать 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i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зличных профессиональных компетенциях, то ес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имеряют роли специалист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TextBox 2"/>
          <p:cNvSpPr/>
          <p:nvPr/>
        </p:nvSpPr>
        <p:spPr>
          <a:xfrm>
            <a:off x="2063160" y="700200"/>
            <a:ext cx="392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южетно-ролевые игр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TextBox 4"/>
          <p:cNvSpPr/>
          <p:nvPr/>
        </p:nvSpPr>
        <p:spPr>
          <a:xfrm>
            <a:off x="1630440" y="2787480"/>
            <a:ext cx="54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Цель</a:t>
            </a:r>
            <a:r>
              <a:rPr b="0" i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: закрепить знания детей о том, для че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ужны деньги, дать новое понятие «товар», «цена»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покупка»; воспитывать культуру взаимоотнош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ежду продавцом и покупател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TextBox 7"/>
          <p:cNvSpPr/>
          <p:nvPr/>
        </p:nvSpPr>
        <p:spPr>
          <a:xfrm>
            <a:off x="1547640" y="1368360"/>
            <a:ext cx="62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2060"/>
                </a:solidFill>
                <a:latin typeface="Arial"/>
              </a:rPr>
              <a:t>Магазин, супермаркет, автосалон, аптека, банк и др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285920" y="356760"/>
            <a:ext cx="740088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835e01"/>
                </a:solidFill>
                <a:uFillTx/>
                <a:latin typeface="Times New Roman"/>
                <a:ea typeface="Times New Roman"/>
              </a:rPr>
              <a:t>Пословицы и поговорки об экономическом поведении: как ты понимаешь ?</a:t>
            </a:r>
            <a:endParaRPr b="0" lang="en-US" sz="2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4" name=""/>
          <p:cNvSpPr txBox="1"/>
          <p:nvPr/>
        </p:nvSpPr>
        <p:spPr>
          <a:xfrm>
            <a:off x="457200" y="971280"/>
            <a:ext cx="8229600" cy="3600360"/>
          </a:xfrm>
          <a:prstGeom prst="rect">
            <a:avLst/>
          </a:prstGeom>
          <a:noFill/>
          <a:ln w="76320">
            <a:solidFill>
              <a:srgbClr val="800000"/>
            </a:solidFill>
            <a:miter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ез труда не вытащить рыбку из пруда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емь раз отмерь, один раз отрежь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 мастерством люди не родятся, а добытым ремеслом гордятся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 всякое дело берись умело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мелец да рукодельник и себе и людям радость приносит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коро сказка сказывается, да не скоро дело делается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med">
    <p:checker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1115640" y="215640"/>
            <a:ext cx="787716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Corbel"/>
              </a:rPr>
              <a:t>Простые правила экономического поведения</a:t>
            </a:r>
            <a:endParaRPr b="0" lang="en-US" sz="24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656" name="Picture 5" descr="80-2"/>
          <p:cNvPicPr/>
          <p:nvPr/>
        </p:nvPicPr>
        <p:blipFill>
          <a:blip r:embed="rId1"/>
          <a:stretch/>
        </p:blipFill>
        <p:spPr>
          <a:xfrm>
            <a:off x="380880" y="730080"/>
            <a:ext cx="857520" cy="857520"/>
          </a:xfrm>
          <a:prstGeom prst="rect">
            <a:avLst/>
          </a:prstGeom>
          <a:ln w="0">
            <a:noFill/>
          </a:ln>
        </p:spPr>
      </p:pic>
      <p:pic>
        <p:nvPicPr>
          <p:cNvPr id="657" name="Picture 6" descr="80-2"/>
          <p:cNvPicPr/>
          <p:nvPr/>
        </p:nvPicPr>
        <p:blipFill>
          <a:blip r:embed="rId2"/>
          <a:stretch/>
        </p:blipFill>
        <p:spPr>
          <a:xfrm>
            <a:off x="380880" y="1771560"/>
            <a:ext cx="857520" cy="857520"/>
          </a:xfrm>
          <a:prstGeom prst="rect">
            <a:avLst/>
          </a:prstGeom>
          <a:ln w="0">
            <a:noFill/>
          </a:ln>
        </p:spPr>
      </p:pic>
      <p:pic>
        <p:nvPicPr>
          <p:cNvPr id="658" name="Picture 7" descr="80-2"/>
          <p:cNvPicPr/>
          <p:nvPr/>
        </p:nvPicPr>
        <p:blipFill>
          <a:blip r:embed="rId3"/>
          <a:stretch/>
        </p:blipFill>
        <p:spPr>
          <a:xfrm>
            <a:off x="457200" y="2800440"/>
            <a:ext cx="857160" cy="857160"/>
          </a:xfrm>
          <a:prstGeom prst="rect">
            <a:avLst/>
          </a:prstGeom>
          <a:ln w="0">
            <a:noFill/>
          </a:ln>
        </p:spPr>
      </p:pic>
      <p:pic>
        <p:nvPicPr>
          <p:cNvPr id="659" name="Picture 8" descr="80-2"/>
          <p:cNvPicPr/>
          <p:nvPr/>
        </p:nvPicPr>
        <p:blipFill>
          <a:blip r:embed="rId4"/>
          <a:stretch/>
        </p:blipFill>
        <p:spPr>
          <a:xfrm>
            <a:off x="457200" y="3886200"/>
            <a:ext cx="857160" cy="857160"/>
          </a:xfrm>
          <a:prstGeom prst="rect">
            <a:avLst/>
          </a:prstGeom>
          <a:ln w="0">
            <a:noFill/>
          </a:ln>
        </p:spPr>
      </p:pic>
      <p:sp>
        <p:nvSpPr>
          <p:cNvPr id="660" name="Text Box 9"/>
          <p:cNvSpPr/>
          <p:nvPr/>
        </p:nvSpPr>
        <p:spPr>
          <a:xfrm>
            <a:off x="1676520" y="800280"/>
            <a:ext cx="6933960" cy="642600"/>
          </a:xfrm>
          <a:prstGeom prst="rect">
            <a:avLst/>
          </a:prstGeom>
          <a:noFill/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Всегда соразмеряй свои желания и возможности, делай выбор в пользу главного и необходим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Text Box 10"/>
          <p:cNvSpPr/>
          <p:nvPr/>
        </p:nvSpPr>
        <p:spPr>
          <a:xfrm>
            <a:off x="1676520" y="1886040"/>
            <a:ext cx="6949800" cy="642600"/>
          </a:xfrm>
          <a:prstGeom prst="rect">
            <a:avLst/>
          </a:prstGeom>
          <a:noFill/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Помни, что только честным трудом, своими знаниями можно добиться настоящего успех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Text Box 11"/>
          <p:cNvSpPr/>
          <p:nvPr/>
        </p:nvSpPr>
        <p:spPr>
          <a:xfrm>
            <a:off x="1676520" y="2887560"/>
            <a:ext cx="6933960" cy="642600"/>
          </a:xfrm>
          <a:prstGeom prst="rect">
            <a:avLst/>
          </a:prstGeom>
          <a:noFill/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Прежде, чем что-то сделать, узнай все о том, как, зачем и почему это нужно делать, какие могут быть последств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Text Box 12"/>
          <p:cNvSpPr/>
          <p:nvPr/>
        </p:nvSpPr>
        <p:spPr>
          <a:xfrm>
            <a:off x="1676520" y="3943440"/>
            <a:ext cx="6933960" cy="916920"/>
          </a:xfrm>
          <a:prstGeom prst="rect">
            <a:avLst/>
          </a:prstGeom>
          <a:noFill/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Помни, что ты живешь среди людей и сотрудничество с ними, уважение их стремлений – важная часть успеха на пути к твоим целя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0" y="123840"/>
            <a:ext cx="8748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166a"/>
                </a:solidFill>
                <a:latin typeface="Times New Roman"/>
                <a:ea typeface="Times New Roman"/>
              </a:rPr>
              <a:t>СПАСИБО </a:t>
            </a:r>
            <a:br>
              <a:rPr sz="4000"/>
            </a:br>
            <a:r>
              <a:rPr b="1" lang="ru-RU" sz="4000" spc="-1" strike="noStrike">
                <a:solidFill>
                  <a:srgbClr val="70166a"/>
                </a:solidFill>
                <a:latin typeface="Times New Roman"/>
                <a:ea typeface="Times New Roman"/>
              </a:rPr>
              <a:t>ЗА </a:t>
            </a:r>
            <a:br>
              <a:rPr sz="4000"/>
            </a:br>
            <a:r>
              <a:rPr b="1" lang="ru-RU" sz="4000" spc="-1" strike="noStrike">
                <a:solidFill>
                  <a:srgbClr val="70166a"/>
                </a:solidFill>
                <a:latin typeface="Times New Roman"/>
                <a:ea typeface="Times New Roman"/>
              </a:rPr>
              <a:t>ВНИМАНИЕ</a:t>
            </a:r>
            <a:r>
              <a:rPr b="1" lang="ru-RU" sz="6000" spc="-1" strike="noStrike">
                <a:solidFill>
                  <a:srgbClr val="70166a"/>
                </a:solidFill>
                <a:latin typeface="Times New Roman"/>
                <a:ea typeface="Times New Roman"/>
              </a:rPr>
              <a:t>!</a:t>
            </a:r>
            <a:endParaRPr b="0" lang="en-US" sz="6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65" name="AutoShape 7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AutoShape 9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7" name="Picture 10" descr="C:\Users\Rudik\Desktop\1661969578_20-klubmama-ru-p-podelka-v-sad-finansovaya-gramotnost-foto-23.jpg"/>
          <p:cNvPicPr/>
          <p:nvPr/>
        </p:nvPicPr>
        <p:blipFill>
          <a:blip r:embed="rId1"/>
          <a:stretch/>
        </p:blipFill>
        <p:spPr>
          <a:xfrm>
            <a:off x="6227640" y="2284560"/>
            <a:ext cx="2602080" cy="213984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3885840" y="339840"/>
            <a:ext cx="5257800" cy="13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«Деньги, которыми обладаешь </a:t>
            </a:r>
            <a:br>
              <a:rPr sz="1600"/>
            </a:br>
            <a:r>
              <a:rPr b="0" lang="ru-RU" sz="16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– орудие свободы; </a:t>
            </a:r>
            <a:br>
              <a:rPr sz="1600"/>
            </a:br>
            <a:r>
              <a:rPr b="0" lang="ru-RU" sz="16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те, за которыми гонишься </a:t>
            </a:r>
            <a:br>
              <a:rPr sz="1600"/>
            </a:br>
            <a:r>
              <a:rPr b="0" lang="ru-RU" sz="16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— орудие рабства»</a:t>
            </a:r>
            <a:br>
              <a:rPr sz="1600"/>
            </a:br>
            <a:r>
              <a:rPr b="0" i="1" lang="ru-RU" sz="16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Жан-Жак Руссо</a:t>
            </a:r>
            <a:endParaRPr b="0" lang="en-US" sz="16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625" name="Picture 7" descr="http://edukovrov.ru/sites/default/files/finansovaja-gramotnost-s-chego-nachat.jpg"/>
          <p:cNvPicPr/>
          <p:nvPr/>
        </p:nvPicPr>
        <p:blipFill>
          <a:blip r:embed="rId1"/>
          <a:stretch/>
        </p:blipFill>
        <p:spPr>
          <a:xfrm>
            <a:off x="2286000" y="1643040"/>
            <a:ext cx="5715000" cy="317196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1956960" y="714240"/>
            <a:ext cx="7186680" cy="4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ru-RU" sz="16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Современная жизнь диктует свои стандарты: в условиях рыночной экономики человеку в любом возрасте, чтобы быть успешным, необходимо быть финансово грамотным. Поэтому обучение основам экономических знаний необходимо начинать уже в детском саду, ведь представления о деньгах и их применении начинают формироваться в дошкольном возрасте.</a:t>
            </a:r>
            <a:endParaRPr b="0" lang="en-US" sz="16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627" name="Picture 2" descr="https://ds04.infourok.ru/uploads/ex/0495/000d7214-9f04302d/img0.jpg"/>
          <p:cNvPicPr/>
          <p:nvPr/>
        </p:nvPicPr>
        <p:blipFill>
          <a:blip r:embed="rId1"/>
          <a:srcRect l="6375" t="48488" r="3694" b="3029"/>
          <a:stretch/>
        </p:blipFill>
        <p:spPr>
          <a:xfrm>
            <a:off x="214200" y="2000160"/>
            <a:ext cx="8717040" cy="245916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"/>
          <p:cNvSpPr txBox="1"/>
          <p:nvPr/>
        </p:nvSpPr>
        <p:spPr>
          <a:xfrm>
            <a:off x="357120" y="285480"/>
            <a:ext cx="8786880" cy="426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ru-RU" sz="2800" spc="-1" strike="noStrike">
                <a:solidFill>
                  <a:srgbClr val="c58d01"/>
                </a:solidFill>
                <a:latin typeface="Times New Roman"/>
                <a:ea typeface="Times New Roman"/>
              </a:rPr>
              <a:t>Финансовая грамотность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— это умение использовать знания и навыки для принятия правильных решений, связанных с деньгами и тратами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med">
    <p:checke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1285920" y="321840"/>
            <a:ext cx="7400880" cy="84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так, самое первое, необходимо заинтересовать ребенка. 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ервая ступень - возраст с 5 до 7 лет.</a:t>
            </a:r>
            <a:endParaRPr b="0" lang="en-US" sz="2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30" name=""/>
          <p:cNvSpPr txBox="1"/>
          <p:nvPr/>
        </p:nvSpPr>
        <p:spPr>
          <a:xfrm>
            <a:off x="214200" y="1071720"/>
            <a:ext cx="8786880" cy="32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это время главные детские черты -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любопытство и любознательность, неусидчивость, неумение сконцентрировать внимание, но при этом - огромные запасы энергии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раз в этом возрасте пора учить, как вести счет деньгам, пониманию ценности и назначению денег. Формировать умение отличать желания от потребностей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med">
    <p:checke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сновная форма обучения - </a:t>
            </a:r>
            <a:r>
              <a:rPr b="0" lang="ru-RU" sz="39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гра.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32" name=""/>
          <p:cNvSpPr txBox="1"/>
          <p:nvPr/>
        </p:nvSpPr>
        <p:spPr>
          <a:xfrm>
            <a:off x="356760" y="1285920"/>
            <a:ext cx="5286600" cy="330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менно через игру ребенок осваивает и познает мир. Обучение, осуществляемое с помощью игры, естественно для дошкольника.</a:t>
            </a:r>
            <a:br>
              <a:rPr sz="1800"/>
            </a:b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чение в дидактической игре - появляется уже в дошкольном возрасте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   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.Д. Ушинский подчеркивал, что </a:t>
            </a:r>
            <a:r>
              <a:rPr b="0" lang="ru-RU" sz="18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обучение в форме игры может и должно быть интересным, занимательным, но никогда не развлекающим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med">
    <p:checke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Прямоугольник 4"/>
          <p:cNvSpPr/>
          <p:nvPr/>
        </p:nvSpPr>
        <p:spPr>
          <a:xfrm>
            <a:off x="2286000" y="339840"/>
            <a:ext cx="444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етоды и приемы работы с детьми по финансовой грамот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TextBox 5"/>
          <p:cNvSpPr/>
          <p:nvPr/>
        </p:nvSpPr>
        <p:spPr>
          <a:xfrm>
            <a:off x="973800" y="16351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Облако 11"/>
          <p:cNvSpPr/>
          <p:nvPr/>
        </p:nvSpPr>
        <p:spPr>
          <a:xfrm>
            <a:off x="5904000" y="3940200"/>
            <a:ext cx="3168720" cy="1071360"/>
          </a:xfrm>
          <a:prstGeom prst="pie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се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TextBox 13"/>
          <p:cNvSpPr/>
          <p:nvPr/>
        </p:nvSpPr>
        <p:spPr>
          <a:xfrm>
            <a:off x="1771560" y="3986280"/>
            <a:ext cx="185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7" name="Рисунок 14" descr=""/>
          <p:cNvPicPr/>
          <p:nvPr/>
        </p:nvPicPr>
        <p:blipFill>
          <a:blip r:embed="rId1"/>
          <a:stretch/>
        </p:blipFill>
        <p:spPr>
          <a:xfrm>
            <a:off x="5904000" y="595440"/>
            <a:ext cx="3206520" cy="1225440"/>
          </a:xfrm>
          <a:prstGeom prst="rect">
            <a:avLst/>
          </a:prstGeom>
          <a:ln w="0">
            <a:noFill/>
          </a:ln>
        </p:spPr>
      </p:pic>
      <p:pic>
        <p:nvPicPr>
          <p:cNvPr id="638" name="Рисунок 16" descr=""/>
          <p:cNvPicPr/>
          <p:nvPr/>
        </p:nvPicPr>
        <p:blipFill>
          <a:blip r:embed="rId2"/>
          <a:stretch/>
        </p:blipFill>
        <p:spPr>
          <a:xfrm>
            <a:off x="5932440" y="2374920"/>
            <a:ext cx="3206880" cy="1225440"/>
          </a:xfrm>
          <a:prstGeom prst="rect">
            <a:avLst/>
          </a:prstGeom>
          <a:ln w="0">
            <a:noFill/>
          </a:ln>
        </p:spPr>
      </p:pic>
      <p:pic>
        <p:nvPicPr>
          <p:cNvPr id="639" name="Рисунок 18" descr=""/>
          <p:cNvPicPr/>
          <p:nvPr/>
        </p:nvPicPr>
        <p:blipFill>
          <a:blip r:embed="rId3"/>
          <a:stretch/>
        </p:blipFill>
        <p:spPr>
          <a:xfrm>
            <a:off x="3122640" y="1486080"/>
            <a:ext cx="3689280" cy="1304640"/>
          </a:xfrm>
          <a:prstGeom prst="rect">
            <a:avLst/>
          </a:prstGeom>
          <a:ln w="0">
            <a:noFill/>
          </a:ln>
        </p:spPr>
      </p:pic>
      <p:pic>
        <p:nvPicPr>
          <p:cNvPr id="640" name="Рисунок 19" descr=""/>
          <p:cNvPicPr/>
          <p:nvPr/>
        </p:nvPicPr>
        <p:blipFill>
          <a:blip r:embed="rId4"/>
          <a:stretch/>
        </p:blipFill>
        <p:spPr>
          <a:xfrm>
            <a:off x="3165480" y="3371760"/>
            <a:ext cx="3395520" cy="1047960"/>
          </a:xfrm>
          <a:prstGeom prst="rect">
            <a:avLst/>
          </a:prstGeom>
          <a:ln w="0">
            <a:noFill/>
          </a:ln>
        </p:spPr>
      </p:pic>
      <p:pic>
        <p:nvPicPr>
          <p:cNvPr id="641" name="Рисунок 20" descr=""/>
          <p:cNvPicPr/>
          <p:nvPr/>
        </p:nvPicPr>
        <p:blipFill>
          <a:blip r:embed="rId5"/>
          <a:stretch/>
        </p:blipFill>
        <p:spPr>
          <a:xfrm>
            <a:off x="31680" y="1419120"/>
            <a:ext cx="3090960" cy="335916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orbel"/>
              </a:rPr>
              <a:t>Необходимо </a:t>
            </a:r>
            <a:br>
              <a:rPr sz="2000"/>
            </a:br>
            <a:r>
              <a:rPr b="0" lang="ru-RU" sz="2000" spc="-1" strike="noStrike">
                <a:solidFill>
                  <a:srgbClr val="ff0000"/>
                </a:solidFill>
                <a:latin typeface="Corbel"/>
              </a:rPr>
              <a:t>с помощью игр и практических занятий детям донести:</a:t>
            </a:r>
            <a:endParaRPr b="0" lang="en-US" sz="2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43" name=""/>
          <p:cNvSpPr txBox="1"/>
          <p:nvPr/>
        </p:nvSpPr>
        <p:spPr>
          <a:xfrm>
            <a:off x="213840" y="856800"/>
            <a:ext cx="8929800" cy="373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     </a:t>
            </a:r>
            <a:endParaRPr b="0" lang="en-US" sz="13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ньги не появляются сами собой, а зарабатываются!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 Объясняем, как люди зарабатывают деньги и каким образом заработок зависит от вида деятельности.</a:t>
            </a:r>
            <a:endParaRPr b="0" lang="en-US" sz="13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ачала зарабатываем – потом тратим.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Рассказываем, что «из тумбочки можно взять только то, что в нее положили», – соответственно, чем больше зарабатываешь и разумнее тратишь, тем больше можешь купить.</a:t>
            </a:r>
            <a:endParaRPr b="0" lang="en-US" sz="13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оимость товара зависит от его качества, нужности и от того, насколько сложно его произвести. 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бъясняем, что цена – это количество денег, которые надо отдать, а товар в магазине – это результат труда других людей, поэтому он стоит денег; люди как бы меняют свой труд на труд других людей, и в этой цепочке деньги – это посредник.</a:t>
            </a:r>
            <a:endParaRPr b="0" lang="en-US" sz="13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ньги любят счет.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Приучаем считать сдачу и вообще быстро и внимательно считать деньги.</a:t>
            </a:r>
            <a:endParaRPr b="0" lang="en-US" sz="13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нансы нужно планировать.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Приучаем вести учет доходов и расходов в краткосрочном периоде.</a:t>
            </a:r>
            <a:endParaRPr b="0" lang="en-US" sz="13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вои деньги бывают объектом чужого интереса.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 Договариваемся о ключевых правилах финансовой безопасности и о том, к кому нужно обращаться в экстренных случаях.</a:t>
            </a:r>
            <a:endParaRPr b="0" lang="en-US" sz="13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все покупается. 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ививаем понимание того, что </a:t>
            </a:r>
            <a:r>
              <a:rPr b="1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вные ценности – жизнь, отношения, радость близких людей – за деньги не купишь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3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нансы – это интересно и увлекательно!</a:t>
            </a:r>
            <a:endParaRPr b="0" lang="en-US" sz="13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med">
    <p:checke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 </a:t>
            </a:r>
            <a:r>
              <a:rPr b="1" lang="ru-RU" sz="39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гра «Размен»</a:t>
            </a: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45" name=""/>
          <p:cNvSpPr txBox="1"/>
          <p:nvPr/>
        </p:nvSpPr>
        <p:spPr>
          <a:xfrm>
            <a:off x="356760" y="785520"/>
            <a:ext cx="8572680" cy="24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 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учить считать деньги.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бходимые материалы: 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неты и купюры разных номиналов.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ичество участников: 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-5.  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ть игры: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ыдайте детям мелкие монеты, по 2-3 десятка каждому. А себе оставьте несколько банкнот разного номинала. Это игра-соревнование. Кто из игроков быстрее разменяет выложенную вами банкноту мелочью, тому банкнота и достается. В конце игры считаем суммы выигрышей. 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700"/>
            </a:b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646" name="Рисунок 3" descr="https://arhivurokov.ru/intolimp/html/2017/03/15/i_58c97dadee905/phpd9xOiH_Kartoteka-igr-po-finansam_3.png"/>
          <p:cNvPicPr/>
          <p:nvPr/>
        </p:nvPicPr>
        <p:blipFill>
          <a:blip r:embed="rId1"/>
          <a:stretch/>
        </p:blipFill>
        <p:spPr>
          <a:xfrm>
            <a:off x="4000680" y="3071880"/>
            <a:ext cx="2896920" cy="178596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8T10:43:38Z</dcterms:created>
  <dc:creator>Дизайнер</dc:creator>
  <dc:description/>
  <dc:language>en-US</dc:language>
  <cp:lastModifiedBy>Rudik</cp:lastModifiedBy>
  <dcterms:modified xsi:type="dcterms:W3CDTF">2023-06-20T03:30:41Z</dcterms:modified>
  <cp:revision>88</cp:revision>
  <dc:subject/>
  <dc:title>шаблон для презентаций</dc:title>
</cp:coreProperties>
</file>