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6.gif" ContentType="image/gif"/>
  <Override PartName="/ppt/media/image5.png" ContentType="image/png"/>
  <Override PartName="/ppt/media/image10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4669-8BDA-4D3D-B99F-2C6927AFC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3748-62FA-4A2C-A893-93DDC6BA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46B6CA-BE91-4601-A576-0AF3A107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A4F2B7-30B3-42AF-BB4C-CF6E69A4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F5AE87-093B-4147-AA94-0C2BB0E8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F75A97-B170-4D8E-813A-7CB7E308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B9E67B-0D2F-4F68-A560-0672B3C3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08DD75-59EF-4A0E-966E-B4496319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671D72-13A4-4CD8-893E-DAA94B31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B7F0DD-6541-4FB4-991D-83A566242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5C5BDA-706C-4FE2-9F43-BDA45B2A5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B3984C-C45F-4BF0-8977-CD5DC3C82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F5CF-916C-4E27-BB7D-9E8CDE6B1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41B8C9-58DD-454F-984A-879C3178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5C2147-DD27-497B-97B0-53295570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7AE280-3ACE-4645-AE8B-817F521D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D62E84-7C0C-4338-8960-60FDA1E4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98B6BA-BDE2-4074-BFFE-1210400A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21215E-67E4-420C-9879-2C35C400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B44370-7B6C-4620-9850-790C3767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37781D-0A92-449E-9766-621A2FF0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76AD94-EADB-42D4-B3AB-AF10BF14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B7EC7F-F0F3-4645-A440-B31D8BAED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1365-52B3-4B6B-9D42-397F9F33C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ED6296-45E1-41A4-B1E7-98145D7CD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A275A-3582-4BBE-B117-559EF8E0B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AADBB2-003F-40D3-89E5-FD57504A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7204A-C87B-4A8C-8412-4B9F6FE9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13D19F-14DF-4CA7-AA7F-1D261AB4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AA70E-EECE-4D2B-9F83-5744E16A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2F29E-8121-4123-8591-C16AB636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090155-8E16-4ACE-A9F1-88C5C584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7ED41-00F7-4FF6-93F0-12A7D65A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444AB9-398F-4ECA-AF0E-8AF123E5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4147-15CE-49E3-BEF8-B564E85B4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9AF0E-EE9D-4F8E-B540-B8271058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3A595-FD2E-4967-92F9-3B9EACE8D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726B2-FD80-42BB-8153-66A4ACAFC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0114F8-E696-406F-85EF-518764775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3FC98E-ACB9-4175-B115-D2B67B5D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B3F533-9B65-446D-9758-5AEB28BF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170285-A5C5-4A22-886F-9C3CF338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51CB33-1FB0-4C08-81E5-49F69D3B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D41001-EE1C-470F-ADE1-F99F5704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842A00-EA9D-4733-8355-AFD08A66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B6212-6FB6-41CE-BE4E-6D483A67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0128DB-81D0-4907-A380-A4C33F9E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69B93F-0BB8-4D4B-B2AD-8719AAC3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FD75B5-141E-48AF-9B23-7FAC1FC3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C53970-29E1-42DA-8D3B-543A5025C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653663-A3A5-460F-B2B1-3ABB14E6F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6842-E353-4075-9FA2-791F7091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69A8-7B78-428C-8C54-77E65E3C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C8BA-123B-42A1-9158-D1110B94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8718-BDA4-4C5B-B55D-F71C7F5D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95A6-3630-4AD3-9ED6-783E4E4F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0F9B-98C4-4548-A35D-31B1C66F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8CED-982F-40E4-8C53-7F105C58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6CF6-E064-405F-A54D-32988231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7DF2-4961-4CB2-B932-04A71DE2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F081-3EDF-4BED-B4C3-8BB638C43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4AD0-BF92-4935-80F0-D254B1CA4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2AFC5-D4B7-46E5-8621-9F9545953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C83A6-7F05-43DE-AC51-0928B39A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D24A3-3C9F-4D92-880A-2BF7E811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91BE6-B6EA-436B-ADB4-F3BF6846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34F31-62A1-4FA4-8B0B-14544E44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2DAE-BB4D-4012-8F26-526AA1E0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47B8F-4292-423F-80B3-74FAF39C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ABA41-AC88-4E83-9DA5-54B1C6C7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D07C7-CA89-4C73-9CFC-0541228C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83D2B-8489-487F-88D6-8B8F9BAE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2BC37-A6FB-49EE-8CD1-4192241B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3721F-E0D7-490F-A634-4AF2D3A9D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BCC9B-5457-407B-A521-B33A6571B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424DA-7FC3-4AAE-BC00-98A38C902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67C12-245A-49C1-A36A-6E798FE8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80560-5B96-46DE-B771-7BC277DA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8CA8-EAC7-4E8C-A17F-8FF5E5BD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6D85B-4837-4221-8DB0-917C8879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B24C7-2D47-41E2-A1F9-48BE7B97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3200E-6436-452D-B9E8-91C7F0E2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9D903-66BF-4A55-B45B-4773DEF4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11504-84EB-453B-979B-51DC95CB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E5A6C-91B6-4DCD-B50E-A43E38CA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2254C-AAD8-4D77-8B85-CFFAE6CC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9EFEB-4B1F-4B1A-B947-B19E8896A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4F9C5-DC12-4545-8575-1250B7D3D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FF099-5FD5-452A-AA93-54A02DACC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4982-21BA-4A7A-87D6-AADF41A8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042FA-629D-4F7D-99F5-1AB9E8E2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E24E4-0528-40C8-89A0-D6695871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6D84C-A90B-4A97-9543-653B1083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412F8-5749-437D-829C-3EF96827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87F38-2109-4221-8C98-28073D69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B595C-646D-44BE-952F-44EEBA6C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65D41-7395-4A2E-9EA2-2BB0D260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CF4B5-6CCC-4A5D-AC06-140D3608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497C6-39F2-4D73-9FB0-9110AD0A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A0656-43F2-435E-BDC1-7F512A22C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2EA7-D169-4B03-9F7E-39265186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E1BBB-A6EE-4F47-A16F-E2CCEC501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0B34B-9FBD-4E60-A5E6-1A405B4C2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EB88B-9826-40E6-A717-582CE965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55388-0FF6-439A-BDB1-1EA74CFF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D7D3E-4DA2-467B-B0D3-B49F19CE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50BB8-5FC6-454A-861B-E8328DD5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D64F9-EFBA-4BB1-87B8-547106D7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FABA7-1243-464F-AD4F-B4D648F0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15490-14C6-4B48-A2D6-360C14ED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23533-6335-4D4B-9AA9-DE977A8F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AA4F-8FF3-4108-8E8E-77E647F8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9A0EF-BE9F-4E97-869B-4B802903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07CB2-232A-4557-B0CB-995AF4DED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B78C7-41F4-4C7F-A5E0-CF9740A42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9AA49-93E5-4A7C-A372-26135EC6A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5E70B-C567-4359-B3EA-6217C830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AF9C4-CB77-44EF-B7FF-DB86777F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371C5-3E1E-46F4-A7FA-0F1EF950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561E5-188E-4399-8D37-021E9B3B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C0466-A4AA-4D94-B010-E9C4DB3A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3DB73-A2B0-4ACF-94AB-34EF4AA4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850A-4EA9-471F-8D53-5B8ADC31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45000-6758-4DA1-9958-2DACB552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BA977-659C-4459-9E45-4BED3773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40082-9370-47F5-B265-88CD6728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87E50-C806-4B97-A11E-789C92854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62A96-99CC-4A8E-B4F8-926D034BC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4686F-A9D9-4D97-B323-513DEDB6D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85246-2F1B-499A-B23D-0B056653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7FADA-7697-49C2-B7C9-03EC71C8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DEB3E-309F-495D-8B09-C76FB58F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D106B-6477-4682-A5A7-C36FC6BB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E8EB-6B28-4644-9FD1-D0CCDA8C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EB590-6800-4CCD-AC2A-F1BE7BD4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5D865-DB73-40A1-8B07-4B0321CA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CA5E0-7367-4A90-8C7C-13B5C3D1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13733-AEF3-4374-A925-5CD11449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BF987-EAF8-4EF1-A3D0-E9FC8FAC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F5743-D6B1-45AB-A2FB-6FEDA39DF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A3B5A-6B92-48E3-8A6B-CDC8ABE9D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A7D9C2-01BD-40B9-8004-11286DD8F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F0F96E-BF60-47D2-A4CE-1211F45A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8100EF-9878-44D8-A861-FEFCA7AE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gif"/><Relationship Id="rId8" Type="http://schemas.openxmlformats.org/officeDocument/2006/relationships/image" Target="../media/image3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611280"/>
            <a:ext cx="1638360" cy="122868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179640 h 1228680"/>
              <a:gd name="textAreaBottom" fmla="*/ 1049040 h 1228680"/>
            </a:gdLst>
            <a:ahLst/>
            <a:rect l="textAreaLeft" t="textAreaTop" r="textAreaRight" b="textAreaBottom"/>
            <a:pathLst>
              <a:path w="1638887" h="1229165">
                <a:moveTo>
                  <a:pt x="1638887" y="614583"/>
                </a:moveTo>
                <a:lnTo>
                  <a:pt x="1638887" y="614583"/>
                </a:lnTo>
                <a:arcTo wR="819444" hR="614583" stAng="0" swAng="5402120"/>
                <a:lnTo>
                  <a:pt x="819444" y="614583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15840"/>
            <a:ext cx="1703520" cy="127656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212760" y="712800"/>
            <a:ext cx="1073160" cy="1012680"/>
            <a:chOff x="212760" y="712800"/>
            <a:chExt cx="1073160" cy="101268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12760" y="712800"/>
              <a:ext cx="107316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912600"/>
              <a:ext cx="7952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2E3F-969F-48A5-902E-A500D6DC6CB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46"/>
          <p:cNvSpPr/>
          <p:nvPr/>
        </p:nvSpPr>
        <p:spPr>
          <a:xfrm flipH="1">
            <a:off x="2086920" y="4840200"/>
            <a:ext cx="6948360" cy="27000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48"/>
          <p:cNvSpPr/>
          <p:nvPr/>
        </p:nvSpPr>
        <p:spPr>
          <a:xfrm flipV="1">
            <a:off x="1908000" y="4840200"/>
            <a:ext cx="0" cy="27000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57"/>
          <p:cNvSpPr/>
          <p:nvPr/>
        </p:nvSpPr>
        <p:spPr>
          <a:xfrm flipH="1">
            <a:off x="2050200" y="4840200"/>
            <a:ext cx="71640" cy="270000"/>
          </a:xfrm>
          <a:prstGeom prst="rect">
            <a:avLst/>
          </a:prstGeom>
          <a:solidFill>
            <a:srgbClr val="e3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Rectangle 55"/>
          <p:cNvSpPr/>
          <p:nvPr/>
        </p:nvSpPr>
        <p:spPr>
          <a:xfrm>
            <a:off x="1440" y="141120"/>
            <a:ext cx="9142560" cy="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Line 129"/>
          <p:cNvSpPr/>
          <p:nvPr/>
        </p:nvSpPr>
        <p:spPr>
          <a:xfrm flipV="1">
            <a:off x="108000" y="4840200"/>
            <a:ext cx="0" cy="27000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Rectangle 54"/>
          <p:cNvSpPr/>
          <p:nvPr/>
        </p:nvSpPr>
        <p:spPr>
          <a:xfrm>
            <a:off x="108000" y="230040"/>
            <a:ext cx="8567640" cy="7308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Line 131"/>
          <p:cNvSpPr/>
          <p:nvPr/>
        </p:nvSpPr>
        <p:spPr>
          <a:xfrm flipH="1">
            <a:off x="108000" y="195120"/>
            <a:ext cx="8640720" cy="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" name="Picture 132" descr="rabot"/>
          <p:cNvPicPr/>
          <p:nvPr/>
        </p:nvPicPr>
        <p:blipFill>
          <a:blip r:embed="rId4"/>
          <a:stretch/>
        </p:blipFill>
        <p:spPr>
          <a:xfrm>
            <a:off x="179280" y="0"/>
            <a:ext cx="1225800" cy="91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Прямоугольник 22"/>
          <p:cNvGrpSpPr/>
          <p:nvPr/>
        </p:nvGrpSpPr>
        <p:grpSpPr>
          <a:xfrm>
            <a:off x="646200" y="701640"/>
            <a:ext cx="4803840" cy="3662280"/>
            <a:chOff x="646200" y="701640"/>
            <a:chExt cx="4803840" cy="3662280"/>
          </a:xfrm>
        </p:grpSpPr>
        <p:pic>
          <p:nvPicPr>
            <p:cNvPr id="465" name="Прямоугольник 22" descr=""/>
            <p:cNvPicPr/>
            <p:nvPr/>
          </p:nvPicPr>
          <p:blipFill>
            <a:blip r:embed="rId3"/>
            <a:stretch/>
          </p:blipFill>
          <p:spPr>
            <a:xfrm>
              <a:off x="646200" y="701640"/>
              <a:ext cx="4803840" cy="366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762120" y="800280"/>
              <a:ext cx="4572000" cy="34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Блок-схема: процесс 24"/>
          <p:cNvSpPr/>
          <p:nvPr/>
        </p:nvSpPr>
        <p:spPr>
          <a:xfrm rot="19468200">
            <a:off x="396720" y="716040"/>
            <a:ext cx="685800" cy="1522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Блок-схема: процесс 25"/>
          <p:cNvSpPr/>
          <p:nvPr/>
        </p:nvSpPr>
        <p:spPr>
          <a:xfrm flipH="1" rot="2103600">
            <a:off x="5003280" y="703080"/>
            <a:ext cx="649440" cy="1522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8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29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0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42A5-4DE6-44A6-8DB6-7443612C011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Пирог 6"/>
          <p:cNvSpPr/>
          <p:nvPr/>
        </p:nvSpPr>
        <p:spPr>
          <a:xfrm>
            <a:off x="-816120" y="-611280"/>
            <a:ext cx="1638360" cy="122868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179640 h 1228680"/>
              <a:gd name="textAreaBottom" fmla="*/ 1049040 h 1228680"/>
            </a:gdLst>
            <a:ahLst/>
            <a:rect l="textAreaLeft" t="textAreaTop" r="textAreaRight" b="textAreaBottom"/>
            <a:pathLst>
              <a:path w="1638887" h="1229165">
                <a:moveTo>
                  <a:pt x="1638887" y="614583"/>
                </a:moveTo>
                <a:lnTo>
                  <a:pt x="1638887" y="614583"/>
                </a:lnTo>
                <a:arcTo wR="819444" hR="614583" stAng="0" swAng="5402120"/>
                <a:lnTo>
                  <a:pt x="819444" y="614583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Овал 7"/>
          <p:cNvSpPr/>
          <p:nvPr/>
        </p:nvSpPr>
        <p:spPr>
          <a:xfrm>
            <a:off x="168120" y="15840"/>
            <a:ext cx="1703520" cy="127656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Кольцо 10"/>
          <p:cNvGrpSpPr/>
          <p:nvPr/>
        </p:nvGrpSpPr>
        <p:grpSpPr>
          <a:xfrm>
            <a:off x="212760" y="712800"/>
            <a:ext cx="1073160" cy="1012680"/>
            <a:chOff x="212760" y="712800"/>
            <a:chExt cx="1073160" cy="1012680"/>
          </a:xfrm>
        </p:grpSpPr>
        <p:pic>
          <p:nvPicPr>
            <p:cNvPr id="51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12760" y="712800"/>
              <a:ext cx="107316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912600"/>
              <a:ext cx="7952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Прямоугольник 11"/>
          <p:cNvSpPr/>
          <p:nvPr/>
        </p:nvSpPr>
        <p:spPr>
          <a:xfrm>
            <a:off x="1012680" y="0"/>
            <a:ext cx="813132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Прямоугольник 14"/>
          <p:cNvSpPr/>
          <p:nvPr/>
        </p:nvSpPr>
        <p:spPr>
          <a:xfrm>
            <a:off x="1014480" y="0"/>
            <a:ext cx="7308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46"/>
          <p:cNvSpPr/>
          <p:nvPr/>
        </p:nvSpPr>
        <p:spPr>
          <a:xfrm flipH="1">
            <a:off x="2086920" y="4840200"/>
            <a:ext cx="6948360" cy="27000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48"/>
          <p:cNvSpPr/>
          <p:nvPr/>
        </p:nvSpPr>
        <p:spPr>
          <a:xfrm flipV="1">
            <a:off x="1908000" y="4840200"/>
            <a:ext cx="0" cy="27000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57"/>
          <p:cNvSpPr/>
          <p:nvPr/>
        </p:nvSpPr>
        <p:spPr>
          <a:xfrm flipH="1">
            <a:off x="2050200" y="4840200"/>
            <a:ext cx="71640" cy="270000"/>
          </a:xfrm>
          <a:prstGeom prst="rect">
            <a:avLst/>
          </a:prstGeom>
          <a:solidFill>
            <a:srgbClr val="e3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55"/>
          <p:cNvSpPr/>
          <p:nvPr/>
        </p:nvSpPr>
        <p:spPr>
          <a:xfrm>
            <a:off x="1440" y="141120"/>
            <a:ext cx="9142560" cy="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129"/>
          <p:cNvSpPr/>
          <p:nvPr/>
        </p:nvSpPr>
        <p:spPr>
          <a:xfrm flipV="1">
            <a:off x="108000" y="4840200"/>
            <a:ext cx="0" cy="27000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54"/>
          <p:cNvSpPr/>
          <p:nvPr/>
        </p:nvSpPr>
        <p:spPr>
          <a:xfrm>
            <a:off x="108000" y="230040"/>
            <a:ext cx="8567640" cy="7308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131"/>
          <p:cNvSpPr/>
          <p:nvPr/>
        </p:nvSpPr>
        <p:spPr>
          <a:xfrm flipH="1">
            <a:off x="108000" y="195120"/>
            <a:ext cx="8640720" cy="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132" descr="rabot"/>
          <p:cNvPicPr/>
          <p:nvPr/>
        </p:nvPicPr>
        <p:blipFill>
          <a:blip r:embed="rId4"/>
          <a:stretch/>
        </p:blipFill>
        <p:spPr>
          <a:xfrm>
            <a:off x="179280" y="0"/>
            <a:ext cx="1225800" cy="919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1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2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3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58D6-6C42-495D-96D5-14781C6B259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Пирог 6"/>
          <p:cNvSpPr/>
          <p:nvPr/>
        </p:nvSpPr>
        <p:spPr>
          <a:xfrm>
            <a:off x="-816120" y="-611280"/>
            <a:ext cx="1638360" cy="122868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179640 h 1228680"/>
              <a:gd name="textAreaBottom" fmla="*/ 1049040 h 1228680"/>
            </a:gdLst>
            <a:ahLst/>
            <a:rect l="textAreaLeft" t="textAreaTop" r="textAreaRight" b="textAreaBottom"/>
            <a:pathLst>
              <a:path w="1638887" h="1229165">
                <a:moveTo>
                  <a:pt x="1638887" y="614583"/>
                </a:moveTo>
                <a:lnTo>
                  <a:pt x="1638887" y="614583"/>
                </a:lnTo>
                <a:arcTo wR="819444" hR="614583" stAng="0" swAng="5402120"/>
                <a:lnTo>
                  <a:pt x="819444" y="614583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Овал 7"/>
          <p:cNvSpPr/>
          <p:nvPr/>
        </p:nvSpPr>
        <p:spPr>
          <a:xfrm>
            <a:off x="168120" y="15840"/>
            <a:ext cx="1703520" cy="127656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Кольцо 10"/>
          <p:cNvGrpSpPr/>
          <p:nvPr/>
        </p:nvGrpSpPr>
        <p:grpSpPr>
          <a:xfrm>
            <a:off x="212760" y="712800"/>
            <a:ext cx="1073160" cy="1012680"/>
            <a:chOff x="212760" y="712800"/>
            <a:chExt cx="1073160" cy="1012680"/>
          </a:xfrm>
        </p:grpSpPr>
        <p:pic>
          <p:nvPicPr>
            <p:cNvPr id="56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12760" y="712800"/>
              <a:ext cx="107316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"/>
            <p:cNvSpPr/>
            <p:nvPr/>
          </p:nvSpPr>
          <p:spPr>
            <a:xfrm rot="2315400">
              <a:off x="347400" y="912600"/>
              <a:ext cx="7952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Прямоугольник 11"/>
          <p:cNvSpPr/>
          <p:nvPr/>
        </p:nvSpPr>
        <p:spPr>
          <a:xfrm>
            <a:off x="1012680" y="0"/>
            <a:ext cx="813132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Прямоугольник 14"/>
          <p:cNvSpPr/>
          <p:nvPr/>
        </p:nvSpPr>
        <p:spPr>
          <a:xfrm>
            <a:off x="1014480" y="0"/>
            <a:ext cx="7308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46"/>
          <p:cNvSpPr/>
          <p:nvPr/>
        </p:nvSpPr>
        <p:spPr>
          <a:xfrm flipH="1">
            <a:off x="2086920" y="4840200"/>
            <a:ext cx="6948360" cy="27000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48"/>
          <p:cNvSpPr/>
          <p:nvPr/>
        </p:nvSpPr>
        <p:spPr>
          <a:xfrm flipV="1">
            <a:off x="1908000" y="4840200"/>
            <a:ext cx="0" cy="27000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57"/>
          <p:cNvSpPr/>
          <p:nvPr/>
        </p:nvSpPr>
        <p:spPr>
          <a:xfrm flipH="1">
            <a:off x="2050200" y="4840200"/>
            <a:ext cx="71640" cy="270000"/>
          </a:xfrm>
          <a:prstGeom prst="rect">
            <a:avLst/>
          </a:prstGeom>
          <a:solidFill>
            <a:srgbClr val="e3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55"/>
          <p:cNvSpPr/>
          <p:nvPr/>
        </p:nvSpPr>
        <p:spPr>
          <a:xfrm>
            <a:off x="1440" y="141120"/>
            <a:ext cx="9142560" cy="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29"/>
          <p:cNvSpPr/>
          <p:nvPr/>
        </p:nvSpPr>
        <p:spPr>
          <a:xfrm flipV="1">
            <a:off x="108000" y="4840200"/>
            <a:ext cx="0" cy="27000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54"/>
          <p:cNvSpPr/>
          <p:nvPr/>
        </p:nvSpPr>
        <p:spPr>
          <a:xfrm>
            <a:off x="108000" y="230040"/>
            <a:ext cx="8567640" cy="7308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31"/>
          <p:cNvSpPr/>
          <p:nvPr/>
        </p:nvSpPr>
        <p:spPr>
          <a:xfrm flipH="1">
            <a:off x="108000" y="195120"/>
            <a:ext cx="8640720" cy="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132" descr="rabot"/>
          <p:cNvPicPr/>
          <p:nvPr/>
        </p:nvPicPr>
        <p:blipFill>
          <a:blip r:embed="rId4"/>
          <a:stretch/>
        </p:blipFill>
        <p:spPr>
          <a:xfrm>
            <a:off x="179280" y="0"/>
            <a:ext cx="1225800" cy="91908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34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35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36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9338-E4B0-40ED-BAAB-6EE9A93808E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ирог 6"/>
          <p:cNvSpPr/>
          <p:nvPr/>
        </p:nvSpPr>
        <p:spPr>
          <a:xfrm>
            <a:off x="-816120" y="-611280"/>
            <a:ext cx="1638360" cy="122868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179640 h 1228680"/>
              <a:gd name="textAreaBottom" fmla="*/ 1049040 h 1228680"/>
            </a:gdLst>
            <a:ahLst/>
            <a:rect l="textAreaLeft" t="textAreaTop" r="textAreaRight" b="textAreaBottom"/>
            <a:pathLst>
              <a:path w="1638887" h="1229165">
                <a:moveTo>
                  <a:pt x="1638887" y="614583"/>
                </a:moveTo>
                <a:lnTo>
                  <a:pt x="1638887" y="614583"/>
                </a:lnTo>
                <a:arcTo wR="819444" hR="614583" stAng="0" swAng="5402120"/>
                <a:lnTo>
                  <a:pt x="819444" y="614583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7"/>
          <p:cNvSpPr/>
          <p:nvPr/>
        </p:nvSpPr>
        <p:spPr>
          <a:xfrm>
            <a:off x="168120" y="15840"/>
            <a:ext cx="1703520" cy="127656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Кольцо 10"/>
          <p:cNvGrpSpPr/>
          <p:nvPr/>
        </p:nvGrpSpPr>
        <p:grpSpPr>
          <a:xfrm>
            <a:off x="212760" y="712800"/>
            <a:ext cx="1073160" cy="1012680"/>
            <a:chOff x="212760" y="712800"/>
            <a:chExt cx="1073160" cy="1012680"/>
          </a:xfrm>
        </p:grpSpPr>
        <p:pic>
          <p:nvPicPr>
            <p:cNvPr id="5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12760" y="712800"/>
              <a:ext cx="107316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2315400">
              <a:off x="347400" y="912600"/>
              <a:ext cx="7952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Прямоугольник 11"/>
          <p:cNvSpPr/>
          <p:nvPr/>
        </p:nvSpPr>
        <p:spPr>
          <a:xfrm>
            <a:off x="1012680" y="0"/>
            <a:ext cx="813132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4"/>
          <p:cNvSpPr/>
          <p:nvPr/>
        </p:nvSpPr>
        <p:spPr>
          <a:xfrm>
            <a:off x="1014480" y="0"/>
            <a:ext cx="7308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6"/>
          <p:cNvSpPr/>
          <p:nvPr/>
        </p:nvSpPr>
        <p:spPr>
          <a:xfrm flipH="1">
            <a:off x="2086920" y="4840200"/>
            <a:ext cx="6948360" cy="27000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48"/>
          <p:cNvSpPr/>
          <p:nvPr/>
        </p:nvSpPr>
        <p:spPr>
          <a:xfrm flipV="1">
            <a:off x="1908000" y="4840200"/>
            <a:ext cx="0" cy="27000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7"/>
          <p:cNvSpPr/>
          <p:nvPr/>
        </p:nvSpPr>
        <p:spPr>
          <a:xfrm flipH="1">
            <a:off x="2050200" y="4840200"/>
            <a:ext cx="71640" cy="270000"/>
          </a:xfrm>
          <a:prstGeom prst="rect">
            <a:avLst/>
          </a:prstGeom>
          <a:solidFill>
            <a:srgbClr val="e3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5"/>
          <p:cNvSpPr/>
          <p:nvPr/>
        </p:nvSpPr>
        <p:spPr>
          <a:xfrm>
            <a:off x="1440" y="141120"/>
            <a:ext cx="9142560" cy="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29"/>
          <p:cNvSpPr/>
          <p:nvPr/>
        </p:nvSpPr>
        <p:spPr>
          <a:xfrm flipV="1">
            <a:off x="108000" y="4840200"/>
            <a:ext cx="0" cy="27000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4"/>
          <p:cNvSpPr/>
          <p:nvPr/>
        </p:nvSpPr>
        <p:spPr>
          <a:xfrm>
            <a:off x="108000" y="230040"/>
            <a:ext cx="8567640" cy="7308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31"/>
          <p:cNvSpPr/>
          <p:nvPr/>
        </p:nvSpPr>
        <p:spPr>
          <a:xfrm flipH="1">
            <a:off x="108000" y="195120"/>
            <a:ext cx="8640720" cy="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32" descr="rabot"/>
          <p:cNvPicPr/>
          <p:nvPr/>
        </p:nvPicPr>
        <p:blipFill>
          <a:blip r:embed="rId4"/>
          <a:stretch/>
        </p:blipFill>
        <p:spPr>
          <a:xfrm>
            <a:off x="179280" y="0"/>
            <a:ext cx="1225800" cy="919080"/>
          </a:xfrm>
          <a:prstGeom prst="rect">
            <a:avLst/>
          </a:prstGeom>
          <a:ln w="0">
            <a:noFill/>
          </a:ln>
        </p:spPr>
      </p:pic>
      <p:grpSp>
        <p:nvGrpSpPr>
          <p:cNvPr id="71" name="Овал 22"/>
          <p:cNvGrpSpPr/>
          <p:nvPr/>
        </p:nvGrpSpPr>
        <p:grpSpPr>
          <a:xfrm>
            <a:off x="914400" y="1054080"/>
            <a:ext cx="231840" cy="177840"/>
            <a:chOff x="914400" y="1054080"/>
            <a:chExt cx="231840" cy="177840"/>
          </a:xfrm>
        </p:grpSpPr>
        <p:pic>
          <p:nvPicPr>
            <p:cNvPr id="72" name="Овал 22" descr=""/>
            <p:cNvPicPr/>
            <p:nvPr/>
          </p:nvPicPr>
          <p:blipFill>
            <a:blip r:embed="rId5"/>
            <a:stretch/>
          </p:blipFill>
          <p:spPr>
            <a:xfrm>
              <a:off x="914400" y="1054080"/>
              <a:ext cx="2318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952560" y="1082520"/>
              <a:ext cx="149040" cy="11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Овал 24"/>
          <p:cNvSpPr/>
          <p:nvPr/>
        </p:nvSpPr>
        <p:spPr>
          <a:xfrm>
            <a:off x="1157400" y="1008000"/>
            <a:ext cx="63360" cy="4932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0" y="1220760"/>
            <a:ext cx="9144000" cy="2430360"/>
          </a:xfrm>
          <a:prstGeom prst="rect">
            <a:avLst/>
          </a:prstGeom>
          <a:gradFill rotWithShape="0">
            <a:gsLst>
              <a:gs pos="0">
                <a:srgbClr val="71c4f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1222200"/>
            <a:ext cx="9144000" cy="2646360"/>
          </a:xfrm>
          <a:prstGeom prst="rect">
            <a:avLst/>
          </a:prstGeom>
          <a:blipFill rotWithShape="0">
            <a:blip r:embed="rId6">
              <a:alphaModFix amt="4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0" y="1112760"/>
            <a:ext cx="9144000" cy="109440"/>
          </a:xfrm>
          <a:prstGeom prst="rect">
            <a:avLst/>
          </a:prstGeom>
          <a:solidFill>
            <a:srgbClr val="244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0" y="3867120"/>
            <a:ext cx="9144000" cy="108000"/>
          </a:xfrm>
          <a:prstGeom prst="rect">
            <a:avLst/>
          </a:prstGeom>
          <a:solidFill>
            <a:srgbClr val="244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2"/>
          <p:cNvSpPr/>
          <p:nvPr/>
        </p:nvSpPr>
        <p:spPr>
          <a:xfrm>
            <a:off x="755640" y="1816200"/>
            <a:ext cx="7561440" cy="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5" descr="GEARS4"/>
          <p:cNvPicPr/>
          <p:nvPr/>
        </p:nvPicPr>
        <p:blipFill>
          <a:blip r:embed="rId7"/>
          <a:stretch/>
        </p:blipFill>
        <p:spPr>
          <a:xfrm>
            <a:off x="7812000" y="195120"/>
            <a:ext cx="1017720" cy="801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7" descr="rabot"/>
          <p:cNvPicPr/>
          <p:nvPr/>
        </p:nvPicPr>
        <p:blipFill>
          <a:blip r:embed="rId8"/>
          <a:stretch/>
        </p:blipFill>
        <p:spPr>
          <a:xfrm>
            <a:off x="250920" y="2895480"/>
            <a:ext cx="1800000" cy="1351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4" descr="06"/>
          <p:cNvPicPr/>
          <p:nvPr/>
        </p:nvPicPr>
        <p:blipFill>
          <a:blip r:embed="rId9"/>
          <a:stretch/>
        </p:blipFill>
        <p:spPr>
          <a:xfrm>
            <a:off x="826920" y="3975120"/>
            <a:ext cx="1081080" cy="5382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B7E7-0BE7-46B6-8154-942D3FE2840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ирог 6"/>
          <p:cNvSpPr/>
          <p:nvPr/>
        </p:nvSpPr>
        <p:spPr>
          <a:xfrm>
            <a:off x="-816120" y="-611280"/>
            <a:ext cx="1638360" cy="122868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179640 h 1228680"/>
              <a:gd name="textAreaBottom" fmla="*/ 1049040 h 1228680"/>
            </a:gdLst>
            <a:ahLst/>
            <a:rect l="textAreaLeft" t="textAreaTop" r="textAreaRight" b="textAreaBottom"/>
            <a:pathLst>
              <a:path w="1638887" h="1229165">
                <a:moveTo>
                  <a:pt x="1638887" y="614583"/>
                </a:moveTo>
                <a:lnTo>
                  <a:pt x="1638887" y="614583"/>
                </a:lnTo>
                <a:arcTo wR="819444" hR="614583" stAng="0" swAng="5402120"/>
                <a:lnTo>
                  <a:pt x="819444" y="614583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Овал 7"/>
          <p:cNvSpPr/>
          <p:nvPr/>
        </p:nvSpPr>
        <p:spPr>
          <a:xfrm>
            <a:off x="168120" y="15840"/>
            <a:ext cx="1703520" cy="127656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Кольцо 10"/>
          <p:cNvGrpSpPr/>
          <p:nvPr/>
        </p:nvGrpSpPr>
        <p:grpSpPr>
          <a:xfrm>
            <a:off x="212760" y="712800"/>
            <a:ext cx="1073160" cy="1012680"/>
            <a:chOff x="212760" y="712800"/>
            <a:chExt cx="1073160" cy="1012680"/>
          </a:xfrm>
        </p:grpSpPr>
        <p:pic>
          <p:nvPicPr>
            <p:cNvPr id="12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12760" y="712800"/>
              <a:ext cx="107316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 rot="2315400">
              <a:off x="347400" y="912600"/>
              <a:ext cx="7952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Прямоугольник 11"/>
          <p:cNvSpPr/>
          <p:nvPr/>
        </p:nvSpPr>
        <p:spPr>
          <a:xfrm>
            <a:off x="1012680" y="0"/>
            <a:ext cx="813132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4"/>
          <p:cNvSpPr/>
          <p:nvPr/>
        </p:nvSpPr>
        <p:spPr>
          <a:xfrm>
            <a:off x="1014480" y="0"/>
            <a:ext cx="7308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6"/>
          <p:cNvSpPr/>
          <p:nvPr/>
        </p:nvSpPr>
        <p:spPr>
          <a:xfrm flipH="1">
            <a:off x="2086920" y="4840200"/>
            <a:ext cx="6948360" cy="27000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48"/>
          <p:cNvSpPr/>
          <p:nvPr/>
        </p:nvSpPr>
        <p:spPr>
          <a:xfrm flipV="1">
            <a:off x="1908000" y="4840200"/>
            <a:ext cx="0" cy="27000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7"/>
          <p:cNvSpPr/>
          <p:nvPr/>
        </p:nvSpPr>
        <p:spPr>
          <a:xfrm flipH="1">
            <a:off x="2050200" y="4840200"/>
            <a:ext cx="71640" cy="270000"/>
          </a:xfrm>
          <a:prstGeom prst="rect">
            <a:avLst/>
          </a:prstGeom>
          <a:solidFill>
            <a:srgbClr val="e3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5"/>
          <p:cNvSpPr/>
          <p:nvPr/>
        </p:nvSpPr>
        <p:spPr>
          <a:xfrm>
            <a:off x="1440" y="141120"/>
            <a:ext cx="9142560" cy="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29"/>
          <p:cNvSpPr/>
          <p:nvPr/>
        </p:nvSpPr>
        <p:spPr>
          <a:xfrm flipV="1">
            <a:off x="108000" y="4840200"/>
            <a:ext cx="0" cy="27000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4"/>
          <p:cNvSpPr/>
          <p:nvPr/>
        </p:nvSpPr>
        <p:spPr>
          <a:xfrm>
            <a:off x="108000" y="230040"/>
            <a:ext cx="8567640" cy="7308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31"/>
          <p:cNvSpPr/>
          <p:nvPr/>
        </p:nvSpPr>
        <p:spPr>
          <a:xfrm flipH="1">
            <a:off x="108000" y="195120"/>
            <a:ext cx="8640720" cy="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32" descr="rabot"/>
          <p:cNvPicPr/>
          <p:nvPr/>
        </p:nvPicPr>
        <p:blipFill>
          <a:blip r:embed="rId4"/>
          <a:stretch/>
        </p:blipFill>
        <p:spPr>
          <a:xfrm>
            <a:off x="179280" y="0"/>
            <a:ext cx="1225800" cy="9190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5C07-B6EE-4D0A-B0A6-CD84C7D2DA0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22"/>
          <p:cNvSpPr/>
          <p:nvPr/>
        </p:nvSpPr>
        <p:spPr>
          <a:xfrm>
            <a:off x="2282760" y="0"/>
            <a:ext cx="685800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24"/>
          <p:cNvSpPr/>
          <p:nvPr/>
        </p:nvSpPr>
        <p:spPr>
          <a:xfrm>
            <a:off x="2286000" y="0"/>
            <a:ext cx="7632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Овал 25"/>
          <p:cNvGrpSpPr/>
          <p:nvPr/>
        </p:nvGrpSpPr>
        <p:grpSpPr>
          <a:xfrm>
            <a:off x="2163600" y="2103480"/>
            <a:ext cx="231840" cy="176040"/>
            <a:chOff x="2163600" y="2103480"/>
            <a:chExt cx="231840" cy="176040"/>
          </a:xfrm>
        </p:grpSpPr>
        <p:pic>
          <p:nvPicPr>
            <p:cNvPr id="183" name="Овал 25" descr=""/>
            <p:cNvPicPr/>
            <p:nvPr/>
          </p:nvPicPr>
          <p:blipFill>
            <a:blip r:embed="rId3"/>
            <a:stretch/>
          </p:blipFill>
          <p:spPr>
            <a:xfrm>
              <a:off x="2163600" y="2103480"/>
              <a:ext cx="231840" cy="17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2203560" y="2133720"/>
              <a:ext cx="14760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Овал 26"/>
          <p:cNvSpPr/>
          <p:nvPr/>
        </p:nvSpPr>
        <p:spPr>
          <a:xfrm>
            <a:off x="2408400" y="2058840"/>
            <a:ext cx="63360" cy="4932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75D4-8679-4CDA-88CB-416F5DB104A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ирог 6"/>
          <p:cNvSpPr/>
          <p:nvPr/>
        </p:nvSpPr>
        <p:spPr>
          <a:xfrm>
            <a:off x="-816120" y="-611280"/>
            <a:ext cx="1638360" cy="122868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179640 h 1228680"/>
              <a:gd name="textAreaBottom" fmla="*/ 1049040 h 1228680"/>
            </a:gdLst>
            <a:ahLst/>
            <a:rect l="textAreaLeft" t="textAreaTop" r="textAreaRight" b="textAreaBottom"/>
            <a:pathLst>
              <a:path w="1638887" h="1229165">
                <a:moveTo>
                  <a:pt x="1638887" y="614583"/>
                </a:moveTo>
                <a:lnTo>
                  <a:pt x="1638887" y="614583"/>
                </a:lnTo>
                <a:arcTo wR="819444" hR="614583" stAng="0" swAng="5402120"/>
                <a:lnTo>
                  <a:pt x="819444" y="614583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Овал 7"/>
          <p:cNvSpPr/>
          <p:nvPr/>
        </p:nvSpPr>
        <p:spPr>
          <a:xfrm>
            <a:off x="168120" y="15840"/>
            <a:ext cx="1703520" cy="127656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Кольцо 10"/>
          <p:cNvGrpSpPr/>
          <p:nvPr/>
        </p:nvGrpSpPr>
        <p:grpSpPr>
          <a:xfrm>
            <a:off x="212760" y="712800"/>
            <a:ext cx="1073160" cy="1012680"/>
            <a:chOff x="212760" y="712800"/>
            <a:chExt cx="1073160" cy="1012680"/>
          </a:xfrm>
        </p:grpSpPr>
        <p:pic>
          <p:nvPicPr>
            <p:cNvPr id="230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12760" y="712800"/>
              <a:ext cx="107316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 rot="2315400">
              <a:off x="347400" y="912600"/>
              <a:ext cx="7952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Прямоугольник 11"/>
          <p:cNvSpPr/>
          <p:nvPr/>
        </p:nvSpPr>
        <p:spPr>
          <a:xfrm>
            <a:off x="1012680" y="0"/>
            <a:ext cx="813132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14"/>
          <p:cNvSpPr/>
          <p:nvPr/>
        </p:nvSpPr>
        <p:spPr>
          <a:xfrm>
            <a:off x="1014480" y="0"/>
            <a:ext cx="7308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6"/>
          <p:cNvSpPr/>
          <p:nvPr/>
        </p:nvSpPr>
        <p:spPr>
          <a:xfrm flipH="1">
            <a:off x="2086920" y="4840200"/>
            <a:ext cx="6948360" cy="27000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8"/>
          <p:cNvSpPr/>
          <p:nvPr/>
        </p:nvSpPr>
        <p:spPr>
          <a:xfrm flipV="1">
            <a:off x="1908000" y="4840200"/>
            <a:ext cx="0" cy="27000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7"/>
          <p:cNvSpPr/>
          <p:nvPr/>
        </p:nvSpPr>
        <p:spPr>
          <a:xfrm flipH="1">
            <a:off x="2050200" y="4840200"/>
            <a:ext cx="71640" cy="270000"/>
          </a:xfrm>
          <a:prstGeom prst="rect">
            <a:avLst/>
          </a:prstGeom>
          <a:solidFill>
            <a:srgbClr val="e3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5"/>
          <p:cNvSpPr/>
          <p:nvPr/>
        </p:nvSpPr>
        <p:spPr>
          <a:xfrm>
            <a:off x="1440" y="141120"/>
            <a:ext cx="9142560" cy="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29"/>
          <p:cNvSpPr/>
          <p:nvPr/>
        </p:nvSpPr>
        <p:spPr>
          <a:xfrm flipV="1">
            <a:off x="108000" y="4840200"/>
            <a:ext cx="0" cy="27000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4"/>
          <p:cNvSpPr/>
          <p:nvPr/>
        </p:nvSpPr>
        <p:spPr>
          <a:xfrm>
            <a:off x="108000" y="230040"/>
            <a:ext cx="8567640" cy="7308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31"/>
          <p:cNvSpPr/>
          <p:nvPr/>
        </p:nvSpPr>
        <p:spPr>
          <a:xfrm flipH="1">
            <a:off x="108000" y="195120"/>
            <a:ext cx="8640720" cy="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32" descr="rabot"/>
          <p:cNvPicPr/>
          <p:nvPr/>
        </p:nvPicPr>
        <p:blipFill>
          <a:blip r:embed="rId4"/>
          <a:stretch/>
        </p:blipFill>
        <p:spPr>
          <a:xfrm>
            <a:off x="179280" y="0"/>
            <a:ext cx="1225800" cy="9190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3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4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5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5B6D-DA23-4B79-BF14-C566EC414F2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6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7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8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0F42-BEE4-491A-8880-45F099E762E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Пирог 6"/>
          <p:cNvSpPr/>
          <p:nvPr/>
        </p:nvSpPr>
        <p:spPr>
          <a:xfrm>
            <a:off x="-816120" y="-611280"/>
            <a:ext cx="1638360" cy="122868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179640 h 1228680"/>
              <a:gd name="textAreaBottom" fmla="*/ 1049040 h 1228680"/>
            </a:gdLst>
            <a:ahLst/>
            <a:rect l="textAreaLeft" t="textAreaTop" r="textAreaRight" b="textAreaBottom"/>
            <a:pathLst>
              <a:path w="1638887" h="1229165">
                <a:moveTo>
                  <a:pt x="1638887" y="614583"/>
                </a:moveTo>
                <a:lnTo>
                  <a:pt x="1638887" y="614583"/>
                </a:lnTo>
                <a:arcTo wR="819444" hR="614583" stAng="0" swAng="5402120"/>
                <a:lnTo>
                  <a:pt x="819444" y="614583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Овал 7"/>
          <p:cNvSpPr/>
          <p:nvPr/>
        </p:nvSpPr>
        <p:spPr>
          <a:xfrm>
            <a:off x="168120" y="15840"/>
            <a:ext cx="1703520" cy="127656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Кольцо 10"/>
          <p:cNvGrpSpPr/>
          <p:nvPr/>
        </p:nvGrpSpPr>
        <p:grpSpPr>
          <a:xfrm>
            <a:off x="212760" y="712800"/>
            <a:ext cx="1073160" cy="1012680"/>
            <a:chOff x="212760" y="712800"/>
            <a:chExt cx="1073160" cy="1012680"/>
          </a:xfrm>
        </p:grpSpPr>
        <p:pic>
          <p:nvPicPr>
            <p:cNvPr id="32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12760" y="712800"/>
              <a:ext cx="107316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 rot="2315400">
              <a:off x="347400" y="912600"/>
              <a:ext cx="7952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Прямоугольник 11"/>
          <p:cNvSpPr/>
          <p:nvPr/>
        </p:nvSpPr>
        <p:spPr>
          <a:xfrm>
            <a:off x="1012680" y="0"/>
            <a:ext cx="813132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14"/>
          <p:cNvSpPr/>
          <p:nvPr/>
        </p:nvSpPr>
        <p:spPr>
          <a:xfrm>
            <a:off x="1014480" y="0"/>
            <a:ext cx="7308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6"/>
          <p:cNvSpPr/>
          <p:nvPr/>
        </p:nvSpPr>
        <p:spPr>
          <a:xfrm flipH="1">
            <a:off x="2086920" y="4840200"/>
            <a:ext cx="6948360" cy="27000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48"/>
          <p:cNvSpPr/>
          <p:nvPr/>
        </p:nvSpPr>
        <p:spPr>
          <a:xfrm flipV="1">
            <a:off x="1908000" y="4840200"/>
            <a:ext cx="0" cy="27000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57"/>
          <p:cNvSpPr/>
          <p:nvPr/>
        </p:nvSpPr>
        <p:spPr>
          <a:xfrm flipH="1">
            <a:off x="2050200" y="4840200"/>
            <a:ext cx="71640" cy="270000"/>
          </a:xfrm>
          <a:prstGeom prst="rect">
            <a:avLst/>
          </a:prstGeom>
          <a:solidFill>
            <a:srgbClr val="e3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55"/>
          <p:cNvSpPr/>
          <p:nvPr/>
        </p:nvSpPr>
        <p:spPr>
          <a:xfrm>
            <a:off x="1440" y="141120"/>
            <a:ext cx="9142560" cy="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29"/>
          <p:cNvSpPr/>
          <p:nvPr/>
        </p:nvSpPr>
        <p:spPr>
          <a:xfrm flipV="1">
            <a:off x="108000" y="4840200"/>
            <a:ext cx="0" cy="27000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54"/>
          <p:cNvSpPr/>
          <p:nvPr/>
        </p:nvSpPr>
        <p:spPr>
          <a:xfrm>
            <a:off x="108000" y="230040"/>
            <a:ext cx="8567640" cy="7308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31"/>
          <p:cNvSpPr/>
          <p:nvPr/>
        </p:nvSpPr>
        <p:spPr>
          <a:xfrm flipH="1">
            <a:off x="108000" y="195120"/>
            <a:ext cx="8640720" cy="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32" descr="rabot"/>
          <p:cNvPicPr/>
          <p:nvPr/>
        </p:nvPicPr>
        <p:blipFill>
          <a:blip r:embed="rId4"/>
          <a:stretch/>
        </p:blipFill>
        <p:spPr>
          <a:xfrm>
            <a:off x="179280" y="0"/>
            <a:ext cx="1225800" cy="91908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19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0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1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4B96-2888-470F-8F33-4B4B304E330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Прямоугольник 22"/>
          <p:cNvSpPr/>
          <p:nvPr/>
        </p:nvSpPr>
        <p:spPr>
          <a:xfrm>
            <a:off x="1014480" y="0"/>
            <a:ext cx="812952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ик 24"/>
          <p:cNvSpPr/>
          <p:nvPr/>
        </p:nvSpPr>
        <p:spPr>
          <a:xfrm>
            <a:off x="1014480" y="0"/>
            <a:ext cx="7308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2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3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4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1356-8DA2-4BA0-8131-FCC1732B701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5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6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7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BB7F-7B91-46BB-9677-6FB229FE34C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486240" y="1339920"/>
            <a:ext cx="565776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0000"/>
                </a:solidFill>
                <a:latin typeface="Corbel"/>
              </a:rPr>
              <a:t>Основы воспитания финансовой грамотности детей дошкольного возраст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623" name="Picture 27" descr="http://skazylesa.ru/wp-content/uploads/2018/01/hvfh-photo1.jpg"/>
          <p:cNvPicPr/>
          <p:nvPr/>
        </p:nvPicPr>
        <p:blipFill>
          <a:blip r:embed="rId1"/>
          <a:stretch/>
        </p:blipFill>
        <p:spPr>
          <a:xfrm>
            <a:off x="0" y="0"/>
            <a:ext cx="1785960" cy="11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37216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а « Кто кем работает?»</a:t>
            </a: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-143280" y="856800"/>
            <a:ext cx="928692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5280" indent="-282600">
              <a:lnSpc>
                <a:spcPct val="9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На примере сказочных героев закрепить и расширить представление о профессии. Воспитывать желание познавать многообразный мир профессий, уважение к человеку-труженику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95280" indent="-282600">
              <a:lnSpc>
                <a:spcPct val="9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териал.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Кукла-Загадка, рисунки с изображениями людей разных профессий и сказочных героев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95280" indent="-282600">
              <a:lnSpc>
                <a:spcPct val="9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уть игры: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кажите детям картинки, на которых изображены люди разных профессий. Дети, ориентируясь по рисункам, называют профессии родителей, своих близких, всех тех, с кем они встречаются. Получив из кассы картинки с изображениями сказочных героев, просит отгадать их профессии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95280" indent="-282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дайте девочкам рисунки с изображением сказочных персонажей, а мальчикам - с изображениями людей разных профессий. По сигналу колокольчика девочки и мальчики начинают искать свою пару и по двое садятся за столы, а затем по очереди доказывают правильность своего выбора. Можно предложить детям, чтобы с помощью движений, имитаций и других образных действий они показали профессию своего героя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95280" indent="-282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рганизуйте постепенный переход к сюжетно – ролевым игр на эту тему. Можно провести и беседы о том, как относится к своему труду герой, кто производит товары, а кто предоставляет услуги (если дети знакомы с этими понятиями)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95280" indent="-282600">
              <a:lnSpc>
                <a:spcPct val="9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TextBox 1"/>
          <p:cNvSpPr/>
          <p:nvPr/>
        </p:nvSpPr>
        <p:spPr>
          <a:xfrm>
            <a:off x="1569600" y="1717560"/>
            <a:ext cx="602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южетно-ролевой игре участники учатся действовать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личных профессиональных компетенциях, то е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меряют роли специалис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2"/>
          <p:cNvSpPr/>
          <p:nvPr/>
        </p:nvSpPr>
        <p:spPr>
          <a:xfrm>
            <a:off x="2063160" y="700200"/>
            <a:ext cx="39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южетно-ролевые иг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4"/>
          <p:cNvSpPr/>
          <p:nvPr/>
        </p:nvSpPr>
        <p:spPr>
          <a:xfrm>
            <a:off x="1630440" y="278748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 закрепить знания детей о том, для ч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ужны деньги, дать новое понятие «товар», «цена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окупка»; воспитывать культуру взаимоотно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жду продавцом и покупател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7"/>
          <p:cNvSpPr/>
          <p:nvPr/>
        </p:nvSpPr>
        <p:spPr>
          <a:xfrm>
            <a:off x="1547640" y="136836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Магазин, супермаркет, автосалон, аптека, банк и д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285920" y="356760"/>
            <a:ext cx="740088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835e01"/>
                </a:solidFill>
                <a:uFillTx/>
                <a:latin typeface="Times New Roman"/>
                <a:ea typeface="Times New Roman"/>
              </a:rPr>
              <a:t>Пословицы и поговорки об экономическом поведении: как ты понимаешь ?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457200" y="971280"/>
            <a:ext cx="8229600" cy="360036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з труда не вытащить рыбку из пруд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мь раз отмерь, один раз отреж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мастерством люди не родятся, а добытым ремеслом гордятс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всякое дело берись умел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мелец да рукодельник и себе и людям радость приносит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оро сказка сказывается, да не скоро дело делается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15640" y="215640"/>
            <a:ext cx="787716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rbel"/>
              </a:rPr>
              <a:t>Простые правила экономического поведения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656" name="Picture 5" descr="80-2"/>
          <p:cNvPicPr/>
          <p:nvPr/>
        </p:nvPicPr>
        <p:blipFill>
          <a:blip r:embed="rId1"/>
          <a:stretch/>
        </p:blipFill>
        <p:spPr>
          <a:xfrm>
            <a:off x="380880" y="730080"/>
            <a:ext cx="857520" cy="85752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6" descr="80-2"/>
          <p:cNvPicPr/>
          <p:nvPr/>
        </p:nvPicPr>
        <p:blipFill>
          <a:blip r:embed="rId2"/>
          <a:stretch/>
        </p:blipFill>
        <p:spPr>
          <a:xfrm>
            <a:off x="380880" y="1771560"/>
            <a:ext cx="857520" cy="85752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7" descr="80-2"/>
          <p:cNvPicPr/>
          <p:nvPr/>
        </p:nvPicPr>
        <p:blipFill>
          <a:blip r:embed="rId3"/>
          <a:stretch/>
        </p:blipFill>
        <p:spPr>
          <a:xfrm>
            <a:off x="457200" y="280044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8" descr="80-2"/>
          <p:cNvPicPr/>
          <p:nvPr/>
        </p:nvPicPr>
        <p:blipFill>
          <a:blip r:embed="rId4"/>
          <a:stretch/>
        </p:blipFill>
        <p:spPr>
          <a:xfrm>
            <a:off x="457200" y="388620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660" name="Text Box 9"/>
          <p:cNvSpPr/>
          <p:nvPr/>
        </p:nvSpPr>
        <p:spPr>
          <a:xfrm>
            <a:off x="1676520" y="800280"/>
            <a:ext cx="6933960" cy="64260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Всегда соразмеряй свои желания и возможности, делай выбор в пользу главного и необходим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10"/>
          <p:cNvSpPr/>
          <p:nvPr/>
        </p:nvSpPr>
        <p:spPr>
          <a:xfrm>
            <a:off x="1676520" y="1886040"/>
            <a:ext cx="6949800" cy="64260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омни, что только честным трудом, своими знаниями можно добиться настоящего успе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1"/>
          <p:cNvSpPr/>
          <p:nvPr/>
        </p:nvSpPr>
        <p:spPr>
          <a:xfrm>
            <a:off x="1676520" y="2887560"/>
            <a:ext cx="6933960" cy="64260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режде, чем что-то сделать, узнай все о том, как, зачем и почему это нужно делать, какие могут быть послед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12"/>
          <p:cNvSpPr/>
          <p:nvPr/>
        </p:nvSpPr>
        <p:spPr>
          <a:xfrm>
            <a:off x="1676520" y="3943440"/>
            <a:ext cx="6933960" cy="91692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омни, что ты живешь среди людей и сотрудничество с ними, уважение их стремлений – важная часть успеха на пути к твоим цел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123840"/>
            <a:ext cx="87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166a"/>
                </a:solidFill>
                <a:latin typeface="Times New Roman"/>
                <a:ea typeface="Times New Roman"/>
              </a:rPr>
              <a:t>СПАСИБО </a:t>
            </a:r>
            <a:br>
              <a:rPr sz="4000"/>
            </a:br>
            <a:r>
              <a:rPr b="1" lang="ru-RU" sz="4000" spc="-1" strike="noStrike">
                <a:solidFill>
                  <a:srgbClr val="70166a"/>
                </a:solidFill>
                <a:latin typeface="Times New Roman"/>
                <a:ea typeface="Times New Roman"/>
              </a:rPr>
              <a:t>ЗА </a:t>
            </a:r>
            <a:br>
              <a:rPr sz="4000"/>
            </a:br>
            <a:r>
              <a:rPr b="1" lang="ru-RU" sz="4000" spc="-1" strike="noStrike">
                <a:solidFill>
                  <a:srgbClr val="70166a"/>
                </a:solidFill>
                <a:latin typeface="Times New Roman"/>
                <a:ea typeface="Times New Roman"/>
              </a:rPr>
              <a:t>ВНИМАНИЕ</a:t>
            </a:r>
            <a:r>
              <a:rPr b="1" lang="ru-RU" sz="6000" spc="-1" strike="noStrike">
                <a:solidFill>
                  <a:srgbClr val="70166a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65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Picture 10" descr="C:\Users\Rudik\Desktop\1661969578_20-klubmama-ru-p-podelka-v-sad-finansovaya-gramotnost-foto-23.jpg"/>
          <p:cNvPicPr/>
          <p:nvPr/>
        </p:nvPicPr>
        <p:blipFill>
          <a:blip r:embed="rId1"/>
          <a:stretch/>
        </p:blipFill>
        <p:spPr>
          <a:xfrm>
            <a:off x="6227640" y="2284560"/>
            <a:ext cx="2602080" cy="21398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885840" y="339840"/>
            <a:ext cx="52578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«Деньги, которыми обладаешь </a:t>
            </a:r>
            <a:br>
              <a:rPr sz="1600"/>
            </a:br>
            <a:r>
              <a:rPr b="0" lang="ru-RU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– орудие свободы; </a:t>
            </a:r>
            <a:br>
              <a:rPr sz="1600"/>
            </a:br>
            <a:r>
              <a:rPr b="0" lang="ru-RU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те, за которыми гонишься </a:t>
            </a:r>
            <a:br>
              <a:rPr sz="1600"/>
            </a:br>
            <a:r>
              <a:rPr b="0" lang="ru-RU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— орудие рабства»</a:t>
            </a:r>
            <a:br>
              <a:rPr sz="1600"/>
            </a:br>
            <a:r>
              <a:rPr b="0" i="1" lang="ru-RU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Жан-Жак Руссо</a:t>
            </a:r>
            <a:endParaRPr b="0" lang="en-US" sz="1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625" name="Picture 7" descr="http://edukovrov.ru/sites/default/files/finansovaja-gramotnost-s-chego-nachat.jpg"/>
          <p:cNvPicPr/>
          <p:nvPr/>
        </p:nvPicPr>
        <p:blipFill>
          <a:blip r:embed="rId1"/>
          <a:stretch/>
        </p:blipFill>
        <p:spPr>
          <a:xfrm>
            <a:off x="2286000" y="1643040"/>
            <a:ext cx="5715000" cy="31719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956960" y="714240"/>
            <a:ext cx="71866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овременная жизнь диктует свои стандарты: в условиях рыночной экономики человеку в любом возрасте, чтобы быть успешным, необходимо быть финансово грамотным. Поэтому обучение основам экономических знаний необходимо начинать уже в детском саду, ведь представления о деньгах и их применении начинают формироваться в дошкольном возрасте.</a:t>
            </a:r>
            <a:endParaRPr b="0" lang="en-US" sz="1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627" name="Picture 2" descr="https://ds04.infourok.ru/uploads/ex/0495/000d7214-9f04302d/img0.jpg"/>
          <p:cNvPicPr/>
          <p:nvPr/>
        </p:nvPicPr>
        <p:blipFill>
          <a:blip r:embed="rId1"/>
          <a:srcRect l="6375" t="48488" r="3694" b="3029"/>
          <a:stretch/>
        </p:blipFill>
        <p:spPr>
          <a:xfrm>
            <a:off x="214200" y="2000160"/>
            <a:ext cx="8717040" cy="24591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357120" y="285480"/>
            <a:ext cx="8786880" cy="42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800" spc="-1" strike="noStrike">
                <a:solidFill>
                  <a:srgbClr val="c58d01"/>
                </a:solidFill>
                <a:latin typeface="Times New Roman"/>
                <a:ea typeface="Times New Roman"/>
              </a:rPr>
              <a:t>Финансовая грамот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— это умение использовать знания и навыки для принятия правильных решений, связанных с деньгами и тратам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285920" y="321840"/>
            <a:ext cx="7400880" cy="8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так, самое первое, необходимо заинтересовать ребенка.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вая ступень - возраст с 5 до 7 лет.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214200" y="1071720"/>
            <a:ext cx="878688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 время главные детские черты -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юбопытство и любознательность, неусидчивость, неумение сконцентрировать внимание, но при этом - огромные запасы энергии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раз в этом возрасте пора учить, как вести счет деньгам, пониманию ценности и назначению денег. Формировать умение отличать желания от потребностей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ая форма обучения - </a:t>
            </a:r>
            <a:r>
              <a:rPr b="0" lang="ru-RU" sz="3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а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56760" y="1285920"/>
            <a:ext cx="5286600" cy="33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менно через игру ребенок осваивает и познает мир. Обучение, осуществляемое с помощью игры, естественно для дошкольника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ние в дидактической игре - появляется уже в дошкольном возрасте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.Д. Ушинский подчеркивал, что </a:t>
            </a:r>
            <a:r>
              <a:rPr b="0" lang="ru-RU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обучение в форме игры может и должно быть интересным, занимательным, но никогда не развлекающи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Прямоугольник 4"/>
          <p:cNvSpPr/>
          <p:nvPr/>
        </p:nvSpPr>
        <p:spPr>
          <a:xfrm>
            <a:off x="2286000" y="339840"/>
            <a:ext cx="444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оды и приемы работы с детьми по финансовой грамо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5"/>
          <p:cNvSpPr/>
          <p:nvPr/>
        </p:nvSpPr>
        <p:spPr>
          <a:xfrm>
            <a:off x="973800" y="16351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Облако 11"/>
          <p:cNvSpPr/>
          <p:nvPr/>
        </p:nvSpPr>
        <p:spPr>
          <a:xfrm>
            <a:off x="5904000" y="3940200"/>
            <a:ext cx="3168720" cy="1071360"/>
          </a:xfrm>
          <a:prstGeom prst="pie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13"/>
          <p:cNvSpPr/>
          <p:nvPr/>
        </p:nvSpPr>
        <p:spPr>
          <a:xfrm>
            <a:off x="1771560" y="398628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Рисунок 14" descr=""/>
          <p:cNvPicPr/>
          <p:nvPr/>
        </p:nvPicPr>
        <p:blipFill>
          <a:blip r:embed="rId1"/>
          <a:stretch/>
        </p:blipFill>
        <p:spPr>
          <a:xfrm>
            <a:off x="5904000" y="595440"/>
            <a:ext cx="3206520" cy="1225440"/>
          </a:xfrm>
          <a:prstGeom prst="rect">
            <a:avLst/>
          </a:prstGeom>
          <a:ln w="0">
            <a:noFill/>
          </a:ln>
        </p:spPr>
      </p:pic>
      <p:pic>
        <p:nvPicPr>
          <p:cNvPr id="638" name="Рисунок 16" descr=""/>
          <p:cNvPicPr/>
          <p:nvPr/>
        </p:nvPicPr>
        <p:blipFill>
          <a:blip r:embed="rId2"/>
          <a:stretch/>
        </p:blipFill>
        <p:spPr>
          <a:xfrm>
            <a:off x="5932440" y="2374920"/>
            <a:ext cx="3206880" cy="1225440"/>
          </a:xfrm>
          <a:prstGeom prst="rect">
            <a:avLst/>
          </a:prstGeom>
          <a:ln w="0">
            <a:noFill/>
          </a:ln>
        </p:spPr>
      </p:pic>
      <p:pic>
        <p:nvPicPr>
          <p:cNvPr id="639" name="Рисунок 18" descr=""/>
          <p:cNvPicPr/>
          <p:nvPr/>
        </p:nvPicPr>
        <p:blipFill>
          <a:blip r:embed="rId3"/>
          <a:stretch/>
        </p:blipFill>
        <p:spPr>
          <a:xfrm>
            <a:off x="3122640" y="1486080"/>
            <a:ext cx="3689280" cy="1304640"/>
          </a:xfrm>
          <a:prstGeom prst="rect">
            <a:avLst/>
          </a:prstGeom>
          <a:ln w="0">
            <a:noFill/>
          </a:ln>
        </p:spPr>
      </p:pic>
      <p:pic>
        <p:nvPicPr>
          <p:cNvPr id="640" name="Рисунок 19" descr=""/>
          <p:cNvPicPr/>
          <p:nvPr/>
        </p:nvPicPr>
        <p:blipFill>
          <a:blip r:embed="rId4"/>
          <a:stretch/>
        </p:blipFill>
        <p:spPr>
          <a:xfrm>
            <a:off x="3165480" y="3371760"/>
            <a:ext cx="3395520" cy="1047960"/>
          </a:xfrm>
          <a:prstGeom prst="rect">
            <a:avLst/>
          </a:prstGeom>
          <a:ln w="0">
            <a:noFill/>
          </a:ln>
        </p:spPr>
      </p:pic>
      <p:pic>
        <p:nvPicPr>
          <p:cNvPr id="641" name="Рисунок 20" descr=""/>
          <p:cNvPicPr/>
          <p:nvPr/>
        </p:nvPicPr>
        <p:blipFill>
          <a:blip r:embed="rId5"/>
          <a:stretch/>
        </p:blipFill>
        <p:spPr>
          <a:xfrm>
            <a:off x="31680" y="1419120"/>
            <a:ext cx="3090960" cy="33591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rbel"/>
              </a:rPr>
              <a:t>Необходимо 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Corbel"/>
              </a:rPr>
              <a:t>с помощью игр и практических занятий детям донести: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213840" y="856800"/>
            <a:ext cx="8929800" cy="37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ги не появляются сами собой, а зарабатываются!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Объясняем, как люди зарабатывают деньги и каким образом заработок зависит от вида деятельности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ачала зарабатываем – потом тратим.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Рассказываем, что «из тумбочки можно взять только то, что в нее положили», – соответственно, чем больше зарабатываешь и разумнее тратишь, тем больше можешь купить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мость товара зависит от его качества, нужности и от того, насколько сложно его произвести. 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ясняем, что цена – это количество денег, которые надо отдать, а товар в магазине – это результат труда других людей, поэтому он стоит денег; люди как бы меняют свой труд на труд других людей, и в этой цепочке деньги – это посредник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ги любят счет.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Приучаем считать сдачу и вообще быстро и внимательно считать деньги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ы нужно планировать.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риучаем вести учет доходов и расходов в краткосрочном периоде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и деньги бывают объектом чужого интереса.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Договариваемся о ключевых правилах финансовой безопасности и о том, к кому нужно обращаться в экстренных случаях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се покупается. 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виваем понимание того, что 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е ценности – жизнь, отношения, радость близких людей – за деньги не купишь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ы – это интересно и увлекательно!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 </a:t>
            </a:r>
            <a:r>
              <a:rPr b="1" lang="ru-RU" sz="3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а «Размен»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56760" y="785520"/>
            <a:ext cx="8572680" cy="24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 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 считать деньги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ые материалы: 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еты и купюры разных номиналов.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участников: 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5.  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ть игры: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дайте детям мелкие монеты, по 2-3 десятка каждому. А себе оставьте несколько банкнот разного номинала. Это игра-соревнование. Кто из игроков быстрее разменяет выложенную вами банкноту мелочью, тому банкнота и достается. В конце игры считаем суммы выигрышей.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646" name="Рисунок 3" descr="https://arhivurokov.ru/intolimp/html/2017/03/15/i_58c97dadee905/phpd9xOiH_Kartoteka-igr-po-finansam_3.png"/>
          <p:cNvPicPr/>
          <p:nvPr/>
        </p:nvPicPr>
        <p:blipFill>
          <a:blip r:embed="rId1"/>
          <a:stretch/>
        </p:blipFill>
        <p:spPr>
          <a:xfrm>
            <a:off x="4000680" y="3071880"/>
            <a:ext cx="2896920" cy="17859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8T10:43:38Z</dcterms:created>
  <dc:creator>Дизайнер</dc:creator>
  <dc:description/>
  <dc:language>en-US</dc:language>
  <cp:lastModifiedBy>Rudik</cp:lastModifiedBy>
  <dcterms:modified xsi:type="dcterms:W3CDTF">2023-06-20T03:30:41Z</dcterms:modified>
  <cp:revision>88</cp:revision>
  <dc:subject/>
  <dc:title>шаблон для презентаций</dc:title>
</cp:coreProperties>
</file>