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706-D7BC-4B82-8523-22F8B9FD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0E4-B31A-49FD-B846-F2DF84F5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FF8-00BC-4270-A1E0-A3AD007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5E2-D637-470D-ABA8-2B4FE732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C5F-5A22-48E4-AC03-F4D5E05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A6D-D815-48D8-ADFF-D4B4425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CD4-9229-494D-9BF8-F047EDFF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D17-9668-4FEC-80B0-2A10BE9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F20-7023-4F2C-9750-0289652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508-28C0-482A-B595-6A280D3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B3A-3A9D-4E78-A4F4-60926AB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D65-6913-44AC-BA72-548349E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CE94-DE68-4F4B-ACF4-62F901D80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39"/>
          <p:cNvPicPr/>
          <p:nvPr/>
        </p:nvPicPr>
        <p:blipFill>
          <a:blip r:embed="rId1"/>
          <a:stretch/>
        </p:blipFill>
        <p:spPr>
          <a:xfrm rot="20662800">
            <a:off x="2411280" y="4365360"/>
            <a:ext cx="1494000" cy="1512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>
            <a:off x="2195640" y="981000"/>
            <a:ext cx="538956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есёлые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15"/>
          <p:cNvSpPr txBox="1"/>
          <p:nvPr/>
        </p:nvSpPr>
        <p:spPr>
          <a:xfrm>
            <a:off x="1692360" y="4292640"/>
            <a:ext cx="63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    машки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-4158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3079080" y="1586160"/>
            <a:ext cx="3353400" cy="2850480"/>
            <a:chOff x="3079080" y="1586160"/>
            <a:chExt cx="3353400" cy="2850480"/>
          </a:xfrm>
        </p:grpSpPr>
        <p:pic>
          <p:nvPicPr>
            <p:cNvPr id="46" name="Picture 19" descr="b39"/>
            <p:cNvPicPr/>
            <p:nvPr/>
          </p:nvPicPr>
          <p:blipFill>
            <a:blip r:embed="rId2"/>
            <a:stretch/>
          </p:blipFill>
          <p:spPr>
            <a:xfrm rot="1122000">
              <a:off x="3239640" y="2325960"/>
              <a:ext cx="591120" cy="5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0" descr="b39"/>
            <p:cNvPicPr/>
            <p:nvPr/>
          </p:nvPicPr>
          <p:blipFill>
            <a:blip r:embed="rId3"/>
            <a:stretch/>
          </p:blipFill>
          <p:spPr>
            <a:xfrm rot="1122000">
              <a:off x="3930120" y="17899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1" descr="b39"/>
            <p:cNvPicPr/>
            <p:nvPr/>
          </p:nvPicPr>
          <p:blipFill>
            <a:blip r:embed="rId4"/>
            <a:stretch/>
          </p:blipFill>
          <p:spPr>
            <a:xfrm rot="20782200">
              <a:off x="4429800" y="2280960"/>
              <a:ext cx="9864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2" descr="b39"/>
            <p:cNvPicPr/>
            <p:nvPr/>
          </p:nvPicPr>
          <p:blipFill>
            <a:blip r:embed="rId5"/>
            <a:stretch/>
          </p:blipFill>
          <p:spPr>
            <a:xfrm rot="1122000">
              <a:off x="3380400" y="27727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3" descr="b39"/>
            <p:cNvPicPr/>
            <p:nvPr/>
          </p:nvPicPr>
          <p:blipFill>
            <a:blip r:embed="rId6"/>
            <a:stretch/>
          </p:blipFill>
          <p:spPr>
            <a:xfrm rot="1122000">
              <a:off x="5328720" y="2907720"/>
              <a:ext cx="739800" cy="6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4" descr="b39"/>
            <p:cNvPicPr/>
            <p:nvPr/>
          </p:nvPicPr>
          <p:blipFill>
            <a:blip r:embed="rId7"/>
            <a:stretch/>
          </p:blipFill>
          <p:spPr>
            <a:xfrm rot="19098600">
              <a:off x="3331440" y="2952000"/>
              <a:ext cx="9367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5" descr="b39"/>
            <p:cNvPicPr/>
            <p:nvPr/>
          </p:nvPicPr>
          <p:blipFill>
            <a:blip r:embed="rId8"/>
            <a:stretch/>
          </p:blipFill>
          <p:spPr>
            <a:xfrm rot="20553600">
              <a:off x="4280400" y="1700280"/>
              <a:ext cx="8870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b39"/>
            <p:cNvPicPr/>
            <p:nvPr/>
          </p:nvPicPr>
          <p:blipFill>
            <a:blip r:embed="rId9"/>
            <a:stretch/>
          </p:blipFill>
          <p:spPr>
            <a:xfrm rot="1122000">
              <a:off x="5045400" y="1748520"/>
              <a:ext cx="8870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7" descr="b39"/>
            <p:cNvPicPr/>
            <p:nvPr/>
          </p:nvPicPr>
          <p:blipFill>
            <a:blip r:embed="rId10"/>
            <a:stretch/>
          </p:blipFill>
          <p:spPr>
            <a:xfrm rot="1122000">
              <a:off x="3580920" y="2102400"/>
              <a:ext cx="9356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8" descr="b39"/>
            <p:cNvPicPr/>
            <p:nvPr/>
          </p:nvPicPr>
          <p:blipFill>
            <a:blip r:embed="rId11"/>
            <a:stretch/>
          </p:blipFill>
          <p:spPr>
            <a:xfrm rot="21260400">
              <a:off x="4629600" y="2907360"/>
              <a:ext cx="9367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9" descr="b39"/>
            <p:cNvPicPr/>
            <p:nvPr/>
          </p:nvPicPr>
          <p:blipFill>
            <a:blip r:embed="rId12"/>
            <a:stretch/>
          </p:blipFill>
          <p:spPr>
            <a:xfrm rot="19188000">
              <a:off x="3730320" y="2683800"/>
              <a:ext cx="103500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0" descr="b39"/>
            <p:cNvPicPr/>
            <p:nvPr/>
          </p:nvPicPr>
          <p:blipFill>
            <a:blip r:embed="rId13"/>
            <a:stretch/>
          </p:blipFill>
          <p:spPr>
            <a:xfrm rot="1122000">
              <a:off x="5328720" y="2235960"/>
              <a:ext cx="986400" cy="89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31"/>
            <p:cNvGrpSpPr/>
            <p:nvPr/>
          </p:nvGrpSpPr>
          <p:grpSpPr>
            <a:xfrm>
              <a:off x="3281760" y="2594520"/>
              <a:ext cx="2872440" cy="1842120"/>
              <a:chOff x="3281760" y="2594520"/>
              <a:chExt cx="2872440" cy="1842120"/>
            </a:xfrm>
          </p:grpSpPr>
          <p:sp>
            <p:nvSpPr>
              <p:cNvPr id="59" name="Freeform 32"/>
              <p:cNvSpPr/>
              <p:nvPr/>
            </p:nvSpPr>
            <p:spPr>
              <a:xfrm>
                <a:off x="4990320" y="3537000"/>
                <a:ext cx="110880" cy="9720"/>
              </a:xfrm>
              <a:custGeom>
                <a:avLst/>
                <a:gdLst/>
                <a:ahLst/>
                <a:rect l="l" t="t" r="r" b="b"/>
                <a:pathLst>
                  <a:path w="225" h="22">
                    <a:moveTo>
                      <a:pt x="51" y="2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5" y="10"/>
                    </a:lnTo>
                    <a:lnTo>
                      <a:pt x="125" y="22"/>
                    </a:lnTo>
                    <a:lnTo>
                      <a:pt x="51" y="21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33"/>
              <p:cNvSpPr/>
              <p:nvPr/>
            </p:nvSpPr>
            <p:spPr>
              <a:xfrm>
                <a:off x="4981320" y="3534840"/>
                <a:ext cx="142560" cy="9000"/>
              </a:xfrm>
              <a:custGeom>
                <a:avLst/>
                <a:gdLst/>
                <a:ahLst/>
                <a:rect l="l" t="t" r="r" b="b"/>
                <a:pathLst>
                  <a:path w="288" h="20">
                    <a:moveTo>
                      <a:pt x="39" y="14"/>
                    </a:moveTo>
                    <a:lnTo>
                      <a:pt x="19" y="9"/>
                    </a:lnTo>
                    <a:lnTo>
                      <a:pt x="0" y="0"/>
                    </a:lnTo>
                    <a:lnTo>
                      <a:pt x="288" y="11"/>
                    </a:lnTo>
                    <a:lnTo>
                      <a:pt x="288" y="11"/>
                    </a:lnTo>
                    <a:lnTo>
                      <a:pt x="196" y="20"/>
                    </a:ln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639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34"/>
              <p:cNvSpPr/>
              <p:nvPr/>
            </p:nvSpPr>
            <p:spPr>
              <a:xfrm>
                <a:off x="4977360" y="3531240"/>
                <a:ext cx="152280" cy="10080"/>
              </a:xfrm>
              <a:custGeom>
                <a:avLst/>
                <a:gdLst/>
                <a:ahLst/>
                <a:rect l="l" t="t" r="r" b="b"/>
                <a:pathLst>
                  <a:path w="308" h="23">
                    <a:moveTo>
                      <a:pt x="26" y="1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08" y="12"/>
                    </a:lnTo>
                    <a:lnTo>
                      <a:pt x="308" y="12"/>
                    </a:lnTo>
                    <a:lnTo>
                      <a:pt x="295" y="21"/>
                    </a:lnTo>
                    <a:lnTo>
                      <a:pt x="251" y="23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60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5"/>
              <p:cNvSpPr/>
              <p:nvPr/>
            </p:nvSpPr>
            <p:spPr>
              <a:xfrm>
                <a:off x="4977360" y="3526560"/>
                <a:ext cx="155520" cy="13680"/>
              </a:xfrm>
              <a:custGeom>
                <a:avLst/>
                <a:gdLst/>
                <a:ahLst/>
                <a:rect l="l" t="t" r="r" b="b"/>
                <a:pathLst>
                  <a:path w="313" h="30">
                    <a:moveTo>
                      <a:pt x="7" y="19"/>
                    </a:moveTo>
                    <a:lnTo>
                      <a:pt x="0" y="9"/>
                    </a:lnTo>
                    <a:lnTo>
                      <a:pt x="3" y="0"/>
                    </a:lnTo>
                    <a:lnTo>
                      <a:pt x="313" y="13"/>
                    </a:lnTo>
                    <a:lnTo>
                      <a:pt x="308" y="21"/>
                    </a:lnTo>
                    <a:lnTo>
                      <a:pt x="295" y="30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6"/>
              <p:cNvSpPr/>
              <p:nvPr/>
            </p:nvSpPr>
            <p:spPr>
              <a:xfrm>
                <a:off x="5142960" y="3517560"/>
                <a:ext cx="163080" cy="29160"/>
              </a:xfrm>
              <a:custGeom>
                <a:avLst/>
                <a:gdLst/>
                <a:ahLst/>
                <a:rect l="l" t="t" r="r" b="b"/>
                <a:pathLst>
                  <a:path w="330" h="64">
                    <a:moveTo>
                      <a:pt x="0" y="64"/>
                    </a:moveTo>
                    <a:lnTo>
                      <a:pt x="9" y="64"/>
                    </a:lnTo>
                    <a:lnTo>
                      <a:pt x="40" y="3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30" y="11"/>
                    </a:lnTo>
                    <a:lnTo>
                      <a:pt x="323" y="5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7"/>
              <p:cNvSpPr/>
              <p:nvPr/>
            </p:nvSpPr>
            <p:spPr>
              <a:xfrm>
                <a:off x="4386960" y="350748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0"/>
                    </a:moveTo>
                    <a:lnTo>
                      <a:pt x="65" y="16"/>
                    </a:lnTo>
                    <a:lnTo>
                      <a:pt x="96" y="16"/>
                    </a:lnTo>
                    <a:lnTo>
                      <a:pt x="9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8"/>
              <p:cNvSpPr/>
              <p:nvPr/>
            </p:nvSpPr>
            <p:spPr>
              <a:xfrm>
                <a:off x="4372200" y="3504600"/>
                <a:ext cx="64440" cy="8280"/>
              </a:xfrm>
              <a:custGeom>
                <a:avLst/>
                <a:gdLst/>
                <a:ahLst/>
                <a:rect l="l" t="t" r="r" b="b"/>
                <a:pathLst>
                  <a:path w="130" h="19">
                    <a:moveTo>
                      <a:pt x="0" y="0"/>
                    </a:moveTo>
                    <a:lnTo>
                      <a:pt x="59" y="17"/>
                    </a:lnTo>
                    <a:lnTo>
                      <a:pt x="126" y="19"/>
                    </a:lnTo>
                    <a:lnTo>
                      <a:pt x="1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9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9"/>
              <p:cNvSpPr/>
              <p:nvPr/>
            </p:nvSpPr>
            <p:spPr>
              <a:xfrm>
                <a:off x="4355280" y="350100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0" y="0"/>
                    </a:moveTo>
                    <a:lnTo>
                      <a:pt x="65" y="15"/>
                    </a:lnTo>
                    <a:lnTo>
                      <a:pt x="161" y="18"/>
                    </a:lnTo>
                    <a:lnTo>
                      <a:pt x="1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40"/>
              <p:cNvSpPr/>
              <p:nvPr/>
            </p:nvSpPr>
            <p:spPr>
              <a:xfrm>
                <a:off x="4340520" y="3495600"/>
                <a:ext cx="96840" cy="11520"/>
              </a:xfrm>
              <a:custGeom>
                <a:avLst/>
                <a:gdLst/>
                <a:ahLst/>
                <a:rect l="l" t="t" r="r" b="b"/>
                <a:pathLst>
                  <a:path w="195" h="26">
                    <a:moveTo>
                      <a:pt x="0" y="0"/>
                    </a:moveTo>
                    <a:lnTo>
                      <a:pt x="64" y="20"/>
                    </a:lnTo>
                    <a:lnTo>
                      <a:pt x="194" y="26"/>
                    </a:lnTo>
                    <a:lnTo>
                      <a:pt x="19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41"/>
              <p:cNvSpPr/>
              <p:nvPr/>
            </p:nvSpPr>
            <p:spPr>
              <a:xfrm>
                <a:off x="4322520" y="3492720"/>
                <a:ext cx="114840" cy="9720"/>
              </a:xfrm>
              <a:custGeom>
                <a:avLst/>
                <a:gdLst/>
                <a:ahLst/>
                <a:rect l="l" t="t" r="r" b="b"/>
                <a:pathLst>
                  <a:path w="230" h="23">
                    <a:moveTo>
                      <a:pt x="0" y="0"/>
                    </a:moveTo>
                    <a:lnTo>
                      <a:pt x="64" y="17"/>
                    </a:lnTo>
                    <a:lnTo>
                      <a:pt x="230" y="23"/>
                    </a:lnTo>
                    <a:lnTo>
                      <a:pt x="23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9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2"/>
              <p:cNvSpPr/>
              <p:nvPr/>
            </p:nvSpPr>
            <p:spPr>
              <a:xfrm>
                <a:off x="4307760" y="3489120"/>
                <a:ext cx="131760" cy="10080"/>
              </a:xfrm>
              <a:custGeom>
                <a:avLst/>
                <a:gdLst/>
                <a:ahLst/>
                <a:rect l="l" t="t" r="r" b="b"/>
                <a:pathLst>
                  <a:path w="266" h="22">
                    <a:moveTo>
                      <a:pt x="0" y="0"/>
                    </a:moveTo>
                    <a:lnTo>
                      <a:pt x="67" y="15"/>
                    </a:lnTo>
                    <a:lnTo>
                      <a:pt x="262" y="22"/>
                    </a:lnTo>
                    <a:lnTo>
                      <a:pt x="262" y="15"/>
                    </a:lnTo>
                    <a:lnTo>
                      <a:pt x="26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9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3"/>
              <p:cNvSpPr/>
              <p:nvPr/>
            </p:nvSpPr>
            <p:spPr>
              <a:xfrm>
                <a:off x="4293000" y="3483720"/>
                <a:ext cx="148680" cy="13680"/>
              </a:xfrm>
              <a:custGeom>
                <a:avLst/>
                <a:gdLst/>
                <a:ahLst/>
                <a:rect l="l" t="t" r="r" b="b"/>
                <a:pathLst>
                  <a:path w="301" h="30">
                    <a:moveTo>
                      <a:pt x="0" y="0"/>
                    </a:moveTo>
                    <a:lnTo>
                      <a:pt x="61" y="20"/>
                    </a:lnTo>
                    <a:lnTo>
                      <a:pt x="291" y="30"/>
                    </a:lnTo>
                    <a:lnTo>
                      <a:pt x="291" y="26"/>
                    </a:lnTo>
                    <a:lnTo>
                      <a:pt x="30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44"/>
              <p:cNvSpPr/>
              <p:nvPr/>
            </p:nvSpPr>
            <p:spPr>
              <a:xfrm>
                <a:off x="4275000" y="3480840"/>
                <a:ext cx="171360" cy="11520"/>
              </a:xfrm>
              <a:custGeom>
                <a:avLst/>
                <a:gdLst/>
                <a:ahLst/>
                <a:rect l="l" t="t" r="r" b="b"/>
                <a:pathLst>
                  <a:path w="345" h="25">
                    <a:moveTo>
                      <a:pt x="0" y="0"/>
                    </a:moveTo>
                    <a:lnTo>
                      <a:pt x="64" y="16"/>
                    </a:lnTo>
                    <a:lnTo>
                      <a:pt x="330" y="25"/>
                    </a:lnTo>
                    <a:lnTo>
                      <a:pt x="34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5"/>
              <p:cNvSpPr/>
              <p:nvPr/>
            </p:nvSpPr>
            <p:spPr>
              <a:xfrm>
                <a:off x="4272120" y="3477960"/>
                <a:ext cx="176040" cy="11880"/>
              </a:xfrm>
              <a:custGeom>
                <a:avLst/>
                <a:gdLst/>
                <a:ahLst/>
                <a:rect l="l" t="t" r="r" b="b"/>
                <a:pathLst>
                  <a:path w="357" h="26">
                    <a:moveTo>
                      <a:pt x="43" y="13"/>
                    </a:moveTo>
                    <a:lnTo>
                      <a:pt x="0" y="4"/>
                    </a:lnTo>
                    <a:lnTo>
                      <a:pt x="13" y="0"/>
                    </a:lnTo>
                    <a:lnTo>
                      <a:pt x="357" y="13"/>
                    </a:lnTo>
                    <a:lnTo>
                      <a:pt x="344" y="26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569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6"/>
              <p:cNvSpPr/>
              <p:nvPr/>
            </p:nvSpPr>
            <p:spPr>
              <a:xfrm>
                <a:off x="4272120" y="3476160"/>
                <a:ext cx="178920" cy="11880"/>
              </a:xfrm>
              <a:custGeom>
                <a:avLst/>
                <a:gdLst/>
                <a:ahLst/>
                <a:rect l="l" t="t" r="r" b="b"/>
                <a:pathLst>
                  <a:path w="362" h="25">
                    <a:moveTo>
                      <a:pt x="8" y="11"/>
                    </a:moveTo>
                    <a:lnTo>
                      <a:pt x="0" y="7"/>
                    </a:lnTo>
                    <a:lnTo>
                      <a:pt x="30" y="0"/>
                    </a:lnTo>
                    <a:lnTo>
                      <a:pt x="362" y="12"/>
                    </a:lnTo>
                    <a:lnTo>
                      <a:pt x="353" y="25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549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7"/>
              <p:cNvSpPr/>
              <p:nvPr/>
            </p:nvSpPr>
            <p:spPr>
              <a:xfrm>
                <a:off x="4277880" y="3471480"/>
                <a:ext cx="174240" cy="11880"/>
              </a:xfrm>
              <a:custGeom>
                <a:avLst/>
                <a:gdLst/>
                <a:ahLst/>
                <a:rect l="l" t="t" r="r" b="b"/>
                <a:pathLst>
                  <a:path w="353" h="26">
                    <a:moveTo>
                      <a:pt x="35" y="0"/>
                    </a:moveTo>
                    <a:lnTo>
                      <a:pt x="0" y="13"/>
                    </a:lnTo>
                    <a:lnTo>
                      <a:pt x="344" y="26"/>
                    </a:lnTo>
                    <a:lnTo>
                      <a:pt x="353" y="1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49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8"/>
              <p:cNvSpPr/>
              <p:nvPr/>
            </p:nvSpPr>
            <p:spPr>
              <a:xfrm>
                <a:off x="4286880" y="3468240"/>
                <a:ext cx="169920" cy="13680"/>
              </a:xfrm>
              <a:custGeom>
                <a:avLst/>
                <a:gdLst/>
                <a:ahLst/>
                <a:rect l="l" t="t" r="r" b="b"/>
                <a:pathLst>
                  <a:path w="345" h="29">
                    <a:moveTo>
                      <a:pt x="41" y="0"/>
                    </a:moveTo>
                    <a:lnTo>
                      <a:pt x="0" y="17"/>
                    </a:lnTo>
                    <a:lnTo>
                      <a:pt x="332" y="29"/>
                    </a:lnTo>
                    <a:lnTo>
                      <a:pt x="345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19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9"/>
              <p:cNvSpPr/>
              <p:nvPr/>
            </p:nvSpPr>
            <p:spPr>
              <a:xfrm>
                <a:off x="4295880" y="3467160"/>
                <a:ext cx="164160" cy="10800"/>
              </a:xfrm>
              <a:custGeom>
                <a:avLst/>
                <a:gdLst/>
                <a:ahLst/>
                <a:rect l="l" t="t" r="r" b="b"/>
                <a:pathLst>
                  <a:path w="333" h="24">
                    <a:moveTo>
                      <a:pt x="0" y="11"/>
                    </a:moveTo>
                    <a:lnTo>
                      <a:pt x="32" y="0"/>
                    </a:lnTo>
                    <a:lnTo>
                      <a:pt x="41" y="0"/>
                    </a:lnTo>
                    <a:lnTo>
                      <a:pt x="333" y="11"/>
                    </a:lnTo>
                    <a:lnTo>
                      <a:pt x="318" y="2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f9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0"/>
              <p:cNvSpPr/>
              <p:nvPr/>
            </p:nvSpPr>
            <p:spPr>
              <a:xfrm>
                <a:off x="4306680" y="3463560"/>
                <a:ext cx="155160" cy="10800"/>
              </a:xfrm>
              <a:custGeom>
                <a:avLst/>
                <a:gdLst/>
                <a:ahLst/>
                <a:rect l="l" t="t" r="r" b="b"/>
                <a:pathLst>
                  <a:path w="313" h="24">
                    <a:moveTo>
                      <a:pt x="0" y="11"/>
                    </a:moveTo>
                    <a:lnTo>
                      <a:pt x="9" y="7"/>
                    </a:lnTo>
                    <a:lnTo>
                      <a:pt x="35" y="0"/>
                    </a:lnTo>
                    <a:lnTo>
                      <a:pt x="313" y="11"/>
                    </a:lnTo>
                    <a:lnTo>
                      <a:pt x="304" y="2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f9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51"/>
              <p:cNvSpPr/>
              <p:nvPr/>
            </p:nvSpPr>
            <p:spPr>
              <a:xfrm>
                <a:off x="4315680" y="3461760"/>
                <a:ext cx="148320" cy="9720"/>
              </a:xfrm>
              <a:custGeom>
                <a:avLst/>
                <a:gdLst/>
                <a:ahLst/>
                <a:rect l="l" t="t" r="r" b="b"/>
                <a:pathLst>
                  <a:path w="301" h="22">
                    <a:moveTo>
                      <a:pt x="0" y="11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301" y="9"/>
                    </a:lnTo>
                    <a:lnTo>
                      <a:pt x="292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c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52"/>
              <p:cNvSpPr/>
              <p:nvPr/>
            </p:nvSpPr>
            <p:spPr>
              <a:xfrm>
                <a:off x="4323600" y="3457800"/>
                <a:ext cx="142560" cy="10080"/>
              </a:xfrm>
              <a:custGeom>
                <a:avLst/>
                <a:gdLst/>
                <a:ahLst/>
                <a:rect l="l" t="t" r="r" b="b"/>
                <a:pathLst>
                  <a:path w="287" h="22">
                    <a:moveTo>
                      <a:pt x="0" y="11"/>
                    </a:moveTo>
                    <a:lnTo>
                      <a:pt x="9" y="7"/>
                    </a:lnTo>
                    <a:lnTo>
                      <a:pt x="40" y="0"/>
                    </a:lnTo>
                    <a:lnTo>
                      <a:pt x="287" y="9"/>
                    </a:lnTo>
                    <a:lnTo>
                      <a:pt x="278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99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53"/>
              <p:cNvSpPr/>
              <p:nvPr/>
            </p:nvSpPr>
            <p:spPr>
              <a:xfrm>
                <a:off x="4664520" y="3537000"/>
                <a:ext cx="315720" cy="207720"/>
              </a:xfrm>
              <a:custGeom>
                <a:avLst/>
                <a:gdLst/>
                <a:ahLst/>
                <a:rect l="l" t="t" r="r" b="b"/>
                <a:pathLst>
                  <a:path w="636" h="454">
                    <a:moveTo>
                      <a:pt x="68" y="454"/>
                    </a:moveTo>
                    <a:lnTo>
                      <a:pt x="35" y="414"/>
                    </a:lnTo>
                    <a:lnTo>
                      <a:pt x="11" y="259"/>
                    </a:lnTo>
                    <a:lnTo>
                      <a:pt x="0" y="224"/>
                    </a:lnTo>
                    <a:lnTo>
                      <a:pt x="53" y="69"/>
                    </a:lnTo>
                    <a:lnTo>
                      <a:pt x="116" y="19"/>
                    </a:lnTo>
                    <a:lnTo>
                      <a:pt x="404" y="0"/>
                    </a:lnTo>
                    <a:lnTo>
                      <a:pt x="446" y="10"/>
                    </a:lnTo>
                    <a:lnTo>
                      <a:pt x="609" y="4"/>
                    </a:lnTo>
                    <a:lnTo>
                      <a:pt x="607" y="26"/>
                    </a:lnTo>
                    <a:lnTo>
                      <a:pt x="636" y="61"/>
                    </a:lnTo>
                    <a:lnTo>
                      <a:pt x="620" y="148"/>
                    </a:lnTo>
                    <a:lnTo>
                      <a:pt x="583" y="203"/>
                    </a:lnTo>
                    <a:lnTo>
                      <a:pt x="437" y="262"/>
                    </a:lnTo>
                    <a:lnTo>
                      <a:pt x="385" y="244"/>
                    </a:lnTo>
                    <a:lnTo>
                      <a:pt x="236" y="281"/>
                    </a:lnTo>
                    <a:lnTo>
                      <a:pt x="210" y="297"/>
                    </a:lnTo>
                    <a:lnTo>
                      <a:pt x="190" y="316"/>
                    </a:lnTo>
                    <a:lnTo>
                      <a:pt x="173" y="338"/>
                    </a:lnTo>
                    <a:lnTo>
                      <a:pt x="158" y="360"/>
                    </a:lnTo>
                    <a:lnTo>
                      <a:pt x="146" y="384"/>
                    </a:lnTo>
                    <a:lnTo>
                      <a:pt x="133" y="406"/>
                    </a:lnTo>
                    <a:lnTo>
                      <a:pt x="120" y="428"/>
                    </a:lnTo>
                    <a:lnTo>
                      <a:pt x="103" y="451"/>
                    </a:lnTo>
                    <a:lnTo>
                      <a:pt x="68" y="454"/>
                    </a:lnTo>
                    <a:close/>
                  </a:path>
                </a:pathLst>
              </a:custGeom>
              <a:solidFill>
                <a:srgbClr val="4ca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54"/>
              <p:cNvSpPr/>
              <p:nvPr/>
            </p:nvSpPr>
            <p:spPr>
              <a:xfrm>
                <a:off x="4071960" y="3506400"/>
                <a:ext cx="624600" cy="132480"/>
              </a:xfrm>
              <a:custGeom>
                <a:avLst/>
                <a:gdLst/>
                <a:ahLst/>
                <a:rect l="l" t="t" r="r" b="b"/>
                <a:pathLst>
                  <a:path w="1262" h="290">
                    <a:moveTo>
                      <a:pt x="1061" y="290"/>
                    </a:moveTo>
                    <a:lnTo>
                      <a:pt x="1043" y="286"/>
                    </a:lnTo>
                    <a:lnTo>
                      <a:pt x="1024" y="280"/>
                    </a:lnTo>
                    <a:lnTo>
                      <a:pt x="1004" y="275"/>
                    </a:lnTo>
                    <a:lnTo>
                      <a:pt x="986" y="269"/>
                    </a:lnTo>
                    <a:lnTo>
                      <a:pt x="965" y="262"/>
                    </a:lnTo>
                    <a:lnTo>
                      <a:pt x="947" y="256"/>
                    </a:lnTo>
                    <a:lnTo>
                      <a:pt x="927" y="251"/>
                    </a:lnTo>
                    <a:lnTo>
                      <a:pt x="908" y="245"/>
                    </a:lnTo>
                    <a:lnTo>
                      <a:pt x="888" y="240"/>
                    </a:lnTo>
                    <a:lnTo>
                      <a:pt x="868" y="236"/>
                    </a:lnTo>
                    <a:lnTo>
                      <a:pt x="847" y="232"/>
                    </a:lnTo>
                    <a:lnTo>
                      <a:pt x="827" y="231"/>
                    </a:lnTo>
                    <a:lnTo>
                      <a:pt x="807" y="229"/>
                    </a:lnTo>
                    <a:lnTo>
                      <a:pt x="786" y="229"/>
                    </a:lnTo>
                    <a:lnTo>
                      <a:pt x="766" y="229"/>
                    </a:lnTo>
                    <a:lnTo>
                      <a:pt x="746" y="232"/>
                    </a:lnTo>
                    <a:lnTo>
                      <a:pt x="0" y="199"/>
                    </a:lnTo>
                    <a:lnTo>
                      <a:pt x="2" y="170"/>
                    </a:lnTo>
                    <a:lnTo>
                      <a:pt x="69" y="122"/>
                    </a:lnTo>
                    <a:lnTo>
                      <a:pt x="135" y="83"/>
                    </a:lnTo>
                    <a:lnTo>
                      <a:pt x="200" y="53"/>
                    </a:lnTo>
                    <a:lnTo>
                      <a:pt x="264" y="31"/>
                    </a:lnTo>
                    <a:lnTo>
                      <a:pt x="329" y="15"/>
                    </a:lnTo>
                    <a:lnTo>
                      <a:pt x="393" y="4"/>
                    </a:lnTo>
                    <a:lnTo>
                      <a:pt x="456" y="0"/>
                    </a:lnTo>
                    <a:lnTo>
                      <a:pt x="521" y="0"/>
                    </a:lnTo>
                    <a:lnTo>
                      <a:pt x="583" y="4"/>
                    </a:lnTo>
                    <a:lnTo>
                      <a:pt x="646" y="9"/>
                    </a:lnTo>
                    <a:lnTo>
                      <a:pt x="709" y="18"/>
                    </a:lnTo>
                    <a:lnTo>
                      <a:pt x="772" y="29"/>
                    </a:lnTo>
                    <a:lnTo>
                      <a:pt x="836" y="41"/>
                    </a:lnTo>
                    <a:lnTo>
                      <a:pt x="899" y="53"/>
                    </a:lnTo>
                    <a:lnTo>
                      <a:pt x="962" y="65"/>
                    </a:lnTo>
                    <a:lnTo>
                      <a:pt x="1026" y="74"/>
                    </a:lnTo>
                    <a:lnTo>
                      <a:pt x="1052" y="76"/>
                    </a:lnTo>
                    <a:lnTo>
                      <a:pt x="1218" y="87"/>
                    </a:lnTo>
                    <a:lnTo>
                      <a:pt x="1262" y="87"/>
                    </a:lnTo>
                    <a:lnTo>
                      <a:pt x="1178" y="216"/>
                    </a:lnTo>
                    <a:lnTo>
                      <a:pt x="1176" y="280"/>
                    </a:lnTo>
                    <a:lnTo>
                      <a:pt x="1061" y="29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55"/>
              <p:cNvSpPr/>
              <p:nvPr/>
            </p:nvSpPr>
            <p:spPr>
              <a:xfrm>
                <a:off x="4931640" y="3227040"/>
                <a:ext cx="1105560" cy="467640"/>
              </a:xfrm>
              <a:custGeom>
                <a:avLst/>
                <a:gdLst/>
                <a:ahLst/>
                <a:rect l="l" t="t" r="r" b="b"/>
                <a:pathLst>
                  <a:path w="2232" h="1022">
                    <a:moveTo>
                      <a:pt x="3" y="1022"/>
                    </a:moveTo>
                    <a:lnTo>
                      <a:pt x="0" y="1006"/>
                    </a:lnTo>
                    <a:lnTo>
                      <a:pt x="25" y="982"/>
                    </a:lnTo>
                    <a:lnTo>
                      <a:pt x="48" y="956"/>
                    </a:lnTo>
                    <a:lnTo>
                      <a:pt x="62" y="930"/>
                    </a:lnTo>
                    <a:lnTo>
                      <a:pt x="75" y="904"/>
                    </a:lnTo>
                    <a:lnTo>
                      <a:pt x="84" y="877"/>
                    </a:lnTo>
                    <a:lnTo>
                      <a:pt x="90" y="849"/>
                    </a:lnTo>
                    <a:lnTo>
                      <a:pt x="94" y="819"/>
                    </a:lnTo>
                    <a:lnTo>
                      <a:pt x="95" y="790"/>
                    </a:lnTo>
                    <a:lnTo>
                      <a:pt x="714" y="723"/>
                    </a:lnTo>
                    <a:lnTo>
                      <a:pt x="756" y="733"/>
                    </a:lnTo>
                    <a:lnTo>
                      <a:pt x="778" y="725"/>
                    </a:lnTo>
                    <a:lnTo>
                      <a:pt x="924" y="688"/>
                    </a:lnTo>
                    <a:lnTo>
                      <a:pt x="1201" y="629"/>
                    </a:lnTo>
                    <a:lnTo>
                      <a:pt x="1278" y="545"/>
                    </a:lnTo>
                    <a:lnTo>
                      <a:pt x="1284" y="509"/>
                    </a:lnTo>
                    <a:lnTo>
                      <a:pt x="1250" y="491"/>
                    </a:lnTo>
                    <a:lnTo>
                      <a:pt x="1284" y="183"/>
                    </a:lnTo>
                    <a:lnTo>
                      <a:pt x="1282" y="0"/>
                    </a:lnTo>
                    <a:lnTo>
                      <a:pt x="1317" y="131"/>
                    </a:lnTo>
                    <a:lnTo>
                      <a:pt x="1381" y="142"/>
                    </a:lnTo>
                    <a:lnTo>
                      <a:pt x="1442" y="146"/>
                    </a:lnTo>
                    <a:lnTo>
                      <a:pt x="1483" y="148"/>
                    </a:lnTo>
                    <a:lnTo>
                      <a:pt x="1525" y="148"/>
                    </a:lnTo>
                    <a:lnTo>
                      <a:pt x="1566" y="150"/>
                    </a:lnTo>
                    <a:lnTo>
                      <a:pt x="1607" y="153"/>
                    </a:lnTo>
                    <a:lnTo>
                      <a:pt x="1645" y="155"/>
                    </a:lnTo>
                    <a:lnTo>
                      <a:pt x="1686" y="159"/>
                    </a:lnTo>
                    <a:lnTo>
                      <a:pt x="1726" y="164"/>
                    </a:lnTo>
                    <a:lnTo>
                      <a:pt x="1765" y="170"/>
                    </a:lnTo>
                    <a:lnTo>
                      <a:pt x="1806" y="179"/>
                    </a:lnTo>
                    <a:lnTo>
                      <a:pt x="1845" y="188"/>
                    </a:lnTo>
                    <a:lnTo>
                      <a:pt x="1885" y="201"/>
                    </a:lnTo>
                    <a:lnTo>
                      <a:pt x="1926" y="216"/>
                    </a:lnTo>
                    <a:lnTo>
                      <a:pt x="1964" y="233"/>
                    </a:lnTo>
                    <a:lnTo>
                      <a:pt x="2005" y="253"/>
                    </a:lnTo>
                    <a:lnTo>
                      <a:pt x="2046" y="275"/>
                    </a:lnTo>
                    <a:lnTo>
                      <a:pt x="2086" y="301"/>
                    </a:lnTo>
                    <a:lnTo>
                      <a:pt x="2036" y="443"/>
                    </a:lnTo>
                    <a:lnTo>
                      <a:pt x="2022" y="485"/>
                    </a:lnTo>
                    <a:lnTo>
                      <a:pt x="1854" y="532"/>
                    </a:lnTo>
                    <a:lnTo>
                      <a:pt x="1854" y="557"/>
                    </a:lnTo>
                    <a:lnTo>
                      <a:pt x="1990" y="521"/>
                    </a:lnTo>
                    <a:lnTo>
                      <a:pt x="2035" y="504"/>
                    </a:lnTo>
                    <a:lnTo>
                      <a:pt x="2175" y="461"/>
                    </a:lnTo>
                    <a:lnTo>
                      <a:pt x="2226" y="511"/>
                    </a:lnTo>
                    <a:lnTo>
                      <a:pt x="2232" y="581"/>
                    </a:lnTo>
                    <a:lnTo>
                      <a:pt x="2190" y="650"/>
                    </a:lnTo>
                    <a:lnTo>
                      <a:pt x="2156" y="640"/>
                    </a:lnTo>
                    <a:lnTo>
                      <a:pt x="2145" y="683"/>
                    </a:lnTo>
                    <a:lnTo>
                      <a:pt x="2123" y="690"/>
                    </a:lnTo>
                    <a:lnTo>
                      <a:pt x="1983" y="712"/>
                    </a:lnTo>
                    <a:lnTo>
                      <a:pt x="1918" y="788"/>
                    </a:lnTo>
                    <a:lnTo>
                      <a:pt x="1905" y="795"/>
                    </a:lnTo>
                    <a:lnTo>
                      <a:pt x="1684" y="779"/>
                    </a:lnTo>
                    <a:lnTo>
                      <a:pt x="1666" y="786"/>
                    </a:lnTo>
                    <a:lnTo>
                      <a:pt x="1616" y="849"/>
                    </a:lnTo>
                    <a:lnTo>
                      <a:pt x="1597" y="858"/>
                    </a:lnTo>
                    <a:lnTo>
                      <a:pt x="1057" y="967"/>
                    </a:lnTo>
                    <a:lnTo>
                      <a:pt x="987" y="965"/>
                    </a:lnTo>
                    <a:lnTo>
                      <a:pt x="881" y="891"/>
                    </a:lnTo>
                    <a:lnTo>
                      <a:pt x="629" y="985"/>
                    </a:lnTo>
                    <a:lnTo>
                      <a:pt x="405" y="1004"/>
                    </a:lnTo>
                    <a:lnTo>
                      <a:pt x="324" y="952"/>
                    </a:lnTo>
                    <a:lnTo>
                      <a:pt x="302" y="982"/>
                    </a:lnTo>
                    <a:lnTo>
                      <a:pt x="3" y="10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56"/>
              <p:cNvSpPr/>
              <p:nvPr/>
            </p:nvSpPr>
            <p:spPr>
              <a:xfrm>
                <a:off x="5300280" y="2594520"/>
                <a:ext cx="261360" cy="987120"/>
              </a:xfrm>
              <a:custGeom>
                <a:avLst/>
                <a:gdLst/>
                <a:ahLst/>
                <a:rect l="l" t="t" r="r" b="b"/>
                <a:pathLst>
                  <a:path w="528" h="2157">
                    <a:moveTo>
                      <a:pt x="46" y="0"/>
                    </a:moveTo>
                    <a:lnTo>
                      <a:pt x="83" y="37"/>
                    </a:lnTo>
                    <a:lnTo>
                      <a:pt x="419" y="404"/>
                    </a:lnTo>
                    <a:lnTo>
                      <a:pt x="430" y="469"/>
                    </a:lnTo>
                    <a:lnTo>
                      <a:pt x="445" y="534"/>
                    </a:lnTo>
                    <a:lnTo>
                      <a:pt x="457" y="598"/>
                    </a:lnTo>
                    <a:lnTo>
                      <a:pt x="472" y="663"/>
                    </a:lnTo>
                    <a:lnTo>
                      <a:pt x="483" y="727"/>
                    </a:lnTo>
                    <a:lnTo>
                      <a:pt x="493" y="792"/>
                    </a:lnTo>
                    <a:lnTo>
                      <a:pt x="498" y="855"/>
                    </a:lnTo>
                    <a:lnTo>
                      <a:pt x="498" y="917"/>
                    </a:lnTo>
                    <a:lnTo>
                      <a:pt x="505" y="1067"/>
                    </a:lnTo>
                    <a:lnTo>
                      <a:pt x="515" y="1213"/>
                    </a:lnTo>
                    <a:lnTo>
                      <a:pt x="522" y="1358"/>
                    </a:lnTo>
                    <a:lnTo>
                      <a:pt x="528" y="1502"/>
                    </a:lnTo>
                    <a:lnTo>
                      <a:pt x="528" y="1646"/>
                    </a:lnTo>
                    <a:lnTo>
                      <a:pt x="518" y="1788"/>
                    </a:lnTo>
                    <a:lnTo>
                      <a:pt x="498" y="1930"/>
                    </a:lnTo>
                    <a:lnTo>
                      <a:pt x="467" y="2072"/>
                    </a:lnTo>
                    <a:lnTo>
                      <a:pt x="98" y="2153"/>
                    </a:lnTo>
                    <a:lnTo>
                      <a:pt x="57" y="2157"/>
                    </a:lnTo>
                    <a:lnTo>
                      <a:pt x="101" y="1700"/>
                    </a:lnTo>
                    <a:lnTo>
                      <a:pt x="112" y="1526"/>
                    </a:lnTo>
                    <a:lnTo>
                      <a:pt x="153" y="1471"/>
                    </a:lnTo>
                    <a:lnTo>
                      <a:pt x="155" y="1428"/>
                    </a:lnTo>
                    <a:lnTo>
                      <a:pt x="112" y="1404"/>
                    </a:lnTo>
                    <a:lnTo>
                      <a:pt x="57" y="725"/>
                    </a:lnTo>
                    <a:lnTo>
                      <a:pt x="61" y="524"/>
                    </a:lnTo>
                    <a:lnTo>
                      <a:pt x="37" y="467"/>
                    </a:lnTo>
                    <a:lnTo>
                      <a:pt x="15" y="332"/>
                    </a:lnTo>
                    <a:lnTo>
                      <a:pt x="29" y="310"/>
                    </a:lnTo>
                    <a:lnTo>
                      <a:pt x="7" y="310"/>
                    </a:lnTo>
                    <a:lnTo>
                      <a:pt x="0" y="266"/>
                    </a:lnTo>
                    <a:lnTo>
                      <a:pt x="9" y="214"/>
                    </a:lnTo>
                    <a:lnTo>
                      <a:pt x="26" y="163"/>
                    </a:lnTo>
                    <a:lnTo>
                      <a:pt x="42" y="111"/>
                    </a:lnTo>
                    <a:lnTo>
                      <a:pt x="48" y="5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57"/>
              <p:cNvSpPr/>
              <p:nvPr/>
            </p:nvSpPr>
            <p:spPr>
              <a:xfrm>
                <a:off x="3281760" y="4163400"/>
                <a:ext cx="2872440" cy="219600"/>
              </a:xfrm>
              <a:custGeom>
                <a:avLst/>
                <a:gdLst/>
                <a:ahLst/>
                <a:rect l="l" t="t" r="r" b="b"/>
                <a:pathLst>
                  <a:path w="5800" h="480">
                    <a:moveTo>
                      <a:pt x="1273" y="467"/>
                    </a:moveTo>
                    <a:lnTo>
                      <a:pt x="1267" y="392"/>
                    </a:lnTo>
                    <a:lnTo>
                      <a:pt x="1250" y="369"/>
                    </a:lnTo>
                    <a:lnTo>
                      <a:pt x="0" y="369"/>
                    </a:lnTo>
                    <a:lnTo>
                      <a:pt x="49" y="342"/>
                    </a:lnTo>
                    <a:lnTo>
                      <a:pt x="97" y="316"/>
                    </a:lnTo>
                    <a:lnTo>
                      <a:pt x="147" y="290"/>
                    </a:lnTo>
                    <a:lnTo>
                      <a:pt x="195" y="268"/>
                    </a:lnTo>
                    <a:lnTo>
                      <a:pt x="245" y="246"/>
                    </a:lnTo>
                    <a:lnTo>
                      <a:pt x="295" y="226"/>
                    </a:lnTo>
                    <a:lnTo>
                      <a:pt x="345" y="207"/>
                    </a:lnTo>
                    <a:lnTo>
                      <a:pt x="394" y="189"/>
                    </a:lnTo>
                    <a:lnTo>
                      <a:pt x="442" y="172"/>
                    </a:lnTo>
                    <a:lnTo>
                      <a:pt x="492" y="157"/>
                    </a:lnTo>
                    <a:lnTo>
                      <a:pt x="542" y="144"/>
                    </a:lnTo>
                    <a:lnTo>
                      <a:pt x="592" y="131"/>
                    </a:lnTo>
                    <a:lnTo>
                      <a:pt x="642" y="119"/>
                    </a:lnTo>
                    <a:lnTo>
                      <a:pt x="691" y="109"/>
                    </a:lnTo>
                    <a:lnTo>
                      <a:pt x="741" y="98"/>
                    </a:lnTo>
                    <a:lnTo>
                      <a:pt x="791" y="91"/>
                    </a:lnTo>
                    <a:lnTo>
                      <a:pt x="841" y="82"/>
                    </a:lnTo>
                    <a:lnTo>
                      <a:pt x="891" y="74"/>
                    </a:lnTo>
                    <a:lnTo>
                      <a:pt x="940" y="69"/>
                    </a:lnTo>
                    <a:lnTo>
                      <a:pt x="990" y="63"/>
                    </a:lnTo>
                    <a:lnTo>
                      <a:pt x="1040" y="58"/>
                    </a:lnTo>
                    <a:lnTo>
                      <a:pt x="1090" y="52"/>
                    </a:lnTo>
                    <a:lnTo>
                      <a:pt x="1140" y="48"/>
                    </a:lnTo>
                    <a:lnTo>
                      <a:pt x="1190" y="45"/>
                    </a:lnTo>
                    <a:lnTo>
                      <a:pt x="1239" y="41"/>
                    </a:lnTo>
                    <a:lnTo>
                      <a:pt x="1289" y="37"/>
                    </a:lnTo>
                    <a:lnTo>
                      <a:pt x="1339" y="36"/>
                    </a:lnTo>
                    <a:lnTo>
                      <a:pt x="1389" y="32"/>
                    </a:lnTo>
                    <a:lnTo>
                      <a:pt x="1437" y="30"/>
                    </a:lnTo>
                    <a:lnTo>
                      <a:pt x="1487" y="28"/>
                    </a:lnTo>
                    <a:lnTo>
                      <a:pt x="1536" y="24"/>
                    </a:lnTo>
                    <a:lnTo>
                      <a:pt x="1586" y="23"/>
                    </a:lnTo>
                    <a:lnTo>
                      <a:pt x="1671" y="0"/>
                    </a:lnTo>
                    <a:lnTo>
                      <a:pt x="1819" y="23"/>
                    </a:lnTo>
                    <a:lnTo>
                      <a:pt x="1867" y="19"/>
                    </a:lnTo>
                    <a:lnTo>
                      <a:pt x="1915" y="23"/>
                    </a:lnTo>
                    <a:lnTo>
                      <a:pt x="1963" y="28"/>
                    </a:lnTo>
                    <a:lnTo>
                      <a:pt x="2011" y="39"/>
                    </a:lnTo>
                    <a:lnTo>
                      <a:pt x="2059" y="52"/>
                    </a:lnTo>
                    <a:lnTo>
                      <a:pt x="2106" y="69"/>
                    </a:lnTo>
                    <a:lnTo>
                      <a:pt x="2154" y="87"/>
                    </a:lnTo>
                    <a:lnTo>
                      <a:pt x="2202" y="106"/>
                    </a:lnTo>
                    <a:lnTo>
                      <a:pt x="2250" y="126"/>
                    </a:lnTo>
                    <a:lnTo>
                      <a:pt x="2298" y="146"/>
                    </a:lnTo>
                    <a:lnTo>
                      <a:pt x="2344" y="165"/>
                    </a:lnTo>
                    <a:lnTo>
                      <a:pt x="2392" y="183"/>
                    </a:lnTo>
                    <a:lnTo>
                      <a:pt x="2440" y="200"/>
                    </a:lnTo>
                    <a:lnTo>
                      <a:pt x="2488" y="213"/>
                    </a:lnTo>
                    <a:lnTo>
                      <a:pt x="2535" y="224"/>
                    </a:lnTo>
                    <a:lnTo>
                      <a:pt x="2582" y="229"/>
                    </a:lnTo>
                    <a:lnTo>
                      <a:pt x="2691" y="207"/>
                    </a:lnTo>
                    <a:lnTo>
                      <a:pt x="3230" y="338"/>
                    </a:lnTo>
                    <a:lnTo>
                      <a:pt x="3225" y="264"/>
                    </a:lnTo>
                    <a:lnTo>
                      <a:pt x="3273" y="257"/>
                    </a:lnTo>
                    <a:lnTo>
                      <a:pt x="3337" y="268"/>
                    </a:lnTo>
                    <a:lnTo>
                      <a:pt x="4289" y="126"/>
                    </a:lnTo>
                    <a:lnTo>
                      <a:pt x="4306" y="80"/>
                    </a:lnTo>
                    <a:lnTo>
                      <a:pt x="4446" y="39"/>
                    </a:lnTo>
                    <a:lnTo>
                      <a:pt x="4499" y="6"/>
                    </a:lnTo>
                    <a:lnTo>
                      <a:pt x="4540" y="4"/>
                    </a:lnTo>
                    <a:lnTo>
                      <a:pt x="4581" y="6"/>
                    </a:lnTo>
                    <a:lnTo>
                      <a:pt x="4623" y="8"/>
                    </a:lnTo>
                    <a:lnTo>
                      <a:pt x="4664" y="12"/>
                    </a:lnTo>
                    <a:lnTo>
                      <a:pt x="4704" y="15"/>
                    </a:lnTo>
                    <a:lnTo>
                      <a:pt x="4745" y="23"/>
                    </a:lnTo>
                    <a:lnTo>
                      <a:pt x="4785" y="30"/>
                    </a:lnTo>
                    <a:lnTo>
                      <a:pt x="4828" y="37"/>
                    </a:lnTo>
                    <a:lnTo>
                      <a:pt x="4868" y="48"/>
                    </a:lnTo>
                    <a:lnTo>
                      <a:pt x="4909" y="58"/>
                    </a:lnTo>
                    <a:lnTo>
                      <a:pt x="4950" y="71"/>
                    </a:lnTo>
                    <a:lnTo>
                      <a:pt x="4990" y="84"/>
                    </a:lnTo>
                    <a:lnTo>
                      <a:pt x="5031" y="96"/>
                    </a:lnTo>
                    <a:lnTo>
                      <a:pt x="5071" y="111"/>
                    </a:lnTo>
                    <a:lnTo>
                      <a:pt x="5112" y="126"/>
                    </a:lnTo>
                    <a:lnTo>
                      <a:pt x="5153" y="141"/>
                    </a:lnTo>
                    <a:lnTo>
                      <a:pt x="5193" y="157"/>
                    </a:lnTo>
                    <a:lnTo>
                      <a:pt x="5234" y="176"/>
                    </a:lnTo>
                    <a:lnTo>
                      <a:pt x="5274" y="192"/>
                    </a:lnTo>
                    <a:lnTo>
                      <a:pt x="5315" y="211"/>
                    </a:lnTo>
                    <a:lnTo>
                      <a:pt x="5355" y="229"/>
                    </a:lnTo>
                    <a:lnTo>
                      <a:pt x="5396" y="248"/>
                    </a:lnTo>
                    <a:lnTo>
                      <a:pt x="5437" y="266"/>
                    </a:lnTo>
                    <a:lnTo>
                      <a:pt x="5477" y="285"/>
                    </a:lnTo>
                    <a:lnTo>
                      <a:pt x="5518" y="305"/>
                    </a:lnTo>
                    <a:lnTo>
                      <a:pt x="5558" y="323"/>
                    </a:lnTo>
                    <a:lnTo>
                      <a:pt x="5599" y="344"/>
                    </a:lnTo>
                    <a:lnTo>
                      <a:pt x="5640" y="362"/>
                    </a:lnTo>
                    <a:lnTo>
                      <a:pt x="5680" y="381"/>
                    </a:lnTo>
                    <a:lnTo>
                      <a:pt x="5719" y="401"/>
                    </a:lnTo>
                    <a:lnTo>
                      <a:pt x="5760" y="419"/>
                    </a:lnTo>
                    <a:lnTo>
                      <a:pt x="5800" y="438"/>
                    </a:lnTo>
                    <a:lnTo>
                      <a:pt x="5446" y="447"/>
                    </a:lnTo>
                    <a:lnTo>
                      <a:pt x="5058" y="423"/>
                    </a:lnTo>
                    <a:lnTo>
                      <a:pt x="5020" y="421"/>
                    </a:lnTo>
                    <a:lnTo>
                      <a:pt x="4968" y="419"/>
                    </a:lnTo>
                    <a:lnTo>
                      <a:pt x="4802" y="421"/>
                    </a:lnTo>
                    <a:lnTo>
                      <a:pt x="4302" y="368"/>
                    </a:lnTo>
                    <a:lnTo>
                      <a:pt x="4258" y="366"/>
                    </a:lnTo>
                    <a:lnTo>
                      <a:pt x="4213" y="368"/>
                    </a:lnTo>
                    <a:lnTo>
                      <a:pt x="4169" y="369"/>
                    </a:lnTo>
                    <a:lnTo>
                      <a:pt x="4125" y="371"/>
                    </a:lnTo>
                    <a:lnTo>
                      <a:pt x="4079" y="375"/>
                    </a:lnTo>
                    <a:lnTo>
                      <a:pt x="4034" y="381"/>
                    </a:lnTo>
                    <a:lnTo>
                      <a:pt x="3990" y="386"/>
                    </a:lnTo>
                    <a:lnTo>
                      <a:pt x="3944" y="392"/>
                    </a:lnTo>
                    <a:lnTo>
                      <a:pt x="3900" y="397"/>
                    </a:lnTo>
                    <a:lnTo>
                      <a:pt x="3854" y="405"/>
                    </a:lnTo>
                    <a:lnTo>
                      <a:pt x="3809" y="412"/>
                    </a:lnTo>
                    <a:lnTo>
                      <a:pt x="3763" y="419"/>
                    </a:lnTo>
                    <a:lnTo>
                      <a:pt x="3719" y="427"/>
                    </a:lnTo>
                    <a:lnTo>
                      <a:pt x="3673" y="434"/>
                    </a:lnTo>
                    <a:lnTo>
                      <a:pt x="3629" y="441"/>
                    </a:lnTo>
                    <a:lnTo>
                      <a:pt x="3582" y="447"/>
                    </a:lnTo>
                    <a:lnTo>
                      <a:pt x="3536" y="454"/>
                    </a:lnTo>
                    <a:lnTo>
                      <a:pt x="3492" y="460"/>
                    </a:lnTo>
                    <a:lnTo>
                      <a:pt x="3446" y="465"/>
                    </a:lnTo>
                    <a:lnTo>
                      <a:pt x="3402" y="469"/>
                    </a:lnTo>
                    <a:lnTo>
                      <a:pt x="3356" y="471"/>
                    </a:lnTo>
                    <a:lnTo>
                      <a:pt x="3311" y="475"/>
                    </a:lnTo>
                    <a:lnTo>
                      <a:pt x="3265" y="475"/>
                    </a:lnTo>
                    <a:lnTo>
                      <a:pt x="3221" y="475"/>
                    </a:lnTo>
                    <a:lnTo>
                      <a:pt x="3175" y="473"/>
                    </a:lnTo>
                    <a:lnTo>
                      <a:pt x="3130" y="469"/>
                    </a:lnTo>
                    <a:lnTo>
                      <a:pt x="3086" y="464"/>
                    </a:lnTo>
                    <a:lnTo>
                      <a:pt x="3040" y="456"/>
                    </a:lnTo>
                    <a:lnTo>
                      <a:pt x="2996" y="447"/>
                    </a:lnTo>
                    <a:lnTo>
                      <a:pt x="2951" y="436"/>
                    </a:lnTo>
                    <a:lnTo>
                      <a:pt x="2907" y="423"/>
                    </a:lnTo>
                    <a:lnTo>
                      <a:pt x="2863" y="406"/>
                    </a:lnTo>
                    <a:lnTo>
                      <a:pt x="2566" y="434"/>
                    </a:lnTo>
                    <a:lnTo>
                      <a:pt x="2535" y="432"/>
                    </a:lnTo>
                    <a:lnTo>
                      <a:pt x="1902" y="443"/>
                    </a:lnTo>
                    <a:lnTo>
                      <a:pt x="1859" y="441"/>
                    </a:lnTo>
                    <a:lnTo>
                      <a:pt x="1289" y="480"/>
                    </a:lnTo>
                    <a:lnTo>
                      <a:pt x="1273" y="467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58"/>
              <p:cNvSpPr/>
              <p:nvPr/>
            </p:nvSpPr>
            <p:spPr>
              <a:xfrm>
                <a:off x="5344920" y="4223520"/>
                <a:ext cx="727920" cy="118080"/>
              </a:xfrm>
              <a:custGeom>
                <a:avLst/>
                <a:gdLst/>
                <a:ahLst/>
                <a:rect l="l" t="t" r="r" b="b"/>
                <a:pathLst>
                  <a:path w="1471" h="259">
                    <a:moveTo>
                      <a:pt x="574" y="259"/>
                    </a:moveTo>
                    <a:lnTo>
                      <a:pt x="574" y="249"/>
                    </a:lnTo>
                    <a:lnTo>
                      <a:pt x="572" y="240"/>
                    </a:lnTo>
                    <a:lnTo>
                      <a:pt x="571" y="233"/>
                    </a:lnTo>
                    <a:lnTo>
                      <a:pt x="567" y="224"/>
                    </a:lnTo>
                    <a:lnTo>
                      <a:pt x="598" y="231"/>
                    </a:lnTo>
                    <a:lnTo>
                      <a:pt x="639" y="236"/>
                    </a:lnTo>
                    <a:lnTo>
                      <a:pt x="687" y="240"/>
                    </a:lnTo>
                    <a:lnTo>
                      <a:pt x="738" y="242"/>
                    </a:lnTo>
                    <a:lnTo>
                      <a:pt x="796" y="242"/>
                    </a:lnTo>
                    <a:lnTo>
                      <a:pt x="857" y="242"/>
                    </a:lnTo>
                    <a:lnTo>
                      <a:pt x="919" y="240"/>
                    </a:lnTo>
                    <a:lnTo>
                      <a:pt x="984" y="238"/>
                    </a:lnTo>
                    <a:lnTo>
                      <a:pt x="1048" y="235"/>
                    </a:lnTo>
                    <a:lnTo>
                      <a:pt x="1111" y="231"/>
                    </a:lnTo>
                    <a:lnTo>
                      <a:pt x="1172" y="225"/>
                    </a:lnTo>
                    <a:lnTo>
                      <a:pt x="1229" y="222"/>
                    </a:lnTo>
                    <a:lnTo>
                      <a:pt x="1281" y="216"/>
                    </a:lnTo>
                    <a:lnTo>
                      <a:pt x="1329" y="213"/>
                    </a:lnTo>
                    <a:lnTo>
                      <a:pt x="1369" y="207"/>
                    </a:lnTo>
                    <a:lnTo>
                      <a:pt x="1401" y="203"/>
                    </a:lnTo>
                    <a:lnTo>
                      <a:pt x="1325" y="192"/>
                    </a:lnTo>
                    <a:lnTo>
                      <a:pt x="1251" y="181"/>
                    </a:lnTo>
                    <a:lnTo>
                      <a:pt x="1179" y="170"/>
                    </a:lnTo>
                    <a:lnTo>
                      <a:pt x="1109" y="161"/>
                    </a:lnTo>
                    <a:lnTo>
                      <a:pt x="1043" y="152"/>
                    </a:lnTo>
                    <a:lnTo>
                      <a:pt x="978" y="142"/>
                    </a:lnTo>
                    <a:lnTo>
                      <a:pt x="916" y="135"/>
                    </a:lnTo>
                    <a:lnTo>
                      <a:pt x="855" y="128"/>
                    </a:lnTo>
                    <a:lnTo>
                      <a:pt x="796" y="120"/>
                    </a:lnTo>
                    <a:lnTo>
                      <a:pt x="740" y="115"/>
                    </a:lnTo>
                    <a:lnTo>
                      <a:pt x="687" y="107"/>
                    </a:lnTo>
                    <a:lnTo>
                      <a:pt x="633" y="102"/>
                    </a:lnTo>
                    <a:lnTo>
                      <a:pt x="583" y="96"/>
                    </a:lnTo>
                    <a:lnTo>
                      <a:pt x="536" y="93"/>
                    </a:lnTo>
                    <a:lnTo>
                      <a:pt x="489" y="87"/>
                    </a:lnTo>
                    <a:lnTo>
                      <a:pt x="445" y="83"/>
                    </a:lnTo>
                    <a:lnTo>
                      <a:pt x="405" y="78"/>
                    </a:lnTo>
                    <a:lnTo>
                      <a:pt x="364" y="74"/>
                    </a:lnTo>
                    <a:lnTo>
                      <a:pt x="325" y="70"/>
                    </a:lnTo>
                    <a:lnTo>
                      <a:pt x="290" y="67"/>
                    </a:lnTo>
                    <a:lnTo>
                      <a:pt x="255" y="63"/>
                    </a:lnTo>
                    <a:lnTo>
                      <a:pt x="224" y="61"/>
                    </a:lnTo>
                    <a:lnTo>
                      <a:pt x="194" y="58"/>
                    </a:lnTo>
                    <a:lnTo>
                      <a:pt x="165" y="54"/>
                    </a:lnTo>
                    <a:lnTo>
                      <a:pt x="139" y="50"/>
                    </a:lnTo>
                    <a:lnTo>
                      <a:pt x="113" y="46"/>
                    </a:lnTo>
                    <a:lnTo>
                      <a:pt x="91" y="45"/>
                    </a:lnTo>
                    <a:lnTo>
                      <a:pt x="71" y="41"/>
                    </a:lnTo>
                    <a:lnTo>
                      <a:pt x="50" y="37"/>
                    </a:lnTo>
                    <a:lnTo>
                      <a:pt x="34" y="34"/>
                    </a:lnTo>
                    <a:lnTo>
                      <a:pt x="19" y="30"/>
                    </a:lnTo>
                    <a:lnTo>
                      <a:pt x="4" y="26"/>
                    </a:lnTo>
                    <a:lnTo>
                      <a:pt x="4" y="19"/>
                    </a:lnTo>
                    <a:lnTo>
                      <a:pt x="4" y="13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39" y="10"/>
                    </a:lnTo>
                    <a:lnTo>
                      <a:pt x="80" y="19"/>
                    </a:lnTo>
                    <a:lnTo>
                      <a:pt x="122" y="26"/>
                    </a:lnTo>
                    <a:lnTo>
                      <a:pt x="165" y="34"/>
                    </a:lnTo>
                    <a:lnTo>
                      <a:pt x="211" y="39"/>
                    </a:lnTo>
                    <a:lnTo>
                      <a:pt x="259" y="45"/>
                    </a:lnTo>
                    <a:lnTo>
                      <a:pt x="307" y="50"/>
                    </a:lnTo>
                    <a:lnTo>
                      <a:pt x="357" y="54"/>
                    </a:lnTo>
                    <a:lnTo>
                      <a:pt x="406" y="59"/>
                    </a:lnTo>
                    <a:lnTo>
                      <a:pt x="458" y="63"/>
                    </a:lnTo>
                    <a:lnTo>
                      <a:pt x="510" y="65"/>
                    </a:lnTo>
                    <a:lnTo>
                      <a:pt x="563" y="69"/>
                    </a:lnTo>
                    <a:lnTo>
                      <a:pt x="615" y="72"/>
                    </a:lnTo>
                    <a:lnTo>
                      <a:pt x="668" y="76"/>
                    </a:lnTo>
                    <a:lnTo>
                      <a:pt x="722" y="78"/>
                    </a:lnTo>
                    <a:lnTo>
                      <a:pt x="775" y="82"/>
                    </a:lnTo>
                    <a:lnTo>
                      <a:pt x="827" y="85"/>
                    </a:lnTo>
                    <a:lnTo>
                      <a:pt x="879" y="89"/>
                    </a:lnTo>
                    <a:lnTo>
                      <a:pt x="930" y="93"/>
                    </a:lnTo>
                    <a:lnTo>
                      <a:pt x="982" y="98"/>
                    </a:lnTo>
                    <a:lnTo>
                      <a:pt x="1032" y="102"/>
                    </a:lnTo>
                    <a:lnTo>
                      <a:pt x="1080" y="107"/>
                    </a:lnTo>
                    <a:lnTo>
                      <a:pt x="1128" y="113"/>
                    </a:lnTo>
                    <a:lnTo>
                      <a:pt x="1174" y="120"/>
                    </a:lnTo>
                    <a:lnTo>
                      <a:pt x="1218" y="128"/>
                    </a:lnTo>
                    <a:lnTo>
                      <a:pt x="1261" y="137"/>
                    </a:lnTo>
                    <a:lnTo>
                      <a:pt x="1301" y="146"/>
                    </a:lnTo>
                    <a:lnTo>
                      <a:pt x="1340" y="155"/>
                    </a:lnTo>
                    <a:lnTo>
                      <a:pt x="1377" y="168"/>
                    </a:lnTo>
                    <a:lnTo>
                      <a:pt x="1410" y="179"/>
                    </a:lnTo>
                    <a:lnTo>
                      <a:pt x="1441" y="194"/>
                    </a:lnTo>
                    <a:lnTo>
                      <a:pt x="1471" y="209"/>
                    </a:lnTo>
                    <a:lnTo>
                      <a:pt x="1432" y="216"/>
                    </a:lnTo>
                    <a:lnTo>
                      <a:pt x="1388" y="222"/>
                    </a:lnTo>
                    <a:lnTo>
                      <a:pt x="1336" y="225"/>
                    </a:lnTo>
                    <a:lnTo>
                      <a:pt x="1281" y="231"/>
                    </a:lnTo>
                    <a:lnTo>
                      <a:pt x="1220" y="235"/>
                    </a:lnTo>
                    <a:lnTo>
                      <a:pt x="1157" y="238"/>
                    </a:lnTo>
                    <a:lnTo>
                      <a:pt x="1091" y="240"/>
                    </a:lnTo>
                    <a:lnTo>
                      <a:pt x="1024" y="244"/>
                    </a:lnTo>
                    <a:lnTo>
                      <a:pt x="958" y="246"/>
                    </a:lnTo>
                    <a:lnTo>
                      <a:pt x="892" y="248"/>
                    </a:lnTo>
                    <a:lnTo>
                      <a:pt x="827" y="249"/>
                    </a:lnTo>
                    <a:lnTo>
                      <a:pt x="766" y="251"/>
                    </a:lnTo>
                    <a:lnTo>
                      <a:pt x="711" y="253"/>
                    </a:lnTo>
                    <a:lnTo>
                      <a:pt x="659" y="255"/>
                    </a:lnTo>
                    <a:lnTo>
                      <a:pt x="613" y="257"/>
                    </a:lnTo>
                    <a:lnTo>
                      <a:pt x="574" y="259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9"/>
              <p:cNvSpPr/>
              <p:nvPr/>
            </p:nvSpPr>
            <p:spPr>
              <a:xfrm>
                <a:off x="3876840" y="3561480"/>
                <a:ext cx="2069280" cy="751680"/>
              </a:xfrm>
              <a:custGeom>
                <a:avLst/>
                <a:gdLst/>
                <a:ahLst/>
                <a:rect l="l" t="t" r="r" b="b"/>
                <a:pathLst>
                  <a:path w="4177" h="1642">
                    <a:moveTo>
                      <a:pt x="2115" y="1636"/>
                    </a:moveTo>
                    <a:lnTo>
                      <a:pt x="2076" y="1635"/>
                    </a:lnTo>
                    <a:lnTo>
                      <a:pt x="2078" y="1369"/>
                    </a:lnTo>
                    <a:lnTo>
                      <a:pt x="2054" y="1339"/>
                    </a:lnTo>
                    <a:lnTo>
                      <a:pt x="1930" y="1336"/>
                    </a:lnTo>
                    <a:lnTo>
                      <a:pt x="1890" y="1334"/>
                    </a:lnTo>
                    <a:lnTo>
                      <a:pt x="1681" y="1325"/>
                    </a:lnTo>
                    <a:lnTo>
                      <a:pt x="1700" y="1612"/>
                    </a:lnTo>
                    <a:lnTo>
                      <a:pt x="1678" y="1611"/>
                    </a:lnTo>
                    <a:lnTo>
                      <a:pt x="1604" y="1603"/>
                    </a:lnTo>
                    <a:lnTo>
                      <a:pt x="1591" y="1566"/>
                    </a:lnTo>
                    <a:lnTo>
                      <a:pt x="1578" y="1529"/>
                    </a:lnTo>
                    <a:lnTo>
                      <a:pt x="1565" y="1494"/>
                    </a:lnTo>
                    <a:lnTo>
                      <a:pt x="1552" y="1459"/>
                    </a:lnTo>
                    <a:lnTo>
                      <a:pt x="1541" y="1426"/>
                    </a:lnTo>
                    <a:lnTo>
                      <a:pt x="1532" y="1393"/>
                    </a:lnTo>
                    <a:lnTo>
                      <a:pt x="1528" y="1360"/>
                    </a:lnTo>
                    <a:lnTo>
                      <a:pt x="1528" y="1328"/>
                    </a:lnTo>
                    <a:lnTo>
                      <a:pt x="1515" y="1293"/>
                    </a:lnTo>
                    <a:lnTo>
                      <a:pt x="1115" y="1302"/>
                    </a:lnTo>
                    <a:lnTo>
                      <a:pt x="1126" y="1334"/>
                    </a:lnTo>
                    <a:lnTo>
                      <a:pt x="1144" y="1421"/>
                    </a:lnTo>
                    <a:lnTo>
                      <a:pt x="1172" y="1500"/>
                    </a:lnTo>
                    <a:lnTo>
                      <a:pt x="1047" y="1472"/>
                    </a:lnTo>
                    <a:lnTo>
                      <a:pt x="1000" y="1402"/>
                    </a:lnTo>
                    <a:lnTo>
                      <a:pt x="989" y="1371"/>
                    </a:lnTo>
                    <a:lnTo>
                      <a:pt x="978" y="1297"/>
                    </a:lnTo>
                    <a:lnTo>
                      <a:pt x="971" y="1284"/>
                    </a:lnTo>
                    <a:lnTo>
                      <a:pt x="871" y="1258"/>
                    </a:lnTo>
                    <a:lnTo>
                      <a:pt x="692" y="1269"/>
                    </a:lnTo>
                    <a:lnTo>
                      <a:pt x="696" y="1282"/>
                    </a:lnTo>
                    <a:lnTo>
                      <a:pt x="713" y="1297"/>
                    </a:lnTo>
                    <a:lnTo>
                      <a:pt x="805" y="1286"/>
                    </a:lnTo>
                    <a:lnTo>
                      <a:pt x="849" y="1293"/>
                    </a:lnTo>
                    <a:lnTo>
                      <a:pt x="949" y="1297"/>
                    </a:lnTo>
                    <a:lnTo>
                      <a:pt x="1008" y="1450"/>
                    </a:lnTo>
                    <a:lnTo>
                      <a:pt x="731" y="1374"/>
                    </a:lnTo>
                    <a:lnTo>
                      <a:pt x="716" y="1336"/>
                    </a:lnTo>
                    <a:lnTo>
                      <a:pt x="683" y="1295"/>
                    </a:lnTo>
                    <a:lnTo>
                      <a:pt x="692" y="1367"/>
                    </a:lnTo>
                    <a:lnTo>
                      <a:pt x="428" y="1194"/>
                    </a:lnTo>
                    <a:lnTo>
                      <a:pt x="452" y="1173"/>
                    </a:lnTo>
                    <a:lnTo>
                      <a:pt x="392" y="830"/>
                    </a:lnTo>
                    <a:lnTo>
                      <a:pt x="181" y="821"/>
                    </a:lnTo>
                    <a:lnTo>
                      <a:pt x="139" y="719"/>
                    </a:lnTo>
                    <a:lnTo>
                      <a:pt x="264" y="747"/>
                    </a:lnTo>
                    <a:lnTo>
                      <a:pt x="281" y="743"/>
                    </a:lnTo>
                    <a:lnTo>
                      <a:pt x="275" y="424"/>
                    </a:lnTo>
                    <a:lnTo>
                      <a:pt x="279" y="367"/>
                    </a:lnTo>
                    <a:lnTo>
                      <a:pt x="301" y="350"/>
                    </a:lnTo>
                    <a:lnTo>
                      <a:pt x="351" y="620"/>
                    </a:lnTo>
                    <a:lnTo>
                      <a:pt x="371" y="664"/>
                    </a:lnTo>
                    <a:lnTo>
                      <a:pt x="392" y="703"/>
                    </a:lnTo>
                    <a:lnTo>
                      <a:pt x="395" y="738"/>
                    </a:lnTo>
                    <a:lnTo>
                      <a:pt x="467" y="1116"/>
                    </a:lnTo>
                    <a:lnTo>
                      <a:pt x="467" y="1129"/>
                    </a:lnTo>
                    <a:lnTo>
                      <a:pt x="497" y="1157"/>
                    </a:lnTo>
                    <a:lnTo>
                      <a:pt x="744" y="1153"/>
                    </a:lnTo>
                    <a:lnTo>
                      <a:pt x="797" y="1164"/>
                    </a:lnTo>
                    <a:lnTo>
                      <a:pt x="845" y="1153"/>
                    </a:lnTo>
                    <a:lnTo>
                      <a:pt x="949" y="1162"/>
                    </a:lnTo>
                    <a:lnTo>
                      <a:pt x="951" y="1147"/>
                    </a:lnTo>
                    <a:lnTo>
                      <a:pt x="807" y="1129"/>
                    </a:lnTo>
                    <a:lnTo>
                      <a:pt x="796" y="989"/>
                    </a:lnTo>
                    <a:lnTo>
                      <a:pt x="797" y="908"/>
                    </a:lnTo>
                    <a:lnTo>
                      <a:pt x="805" y="732"/>
                    </a:lnTo>
                    <a:lnTo>
                      <a:pt x="513" y="730"/>
                    </a:lnTo>
                    <a:lnTo>
                      <a:pt x="430" y="727"/>
                    </a:lnTo>
                    <a:lnTo>
                      <a:pt x="452" y="714"/>
                    </a:lnTo>
                    <a:lnTo>
                      <a:pt x="491" y="716"/>
                    </a:lnTo>
                    <a:lnTo>
                      <a:pt x="903" y="684"/>
                    </a:lnTo>
                    <a:lnTo>
                      <a:pt x="932" y="706"/>
                    </a:lnTo>
                    <a:lnTo>
                      <a:pt x="1076" y="708"/>
                    </a:lnTo>
                    <a:lnTo>
                      <a:pt x="1098" y="688"/>
                    </a:lnTo>
                    <a:lnTo>
                      <a:pt x="1404" y="703"/>
                    </a:lnTo>
                    <a:lnTo>
                      <a:pt x="1438" y="391"/>
                    </a:lnTo>
                    <a:lnTo>
                      <a:pt x="1441" y="273"/>
                    </a:lnTo>
                    <a:lnTo>
                      <a:pt x="1412" y="251"/>
                    </a:lnTo>
                    <a:lnTo>
                      <a:pt x="1233" y="253"/>
                    </a:lnTo>
                    <a:lnTo>
                      <a:pt x="951" y="242"/>
                    </a:lnTo>
                    <a:lnTo>
                      <a:pt x="925" y="253"/>
                    </a:lnTo>
                    <a:lnTo>
                      <a:pt x="919" y="275"/>
                    </a:lnTo>
                    <a:lnTo>
                      <a:pt x="923" y="325"/>
                    </a:lnTo>
                    <a:lnTo>
                      <a:pt x="923" y="373"/>
                    </a:lnTo>
                    <a:lnTo>
                      <a:pt x="923" y="422"/>
                    </a:lnTo>
                    <a:lnTo>
                      <a:pt x="923" y="470"/>
                    </a:lnTo>
                    <a:lnTo>
                      <a:pt x="928" y="518"/>
                    </a:lnTo>
                    <a:lnTo>
                      <a:pt x="938" y="568"/>
                    </a:lnTo>
                    <a:lnTo>
                      <a:pt x="956" y="616"/>
                    </a:lnTo>
                    <a:lnTo>
                      <a:pt x="986" y="666"/>
                    </a:lnTo>
                    <a:lnTo>
                      <a:pt x="969" y="683"/>
                    </a:lnTo>
                    <a:lnTo>
                      <a:pt x="969" y="660"/>
                    </a:lnTo>
                    <a:lnTo>
                      <a:pt x="936" y="642"/>
                    </a:lnTo>
                    <a:lnTo>
                      <a:pt x="441" y="675"/>
                    </a:lnTo>
                    <a:lnTo>
                      <a:pt x="393" y="660"/>
                    </a:lnTo>
                    <a:lnTo>
                      <a:pt x="386" y="642"/>
                    </a:lnTo>
                    <a:lnTo>
                      <a:pt x="333" y="339"/>
                    </a:lnTo>
                    <a:lnTo>
                      <a:pt x="344" y="262"/>
                    </a:lnTo>
                    <a:lnTo>
                      <a:pt x="866" y="282"/>
                    </a:lnTo>
                    <a:lnTo>
                      <a:pt x="897" y="601"/>
                    </a:lnTo>
                    <a:lnTo>
                      <a:pt x="897" y="623"/>
                    </a:lnTo>
                    <a:lnTo>
                      <a:pt x="927" y="629"/>
                    </a:lnTo>
                    <a:lnTo>
                      <a:pt x="912" y="579"/>
                    </a:lnTo>
                    <a:lnTo>
                      <a:pt x="901" y="275"/>
                    </a:lnTo>
                    <a:lnTo>
                      <a:pt x="897" y="260"/>
                    </a:lnTo>
                    <a:lnTo>
                      <a:pt x="788" y="247"/>
                    </a:lnTo>
                    <a:lnTo>
                      <a:pt x="336" y="230"/>
                    </a:lnTo>
                    <a:lnTo>
                      <a:pt x="314" y="238"/>
                    </a:lnTo>
                    <a:lnTo>
                      <a:pt x="303" y="312"/>
                    </a:lnTo>
                    <a:lnTo>
                      <a:pt x="242" y="301"/>
                    </a:lnTo>
                    <a:lnTo>
                      <a:pt x="240" y="326"/>
                    </a:lnTo>
                    <a:lnTo>
                      <a:pt x="45" y="315"/>
                    </a:lnTo>
                    <a:lnTo>
                      <a:pt x="0" y="326"/>
                    </a:lnTo>
                    <a:lnTo>
                      <a:pt x="2" y="304"/>
                    </a:lnTo>
                    <a:lnTo>
                      <a:pt x="34" y="249"/>
                    </a:lnTo>
                    <a:lnTo>
                      <a:pt x="47" y="249"/>
                    </a:lnTo>
                    <a:lnTo>
                      <a:pt x="87" y="221"/>
                    </a:lnTo>
                    <a:lnTo>
                      <a:pt x="150" y="194"/>
                    </a:lnTo>
                    <a:lnTo>
                      <a:pt x="211" y="173"/>
                    </a:lnTo>
                    <a:lnTo>
                      <a:pt x="274" y="159"/>
                    </a:lnTo>
                    <a:lnTo>
                      <a:pt x="334" y="147"/>
                    </a:lnTo>
                    <a:lnTo>
                      <a:pt x="397" y="142"/>
                    </a:lnTo>
                    <a:lnTo>
                      <a:pt x="458" y="140"/>
                    </a:lnTo>
                    <a:lnTo>
                      <a:pt x="519" y="142"/>
                    </a:lnTo>
                    <a:lnTo>
                      <a:pt x="580" y="146"/>
                    </a:lnTo>
                    <a:lnTo>
                      <a:pt x="641" y="151"/>
                    </a:lnTo>
                    <a:lnTo>
                      <a:pt x="702" y="157"/>
                    </a:lnTo>
                    <a:lnTo>
                      <a:pt x="762" y="162"/>
                    </a:lnTo>
                    <a:lnTo>
                      <a:pt x="823" y="168"/>
                    </a:lnTo>
                    <a:lnTo>
                      <a:pt x="884" y="171"/>
                    </a:lnTo>
                    <a:lnTo>
                      <a:pt x="947" y="173"/>
                    </a:lnTo>
                    <a:lnTo>
                      <a:pt x="1008" y="171"/>
                    </a:lnTo>
                    <a:lnTo>
                      <a:pt x="1071" y="168"/>
                    </a:lnTo>
                    <a:lnTo>
                      <a:pt x="1137" y="170"/>
                    </a:lnTo>
                    <a:lnTo>
                      <a:pt x="1161" y="166"/>
                    </a:lnTo>
                    <a:lnTo>
                      <a:pt x="1183" y="166"/>
                    </a:lnTo>
                    <a:lnTo>
                      <a:pt x="1207" y="170"/>
                    </a:lnTo>
                    <a:lnTo>
                      <a:pt x="1229" y="173"/>
                    </a:lnTo>
                    <a:lnTo>
                      <a:pt x="1251" y="181"/>
                    </a:lnTo>
                    <a:lnTo>
                      <a:pt x="1275" y="188"/>
                    </a:lnTo>
                    <a:lnTo>
                      <a:pt x="1297" y="195"/>
                    </a:lnTo>
                    <a:lnTo>
                      <a:pt x="1321" y="205"/>
                    </a:lnTo>
                    <a:lnTo>
                      <a:pt x="1344" y="212"/>
                    </a:lnTo>
                    <a:lnTo>
                      <a:pt x="1368" y="219"/>
                    </a:lnTo>
                    <a:lnTo>
                      <a:pt x="1390" y="225"/>
                    </a:lnTo>
                    <a:lnTo>
                      <a:pt x="1412" y="230"/>
                    </a:lnTo>
                    <a:lnTo>
                      <a:pt x="1436" y="232"/>
                    </a:lnTo>
                    <a:lnTo>
                      <a:pt x="1460" y="230"/>
                    </a:lnTo>
                    <a:lnTo>
                      <a:pt x="1482" y="227"/>
                    </a:lnTo>
                    <a:lnTo>
                      <a:pt x="1506" y="219"/>
                    </a:lnTo>
                    <a:lnTo>
                      <a:pt x="1534" y="295"/>
                    </a:lnTo>
                    <a:lnTo>
                      <a:pt x="1523" y="337"/>
                    </a:lnTo>
                    <a:lnTo>
                      <a:pt x="1559" y="409"/>
                    </a:lnTo>
                    <a:lnTo>
                      <a:pt x="1613" y="463"/>
                    </a:lnTo>
                    <a:lnTo>
                      <a:pt x="1583" y="544"/>
                    </a:lnTo>
                    <a:lnTo>
                      <a:pt x="1587" y="566"/>
                    </a:lnTo>
                    <a:lnTo>
                      <a:pt x="1593" y="655"/>
                    </a:lnTo>
                    <a:lnTo>
                      <a:pt x="1595" y="710"/>
                    </a:lnTo>
                    <a:lnTo>
                      <a:pt x="1615" y="751"/>
                    </a:lnTo>
                    <a:lnTo>
                      <a:pt x="1642" y="747"/>
                    </a:lnTo>
                    <a:lnTo>
                      <a:pt x="1668" y="743"/>
                    </a:lnTo>
                    <a:lnTo>
                      <a:pt x="1696" y="742"/>
                    </a:lnTo>
                    <a:lnTo>
                      <a:pt x="1724" y="742"/>
                    </a:lnTo>
                    <a:lnTo>
                      <a:pt x="1749" y="742"/>
                    </a:lnTo>
                    <a:lnTo>
                      <a:pt x="1777" y="742"/>
                    </a:lnTo>
                    <a:lnTo>
                      <a:pt x="1803" y="743"/>
                    </a:lnTo>
                    <a:lnTo>
                      <a:pt x="1831" y="745"/>
                    </a:lnTo>
                    <a:lnTo>
                      <a:pt x="1857" y="747"/>
                    </a:lnTo>
                    <a:lnTo>
                      <a:pt x="1884" y="751"/>
                    </a:lnTo>
                    <a:lnTo>
                      <a:pt x="1910" y="753"/>
                    </a:lnTo>
                    <a:lnTo>
                      <a:pt x="1938" y="756"/>
                    </a:lnTo>
                    <a:lnTo>
                      <a:pt x="1964" y="758"/>
                    </a:lnTo>
                    <a:lnTo>
                      <a:pt x="1991" y="762"/>
                    </a:lnTo>
                    <a:lnTo>
                      <a:pt x="2017" y="766"/>
                    </a:lnTo>
                    <a:lnTo>
                      <a:pt x="2045" y="767"/>
                    </a:lnTo>
                    <a:lnTo>
                      <a:pt x="2032" y="559"/>
                    </a:lnTo>
                    <a:lnTo>
                      <a:pt x="2059" y="371"/>
                    </a:lnTo>
                    <a:lnTo>
                      <a:pt x="2039" y="358"/>
                    </a:lnTo>
                    <a:lnTo>
                      <a:pt x="1749" y="325"/>
                    </a:lnTo>
                    <a:lnTo>
                      <a:pt x="1884" y="247"/>
                    </a:lnTo>
                    <a:lnTo>
                      <a:pt x="1964" y="267"/>
                    </a:lnTo>
                    <a:lnTo>
                      <a:pt x="2017" y="253"/>
                    </a:lnTo>
                    <a:lnTo>
                      <a:pt x="2052" y="236"/>
                    </a:lnTo>
                    <a:lnTo>
                      <a:pt x="2087" y="264"/>
                    </a:lnTo>
                    <a:lnTo>
                      <a:pt x="2152" y="275"/>
                    </a:lnTo>
                    <a:lnTo>
                      <a:pt x="2366" y="240"/>
                    </a:lnTo>
                    <a:lnTo>
                      <a:pt x="2401" y="247"/>
                    </a:lnTo>
                    <a:lnTo>
                      <a:pt x="2436" y="254"/>
                    </a:lnTo>
                    <a:lnTo>
                      <a:pt x="2471" y="258"/>
                    </a:lnTo>
                    <a:lnTo>
                      <a:pt x="2508" y="260"/>
                    </a:lnTo>
                    <a:lnTo>
                      <a:pt x="2543" y="262"/>
                    </a:lnTo>
                    <a:lnTo>
                      <a:pt x="2580" y="260"/>
                    </a:lnTo>
                    <a:lnTo>
                      <a:pt x="2615" y="258"/>
                    </a:lnTo>
                    <a:lnTo>
                      <a:pt x="2652" y="254"/>
                    </a:lnTo>
                    <a:lnTo>
                      <a:pt x="2687" y="249"/>
                    </a:lnTo>
                    <a:lnTo>
                      <a:pt x="2722" y="243"/>
                    </a:lnTo>
                    <a:lnTo>
                      <a:pt x="2759" y="236"/>
                    </a:lnTo>
                    <a:lnTo>
                      <a:pt x="2794" y="227"/>
                    </a:lnTo>
                    <a:lnTo>
                      <a:pt x="2831" y="218"/>
                    </a:lnTo>
                    <a:lnTo>
                      <a:pt x="2866" y="208"/>
                    </a:lnTo>
                    <a:lnTo>
                      <a:pt x="2901" y="199"/>
                    </a:lnTo>
                    <a:lnTo>
                      <a:pt x="2936" y="188"/>
                    </a:lnTo>
                    <a:lnTo>
                      <a:pt x="2958" y="175"/>
                    </a:lnTo>
                    <a:lnTo>
                      <a:pt x="3047" y="230"/>
                    </a:lnTo>
                    <a:lnTo>
                      <a:pt x="3683" y="138"/>
                    </a:lnTo>
                    <a:lnTo>
                      <a:pt x="3738" y="83"/>
                    </a:lnTo>
                    <a:lnTo>
                      <a:pt x="3880" y="103"/>
                    </a:lnTo>
                    <a:lnTo>
                      <a:pt x="3969" y="92"/>
                    </a:lnTo>
                    <a:lnTo>
                      <a:pt x="4050" y="31"/>
                    </a:lnTo>
                    <a:lnTo>
                      <a:pt x="4063" y="31"/>
                    </a:lnTo>
                    <a:lnTo>
                      <a:pt x="4106" y="33"/>
                    </a:lnTo>
                    <a:lnTo>
                      <a:pt x="4117" y="7"/>
                    </a:lnTo>
                    <a:lnTo>
                      <a:pt x="4177" y="0"/>
                    </a:lnTo>
                    <a:lnTo>
                      <a:pt x="4024" y="448"/>
                    </a:lnTo>
                    <a:lnTo>
                      <a:pt x="4109" y="186"/>
                    </a:lnTo>
                    <a:lnTo>
                      <a:pt x="4089" y="162"/>
                    </a:lnTo>
                    <a:lnTo>
                      <a:pt x="3821" y="166"/>
                    </a:lnTo>
                    <a:lnTo>
                      <a:pt x="3821" y="188"/>
                    </a:lnTo>
                    <a:lnTo>
                      <a:pt x="4074" y="197"/>
                    </a:lnTo>
                    <a:lnTo>
                      <a:pt x="4058" y="234"/>
                    </a:lnTo>
                    <a:lnTo>
                      <a:pt x="4043" y="269"/>
                    </a:lnTo>
                    <a:lnTo>
                      <a:pt x="4030" y="304"/>
                    </a:lnTo>
                    <a:lnTo>
                      <a:pt x="4019" y="337"/>
                    </a:lnTo>
                    <a:lnTo>
                      <a:pt x="4008" y="371"/>
                    </a:lnTo>
                    <a:lnTo>
                      <a:pt x="4000" y="404"/>
                    </a:lnTo>
                    <a:lnTo>
                      <a:pt x="3993" y="439"/>
                    </a:lnTo>
                    <a:lnTo>
                      <a:pt x="3989" y="472"/>
                    </a:lnTo>
                    <a:lnTo>
                      <a:pt x="3773" y="504"/>
                    </a:lnTo>
                    <a:lnTo>
                      <a:pt x="3823" y="243"/>
                    </a:lnTo>
                    <a:lnTo>
                      <a:pt x="3810" y="230"/>
                    </a:lnTo>
                    <a:lnTo>
                      <a:pt x="3742" y="516"/>
                    </a:lnTo>
                    <a:lnTo>
                      <a:pt x="3755" y="539"/>
                    </a:lnTo>
                    <a:lnTo>
                      <a:pt x="3978" y="516"/>
                    </a:lnTo>
                    <a:lnTo>
                      <a:pt x="4013" y="526"/>
                    </a:lnTo>
                    <a:lnTo>
                      <a:pt x="4045" y="492"/>
                    </a:lnTo>
                    <a:lnTo>
                      <a:pt x="3869" y="952"/>
                    </a:lnTo>
                    <a:lnTo>
                      <a:pt x="3853" y="952"/>
                    </a:lnTo>
                    <a:lnTo>
                      <a:pt x="3829" y="994"/>
                    </a:lnTo>
                    <a:lnTo>
                      <a:pt x="3934" y="780"/>
                    </a:lnTo>
                    <a:lnTo>
                      <a:pt x="3947" y="754"/>
                    </a:lnTo>
                    <a:lnTo>
                      <a:pt x="3943" y="742"/>
                    </a:lnTo>
                    <a:lnTo>
                      <a:pt x="3936" y="723"/>
                    </a:lnTo>
                    <a:lnTo>
                      <a:pt x="3713" y="723"/>
                    </a:lnTo>
                    <a:lnTo>
                      <a:pt x="3696" y="732"/>
                    </a:lnTo>
                    <a:lnTo>
                      <a:pt x="3624" y="1009"/>
                    </a:lnTo>
                    <a:lnTo>
                      <a:pt x="3611" y="1007"/>
                    </a:lnTo>
                    <a:lnTo>
                      <a:pt x="3609" y="1020"/>
                    </a:lnTo>
                    <a:lnTo>
                      <a:pt x="3799" y="1059"/>
                    </a:lnTo>
                    <a:lnTo>
                      <a:pt x="3749" y="1131"/>
                    </a:lnTo>
                    <a:lnTo>
                      <a:pt x="3665" y="1162"/>
                    </a:lnTo>
                    <a:lnTo>
                      <a:pt x="3617" y="1166"/>
                    </a:lnTo>
                    <a:lnTo>
                      <a:pt x="3604" y="1173"/>
                    </a:lnTo>
                    <a:lnTo>
                      <a:pt x="3535" y="1350"/>
                    </a:lnTo>
                    <a:lnTo>
                      <a:pt x="3421" y="1400"/>
                    </a:lnTo>
                    <a:lnTo>
                      <a:pt x="3458" y="1238"/>
                    </a:lnTo>
                    <a:lnTo>
                      <a:pt x="3449" y="1223"/>
                    </a:lnTo>
                    <a:lnTo>
                      <a:pt x="3218" y="1229"/>
                    </a:lnTo>
                    <a:lnTo>
                      <a:pt x="3196" y="1227"/>
                    </a:lnTo>
                    <a:lnTo>
                      <a:pt x="3111" y="1518"/>
                    </a:lnTo>
                    <a:lnTo>
                      <a:pt x="3028" y="1529"/>
                    </a:lnTo>
                    <a:lnTo>
                      <a:pt x="3080" y="1306"/>
                    </a:lnTo>
                    <a:lnTo>
                      <a:pt x="3072" y="1288"/>
                    </a:lnTo>
                    <a:lnTo>
                      <a:pt x="3041" y="1266"/>
                    </a:lnTo>
                    <a:lnTo>
                      <a:pt x="3023" y="1267"/>
                    </a:lnTo>
                    <a:lnTo>
                      <a:pt x="3004" y="1271"/>
                    </a:lnTo>
                    <a:lnTo>
                      <a:pt x="2984" y="1273"/>
                    </a:lnTo>
                    <a:lnTo>
                      <a:pt x="2965" y="1277"/>
                    </a:lnTo>
                    <a:lnTo>
                      <a:pt x="2947" y="1278"/>
                    </a:lnTo>
                    <a:lnTo>
                      <a:pt x="2927" y="1280"/>
                    </a:lnTo>
                    <a:lnTo>
                      <a:pt x="2908" y="1282"/>
                    </a:lnTo>
                    <a:lnTo>
                      <a:pt x="2890" y="1284"/>
                    </a:lnTo>
                    <a:lnTo>
                      <a:pt x="2869" y="1286"/>
                    </a:lnTo>
                    <a:lnTo>
                      <a:pt x="2851" y="1286"/>
                    </a:lnTo>
                    <a:lnTo>
                      <a:pt x="2832" y="1286"/>
                    </a:lnTo>
                    <a:lnTo>
                      <a:pt x="2814" y="1286"/>
                    </a:lnTo>
                    <a:lnTo>
                      <a:pt x="2796" y="1284"/>
                    </a:lnTo>
                    <a:lnTo>
                      <a:pt x="2777" y="1282"/>
                    </a:lnTo>
                    <a:lnTo>
                      <a:pt x="2759" y="1278"/>
                    </a:lnTo>
                    <a:lnTo>
                      <a:pt x="2740" y="1275"/>
                    </a:lnTo>
                    <a:lnTo>
                      <a:pt x="2668" y="1559"/>
                    </a:lnTo>
                    <a:lnTo>
                      <a:pt x="2681" y="1575"/>
                    </a:lnTo>
                    <a:lnTo>
                      <a:pt x="2698" y="1577"/>
                    </a:lnTo>
                    <a:lnTo>
                      <a:pt x="2738" y="1339"/>
                    </a:lnTo>
                    <a:lnTo>
                      <a:pt x="2757" y="1319"/>
                    </a:lnTo>
                    <a:lnTo>
                      <a:pt x="3041" y="1304"/>
                    </a:lnTo>
                    <a:lnTo>
                      <a:pt x="2997" y="1528"/>
                    </a:lnTo>
                    <a:lnTo>
                      <a:pt x="2666" y="1592"/>
                    </a:lnTo>
                    <a:lnTo>
                      <a:pt x="2558" y="1611"/>
                    </a:lnTo>
                    <a:lnTo>
                      <a:pt x="2576" y="1334"/>
                    </a:lnTo>
                    <a:lnTo>
                      <a:pt x="2556" y="1312"/>
                    </a:lnTo>
                    <a:lnTo>
                      <a:pt x="2213" y="1299"/>
                    </a:lnTo>
                    <a:lnTo>
                      <a:pt x="2222" y="1620"/>
                    </a:lnTo>
                    <a:lnTo>
                      <a:pt x="2235" y="1616"/>
                    </a:lnTo>
                    <a:lnTo>
                      <a:pt x="2237" y="1572"/>
                    </a:lnTo>
                    <a:lnTo>
                      <a:pt x="2233" y="1321"/>
                    </a:lnTo>
                    <a:lnTo>
                      <a:pt x="2384" y="1336"/>
                    </a:lnTo>
                    <a:lnTo>
                      <a:pt x="2547" y="1332"/>
                    </a:lnTo>
                    <a:lnTo>
                      <a:pt x="2532" y="1609"/>
                    </a:lnTo>
                    <a:lnTo>
                      <a:pt x="2261" y="1622"/>
                    </a:lnTo>
                    <a:lnTo>
                      <a:pt x="2220" y="1642"/>
                    </a:lnTo>
                    <a:lnTo>
                      <a:pt x="2115" y="16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60"/>
              <p:cNvSpPr/>
              <p:nvPr/>
            </p:nvSpPr>
            <p:spPr>
              <a:xfrm>
                <a:off x="3975120" y="3948840"/>
                <a:ext cx="106920" cy="138960"/>
              </a:xfrm>
              <a:custGeom>
                <a:avLst/>
                <a:gdLst/>
                <a:ahLst/>
                <a:rect l="l" t="t" r="r" b="b"/>
                <a:pathLst>
                  <a:path w="216" h="302">
                    <a:moveTo>
                      <a:pt x="177" y="300"/>
                    </a:moveTo>
                    <a:lnTo>
                      <a:pt x="72" y="182"/>
                    </a:lnTo>
                    <a:lnTo>
                      <a:pt x="7" y="40"/>
                    </a:lnTo>
                    <a:lnTo>
                      <a:pt x="0" y="27"/>
                    </a:lnTo>
                    <a:lnTo>
                      <a:pt x="157" y="0"/>
                    </a:lnTo>
                    <a:lnTo>
                      <a:pt x="183" y="134"/>
                    </a:lnTo>
                    <a:lnTo>
                      <a:pt x="216" y="302"/>
                    </a:lnTo>
                    <a:lnTo>
                      <a:pt x="177" y="3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61"/>
              <p:cNvSpPr/>
              <p:nvPr/>
            </p:nvSpPr>
            <p:spPr>
              <a:xfrm>
                <a:off x="4088880" y="3902040"/>
                <a:ext cx="174240" cy="176400"/>
              </a:xfrm>
              <a:custGeom>
                <a:avLst/>
                <a:gdLst/>
                <a:ahLst/>
                <a:rect l="l" t="t" r="r" b="b"/>
                <a:pathLst>
                  <a:path w="353" h="388">
                    <a:moveTo>
                      <a:pt x="69" y="379"/>
                    </a:moveTo>
                    <a:lnTo>
                      <a:pt x="0" y="10"/>
                    </a:lnTo>
                    <a:lnTo>
                      <a:pt x="333" y="0"/>
                    </a:lnTo>
                    <a:lnTo>
                      <a:pt x="353" y="386"/>
                    </a:lnTo>
                    <a:lnTo>
                      <a:pt x="314" y="388"/>
                    </a:lnTo>
                    <a:lnTo>
                      <a:pt x="270" y="386"/>
                    </a:lnTo>
                    <a:lnTo>
                      <a:pt x="69" y="3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2"/>
              <p:cNvSpPr/>
              <p:nvPr/>
            </p:nvSpPr>
            <p:spPr>
              <a:xfrm>
                <a:off x="4368240" y="3922200"/>
                <a:ext cx="224640" cy="166680"/>
              </a:xfrm>
              <a:custGeom>
                <a:avLst/>
                <a:gdLst/>
                <a:ahLst/>
                <a:rect l="l" t="t" r="r" b="b"/>
                <a:pathLst>
                  <a:path w="454" h="365">
                    <a:moveTo>
                      <a:pt x="56" y="343"/>
                    </a:moveTo>
                    <a:lnTo>
                      <a:pt x="57" y="321"/>
                    </a:lnTo>
                    <a:lnTo>
                      <a:pt x="32" y="284"/>
                    </a:lnTo>
                    <a:lnTo>
                      <a:pt x="0" y="0"/>
                    </a:lnTo>
                    <a:lnTo>
                      <a:pt x="151" y="24"/>
                    </a:lnTo>
                    <a:lnTo>
                      <a:pt x="391" y="11"/>
                    </a:lnTo>
                    <a:lnTo>
                      <a:pt x="439" y="13"/>
                    </a:lnTo>
                    <a:lnTo>
                      <a:pt x="454" y="310"/>
                    </a:lnTo>
                    <a:lnTo>
                      <a:pt x="452" y="335"/>
                    </a:lnTo>
                    <a:lnTo>
                      <a:pt x="430" y="365"/>
                    </a:lnTo>
                    <a:lnTo>
                      <a:pt x="295" y="352"/>
                    </a:lnTo>
                    <a:lnTo>
                      <a:pt x="244" y="350"/>
                    </a:lnTo>
                    <a:lnTo>
                      <a:pt x="109" y="335"/>
                    </a:lnTo>
                    <a:lnTo>
                      <a:pt x="56" y="3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3"/>
              <p:cNvSpPr/>
              <p:nvPr/>
            </p:nvSpPr>
            <p:spPr>
              <a:xfrm>
                <a:off x="3880800" y="3720960"/>
                <a:ext cx="125640" cy="165600"/>
              </a:xfrm>
              <a:custGeom>
                <a:avLst/>
                <a:gdLst/>
                <a:ahLst/>
                <a:rect l="l" t="t" r="r" b="b"/>
                <a:pathLst>
                  <a:path w="254" h="361">
                    <a:moveTo>
                      <a:pt x="230" y="361"/>
                    </a:moveTo>
                    <a:lnTo>
                      <a:pt x="131" y="345"/>
                    </a:lnTo>
                    <a:lnTo>
                      <a:pt x="101" y="322"/>
                    </a:lnTo>
                    <a:lnTo>
                      <a:pt x="99" y="282"/>
                    </a:lnTo>
                    <a:lnTo>
                      <a:pt x="0" y="12"/>
                    </a:lnTo>
                    <a:lnTo>
                      <a:pt x="144" y="5"/>
                    </a:lnTo>
                    <a:lnTo>
                      <a:pt x="192" y="7"/>
                    </a:lnTo>
                    <a:lnTo>
                      <a:pt x="232" y="0"/>
                    </a:lnTo>
                    <a:lnTo>
                      <a:pt x="243" y="92"/>
                    </a:lnTo>
                    <a:lnTo>
                      <a:pt x="251" y="180"/>
                    </a:lnTo>
                    <a:lnTo>
                      <a:pt x="254" y="271"/>
                    </a:lnTo>
                    <a:lnTo>
                      <a:pt x="253" y="357"/>
                    </a:lnTo>
                    <a:lnTo>
                      <a:pt x="230" y="36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64"/>
              <p:cNvSpPr/>
              <p:nvPr/>
            </p:nvSpPr>
            <p:spPr>
              <a:xfrm>
                <a:off x="4348440" y="3688920"/>
                <a:ext cx="225720" cy="181800"/>
              </a:xfrm>
              <a:custGeom>
                <a:avLst/>
                <a:gdLst/>
                <a:ahLst/>
                <a:rect l="l" t="t" r="r" b="b"/>
                <a:pathLst>
                  <a:path w="456" h="399">
                    <a:moveTo>
                      <a:pt x="74" y="384"/>
                    </a:moveTo>
                    <a:lnTo>
                      <a:pt x="36" y="366"/>
                    </a:lnTo>
                    <a:lnTo>
                      <a:pt x="19" y="325"/>
                    </a:lnTo>
                    <a:lnTo>
                      <a:pt x="6" y="246"/>
                    </a:lnTo>
                    <a:lnTo>
                      <a:pt x="0" y="168"/>
                    </a:lnTo>
                    <a:lnTo>
                      <a:pt x="2" y="91"/>
                    </a:lnTo>
                    <a:lnTo>
                      <a:pt x="13" y="15"/>
                    </a:lnTo>
                    <a:lnTo>
                      <a:pt x="393" y="0"/>
                    </a:lnTo>
                    <a:lnTo>
                      <a:pt x="451" y="2"/>
                    </a:lnTo>
                    <a:lnTo>
                      <a:pt x="456" y="95"/>
                    </a:lnTo>
                    <a:lnTo>
                      <a:pt x="430" y="399"/>
                    </a:lnTo>
                    <a:lnTo>
                      <a:pt x="74" y="38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5"/>
              <p:cNvSpPr/>
              <p:nvPr/>
            </p:nvSpPr>
            <p:spPr>
              <a:xfrm>
                <a:off x="4725000" y="4184280"/>
                <a:ext cx="168120" cy="121680"/>
              </a:xfrm>
              <a:custGeom>
                <a:avLst/>
                <a:gdLst/>
                <a:ahLst/>
                <a:rect l="l" t="t" r="r" b="b"/>
                <a:pathLst>
                  <a:path w="339" h="265">
                    <a:moveTo>
                      <a:pt x="121" y="265"/>
                    </a:moveTo>
                    <a:lnTo>
                      <a:pt x="22" y="262"/>
                    </a:lnTo>
                    <a:lnTo>
                      <a:pt x="0" y="38"/>
                    </a:lnTo>
                    <a:lnTo>
                      <a:pt x="9" y="3"/>
                    </a:lnTo>
                    <a:lnTo>
                      <a:pt x="339" y="0"/>
                    </a:lnTo>
                    <a:lnTo>
                      <a:pt x="334" y="265"/>
                    </a:lnTo>
                    <a:lnTo>
                      <a:pt x="121" y="2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6"/>
              <p:cNvSpPr/>
              <p:nvPr/>
            </p:nvSpPr>
            <p:spPr>
              <a:xfrm>
                <a:off x="4460040" y="4158720"/>
                <a:ext cx="194040" cy="122400"/>
              </a:xfrm>
              <a:custGeom>
                <a:avLst/>
                <a:gdLst/>
                <a:ahLst/>
                <a:rect l="l" t="t" r="r" b="b"/>
                <a:pathLst>
                  <a:path w="393" h="268">
                    <a:moveTo>
                      <a:pt x="226" y="262"/>
                    </a:moveTo>
                    <a:lnTo>
                      <a:pt x="226" y="257"/>
                    </a:lnTo>
                    <a:lnTo>
                      <a:pt x="29" y="198"/>
                    </a:lnTo>
                    <a:lnTo>
                      <a:pt x="12" y="155"/>
                    </a:lnTo>
                    <a:lnTo>
                      <a:pt x="3" y="118"/>
                    </a:lnTo>
                    <a:lnTo>
                      <a:pt x="0" y="80"/>
                    </a:lnTo>
                    <a:lnTo>
                      <a:pt x="0" y="41"/>
                    </a:lnTo>
                    <a:lnTo>
                      <a:pt x="315" y="0"/>
                    </a:lnTo>
                    <a:lnTo>
                      <a:pt x="324" y="109"/>
                    </a:lnTo>
                    <a:lnTo>
                      <a:pt x="393" y="268"/>
                    </a:lnTo>
                    <a:lnTo>
                      <a:pt x="226" y="26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7"/>
              <p:cNvSpPr/>
              <p:nvPr/>
            </p:nvSpPr>
            <p:spPr>
              <a:xfrm>
                <a:off x="5438160" y="4134960"/>
                <a:ext cx="131400" cy="106920"/>
              </a:xfrm>
              <a:custGeom>
                <a:avLst/>
                <a:gdLst/>
                <a:ahLst/>
                <a:rect l="l" t="t" r="r" b="b"/>
                <a:pathLst>
                  <a:path w="265" h="232">
                    <a:moveTo>
                      <a:pt x="0" y="232"/>
                    </a:moveTo>
                    <a:lnTo>
                      <a:pt x="64" y="5"/>
                    </a:lnTo>
                    <a:lnTo>
                      <a:pt x="151" y="9"/>
                    </a:lnTo>
                    <a:lnTo>
                      <a:pt x="265" y="0"/>
                    </a:lnTo>
                    <a:lnTo>
                      <a:pt x="238" y="145"/>
                    </a:lnTo>
                    <a:lnTo>
                      <a:pt x="225" y="162"/>
                    </a:lnTo>
                    <a:lnTo>
                      <a:pt x="223" y="179"/>
                    </a:lnTo>
                    <a:lnTo>
                      <a:pt x="217" y="188"/>
                    </a:lnTo>
                    <a:lnTo>
                      <a:pt x="201" y="184"/>
                    </a:lnTo>
                    <a:lnTo>
                      <a:pt x="201" y="188"/>
                    </a:lnTo>
                    <a:lnTo>
                      <a:pt x="83" y="214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8"/>
              <p:cNvSpPr/>
              <p:nvPr/>
            </p:nvSpPr>
            <p:spPr>
              <a:xfrm>
                <a:off x="5653800" y="4155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0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9"/>
              <p:cNvSpPr/>
              <p:nvPr/>
            </p:nvSpPr>
            <p:spPr>
              <a:xfrm>
                <a:off x="5654880" y="41547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6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0"/>
              <p:cNvSpPr/>
              <p:nvPr/>
            </p:nvSpPr>
            <p:spPr>
              <a:xfrm>
                <a:off x="5654880" y="415296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3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71"/>
              <p:cNvSpPr/>
              <p:nvPr/>
            </p:nvSpPr>
            <p:spPr>
              <a:xfrm>
                <a:off x="5654880" y="41504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0"/>
                    </a:moveTo>
                    <a:lnTo>
                      <a:pt x="0" y="9"/>
                    </a:lnTo>
                    <a:lnTo>
                      <a:pt x="7" y="9"/>
                    </a:lnTo>
                    <a:lnTo>
                      <a:pt x="1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70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72"/>
              <p:cNvSpPr/>
              <p:nvPr/>
            </p:nvSpPr>
            <p:spPr>
              <a:xfrm>
                <a:off x="5656680" y="41486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0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73"/>
              <p:cNvSpPr/>
              <p:nvPr/>
            </p:nvSpPr>
            <p:spPr>
              <a:xfrm>
                <a:off x="5656680" y="414864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0"/>
                    </a:moveTo>
                    <a:lnTo>
                      <a:pt x="0" y="4"/>
                    </a:lnTo>
                    <a:lnTo>
                      <a:pt x="13" y="6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4"/>
              <p:cNvSpPr/>
              <p:nvPr/>
            </p:nvSpPr>
            <p:spPr>
              <a:xfrm>
                <a:off x="5656680" y="41464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6" y="0"/>
                    </a:moveTo>
                    <a:lnTo>
                      <a:pt x="0" y="4"/>
                    </a:lnTo>
                    <a:lnTo>
                      <a:pt x="19" y="4"/>
                    </a:lnTo>
                    <a:lnTo>
                      <a:pt x="2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d7a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5"/>
              <p:cNvSpPr/>
              <p:nvPr/>
            </p:nvSpPr>
            <p:spPr>
              <a:xfrm>
                <a:off x="5656680" y="414396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6" y="0"/>
                    </a:moveTo>
                    <a:lnTo>
                      <a:pt x="0" y="9"/>
                    </a:lnTo>
                    <a:lnTo>
                      <a:pt x="19" y="9"/>
                    </a:lnTo>
                    <a:lnTo>
                      <a:pt x="2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f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6"/>
              <p:cNvSpPr/>
              <p:nvPr/>
            </p:nvSpPr>
            <p:spPr>
              <a:xfrm>
                <a:off x="5659920" y="41432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0" y="0"/>
                    </a:moveTo>
                    <a:lnTo>
                      <a:pt x="0" y="9"/>
                    </a:lnTo>
                    <a:lnTo>
                      <a:pt x="17" y="9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7"/>
              <p:cNvSpPr/>
              <p:nvPr/>
            </p:nvSpPr>
            <p:spPr>
              <a:xfrm>
                <a:off x="5659920" y="4141080"/>
                <a:ext cx="15480" cy="36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lnTo>
                      <a:pt x="0" y="7"/>
                    </a:lnTo>
                    <a:lnTo>
                      <a:pt x="22" y="9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8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8"/>
              <p:cNvSpPr/>
              <p:nvPr/>
            </p:nvSpPr>
            <p:spPr>
              <a:xfrm>
                <a:off x="5659920" y="4138560"/>
                <a:ext cx="17640" cy="504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0" y="0"/>
                    </a:moveTo>
                    <a:lnTo>
                      <a:pt x="0" y="9"/>
                    </a:lnTo>
                    <a:lnTo>
                      <a:pt x="26" y="11"/>
                    </a:lnTo>
                    <a:lnTo>
                      <a:pt x="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9"/>
              <p:cNvSpPr/>
              <p:nvPr/>
            </p:nvSpPr>
            <p:spPr>
              <a:xfrm>
                <a:off x="5659920" y="413676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6" y="0"/>
                    </a:moveTo>
                    <a:lnTo>
                      <a:pt x="0" y="10"/>
                    </a:lnTo>
                    <a:lnTo>
                      <a:pt x="31" y="10"/>
                    </a:lnTo>
                    <a:lnTo>
                      <a:pt x="3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80"/>
              <p:cNvSpPr/>
              <p:nvPr/>
            </p:nvSpPr>
            <p:spPr>
              <a:xfrm>
                <a:off x="5659920" y="4134960"/>
                <a:ext cx="19440" cy="432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7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35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1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81"/>
              <p:cNvSpPr/>
              <p:nvPr/>
            </p:nvSpPr>
            <p:spPr>
              <a:xfrm>
                <a:off x="5662800" y="4132800"/>
                <a:ext cx="18720" cy="43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0" y="9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38" y="2"/>
                    </a:lnTo>
                    <a:lnTo>
                      <a:pt x="29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82"/>
              <p:cNvSpPr/>
              <p:nvPr/>
            </p:nvSpPr>
            <p:spPr>
              <a:xfrm>
                <a:off x="5662800" y="4131000"/>
                <a:ext cx="21600" cy="360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3" y="0"/>
                    </a:moveTo>
                    <a:lnTo>
                      <a:pt x="0" y="10"/>
                    </a:lnTo>
                    <a:lnTo>
                      <a:pt x="35" y="10"/>
                    </a:lnTo>
                    <a:lnTo>
                      <a:pt x="4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9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83"/>
              <p:cNvSpPr/>
              <p:nvPr/>
            </p:nvSpPr>
            <p:spPr>
              <a:xfrm>
                <a:off x="5664960" y="4129560"/>
                <a:ext cx="21600" cy="32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6" y="0"/>
                    </a:moveTo>
                    <a:lnTo>
                      <a:pt x="0" y="7"/>
                    </a:lnTo>
                    <a:lnTo>
                      <a:pt x="35" y="9"/>
                    </a:lnTo>
                    <a:lnTo>
                      <a:pt x="4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4"/>
              <p:cNvSpPr/>
              <p:nvPr/>
            </p:nvSpPr>
            <p:spPr>
              <a:xfrm>
                <a:off x="5664960" y="412632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6" y="0"/>
                    </a:moveTo>
                    <a:lnTo>
                      <a:pt x="0" y="9"/>
                    </a:lnTo>
                    <a:lnTo>
                      <a:pt x="41" y="11"/>
                    </a:lnTo>
                    <a:lnTo>
                      <a:pt x="4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5"/>
              <p:cNvSpPr/>
              <p:nvPr/>
            </p:nvSpPr>
            <p:spPr>
              <a:xfrm>
                <a:off x="5666760" y="4124880"/>
                <a:ext cx="2268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3" y="0"/>
                    </a:moveTo>
                    <a:lnTo>
                      <a:pt x="0" y="10"/>
                    </a:lnTo>
                    <a:lnTo>
                      <a:pt x="39" y="12"/>
                    </a:lnTo>
                    <a:lnTo>
                      <a:pt x="4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a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6"/>
              <p:cNvSpPr/>
              <p:nvPr/>
            </p:nvSpPr>
            <p:spPr>
              <a:xfrm>
                <a:off x="5666760" y="412308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3" y="0"/>
                    </a:moveTo>
                    <a:lnTo>
                      <a:pt x="0" y="7"/>
                    </a:lnTo>
                    <a:lnTo>
                      <a:pt x="39" y="9"/>
                    </a:lnTo>
                    <a:lnTo>
                      <a:pt x="4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7"/>
              <p:cNvSpPr/>
              <p:nvPr/>
            </p:nvSpPr>
            <p:spPr>
              <a:xfrm>
                <a:off x="5668560" y="412092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6" y="0"/>
                    </a:moveTo>
                    <a:lnTo>
                      <a:pt x="0" y="9"/>
                    </a:lnTo>
                    <a:lnTo>
                      <a:pt x="41" y="11"/>
                    </a:lnTo>
                    <a:lnTo>
                      <a:pt x="4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a8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8"/>
              <p:cNvSpPr/>
              <p:nvPr/>
            </p:nvSpPr>
            <p:spPr>
              <a:xfrm>
                <a:off x="5668560" y="4119120"/>
                <a:ext cx="26640" cy="432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6" y="0"/>
                    </a:moveTo>
                    <a:lnTo>
                      <a:pt x="0" y="9"/>
                    </a:lnTo>
                    <a:lnTo>
                      <a:pt x="45" y="11"/>
                    </a:lnTo>
                    <a:lnTo>
                      <a:pt x="5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a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89"/>
              <p:cNvSpPr/>
              <p:nvPr/>
            </p:nvSpPr>
            <p:spPr>
              <a:xfrm>
                <a:off x="5671800" y="411912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4" y="0"/>
                    </a:moveTo>
                    <a:lnTo>
                      <a:pt x="0" y="3"/>
                    </a:lnTo>
                    <a:lnTo>
                      <a:pt x="42" y="5"/>
                    </a:lnTo>
                    <a:lnTo>
                      <a:pt x="5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2a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0"/>
              <p:cNvSpPr/>
              <p:nvPr/>
            </p:nvSpPr>
            <p:spPr>
              <a:xfrm>
                <a:off x="5671800" y="4117320"/>
                <a:ext cx="25560" cy="288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9" y="0"/>
                    </a:moveTo>
                    <a:lnTo>
                      <a:pt x="0" y="4"/>
                    </a:lnTo>
                    <a:lnTo>
                      <a:pt x="48" y="5"/>
                    </a:lnTo>
                    <a:lnTo>
                      <a:pt x="5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1"/>
              <p:cNvSpPr/>
              <p:nvPr/>
            </p:nvSpPr>
            <p:spPr>
              <a:xfrm>
                <a:off x="5673600" y="411552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" y="0"/>
                    </a:moveTo>
                    <a:lnTo>
                      <a:pt x="0" y="8"/>
                    </a:lnTo>
                    <a:lnTo>
                      <a:pt x="48" y="9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2"/>
              <p:cNvSpPr/>
              <p:nvPr/>
            </p:nvSpPr>
            <p:spPr>
              <a:xfrm>
                <a:off x="5676840" y="4112640"/>
                <a:ext cx="24480" cy="5400"/>
              </a:xfrm>
              <a:custGeom>
                <a:avLst/>
                <a:gdLst/>
                <a:ahLst/>
                <a:rect l="l" t="t" r="r" b="b"/>
                <a:pathLst>
                  <a:path w="52" h="11">
                    <a:moveTo>
                      <a:pt x="4" y="0"/>
                    </a:moveTo>
                    <a:lnTo>
                      <a:pt x="0" y="9"/>
                    </a:lnTo>
                    <a:lnTo>
                      <a:pt x="43" y="11"/>
                    </a:lnTo>
                    <a:lnTo>
                      <a:pt x="5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ba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3"/>
              <p:cNvSpPr/>
              <p:nvPr/>
            </p:nvSpPr>
            <p:spPr>
              <a:xfrm>
                <a:off x="5676840" y="411084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57" h="11">
                    <a:moveTo>
                      <a:pt x="0" y="9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57" y="2"/>
                    </a:lnTo>
                    <a:lnTo>
                      <a:pt x="48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fb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4"/>
              <p:cNvSpPr/>
              <p:nvPr/>
            </p:nvSpPr>
            <p:spPr>
              <a:xfrm>
                <a:off x="5677560" y="4110120"/>
                <a:ext cx="28440" cy="36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0" y="8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57" y="2"/>
                    </a:lnTo>
                    <a:lnTo>
                      <a:pt x="48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5"/>
              <p:cNvSpPr/>
              <p:nvPr/>
            </p:nvSpPr>
            <p:spPr>
              <a:xfrm>
                <a:off x="5682600" y="4108320"/>
                <a:ext cx="26640" cy="360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35" y="0"/>
                    </a:moveTo>
                    <a:lnTo>
                      <a:pt x="0" y="7"/>
                    </a:lnTo>
                    <a:lnTo>
                      <a:pt x="44" y="9"/>
                    </a:lnTo>
                    <a:lnTo>
                      <a:pt x="54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7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6"/>
              <p:cNvSpPr/>
              <p:nvPr/>
            </p:nvSpPr>
            <p:spPr>
              <a:xfrm>
                <a:off x="5691600" y="410616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7"/>
                    </a:moveTo>
                    <a:lnTo>
                      <a:pt x="35" y="0"/>
                    </a:lnTo>
                    <a:lnTo>
                      <a:pt x="29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7"/>
              <p:cNvSpPr/>
              <p:nvPr/>
            </p:nvSpPr>
            <p:spPr>
              <a:xfrm>
                <a:off x="5700240" y="410616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19" y="0"/>
                    </a:lnTo>
                    <a:lnTo>
                      <a:pt x="1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98"/>
              <p:cNvSpPr/>
              <p:nvPr/>
            </p:nvSpPr>
            <p:spPr>
              <a:xfrm>
                <a:off x="4664520" y="3940560"/>
                <a:ext cx="203760" cy="177480"/>
              </a:xfrm>
              <a:custGeom>
                <a:avLst/>
                <a:gdLst/>
                <a:ahLst/>
                <a:rect l="l" t="t" r="r" b="b"/>
                <a:pathLst>
                  <a:path w="411" h="388">
                    <a:moveTo>
                      <a:pt x="396" y="388"/>
                    </a:moveTo>
                    <a:lnTo>
                      <a:pt x="238" y="364"/>
                    </a:lnTo>
                    <a:lnTo>
                      <a:pt x="64" y="369"/>
                    </a:lnTo>
                    <a:lnTo>
                      <a:pt x="61" y="325"/>
                    </a:lnTo>
                    <a:lnTo>
                      <a:pt x="22" y="345"/>
                    </a:lnTo>
                    <a:lnTo>
                      <a:pt x="0" y="224"/>
                    </a:lnTo>
                    <a:lnTo>
                      <a:pt x="16" y="22"/>
                    </a:lnTo>
                    <a:lnTo>
                      <a:pt x="9" y="0"/>
                    </a:lnTo>
                    <a:lnTo>
                      <a:pt x="131" y="9"/>
                    </a:lnTo>
                    <a:lnTo>
                      <a:pt x="173" y="11"/>
                    </a:lnTo>
                    <a:lnTo>
                      <a:pt x="282" y="17"/>
                    </a:lnTo>
                    <a:lnTo>
                      <a:pt x="382" y="15"/>
                    </a:lnTo>
                    <a:lnTo>
                      <a:pt x="404" y="340"/>
                    </a:lnTo>
                    <a:lnTo>
                      <a:pt x="411" y="353"/>
                    </a:lnTo>
                    <a:lnTo>
                      <a:pt x="396" y="3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9"/>
              <p:cNvSpPr/>
              <p:nvPr/>
            </p:nvSpPr>
            <p:spPr>
              <a:xfrm>
                <a:off x="5472720" y="3935880"/>
                <a:ext cx="141480" cy="138960"/>
              </a:xfrm>
              <a:custGeom>
                <a:avLst/>
                <a:gdLst/>
                <a:ahLst/>
                <a:rect l="l" t="t" r="r" b="b"/>
                <a:pathLst>
                  <a:path w="286" h="305">
                    <a:moveTo>
                      <a:pt x="44" y="299"/>
                    </a:moveTo>
                    <a:lnTo>
                      <a:pt x="44" y="286"/>
                    </a:lnTo>
                    <a:lnTo>
                      <a:pt x="0" y="294"/>
                    </a:lnTo>
                    <a:lnTo>
                      <a:pt x="75" y="43"/>
                    </a:lnTo>
                    <a:lnTo>
                      <a:pt x="109" y="0"/>
                    </a:lnTo>
                    <a:lnTo>
                      <a:pt x="286" y="30"/>
                    </a:lnTo>
                    <a:lnTo>
                      <a:pt x="212" y="249"/>
                    </a:lnTo>
                    <a:lnTo>
                      <a:pt x="170" y="305"/>
                    </a:lnTo>
                    <a:lnTo>
                      <a:pt x="44" y="2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0"/>
              <p:cNvSpPr/>
              <p:nvPr/>
            </p:nvSpPr>
            <p:spPr>
              <a:xfrm>
                <a:off x="5692680" y="3907440"/>
                <a:ext cx="114840" cy="116280"/>
              </a:xfrm>
              <a:custGeom>
                <a:avLst/>
                <a:gdLst/>
                <a:ahLst/>
                <a:rect l="l" t="t" r="r" b="b"/>
                <a:pathLst>
                  <a:path w="233" h="255">
                    <a:moveTo>
                      <a:pt x="0" y="255"/>
                    </a:moveTo>
                    <a:lnTo>
                      <a:pt x="67" y="4"/>
                    </a:lnTo>
                    <a:lnTo>
                      <a:pt x="194" y="0"/>
                    </a:lnTo>
                    <a:lnTo>
                      <a:pt x="233" y="10"/>
                    </a:lnTo>
                    <a:lnTo>
                      <a:pt x="216" y="41"/>
                    </a:lnTo>
                    <a:lnTo>
                      <a:pt x="200" y="70"/>
                    </a:lnTo>
                    <a:lnTo>
                      <a:pt x="185" y="100"/>
                    </a:lnTo>
                    <a:lnTo>
                      <a:pt x="170" y="128"/>
                    </a:lnTo>
                    <a:lnTo>
                      <a:pt x="159" y="157"/>
                    </a:lnTo>
                    <a:lnTo>
                      <a:pt x="150" y="185"/>
                    </a:lnTo>
                    <a:lnTo>
                      <a:pt x="146" y="212"/>
                    </a:lnTo>
                    <a:lnTo>
                      <a:pt x="146" y="242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1"/>
              <p:cNvSpPr/>
              <p:nvPr/>
            </p:nvSpPr>
            <p:spPr>
              <a:xfrm>
                <a:off x="4682160" y="3721680"/>
                <a:ext cx="207720" cy="176400"/>
              </a:xfrm>
              <a:custGeom>
                <a:avLst/>
                <a:gdLst/>
                <a:ahLst/>
                <a:rect l="l" t="t" r="r" b="b"/>
                <a:pathLst>
                  <a:path w="421" h="386">
                    <a:moveTo>
                      <a:pt x="0" y="362"/>
                    </a:moveTo>
                    <a:lnTo>
                      <a:pt x="5" y="240"/>
                    </a:lnTo>
                    <a:lnTo>
                      <a:pt x="7" y="183"/>
                    </a:lnTo>
                    <a:lnTo>
                      <a:pt x="35" y="115"/>
                    </a:lnTo>
                    <a:lnTo>
                      <a:pt x="127" y="0"/>
                    </a:lnTo>
                    <a:lnTo>
                      <a:pt x="385" y="28"/>
                    </a:lnTo>
                    <a:lnTo>
                      <a:pt x="421" y="43"/>
                    </a:lnTo>
                    <a:lnTo>
                      <a:pt x="389" y="172"/>
                    </a:lnTo>
                    <a:lnTo>
                      <a:pt x="387" y="207"/>
                    </a:lnTo>
                    <a:lnTo>
                      <a:pt x="398" y="386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2"/>
              <p:cNvSpPr/>
              <p:nvPr/>
            </p:nvSpPr>
            <p:spPr>
              <a:xfrm>
                <a:off x="4966560" y="3734640"/>
                <a:ext cx="187920" cy="169200"/>
              </a:xfrm>
              <a:custGeom>
                <a:avLst/>
                <a:gdLst/>
                <a:ahLst/>
                <a:rect l="l" t="t" r="r" b="b"/>
                <a:pathLst>
                  <a:path w="380" h="371">
                    <a:moveTo>
                      <a:pt x="343" y="365"/>
                    </a:moveTo>
                    <a:lnTo>
                      <a:pt x="243" y="345"/>
                    </a:lnTo>
                    <a:lnTo>
                      <a:pt x="57" y="332"/>
                    </a:lnTo>
                    <a:lnTo>
                      <a:pt x="0" y="334"/>
                    </a:lnTo>
                    <a:lnTo>
                      <a:pt x="9" y="109"/>
                    </a:lnTo>
                    <a:lnTo>
                      <a:pt x="3" y="26"/>
                    </a:lnTo>
                    <a:lnTo>
                      <a:pt x="249" y="0"/>
                    </a:lnTo>
                    <a:lnTo>
                      <a:pt x="287" y="2"/>
                    </a:lnTo>
                    <a:lnTo>
                      <a:pt x="380" y="0"/>
                    </a:lnTo>
                    <a:lnTo>
                      <a:pt x="359" y="170"/>
                    </a:lnTo>
                    <a:lnTo>
                      <a:pt x="378" y="371"/>
                    </a:lnTo>
                    <a:lnTo>
                      <a:pt x="343" y="3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3"/>
              <p:cNvSpPr/>
              <p:nvPr/>
            </p:nvSpPr>
            <p:spPr>
              <a:xfrm>
                <a:off x="5236920" y="3720960"/>
                <a:ext cx="195840" cy="155520"/>
              </a:xfrm>
              <a:custGeom>
                <a:avLst/>
                <a:gdLst/>
                <a:ahLst/>
                <a:rect l="l" t="t" r="r" b="b"/>
                <a:pathLst>
                  <a:path w="396" h="339">
                    <a:moveTo>
                      <a:pt x="0" y="337"/>
                    </a:moveTo>
                    <a:lnTo>
                      <a:pt x="46" y="60"/>
                    </a:lnTo>
                    <a:lnTo>
                      <a:pt x="68" y="53"/>
                    </a:lnTo>
                    <a:lnTo>
                      <a:pt x="90" y="48"/>
                    </a:lnTo>
                    <a:lnTo>
                      <a:pt x="112" y="40"/>
                    </a:lnTo>
                    <a:lnTo>
                      <a:pt x="136" y="35"/>
                    </a:lnTo>
                    <a:lnTo>
                      <a:pt x="158" y="29"/>
                    </a:lnTo>
                    <a:lnTo>
                      <a:pt x="181" y="25"/>
                    </a:lnTo>
                    <a:lnTo>
                      <a:pt x="203" y="22"/>
                    </a:lnTo>
                    <a:lnTo>
                      <a:pt x="225" y="16"/>
                    </a:lnTo>
                    <a:lnTo>
                      <a:pt x="245" y="12"/>
                    </a:lnTo>
                    <a:lnTo>
                      <a:pt x="267" y="11"/>
                    </a:lnTo>
                    <a:lnTo>
                      <a:pt x="289" y="7"/>
                    </a:lnTo>
                    <a:lnTo>
                      <a:pt x="312" y="5"/>
                    </a:lnTo>
                    <a:lnTo>
                      <a:pt x="332" y="3"/>
                    </a:lnTo>
                    <a:lnTo>
                      <a:pt x="354" y="1"/>
                    </a:lnTo>
                    <a:lnTo>
                      <a:pt x="376" y="0"/>
                    </a:lnTo>
                    <a:lnTo>
                      <a:pt x="396" y="0"/>
                    </a:lnTo>
                    <a:lnTo>
                      <a:pt x="376" y="217"/>
                    </a:lnTo>
                    <a:lnTo>
                      <a:pt x="376" y="300"/>
                    </a:lnTo>
                    <a:lnTo>
                      <a:pt x="371" y="339"/>
                    </a:lnTo>
                    <a:lnTo>
                      <a:pt x="31" y="339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4"/>
              <p:cNvSpPr/>
              <p:nvPr/>
            </p:nvSpPr>
            <p:spPr>
              <a:xfrm>
                <a:off x="5516280" y="3716280"/>
                <a:ext cx="168120" cy="146160"/>
              </a:xfrm>
              <a:custGeom>
                <a:avLst/>
                <a:gdLst/>
                <a:ahLst/>
                <a:rect l="l" t="t" r="r" b="b"/>
                <a:pathLst>
                  <a:path w="340" h="322">
                    <a:moveTo>
                      <a:pt x="192" y="322"/>
                    </a:moveTo>
                    <a:lnTo>
                      <a:pt x="109" y="310"/>
                    </a:lnTo>
                    <a:lnTo>
                      <a:pt x="111" y="279"/>
                    </a:lnTo>
                    <a:lnTo>
                      <a:pt x="0" y="298"/>
                    </a:lnTo>
                    <a:lnTo>
                      <a:pt x="11" y="262"/>
                    </a:lnTo>
                    <a:lnTo>
                      <a:pt x="72" y="34"/>
                    </a:lnTo>
                    <a:lnTo>
                      <a:pt x="85" y="30"/>
                    </a:lnTo>
                    <a:lnTo>
                      <a:pt x="340" y="0"/>
                    </a:lnTo>
                    <a:lnTo>
                      <a:pt x="327" y="41"/>
                    </a:lnTo>
                    <a:lnTo>
                      <a:pt x="318" y="80"/>
                    </a:lnTo>
                    <a:lnTo>
                      <a:pt x="308" y="120"/>
                    </a:lnTo>
                    <a:lnTo>
                      <a:pt x="301" y="159"/>
                    </a:lnTo>
                    <a:lnTo>
                      <a:pt x="294" y="198"/>
                    </a:lnTo>
                    <a:lnTo>
                      <a:pt x="290" y="235"/>
                    </a:lnTo>
                    <a:lnTo>
                      <a:pt x="286" y="272"/>
                    </a:lnTo>
                    <a:lnTo>
                      <a:pt x="284" y="309"/>
                    </a:lnTo>
                    <a:lnTo>
                      <a:pt x="192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5"/>
              <p:cNvSpPr/>
              <p:nvPr/>
            </p:nvSpPr>
            <p:spPr>
              <a:xfrm>
                <a:off x="4456440" y="4370040"/>
                <a:ext cx="1180440" cy="66600"/>
              </a:xfrm>
              <a:custGeom>
                <a:avLst/>
                <a:gdLst/>
                <a:ahLst/>
                <a:rect l="l" t="t" r="r" b="b"/>
                <a:pathLst>
                  <a:path w="2384" h="145">
                    <a:moveTo>
                      <a:pt x="39" y="145"/>
                    </a:moveTo>
                    <a:lnTo>
                      <a:pt x="0" y="127"/>
                    </a:lnTo>
                    <a:lnTo>
                      <a:pt x="0" y="101"/>
                    </a:lnTo>
                    <a:lnTo>
                      <a:pt x="54" y="84"/>
                    </a:lnTo>
                    <a:lnTo>
                      <a:pt x="89" y="77"/>
                    </a:lnTo>
                    <a:lnTo>
                      <a:pt x="187" y="42"/>
                    </a:lnTo>
                    <a:lnTo>
                      <a:pt x="74" y="103"/>
                    </a:lnTo>
                    <a:lnTo>
                      <a:pt x="188" y="94"/>
                    </a:lnTo>
                    <a:lnTo>
                      <a:pt x="229" y="83"/>
                    </a:lnTo>
                    <a:lnTo>
                      <a:pt x="271" y="73"/>
                    </a:lnTo>
                    <a:lnTo>
                      <a:pt x="312" y="62"/>
                    </a:lnTo>
                    <a:lnTo>
                      <a:pt x="354" y="55"/>
                    </a:lnTo>
                    <a:lnTo>
                      <a:pt x="395" y="47"/>
                    </a:lnTo>
                    <a:lnTo>
                      <a:pt x="437" y="40"/>
                    </a:lnTo>
                    <a:lnTo>
                      <a:pt x="478" y="33"/>
                    </a:lnTo>
                    <a:lnTo>
                      <a:pt x="520" y="27"/>
                    </a:lnTo>
                    <a:lnTo>
                      <a:pt x="561" y="22"/>
                    </a:lnTo>
                    <a:lnTo>
                      <a:pt x="603" y="18"/>
                    </a:lnTo>
                    <a:lnTo>
                      <a:pt x="644" y="14"/>
                    </a:lnTo>
                    <a:lnTo>
                      <a:pt x="687" y="11"/>
                    </a:lnTo>
                    <a:lnTo>
                      <a:pt x="727" y="7"/>
                    </a:lnTo>
                    <a:lnTo>
                      <a:pt x="770" y="5"/>
                    </a:lnTo>
                    <a:lnTo>
                      <a:pt x="810" y="3"/>
                    </a:lnTo>
                    <a:lnTo>
                      <a:pt x="853" y="1"/>
                    </a:lnTo>
                    <a:lnTo>
                      <a:pt x="893" y="1"/>
                    </a:lnTo>
                    <a:lnTo>
                      <a:pt x="936" y="0"/>
                    </a:lnTo>
                    <a:lnTo>
                      <a:pt x="976" y="0"/>
                    </a:lnTo>
                    <a:lnTo>
                      <a:pt x="1017" y="0"/>
                    </a:lnTo>
                    <a:lnTo>
                      <a:pt x="1059" y="0"/>
                    </a:lnTo>
                    <a:lnTo>
                      <a:pt x="1100" y="0"/>
                    </a:lnTo>
                    <a:lnTo>
                      <a:pt x="1142" y="0"/>
                    </a:lnTo>
                    <a:lnTo>
                      <a:pt x="1183" y="1"/>
                    </a:lnTo>
                    <a:lnTo>
                      <a:pt x="1223" y="1"/>
                    </a:lnTo>
                    <a:lnTo>
                      <a:pt x="1266" y="3"/>
                    </a:lnTo>
                    <a:lnTo>
                      <a:pt x="1306" y="5"/>
                    </a:lnTo>
                    <a:lnTo>
                      <a:pt x="1347" y="5"/>
                    </a:lnTo>
                    <a:lnTo>
                      <a:pt x="1388" y="7"/>
                    </a:lnTo>
                    <a:lnTo>
                      <a:pt x="1430" y="9"/>
                    </a:lnTo>
                    <a:lnTo>
                      <a:pt x="1471" y="9"/>
                    </a:lnTo>
                    <a:lnTo>
                      <a:pt x="1511" y="11"/>
                    </a:lnTo>
                    <a:lnTo>
                      <a:pt x="2384" y="14"/>
                    </a:lnTo>
                    <a:lnTo>
                      <a:pt x="2170" y="40"/>
                    </a:lnTo>
                    <a:lnTo>
                      <a:pt x="1793" y="44"/>
                    </a:lnTo>
                    <a:lnTo>
                      <a:pt x="1746" y="42"/>
                    </a:lnTo>
                    <a:lnTo>
                      <a:pt x="888" y="22"/>
                    </a:lnTo>
                    <a:lnTo>
                      <a:pt x="843" y="20"/>
                    </a:lnTo>
                    <a:lnTo>
                      <a:pt x="275" y="97"/>
                    </a:lnTo>
                    <a:lnTo>
                      <a:pt x="196" y="116"/>
                    </a:lnTo>
                    <a:lnTo>
                      <a:pt x="116" y="136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6"/>
              <p:cNvSpPr/>
              <p:nvPr/>
            </p:nvSpPr>
            <p:spPr>
              <a:xfrm>
                <a:off x="4079160" y="4331520"/>
                <a:ext cx="621720" cy="88560"/>
              </a:xfrm>
              <a:custGeom>
                <a:avLst/>
                <a:gdLst/>
                <a:ahLst/>
                <a:rect l="l" t="t" r="r" b="b"/>
                <a:pathLst>
                  <a:path w="1257" h="194">
                    <a:moveTo>
                      <a:pt x="20" y="194"/>
                    </a:moveTo>
                    <a:lnTo>
                      <a:pt x="0" y="163"/>
                    </a:lnTo>
                    <a:lnTo>
                      <a:pt x="452" y="93"/>
                    </a:lnTo>
                    <a:lnTo>
                      <a:pt x="567" y="76"/>
                    </a:lnTo>
                    <a:lnTo>
                      <a:pt x="1210" y="0"/>
                    </a:lnTo>
                    <a:lnTo>
                      <a:pt x="1257" y="24"/>
                    </a:lnTo>
                    <a:lnTo>
                      <a:pt x="1209" y="67"/>
                    </a:lnTo>
                    <a:lnTo>
                      <a:pt x="1142" y="82"/>
                    </a:lnTo>
                    <a:lnTo>
                      <a:pt x="1179" y="39"/>
                    </a:lnTo>
                    <a:lnTo>
                      <a:pt x="1056" y="52"/>
                    </a:lnTo>
                    <a:lnTo>
                      <a:pt x="618" y="87"/>
                    </a:lnTo>
                    <a:lnTo>
                      <a:pt x="421" y="122"/>
                    </a:lnTo>
                    <a:lnTo>
                      <a:pt x="377" y="130"/>
                    </a:lnTo>
                    <a:lnTo>
                      <a:pt x="297" y="154"/>
                    </a:lnTo>
                    <a:lnTo>
                      <a:pt x="266" y="152"/>
                    </a:lnTo>
                    <a:lnTo>
                      <a:pt x="153" y="168"/>
                    </a:lnTo>
                    <a:lnTo>
                      <a:pt x="87" y="189"/>
                    </a:lnTo>
                    <a:lnTo>
                      <a:pt x="20" y="19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7"/>
              <p:cNvSpPr/>
              <p:nvPr/>
            </p:nvSpPr>
            <p:spPr>
              <a:xfrm>
                <a:off x="3953160" y="4316040"/>
                <a:ext cx="567360" cy="69480"/>
              </a:xfrm>
              <a:custGeom>
                <a:avLst/>
                <a:gdLst/>
                <a:ahLst/>
                <a:rect l="l" t="t" r="r" b="b"/>
                <a:pathLst>
                  <a:path w="1145" h="154">
                    <a:moveTo>
                      <a:pt x="20" y="154"/>
                    </a:moveTo>
                    <a:lnTo>
                      <a:pt x="0" y="122"/>
                    </a:lnTo>
                    <a:lnTo>
                      <a:pt x="72" y="111"/>
                    </a:lnTo>
                    <a:lnTo>
                      <a:pt x="142" y="100"/>
                    </a:lnTo>
                    <a:lnTo>
                      <a:pt x="212" y="91"/>
                    </a:lnTo>
                    <a:lnTo>
                      <a:pt x="284" y="82"/>
                    </a:lnTo>
                    <a:lnTo>
                      <a:pt x="354" y="72"/>
                    </a:lnTo>
                    <a:lnTo>
                      <a:pt x="424" y="63"/>
                    </a:lnTo>
                    <a:lnTo>
                      <a:pt x="492" y="56"/>
                    </a:lnTo>
                    <a:lnTo>
                      <a:pt x="562" y="48"/>
                    </a:lnTo>
                    <a:lnTo>
                      <a:pt x="632" y="43"/>
                    </a:lnTo>
                    <a:lnTo>
                      <a:pt x="703" y="35"/>
                    </a:lnTo>
                    <a:lnTo>
                      <a:pt x="771" y="30"/>
                    </a:lnTo>
                    <a:lnTo>
                      <a:pt x="841" y="23"/>
                    </a:lnTo>
                    <a:lnTo>
                      <a:pt x="911" y="17"/>
                    </a:lnTo>
                    <a:lnTo>
                      <a:pt x="981" y="12"/>
                    </a:lnTo>
                    <a:lnTo>
                      <a:pt x="1051" y="6"/>
                    </a:lnTo>
                    <a:lnTo>
                      <a:pt x="1121" y="0"/>
                    </a:lnTo>
                    <a:lnTo>
                      <a:pt x="1145" y="32"/>
                    </a:lnTo>
                    <a:lnTo>
                      <a:pt x="143" y="128"/>
                    </a:lnTo>
                    <a:lnTo>
                      <a:pt x="20" y="15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8"/>
              <p:cNvSpPr/>
              <p:nvPr/>
            </p:nvSpPr>
            <p:spPr>
              <a:xfrm>
                <a:off x="3432240" y="4227120"/>
                <a:ext cx="766440" cy="129960"/>
              </a:xfrm>
              <a:custGeom>
                <a:avLst/>
                <a:gdLst/>
                <a:ahLst/>
                <a:rect l="l" t="t" r="r" b="b"/>
                <a:pathLst>
                  <a:path w="1548" h="284">
                    <a:moveTo>
                      <a:pt x="568" y="284"/>
                    </a:moveTo>
                    <a:lnTo>
                      <a:pt x="533" y="282"/>
                    </a:lnTo>
                    <a:lnTo>
                      <a:pt x="498" y="278"/>
                    </a:lnTo>
                    <a:lnTo>
                      <a:pt x="463" y="276"/>
                    </a:lnTo>
                    <a:lnTo>
                      <a:pt x="426" y="273"/>
                    </a:lnTo>
                    <a:lnTo>
                      <a:pt x="391" y="271"/>
                    </a:lnTo>
                    <a:lnTo>
                      <a:pt x="356" y="267"/>
                    </a:lnTo>
                    <a:lnTo>
                      <a:pt x="319" y="264"/>
                    </a:lnTo>
                    <a:lnTo>
                      <a:pt x="284" y="260"/>
                    </a:lnTo>
                    <a:lnTo>
                      <a:pt x="249" y="256"/>
                    </a:lnTo>
                    <a:lnTo>
                      <a:pt x="212" y="252"/>
                    </a:lnTo>
                    <a:lnTo>
                      <a:pt x="177" y="249"/>
                    </a:lnTo>
                    <a:lnTo>
                      <a:pt x="142" y="245"/>
                    </a:lnTo>
                    <a:lnTo>
                      <a:pt x="105" y="241"/>
                    </a:lnTo>
                    <a:lnTo>
                      <a:pt x="70" y="238"/>
                    </a:lnTo>
                    <a:lnTo>
                      <a:pt x="35" y="234"/>
                    </a:lnTo>
                    <a:lnTo>
                      <a:pt x="0" y="230"/>
                    </a:lnTo>
                    <a:lnTo>
                      <a:pt x="11" y="216"/>
                    </a:lnTo>
                    <a:lnTo>
                      <a:pt x="29" y="201"/>
                    </a:lnTo>
                    <a:lnTo>
                      <a:pt x="52" y="188"/>
                    </a:lnTo>
                    <a:lnTo>
                      <a:pt x="79" y="175"/>
                    </a:lnTo>
                    <a:lnTo>
                      <a:pt x="112" y="162"/>
                    </a:lnTo>
                    <a:lnTo>
                      <a:pt x="149" y="149"/>
                    </a:lnTo>
                    <a:lnTo>
                      <a:pt x="190" y="136"/>
                    </a:lnTo>
                    <a:lnTo>
                      <a:pt x="236" y="125"/>
                    </a:lnTo>
                    <a:lnTo>
                      <a:pt x="284" y="114"/>
                    </a:lnTo>
                    <a:lnTo>
                      <a:pt x="336" y="103"/>
                    </a:lnTo>
                    <a:lnTo>
                      <a:pt x="389" y="92"/>
                    </a:lnTo>
                    <a:lnTo>
                      <a:pt x="446" y="83"/>
                    </a:lnTo>
                    <a:lnTo>
                      <a:pt x="504" y="74"/>
                    </a:lnTo>
                    <a:lnTo>
                      <a:pt x="565" y="64"/>
                    </a:lnTo>
                    <a:lnTo>
                      <a:pt x="625" y="57"/>
                    </a:lnTo>
                    <a:lnTo>
                      <a:pt x="688" y="48"/>
                    </a:lnTo>
                    <a:lnTo>
                      <a:pt x="751" y="40"/>
                    </a:lnTo>
                    <a:lnTo>
                      <a:pt x="815" y="35"/>
                    </a:lnTo>
                    <a:lnTo>
                      <a:pt x="878" y="27"/>
                    </a:lnTo>
                    <a:lnTo>
                      <a:pt x="941" y="22"/>
                    </a:lnTo>
                    <a:lnTo>
                      <a:pt x="1004" y="18"/>
                    </a:lnTo>
                    <a:lnTo>
                      <a:pt x="1065" y="13"/>
                    </a:lnTo>
                    <a:lnTo>
                      <a:pt x="1125" y="9"/>
                    </a:lnTo>
                    <a:lnTo>
                      <a:pt x="1184" y="5"/>
                    </a:lnTo>
                    <a:lnTo>
                      <a:pt x="1240" y="3"/>
                    </a:lnTo>
                    <a:lnTo>
                      <a:pt x="1293" y="2"/>
                    </a:lnTo>
                    <a:lnTo>
                      <a:pt x="1345" y="0"/>
                    </a:lnTo>
                    <a:lnTo>
                      <a:pt x="1393" y="0"/>
                    </a:lnTo>
                    <a:lnTo>
                      <a:pt x="1437" y="0"/>
                    </a:lnTo>
                    <a:lnTo>
                      <a:pt x="1478" y="0"/>
                    </a:lnTo>
                    <a:lnTo>
                      <a:pt x="1515" y="2"/>
                    </a:lnTo>
                    <a:lnTo>
                      <a:pt x="1548" y="3"/>
                    </a:lnTo>
                    <a:lnTo>
                      <a:pt x="1507" y="27"/>
                    </a:lnTo>
                    <a:lnTo>
                      <a:pt x="1463" y="50"/>
                    </a:lnTo>
                    <a:lnTo>
                      <a:pt x="1417" y="68"/>
                    </a:lnTo>
                    <a:lnTo>
                      <a:pt x="1369" y="85"/>
                    </a:lnTo>
                    <a:lnTo>
                      <a:pt x="1319" y="99"/>
                    </a:lnTo>
                    <a:lnTo>
                      <a:pt x="1267" y="110"/>
                    </a:lnTo>
                    <a:lnTo>
                      <a:pt x="1216" y="121"/>
                    </a:lnTo>
                    <a:lnTo>
                      <a:pt x="1164" y="133"/>
                    </a:lnTo>
                    <a:lnTo>
                      <a:pt x="1111" y="140"/>
                    </a:lnTo>
                    <a:lnTo>
                      <a:pt x="1059" y="149"/>
                    </a:lnTo>
                    <a:lnTo>
                      <a:pt x="1005" y="157"/>
                    </a:lnTo>
                    <a:lnTo>
                      <a:pt x="954" y="162"/>
                    </a:lnTo>
                    <a:lnTo>
                      <a:pt x="902" y="169"/>
                    </a:lnTo>
                    <a:lnTo>
                      <a:pt x="852" y="177"/>
                    </a:lnTo>
                    <a:lnTo>
                      <a:pt x="803" y="184"/>
                    </a:lnTo>
                    <a:lnTo>
                      <a:pt x="756" y="192"/>
                    </a:lnTo>
                    <a:lnTo>
                      <a:pt x="806" y="190"/>
                    </a:lnTo>
                    <a:lnTo>
                      <a:pt x="854" y="188"/>
                    </a:lnTo>
                    <a:lnTo>
                      <a:pt x="904" y="186"/>
                    </a:lnTo>
                    <a:lnTo>
                      <a:pt x="954" y="186"/>
                    </a:lnTo>
                    <a:lnTo>
                      <a:pt x="1002" y="184"/>
                    </a:lnTo>
                    <a:lnTo>
                      <a:pt x="1052" y="182"/>
                    </a:lnTo>
                    <a:lnTo>
                      <a:pt x="1100" y="181"/>
                    </a:lnTo>
                    <a:lnTo>
                      <a:pt x="1149" y="177"/>
                    </a:lnTo>
                    <a:lnTo>
                      <a:pt x="1199" y="175"/>
                    </a:lnTo>
                    <a:lnTo>
                      <a:pt x="1247" y="173"/>
                    </a:lnTo>
                    <a:lnTo>
                      <a:pt x="1297" y="171"/>
                    </a:lnTo>
                    <a:lnTo>
                      <a:pt x="1347" y="169"/>
                    </a:lnTo>
                    <a:lnTo>
                      <a:pt x="1395" y="169"/>
                    </a:lnTo>
                    <a:lnTo>
                      <a:pt x="1445" y="168"/>
                    </a:lnTo>
                    <a:lnTo>
                      <a:pt x="1493" y="166"/>
                    </a:lnTo>
                    <a:lnTo>
                      <a:pt x="1542" y="164"/>
                    </a:lnTo>
                    <a:lnTo>
                      <a:pt x="1509" y="168"/>
                    </a:lnTo>
                    <a:lnTo>
                      <a:pt x="1467" y="173"/>
                    </a:lnTo>
                    <a:lnTo>
                      <a:pt x="1417" y="179"/>
                    </a:lnTo>
                    <a:lnTo>
                      <a:pt x="1360" y="186"/>
                    </a:lnTo>
                    <a:lnTo>
                      <a:pt x="1299" y="193"/>
                    </a:lnTo>
                    <a:lnTo>
                      <a:pt x="1232" y="201"/>
                    </a:lnTo>
                    <a:lnTo>
                      <a:pt x="1164" y="208"/>
                    </a:lnTo>
                    <a:lnTo>
                      <a:pt x="1096" y="214"/>
                    </a:lnTo>
                    <a:lnTo>
                      <a:pt x="1028" y="219"/>
                    </a:lnTo>
                    <a:lnTo>
                      <a:pt x="963" y="225"/>
                    </a:lnTo>
                    <a:lnTo>
                      <a:pt x="900" y="227"/>
                    </a:lnTo>
                    <a:lnTo>
                      <a:pt x="843" y="227"/>
                    </a:lnTo>
                    <a:lnTo>
                      <a:pt x="793" y="225"/>
                    </a:lnTo>
                    <a:lnTo>
                      <a:pt x="753" y="219"/>
                    </a:lnTo>
                    <a:lnTo>
                      <a:pt x="719" y="210"/>
                    </a:lnTo>
                    <a:lnTo>
                      <a:pt x="699" y="197"/>
                    </a:lnTo>
                    <a:lnTo>
                      <a:pt x="743" y="179"/>
                    </a:lnTo>
                    <a:lnTo>
                      <a:pt x="788" y="162"/>
                    </a:lnTo>
                    <a:lnTo>
                      <a:pt x="834" y="149"/>
                    </a:lnTo>
                    <a:lnTo>
                      <a:pt x="880" y="138"/>
                    </a:lnTo>
                    <a:lnTo>
                      <a:pt x="928" y="131"/>
                    </a:lnTo>
                    <a:lnTo>
                      <a:pt x="974" y="123"/>
                    </a:lnTo>
                    <a:lnTo>
                      <a:pt x="1022" y="116"/>
                    </a:lnTo>
                    <a:lnTo>
                      <a:pt x="1072" y="110"/>
                    </a:lnTo>
                    <a:lnTo>
                      <a:pt x="1120" y="105"/>
                    </a:lnTo>
                    <a:lnTo>
                      <a:pt x="1168" y="99"/>
                    </a:lnTo>
                    <a:lnTo>
                      <a:pt x="1214" y="92"/>
                    </a:lnTo>
                    <a:lnTo>
                      <a:pt x="1262" y="83"/>
                    </a:lnTo>
                    <a:lnTo>
                      <a:pt x="1308" y="72"/>
                    </a:lnTo>
                    <a:lnTo>
                      <a:pt x="1354" y="59"/>
                    </a:lnTo>
                    <a:lnTo>
                      <a:pt x="1398" y="42"/>
                    </a:lnTo>
                    <a:lnTo>
                      <a:pt x="1443" y="22"/>
                    </a:lnTo>
                    <a:lnTo>
                      <a:pt x="1422" y="18"/>
                    </a:lnTo>
                    <a:lnTo>
                      <a:pt x="1398" y="16"/>
                    </a:lnTo>
                    <a:lnTo>
                      <a:pt x="1369" y="16"/>
                    </a:lnTo>
                    <a:lnTo>
                      <a:pt x="1338" y="16"/>
                    </a:lnTo>
                    <a:lnTo>
                      <a:pt x="1301" y="18"/>
                    </a:lnTo>
                    <a:lnTo>
                      <a:pt x="1260" y="20"/>
                    </a:lnTo>
                    <a:lnTo>
                      <a:pt x="1218" y="22"/>
                    </a:lnTo>
                    <a:lnTo>
                      <a:pt x="1172" y="26"/>
                    </a:lnTo>
                    <a:lnTo>
                      <a:pt x="1124" y="31"/>
                    </a:lnTo>
                    <a:lnTo>
                      <a:pt x="1074" y="37"/>
                    </a:lnTo>
                    <a:lnTo>
                      <a:pt x="1020" y="42"/>
                    </a:lnTo>
                    <a:lnTo>
                      <a:pt x="967" y="48"/>
                    </a:lnTo>
                    <a:lnTo>
                      <a:pt x="911" y="55"/>
                    </a:lnTo>
                    <a:lnTo>
                      <a:pt x="856" y="62"/>
                    </a:lnTo>
                    <a:lnTo>
                      <a:pt x="801" y="70"/>
                    </a:lnTo>
                    <a:lnTo>
                      <a:pt x="743" y="77"/>
                    </a:lnTo>
                    <a:lnTo>
                      <a:pt x="686" y="86"/>
                    </a:lnTo>
                    <a:lnTo>
                      <a:pt x="631" y="96"/>
                    </a:lnTo>
                    <a:lnTo>
                      <a:pt x="574" y="103"/>
                    </a:lnTo>
                    <a:lnTo>
                      <a:pt x="520" y="112"/>
                    </a:lnTo>
                    <a:lnTo>
                      <a:pt x="467" y="121"/>
                    </a:lnTo>
                    <a:lnTo>
                      <a:pt x="413" y="131"/>
                    </a:lnTo>
                    <a:lnTo>
                      <a:pt x="363" y="140"/>
                    </a:lnTo>
                    <a:lnTo>
                      <a:pt x="315" y="147"/>
                    </a:lnTo>
                    <a:lnTo>
                      <a:pt x="271" y="157"/>
                    </a:lnTo>
                    <a:lnTo>
                      <a:pt x="229" y="164"/>
                    </a:lnTo>
                    <a:lnTo>
                      <a:pt x="188" y="173"/>
                    </a:lnTo>
                    <a:lnTo>
                      <a:pt x="151" y="181"/>
                    </a:lnTo>
                    <a:lnTo>
                      <a:pt x="120" y="188"/>
                    </a:lnTo>
                    <a:lnTo>
                      <a:pt x="92" y="195"/>
                    </a:lnTo>
                    <a:lnTo>
                      <a:pt x="68" y="201"/>
                    </a:lnTo>
                    <a:lnTo>
                      <a:pt x="48" y="206"/>
                    </a:lnTo>
                    <a:lnTo>
                      <a:pt x="66" y="208"/>
                    </a:lnTo>
                    <a:lnTo>
                      <a:pt x="94" y="210"/>
                    </a:lnTo>
                    <a:lnTo>
                      <a:pt x="129" y="212"/>
                    </a:lnTo>
                    <a:lnTo>
                      <a:pt x="168" y="214"/>
                    </a:lnTo>
                    <a:lnTo>
                      <a:pt x="212" y="217"/>
                    </a:lnTo>
                    <a:lnTo>
                      <a:pt x="260" y="219"/>
                    </a:lnTo>
                    <a:lnTo>
                      <a:pt x="308" y="223"/>
                    </a:lnTo>
                    <a:lnTo>
                      <a:pt x="358" y="227"/>
                    </a:lnTo>
                    <a:lnTo>
                      <a:pt x="408" y="232"/>
                    </a:lnTo>
                    <a:lnTo>
                      <a:pt x="456" y="236"/>
                    </a:lnTo>
                    <a:lnTo>
                      <a:pt x="502" y="241"/>
                    </a:lnTo>
                    <a:lnTo>
                      <a:pt x="542" y="247"/>
                    </a:lnTo>
                    <a:lnTo>
                      <a:pt x="579" y="252"/>
                    </a:lnTo>
                    <a:lnTo>
                      <a:pt x="609" y="258"/>
                    </a:lnTo>
                    <a:lnTo>
                      <a:pt x="631" y="265"/>
                    </a:lnTo>
                    <a:lnTo>
                      <a:pt x="644" y="273"/>
                    </a:lnTo>
                    <a:lnTo>
                      <a:pt x="635" y="275"/>
                    </a:lnTo>
                    <a:lnTo>
                      <a:pt x="625" y="275"/>
                    </a:lnTo>
                    <a:lnTo>
                      <a:pt x="616" y="276"/>
                    </a:lnTo>
                    <a:lnTo>
                      <a:pt x="607" y="278"/>
                    </a:lnTo>
                    <a:lnTo>
                      <a:pt x="596" y="280"/>
                    </a:lnTo>
                    <a:lnTo>
                      <a:pt x="587" y="280"/>
                    </a:lnTo>
                    <a:lnTo>
                      <a:pt x="577" y="282"/>
                    </a:lnTo>
                    <a:lnTo>
                      <a:pt x="568" y="284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9"/>
              <p:cNvSpPr/>
              <p:nvPr/>
            </p:nvSpPr>
            <p:spPr>
              <a:xfrm>
                <a:off x="4758480" y="4310640"/>
                <a:ext cx="151200" cy="11520"/>
              </a:xfrm>
              <a:custGeom>
                <a:avLst/>
                <a:gdLst/>
                <a:ahLst/>
                <a:rect l="l" t="t" r="r" b="b"/>
                <a:pathLst>
                  <a:path w="304" h="26">
                    <a:moveTo>
                      <a:pt x="0" y="0"/>
                    </a:moveTo>
                    <a:lnTo>
                      <a:pt x="66" y="11"/>
                    </a:lnTo>
                    <a:lnTo>
                      <a:pt x="129" y="15"/>
                    </a:lnTo>
                    <a:lnTo>
                      <a:pt x="194" y="26"/>
                    </a:lnTo>
                    <a:lnTo>
                      <a:pt x="30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0"/>
              <p:cNvSpPr/>
              <p:nvPr/>
            </p:nvSpPr>
            <p:spPr>
              <a:xfrm>
                <a:off x="4684320" y="4307040"/>
                <a:ext cx="252360" cy="11520"/>
              </a:xfrm>
              <a:custGeom>
                <a:avLst/>
                <a:gdLst/>
                <a:ahLst/>
                <a:rect l="l" t="t" r="r" b="b"/>
                <a:pathLst>
                  <a:path w="511" h="28">
                    <a:moveTo>
                      <a:pt x="217" y="20"/>
                    </a:moveTo>
                    <a:lnTo>
                      <a:pt x="96" y="4"/>
                    </a:lnTo>
                    <a:lnTo>
                      <a:pt x="84" y="4"/>
                    </a:lnTo>
                    <a:lnTo>
                      <a:pt x="72" y="2"/>
                    </a:lnTo>
                    <a:lnTo>
                      <a:pt x="59" y="2"/>
                    </a:lnTo>
                    <a:lnTo>
                      <a:pt x="48" y="2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511" y="20"/>
                    </a:lnTo>
                    <a:lnTo>
                      <a:pt x="402" y="28"/>
                    </a:lnTo>
                    <a:lnTo>
                      <a:pt x="289" y="24"/>
                    </a:lnTo>
                    <a:lnTo>
                      <a:pt x="280" y="24"/>
                    </a:lnTo>
                    <a:lnTo>
                      <a:pt x="217" y="20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1"/>
              <p:cNvSpPr/>
              <p:nvPr/>
            </p:nvSpPr>
            <p:spPr>
              <a:xfrm>
                <a:off x="4592160" y="4298760"/>
                <a:ext cx="373320" cy="18360"/>
              </a:xfrm>
              <a:custGeom>
                <a:avLst/>
                <a:gdLst/>
                <a:ahLst/>
                <a:rect l="l" t="t" r="r" b="b"/>
                <a:pathLst>
                  <a:path w="755" h="38">
                    <a:moveTo>
                      <a:pt x="338" y="25"/>
                    </a:moveTo>
                    <a:lnTo>
                      <a:pt x="283" y="20"/>
                    </a:lnTo>
                    <a:lnTo>
                      <a:pt x="247" y="18"/>
                    </a:lnTo>
                    <a:lnTo>
                      <a:pt x="211" y="16"/>
                    </a:lnTo>
                    <a:lnTo>
                      <a:pt x="175" y="14"/>
                    </a:lnTo>
                    <a:lnTo>
                      <a:pt x="139" y="11"/>
                    </a:lnTo>
                    <a:lnTo>
                      <a:pt x="104" y="9"/>
                    </a:lnTo>
                    <a:lnTo>
                      <a:pt x="68" y="5"/>
                    </a:lnTo>
                    <a:lnTo>
                      <a:pt x="35" y="3"/>
                    </a:lnTo>
                    <a:lnTo>
                      <a:pt x="0" y="0"/>
                    </a:lnTo>
                    <a:lnTo>
                      <a:pt x="755" y="29"/>
                    </a:lnTo>
                    <a:lnTo>
                      <a:pt x="642" y="38"/>
                    </a:lnTo>
                    <a:lnTo>
                      <a:pt x="338" y="25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2"/>
              <p:cNvSpPr/>
              <p:nvPr/>
            </p:nvSpPr>
            <p:spPr>
              <a:xfrm>
                <a:off x="4539600" y="4293360"/>
                <a:ext cx="454320" cy="22680"/>
              </a:xfrm>
              <a:custGeom>
                <a:avLst/>
                <a:gdLst/>
                <a:ahLst/>
                <a:rect l="l" t="t" r="r" b="b"/>
                <a:pathLst>
                  <a:path w="917" h="49">
                    <a:moveTo>
                      <a:pt x="0" y="0"/>
                    </a:moveTo>
                    <a:lnTo>
                      <a:pt x="37" y="3"/>
                    </a:lnTo>
                    <a:lnTo>
                      <a:pt x="72" y="9"/>
                    </a:lnTo>
                    <a:lnTo>
                      <a:pt x="109" y="13"/>
                    </a:lnTo>
                    <a:lnTo>
                      <a:pt x="146" y="16"/>
                    </a:lnTo>
                    <a:lnTo>
                      <a:pt x="183" y="20"/>
                    </a:lnTo>
                    <a:lnTo>
                      <a:pt x="220" y="22"/>
                    </a:lnTo>
                    <a:lnTo>
                      <a:pt x="255" y="25"/>
                    </a:lnTo>
                    <a:lnTo>
                      <a:pt x="292" y="29"/>
                    </a:lnTo>
                    <a:lnTo>
                      <a:pt x="803" y="49"/>
                    </a:lnTo>
                    <a:lnTo>
                      <a:pt x="917" y="37"/>
                    </a:lnTo>
                    <a:lnTo>
                      <a:pt x="664" y="25"/>
                    </a:lnTo>
                    <a:lnTo>
                      <a:pt x="561" y="25"/>
                    </a:lnTo>
                    <a:lnTo>
                      <a:pt x="554" y="25"/>
                    </a:lnTo>
                    <a:lnTo>
                      <a:pt x="546" y="25"/>
                    </a:lnTo>
                    <a:lnTo>
                      <a:pt x="537" y="24"/>
                    </a:lnTo>
                    <a:lnTo>
                      <a:pt x="530" y="22"/>
                    </a:lnTo>
                    <a:lnTo>
                      <a:pt x="520" y="22"/>
                    </a:lnTo>
                    <a:lnTo>
                      <a:pt x="511" y="20"/>
                    </a:lnTo>
                    <a:lnTo>
                      <a:pt x="502" y="18"/>
                    </a:lnTo>
                    <a:lnTo>
                      <a:pt x="49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3"/>
              <p:cNvSpPr/>
              <p:nvPr/>
            </p:nvSpPr>
            <p:spPr>
              <a:xfrm>
                <a:off x="4502880" y="4287600"/>
                <a:ext cx="519120" cy="24840"/>
              </a:xfrm>
              <a:custGeom>
                <a:avLst/>
                <a:gdLst/>
                <a:ahLst/>
                <a:rect l="l" t="t" r="r" b="b"/>
                <a:pathLst>
                  <a:path w="1048" h="53">
                    <a:moveTo>
                      <a:pt x="0" y="0"/>
                    </a:moveTo>
                    <a:lnTo>
                      <a:pt x="22" y="3"/>
                    </a:lnTo>
                    <a:lnTo>
                      <a:pt x="45" y="7"/>
                    </a:lnTo>
                    <a:lnTo>
                      <a:pt x="67" y="11"/>
                    </a:lnTo>
                    <a:lnTo>
                      <a:pt x="89" y="12"/>
                    </a:lnTo>
                    <a:lnTo>
                      <a:pt x="111" y="16"/>
                    </a:lnTo>
                    <a:lnTo>
                      <a:pt x="133" y="18"/>
                    </a:lnTo>
                    <a:lnTo>
                      <a:pt x="157" y="22"/>
                    </a:lnTo>
                    <a:lnTo>
                      <a:pt x="179" y="24"/>
                    </a:lnTo>
                    <a:lnTo>
                      <a:pt x="934" y="53"/>
                    </a:lnTo>
                    <a:lnTo>
                      <a:pt x="1048" y="40"/>
                    </a:lnTo>
                    <a:lnTo>
                      <a:pt x="978" y="38"/>
                    </a:lnTo>
                    <a:lnTo>
                      <a:pt x="635" y="36"/>
                    </a:lnTo>
                    <a:lnTo>
                      <a:pt x="605" y="33"/>
                    </a:lnTo>
                    <a:lnTo>
                      <a:pt x="576" y="31"/>
                    </a:lnTo>
                    <a:lnTo>
                      <a:pt x="548" y="27"/>
                    </a:lnTo>
                    <a:lnTo>
                      <a:pt x="519" y="25"/>
                    </a:lnTo>
                    <a:lnTo>
                      <a:pt x="489" y="22"/>
                    </a:lnTo>
                    <a:lnTo>
                      <a:pt x="460" y="20"/>
                    </a:lnTo>
                    <a:lnTo>
                      <a:pt x="430" y="16"/>
                    </a:lnTo>
                    <a:lnTo>
                      <a:pt x="40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4"/>
              <p:cNvSpPr/>
              <p:nvPr/>
            </p:nvSpPr>
            <p:spPr>
              <a:xfrm>
                <a:off x="4473360" y="4282920"/>
                <a:ext cx="309960" cy="18360"/>
              </a:xfrm>
              <a:custGeom>
                <a:avLst/>
                <a:gdLst/>
                <a:ahLst/>
                <a:rect l="l" t="t" r="r" b="b"/>
                <a:pathLst>
                  <a:path w="628" h="41">
                    <a:moveTo>
                      <a:pt x="0" y="0"/>
                    </a:moveTo>
                    <a:lnTo>
                      <a:pt x="17" y="4"/>
                    </a:lnTo>
                    <a:lnTo>
                      <a:pt x="34" y="8"/>
                    </a:lnTo>
                    <a:lnTo>
                      <a:pt x="50" y="10"/>
                    </a:lnTo>
                    <a:lnTo>
                      <a:pt x="67" y="13"/>
                    </a:lnTo>
                    <a:lnTo>
                      <a:pt x="83" y="15"/>
                    </a:lnTo>
                    <a:lnTo>
                      <a:pt x="100" y="19"/>
                    </a:lnTo>
                    <a:lnTo>
                      <a:pt x="117" y="21"/>
                    </a:lnTo>
                    <a:lnTo>
                      <a:pt x="135" y="23"/>
                    </a:lnTo>
                    <a:lnTo>
                      <a:pt x="628" y="41"/>
                    </a:lnTo>
                    <a:lnTo>
                      <a:pt x="609" y="39"/>
                    </a:lnTo>
                    <a:lnTo>
                      <a:pt x="591" y="37"/>
                    </a:lnTo>
                    <a:lnTo>
                      <a:pt x="572" y="37"/>
                    </a:lnTo>
                    <a:lnTo>
                      <a:pt x="552" y="36"/>
                    </a:lnTo>
                    <a:lnTo>
                      <a:pt x="534" y="34"/>
                    </a:lnTo>
                    <a:lnTo>
                      <a:pt x="515" y="32"/>
                    </a:lnTo>
                    <a:lnTo>
                      <a:pt x="497" y="30"/>
                    </a:lnTo>
                    <a:lnTo>
                      <a:pt x="476" y="30"/>
                    </a:lnTo>
                    <a:lnTo>
                      <a:pt x="458" y="28"/>
                    </a:lnTo>
                    <a:lnTo>
                      <a:pt x="439" y="26"/>
                    </a:lnTo>
                    <a:lnTo>
                      <a:pt x="419" y="24"/>
                    </a:lnTo>
                    <a:lnTo>
                      <a:pt x="401" y="23"/>
                    </a:lnTo>
                    <a:lnTo>
                      <a:pt x="380" y="21"/>
                    </a:lnTo>
                    <a:lnTo>
                      <a:pt x="362" y="17"/>
                    </a:lnTo>
                    <a:lnTo>
                      <a:pt x="342" y="15"/>
                    </a:lnTo>
                    <a:lnTo>
                      <a:pt x="32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15"/>
              <p:cNvSpPr/>
              <p:nvPr/>
            </p:nvSpPr>
            <p:spPr>
              <a:xfrm>
                <a:off x="4868280" y="4305240"/>
                <a:ext cx="164160" cy="4320"/>
              </a:xfrm>
              <a:custGeom>
                <a:avLst/>
                <a:gdLst/>
                <a:ahLst/>
                <a:rect l="l" t="t" r="r" b="b"/>
                <a:pathLst>
                  <a:path w="332" h="12">
                    <a:moveTo>
                      <a:pt x="0" y="0"/>
                    </a:moveTo>
                    <a:lnTo>
                      <a:pt x="332" y="0"/>
                    </a:lnTo>
                    <a:lnTo>
                      <a:pt x="25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6"/>
              <p:cNvSpPr/>
              <p:nvPr/>
            </p:nvSpPr>
            <p:spPr>
              <a:xfrm>
                <a:off x="4447440" y="4279680"/>
                <a:ext cx="253440" cy="15480"/>
              </a:xfrm>
              <a:custGeom>
                <a:avLst/>
                <a:gdLst/>
                <a:ahLst/>
                <a:rect l="l" t="t" r="r" b="b"/>
                <a:pathLst>
                  <a:path w="513" h="33">
                    <a:moveTo>
                      <a:pt x="0" y="0"/>
                    </a:moveTo>
                    <a:lnTo>
                      <a:pt x="14" y="2"/>
                    </a:lnTo>
                    <a:lnTo>
                      <a:pt x="27" y="6"/>
                    </a:lnTo>
                    <a:lnTo>
                      <a:pt x="42" y="7"/>
                    </a:lnTo>
                    <a:lnTo>
                      <a:pt x="57" y="9"/>
                    </a:lnTo>
                    <a:lnTo>
                      <a:pt x="70" y="13"/>
                    </a:lnTo>
                    <a:lnTo>
                      <a:pt x="85" y="15"/>
                    </a:lnTo>
                    <a:lnTo>
                      <a:pt x="98" y="17"/>
                    </a:lnTo>
                    <a:lnTo>
                      <a:pt x="112" y="19"/>
                    </a:lnTo>
                    <a:lnTo>
                      <a:pt x="513" y="33"/>
                    </a:lnTo>
                    <a:lnTo>
                      <a:pt x="483" y="30"/>
                    </a:lnTo>
                    <a:lnTo>
                      <a:pt x="454" y="28"/>
                    </a:lnTo>
                    <a:lnTo>
                      <a:pt x="424" y="24"/>
                    </a:lnTo>
                    <a:lnTo>
                      <a:pt x="393" y="22"/>
                    </a:lnTo>
                    <a:lnTo>
                      <a:pt x="361" y="19"/>
                    </a:lnTo>
                    <a:lnTo>
                      <a:pt x="332" y="17"/>
                    </a:lnTo>
                    <a:lnTo>
                      <a:pt x="300" y="13"/>
                    </a:lnTo>
                    <a:lnTo>
                      <a:pt x="26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17"/>
              <p:cNvSpPr/>
              <p:nvPr/>
            </p:nvSpPr>
            <p:spPr>
              <a:xfrm>
                <a:off x="4987080" y="4305240"/>
                <a:ext cx="45360" cy="1800"/>
              </a:xfrm>
              <a:custGeom>
                <a:avLst/>
                <a:gdLst/>
                <a:ahLst/>
                <a:rect l="l" t="t" r="r" b="b"/>
                <a:pathLst>
                  <a:path w="92" h="4">
                    <a:moveTo>
                      <a:pt x="0" y="2"/>
                    </a:moveTo>
                    <a:lnTo>
                      <a:pt x="92" y="0"/>
                    </a:lnTo>
                    <a:lnTo>
                      <a:pt x="7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8"/>
              <p:cNvSpPr/>
              <p:nvPr/>
            </p:nvSpPr>
            <p:spPr>
              <a:xfrm>
                <a:off x="4426920" y="4275000"/>
                <a:ext cx="205920" cy="1368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5"/>
                    </a:lnTo>
                    <a:lnTo>
                      <a:pt x="45" y="7"/>
                    </a:lnTo>
                    <a:lnTo>
                      <a:pt x="57" y="11"/>
                    </a:lnTo>
                    <a:lnTo>
                      <a:pt x="69" y="13"/>
                    </a:lnTo>
                    <a:lnTo>
                      <a:pt x="81" y="15"/>
                    </a:lnTo>
                    <a:lnTo>
                      <a:pt x="94" y="16"/>
                    </a:lnTo>
                    <a:lnTo>
                      <a:pt x="417" y="29"/>
                    </a:lnTo>
                    <a:lnTo>
                      <a:pt x="395" y="28"/>
                    </a:lnTo>
                    <a:lnTo>
                      <a:pt x="371" y="24"/>
                    </a:lnTo>
                    <a:lnTo>
                      <a:pt x="349" y="22"/>
                    </a:lnTo>
                    <a:lnTo>
                      <a:pt x="325" y="18"/>
                    </a:lnTo>
                    <a:lnTo>
                      <a:pt x="303" y="16"/>
                    </a:lnTo>
                    <a:lnTo>
                      <a:pt x="279" y="13"/>
                    </a:lnTo>
                    <a:lnTo>
                      <a:pt x="255" y="11"/>
                    </a:lnTo>
                    <a:lnTo>
                      <a:pt x="23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19"/>
              <p:cNvSpPr/>
              <p:nvPr/>
            </p:nvSpPr>
            <p:spPr>
              <a:xfrm>
                <a:off x="4404960" y="4270320"/>
                <a:ext cx="176040" cy="14400"/>
              </a:xfrm>
              <a:custGeom>
                <a:avLst/>
                <a:gdLst/>
                <a:ahLst/>
                <a:rect l="l" t="t" r="r" b="b"/>
                <a:pathLst>
                  <a:path w="356" h="31">
                    <a:moveTo>
                      <a:pt x="0" y="0"/>
                    </a:moveTo>
                    <a:lnTo>
                      <a:pt x="11" y="2"/>
                    </a:lnTo>
                    <a:lnTo>
                      <a:pt x="22" y="3"/>
                    </a:lnTo>
                    <a:lnTo>
                      <a:pt x="33" y="5"/>
                    </a:lnTo>
                    <a:lnTo>
                      <a:pt x="44" y="9"/>
                    </a:lnTo>
                    <a:lnTo>
                      <a:pt x="55" y="11"/>
                    </a:lnTo>
                    <a:lnTo>
                      <a:pt x="65" y="15"/>
                    </a:lnTo>
                    <a:lnTo>
                      <a:pt x="76" y="16"/>
                    </a:lnTo>
                    <a:lnTo>
                      <a:pt x="87" y="20"/>
                    </a:lnTo>
                    <a:lnTo>
                      <a:pt x="356" y="31"/>
                    </a:lnTo>
                    <a:lnTo>
                      <a:pt x="338" y="29"/>
                    </a:lnTo>
                    <a:lnTo>
                      <a:pt x="321" y="26"/>
                    </a:lnTo>
                    <a:lnTo>
                      <a:pt x="303" y="24"/>
                    </a:lnTo>
                    <a:lnTo>
                      <a:pt x="282" y="20"/>
                    </a:lnTo>
                    <a:lnTo>
                      <a:pt x="264" y="16"/>
                    </a:lnTo>
                    <a:lnTo>
                      <a:pt x="245" y="13"/>
                    </a:lnTo>
                    <a:lnTo>
                      <a:pt x="227" y="11"/>
                    </a:lnTo>
                    <a:lnTo>
                      <a:pt x="20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0"/>
              <p:cNvSpPr/>
              <p:nvPr/>
            </p:nvSpPr>
            <p:spPr>
              <a:xfrm>
                <a:off x="4386960" y="4266000"/>
                <a:ext cx="153360" cy="13680"/>
              </a:xfrm>
              <a:custGeom>
                <a:avLst/>
                <a:gdLst/>
                <a:ahLst/>
                <a:rect l="l" t="t" r="r" b="b"/>
                <a:pathLst>
                  <a:path w="310" h="29">
                    <a:moveTo>
                      <a:pt x="0" y="0"/>
                    </a:moveTo>
                    <a:lnTo>
                      <a:pt x="11" y="1"/>
                    </a:lnTo>
                    <a:lnTo>
                      <a:pt x="20" y="5"/>
                    </a:lnTo>
                    <a:lnTo>
                      <a:pt x="31" y="7"/>
                    </a:lnTo>
                    <a:lnTo>
                      <a:pt x="41" y="9"/>
                    </a:lnTo>
                    <a:lnTo>
                      <a:pt x="50" y="12"/>
                    </a:lnTo>
                    <a:lnTo>
                      <a:pt x="59" y="14"/>
                    </a:lnTo>
                    <a:lnTo>
                      <a:pt x="70" y="18"/>
                    </a:lnTo>
                    <a:lnTo>
                      <a:pt x="79" y="20"/>
                    </a:lnTo>
                    <a:lnTo>
                      <a:pt x="310" y="29"/>
                    </a:lnTo>
                    <a:lnTo>
                      <a:pt x="295" y="27"/>
                    </a:lnTo>
                    <a:lnTo>
                      <a:pt x="280" y="24"/>
                    </a:lnTo>
                    <a:lnTo>
                      <a:pt x="264" y="22"/>
                    </a:lnTo>
                    <a:lnTo>
                      <a:pt x="249" y="18"/>
                    </a:lnTo>
                    <a:lnTo>
                      <a:pt x="232" y="16"/>
                    </a:lnTo>
                    <a:lnTo>
                      <a:pt x="216" y="12"/>
                    </a:lnTo>
                    <a:lnTo>
                      <a:pt x="201" y="9"/>
                    </a:lnTo>
                    <a:lnTo>
                      <a:pt x="18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1"/>
              <p:cNvSpPr/>
              <p:nvPr/>
            </p:nvSpPr>
            <p:spPr>
              <a:xfrm>
                <a:off x="4370040" y="4261320"/>
                <a:ext cx="137520" cy="12600"/>
              </a:xfrm>
              <a:custGeom>
                <a:avLst/>
                <a:gdLst/>
                <a:ahLst/>
                <a:rect l="l" t="t" r="r" b="b"/>
                <a:pathLst>
                  <a:path w="276" h="27">
                    <a:moveTo>
                      <a:pt x="0" y="0"/>
                    </a:moveTo>
                    <a:lnTo>
                      <a:pt x="9" y="3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5" y="11"/>
                    </a:lnTo>
                    <a:lnTo>
                      <a:pt x="44" y="14"/>
                    </a:lnTo>
                    <a:lnTo>
                      <a:pt x="51" y="16"/>
                    </a:lnTo>
                    <a:lnTo>
                      <a:pt x="61" y="18"/>
                    </a:lnTo>
                    <a:lnTo>
                      <a:pt x="68" y="20"/>
                    </a:lnTo>
                    <a:lnTo>
                      <a:pt x="276" y="27"/>
                    </a:lnTo>
                    <a:lnTo>
                      <a:pt x="262" y="25"/>
                    </a:lnTo>
                    <a:lnTo>
                      <a:pt x="249" y="23"/>
                    </a:lnTo>
                    <a:lnTo>
                      <a:pt x="234" y="22"/>
                    </a:lnTo>
                    <a:lnTo>
                      <a:pt x="221" y="18"/>
                    </a:lnTo>
                    <a:lnTo>
                      <a:pt x="208" y="16"/>
                    </a:lnTo>
                    <a:lnTo>
                      <a:pt x="195" y="12"/>
                    </a:lnTo>
                    <a:lnTo>
                      <a:pt x="182" y="11"/>
                    </a:lnTo>
                    <a:lnTo>
                      <a:pt x="169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2"/>
              <p:cNvSpPr/>
              <p:nvPr/>
            </p:nvSpPr>
            <p:spPr>
              <a:xfrm>
                <a:off x="4355280" y="4256640"/>
                <a:ext cx="122760" cy="1152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0" y="0"/>
                    </a:moveTo>
                    <a:lnTo>
                      <a:pt x="8" y="4"/>
                    </a:lnTo>
                    <a:lnTo>
                      <a:pt x="17" y="6"/>
                    </a:lnTo>
                    <a:lnTo>
                      <a:pt x="24" y="10"/>
                    </a:lnTo>
                    <a:lnTo>
                      <a:pt x="34" y="11"/>
                    </a:lnTo>
                    <a:lnTo>
                      <a:pt x="41" y="15"/>
                    </a:lnTo>
                    <a:lnTo>
                      <a:pt x="50" y="17"/>
                    </a:lnTo>
                    <a:lnTo>
                      <a:pt x="58" y="19"/>
                    </a:lnTo>
                    <a:lnTo>
                      <a:pt x="65" y="21"/>
                    </a:lnTo>
                    <a:lnTo>
                      <a:pt x="249" y="26"/>
                    </a:lnTo>
                    <a:lnTo>
                      <a:pt x="238" y="24"/>
                    </a:lnTo>
                    <a:lnTo>
                      <a:pt x="225" y="22"/>
                    </a:lnTo>
                    <a:lnTo>
                      <a:pt x="214" y="21"/>
                    </a:lnTo>
                    <a:lnTo>
                      <a:pt x="203" y="17"/>
                    </a:lnTo>
                    <a:lnTo>
                      <a:pt x="190" y="15"/>
                    </a:lnTo>
                    <a:lnTo>
                      <a:pt x="179" y="11"/>
                    </a:lnTo>
                    <a:lnTo>
                      <a:pt x="166" y="10"/>
                    </a:lnTo>
                    <a:lnTo>
                      <a:pt x="15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3"/>
              <p:cNvSpPr/>
              <p:nvPr/>
            </p:nvSpPr>
            <p:spPr>
              <a:xfrm>
                <a:off x="4340520" y="4253760"/>
                <a:ext cx="113760" cy="10080"/>
              </a:xfrm>
              <a:custGeom>
                <a:avLst/>
                <a:gdLst/>
                <a:ahLst/>
                <a:rect l="l" t="t" r="r" b="b"/>
                <a:pathLst>
                  <a:path w="230" h="22">
                    <a:moveTo>
                      <a:pt x="0" y="0"/>
                    </a:moveTo>
                    <a:lnTo>
                      <a:pt x="7" y="2"/>
                    </a:lnTo>
                    <a:lnTo>
                      <a:pt x="16" y="3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39" y="9"/>
                    </a:lnTo>
                    <a:lnTo>
                      <a:pt x="46" y="11"/>
                    </a:lnTo>
                    <a:lnTo>
                      <a:pt x="53" y="13"/>
                    </a:lnTo>
                    <a:lnTo>
                      <a:pt x="61" y="15"/>
                    </a:lnTo>
                    <a:lnTo>
                      <a:pt x="230" y="22"/>
                    </a:lnTo>
                    <a:lnTo>
                      <a:pt x="219" y="20"/>
                    </a:lnTo>
                    <a:lnTo>
                      <a:pt x="206" y="18"/>
                    </a:lnTo>
                    <a:lnTo>
                      <a:pt x="195" y="16"/>
                    </a:lnTo>
                    <a:lnTo>
                      <a:pt x="184" y="13"/>
                    </a:lnTo>
                    <a:lnTo>
                      <a:pt x="175" y="11"/>
                    </a:lnTo>
                    <a:lnTo>
                      <a:pt x="164" y="9"/>
                    </a:lnTo>
                    <a:lnTo>
                      <a:pt x="153" y="7"/>
                    </a:lnTo>
                    <a:lnTo>
                      <a:pt x="14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24"/>
              <p:cNvSpPr/>
              <p:nvPr/>
            </p:nvSpPr>
            <p:spPr>
              <a:xfrm>
                <a:off x="4327560" y="4249080"/>
                <a:ext cx="102600" cy="10080"/>
              </a:xfrm>
              <a:custGeom>
                <a:avLst/>
                <a:gdLst/>
                <a:ahLst/>
                <a:rect l="l" t="t" r="r" b="b"/>
                <a:pathLst>
                  <a:path w="209" h="22">
                    <a:moveTo>
                      <a:pt x="0" y="0"/>
                    </a:moveTo>
                    <a:lnTo>
                      <a:pt x="7" y="2"/>
                    </a:lnTo>
                    <a:lnTo>
                      <a:pt x="13" y="3"/>
                    </a:lnTo>
                    <a:lnTo>
                      <a:pt x="20" y="5"/>
                    </a:lnTo>
                    <a:lnTo>
                      <a:pt x="28" y="7"/>
                    </a:lnTo>
                    <a:lnTo>
                      <a:pt x="35" y="11"/>
                    </a:lnTo>
                    <a:lnTo>
                      <a:pt x="42" y="13"/>
                    </a:lnTo>
                    <a:lnTo>
                      <a:pt x="48" y="14"/>
                    </a:lnTo>
                    <a:lnTo>
                      <a:pt x="55" y="16"/>
                    </a:lnTo>
                    <a:lnTo>
                      <a:pt x="209" y="22"/>
                    </a:lnTo>
                    <a:lnTo>
                      <a:pt x="199" y="20"/>
                    </a:lnTo>
                    <a:lnTo>
                      <a:pt x="190" y="18"/>
                    </a:lnTo>
                    <a:lnTo>
                      <a:pt x="179" y="16"/>
                    </a:lnTo>
                    <a:lnTo>
                      <a:pt x="170" y="13"/>
                    </a:lnTo>
                    <a:lnTo>
                      <a:pt x="161" y="11"/>
                    </a:lnTo>
                    <a:lnTo>
                      <a:pt x="151" y="9"/>
                    </a:lnTo>
                    <a:lnTo>
                      <a:pt x="140" y="7"/>
                    </a:lnTo>
                    <a:lnTo>
                      <a:pt x="1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25"/>
              <p:cNvSpPr/>
              <p:nvPr/>
            </p:nvSpPr>
            <p:spPr>
              <a:xfrm>
                <a:off x="4314600" y="4244760"/>
                <a:ext cx="96840" cy="11880"/>
              </a:xfrm>
              <a:custGeom>
                <a:avLst/>
                <a:gdLst/>
                <a:ahLst/>
                <a:rect l="l" t="t" r="r" b="b"/>
                <a:pathLst>
                  <a:path w="196" h="26">
                    <a:moveTo>
                      <a:pt x="0" y="0"/>
                    </a:moveTo>
                    <a:lnTo>
                      <a:pt x="13" y="6"/>
                    </a:lnTo>
                    <a:lnTo>
                      <a:pt x="26" y="10"/>
                    </a:lnTo>
                    <a:lnTo>
                      <a:pt x="39" y="15"/>
                    </a:lnTo>
                    <a:lnTo>
                      <a:pt x="52" y="21"/>
                    </a:lnTo>
                    <a:lnTo>
                      <a:pt x="196" y="26"/>
                    </a:lnTo>
                    <a:lnTo>
                      <a:pt x="187" y="24"/>
                    </a:lnTo>
                    <a:lnTo>
                      <a:pt x="177" y="21"/>
                    </a:lnTo>
                    <a:lnTo>
                      <a:pt x="168" y="19"/>
                    </a:lnTo>
                    <a:lnTo>
                      <a:pt x="159" y="15"/>
                    </a:lnTo>
                    <a:lnTo>
                      <a:pt x="150" y="13"/>
                    </a:lnTo>
                    <a:lnTo>
                      <a:pt x="140" y="12"/>
                    </a:lnTo>
                    <a:lnTo>
                      <a:pt x="131" y="8"/>
                    </a:lnTo>
                    <a:lnTo>
                      <a:pt x="12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26"/>
              <p:cNvSpPr/>
              <p:nvPr/>
            </p:nvSpPr>
            <p:spPr>
              <a:xfrm>
                <a:off x="4302000" y="4241160"/>
                <a:ext cx="91080" cy="10800"/>
              </a:xfrm>
              <a:custGeom>
                <a:avLst/>
                <a:gdLst/>
                <a:ahLst/>
                <a:rect l="l" t="t" r="r" b="b"/>
                <a:pathLst>
                  <a:path w="183" h="24">
                    <a:moveTo>
                      <a:pt x="0" y="0"/>
                    </a:moveTo>
                    <a:lnTo>
                      <a:pt x="13" y="6"/>
                    </a:lnTo>
                    <a:lnTo>
                      <a:pt x="26" y="9"/>
                    </a:lnTo>
                    <a:lnTo>
                      <a:pt x="39" y="15"/>
                    </a:lnTo>
                    <a:lnTo>
                      <a:pt x="52" y="19"/>
                    </a:lnTo>
                    <a:lnTo>
                      <a:pt x="183" y="24"/>
                    </a:lnTo>
                    <a:lnTo>
                      <a:pt x="176" y="22"/>
                    </a:lnTo>
                    <a:lnTo>
                      <a:pt x="166" y="19"/>
                    </a:lnTo>
                    <a:lnTo>
                      <a:pt x="159" y="17"/>
                    </a:lnTo>
                    <a:lnTo>
                      <a:pt x="150" y="13"/>
                    </a:lnTo>
                    <a:lnTo>
                      <a:pt x="142" y="11"/>
                    </a:lnTo>
                    <a:lnTo>
                      <a:pt x="133" y="9"/>
                    </a:lnTo>
                    <a:lnTo>
                      <a:pt x="126" y="6"/>
                    </a:lnTo>
                    <a:lnTo>
                      <a:pt x="1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7"/>
              <p:cNvSpPr/>
              <p:nvPr/>
            </p:nvSpPr>
            <p:spPr>
              <a:xfrm>
                <a:off x="4290840" y="4236480"/>
                <a:ext cx="83880" cy="10440"/>
              </a:xfrm>
              <a:custGeom>
                <a:avLst/>
                <a:gdLst/>
                <a:ahLst/>
                <a:rect l="l" t="t" r="r" b="b"/>
                <a:pathLst>
                  <a:path w="170" h="24">
                    <a:moveTo>
                      <a:pt x="0" y="0"/>
                    </a:moveTo>
                    <a:lnTo>
                      <a:pt x="13" y="6"/>
                    </a:lnTo>
                    <a:lnTo>
                      <a:pt x="24" y="11"/>
                    </a:lnTo>
                    <a:lnTo>
                      <a:pt x="37" y="15"/>
                    </a:lnTo>
                    <a:lnTo>
                      <a:pt x="48" y="18"/>
                    </a:lnTo>
                    <a:lnTo>
                      <a:pt x="170" y="24"/>
                    </a:lnTo>
                    <a:lnTo>
                      <a:pt x="163" y="22"/>
                    </a:lnTo>
                    <a:lnTo>
                      <a:pt x="153" y="20"/>
                    </a:lnTo>
                    <a:lnTo>
                      <a:pt x="146" y="18"/>
                    </a:lnTo>
                    <a:lnTo>
                      <a:pt x="139" y="15"/>
                    </a:lnTo>
                    <a:lnTo>
                      <a:pt x="131" y="13"/>
                    </a:lnTo>
                    <a:lnTo>
                      <a:pt x="124" y="9"/>
                    </a:lnTo>
                    <a:lnTo>
                      <a:pt x="116" y="7"/>
                    </a:lnTo>
                    <a:lnTo>
                      <a:pt x="10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8"/>
              <p:cNvSpPr/>
              <p:nvPr/>
            </p:nvSpPr>
            <p:spPr>
              <a:xfrm>
                <a:off x="4281120" y="4233600"/>
                <a:ext cx="79200" cy="8280"/>
              </a:xfrm>
              <a:custGeom>
                <a:avLst/>
                <a:gdLst/>
                <a:ahLst/>
                <a:rect l="l" t="t" r="r" b="b"/>
                <a:pathLst>
                  <a:path w="160" h="19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1" y="12"/>
                    </a:lnTo>
                    <a:lnTo>
                      <a:pt x="42" y="15"/>
                    </a:lnTo>
                    <a:lnTo>
                      <a:pt x="160" y="19"/>
                    </a:lnTo>
                    <a:lnTo>
                      <a:pt x="153" y="17"/>
                    </a:lnTo>
                    <a:lnTo>
                      <a:pt x="144" y="15"/>
                    </a:lnTo>
                    <a:lnTo>
                      <a:pt x="136" y="13"/>
                    </a:lnTo>
                    <a:lnTo>
                      <a:pt x="127" y="12"/>
                    </a:lnTo>
                    <a:lnTo>
                      <a:pt x="120" y="10"/>
                    </a:lnTo>
                    <a:lnTo>
                      <a:pt x="112" y="8"/>
                    </a:lnTo>
                    <a:lnTo>
                      <a:pt x="107" y="6"/>
                    </a:lnTo>
                    <a:lnTo>
                      <a:pt x="10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29"/>
              <p:cNvSpPr/>
              <p:nvPr/>
            </p:nvSpPr>
            <p:spPr>
              <a:xfrm>
                <a:off x="4270320" y="4230000"/>
                <a:ext cx="75240" cy="7920"/>
              </a:xfrm>
              <a:custGeom>
                <a:avLst/>
                <a:gdLst/>
                <a:ahLst/>
                <a:rect l="l" t="t" r="r" b="b"/>
                <a:pathLst>
                  <a:path w="151" h="19">
                    <a:moveTo>
                      <a:pt x="0" y="0"/>
                    </a:moveTo>
                    <a:lnTo>
                      <a:pt x="11" y="4"/>
                    </a:lnTo>
                    <a:lnTo>
                      <a:pt x="22" y="8"/>
                    </a:lnTo>
                    <a:lnTo>
                      <a:pt x="31" y="11"/>
                    </a:lnTo>
                    <a:lnTo>
                      <a:pt x="42" y="15"/>
                    </a:lnTo>
                    <a:lnTo>
                      <a:pt x="151" y="19"/>
                    </a:lnTo>
                    <a:lnTo>
                      <a:pt x="144" y="17"/>
                    </a:lnTo>
                    <a:lnTo>
                      <a:pt x="136" y="15"/>
                    </a:lnTo>
                    <a:lnTo>
                      <a:pt x="129" y="13"/>
                    </a:lnTo>
                    <a:lnTo>
                      <a:pt x="122" y="11"/>
                    </a:lnTo>
                    <a:lnTo>
                      <a:pt x="116" y="9"/>
                    </a:lnTo>
                    <a:lnTo>
                      <a:pt x="109" y="8"/>
                    </a:lnTo>
                    <a:lnTo>
                      <a:pt x="101" y="6"/>
                    </a:lnTo>
                    <a:lnTo>
                      <a:pt x="9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0"/>
              <p:cNvSpPr/>
              <p:nvPr/>
            </p:nvSpPr>
            <p:spPr>
              <a:xfrm>
                <a:off x="4259160" y="4225680"/>
                <a:ext cx="71280" cy="9720"/>
              </a:xfrm>
              <a:custGeom>
                <a:avLst/>
                <a:gdLst/>
                <a:ahLst/>
                <a:rect l="l" t="t" r="r" b="b"/>
                <a:pathLst>
                  <a:path w="144" h="22">
                    <a:moveTo>
                      <a:pt x="0" y="0"/>
                    </a:moveTo>
                    <a:lnTo>
                      <a:pt x="11" y="4"/>
                    </a:lnTo>
                    <a:lnTo>
                      <a:pt x="22" y="7"/>
                    </a:lnTo>
                    <a:lnTo>
                      <a:pt x="33" y="13"/>
                    </a:lnTo>
                    <a:lnTo>
                      <a:pt x="44" y="18"/>
                    </a:lnTo>
                    <a:lnTo>
                      <a:pt x="144" y="22"/>
                    </a:lnTo>
                    <a:lnTo>
                      <a:pt x="131" y="17"/>
                    </a:lnTo>
                    <a:lnTo>
                      <a:pt x="118" y="11"/>
                    </a:lnTo>
                    <a:lnTo>
                      <a:pt x="105" y="7"/>
                    </a:lnTo>
                    <a:lnTo>
                      <a:pt x="9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1"/>
              <p:cNvSpPr/>
              <p:nvPr/>
            </p:nvSpPr>
            <p:spPr>
              <a:xfrm>
                <a:off x="4251240" y="4219920"/>
                <a:ext cx="66240" cy="10800"/>
              </a:xfrm>
              <a:custGeom>
                <a:avLst/>
                <a:gdLst/>
                <a:ahLst/>
                <a:rect l="l" t="t" r="r" b="b"/>
                <a:pathLst>
                  <a:path w="135" h="24">
                    <a:moveTo>
                      <a:pt x="0" y="0"/>
                    </a:moveTo>
                    <a:lnTo>
                      <a:pt x="9" y="5"/>
                    </a:lnTo>
                    <a:lnTo>
                      <a:pt x="20" y="9"/>
                    </a:lnTo>
                    <a:lnTo>
                      <a:pt x="30" y="15"/>
                    </a:lnTo>
                    <a:lnTo>
                      <a:pt x="39" y="20"/>
                    </a:lnTo>
                    <a:lnTo>
                      <a:pt x="135" y="24"/>
                    </a:lnTo>
                    <a:lnTo>
                      <a:pt x="122" y="18"/>
                    </a:lnTo>
                    <a:lnTo>
                      <a:pt x="109" y="13"/>
                    </a:lnTo>
                    <a:lnTo>
                      <a:pt x="96" y="9"/>
                    </a:lnTo>
                    <a:lnTo>
                      <a:pt x="8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2"/>
              <p:cNvSpPr/>
              <p:nvPr/>
            </p:nvSpPr>
            <p:spPr>
              <a:xfrm>
                <a:off x="4240440" y="4216320"/>
                <a:ext cx="64440" cy="10440"/>
              </a:xfrm>
              <a:custGeom>
                <a:avLst/>
                <a:gdLst/>
                <a:ahLst/>
                <a:rect l="l" t="t" r="r" b="b"/>
                <a:pathLst>
                  <a:path w="129" h="24">
                    <a:moveTo>
                      <a:pt x="0" y="0"/>
                    </a:moveTo>
                    <a:lnTo>
                      <a:pt x="9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129" y="24"/>
                    </a:lnTo>
                    <a:lnTo>
                      <a:pt x="116" y="20"/>
                    </a:lnTo>
                    <a:lnTo>
                      <a:pt x="103" y="14"/>
                    </a:lnTo>
                    <a:lnTo>
                      <a:pt x="90" y="9"/>
                    </a:lnTo>
                    <a:lnTo>
                      <a:pt x="7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3"/>
              <p:cNvSpPr/>
              <p:nvPr/>
            </p:nvSpPr>
            <p:spPr>
              <a:xfrm>
                <a:off x="4231440" y="4211640"/>
                <a:ext cx="60120" cy="10080"/>
              </a:xfrm>
              <a:custGeom>
                <a:avLst/>
                <a:gdLst/>
                <a:ahLst/>
                <a:rect l="l" t="t" r="r" b="b"/>
                <a:pathLst>
                  <a:path w="122" h="22">
                    <a:moveTo>
                      <a:pt x="0" y="0"/>
                    </a:moveTo>
                    <a:lnTo>
                      <a:pt x="10" y="5"/>
                    </a:lnTo>
                    <a:lnTo>
                      <a:pt x="21" y="11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122" y="22"/>
                    </a:lnTo>
                    <a:lnTo>
                      <a:pt x="111" y="18"/>
                    </a:lnTo>
                    <a:lnTo>
                      <a:pt x="98" y="14"/>
                    </a:lnTo>
                    <a:lnTo>
                      <a:pt x="87" y="9"/>
                    </a:lnTo>
                    <a:lnTo>
                      <a:pt x="7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4"/>
              <p:cNvSpPr/>
              <p:nvPr/>
            </p:nvSpPr>
            <p:spPr>
              <a:xfrm>
                <a:off x="4223520" y="4208760"/>
                <a:ext cx="55080" cy="9000"/>
              </a:xfrm>
              <a:custGeom>
                <a:avLst/>
                <a:gdLst/>
                <a:ahLst/>
                <a:rect l="l" t="t" r="r" b="b"/>
                <a:pathLst>
                  <a:path w="112" h="18">
                    <a:moveTo>
                      <a:pt x="0" y="0"/>
                    </a:moveTo>
                    <a:lnTo>
                      <a:pt x="9" y="4"/>
                    </a:lnTo>
                    <a:lnTo>
                      <a:pt x="18" y="7"/>
                    </a:lnTo>
                    <a:lnTo>
                      <a:pt x="26" y="11"/>
                    </a:lnTo>
                    <a:lnTo>
                      <a:pt x="35" y="15"/>
                    </a:lnTo>
                    <a:lnTo>
                      <a:pt x="112" y="18"/>
                    </a:lnTo>
                    <a:lnTo>
                      <a:pt x="103" y="15"/>
                    </a:lnTo>
                    <a:lnTo>
                      <a:pt x="92" y="11"/>
                    </a:lnTo>
                    <a:lnTo>
                      <a:pt x="81" y="7"/>
                    </a:lnTo>
                    <a:lnTo>
                      <a:pt x="7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35"/>
              <p:cNvSpPr/>
              <p:nvPr/>
            </p:nvSpPr>
            <p:spPr>
              <a:xfrm>
                <a:off x="4215600" y="420552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107" h="18">
                    <a:moveTo>
                      <a:pt x="0" y="0"/>
                    </a:moveTo>
                    <a:lnTo>
                      <a:pt x="7" y="3"/>
                    </a:lnTo>
                    <a:lnTo>
                      <a:pt x="15" y="7"/>
                    </a:lnTo>
                    <a:lnTo>
                      <a:pt x="24" y="11"/>
                    </a:lnTo>
                    <a:lnTo>
                      <a:pt x="33" y="15"/>
                    </a:lnTo>
                    <a:lnTo>
                      <a:pt x="107" y="18"/>
                    </a:lnTo>
                    <a:lnTo>
                      <a:pt x="98" y="15"/>
                    </a:lnTo>
                    <a:lnTo>
                      <a:pt x="87" y="11"/>
                    </a:lnTo>
                    <a:lnTo>
                      <a:pt x="76" y="7"/>
                    </a:lnTo>
                    <a:lnTo>
                      <a:pt x="6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36"/>
              <p:cNvSpPr/>
              <p:nvPr/>
            </p:nvSpPr>
            <p:spPr>
              <a:xfrm>
                <a:off x="4212720" y="4201560"/>
                <a:ext cx="45360" cy="9000"/>
              </a:xfrm>
              <a:custGeom>
                <a:avLst/>
                <a:gdLst/>
                <a:ahLst/>
                <a:rect l="l" t="t" r="r" b="b"/>
                <a:pathLst>
                  <a:path w="92" h="21">
                    <a:moveTo>
                      <a:pt x="22" y="17"/>
                    </a:moveTo>
                    <a:lnTo>
                      <a:pt x="16" y="13"/>
                    </a:lnTo>
                    <a:lnTo>
                      <a:pt x="11" y="11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53" y="2"/>
                    </a:lnTo>
                    <a:lnTo>
                      <a:pt x="62" y="6"/>
                    </a:lnTo>
                    <a:lnTo>
                      <a:pt x="73" y="10"/>
                    </a:lnTo>
                    <a:lnTo>
                      <a:pt x="83" y="15"/>
                    </a:lnTo>
                    <a:lnTo>
                      <a:pt x="92" y="21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37"/>
              <p:cNvSpPr/>
              <p:nvPr/>
            </p:nvSpPr>
            <p:spPr>
              <a:xfrm>
                <a:off x="4210560" y="4197960"/>
                <a:ext cx="36360" cy="900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9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44" y="6"/>
                    </a:lnTo>
                    <a:lnTo>
                      <a:pt x="55" y="11"/>
                    </a:lnTo>
                    <a:lnTo>
                      <a:pt x="64" y="15"/>
                    </a:lnTo>
                    <a:lnTo>
                      <a:pt x="74" y="20"/>
                    </a:lnTo>
                    <a:lnTo>
                      <a:pt x="9" y="17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8"/>
              <p:cNvSpPr/>
              <p:nvPr/>
            </p:nvSpPr>
            <p:spPr>
              <a:xfrm>
                <a:off x="4211640" y="4193280"/>
                <a:ext cx="27360" cy="90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0" y="0"/>
                    </a:moveTo>
                    <a:lnTo>
                      <a:pt x="3" y="18"/>
                    </a:lnTo>
                    <a:lnTo>
                      <a:pt x="55" y="20"/>
                    </a:lnTo>
                    <a:lnTo>
                      <a:pt x="46" y="17"/>
                    </a:lnTo>
                    <a:lnTo>
                      <a:pt x="37" y="11"/>
                    </a:lnTo>
                    <a:lnTo>
                      <a:pt x="26" y="5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9"/>
              <p:cNvSpPr/>
              <p:nvPr/>
            </p:nvSpPr>
            <p:spPr>
              <a:xfrm>
                <a:off x="4208760" y="419148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4" y="13"/>
                    </a:moveTo>
                    <a:lnTo>
                      <a:pt x="0" y="0"/>
                    </a:lnTo>
                    <a:lnTo>
                      <a:pt x="9" y="4"/>
                    </a:lnTo>
                    <a:lnTo>
                      <a:pt x="20" y="8"/>
                    </a:lnTo>
                    <a:lnTo>
                      <a:pt x="30" y="11"/>
                    </a:lnTo>
                    <a:lnTo>
                      <a:pt x="39" y="15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0"/>
              <p:cNvSpPr/>
              <p:nvPr/>
            </p:nvSpPr>
            <p:spPr>
              <a:xfrm>
                <a:off x="4208760" y="41914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6" y="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41"/>
              <p:cNvSpPr/>
              <p:nvPr/>
            </p:nvSpPr>
            <p:spPr>
              <a:xfrm>
                <a:off x="5047560" y="3972960"/>
                <a:ext cx="768600" cy="356040"/>
              </a:xfrm>
              <a:custGeom>
                <a:avLst/>
                <a:gdLst/>
                <a:ahLst/>
                <a:rect l="l" t="t" r="r" b="b"/>
                <a:pathLst>
                  <a:path w="1551" h="777">
                    <a:moveTo>
                      <a:pt x="266" y="777"/>
                    </a:moveTo>
                    <a:lnTo>
                      <a:pt x="0" y="735"/>
                    </a:lnTo>
                    <a:lnTo>
                      <a:pt x="481" y="727"/>
                    </a:lnTo>
                    <a:lnTo>
                      <a:pt x="507" y="722"/>
                    </a:lnTo>
                    <a:lnTo>
                      <a:pt x="533" y="716"/>
                    </a:lnTo>
                    <a:lnTo>
                      <a:pt x="559" y="709"/>
                    </a:lnTo>
                    <a:lnTo>
                      <a:pt x="585" y="701"/>
                    </a:lnTo>
                    <a:lnTo>
                      <a:pt x="612" y="692"/>
                    </a:lnTo>
                    <a:lnTo>
                      <a:pt x="638" y="683"/>
                    </a:lnTo>
                    <a:lnTo>
                      <a:pt x="666" y="670"/>
                    </a:lnTo>
                    <a:lnTo>
                      <a:pt x="692" y="659"/>
                    </a:lnTo>
                    <a:lnTo>
                      <a:pt x="719" y="644"/>
                    </a:lnTo>
                    <a:lnTo>
                      <a:pt x="745" y="630"/>
                    </a:lnTo>
                    <a:lnTo>
                      <a:pt x="773" y="613"/>
                    </a:lnTo>
                    <a:lnTo>
                      <a:pt x="799" y="596"/>
                    </a:lnTo>
                    <a:lnTo>
                      <a:pt x="826" y="578"/>
                    </a:lnTo>
                    <a:lnTo>
                      <a:pt x="852" y="558"/>
                    </a:lnTo>
                    <a:lnTo>
                      <a:pt x="878" y="535"/>
                    </a:lnTo>
                    <a:lnTo>
                      <a:pt x="904" y="513"/>
                    </a:lnTo>
                    <a:lnTo>
                      <a:pt x="1216" y="240"/>
                    </a:lnTo>
                    <a:lnTo>
                      <a:pt x="1254" y="227"/>
                    </a:lnTo>
                    <a:lnTo>
                      <a:pt x="1227" y="257"/>
                    </a:lnTo>
                    <a:lnTo>
                      <a:pt x="1201" y="284"/>
                    </a:lnTo>
                    <a:lnTo>
                      <a:pt x="1173" y="312"/>
                    </a:lnTo>
                    <a:lnTo>
                      <a:pt x="1147" y="340"/>
                    </a:lnTo>
                    <a:lnTo>
                      <a:pt x="1120" y="366"/>
                    </a:lnTo>
                    <a:lnTo>
                      <a:pt x="1094" y="392"/>
                    </a:lnTo>
                    <a:lnTo>
                      <a:pt x="1068" y="415"/>
                    </a:lnTo>
                    <a:lnTo>
                      <a:pt x="1040" y="439"/>
                    </a:lnTo>
                    <a:lnTo>
                      <a:pt x="1013" y="463"/>
                    </a:lnTo>
                    <a:lnTo>
                      <a:pt x="987" y="487"/>
                    </a:lnTo>
                    <a:lnTo>
                      <a:pt x="959" y="510"/>
                    </a:lnTo>
                    <a:lnTo>
                      <a:pt x="930" y="534"/>
                    </a:lnTo>
                    <a:lnTo>
                      <a:pt x="902" y="554"/>
                    </a:lnTo>
                    <a:lnTo>
                      <a:pt x="873" y="576"/>
                    </a:lnTo>
                    <a:lnTo>
                      <a:pt x="843" y="598"/>
                    </a:lnTo>
                    <a:lnTo>
                      <a:pt x="812" y="618"/>
                    </a:lnTo>
                    <a:lnTo>
                      <a:pt x="954" y="563"/>
                    </a:lnTo>
                    <a:lnTo>
                      <a:pt x="932" y="554"/>
                    </a:lnTo>
                    <a:lnTo>
                      <a:pt x="941" y="537"/>
                    </a:lnTo>
                    <a:lnTo>
                      <a:pt x="1125" y="393"/>
                    </a:lnTo>
                    <a:lnTo>
                      <a:pt x="1153" y="358"/>
                    </a:lnTo>
                    <a:lnTo>
                      <a:pt x="1267" y="262"/>
                    </a:lnTo>
                    <a:lnTo>
                      <a:pt x="1016" y="523"/>
                    </a:lnTo>
                    <a:lnTo>
                      <a:pt x="1044" y="508"/>
                    </a:lnTo>
                    <a:lnTo>
                      <a:pt x="1072" y="491"/>
                    </a:lnTo>
                    <a:lnTo>
                      <a:pt x="1098" y="473"/>
                    </a:lnTo>
                    <a:lnTo>
                      <a:pt x="1123" y="454"/>
                    </a:lnTo>
                    <a:lnTo>
                      <a:pt x="1149" y="434"/>
                    </a:lnTo>
                    <a:lnTo>
                      <a:pt x="1175" y="412"/>
                    </a:lnTo>
                    <a:lnTo>
                      <a:pt x="1199" y="390"/>
                    </a:lnTo>
                    <a:lnTo>
                      <a:pt x="1225" y="366"/>
                    </a:lnTo>
                    <a:lnTo>
                      <a:pt x="1249" y="342"/>
                    </a:lnTo>
                    <a:lnTo>
                      <a:pt x="1273" y="318"/>
                    </a:lnTo>
                    <a:lnTo>
                      <a:pt x="1297" y="294"/>
                    </a:lnTo>
                    <a:lnTo>
                      <a:pt x="1321" y="268"/>
                    </a:lnTo>
                    <a:lnTo>
                      <a:pt x="1345" y="244"/>
                    </a:lnTo>
                    <a:lnTo>
                      <a:pt x="1369" y="218"/>
                    </a:lnTo>
                    <a:lnTo>
                      <a:pt x="1391" y="192"/>
                    </a:lnTo>
                    <a:lnTo>
                      <a:pt x="1415" y="168"/>
                    </a:lnTo>
                    <a:lnTo>
                      <a:pt x="1505" y="41"/>
                    </a:lnTo>
                    <a:lnTo>
                      <a:pt x="1551" y="0"/>
                    </a:lnTo>
                    <a:lnTo>
                      <a:pt x="1358" y="284"/>
                    </a:lnTo>
                    <a:lnTo>
                      <a:pt x="1310" y="340"/>
                    </a:lnTo>
                    <a:lnTo>
                      <a:pt x="1260" y="390"/>
                    </a:lnTo>
                    <a:lnTo>
                      <a:pt x="1208" y="434"/>
                    </a:lnTo>
                    <a:lnTo>
                      <a:pt x="1157" y="475"/>
                    </a:lnTo>
                    <a:lnTo>
                      <a:pt x="1105" y="511"/>
                    </a:lnTo>
                    <a:lnTo>
                      <a:pt x="1052" y="545"/>
                    </a:lnTo>
                    <a:lnTo>
                      <a:pt x="998" y="574"/>
                    </a:lnTo>
                    <a:lnTo>
                      <a:pt x="944" y="602"/>
                    </a:lnTo>
                    <a:lnTo>
                      <a:pt x="891" y="626"/>
                    </a:lnTo>
                    <a:lnTo>
                      <a:pt x="837" y="648"/>
                    </a:lnTo>
                    <a:lnTo>
                      <a:pt x="784" y="668"/>
                    </a:lnTo>
                    <a:lnTo>
                      <a:pt x="729" y="687"/>
                    </a:lnTo>
                    <a:lnTo>
                      <a:pt x="675" y="705"/>
                    </a:lnTo>
                    <a:lnTo>
                      <a:pt x="623" y="722"/>
                    </a:lnTo>
                    <a:lnTo>
                      <a:pt x="570" y="738"/>
                    </a:lnTo>
                    <a:lnTo>
                      <a:pt x="518" y="755"/>
                    </a:lnTo>
                    <a:lnTo>
                      <a:pt x="266" y="77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42"/>
              <p:cNvSpPr/>
              <p:nvPr/>
            </p:nvSpPr>
            <p:spPr>
              <a:xfrm>
                <a:off x="4695120" y="4176000"/>
                <a:ext cx="357120" cy="89640"/>
              </a:xfrm>
              <a:custGeom>
                <a:avLst/>
                <a:gdLst/>
                <a:ahLst/>
                <a:rect l="l" t="t" r="r" b="b"/>
                <a:pathLst>
                  <a:path w="723" h="198">
                    <a:moveTo>
                      <a:pt x="537" y="198"/>
                    </a:moveTo>
                    <a:lnTo>
                      <a:pt x="516" y="198"/>
                    </a:lnTo>
                    <a:lnTo>
                      <a:pt x="566" y="129"/>
                    </a:lnTo>
                    <a:lnTo>
                      <a:pt x="553" y="139"/>
                    </a:lnTo>
                    <a:lnTo>
                      <a:pt x="505" y="137"/>
                    </a:lnTo>
                    <a:lnTo>
                      <a:pt x="564" y="68"/>
                    </a:lnTo>
                    <a:lnTo>
                      <a:pt x="238" y="94"/>
                    </a:lnTo>
                    <a:lnTo>
                      <a:pt x="168" y="83"/>
                    </a:lnTo>
                    <a:lnTo>
                      <a:pt x="131" y="144"/>
                    </a:lnTo>
                    <a:lnTo>
                      <a:pt x="86" y="177"/>
                    </a:lnTo>
                    <a:lnTo>
                      <a:pt x="57" y="157"/>
                    </a:lnTo>
                    <a:lnTo>
                      <a:pt x="125" y="81"/>
                    </a:lnTo>
                    <a:lnTo>
                      <a:pt x="0" y="65"/>
                    </a:lnTo>
                    <a:lnTo>
                      <a:pt x="138" y="61"/>
                    </a:lnTo>
                    <a:lnTo>
                      <a:pt x="179" y="63"/>
                    </a:lnTo>
                    <a:lnTo>
                      <a:pt x="609" y="35"/>
                    </a:lnTo>
                    <a:lnTo>
                      <a:pt x="645" y="13"/>
                    </a:lnTo>
                    <a:lnTo>
                      <a:pt x="658" y="0"/>
                    </a:lnTo>
                    <a:lnTo>
                      <a:pt x="710" y="15"/>
                    </a:lnTo>
                    <a:lnTo>
                      <a:pt x="701" y="35"/>
                    </a:lnTo>
                    <a:lnTo>
                      <a:pt x="723" y="35"/>
                    </a:lnTo>
                    <a:lnTo>
                      <a:pt x="708" y="48"/>
                    </a:lnTo>
                    <a:lnTo>
                      <a:pt x="559" y="187"/>
                    </a:lnTo>
                    <a:lnTo>
                      <a:pt x="537" y="19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43"/>
              <p:cNvSpPr/>
              <p:nvPr/>
            </p:nvSpPr>
            <p:spPr>
              <a:xfrm>
                <a:off x="4653360" y="4184280"/>
                <a:ext cx="41760" cy="72360"/>
              </a:xfrm>
              <a:custGeom>
                <a:avLst/>
                <a:gdLst/>
                <a:ahLst/>
                <a:rect l="l" t="t" r="r" b="b"/>
                <a:pathLst>
                  <a:path w="83" h="158">
                    <a:moveTo>
                      <a:pt x="3" y="151"/>
                    </a:moveTo>
                    <a:lnTo>
                      <a:pt x="0" y="142"/>
                    </a:lnTo>
                    <a:lnTo>
                      <a:pt x="38" y="25"/>
                    </a:lnTo>
                    <a:lnTo>
                      <a:pt x="31" y="0"/>
                    </a:lnTo>
                    <a:lnTo>
                      <a:pt x="83" y="14"/>
                    </a:lnTo>
                    <a:lnTo>
                      <a:pt x="40" y="131"/>
                    </a:lnTo>
                    <a:lnTo>
                      <a:pt x="55" y="158"/>
                    </a:lnTo>
                    <a:lnTo>
                      <a:pt x="3" y="15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44"/>
              <p:cNvSpPr/>
              <p:nvPr/>
            </p:nvSpPr>
            <p:spPr>
              <a:xfrm>
                <a:off x="5034960" y="4193280"/>
                <a:ext cx="78120" cy="59400"/>
              </a:xfrm>
              <a:custGeom>
                <a:avLst/>
                <a:gdLst/>
                <a:ahLst/>
                <a:rect l="l" t="t" r="r" b="b"/>
                <a:pathLst>
                  <a:path w="159" h="131">
                    <a:moveTo>
                      <a:pt x="0" y="131"/>
                    </a:moveTo>
                    <a:lnTo>
                      <a:pt x="2" y="118"/>
                    </a:lnTo>
                    <a:lnTo>
                      <a:pt x="18" y="109"/>
                    </a:lnTo>
                    <a:lnTo>
                      <a:pt x="114" y="26"/>
                    </a:lnTo>
                    <a:lnTo>
                      <a:pt x="114" y="0"/>
                    </a:lnTo>
                    <a:lnTo>
                      <a:pt x="146" y="0"/>
                    </a:lnTo>
                    <a:lnTo>
                      <a:pt x="159" y="15"/>
                    </a:lnTo>
                    <a:lnTo>
                      <a:pt x="44" y="127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45"/>
              <p:cNvSpPr/>
              <p:nvPr/>
            </p:nvSpPr>
            <p:spPr>
              <a:xfrm>
                <a:off x="4330440" y="4177080"/>
                <a:ext cx="100800" cy="9720"/>
              </a:xfrm>
              <a:custGeom>
                <a:avLst/>
                <a:gdLst/>
                <a:ahLst/>
                <a:rect l="l" t="t" r="r" b="b"/>
                <a:pathLst>
                  <a:path w="204" h="22">
                    <a:moveTo>
                      <a:pt x="96" y="20"/>
                    </a:moveTo>
                    <a:lnTo>
                      <a:pt x="0" y="0"/>
                    </a:lnTo>
                    <a:lnTo>
                      <a:pt x="204" y="7"/>
                    </a:lnTo>
                    <a:lnTo>
                      <a:pt x="143" y="22"/>
                    </a:lnTo>
                    <a:lnTo>
                      <a:pt x="96" y="2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46"/>
              <p:cNvSpPr/>
              <p:nvPr/>
            </p:nvSpPr>
            <p:spPr>
              <a:xfrm>
                <a:off x="5609520" y="3871080"/>
                <a:ext cx="285840" cy="335160"/>
              </a:xfrm>
              <a:custGeom>
                <a:avLst/>
                <a:gdLst/>
                <a:ahLst/>
                <a:rect l="l" t="t" r="r" b="b"/>
                <a:pathLst>
                  <a:path w="577" h="731">
                    <a:moveTo>
                      <a:pt x="0" y="731"/>
                    </a:moveTo>
                    <a:lnTo>
                      <a:pt x="36" y="697"/>
                    </a:lnTo>
                    <a:lnTo>
                      <a:pt x="81" y="670"/>
                    </a:lnTo>
                    <a:lnTo>
                      <a:pt x="247" y="553"/>
                    </a:lnTo>
                    <a:lnTo>
                      <a:pt x="276" y="520"/>
                    </a:lnTo>
                    <a:lnTo>
                      <a:pt x="302" y="487"/>
                    </a:lnTo>
                    <a:lnTo>
                      <a:pt x="328" y="452"/>
                    </a:lnTo>
                    <a:lnTo>
                      <a:pt x="350" y="419"/>
                    </a:lnTo>
                    <a:lnTo>
                      <a:pt x="370" y="384"/>
                    </a:lnTo>
                    <a:lnTo>
                      <a:pt x="391" y="349"/>
                    </a:lnTo>
                    <a:lnTo>
                      <a:pt x="409" y="314"/>
                    </a:lnTo>
                    <a:lnTo>
                      <a:pt x="428" y="279"/>
                    </a:lnTo>
                    <a:lnTo>
                      <a:pt x="444" y="244"/>
                    </a:lnTo>
                    <a:lnTo>
                      <a:pt x="461" y="207"/>
                    </a:lnTo>
                    <a:lnTo>
                      <a:pt x="479" y="172"/>
                    </a:lnTo>
                    <a:lnTo>
                      <a:pt x="496" y="137"/>
                    </a:lnTo>
                    <a:lnTo>
                      <a:pt x="514" y="103"/>
                    </a:lnTo>
                    <a:lnTo>
                      <a:pt x="535" y="68"/>
                    </a:lnTo>
                    <a:lnTo>
                      <a:pt x="555" y="33"/>
                    </a:lnTo>
                    <a:lnTo>
                      <a:pt x="577" y="0"/>
                    </a:lnTo>
                    <a:lnTo>
                      <a:pt x="557" y="63"/>
                    </a:lnTo>
                    <a:lnTo>
                      <a:pt x="533" y="125"/>
                    </a:lnTo>
                    <a:lnTo>
                      <a:pt x="505" y="190"/>
                    </a:lnTo>
                    <a:lnTo>
                      <a:pt x="474" y="253"/>
                    </a:lnTo>
                    <a:lnTo>
                      <a:pt x="439" y="317"/>
                    </a:lnTo>
                    <a:lnTo>
                      <a:pt x="400" y="384"/>
                    </a:lnTo>
                    <a:lnTo>
                      <a:pt x="356" y="450"/>
                    </a:lnTo>
                    <a:lnTo>
                      <a:pt x="304" y="517"/>
                    </a:lnTo>
                    <a:lnTo>
                      <a:pt x="280" y="546"/>
                    </a:lnTo>
                    <a:lnTo>
                      <a:pt x="254" y="574"/>
                    </a:lnTo>
                    <a:lnTo>
                      <a:pt x="225" y="598"/>
                    </a:lnTo>
                    <a:lnTo>
                      <a:pt x="193" y="622"/>
                    </a:lnTo>
                    <a:lnTo>
                      <a:pt x="162" y="644"/>
                    </a:lnTo>
                    <a:lnTo>
                      <a:pt x="131" y="664"/>
                    </a:lnTo>
                    <a:lnTo>
                      <a:pt x="99" y="684"/>
                    </a:lnTo>
                    <a:lnTo>
                      <a:pt x="70" y="703"/>
                    </a:lnTo>
                    <a:lnTo>
                      <a:pt x="0" y="731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47"/>
              <p:cNvSpPr/>
              <p:nvPr/>
            </p:nvSpPr>
            <p:spPr>
              <a:xfrm>
                <a:off x="4337640" y="3878280"/>
                <a:ext cx="797040" cy="295920"/>
              </a:xfrm>
              <a:custGeom>
                <a:avLst/>
                <a:gdLst/>
                <a:ahLst/>
                <a:rect l="l" t="t" r="r" b="b"/>
                <a:pathLst>
                  <a:path w="1609" h="645">
                    <a:moveTo>
                      <a:pt x="493" y="614"/>
                    </a:moveTo>
                    <a:lnTo>
                      <a:pt x="242" y="605"/>
                    </a:lnTo>
                    <a:lnTo>
                      <a:pt x="205" y="575"/>
                    </a:lnTo>
                    <a:lnTo>
                      <a:pt x="170" y="548"/>
                    </a:lnTo>
                    <a:lnTo>
                      <a:pt x="135" y="518"/>
                    </a:lnTo>
                    <a:lnTo>
                      <a:pt x="104" y="487"/>
                    </a:lnTo>
                    <a:lnTo>
                      <a:pt x="74" y="455"/>
                    </a:lnTo>
                    <a:lnTo>
                      <a:pt x="50" y="420"/>
                    </a:lnTo>
                    <a:lnTo>
                      <a:pt x="30" y="385"/>
                    </a:lnTo>
                    <a:lnTo>
                      <a:pt x="15" y="347"/>
                    </a:lnTo>
                    <a:lnTo>
                      <a:pt x="0" y="190"/>
                    </a:lnTo>
                    <a:lnTo>
                      <a:pt x="61" y="96"/>
                    </a:lnTo>
                    <a:lnTo>
                      <a:pt x="96" y="72"/>
                    </a:lnTo>
                    <a:lnTo>
                      <a:pt x="222" y="5"/>
                    </a:lnTo>
                    <a:lnTo>
                      <a:pt x="264" y="0"/>
                    </a:lnTo>
                    <a:lnTo>
                      <a:pt x="153" y="64"/>
                    </a:lnTo>
                    <a:lnTo>
                      <a:pt x="91" y="105"/>
                    </a:lnTo>
                    <a:lnTo>
                      <a:pt x="58" y="166"/>
                    </a:lnTo>
                    <a:lnTo>
                      <a:pt x="43" y="192"/>
                    </a:lnTo>
                    <a:lnTo>
                      <a:pt x="35" y="219"/>
                    </a:lnTo>
                    <a:lnTo>
                      <a:pt x="34" y="247"/>
                    </a:lnTo>
                    <a:lnTo>
                      <a:pt x="35" y="276"/>
                    </a:lnTo>
                    <a:lnTo>
                      <a:pt x="41" y="306"/>
                    </a:lnTo>
                    <a:lnTo>
                      <a:pt x="48" y="337"/>
                    </a:lnTo>
                    <a:lnTo>
                      <a:pt x="59" y="369"/>
                    </a:lnTo>
                    <a:lnTo>
                      <a:pt x="70" y="402"/>
                    </a:lnTo>
                    <a:lnTo>
                      <a:pt x="161" y="336"/>
                    </a:lnTo>
                    <a:lnTo>
                      <a:pt x="189" y="293"/>
                    </a:lnTo>
                    <a:lnTo>
                      <a:pt x="255" y="243"/>
                    </a:lnTo>
                    <a:lnTo>
                      <a:pt x="318" y="216"/>
                    </a:lnTo>
                    <a:lnTo>
                      <a:pt x="113" y="417"/>
                    </a:lnTo>
                    <a:lnTo>
                      <a:pt x="83" y="415"/>
                    </a:lnTo>
                    <a:lnTo>
                      <a:pt x="104" y="455"/>
                    </a:lnTo>
                    <a:lnTo>
                      <a:pt x="242" y="566"/>
                    </a:lnTo>
                    <a:lnTo>
                      <a:pt x="297" y="575"/>
                    </a:lnTo>
                    <a:lnTo>
                      <a:pt x="355" y="581"/>
                    </a:lnTo>
                    <a:lnTo>
                      <a:pt x="410" y="586"/>
                    </a:lnTo>
                    <a:lnTo>
                      <a:pt x="467" y="590"/>
                    </a:lnTo>
                    <a:lnTo>
                      <a:pt x="522" y="594"/>
                    </a:lnTo>
                    <a:lnTo>
                      <a:pt x="578" y="596"/>
                    </a:lnTo>
                    <a:lnTo>
                      <a:pt x="635" y="596"/>
                    </a:lnTo>
                    <a:lnTo>
                      <a:pt x="690" y="596"/>
                    </a:lnTo>
                    <a:lnTo>
                      <a:pt x="746" y="596"/>
                    </a:lnTo>
                    <a:lnTo>
                      <a:pt x="803" y="596"/>
                    </a:lnTo>
                    <a:lnTo>
                      <a:pt x="858" y="596"/>
                    </a:lnTo>
                    <a:lnTo>
                      <a:pt x="915" y="596"/>
                    </a:lnTo>
                    <a:lnTo>
                      <a:pt x="971" y="596"/>
                    </a:lnTo>
                    <a:lnTo>
                      <a:pt x="1026" y="598"/>
                    </a:lnTo>
                    <a:lnTo>
                      <a:pt x="1083" y="599"/>
                    </a:lnTo>
                    <a:lnTo>
                      <a:pt x="1139" y="601"/>
                    </a:lnTo>
                    <a:lnTo>
                      <a:pt x="1139" y="566"/>
                    </a:lnTo>
                    <a:lnTo>
                      <a:pt x="1174" y="566"/>
                    </a:lnTo>
                    <a:lnTo>
                      <a:pt x="1183" y="588"/>
                    </a:lnTo>
                    <a:lnTo>
                      <a:pt x="1419" y="577"/>
                    </a:lnTo>
                    <a:lnTo>
                      <a:pt x="1355" y="531"/>
                    </a:lnTo>
                    <a:lnTo>
                      <a:pt x="1338" y="505"/>
                    </a:lnTo>
                    <a:lnTo>
                      <a:pt x="1325" y="479"/>
                    </a:lnTo>
                    <a:lnTo>
                      <a:pt x="1314" y="454"/>
                    </a:lnTo>
                    <a:lnTo>
                      <a:pt x="1307" y="428"/>
                    </a:lnTo>
                    <a:lnTo>
                      <a:pt x="1303" y="402"/>
                    </a:lnTo>
                    <a:lnTo>
                      <a:pt x="1301" y="378"/>
                    </a:lnTo>
                    <a:lnTo>
                      <a:pt x="1303" y="352"/>
                    </a:lnTo>
                    <a:lnTo>
                      <a:pt x="1307" y="328"/>
                    </a:lnTo>
                    <a:lnTo>
                      <a:pt x="1362" y="216"/>
                    </a:lnTo>
                    <a:lnTo>
                      <a:pt x="1452" y="151"/>
                    </a:lnTo>
                    <a:lnTo>
                      <a:pt x="1541" y="136"/>
                    </a:lnTo>
                    <a:lnTo>
                      <a:pt x="1556" y="162"/>
                    </a:lnTo>
                    <a:lnTo>
                      <a:pt x="1513" y="169"/>
                    </a:lnTo>
                    <a:lnTo>
                      <a:pt x="1419" y="210"/>
                    </a:lnTo>
                    <a:lnTo>
                      <a:pt x="1355" y="308"/>
                    </a:lnTo>
                    <a:lnTo>
                      <a:pt x="1471" y="225"/>
                    </a:lnTo>
                    <a:lnTo>
                      <a:pt x="1508" y="201"/>
                    </a:lnTo>
                    <a:lnTo>
                      <a:pt x="1609" y="166"/>
                    </a:lnTo>
                    <a:lnTo>
                      <a:pt x="1594" y="205"/>
                    </a:lnTo>
                    <a:lnTo>
                      <a:pt x="1452" y="276"/>
                    </a:lnTo>
                    <a:lnTo>
                      <a:pt x="1425" y="310"/>
                    </a:lnTo>
                    <a:lnTo>
                      <a:pt x="1371" y="348"/>
                    </a:lnTo>
                    <a:lnTo>
                      <a:pt x="1345" y="315"/>
                    </a:lnTo>
                    <a:lnTo>
                      <a:pt x="1356" y="483"/>
                    </a:lnTo>
                    <a:lnTo>
                      <a:pt x="1415" y="546"/>
                    </a:lnTo>
                    <a:lnTo>
                      <a:pt x="1585" y="551"/>
                    </a:lnTo>
                    <a:lnTo>
                      <a:pt x="1563" y="574"/>
                    </a:lnTo>
                    <a:lnTo>
                      <a:pt x="1513" y="594"/>
                    </a:lnTo>
                    <a:lnTo>
                      <a:pt x="1281" y="614"/>
                    </a:lnTo>
                    <a:lnTo>
                      <a:pt x="1310" y="645"/>
                    </a:lnTo>
                    <a:lnTo>
                      <a:pt x="493" y="614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48"/>
              <p:cNvSpPr/>
              <p:nvPr/>
            </p:nvSpPr>
            <p:spPr>
              <a:xfrm>
                <a:off x="4604040" y="3661200"/>
                <a:ext cx="436680" cy="475200"/>
              </a:xfrm>
              <a:custGeom>
                <a:avLst/>
                <a:gdLst/>
                <a:ahLst/>
                <a:rect l="l" t="t" r="r" b="b"/>
                <a:pathLst>
                  <a:path w="882" h="1038">
                    <a:moveTo>
                      <a:pt x="556" y="1029"/>
                    </a:moveTo>
                    <a:lnTo>
                      <a:pt x="559" y="911"/>
                    </a:lnTo>
                    <a:lnTo>
                      <a:pt x="565" y="791"/>
                    </a:lnTo>
                    <a:lnTo>
                      <a:pt x="570" y="671"/>
                    </a:lnTo>
                    <a:lnTo>
                      <a:pt x="578" y="549"/>
                    </a:lnTo>
                    <a:lnTo>
                      <a:pt x="550" y="553"/>
                    </a:lnTo>
                    <a:lnTo>
                      <a:pt x="522" y="559"/>
                    </a:lnTo>
                    <a:lnTo>
                      <a:pt x="493" y="562"/>
                    </a:lnTo>
                    <a:lnTo>
                      <a:pt x="465" y="564"/>
                    </a:lnTo>
                    <a:lnTo>
                      <a:pt x="436" y="566"/>
                    </a:lnTo>
                    <a:lnTo>
                      <a:pt x="406" y="568"/>
                    </a:lnTo>
                    <a:lnTo>
                      <a:pt x="378" y="566"/>
                    </a:lnTo>
                    <a:lnTo>
                      <a:pt x="349" y="562"/>
                    </a:lnTo>
                    <a:lnTo>
                      <a:pt x="330" y="579"/>
                    </a:lnTo>
                    <a:lnTo>
                      <a:pt x="312" y="594"/>
                    </a:lnTo>
                    <a:lnTo>
                      <a:pt x="295" y="610"/>
                    </a:lnTo>
                    <a:lnTo>
                      <a:pt x="281" y="625"/>
                    </a:lnTo>
                    <a:lnTo>
                      <a:pt x="266" y="643"/>
                    </a:lnTo>
                    <a:lnTo>
                      <a:pt x="255" y="662"/>
                    </a:lnTo>
                    <a:lnTo>
                      <a:pt x="246" y="684"/>
                    </a:lnTo>
                    <a:lnTo>
                      <a:pt x="238" y="706"/>
                    </a:lnTo>
                    <a:lnTo>
                      <a:pt x="270" y="688"/>
                    </a:lnTo>
                    <a:lnTo>
                      <a:pt x="301" y="669"/>
                    </a:lnTo>
                    <a:lnTo>
                      <a:pt x="330" y="651"/>
                    </a:lnTo>
                    <a:lnTo>
                      <a:pt x="362" y="634"/>
                    </a:lnTo>
                    <a:lnTo>
                      <a:pt x="393" y="616"/>
                    </a:lnTo>
                    <a:lnTo>
                      <a:pt x="425" y="601"/>
                    </a:lnTo>
                    <a:lnTo>
                      <a:pt x="456" y="586"/>
                    </a:lnTo>
                    <a:lnTo>
                      <a:pt x="489" y="573"/>
                    </a:lnTo>
                    <a:lnTo>
                      <a:pt x="465" y="601"/>
                    </a:lnTo>
                    <a:lnTo>
                      <a:pt x="436" y="627"/>
                    </a:lnTo>
                    <a:lnTo>
                      <a:pt x="402" y="651"/>
                    </a:lnTo>
                    <a:lnTo>
                      <a:pt x="366" y="675"/>
                    </a:lnTo>
                    <a:lnTo>
                      <a:pt x="329" y="699"/>
                    </a:lnTo>
                    <a:lnTo>
                      <a:pt x="292" y="721"/>
                    </a:lnTo>
                    <a:lnTo>
                      <a:pt x="259" y="743"/>
                    </a:lnTo>
                    <a:lnTo>
                      <a:pt x="227" y="767"/>
                    </a:lnTo>
                    <a:lnTo>
                      <a:pt x="225" y="780"/>
                    </a:lnTo>
                    <a:lnTo>
                      <a:pt x="225" y="791"/>
                    </a:lnTo>
                    <a:lnTo>
                      <a:pt x="225" y="804"/>
                    </a:lnTo>
                    <a:lnTo>
                      <a:pt x="225" y="815"/>
                    </a:lnTo>
                    <a:lnTo>
                      <a:pt x="262" y="793"/>
                    </a:lnTo>
                    <a:lnTo>
                      <a:pt x="297" y="771"/>
                    </a:lnTo>
                    <a:lnTo>
                      <a:pt x="334" y="749"/>
                    </a:lnTo>
                    <a:lnTo>
                      <a:pt x="369" y="726"/>
                    </a:lnTo>
                    <a:lnTo>
                      <a:pt x="404" y="706"/>
                    </a:lnTo>
                    <a:lnTo>
                      <a:pt x="441" y="686"/>
                    </a:lnTo>
                    <a:lnTo>
                      <a:pt x="478" y="669"/>
                    </a:lnTo>
                    <a:lnTo>
                      <a:pt x="517" y="656"/>
                    </a:lnTo>
                    <a:lnTo>
                      <a:pt x="482" y="680"/>
                    </a:lnTo>
                    <a:lnTo>
                      <a:pt x="447" y="703"/>
                    </a:lnTo>
                    <a:lnTo>
                      <a:pt x="413" y="726"/>
                    </a:lnTo>
                    <a:lnTo>
                      <a:pt x="378" y="750"/>
                    </a:lnTo>
                    <a:lnTo>
                      <a:pt x="343" y="774"/>
                    </a:lnTo>
                    <a:lnTo>
                      <a:pt x="310" y="797"/>
                    </a:lnTo>
                    <a:lnTo>
                      <a:pt x="275" y="822"/>
                    </a:lnTo>
                    <a:lnTo>
                      <a:pt x="242" y="846"/>
                    </a:lnTo>
                    <a:lnTo>
                      <a:pt x="257" y="887"/>
                    </a:lnTo>
                    <a:lnTo>
                      <a:pt x="273" y="918"/>
                    </a:lnTo>
                    <a:lnTo>
                      <a:pt x="294" y="942"/>
                    </a:lnTo>
                    <a:lnTo>
                      <a:pt x="318" y="961"/>
                    </a:lnTo>
                    <a:lnTo>
                      <a:pt x="345" y="974"/>
                    </a:lnTo>
                    <a:lnTo>
                      <a:pt x="377" y="985"/>
                    </a:lnTo>
                    <a:lnTo>
                      <a:pt x="412" y="992"/>
                    </a:lnTo>
                    <a:lnTo>
                      <a:pt x="452" y="1000"/>
                    </a:lnTo>
                    <a:lnTo>
                      <a:pt x="449" y="1005"/>
                    </a:lnTo>
                    <a:lnTo>
                      <a:pt x="445" y="1011"/>
                    </a:lnTo>
                    <a:lnTo>
                      <a:pt x="441" y="1018"/>
                    </a:lnTo>
                    <a:lnTo>
                      <a:pt x="437" y="1024"/>
                    </a:lnTo>
                    <a:lnTo>
                      <a:pt x="366" y="1014"/>
                    </a:lnTo>
                    <a:lnTo>
                      <a:pt x="314" y="996"/>
                    </a:lnTo>
                    <a:lnTo>
                      <a:pt x="279" y="970"/>
                    </a:lnTo>
                    <a:lnTo>
                      <a:pt x="257" y="939"/>
                    </a:lnTo>
                    <a:lnTo>
                      <a:pt x="240" y="902"/>
                    </a:lnTo>
                    <a:lnTo>
                      <a:pt x="223" y="863"/>
                    </a:lnTo>
                    <a:lnTo>
                      <a:pt x="205" y="824"/>
                    </a:lnTo>
                    <a:lnTo>
                      <a:pt x="177" y="787"/>
                    </a:lnTo>
                    <a:lnTo>
                      <a:pt x="190" y="756"/>
                    </a:lnTo>
                    <a:lnTo>
                      <a:pt x="199" y="728"/>
                    </a:lnTo>
                    <a:lnTo>
                      <a:pt x="211" y="703"/>
                    </a:lnTo>
                    <a:lnTo>
                      <a:pt x="220" y="677"/>
                    </a:lnTo>
                    <a:lnTo>
                      <a:pt x="231" y="651"/>
                    </a:lnTo>
                    <a:lnTo>
                      <a:pt x="244" y="625"/>
                    </a:lnTo>
                    <a:lnTo>
                      <a:pt x="260" y="596"/>
                    </a:lnTo>
                    <a:lnTo>
                      <a:pt x="279" y="564"/>
                    </a:lnTo>
                    <a:lnTo>
                      <a:pt x="244" y="562"/>
                    </a:lnTo>
                    <a:lnTo>
                      <a:pt x="209" y="560"/>
                    </a:lnTo>
                    <a:lnTo>
                      <a:pt x="174" y="559"/>
                    </a:lnTo>
                    <a:lnTo>
                      <a:pt x="139" y="555"/>
                    </a:lnTo>
                    <a:lnTo>
                      <a:pt x="104" y="553"/>
                    </a:lnTo>
                    <a:lnTo>
                      <a:pt x="68" y="549"/>
                    </a:lnTo>
                    <a:lnTo>
                      <a:pt x="35" y="544"/>
                    </a:lnTo>
                    <a:lnTo>
                      <a:pt x="0" y="540"/>
                    </a:lnTo>
                    <a:lnTo>
                      <a:pt x="2" y="536"/>
                    </a:lnTo>
                    <a:lnTo>
                      <a:pt x="6" y="531"/>
                    </a:lnTo>
                    <a:lnTo>
                      <a:pt x="8" y="525"/>
                    </a:lnTo>
                    <a:lnTo>
                      <a:pt x="9" y="520"/>
                    </a:lnTo>
                    <a:lnTo>
                      <a:pt x="43" y="522"/>
                    </a:lnTo>
                    <a:lnTo>
                      <a:pt x="76" y="524"/>
                    </a:lnTo>
                    <a:lnTo>
                      <a:pt x="111" y="525"/>
                    </a:lnTo>
                    <a:lnTo>
                      <a:pt x="146" y="527"/>
                    </a:lnTo>
                    <a:lnTo>
                      <a:pt x="183" y="527"/>
                    </a:lnTo>
                    <a:lnTo>
                      <a:pt x="220" y="529"/>
                    </a:lnTo>
                    <a:lnTo>
                      <a:pt x="259" y="531"/>
                    </a:lnTo>
                    <a:lnTo>
                      <a:pt x="295" y="531"/>
                    </a:lnTo>
                    <a:lnTo>
                      <a:pt x="334" y="533"/>
                    </a:lnTo>
                    <a:lnTo>
                      <a:pt x="371" y="533"/>
                    </a:lnTo>
                    <a:lnTo>
                      <a:pt x="408" y="533"/>
                    </a:lnTo>
                    <a:lnTo>
                      <a:pt x="445" y="533"/>
                    </a:lnTo>
                    <a:lnTo>
                      <a:pt x="480" y="533"/>
                    </a:lnTo>
                    <a:lnTo>
                      <a:pt x="515" y="531"/>
                    </a:lnTo>
                    <a:lnTo>
                      <a:pt x="548" y="531"/>
                    </a:lnTo>
                    <a:lnTo>
                      <a:pt x="580" y="529"/>
                    </a:lnTo>
                    <a:lnTo>
                      <a:pt x="607" y="402"/>
                    </a:lnTo>
                    <a:lnTo>
                      <a:pt x="616" y="280"/>
                    </a:lnTo>
                    <a:lnTo>
                      <a:pt x="615" y="156"/>
                    </a:lnTo>
                    <a:lnTo>
                      <a:pt x="611" y="27"/>
                    </a:lnTo>
                    <a:lnTo>
                      <a:pt x="646" y="25"/>
                    </a:lnTo>
                    <a:lnTo>
                      <a:pt x="681" y="24"/>
                    </a:lnTo>
                    <a:lnTo>
                      <a:pt x="714" y="24"/>
                    </a:lnTo>
                    <a:lnTo>
                      <a:pt x="747" y="20"/>
                    </a:lnTo>
                    <a:lnTo>
                      <a:pt x="781" y="16"/>
                    </a:lnTo>
                    <a:lnTo>
                      <a:pt x="814" y="12"/>
                    </a:lnTo>
                    <a:lnTo>
                      <a:pt x="847" y="7"/>
                    </a:lnTo>
                    <a:lnTo>
                      <a:pt x="882" y="0"/>
                    </a:lnTo>
                    <a:lnTo>
                      <a:pt x="873" y="11"/>
                    </a:lnTo>
                    <a:lnTo>
                      <a:pt x="866" y="22"/>
                    </a:lnTo>
                    <a:lnTo>
                      <a:pt x="858" y="33"/>
                    </a:lnTo>
                    <a:lnTo>
                      <a:pt x="851" y="42"/>
                    </a:lnTo>
                    <a:lnTo>
                      <a:pt x="827" y="42"/>
                    </a:lnTo>
                    <a:lnTo>
                      <a:pt x="801" y="44"/>
                    </a:lnTo>
                    <a:lnTo>
                      <a:pt x="777" y="44"/>
                    </a:lnTo>
                    <a:lnTo>
                      <a:pt x="753" y="44"/>
                    </a:lnTo>
                    <a:lnTo>
                      <a:pt x="727" y="46"/>
                    </a:lnTo>
                    <a:lnTo>
                      <a:pt x="703" y="46"/>
                    </a:lnTo>
                    <a:lnTo>
                      <a:pt x="677" y="48"/>
                    </a:lnTo>
                    <a:lnTo>
                      <a:pt x="653" y="48"/>
                    </a:lnTo>
                    <a:lnTo>
                      <a:pt x="646" y="167"/>
                    </a:lnTo>
                    <a:lnTo>
                      <a:pt x="637" y="286"/>
                    </a:lnTo>
                    <a:lnTo>
                      <a:pt x="626" y="405"/>
                    </a:lnTo>
                    <a:lnTo>
                      <a:pt x="615" y="525"/>
                    </a:lnTo>
                    <a:lnTo>
                      <a:pt x="628" y="525"/>
                    </a:lnTo>
                    <a:lnTo>
                      <a:pt x="640" y="527"/>
                    </a:lnTo>
                    <a:lnTo>
                      <a:pt x="653" y="531"/>
                    </a:lnTo>
                    <a:lnTo>
                      <a:pt x="666" y="531"/>
                    </a:lnTo>
                    <a:lnTo>
                      <a:pt x="659" y="533"/>
                    </a:lnTo>
                    <a:lnTo>
                      <a:pt x="651" y="535"/>
                    </a:lnTo>
                    <a:lnTo>
                      <a:pt x="644" y="536"/>
                    </a:lnTo>
                    <a:lnTo>
                      <a:pt x="637" y="540"/>
                    </a:lnTo>
                    <a:lnTo>
                      <a:pt x="629" y="542"/>
                    </a:lnTo>
                    <a:lnTo>
                      <a:pt x="622" y="546"/>
                    </a:lnTo>
                    <a:lnTo>
                      <a:pt x="616" y="548"/>
                    </a:lnTo>
                    <a:lnTo>
                      <a:pt x="609" y="551"/>
                    </a:lnTo>
                    <a:lnTo>
                      <a:pt x="598" y="673"/>
                    </a:lnTo>
                    <a:lnTo>
                      <a:pt x="587" y="795"/>
                    </a:lnTo>
                    <a:lnTo>
                      <a:pt x="578" y="917"/>
                    </a:lnTo>
                    <a:lnTo>
                      <a:pt x="572" y="1038"/>
                    </a:lnTo>
                    <a:lnTo>
                      <a:pt x="568" y="1036"/>
                    </a:lnTo>
                    <a:lnTo>
                      <a:pt x="565" y="1033"/>
                    </a:lnTo>
                    <a:lnTo>
                      <a:pt x="559" y="1031"/>
                    </a:lnTo>
                    <a:lnTo>
                      <a:pt x="556" y="102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9"/>
              <p:cNvSpPr/>
              <p:nvPr/>
            </p:nvSpPr>
            <p:spPr>
              <a:xfrm>
                <a:off x="5132880" y="4139280"/>
                <a:ext cx="40320" cy="1800"/>
              </a:xfrm>
              <a:custGeom>
                <a:avLst/>
                <a:gdLst/>
                <a:ahLst/>
                <a:rect l="l" t="t" r="r" b="b"/>
                <a:pathLst>
                  <a:path w="83" h="4">
                    <a:moveTo>
                      <a:pt x="80" y="4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83" y="4"/>
                    </a:lnTo>
                    <a:lnTo>
                      <a:pt x="80" y="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0"/>
              <p:cNvSpPr/>
              <p:nvPr/>
            </p:nvSpPr>
            <p:spPr>
              <a:xfrm>
                <a:off x="5134680" y="4139280"/>
                <a:ext cx="38520" cy="180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4" y="2"/>
                    </a:moveTo>
                    <a:lnTo>
                      <a:pt x="0" y="0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51"/>
              <p:cNvSpPr/>
              <p:nvPr/>
            </p:nvSpPr>
            <p:spPr>
              <a:xfrm>
                <a:off x="5136840" y="4140360"/>
                <a:ext cx="36360" cy="720"/>
              </a:xfrm>
              <a:custGeom>
                <a:avLst/>
                <a:gdLst/>
                <a:ahLst/>
                <a:rect l="l" t="t" r="r" b="b"/>
                <a:pathLst>
                  <a:path w="73" h="2">
                    <a:moveTo>
                      <a:pt x="3" y="0"/>
                    </a:moveTo>
                    <a:lnTo>
                      <a:pt x="0" y="0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52"/>
              <p:cNvSpPr/>
              <p:nvPr/>
            </p:nvSpPr>
            <p:spPr>
              <a:xfrm>
                <a:off x="5136840" y="413748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9" y="0"/>
                    </a:moveTo>
                    <a:lnTo>
                      <a:pt x="0" y="6"/>
                    </a:lnTo>
                    <a:lnTo>
                      <a:pt x="73" y="8"/>
                    </a:lnTo>
                    <a:lnTo>
                      <a:pt x="73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53"/>
              <p:cNvSpPr/>
              <p:nvPr/>
            </p:nvSpPr>
            <p:spPr>
              <a:xfrm>
                <a:off x="5139000" y="413748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10" y="0"/>
                    </a:moveTo>
                    <a:lnTo>
                      <a:pt x="0" y="6"/>
                    </a:lnTo>
                    <a:lnTo>
                      <a:pt x="70" y="8"/>
                    </a:lnTo>
                    <a:lnTo>
                      <a:pt x="76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54"/>
              <p:cNvSpPr/>
              <p:nvPr/>
            </p:nvSpPr>
            <p:spPr>
              <a:xfrm>
                <a:off x="5141880" y="413748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9" y="2"/>
                    </a:moveTo>
                    <a:lnTo>
                      <a:pt x="0" y="0"/>
                    </a:lnTo>
                    <a:lnTo>
                      <a:pt x="64" y="4"/>
                    </a:lnTo>
                    <a:lnTo>
                      <a:pt x="70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5"/>
              <p:cNvSpPr/>
              <p:nvPr/>
            </p:nvSpPr>
            <p:spPr>
              <a:xfrm>
                <a:off x="5143680" y="413748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9" y="2"/>
                    </a:moveTo>
                    <a:lnTo>
                      <a:pt x="0" y="0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56"/>
              <p:cNvSpPr/>
              <p:nvPr/>
            </p:nvSpPr>
            <p:spPr>
              <a:xfrm>
                <a:off x="5146560" y="4138560"/>
                <a:ext cx="2952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4" y="0"/>
                    </a:moveTo>
                    <a:lnTo>
                      <a:pt x="0" y="0"/>
                    </a:lnTo>
                    <a:lnTo>
                      <a:pt x="61" y="2"/>
                    </a:lnTo>
                    <a:lnTo>
                      <a:pt x="61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7"/>
              <p:cNvSpPr/>
              <p:nvPr/>
            </p:nvSpPr>
            <p:spPr>
              <a:xfrm>
                <a:off x="5147640" y="4138560"/>
                <a:ext cx="3024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4" y="0"/>
                    </a:moveTo>
                    <a:lnTo>
                      <a:pt x="0" y="0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58"/>
              <p:cNvSpPr/>
              <p:nvPr/>
            </p:nvSpPr>
            <p:spPr>
              <a:xfrm>
                <a:off x="5147640" y="4138560"/>
                <a:ext cx="30240" cy="72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9" y="0"/>
                    </a:moveTo>
                    <a:lnTo>
                      <a:pt x="0" y="0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9"/>
              <p:cNvSpPr/>
              <p:nvPr/>
            </p:nvSpPr>
            <p:spPr>
              <a:xfrm>
                <a:off x="5149800" y="4136760"/>
                <a:ext cx="28440" cy="252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9" y="0"/>
                    </a:moveTo>
                    <a:lnTo>
                      <a:pt x="0" y="4"/>
                    </a:lnTo>
                    <a:lnTo>
                      <a:pt x="57" y="6"/>
                    </a:lnTo>
                    <a:lnTo>
                      <a:pt x="57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0"/>
              <p:cNvSpPr/>
              <p:nvPr/>
            </p:nvSpPr>
            <p:spPr>
              <a:xfrm>
                <a:off x="5152680" y="413676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7" y="0"/>
                    </a:moveTo>
                    <a:lnTo>
                      <a:pt x="0" y="4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1"/>
              <p:cNvSpPr/>
              <p:nvPr/>
            </p:nvSpPr>
            <p:spPr>
              <a:xfrm>
                <a:off x="5154840" y="4136760"/>
                <a:ext cx="23400" cy="720"/>
              </a:xfrm>
              <a:custGeom>
                <a:avLst/>
                <a:gdLst/>
                <a:ahLst/>
                <a:rect l="l" t="t" r="r" b="b"/>
                <a:pathLst>
                  <a:path w="48" h="2">
                    <a:moveTo>
                      <a:pt x="9" y="0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62"/>
              <p:cNvSpPr/>
              <p:nvPr/>
            </p:nvSpPr>
            <p:spPr>
              <a:xfrm>
                <a:off x="5156640" y="4136760"/>
                <a:ext cx="23760" cy="720"/>
              </a:xfrm>
              <a:custGeom>
                <a:avLst/>
                <a:gdLst/>
                <a:ahLst/>
                <a:rect l="l" t="t" r="r" b="b"/>
                <a:pathLst>
                  <a:path w="48" h="2">
                    <a:moveTo>
                      <a:pt x="10" y="0"/>
                    </a:moveTo>
                    <a:lnTo>
                      <a:pt x="0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63"/>
              <p:cNvSpPr/>
              <p:nvPr/>
            </p:nvSpPr>
            <p:spPr>
              <a:xfrm>
                <a:off x="5158440" y="413676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42" h="2">
                    <a:moveTo>
                      <a:pt x="4" y="0"/>
                    </a:moveTo>
                    <a:lnTo>
                      <a:pt x="0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64"/>
              <p:cNvSpPr/>
              <p:nvPr/>
            </p:nvSpPr>
            <p:spPr>
              <a:xfrm>
                <a:off x="5160600" y="413676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5" y="0"/>
                    </a:moveTo>
                    <a:lnTo>
                      <a:pt x="0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5"/>
              <p:cNvSpPr/>
              <p:nvPr/>
            </p:nvSpPr>
            <p:spPr>
              <a:xfrm>
                <a:off x="5160600" y="413676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9" y="0"/>
                    </a:moveTo>
                    <a:lnTo>
                      <a:pt x="0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6"/>
              <p:cNvSpPr/>
              <p:nvPr/>
            </p:nvSpPr>
            <p:spPr>
              <a:xfrm>
                <a:off x="5163480" y="4136760"/>
                <a:ext cx="18720" cy="720"/>
              </a:xfrm>
              <a:custGeom>
                <a:avLst/>
                <a:gdLst/>
                <a:ahLst/>
                <a:rect l="l" t="t" r="r" b="b"/>
                <a:pathLst>
                  <a:path w="39" h="2">
                    <a:moveTo>
                      <a:pt x="8" y="0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67"/>
              <p:cNvSpPr/>
              <p:nvPr/>
            </p:nvSpPr>
            <p:spPr>
              <a:xfrm>
                <a:off x="5165640" y="4134960"/>
                <a:ext cx="16560" cy="25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9" y="0"/>
                    </a:moveTo>
                    <a:lnTo>
                      <a:pt x="0" y="3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68"/>
              <p:cNvSpPr/>
              <p:nvPr/>
            </p:nvSpPr>
            <p:spPr>
              <a:xfrm>
                <a:off x="5167440" y="41349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9" y="0"/>
                    </a:moveTo>
                    <a:lnTo>
                      <a:pt x="0" y="3"/>
                    </a:lnTo>
                    <a:lnTo>
                      <a:pt x="31" y="5"/>
                    </a:lnTo>
                    <a:lnTo>
                      <a:pt x="3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69"/>
              <p:cNvSpPr/>
              <p:nvPr/>
            </p:nvSpPr>
            <p:spPr>
              <a:xfrm>
                <a:off x="5170320" y="413496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4" y="0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0"/>
              <p:cNvSpPr/>
              <p:nvPr/>
            </p:nvSpPr>
            <p:spPr>
              <a:xfrm>
                <a:off x="5171760" y="4134960"/>
                <a:ext cx="10440" cy="72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3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1"/>
              <p:cNvSpPr/>
              <p:nvPr/>
            </p:nvSpPr>
            <p:spPr>
              <a:xfrm>
                <a:off x="5171760" y="413496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9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2"/>
              <p:cNvSpPr/>
              <p:nvPr/>
            </p:nvSpPr>
            <p:spPr>
              <a:xfrm>
                <a:off x="5173560" y="413496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23" h="1">
                    <a:moveTo>
                      <a:pt x="1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3"/>
              <p:cNvSpPr/>
              <p:nvPr/>
            </p:nvSpPr>
            <p:spPr>
              <a:xfrm>
                <a:off x="5176440" y="4134960"/>
                <a:ext cx="756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7" y="0"/>
                    </a:moveTo>
                    <a:lnTo>
                      <a:pt x="0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4"/>
              <p:cNvSpPr/>
              <p:nvPr/>
            </p:nvSpPr>
            <p:spPr>
              <a:xfrm>
                <a:off x="5178240" y="413280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0" y="4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5"/>
              <p:cNvSpPr/>
              <p:nvPr/>
            </p:nvSpPr>
            <p:spPr>
              <a:xfrm>
                <a:off x="5180400" y="413280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6" y="0"/>
                    </a:moveTo>
                    <a:lnTo>
                      <a:pt x="0" y="4"/>
                    </a:lnTo>
                    <a:lnTo>
                      <a:pt x="10" y="5"/>
                    </a:lnTo>
                    <a:lnTo>
                      <a:pt x="1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6"/>
              <p:cNvSpPr/>
              <p:nvPr/>
            </p:nvSpPr>
            <p:spPr>
              <a:xfrm>
                <a:off x="5182560" y="413280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77"/>
              <p:cNvSpPr/>
              <p:nvPr/>
            </p:nvSpPr>
            <p:spPr>
              <a:xfrm>
                <a:off x="5182560" y="4132800"/>
                <a:ext cx="4680" cy="720"/>
              </a:xfrm>
              <a:prstGeom prst="rect">
                <a:avLst/>
              </a:pr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78"/>
              <p:cNvSpPr/>
              <p:nvPr/>
            </p:nvSpPr>
            <p:spPr>
              <a:xfrm>
                <a:off x="5184360" y="4132800"/>
                <a:ext cx="2880" cy="720"/>
              </a:xfrm>
              <a:prstGeom prst="rect">
                <a:avLst/>
              </a:pr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9"/>
              <p:cNvSpPr/>
              <p:nvPr/>
            </p:nvSpPr>
            <p:spPr>
              <a:xfrm>
                <a:off x="3951360" y="3659400"/>
                <a:ext cx="329400" cy="444960"/>
              </a:xfrm>
              <a:custGeom>
                <a:avLst/>
                <a:gdLst/>
                <a:ahLst/>
                <a:rect l="l" t="t" r="r" b="b"/>
                <a:pathLst>
                  <a:path w="666" h="972">
                    <a:moveTo>
                      <a:pt x="428" y="963"/>
                    </a:moveTo>
                    <a:lnTo>
                      <a:pt x="406" y="946"/>
                    </a:lnTo>
                    <a:lnTo>
                      <a:pt x="384" y="924"/>
                    </a:lnTo>
                    <a:lnTo>
                      <a:pt x="360" y="898"/>
                    </a:lnTo>
                    <a:lnTo>
                      <a:pt x="338" y="867"/>
                    </a:lnTo>
                    <a:lnTo>
                      <a:pt x="315" y="834"/>
                    </a:lnTo>
                    <a:lnTo>
                      <a:pt x="293" y="799"/>
                    </a:lnTo>
                    <a:lnTo>
                      <a:pt x="275" y="764"/>
                    </a:lnTo>
                    <a:lnTo>
                      <a:pt x="260" y="727"/>
                    </a:lnTo>
                    <a:lnTo>
                      <a:pt x="247" y="692"/>
                    </a:lnTo>
                    <a:lnTo>
                      <a:pt x="240" y="659"/>
                    </a:lnTo>
                    <a:lnTo>
                      <a:pt x="238" y="629"/>
                    </a:lnTo>
                    <a:lnTo>
                      <a:pt x="240" y="601"/>
                    </a:lnTo>
                    <a:lnTo>
                      <a:pt x="249" y="579"/>
                    </a:lnTo>
                    <a:lnTo>
                      <a:pt x="266" y="563"/>
                    </a:lnTo>
                    <a:lnTo>
                      <a:pt x="290" y="552"/>
                    </a:lnTo>
                    <a:lnTo>
                      <a:pt x="323" y="550"/>
                    </a:lnTo>
                    <a:lnTo>
                      <a:pt x="302" y="550"/>
                    </a:lnTo>
                    <a:lnTo>
                      <a:pt x="282" y="548"/>
                    </a:lnTo>
                    <a:lnTo>
                      <a:pt x="262" y="548"/>
                    </a:lnTo>
                    <a:lnTo>
                      <a:pt x="242" y="548"/>
                    </a:lnTo>
                    <a:lnTo>
                      <a:pt x="219" y="546"/>
                    </a:lnTo>
                    <a:lnTo>
                      <a:pt x="199" y="542"/>
                    </a:lnTo>
                    <a:lnTo>
                      <a:pt x="179" y="540"/>
                    </a:lnTo>
                    <a:lnTo>
                      <a:pt x="157" y="535"/>
                    </a:lnTo>
                    <a:lnTo>
                      <a:pt x="166" y="570"/>
                    </a:lnTo>
                    <a:lnTo>
                      <a:pt x="173" y="607"/>
                    </a:lnTo>
                    <a:lnTo>
                      <a:pt x="183" y="642"/>
                    </a:lnTo>
                    <a:lnTo>
                      <a:pt x="190" y="675"/>
                    </a:lnTo>
                    <a:lnTo>
                      <a:pt x="171" y="660"/>
                    </a:lnTo>
                    <a:lnTo>
                      <a:pt x="159" y="646"/>
                    </a:lnTo>
                    <a:lnTo>
                      <a:pt x="147" y="631"/>
                    </a:lnTo>
                    <a:lnTo>
                      <a:pt x="140" y="616"/>
                    </a:lnTo>
                    <a:lnTo>
                      <a:pt x="133" y="601"/>
                    </a:lnTo>
                    <a:lnTo>
                      <a:pt x="127" y="583"/>
                    </a:lnTo>
                    <a:lnTo>
                      <a:pt x="120" y="564"/>
                    </a:lnTo>
                    <a:lnTo>
                      <a:pt x="112" y="540"/>
                    </a:lnTo>
                    <a:lnTo>
                      <a:pt x="100" y="540"/>
                    </a:lnTo>
                    <a:lnTo>
                      <a:pt x="85" y="540"/>
                    </a:lnTo>
                    <a:lnTo>
                      <a:pt x="72" y="540"/>
                    </a:lnTo>
                    <a:lnTo>
                      <a:pt x="57" y="539"/>
                    </a:lnTo>
                    <a:lnTo>
                      <a:pt x="44" y="539"/>
                    </a:lnTo>
                    <a:lnTo>
                      <a:pt x="29" y="539"/>
                    </a:lnTo>
                    <a:lnTo>
                      <a:pt x="15" y="537"/>
                    </a:lnTo>
                    <a:lnTo>
                      <a:pt x="0" y="537"/>
                    </a:lnTo>
                    <a:lnTo>
                      <a:pt x="13" y="535"/>
                    </a:lnTo>
                    <a:lnTo>
                      <a:pt x="28" y="531"/>
                    </a:lnTo>
                    <a:lnTo>
                      <a:pt x="40" y="529"/>
                    </a:lnTo>
                    <a:lnTo>
                      <a:pt x="55" y="528"/>
                    </a:lnTo>
                    <a:lnTo>
                      <a:pt x="68" y="526"/>
                    </a:lnTo>
                    <a:lnTo>
                      <a:pt x="81" y="524"/>
                    </a:lnTo>
                    <a:lnTo>
                      <a:pt x="96" y="520"/>
                    </a:lnTo>
                    <a:lnTo>
                      <a:pt x="109" y="518"/>
                    </a:lnTo>
                    <a:lnTo>
                      <a:pt x="98" y="459"/>
                    </a:lnTo>
                    <a:lnTo>
                      <a:pt x="85" y="397"/>
                    </a:lnTo>
                    <a:lnTo>
                      <a:pt x="70" y="334"/>
                    </a:lnTo>
                    <a:lnTo>
                      <a:pt x="57" y="271"/>
                    </a:lnTo>
                    <a:lnTo>
                      <a:pt x="46" y="207"/>
                    </a:lnTo>
                    <a:lnTo>
                      <a:pt x="39" y="144"/>
                    </a:lnTo>
                    <a:lnTo>
                      <a:pt x="37" y="83"/>
                    </a:lnTo>
                    <a:lnTo>
                      <a:pt x="42" y="24"/>
                    </a:lnTo>
                    <a:lnTo>
                      <a:pt x="52" y="18"/>
                    </a:lnTo>
                    <a:lnTo>
                      <a:pt x="61" y="13"/>
                    </a:lnTo>
                    <a:lnTo>
                      <a:pt x="68" y="11"/>
                    </a:lnTo>
                    <a:lnTo>
                      <a:pt x="77" y="7"/>
                    </a:lnTo>
                    <a:lnTo>
                      <a:pt x="83" y="66"/>
                    </a:lnTo>
                    <a:lnTo>
                      <a:pt x="87" y="129"/>
                    </a:lnTo>
                    <a:lnTo>
                      <a:pt x="90" y="194"/>
                    </a:lnTo>
                    <a:lnTo>
                      <a:pt x="96" y="260"/>
                    </a:lnTo>
                    <a:lnTo>
                      <a:pt x="101" y="326"/>
                    </a:lnTo>
                    <a:lnTo>
                      <a:pt x="111" y="391"/>
                    </a:lnTo>
                    <a:lnTo>
                      <a:pt x="122" y="452"/>
                    </a:lnTo>
                    <a:lnTo>
                      <a:pt x="136" y="507"/>
                    </a:lnTo>
                    <a:lnTo>
                      <a:pt x="170" y="509"/>
                    </a:lnTo>
                    <a:lnTo>
                      <a:pt x="201" y="511"/>
                    </a:lnTo>
                    <a:lnTo>
                      <a:pt x="231" y="511"/>
                    </a:lnTo>
                    <a:lnTo>
                      <a:pt x="258" y="511"/>
                    </a:lnTo>
                    <a:lnTo>
                      <a:pt x="286" y="509"/>
                    </a:lnTo>
                    <a:lnTo>
                      <a:pt x="310" y="509"/>
                    </a:lnTo>
                    <a:lnTo>
                      <a:pt x="334" y="507"/>
                    </a:lnTo>
                    <a:lnTo>
                      <a:pt x="360" y="505"/>
                    </a:lnTo>
                    <a:lnTo>
                      <a:pt x="382" y="502"/>
                    </a:lnTo>
                    <a:lnTo>
                      <a:pt x="406" y="500"/>
                    </a:lnTo>
                    <a:lnTo>
                      <a:pt x="432" y="496"/>
                    </a:lnTo>
                    <a:lnTo>
                      <a:pt x="456" y="492"/>
                    </a:lnTo>
                    <a:lnTo>
                      <a:pt x="481" y="489"/>
                    </a:lnTo>
                    <a:lnTo>
                      <a:pt x="509" y="485"/>
                    </a:lnTo>
                    <a:lnTo>
                      <a:pt x="539" y="480"/>
                    </a:lnTo>
                    <a:lnTo>
                      <a:pt x="570" y="476"/>
                    </a:lnTo>
                    <a:lnTo>
                      <a:pt x="570" y="463"/>
                    </a:lnTo>
                    <a:lnTo>
                      <a:pt x="568" y="450"/>
                    </a:lnTo>
                    <a:lnTo>
                      <a:pt x="566" y="435"/>
                    </a:lnTo>
                    <a:lnTo>
                      <a:pt x="566" y="419"/>
                    </a:lnTo>
                    <a:lnTo>
                      <a:pt x="539" y="419"/>
                    </a:lnTo>
                    <a:lnTo>
                      <a:pt x="513" y="419"/>
                    </a:lnTo>
                    <a:lnTo>
                      <a:pt x="489" y="419"/>
                    </a:lnTo>
                    <a:lnTo>
                      <a:pt x="467" y="419"/>
                    </a:lnTo>
                    <a:lnTo>
                      <a:pt x="446" y="419"/>
                    </a:lnTo>
                    <a:lnTo>
                      <a:pt x="428" y="417"/>
                    </a:lnTo>
                    <a:lnTo>
                      <a:pt x="409" y="415"/>
                    </a:lnTo>
                    <a:lnTo>
                      <a:pt x="391" y="413"/>
                    </a:lnTo>
                    <a:lnTo>
                      <a:pt x="373" y="409"/>
                    </a:lnTo>
                    <a:lnTo>
                      <a:pt x="354" y="406"/>
                    </a:lnTo>
                    <a:lnTo>
                      <a:pt x="334" y="402"/>
                    </a:lnTo>
                    <a:lnTo>
                      <a:pt x="314" y="397"/>
                    </a:lnTo>
                    <a:lnTo>
                      <a:pt x="291" y="391"/>
                    </a:lnTo>
                    <a:lnTo>
                      <a:pt x="269" y="384"/>
                    </a:lnTo>
                    <a:lnTo>
                      <a:pt x="243" y="376"/>
                    </a:lnTo>
                    <a:lnTo>
                      <a:pt x="216" y="367"/>
                    </a:lnTo>
                    <a:lnTo>
                      <a:pt x="205" y="343"/>
                    </a:lnTo>
                    <a:lnTo>
                      <a:pt x="194" y="325"/>
                    </a:lnTo>
                    <a:lnTo>
                      <a:pt x="181" y="308"/>
                    </a:lnTo>
                    <a:lnTo>
                      <a:pt x="162" y="290"/>
                    </a:lnTo>
                    <a:lnTo>
                      <a:pt x="162" y="225"/>
                    </a:lnTo>
                    <a:lnTo>
                      <a:pt x="162" y="159"/>
                    </a:lnTo>
                    <a:lnTo>
                      <a:pt x="164" y="94"/>
                    </a:lnTo>
                    <a:lnTo>
                      <a:pt x="164" y="28"/>
                    </a:lnTo>
                    <a:lnTo>
                      <a:pt x="177" y="20"/>
                    </a:lnTo>
                    <a:lnTo>
                      <a:pt x="190" y="13"/>
                    </a:lnTo>
                    <a:lnTo>
                      <a:pt x="205" y="5"/>
                    </a:lnTo>
                    <a:lnTo>
                      <a:pt x="218" y="0"/>
                    </a:lnTo>
                    <a:lnTo>
                      <a:pt x="214" y="9"/>
                    </a:lnTo>
                    <a:lnTo>
                      <a:pt x="212" y="20"/>
                    </a:lnTo>
                    <a:lnTo>
                      <a:pt x="210" y="31"/>
                    </a:lnTo>
                    <a:lnTo>
                      <a:pt x="207" y="42"/>
                    </a:lnTo>
                    <a:lnTo>
                      <a:pt x="225" y="37"/>
                    </a:lnTo>
                    <a:lnTo>
                      <a:pt x="243" y="29"/>
                    </a:lnTo>
                    <a:lnTo>
                      <a:pt x="264" y="22"/>
                    </a:lnTo>
                    <a:lnTo>
                      <a:pt x="284" y="15"/>
                    </a:lnTo>
                    <a:lnTo>
                      <a:pt x="304" y="9"/>
                    </a:lnTo>
                    <a:lnTo>
                      <a:pt x="325" y="4"/>
                    </a:lnTo>
                    <a:lnTo>
                      <a:pt x="345" y="4"/>
                    </a:lnTo>
                    <a:lnTo>
                      <a:pt x="365" y="5"/>
                    </a:lnTo>
                    <a:lnTo>
                      <a:pt x="350" y="22"/>
                    </a:lnTo>
                    <a:lnTo>
                      <a:pt x="338" y="40"/>
                    </a:lnTo>
                    <a:lnTo>
                      <a:pt x="323" y="57"/>
                    </a:lnTo>
                    <a:lnTo>
                      <a:pt x="308" y="76"/>
                    </a:lnTo>
                    <a:lnTo>
                      <a:pt x="293" y="94"/>
                    </a:lnTo>
                    <a:lnTo>
                      <a:pt x="278" y="111"/>
                    </a:lnTo>
                    <a:lnTo>
                      <a:pt x="266" y="129"/>
                    </a:lnTo>
                    <a:lnTo>
                      <a:pt x="251" y="146"/>
                    </a:lnTo>
                    <a:lnTo>
                      <a:pt x="266" y="131"/>
                    </a:lnTo>
                    <a:lnTo>
                      <a:pt x="278" y="116"/>
                    </a:lnTo>
                    <a:lnTo>
                      <a:pt x="293" y="101"/>
                    </a:lnTo>
                    <a:lnTo>
                      <a:pt x="308" y="87"/>
                    </a:lnTo>
                    <a:lnTo>
                      <a:pt x="323" y="72"/>
                    </a:lnTo>
                    <a:lnTo>
                      <a:pt x="338" y="55"/>
                    </a:lnTo>
                    <a:lnTo>
                      <a:pt x="350" y="42"/>
                    </a:lnTo>
                    <a:lnTo>
                      <a:pt x="365" y="28"/>
                    </a:lnTo>
                    <a:lnTo>
                      <a:pt x="376" y="31"/>
                    </a:lnTo>
                    <a:lnTo>
                      <a:pt x="387" y="35"/>
                    </a:lnTo>
                    <a:lnTo>
                      <a:pt x="398" y="39"/>
                    </a:lnTo>
                    <a:lnTo>
                      <a:pt x="408" y="42"/>
                    </a:lnTo>
                    <a:lnTo>
                      <a:pt x="382" y="72"/>
                    </a:lnTo>
                    <a:lnTo>
                      <a:pt x="358" y="101"/>
                    </a:lnTo>
                    <a:lnTo>
                      <a:pt x="332" y="133"/>
                    </a:lnTo>
                    <a:lnTo>
                      <a:pt x="308" y="164"/>
                    </a:lnTo>
                    <a:lnTo>
                      <a:pt x="286" y="195"/>
                    </a:lnTo>
                    <a:lnTo>
                      <a:pt x="262" y="227"/>
                    </a:lnTo>
                    <a:lnTo>
                      <a:pt x="240" y="258"/>
                    </a:lnTo>
                    <a:lnTo>
                      <a:pt x="219" y="291"/>
                    </a:lnTo>
                    <a:lnTo>
                      <a:pt x="229" y="310"/>
                    </a:lnTo>
                    <a:lnTo>
                      <a:pt x="238" y="325"/>
                    </a:lnTo>
                    <a:lnTo>
                      <a:pt x="249" y="341"/>
                    </a:lnTo>
                    <a:lnTo>
                      <a:pt x="260" y="354"/>
                    </a:lnTo>
                    <a:lnTo>
                      <a:pt x="284" y="319"/>
                    </a:lnTo>
                    <a:lnTo>
                      <a:pt x="310" y="280"/>
                    </a:lnTo>
                    <a:lnTo>
                      <a:pt x="339" y="240"/>
                    </a:lnTo>
                    <a:lnTo>
                      <a:pt x="369" y="197"/>
                    </a:lnTo>
                    <a:lnTo>
                      <a:pt x="398" y="159"/>
                    </a:lnTo>
                    <a:lnTo>
                      <a:pt x="430" y="123"/>
                    </a:lnTo>
                    <a:lnTo>
                      <a:pt x="463" y="92"/>
                    </a:lnTo>
                    <a:lnTo>
                      <a:pt x="494" y="68"/>
                    </a:lnTo>
                    <a:lnTo>
                      <a:pt x="472" y="109"/>
                    </a:lnTo>
                    <a:lnTo>
                      <a:pt x="448" y="147"/>
                    </a:lnTo>
                    <a:lnTo>
                      <a:pt x="421" y="186"/>
                    </a:lnTo>
                    <a:lnTo>
                      <a:pt x="393" y="223"/>
                    </a:lnTo>
                    <a:lnTo>
                      <a:pt x="363" y="260"/>
                    </a:lnTo>
                    <a:lnTo>
                      <a:pt x="332" y="297"/>
                    </a:lnTo>
                    <a:lnTo>
                      <a:pt x="302" y="334"/>
                    </a:lnTo>
                    <a:lnTo>
                      <a:pt x="273" y="369"/>
                    </a:lnTo>
                    <a:lnTo>
                      <a:pt x="308" y="371"/>
                    </a:lnTo>
                    <a:lnTo>
                      <a:pt x="345" y="374"/>
                    </a:lnTo>
                    <a:lnTo>
                      <a:pt x="380" y="376"/>
                    </a:lnTo>
                    <a:lnTo>
                      <a:pt x="417" y="378"/>
                    </a:lnTo>
                    <a:lnTo>
                      <a:pt x="452" y="380"/>
                    </a:lnTo>
                    <a:lnTo>
                      <a:pt x="489" y="380"/>
                    </a:lnTo>
                    <a:lnTo>
                      <a:pt x="524" y="382"/>
                    </a:lnTo>
                    <a:lnTo>
                      <a:pt x="559" y="384"/>
                    </a:lnTo>
                    <a:lnTo>
                      <a:pt x="559" y="328"/>
                    </a:lnTo>
                    <a:lnTo>
                      <a:pt x="559" y="275"/>
                    </a:lnTo>
                    <a:lnTo>
                      <a:pt x="559" y="219"/>
                    </a:lnTo>
                    <a:lnTo>
                      <a:pt x="559" y="162"/>
                    </a:lnTo>
                    <a:lnTo>
                      <a:pt x="568" y="218"/>
                    </a:lnTo>
                    <a:lnTo>
                      <a:pt x="579" y="278"/>
                    </a:lnTo>
                    <a:lnTo>
                      <a:pt x="588" y="339"/>
                    </a:lnTo>
                    <a:lnTo>
                      <a:pt x="590" y="395"/>
                    </a:lnTo>
                    <a:lnTo>
                      <a:pt x="600" y="404"/>
                    </a:lnTo>
                    <a:lnTo>
                      <a:pt x="609" y="413"/>
                    </a:lnTo>
                    <a:lnTo>
                      <a:pt x="620" y="422"/>
                    </a:lnTo>
                    <a:lnTo>
                      <a:pt x="633" y="430"/>
                    </a:lnTo>
                    <a:lnTo>
                      <a:pt x="624" y="430"/>
                    </a:lnTo>
                    <a:lnTo>
                      <a:pt x="612" y="430"/>
                    </a:lnTo>
                    <a:lnTo>
                      <a:pt x="603" y="430"/>
                    </a:lnTo>
                    <a:lnTo>
                      <a:pt x="592" y="430"/>
                    </a:lnTo>
                    <a:lnTo>
                      <a:pt x="592" y="441"/>
                    </a:lnTo>
                    <a:lnTo>
                      <a:pt x="592" y="454"/>
                    </a:lnTo>
                    <a:lnTo>
                      <a:pt x="592" y="465"/>
                    </a:lnTo>
                    <a:lnTo>
                      <a:pt x="590" y="478"/>
                    </a:lnTo>
                    <a:lnTo>
                      <a:pt x="603" y="489"/>
                    </a:lnTo>
                    <a:lnTo>
                      <a:pt x="614" y="496"/>
                    </a:lnTo>
                    <a:lnTo>
                      <a:pt x="624" y="504"/>
                    </a:lnTo>
                    <a:lnTo>
                      <a:pt x="629" y="511"/>
                    </a:lnTo>
                    <a:lnTo>
                      <a:pt x="635" y="518"/>
                    </a:lnTo>
                    <a:lnTo>
                      <a:pt x="640" y="528"/>
                    </a:lnTo>
                    <a:lnTo>
                      <a:pt x="642" y="539"/>
                    </a:lnTo>
                    <a:lnTo>
                      <a:pt x="646" y="553"/>
                    </a:lnTo>
                    <a:lnTo>
                      <a:pt x="636" y="546"/>
                    </a:lnTo>
                    <a:lnTo>
                      <a:pt x="627" y="537"/>
                    </a:lnTo>
                    <a:lnTo>
                      <a:pt x="616" y="528"/>
                    </a:lnTo>
                    <a:lnTo>
                      <a:pt x="607" y="516"/>
                    </a:lnTo>
                    <a:lnTo>
                      <a:pt x="614" y="555"/>
                    </a:lnTo>
                    <a:lnTo>
                      <a:pt x="622" y="592"/>
                    </a:lnTo>
                    <a:lnTo>
                      <a:pt x="629" y="631"/>
                    </a:lnTo>
                    <a:lnTo>
                      <a:pt x="636" y="668"/>
                    </a:lnTo>
                    <a:lnTo>
                      <a:pt x="644" y="707"/>
                    </a:lnTo>
                    <a:lnTo>
                      <a:pt x="651" y="745"/>
                    </a:lnTo>
                    <a:lnTo>
                      <a:pt x="659" y="782"/>
                    </a:lnTo>
                    <a:lnTo>
                      <a:pt x="666" y="821"/>
                    </a:lnTo>
                    <a:lnTo>
                      <a:pt x="659" y="819"/>
                    </a:lnTo>
                    <a:lnTo>
                      <a:pt x="651" y="819"/>
                    </a:lnTo>
                    <a:lnTo>
                      <a:pt x="642" y="819"/>
                    </a:lnTo>
                    <a:lnTo>
                      <a:pt x="635" y="819"/>
                    </a:lnTo>
                    <a:lnTo>
                      <a:pt x="629" y="780"/>
                    </a:lnTo>
                    <a:lnTo>
                      <a:pt x="624" y="742"/>
                    </a:lnTo>
                    <a:lnTo>
                      <a:pt x="616" y="703"/>
                    </a:lnTo>
                    <a:lnTo>
                      <a:pt x="609" y="664"/>
                    </a:lnTo>
                    <a:lnTo>
                      <a:pt x="601" y="627"/>
                    </a:lnTo>
                    <a:lnTo>
                      <a:pt x="594" y="588"/>
                    </a:lnTo>
                    <a:lnTo>
                      <a:pt x="585" y="550"/>
                    </a:lnTo>
                    <a:lnTo>
                      <a:pt x="577" y="511"/>
                    </a:lnTo>
                    <a:lnTo>
                      <a:pt x="555" y="513"/>
                    </a:lnTo>
                    <a:lnTo>
                      <a:pt x="535" y="516"/>
                    </a:lnTo>
                    <a:lnTo>
                      <a:pt x="513" y="518"/>
                    </a:lnTo>
                    <a:lnTo>
                      <a:pt x="491" y="520"/>
                    </a:lnTo>
                    <a:lnTo>
                      <a:pt x="469" y="524"/>
                    </a:lnTo>
                    <a:lnTo>
                      <a:pt x="446" y="526"/>
                    </a:lnTo>
                    <a:lnTo>
                      <a:pt x="424" y="529"/>
                    </a:lnTo>
                    <a:lnTo>
                      <a:pt x="402" y="531"/>
                    </a:lnTo>
                    <a:lnTo>
                      <a:pt x="413" y="533"/>
                    </a:lnTo>
                    <a:lnTo>
                      <a:pt x="422" y="535"/>
                    </a:lnTo>
                    <a:lnTo>
                      <a:pt x="433" y="535"/>
                    </a:lnTo>
                    <a:lnTo>
                      <a:pt x="443" y="537"/>
                    </a:lnTo>
                    <a:lnTo>
                      <a:pt x="452" y="539"/>
                    </a:lnTo>
                    <a:lnTo>
                      <a:pt x="463" y="539"/>
                    </a:lnTo>
                    <a:lnTo>
                      <a:pt x="472" y="540"/>
                    </a:lnTo>
                    <a:lnTo>
                      <a:pt x="483" y="542"/>
                    </a:lnTo>
                    <a:lnTo>
                      <a:pt x="439" y="548"/>
                    </a:lnTo>
                    <a:lnTo>
                      <a:pt x="400" y="557"/>
                    </a:lnTo>
                    <a:lnTo>
                      <a:pt x="365" y="570"/>
                    </a:lnTo>
                    <a:lnTo>
                      <a:pt x="334" y="587"/>
                    </a:lnTo>
                    <a:lnTo>
                      <a:pt x="308" y="607"/>
                    </a:lnTo>
                    <a:lnTo>
                      <a:pt x="288" y="631"/>
                    </a:lnTo>
                    <a:lnTo>
                      <a:pt x="273" y="655"/>
                    </a:lnTo>
                    <a:lnTo>
                      <a:pt x="264" y="683"/>
                    </a:lnTo>
                    <a:lnTo>
                      <a:pt x="258" y="710"/>
                    </a:lnTo>
                    <a:lnTo>
                      <a:pt x="260" y="740"/>
                    </a:lnTo>
                    <a:lnTo>
                      <a:pt x="269" y="769"/>
                    </a:lnTo>
                    <a:lnTo>
                      <a:pt x="284" y="799"/>
                    </a:lnTo>
                    <a:lnTo>
                      <a:pt x="304" y="828"/>
                    </a:lnTo>
                    <a:lnTo>
                      <a:pt x="332" y="856"/>
                    </a:lnTo>
                    <a:lnTo>
                      <a:pt x="367" y="882"/>
                    </a:lnTo>
                    <a:lnTo>
                      <a:pt x="409" y="906"/>
                    </a:lnTo>
                    <a:lnTo>
                      <a:pt x="415" y="889"/>
                    </a:lnTo>
                    <a:lnTo>
                      <a:pt x="421" y="873"/>
                    </a:lnTo>
                    <a:lnTo>
                      <a:pt x="424" y="858"/>
                    </a:lnTo>
                    <a:lnTo>
                      <a:pt x="428" y="841"/>
                    </a:lnTo>
                    <a:lnTo>
                      <a:pt x="443" y="878"/>
                    </a:lnTo>
                    <a:lnTo>
                      <a:pt x="452" y="904"/>
                    </a:lnTo>
                    <a:lnTo>
                      <a:pt x="452" y="932"/>
                    </a:lnTo>
                    <a:lnTo>
                      <a:pt x="445" y="972"/>
                    </a:lnTo>
                    <a:lnTo>
                      <a:pt x="439" y="970"/>
                    </a:lnTo>
                    <a:lnTo>
                      <a:pt x="435" y="968"/>
                    </a:lnTo>
                    <a:lnTo>
                      <a:pt x="432" y="967"/>
                    </a:lnTo>
                    <a:lnTo>
                      <a:pt x="428" y="96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80"/>
              <p:cNvSpPr/>
              <p:nvPr/>
            </p:nvSpPr>
            <p:spPr>
              <a:xfrm>
                <a:off x="5206320" y="3935160"/>
                <a:ext cx="164160" cy="20592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147" y="451"/>
                    </a:moveTo>
                    <a:lnTo>
                      <a:pt x="118" y="441"/>
                    </a:lnTo>
                    <a:lnTo>
                      <a:pt x="100" y="428"/>
                    </a:lnTo>
                    <a:lnTo>
                      <a:pt x="83" y="415"/>
                    </a:lnTo>
                    <a:lnTo>
                      <a:pt x="68" y="399"/>
                    </a:lnTo>
                    <a:lnTo>
                      <a:pt x="53" y="382"/>
                    </a:lnTo>
                    <a:lnTo>
                      <a:pt x="40" y="366"/>
                    </a:lnTo>
                    <a:lnTo>
                      <a:pt x="29" y="349"/>
                    </a:lnTo>
                    <a:lnTo>
                      <a:pt x="20" y="331"/>
                    </a:lnTo>
                    <a:lnTo>
                      <a:pt x="13" y="314"/>
                    </a:lnTo>
                    <a:lnTo>
                      <a:pt x="0" y="231"/>
                    </a:lnTo>
                    <a:lnTo>
                      <a:pt x="2" y="170"/>
                    </a:lnTo>
                    <a:lnTo>
                      <a:pt x="18" y="146"/>
                    </a:lnTo>
                    <a:lnTo>
                      <a:pt x="37" y="124"/>
                    </a:lnTo>
                    <a:lnTo>
                      <a:pt x="55" y="106"/>
                    </a:lnTo>
                    <a:lnTo>
                      <a:pt x="76" y="87"/>
                    </a:lnTo>
                    <a:lnTo>
                      <a:pt x="96" y="70"/>
                    </a:lnTo>
                    <a:lnTo>
                      <a:pt x="118" y="56"/>
                    </a:lnTo>
                    <a:lnTo>
                      <a:pt x="138" y="45"/>
                    </a:lnTo>
                    <a:lnTo>
                      <a:pt x="160" y="34"/>
                    </a:lnTo>
                    <a:lnTo>
                      <a:pt x="183" y="24"/>
                    </a:lnTo>
                    <a:lnTo>
                      <a:pt x="205" y="17"/>
                    </a:lnTo>
                    <a:lnTo>
                      <a:pt x="227" y="11"/>
                    </a:lnTo>
                    <a:lnTo>
                      <a:pt x="247" y="6"/>
                    </a:lnTo>
                    <a:lnTo>
                      <a:pt x="269" y="2"/>
                    </a:lnTo>
                    <a:lnTo>
                      <a:pt x="290" y="0"/>
                    </a:lnTo>
                    <a:lnTo>
                      <a:pt x="310" y="0"/>
                    </a:lnTo>
                    <a:lnTo>
                      <a:pt x="330" y="0"/>
                    </a:lnTo>
                    <a:lnTo>
                      <a:pt x="317" y="24"/>
                    </a:lnTo>
                    <a:lnTo>
                      <a:pt x="147" y="106"/>
                    </a:lnTo>
                    <a:lnTo>
                      <a:pt x="40" y="179"/>
                    </a:lnTo>
                    <a:lnTo>
                      <a:pt x="24" y="240"/>
                    </a:lnTo>
                    <a:lnTo>
                      <a:pt x="35" y="303"/>
                    </a:lnTo>
                    <a:lnTo>
                      <a:pt x="118" y="423"/>
                    </a:lnTo>
                    <a:lnTo>
                      <a:pt x="208" y="439"/>
                    </a:lnTo>
                    <a:lnTo>
                      <a:pt x="147" y="45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1"/>
              <p:cNvSpPr/>
              <p:nvPr/>
            </p:nvSpPr>
            <p:spPr>
              <a:xfrm>
                <a:off x="4410000" y="3705120"/>
                <a:ext cx="217800" cy="399240"/>
              </a:xfrm>
              <a:custGeom>
                <a:avLst/>
                <a:gdLst/>
                <a:ahLst/>
                <a:rect l="l" t="t" r="r" b="b"/>
                <a:pathLst>
                  <a:path w="439" h="872">
                    <a:moveTo>
                      <a:pt x="400" y="872"/>
                    </a:moveTo>
                    <a:lnTo>
                      <a:pt x="397" y="841"/>
                    </a:lnTo>
                    <a:lnTo>
                      <a:pt x="378" y="754"/>
                    </a:lnTo>
                    <a:lnTo>
                      <a:pt x="351" y="599"/>
                    </a:lnTo>
                    <a:lnTo>
                      <a:pt x="31" y="835"/>
                    </a:lnTo>
                    <a:lnTo>
                      <a:pt x="0" y="826"/>
                    </a:lnTo>
                    <a:lnTo>
                      <a:pt x="225" y="647"/>
                    </a:lnTo>
                    <a:lnTo>
                      <a:pt x="266" y="618"/>
                    </a:lnTo>
                    <a:lnTo>
                      <a:pt x="306" y="597"/>
                    </a:lnTo>
                    <a:lnTo>
                      <a:pt x="351" y="566"/>
                    </a:lnTo>
                    <a:lnTo>
                      <a:pt x="336" y="167"/>
                    </a:lnTo>
                    <a:lnTo>
                      <a:pt x="354" y="46"/>
                    </a:lnTo>
                    <a:lnTo>
                      <a:pt x="386" y="0"/>
                    </a:lnTo>
                    <a:lnTo>
                      <a:pt x="417" y="14"/>
                    </a:lnTo>
                    <a:lnTo>
                      <a:pt x="367" y="273"/>
                    </a:lnTo>
                    <a:lnTo>
                      <a:pt x="389" y="479"/>
                    </a:lnTo>
                    <a:lnTo>
                      <a:pt x="439" y="669"/>
                    </a:lnTo>
                    <a:lnTo>
                      <a:pt x="378" y="562"/>
                    </a:lnTo>
                    <a:lnTo>
                      <a:pt x="367" y="479"/>
                    </a:lnTo>
                    <a:lnTo>
                      <a:pt x="400" y="87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82"/>
              <p:cNvSpPr/>
              <p:nvPr/>
            </p:nvSpPr>
            <p:spPr>
              <a:xfrm>
                <a:off x="5002200" y="402876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59" y="116"/>
                    </a:moveTo>
                    <a:lnTo>
                      <a:pt x="46" y="116"/>
                    </a:lnTo>
                    <a:lnTo>
                      <a:pt x="42" y="103"/>
                    </a:lnTo>
                    <a:lnTo>
                      <a:pt x="0" y="92"/>
                    </a:lnTo>
                    <a:lnTo>
                      <a:pt x="138" y="6"/>
                    </a:lnTo>
                    <a:lnTo>
                      <a:pt x="182" y="0"/>
                    </a:lnTo>
                    <a:lnTo>
                      <a:pt x="158" y="24"/>
                    </a:lnTo>
                    <a:lnTo>
                      <a:pt x="162" y="37"/>
                    </a:lnTo>
                    <a:lnTo>
                      <a:pt x="99" y="118"/>
                    </a:lnTo>
                    <a:lnTo>
                      <a:pt x="59" y="11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83"/>
              <p:cNvSpPr/>
              <p:nvPr/>
            </p:nvSpPr>
            <p:spPr>
              <a:xfrm>
                <a:off x="5331240" y="2792160"/>
                <a:ext cx="711720" cy="1305000"/>
              </a:xfrm>
              <a:custGeom>
                <a:avLst/>
                <a:gdLst/>
                <a:ahLst/>
                <a:rect l="l" t="t" r="r" b="b"/>
                <a:pathLst>
                  <a:path w="1437" h="2849">
                    <a:moveTo>
                      <a:pt x="347" y="22"/>
                    </a:moveTo>
                    <a:lnTo>
                      <a:pt x="360" y="0"/>
                    </a:lnTo>
                    <a:lnTo>
                      <a:pt x="385" y="124"/>
                    </a:lnTo>
                    <a:lnTo>
                      <a:pt x="408" y="249"/>
                    </a:lnTo>
                    <a:lnTo>
                      <a:pt x="426" y="374"/>
                    </a:lnTo>
                    <a:lnTo>
                      <a:pt x="439" y="502"/>
                    </a:lnTo>
                    <a:lnTo>
                      <a:pt x="448" y="631"/>
                    </a:lnTo>
                    <a:lnTo>
                      <a:pt x="454" y="758"/>
                    </a:lnTo>
                    <a:lnTo>
                      <a:pt x="456" y="886"/>
                    </a:lnTo>
                    <a:lnTo>
                      <a:pt x="452" y="1011"/>
                    </a:lnTo>
                    <a:lnTo>
                      <a:pt x="483" y="1015"/>
                    </a:lnTo>
                    <a:lnTo>
                      <a:pt x="516" y="1017"/>
                    </a:lnTo>
                    <a:lnTo>
                      <a:pt x="548" y="1020"/>
                    </a:lnTo>
                    <a:lnTo>
                      <a:pt x="579" y="1024"/>
                    </a:lnTo>
                    <a:lnTo>
                      <a:pt x="610" y="1028"/>
                    </a:lnTo>
                    <a:lnTo>
                      <a:pt x="644" y="1031"/>
                    </a:lnTo>
                    <a:lnTo>
                      <a:pt x="675" y="1033"/>
                    </a:lnTo>
                    <a:lnTo>
                      <a:pt x="706" y="1037"/>
                    </a:lnTo>
                    <a:lnTo>
                      <a:pt x="740" y="1040"/>
                    </a:lnTo>
                    <a:lnTo>
                      <a:pt x="771" y="1044"/>
                    </a:lnTo>
                    <a:lnTo>
                      <a:pt x="802" y="1048"/>
                    </a:lnTo>
                    <a:lnTo>
                      <a:pt x="836" y="1052"/>
                    </a:lnTo>
                    <a:lnTo>
                      <a:pt x="867" y="1055"/>
                    </a:lnTo>
                    <a:lnTo>
                      <a:pt x="900" y="1059"/>
                    </a:lnTo>
                    <a:lnTo>
                      <a:pt x="932" y="1063"/>
                    </a:lnTo>
                    <a:lnTo>
                      <a:pt x="965" y="1066"/>
                    </a:lnTo>
                    <a:lnTo>
                      <a:pt x="950" y="1068"/>
                    </a:lnTo>
                    <a:lnTo>
                      <a:pt x="935" y="1068"/>
                    </a:lnTo>
                    <a:lnTo>
                      <a:pt x="919" y="1070"/>
                    </a:lnTo>
                    <a:lnTo>
                      <a:pt x="904" y="1070"/>
                    </a:lnTo>
                    <a:lnTo>
                      <a:pt x="889" y="1072"/>
                    </a:lnTo>
                    <a:lnTo>
                      <a:pt x="874" y="1074"/>
                    </a:lnTo>
                    <a:lnTo>
                      <a:pt x="858" y="1074"/>
                    </a:lnTo>
                    <a:lnTo>
                      <a:pt x="841" y="1076"/>
                    </a:lnTo>
                    <a:lnTo>
                      <a:pt x="874" y="1083"/>
                    </a:lnTo>
                    <a:lnTo>
                      <a:pt x="915" y="1092"/>
                    </a:lnTo>
                    <a:lnTo>
                      <a:pt x="963" y="1105"/>
                    </a:lnTo>
                    <a:lnTo>
                      <a:pt x="1015" y="1120"/>
                    </a:lnTo>
                    <a:lnTo>
                      <a:pt x="1070" y="1138"/>
                    </a:lnTo>
                    <a:lnTo>
                      <a:pt x="1127" y="1160"/>
                    </a:lnTo>
                    <a:lnTo>
                      <a:pt x="1184" y="1184"/>
                    </a:lnTo>
                    <a:lnTo>
                      <a:pt x="1240" y="1210"/>
                    </a:lnTo>
                    <a:lnTo>
                      <a:pt x="1291" y="1238"/>
                    </a:lnTo>
                    <a:lnTo>
                      <a:pt x="1337" y="1269"/>
                    </a:lnTo>
                    <a:lnTo>
                      <a:pt x="1378" y="1301"/>
                    </a:lnTo>
                    <a:lnTo>
                      <a:pt x="1408" y="1336"/>
                    </a:lnTo>
                    <a:lnTo>
                      <a:pt x="1428" y="1373"/>
                    </a:lnTo>
                    <a:lnTo>
                      <a:pt x="1437" y="1411"/>
                    </a:lnTo>
                    <a:lnTo>
                      <a:pt x="1432" y="1452"/>
                    </a:lnTo>
                    <a:lnTo>
                      <a:pt x="1409" y="1494"/>
                    </a:lnTo>
                    <a:lnTo>
                      <a:pt x="1426" y="1539"/>
                    </a:lnTo>
                    <a:lnTo>
                      <a:pt x="1426" y="1596"/>
                    </a:lnTo>
                    <a:lnTo>
                      <a:pt x="1411" y="1662"/>
                    </a:lnTo>
                    <a:lnTo>
                      <a:pt x="1387" y="1729"/>
                    </a:lnTo>
                    <a:lnTo>
                      <a:pt x="1356" y="1791"/>
                    </a:lnTo>
                    <a:lnTo>
                      <a:pt x="1321" y="1845"/>
                    </a:lnTo>
                    <a:lnTo>
                      <a:pt x="1286" y="1884"/>
                    </a:lnTo>
                    <a:lnTo>
                      <a:pt x="1254" y="1902"/>
                    </a:lnTo>
                    <a:lnTo>
                      <a:pt x="1227" y="1976"/>
                    </a:lnTo>
                    <a:lnTo>
                      <a:pt x="1197" y="2050"/>
                    </a:lnTo>
                    <a:lnTo>
                      <a:pt x="1170" y="2124"/>
                    </a:lnTo>
                    <a:lnTo>
                      <a:pt x="1140" y="2195"/>
                    </a:lnTo>
                    <a:lnTo>
                      <a:pt x="1109" y="2267"/>
                    </a:lnTo>
                    <a:lnTo>
                      <a:pt x="1075" y="2336"/>
                    </a:lnTo>
                    <a:lnTo>
                      <a:pt x="1037" y="2404"/>
                    </a:lnTo>
                    <a:lnTo>
                      <a:pt x="996" y="2469"/>
                    </a:lnTo>
                    <a:lnTo>
                      <a:pt x="1002" y="2439"/>
                    </a:lnTo>
                    <a:lnTo>
                      <a:pt x="1026" y="2380"/>
                    </a:lnTo>
                    <a:lnTo>
                      <a:pt x="1059" y="2299"/>
                    </a:lnTo>
                    <a:lnTo>
                      <a:pt x="1101" y="2207"/>
                    </a:lnTo>
                    <a:lnTo>
                      <a:pt x="1146" y="2111"/>
                    </a:lnTo>
                    <a:lnTo>
                      <a:pt x="1186" y="2020"/>
                    </a:lnTo>
                    <a:lnTo>
                      <a:pt x="1221" y="1943"/>
                    </a:lnTo>
                    <a:lnTo>
                      <a:pt x="1241" y="1889"/>
                    </a:lnTo>
                    <a:lnTo>
                      <a:pt x="1212" y="1933"/>
                    </a:lnTo>
                    <a:lnTo>
                      <a:pt x="1181" y="1978"/>
                    </a:lnTo>
                    <a:lnTo>
                      <a:pt x="1147" y="2020"/>
                    </a:lnTo>
                    <a:lnTo>
                      <a:pt x="1112" y="2063"/>
                    </a:lnTo>
                    <a:lnTo>
                      <a:pt x="1077" y="2105"/>
                    </a:lnTo>
                    <a:lnTo>
                      <a:pt x="1040" y="2146"/>
                    </a:lnTo>
                    <a:lnTo>
                      <a:pt x="1003" y="2188"/>
                    </a:lnTo>
                    <a:lnTo>
                      <a:pt x="967" y="2229"/>
                    </a:lnTo>
                    <a:lnTo>
                      <a:pt x="930" y="2269"/>
                    </a:lnTo>
                    <a:lnTo>
                      <a:pt x="893" y="2310"/>
                    </a:lnTo>
                    <a:lnTo>
                      <a:pt x="856" y="2350"/>
                    </a:lnTo>
                    <a:lnTo>
                      <a:pt x="821" y="2391"/>
                    </a:lnTo>
                    <a:lnTo>
                      <a:pt x="786" y="2430"/>
                    </a:lnTo>
                    <a:lnTo>
                      <a:pt x="753" y="2470"/>
                    </a:lnTo>
                    <a:lnTo>
                      <a:pt x="721" y="2511"/>
                    </a:lnTo>
                    <a:lnTo>
                      <a:pt x="692" y="2552"/>
                    </a:lnTo>
                    <a:lnTo>
                      <a:pt x="695" y="2557"/>
                    </a:lnTo>
                    <a:lnTo>
                      <a:pt x="701" y="2563"/>
                    </a:lnTo>
                    <a:lnTo>
                      <a:pt x="706" y="2566"/>
                    </a:lnTo>
                    <a:lnTo>
                      <a:pt x="714" y="2570"/>
                    </a:lnTo>
                    <a:lnTo>
                      <a:pt x="694" y="2607"/>
                    </a:lnTo>
                    <a:lnTo>
                      <a:pt x="668" y="2646"/>
                    </a:lnTo>
                    <a:lnTo>
                      <a:pt x="638" y="2684"/>
                    </a:lnTo>
                    <a:lnTo>
                      <a:pt x="607" y="2723"/>
                    </a:lnTo>
                    <a:lnTo>
                      <a:pt x="570" y="2760"/>
                    </a:lnTo>
                    <a:lnTo>
                      <a:pt x="533" y="2793"/>
                    </a:lnTo>
                    <a:lnTo>
                      <a:pt x="494" y="2825"/>
                    </a:lnTo>
                    <a:lnTo>
                      <a:pt x="454" y="2849"/>
                    </a:lnTo>
                    <a:lnTo>
                      <a:pt x="450" y="2849"/>
                    </a:lnTo>
                    <a:lnTo>
                      <a:pt x="446" y="2845"/>
                    </a:lnTo>
                    <a:lnTo>
                      <a:pt x="441" y="2843"/>
                    </a:lnTo>
                    <a:lnTo>
                      <a:pt x="437" y="2843"/>
                    </a:lnTo>
                    <a:lnTo>
                      <a:pt x="467" y="2812"/>
                    </a:lnTo>
                    <a:lnTo>
                      <a:pt x="496" y="2778"/>
                    </a:lnTo>
                    <a:lnTo>
                      <a:pt x="524" y="2745"/>
                    </a:lnTo>
                    <a:lnTo>
                      <a:pt x="553" y="2712"/>
                    </a:lnTo>
                    <a:lnTo>
                      <a:pt x="583" y="2679"/>
                    </a:lnTo>
                    <a:lnTo>
                      <a:pt x="612" y="2644"/>
                    </a:lnTo>
                    <a:lnTo>
                      <a:pt x="640" y="2611"/>
                    </a:lnTo>
                    <a:lnTo>
                      <a:pt x="670" y="2577"/>
                    </a:lnTo>
                    <a:lnTo>
                      <a:pt x="662" y="2574"/>
                    </a:lnTo>
                    <a:lnTo>
                      <a:pt x="657" y="2568"/>
                    </a:lnTo>
                    <a:lnTo>
                      <a:pt x="653" y="2563"/>
                    </a:lnTo>
                    <a:lnTo>
                      <a:pt x="649" y="2555"/>
                    </a:lnTo>
                    <a:lnTo>
                      <a:pt x="636" y="2570"/>
                    </a:lnTo>
                    <a:lnTo>
                      <a:pt x="623" y="2585"/>
                    </a:lnTo>
                    <a:lnTo>
                      <a:pt x="612" y="2598"/>
                    </a:lnTo>
                    <a:lnTo>
                      <a:pt x="603" y="2614"/>
                    </a:lnTo>
                    <a:lnTo>
                      <a:pt x="603" y="2618"/>
                    </a:lnTo>
                    <a:lnTo>
                      <a:pt x="605" y="2620"/>
                    </a:lnTo>
                    <a:lnTo>
                      <a:pt x="607" y="2623"/>
                    </a:lnTo>
                    <a:lnTo>
                      <a:pt x="607" y="2627"/>
                    </a:lnTo>
                    <a:lnTo>
                      <a:pt x="601" y="2636"/>
                    </a:lnTo>
                    <a:lnTo>
                      <a:pt x="596" y="2646"/>
                    </a:lnTo>
                    <a:lnTo>
                      <a:pt x="590" y="2655"/>
                    </a:lnTo>
                    <a:lnTo>
                      <a:pt x="583" y="2662"/>
                    </a:lnTo>
                    <a:lnTo>
                      <a:pt x="574" y="2659"/>
                    </a:lnTo>
                    <a:lnTo>
                      <a:pt x="564" y="2655"/>
                    </a:lnTo>
                    <a:lnTo>
                      <a:pt x="553" y="2651"/>
                    </a:lnTo>
                    <a:lnTo>
                      <a:pt x="544" y="2647"/>
                    </a:lnTo>
                    <a:lnTo>
                      <a:pt x="563" y="2622"/>
                    </a:lnTo>
                    <a:lnTo>
                      <a:pt x="579" y="2596"/>
                    </a:lnTo>
                    <a:lnTo>
                      <a:pt x="598" y="2574"/>
                    </a:lnTo>
                    <a:lnTo>
                      <a:pt x="614" y="2552"/>
                    </a:lnTo>
                    <a:lnTo>
                      <a:pt x="633" y="2531"/>
                    </a:lnTo>
                    <a:lnTo>
                      <a:pt x="653" y="2511"/>
                    </a:lnTo>
                    <a:lnTo>
                      <a:pt x="675" y="2493"/>
                    </a:lnTo>
                    <a:lnTo>
                      <a:pt x="699" y="2474"/>
                    </a:lnTo>
                    <a:lnTo>
                      <a:pt x="716" y="2432"/>
                    </a:lnTo>
                    <a:lnTo>
                      <a:pt x="734" y="2365"/>
                    </a:lnTo>
                    <a:lnTo>
                      <a:pt x="753" y="2284"/>
                    </a:lnTo>
                    <a:lnTo>
                      <a:pt x="769" y="2195"/>
                    </a:lnTo>
                    <a:lnTo>
                      <a:pt x="780" y="2105"/>
                    </a:lnTo>
                    <a:lnTo>
                      <a:pt x="784" y="2020"/>
                    </a:lnTo>
                    <a:lnTo>
                      <a:pt x="777" y="1950"/>
                    </a:lnTo>
                    <a:lnTo>
                      <a:pt x="758" y="1900"/>
                    </a:lnTo>
                    <a:lnTo>
                      <a:pt x="765" y="1886"/>
                    </a:lnTo>
                    <a:lnTo>
                      <a:pt x="775" y="1871"/>
                    </a:lnTo>
                    <a:lnTo>
                      <a:pt x="782" y="1858"/>
                    </a:lnTo>
                    <a:lnTo>
                      <a:pt x="789" y="1845"/>
                    </a:lnTo>
                    <a:lnTo>
                      <a:pt x="771" y="1845"/>
                    </a:lnTo>
                    <a:lnTo>
                      <a:pt x="751" y="1847"/>
                    </a:lnTo>
                    <a:lnTo>
                      <a:pt x="730" y="1849"/>
                    </a:lnTo>
                    <a:lnTo>
                      <a:pt x="712" y="1850"/>
                    </a:lnTo>
                    <a:lnTo>
                      <a:pt x="690" y="1854"/>
                    </a:lnTo>
                    <a:lnTo>
                      <a:pt x="670" y="1858"/>
                    </a:lnTo>
                    <a:lnTo>
                      <a:pt x="649" y="1862"/>
                    </a:lnTo>
                    <a:lnTo>
                      <a:pt x="629" y="1865"/>
                    </a:lnTo>
                    <a:lnTo>
                      <a:pt x="609" y="1869"/>
                    </a:lnTo>
                    <a:lnTo>
                      <a:pt x="588" y="1873"/>
                    </a:lnTo>
                    <a:lnTo>
                      <a:pt x="568" y="1874"/>
                    </a:lnTo>
                    <a:lnTo>
                      <a:pt x="548" y="1876"/>
                    </a:lnTo>
                    <a:lnTo>
                      <a:pt x="529" y="1878"/>
                    </a:lnTo>
                    <a:lnTo>
                      <a:pt x="509" y="1876"/>
                    </a:lnTo>
                    <a:lnTo>
                      <a:pt x="492" y="1876"/>
                    </a:lnTo>
                    <a:lnTo>
                      <a:pt x="474" y="1873"/>
                    </a:lnTo>
                    <a:lnTo>
                      <a:pt x="485" y="1865"/>
                    </a:lnTo>
                    <a:lnTo>
                      <a:pt x="498" y="1860"/>
                    </a:lnTo>
                    <a:lnTo>
                      <a:pt x="511" y="1852"/>
                    </a:lnTo>
                    <a:lnTo>
                      <a:pt x="524" y="1843"/>
                    </a:lnTo>
                    <a:lnTo>
                      <a:pt x="505" y="1847"/>
                    </a:lnTo>
                    <a:lnTo>
                      <a:pt x="489" y="1849"/>
                    </a:lnTo>
                    <a:lnTo>
                      <a:pt x="470" y="1852"/>
                    </a:lnTo>
                    <a:lnTo>
                      <a:pt x="452" y="1854"/>
                    </a:lnTo>
                    <a:lnTo>
                      <a:pt x="433" y="1858"/>
                    </a:lnTo>
                    <a:lnTo>
                      <a:pt x="417" y="1862"/>
                    </a:lnTo>
                    <a:lnTo>
                      <a:pt x="398" y="1865"/>
                    </a:lnTo>
                    <a:lnTo>
                      <a:pt x="380" y="1869"/>
                    </a:lnTo>
                    <a:lnTo>
                      <a:pt x="389" y="1871"/>
                    </a:lnTo>
                    <a:lnTo>
                      <a:pt x="396" y="1873"/>
                    </a:lnTo>
                    <a:lnTo>
                      <a:pt x="402" y="1876"/>
                    </a:lnTo>
                    <a:lnTo>
                      <a:pt x="409" y="1878"/>
                    </a:lnTo>
                    <a:lnTo>
                      <a:pt x="404" y="1930"/>
                    </a:lnTo>
                    <a:lnTo>
                      <a:pt x="402" y="1983"/>
                    </a:lnTo>
                    <a:lnTo>
                      <a:pt x="398" y="2035"/>
                    </a:lnTo>
                    <a:lnTo>
                      <a:pt x="393" y="2087"/>
                    </a:lnTo>
                    <a:lnTo>
                      <a:pt x="404" y="2066"/>
                    </a:lnTo>
                    <a:lnTo>
                      <a:pt x="422" y="2046"/>
                    </a:lnTo>
                    <a:lnTo>
                      <a:pt x="443" y="2029"/>
                    </a:lnTo>
                    <a:lnTo>
                      <a:pt x="465" y="2013"/>
                    </a:lnTo>
                    <a:lnTo>
                      <a:pt x="491" y="2000"/>
                    </a:lnTo>
                    <a:lnTo>
                      <a:pt x="515" y="1989"/>
                    </a:lnTo>
                    <a:lnTo>
                      <a:pt x="540" y="1983"/>
                    </a:lnTo>
                    <a:lnTo>
                      <a:pt x="563" y="1980"/>
                    </a:lnTo>
                    <a:lnTo>
                      <a:pt x="548" y="2004"/>
                    </a:lnTo>
                    <a:lnTo>
                      <a:pt x="531" y="2026"/>
                    </a:lnTo>
                    <a:lnTo>
                      <a:pt x="511" y="2046"/>
                    </a:lnTo>
                    <a:lnTo>
                      <a:pt x="491" y="2066"/>
                    </a:lnTo>
                    <a:lnTo>
                      <a:pt x="468" y="2087"/>
                    </a:lnTo>
                    <a:lnTo>
                      <a:pt x="446" y="2109"/>
                    </a:lnTo>
                    <a:lnTo>
                      <a:pt x="426" y="2131"/>
                    </a:lnTo>
                    <a:lnTo>
                      <a:pt x="408" y="2157"/>
                    </a:lnTo>
                    <a:lnTo>
                      <a:pt x="422" y="2151"/>
                    </a:lnTo>
                    <a:lnTo>
                      <a:pt x="437" y="2146"/>
                    </a:lnTo>
                    <a:lnTo>
                      <a:pt x="454" y="2138"/>
                    </a:lnTo>
                    <a:lnTo>
                      <a:pt x="468" y="2131"/>
                    </a:lnTo>
                    <a:lnTo>
                      <a:pt x="485" y="2125"/>
                    </a:lnTo>
                    <a:lnTo>
                      <a:pt x="502" y="2118"/>
                    </a:lnTo>
                    <a:lnTo>
                      <a:pt x="518" y="2111"/>
                    </a:lnTo>
                    <a:lnTo>
                      <a:pt x="535" y="2105"/>
                    </a:lnTo>
                    <a:lnTo>
                      <a:pt x="524" y="2116"/>
                    </a:lnTo>
                    <a:lnTo>
                      <a:pt x="509" y="2129"/>
                    </a:lnTo>
                    <a:lnTo>
                      <a:pt x="492" y="2144"/>
                    </a:lnTo>
                    <a:lnTo>
                      <a:pt x="474" y="2159"/>
                    </a:lnTo>
                    <a:lnTo>
                      <a:pt x="456" y="2173"/>
                    </a:lnTo>
                    <a:lnTo>
                      <a:pt x="439" y="2186"/>
                    </a:lnTo>
                    <a:lnTo>
                      <a:pt x="422" y="2194"/>
                    </a:lnTo>
                    <a:lnTo>
                      <a:pt x="409" y="2197"/>
                    </a:lnTo>
                    <a:lnTo>
                      <a:pt x="409" y="2210"/>
                    </a:lnTo>
                    <a:lnTo>
                      <a:pt x="408" y="2221"/>
                    </a:lnTo>
                    <a:lnTo>
                      <a:pt x="404" y="2234"/>
                    </a:lnTo>
                    <a:lnTo>
                      <a:pt x="404" y="2245"/>
                    </a:lnTo>
                    <a:lnTo>
                      <a:pt x="420" y="2260"/>
                    </a:lnTo>
                    <a:lnTo>
                      <a:pt x="435" y="2273"/>
                    </a:lnTo>
                    <a:lnTo>
                      <a:pt x="452" y="2282"/>
                    </a:lnTo>
                    <a:lnTo>
                      <a:pt x="470" y="2290"/>
                    </a:lnTo>
                    <a:lnTo>
                      <a:pt x="489" y="2295"/>
                    </a:lnTo>
                    <a:lnTo>
                      <a:pt x="507" y="2297"/>
                    </a:lnTo>
                    <a:lnTo>
                      <a:pt x="527" y="2297"/>
                    </a:lnTo>
                    <a:lnTo>
                      <a:pt x="550" y="2293"/>
                    </a:lnTo>
                    <a:lnTo>
                      <a:pt x="539" y="2319"/>
                    </a:lnTo>
                    <a:lnTo>
                      <a:pt x="518" y="2328"/>
                    </a:lnTo>
                    <a:lnTo>
                      <a:pt x="492" y="2326"/>
                    </a:lnTo>
                    <a:lnTo>
                      <a:pt x="465" y="2315"/>
                    </a:lnTo>
                    <a:lnTo>
                      <a:pt x="435" y="2299"/>
                    </a:lnTo>
                    <a:lnTo>
                      <a:pt x="409" y="2282"/>
                    </a:lnTo>
                    <a:lnTo>
                      <a:pt x="387" y="2264"/>
                    </a:lnTo>
                    <a:lnTo>
                      <a:pt x="372" y="2253"/>
                    </a:lnTo>
                    <a:lnTo>
                      <a:pt x="361" y="2288"/>
                    </a:lnTo>
                    <a:lnTo>
                      <a:pt x="350" y="2321"/>
                    </a:lnTo>
                    <a:lnTo>
                      <a:pt x="339" y="2354"/>
                    </a:lnTo>
                    <a:lnTo>
                      <a:pt x="328" y="2385"/>
                    </a:lnTo>
                    <a:lnTo>
                      <a:pt x="356" y="2382"/>
                    </a:lnTo>
                    <a:lnTo>
                      <a:pt x="382" y="2376"/>
                    </a:lnTo>
                    <a:lnTo>
                      <a:pt x="409" y="2373"/>
                    </a:lnTo>
                    <a:lnTo>
                      <a:pt x="435" y="2367"/>
                    </a:lnTo>
                    <a:lnTo>
                      <a:pt x="463" y="2362"/>
                    </a:lnTo>
                    <a:lnTo>
                      <a:pt x="489" y="2356"/>
                    </a:lnTo>
                    <a:lnTo>
                      <a:pt x="516" y="2352"/>
                    </a:lnTo>
                    <a:lnTo>
                      <a:pt x="544" y="2347"/>
                    </a:lnTo>
                    <a:lnTo>
                      <a:pt x="516" y="2354"/>
                    </a:lnTo>
                    <a:lnTo>
                      <a:pt x="489" y="2363"/>
                    </a:lnTo>
                    <a:lnTo>
                      <a:pt x="461" y="2371"/>
                    </a:lnTo>
                    <a:lnTo>
                      <a:pt x="433" y="2378"/>
                    </a:lnTo>
                    <a:lnTo>
                      <a:pt x="406" y="2385"/>
                    </a:lnTo>
                    <a:lnTo>
                      <a:pt x="378" y="2395"/>
                    </a:lnTo>
                    <a:lnTo>
                      <a:pt x="350" y="2402"/>
                    </a:lnTo>
                    <a:lnTo>
                      <a:pt x="323" y="2411"/>
                    </a:lnTo>
                    <a:lnTo>
                      <a:pt x="304" y="2456"/>
                    </a:lnTo>
                    <a:lnTo>
                      <a:pt x="288" y="2500"/>
                    </a:lnTo>
                    <a:lnTo>
                      <a:pt x="269" y="2544"/>
                    </a:lnTo>
                    <a:lnTo>
                      <a:pt x="251" y="2587"/>
                    </a:lnTo>
                    <a:lnTo>
                      <a:pt x="232" y="2631"/>
                    </a:lnTo>
                    <a:lnTo>
                      <a:pt x="216" y="2675"/>
                    </a:lnTo>
                    <a:lnTo>
                      <a:pt x="197" y="2719"/>
                    </a:lnTo>
                    <a:lnTo>
                      <a:pt x="179" y="2764"/>
                    </a:lnTo>
                    <a:lnTo>
                      <a:pt x="170" y="2760"/>
                    </a:lnTo>
                    <a:lnTo>
                      <a:pt x="162" y="2758"/>
                    </a:lnTo>
                    <a:lnTo>
                      <a:pt x="153" y="2756"/>
                    </a:lnTo>
                    <a:lnTo>
                      <a:pt x="144" y="2753"/>
                    </a:lnTo>
                    <a:lnTo>
                      <a:pt x="162" y="2712"/>
                    </a:lnTo>
                    <a:lnTo>
                      <a:pt x="181" y="2671"/>
                    </a:lnTo>
                    <a:lnTo>
                      <a:pt x="197" y="2633"/>
                    </a:lnTo>
                    <a:lnTo>
                      <a:pt x="216" y="2592"/>
                    </a:lnTo>
                    <a:lnTo>
                      <a:pt x="234" y="2552"/>
                    </a:lnTo>
                    <a:lnTo>
                      <a:pt x="253" y="2511"/>
                    </a:lnTo>
                    <a:lnTo>
                      <a:pt x="269" y="2469"/>
                    </a:lnTo>
                    <a:lnTo>
                      <a:pt x="288" y="2428"/>
                    </a:lnTo>
                    <a:lnTo>
                      <a:pt x="253" y="2428"/>
                    </a:lnTo>
                    <a:lnTo>
                      <a:pt x="216" y="2428"/>
                    </a:lnTo>
                    <a:lnTo>
                      <a:pt x="181" y="2426"/>
                    </a:lnTo>
                    <a:lnTo>
                      <a:pt x="144" y="2426"/>
                    </a:lnTo>
                    <a:lnTo>
                      <a:pt x="109" y="2426"/>
                    </a:lnTo>
                    <a:lnTo>
                      <a:pt x="72" y="2424"/>
                    </a:lnTo>
                    <a:lnTo>
                      <a:pt x="37" y="2424"/>
                    </a:lnTo>
                    <a:lnTo>
                      <a:pt x="0" y="2424"/>
                    </a:lnTo>
                    <a:lnTo>
                      <a:pt x="37" y="2421"/>
                    </a:lnTo>
                    <a:lnTo>
                      <a:pt x="72" y="2417"/>
                    </a:lnTo>
                    <a:lnTo>
                      <a:pt x="109" y="2413"/>
                    </a:lnTo>
                    <a:lnTo>
                      <a:pt x="144" y="2409"/>
                    </a:lnTo>
                    <a:lnTo>
                      <a:pt x="181" y="2408"/>
                    </a:lnTo>
                    <a:lnTo>
                      <a:pt x="216" y="2404"/>
                    </a:lnTo>
                    <a:lnTo>
                      <a:pt x="253" y="2400"/>
                    </a:lnTo>
                    <a:lnTo>
                      <a:pt x="289" y="2397"/>
                    </a:lnTo>
                    <a:lnTo>
                      <a:pt x="313" y="2336"/>
                    </a:lnTo>
                    <a:lnTo>
                      <a:pt x="330" y="2271"/>
                    </a:lnTo>
                    <a:lnTo>
                      <a:pt x="345" y="2207"/>
                    </a:lnTo>
                    <a:lnTo>
                      <a:pt x="354" y="2142"/>
                    </a:lnTo>
                    <a:lnTo>
                      <a:pt x="360" y="2076"/>
                    </a:lnTo>
                    <a:lnTo>
                      <a:pt x="365" y="2009"/>
                    </a:lnTo>
                    <a:lnTo>
                      <a:pt x="369" y="1943"/>
                    </a:lnTo>
                    <a:lnTo>
                      <a:pt x="371" y="1876"/>
                    </a:lnTo>
                    <a:lnTo>
                      <a:pt x="347" y="1882"/>
                    </a:lnTo>
                    <a:lnTo>
                      <a:pt x="323" y="1889"/>
                    </a:lnTo>
                    <a:lnTo>
                      <a:pt x="297" y="1895"/>
                    </a:lnTo>
                    <a:lnTo>
                      <a:pt x="271" y="1902"/>
                    </a:lnTo>
                    <a:lnTo>
                      <a:pt x="245" y="1909"/>
                    </a:lnTo>
                    <a:lnTo>
                      <a:pt x="219" y="1915"/>
                    </a:lnTo>
                    <a:lnTo>
                      <a:pt x="194" y="1921"/>
                    </a:lnTo>
                    <a:lnTo>
                      <a:pt x="168" y="1926"/>
                    </a:lnTo>
                    <a:lnTo>
                      <a:pt x="170" y="1930"/>
                    </a:lnTo>
                    <a:lnTo>
                      <a:pt x="173" y="1932"/>
                    </a:lnTo>
                    <a:lnTo>
                      <a:pt x="175" y="1935"/>
                    </a:lnTo>
                    <a:lnTo>
                      <a:pt x="175" y="1939"/>
                    </a:lnTo>
                    <a:lnTo>
                      <a:pt x="164" y="1948"/>
                    </a:lnTo>
                    <a:lnTo>
                      <a:pt x="153" y="1956"/>
                    </a:lnTo>
                    <a:lnTo>
                      <a:pt x="142" y="1961"/>
                    </a:lnTo>
                    <a:lnTo>
                      <a:pt x="131" y="1969"/>
                    </a:lnTo>
                    <a:lnTo>
                      <a:pt x="123" y="1961"/>
                    </a:lnTo>
                    <a:lnTo>
                      <a:pt x="118" y="1954"/>
                    </a:lnTo>
                    <a:lnTo>
                      <a:pt x="111" y="1945"/>
                    </a:lnTo>
                    <a:lnTo>
                      <a:pt x="101" y="1935"/>
                    </a:lnTo>
                    <a:lnTo>
                      <a:pt x="88" y="1945"/>
                    </a:lnTo>
                    <a:lnTo>
                      <a:pt x="79" y="1954"/>
                    </a:lnTo>
                    <a:lnTo>
                      <a:pt x="70" y="1959"/>
                    </a:lnTo>
                    <a:lnTo>
                      <a:pt x="61" y="1963"/>
                    </a:lnTo>
                    <a:lnTo>
                      <a:pt x="50" y="1965"/>
                    </a:lnTo>
                    <a:lnTo>
                      <a:pt x="39" y="1967"/>
                    </a:lnTo>
                    <a:lnTo>
                      <a:pt x="26" y="1967"/>
                    </a:lnTo>
                    <a:lnTo>
                      <a:pt x="9" y="1967"/>
                    </a:lnTo>
                    <a:lnTo>
                      <a:pt x="13" y="1961"/>
                    </a:lnTo>
                    <a:lnTo>
                      <a:pt x="16" y="1956"/>
                    </a:lnTo>
                    <a:lnTo>
                      <a:pt x="18" y="1950"/>
                    </a:lnTo>
                    <a:lnTo>
                      <a:pt x="22" y="1941"/>
                    </a:lnTo>
                    <a:lnTo>
                      <a:pt x="27" y="1943"/>
                    </a:lnTo>
                    <a:lnTo>
                      <a:pt x="33" y="1943"/>
                    </a:lnTo>
                    <a:lnTo>
                      <a:pt x="37" y="1943"/>
                    </a:lnTo>
                    <a:lnTo>
                      <a:pt x="40" y="1943"/>
                    </a:lnTo>
                    <a:lnTo>
                      <a:pt x="51" y="1915"/>
                    </a:lnTo>
                    <a:lnTo>
                      <a:pt x="59" y="1900"/>
                    </a:lnTo>
                    <a:lnTo>
                      <a:pt x="70" y="1889"/>
                    </a:lnTo>
                    <a:lnTo>
                      <a:pt x="90" y="1874"/>
                    </a:lnTo>
                    <a:lnTo>
                      <a:pt x="90" y="1843"/>
                    </a:lnTo>
                    <a:lnTo>
                      <a:pt x="88" y="1821"/>
                    </a:lnTo>
                    <a:lnTo>
                      <a:pt x="81" y="1799"/>
                    </a:lnTo>
                    <a:lnTo>
                      <a:pt x="68" y="1769"/>
                    </a:lnTo>
                    <a:lnTo>
                      <a:pt x="75" y="1766"/>
                    </a:lnTo>
                    <a:lnTo>
                      <a:pt x="85" y="1760"/>
                    </a:lnTo>
                    <a:lnTo>
                      <a:pt x="94" y="1756"/>
                    </a:lnTo>
                    <a:lnTo>
                      <a:pt x="105" y="1753"/>
                    </a:lnTo>
                    <a:lnTo>
                      <a:pt x="116" y="1790"/>
                    </a:lnTo>
                    <a:lnTo>
                      <a:pt x="122" y="1823"/>
                    </a:lnTo>
                    <a:lnTo>
                      <a:pt x="122" y="1856"/>
                    </a:lnTo>
                    <a:lnTo>
                      <a:pt x="120" y="1898"/>
                    </a:lnTo>
                    <a:lnTo>
                      <a:pt x="138" y="1895"/>
                    </a:lnTo>
                    <a:lnTo>
                      <a:pt x="162" y="1889"/>
                    </a:lnTo>
                    <a:lnTo>
                      <a:pt x="188" y="1884"/>
                    </a:lnTo>
                    <a:lnTo>
                      <a:pt x="216" y="1876"/>
                    </a:lnTo>
                    <a:lnTo>
                      <a:pt x="247" y="1869"/>
                    </a:lnTo>
                    <a:lnTo>
                      <a:pt x="278" y="1862"/>
                    </a:lnTo>
                    <a:lnTo>
                      <a:pt x="312" y="1854"/>
                    </a:lnTo>
                    <a:lnTo>
                      <a:pt x="347" y="1847"/>
                    </a:lnTo>
                    <a:lnTo>
                      <a:pt x="380" y="1839"/>
                    </a:lnTo>
                    <a:lnTo>
                      <a:pt x="413" y="1834"/>
                    </a:lnTo>
                    <a:lnTo>
                      <a:pt x="444" y="1830"/>
                    </a:lnTo>
                    <a:lnTo>
                      <a:pt x="474" y="1826"/>
                    </a:lnTo>
                    <a:lnTo>
                      <a:pt x="502" y="1823"/>
                    </a:lnTo>
                    <a:lnTo>
                      <a:pt x="527" y="1823"/>
                    </a:lnTo>
                    <a:lnTo>
                      <a:pt x="550" y="1825"/>
                    </a:lnTo>
                    <a:lnTo>
                      <a:pt x="568" y="1828"/>
                    </a:lnTo>
                    <a:lnTo>
                      <a:pt x="568" y="1823"/>
                    </a:lnTo>
                    <a:lnTo>
                      <a:pt x="568" y="1817"/>
                    </a:lnTo>
                    <a:lnTo>
                      <a:pt x="568" y="1812"/>
                    </a:lnTo>
                    <a:lnTo>
                      <a:pt x="568" y="1806"/>
                    </a:lnTo>
                    <a:lnTo>
                      <a:pt x="581" y="1806"/>
                    </a:lnTo>
                    <a:lnTo>
                      <a:pt x="594" y="1806"/>
                    </a:lnTo>
                    <a:lnTo>
                      <a:pt x="605" y="1808"/>
                    </a:lnTo>
                    <a:lnTo>
                      <a:pt x="616" y="1808"/>
                    </a:lnTo>
                    <a:lnTo>
                      <a:pt x="625" y="1801"/>
                    </a:lnTo>
                    <a:lnTo>
                      <a:pt x="634" y="1791"/>
                    </a:lnTo>
                    <a:lnTo>
                      <a:pt x="642" y="1784"/>
                    </a:lnTo>
                    <a:lnTo>
                      <a:pt x="651" y="1775"/>
                    </a:lnTo>
                    <a:lnTo>
                      <a:pt x="658" y="1766"/>
                    </a:lnTo>
                    <a:lnTo>
                      <a:pt x="668" y="1755"/>
                    </a:lnTo>
                    <a:lnTo>
                      <a:pt x="675" y="1745"/>
                    </a:lnTo>
                    <a:lnTo>
                      <a:pt x="684" y="1736"/>
                    </a:lnTo>
                    <a:lnTo>
                      <a:pt x="694" y="1740"/>
                    </a:lnTo>
                    <a:lnTo>
                      <a:pt x="705" y="1742"/>
                    </a:lnTo>
                    <a:lnTo>
                      <a:pt x="716" y="1743"/>
                    </a:lnTo>
                    <a:lnTo>
                      <a:pt x="725" y="1747"/>
                    </a:lnTo>
                    <a:lnTo>
                      <a:pt x="716" y="1771"/>
                    </a:lnTo>
                    <a:lnTo>
                      <a:pt x="706" y="1791"/>
                    </a:lnTo>
                    <a:lnTo>
                      <a:pt x="695" y="1808"/>
                    </a:lnTo>
                    <a:lnTo>
                      <a:pt x="677" y="1823"/>
                    </a:lnTo>
                    <a:lnTo>
                      <a:pt x="694" y="1819"/>
                    </a:lnTo>
                    <a:lnTo>
                      <a:pt x="710" y="1817"/>
                    </a:lnTo>
                    <a:lnTo>
                      <a:pt x="725" y="1814"/>
                    </a:lnTo>
                    <a:lnTo>
                      <a:pt x="741" y="1810"/>
                    </a:lnTo>
                    <a:lnTo>
                      <a:pt x="756" y="1806"/>
                    </a:lnTo>
                    <a:lnTo>
                      <a:pt x="773" y="1801"/>
                    </a:lnTo>
                    <a:lnTo>
                      <a:pt x="788" y="1797"/>
                    </a:lnTo>
                    <a:lnTo>
                      <a:pt x="804" y="1793"/>
                    </a:lnTo>
                    <a:lnTo>
                      <a:pt x="806" y="1780"/>
                    </a:lnTo>
                    <a:lnTo>
                      <a:pt x="806" y="1766"/>
                    </a:lnTo>
                    <a:lnTo>
                      <a:pt x="806" y="1751"/>
                    </a:lnTo>
                    <a:lnTo>
                      <a:pt x="808" y="1736"/>
                    </a:lnTo>
                    <a:lnTo>
                      <a:pt x="821" y="1732"/>
                    </a:lnTo>
                    <a:lnTo>
                      <a:pt x="834" y="1731"/>
                    </a:lnTo>
                    <a:lnTo>
                      <a:pt x="847" y="1727"/>
                    </a:lnTo>
                    <a:lnTo>
                      <a:pt x="860" y="1721"/>
                    </a:lnTo>
                    <a:lnTo>
                      <a:pt x="863" y="1731"/>
                    </a:lnTo>
                    <a:lnTo>
                      <a:pt x="867" y="1738"/>
                    </a:lnTo>
                    <a:lnTo>
                      <a:pt x="871" y="1745"/>
                    </a:lnTo>
                    <a:lnTo>
                      <a:pt x="876" y="1753"/>
                    </a:lnTo>
                    <a:lnTo>
                      <a:pt x="847" y="1828"/>
                    </a:lnTo>
                    <a:lnTo>
                      <a:pt x="825" y="1908"/>
                    </a:lnTo>
                    <a:lnTo>
                      <a:pt x="810" y="1987"/>
                    </a:lnTo>
                    <a:lnTo>
                      <a:pt x="799" y="2068"/>
                    </a:lnTo>
                    <a:lnTo>
                      <a:pt x="791" y="2149"/>
                    </a:lnTo>
                    <a:lnTo>
                      <a:pt x="784" y="2231"/>
                    </a:lnTo>
                    <a:lnTo>
                      <a:pt x="778" y="2314"/>
                    </a:lnTo>
                    <a:lnTo>
                      <a:pt x="769" y="2395"/>
                    </a:lnTo>
                    <a:lnTo>
                      <a:pt x="804" y="2358"/>
                    </a:lnTo>
                    <a:lnTo>
                      <a:pt x="837" y="2323"/>
                    </a:lnTo>
                    <a:lnTo>
                      <a:pt x="871" y="2288"/>
                    </a:lnTo>
                    <a:lnTo>
                      <a:pt x="904" y="2253"/>
                    </a:lnTo>
                    <a:lnTo>
                      <a:pt x="935" y="2218"/>
                    </a:lnTo>
                    <a:lnTo>
                      <a:pt x="967" y="2181"/>
                    </a:lnTo>
                    <a:lnTo>
                      <a:pt x="998" y="2146"/>
                    </a:lnTo>
                    <a:lnTo>
                      <a:pt x="1027" y="2111"/>
                    </a:lnTo>
                    <a:lnTo>
                      <a:pt x="1057" y="2074"/>
                    </a:lnTo>
                    <a:lnTo>
                      <a:pt x="1087" y="2037"/>
                    </a:lnTo>
                    <a:lnTo>
                      <a:pt x="1116" y="2000"/>
                    </a:lnTo>
                    <a:lnTo>
                      <a:pt x="1146" y="1961"/>
                    </a:lnTo>
                    <a:lnTo>
                      <a:pt x="1175" y="1922"/>
                    </a:lnTo>
                    <a:lnTo>
                      <a:pt x="1206" y="1882"/>
                    </a:lnTo>
                    <a:lnTo>
                      <a:pt x="1236" y="1841"/>
                    </a:lnTo>
                    <a:lnTo>
                      <a:pt x="1267" y="1799"/>
                    </a:lnTo>
                    <a:lnTo>
                      <a:pt x="1249" y="1815"/>
                    </a:lnTo>
                    <a:lnTo>
                      <a:pt x="1230" y="1834"/>
                    </a:lnTo>
                    <a:lnTo>
                      <a:pt x="1212" y="1850"/>
                    </a:lnTo>
                    <a:lnTo>
                      <a:pt x="1194" y="1867"/>
                    </a:lnTo>
                    <a:lnTo>
                      <a:pt x="1173" y="1886"/>
                    </a:lnTo>
                    <a:lnTo>
                      <a:pt x="1155" y="1902"/>
                    </a:lnTo>
                    <a:lnTo>
                      <a:pt x="1136" y="1921"/>
                    </a:lnTo>
                    <a:lnTo>
                      <a:pt x="1118" y="1937"/>
                    </a:lnTo>
                    <a:lnTo>
                      <a:pt x="1109" y="1933"/>
                    </a:lnTo>
                    <a:lnTo>
                      <a:pt x="1101" y="1930"/>
                    </a:lnTo>
                    <a:lnTo>
                      <a:pt x="1092" y="1926"/>
                    </a:lnTo>
                    <a:lnTo>
                      <a:pt x="1083" y="1922"/>
                    </a:lnTo>
                    <a:lnTo>
                      <a:pt x="1107" y="1900"/>
                    </a:lnTo>
                    <a:lnTo>
                      <a:pt x="1138" y="1878"/>
                    </a:lnTo>
                    <a:lnTo>
                      <a:pt x="1171" y="1856"/>
                    </a:lnTo>
                    <a:lnTo>
                      <a:pt x="1205" y="1830"/>
                    </a:lnTo>
                    <a:lnTo>
                      <a:pt x="1236" y="1806"/>
                    </a:lnTo>
                    <a:lnTo>
                      <a:pt x="1262" y="1778"/>
                    </a:lnTo>
                    <a:lnTo>
                      <a:pt x="1280" y="1753"/>
                    </a:lnTo>
                    <a:lnTo>
                      <a:pt x="1288" y="1725"/>
                    </a:lnTo>
                    <a:lnTo>
                      <a:pt x="1264" y="1734"/>
                    </a:lnTo>
                    <a:lnTo>
                      <a:pt x="1241" y="1743"/>
                    </a:lnTo>
                    <a:lnTo>
                      <a:pt x="1217" y="1755"/>
                    </a:lnTo>
                    <a:lnTo>
                      <a:pt x="1194" y="1766"/>
                    </a:lnTo>
                    <a:lnTo>
                      <a:pt x="1168" y="1777"/>
                    </a:lnTo>
                    <a:lnTo>
                      <a:pt x="1144" y="1788"/>
                    </a:lnTo>
                    <a:lnTo>
                      <a:pt x="1120" y="1801"/>
                    </a:lnTo>
                    <a:lnTo>
                      <a:pt x="1096" y="1812"/>
                    </a:lnTo>
                    <a:lnTo>
                      <a:pt x="1072" y="1823"/>
                    </a:lnTo>
                    <a:lnTo>
                      <a:pt x="1046" y="1834"/>
                    </a:lnTo>
                    <a:lnTo>
                      <a:pt x="1022" y="1845"/>
                    </a:lnTo>
                    <a:lnTo>
                      <a:pt x="998" y="1852"/>
                    </a:lnTo>
                    <a:lnTo>
                      <a:pt x="974" y="1862"/>
                    </a:lnTo>
                    <a:lnTo>
                      <a:pt x="952" y="1867"/>
                    </a:lnTo>
                    <a:lnTo>
                      <a:pt x="928" y="1873"/>
                    </a:lnTo>
                    <a:lnTo>
                      <a:pt x="906" y="1876"/>
                    </a:lnTo>
                    <a:lnTo>
                      <a:pt x="933" y="1863"/>
                    </a:lnTo>
                    <a:lnTo>
                      <a:pt x="963" y="1849"/>
                    </a:lnTo>
                    <a:lnTo>
                      <a:pt x="992" y="1836"/>
                    </a:lnTo>
                    <a:lnTo>
                      <a:pt x="1022" y="1823"/>
                    </a:lnTo>
                    <a:lnTo>
                      <a:pt x="1050" y="1810"/>
                    </a:lnTo>
                    <a:lnTo>
                      <a:pt x="1079" y="1795"/>
                    </a:lnTo>
                    <a:lnTo>
                      <a:pt x="1109" y="1780"/>
                    </a:lnTo>
                    <a:lnTo>
                      <a:pt x="1136" y="1766"/>
                    </a:lnTo>
                    <a:lnTo>
                      <a:pt x="1164" y="1751"/>
                    </a:lnTo>
                    <a:lnTo>
                      <a:pt x="1192" y="1736"/>
                    </a:lnTo>
                    <a:lnTo>
                      <a:pt x="1219" y="1719"/>
                    </a:lnTo>
                    <a:lnTo>
                      <a:pt x="1245" y="1701"/>
                    </a:lnTo>
                    <a:lnTo>
                      <a:pt x="1269" y="1683"/>
                    </a:lnTo>
                    <a:lnTo>
                      <a:pt x="1293" y="1662"/>
                    </a:lnTo>
                    <a:lnTo>
                      <a:pt x="1317" y="1640"/>
                    </a:lnTo>
                    <a:lnTo>
                      <a:pt x="1339" y="1618"/>
                    </a:lnTo>
                    <a:lnTo>
                      <a:pt x="1343" y="1624"/>
                    </a:lnTo>
                    <a:lnTo>
                      <a:pt x="1348" y="1629"/>
                    </a:lnTo>
                    <a:lnTo>
                      <a:pt x="1354" y="1633"/>
                    </a:lnTo>
                    <a:lnTo>
                      <a:pt x="1361" y="1636"/>
                    </a:lnTo>
                    <a:lnTo>
                      <a:pt x="1372" y="1611"/>
                    </a:lnTo>
                    <a:lnTo>
                      <a:pt x="1382" y="1585"/>
                    </a:lnTo>
                    <a:lnTo>
                      <a:pt x="1389" y="1559"/>
                    </a:lnTo>
                    <a:lnTo>
                      <a:pt x="1400" y="1533"/>
                    </a:lnTo>
                    <a:lnTo>
                      <a:pt x="1400" y="1529"/>
                    </a:lnTo>
                    <a:lnTo>
                      <a:pt x="1398" y="1526"/>
                    </a:lnTo>
                    <a:lnTo>
                      <a:pt x="1395" y="1524"/>
                    </a:lnTo>
                    <a:lnTo>
                      <a:pt x="1391" y="1520"/>
                    </a:lnTo>
                    <a:lnTo>
                      <a:pt x="1376" y="1520"/>
                    </a:lnTo>
                    <a:lnTo>
                      <a:pt x="1361" y="1522"/>
                    </a:lnTo>
                    <a:lnTo>
                      <a:pt x="1345" y="1522"/>
                    </a:lnTo>
                    <a:lnTo>
                      <a:pt x="1330" y="1524"/>
                    </a:lnTo>
                    <a:lnTo>
                      <a:pt x="1315" y="1526"/>
                    </a:lnTo>
                    <a:lnTo>
                      <a:pt x="1299" y="1526"/>
                    </a:lnTo>
                    <a:lnTo>
                      <a:pt x="1284" y="1528"/>
                    </a:lnTo>
                    <a:lnTo>
                      <a:pt x="1269" y="1528"/>
                    </a:lnTo>
                    <a:lnTo>
                      <a:pt x="1337" y="1480"/>
                    </a:lnTo>
                    <a:lnTo>
                      <a:pt x="1378" y="1432"/>
                    </a:lnTo>
                    <a:lnTo>
                      <a:pt x="1393" y="1387"/>
                    </a:lnTo>
                    <a:lnTo>
                      <a:pt x="1384" y="1345"/>
                    </a:lnTo>
                    <a:lnTo>
                      <a:pt x="1356" y="1304"/>
                    </a:lnTo>
                    <a:lnTo>
                      <a:pt x="1310" y="1267"/>
                    </a:lnTo>
                    <a:lnTo>
                      <a:pt x="1249" y="1234"/>
                    </a:lnTo>
                    <a:lnTo>
                      <a:pt x="1179" y="1201"/>
                    </a:lnTo>
                    <a:lnTo>
                      <a:pt x="1099" y="1173"/>
                    </a:lnTo>
                    <a:lnTo>
                      <a:pt x="1016" y="1148"/>
                    </a:lnTo>
                    <a:lnTo>
                      <a:pt x="930" y="1125"/>
                    </a:lnTo>
                    <a:lnTo>
                      <a:pt x="843" y="1107"/>
                    </a:lnTo>
                    <a:lnTo>
                      <a:pt x="762" y="1090"/>
                    </a:lnTo>
                    <a:lnTo>
                      <a:pt x="686" y="1079"/>
                    </a:lnTo>
                    <a:lnTo>
                      <a:pt x="622" y="1072"/>
                    </a:lnTo>
                    <a:lnTo>
                      <a:pt x="568" y="1068"/>
                    </a:lnTo>
                    <a:lnTo>
                      <a:pt x="568" y="1064"/>
                    </a:lnTo>
                    <a:lnTo>
                      <a:pt x="566" y="1059"/>
                    </a:lnTo>
                    <a:lnTo>
                      <a:pt x="564" y="1055"/>
                    </a:lnTo>
                    <a:lnTo>
                      <a:pt x="564" y="1052"/>
                    </a:lnTo>
                    <a:lnTo>
                      <a:pt x="551" y="1052"/>
                    </a:lnTo>
                    <a:lnTo>
                      <a:pt x="539" y="1050"/>
                    </a:lnTo>
                    <a:lnTo>
                      <a:pt x="527" y="1050"/>
                    </a:lnTo>
                    <a:lnTo>
                      <a:pt x="516" y="1050"/>
                    </a:lnTo>
                    <a:lnTo>
                      <a:pt x="503" y="1048"/>
                    </a:lnTo>
                    <a:lnTo>
                      <a:pt x="492" y="1048"/>
                    </a:lnTo>
                    <a:lnTo>
                      <a:pt x="481" y="1048"/>
                    </a:lnTo>
                    <a:lnTo>
                      <a:pt x="468" y="1048"/>
                    </a:lnTo>
                    <a:lnTo>
                      <a:pt x="467" y="1066"/>
                    </a:lnTo>
                    <a:lnTo>
                      <a:pt x="467" y="1085"/>
                    </a:lnTo>
                    <a:lnTo>
                      <a:pt x="465" y="1105"/>
                    </a:lnTo>
                    <a:lnTo>
                      <a:pt x="465" y="1125"/>
                    </a:lnTo>
                    <a:lnTo>
                      <a:pt x="461" y="1125"/>
                    </a:lnTo>
                    <a:lnTo>
                      <a:pt x="456" y="1125"/>
                    </a:lnTo>
                    <a:lnTo>
                      <a:pt x="452" y="1125"/>
                    </a:lnTo>
                    <a:lnTo>
                      <a:pt x="446" y="1125"/>
                    </a:lnTo>
                    <a:lnTo>
                      <a:pt x="446" y="1149"/>
                    </a:lnTo>
                    <a:lnTo>
                      <a:pt x="448" y="1173"/>
                    </a:lnTo>
                    <a:lnTo>
                      <a:pt x="448" y="1199"/>
                    </a:lnTo>
                    <a:lnTo>
                      <a:pt x="448" y="1225"/>
                    </a:lnTo>
                    <a:lnTo>
                      <a:pt x="476" y="1231"/>
                    </a:lnTo>
                    <a:lnTo>
                      <a:pt x="505" y="1236"/>
                    </a:lnTo>
                    <a:lnTo>
                      <a:pt x="535" y="1242"/>
                    </a:lnTo>
                    <a:lnTo>
                      <a:pt x="564" y="1249"/>
                    </a:lnTo>
                    <a:lnTo>
                      <a:pt x="594" y="1256"/>
                    </a:lnTo>
                    <a:lnTo>
                      <a:pt x="623" y="1262"/>
                    </a:lnTo>
                    <a:lnTo>
                      <a:pt x="653" y="1269"/>
                    </a:lnTo>
                    <a:lnTo>
                      <a:pt x="684" y="1275"/>
                    </a:lnTo>
                    <a:lnTo>
                      <a:pt x="714" y="1280"/>
                    </a:lnTo>
                    <a:lnTo>
                      <a:pt x="743" y="1288"/>
                    </a:lnTo>
                    <a:lnTo>
                      <a:pt x="773" y="1293"/>
                    </a:lnTo>
                    <a:lnTo>
                      <a:pt x="804" y="1297"/>
                    </a:lnTo>
                    <a:lnTo>
                      <a:pt x="834" y="1302"/>
                    </a:lnTo>
                    <a:lnTo>
                      <a:pt x="863" y="1304"/>
                    </a:lnTo>
                    <a:lnTo>
                      <a:pt x="891" y="1308"/>
                    </a:lnTo>
                    <a:lnTo>
                      <a:pt x="920" y="1310"/>
                    </a:lnTo>
                    <a:lnTo>
                      <a:pt x="893" y="1343"/>
                    </a:lnTo>
                    <a:lnTo>
                      <a:pt x="867" y="1374"/>
                    </a:lnTo>
                    <a:lnTo>
                      <a:pt x="845" y="1402"/>
                    </a:lnTo>
                    <a:lnTo>
                      <a:pt x="825" y="1424"/>
                    </a:lnTo>
                    <a:lnTo>
                      <a:pt x="806" y="1445"/>
                    </a:lnTo>
                    <a:lnTo>
                      <a:pt x="789" y="1461"/>
                    </a:lnTo>
                    <a:lnTo>
                      <a:pt x="771" y="1474"/>
                    </a:lnTo>
                    <a:lnTo>
                      <a:pt x="754" y="1485"/>
                    </a:lnTo>
                    <a:lnTo>
                      <a:pt x="738" y="1491"/>
                    </a:lnTo>
                    <a:lnTo>
                      <a:pt x="719" y="1494"/>
                    </a:lnTo>
                    <a:lnTo>
                      <a:pt x="699" y="1493"/>
                    </a:lnTo>
                    <a:lnTo>
                      <a:pt x="677" y="1489"/>
                    </a:lnTo>
                    <a:lnTo>
                      <a:pt x="651" y="1481"/>
                    </a:lnTo>
                    <a:lnTo>
                      <a:pt x="622" y="1470"/>
                    </a:lnTo>
                    <a:lnTo>
                      <a:pt x="590" y="1457"/>
                    </a:lnTo>
                    <a:lnTo>
                      <a:pt x="553" y="1439"/>
                    </a:lnTo>
                    <a:lnTo>
                      <a:pt x="561" y="1446"/>
                    </a:lnTo>
                    <a:lnTo>
                      <a:pt x="568" y="1454"/>
                    </a:lnTo>
                    <a:lnTo>
                      <a:pt x="575" y="1461"/>
                    </a:lnTo>
                    <a:lnTo>
                      <a:pt x="585" y="1469"/>
                    </a:lnTo>
                    <a:lnTo>
                      <a:pt x="592" y="1476"/>
                    </a:lnTo>
                    <a:lnTo>
                      <a:pt x="599" y="1483"/>
                    </a:lnTo>
                    <a:lnTo>
                      <a:pt x="609" y="1491"/>
                    </a:lnTo>
                    <a:lnTo>
                      <a:pt x="616" y="1498"/>
                    </a:lnTo>
                    <a:lnTo>
                      <a:pt x="603" y="1513"/>
                    </a:lnTo>
                    <a:lnTo>
                      <a:pt x="588" y="1526"/>
                    </a:lnTo>
                    <a:lnTo>
                      <a:pt x="575" y="1535"/>
                    </a:lnTo>
                    <a:lnTo>
                      <a:pt x="561" y="1542"/>
                    </a:lnTo>
                    <a:lnTo>
                      <a:pt x="546" y="1550"/>
                    </a:lnTo>
                    <a:lnTo>
                      <a:pt x="529" y="1555"/>
                    </a:lnTo>
                    <a:lnTo>
                      <a:pt x="511" y="1561"/>
                    </a:lnTo>
                    <a:lnTo>
                      <a:pt x="491" y="1568"/>
                    </a:lnTo>
                    <a:lnTo>
                      <a:pt x="524" y="1572"/>
                    </a:lnTo>
                    <a:lnTo>
                      <a:pt x="557" y="1576"/>
                    </a:lnTo>
                    <a:lnTo>
                      <a:pt x="590" y="1576"/>
                    </a:lnTo>
                    <a:lnTo>
                      <a:pt x="623" y="1577"/>
                    </a:lnTo>
                    <a:lnTo>
                      <a:pt x="658" y="1576"/>
                    </a:lnTo>
                    <a:lnTo>
                      <a:pt x="692" y="1574"/>
                    </a:lnTo>
                    <a:lnTo>
                      <a:pt x="725" y="1572"/>
                    </a:lnTo>
                    <a:lnTo>
                      <a:pt x="758" y="1568"/>
                    </a:lnTo>
                    <a:lnTo>
                      <a:pt x="791" y="1563"/>
                    </a:lnTo>
                    <a:lnTo>
                      <a:pt x="825" y="1557"/>
                    </a:lnTo>
                    <a:lnTo>
                      <a:pt x="860" y="1552"/>
                    </a:lnTo>
                    <a:lnTo>
                      <a:pt x="893" y="1544"/>
                    </a:lnTo>
                    <a:lnTo>
                      <a:pt x="926" y="1535"/>
                    </a:lnTo>
                    <a:lnTo>
                      <a:pt x="961" y="1526"/>
                    </a:lnTo>
                    <a:lnTo>
                      <a:pt x="994" y="1517"/>
                    </a:lnTo>
                    <a:lnTo>
                      <a:pt x="1029" y="1505"/>
                    </a:lnTo>
                    <a:lnTo>
                      <a:pt x="1022" y="1476"/>
                    </a:lnTo>
                    <a:lnTo>
                      <a:pt x="1022" y="1452"/>
                    </a:lnTo>
                    <a:lnTo>
                      <a:pt x="1029" y="1430"/>
                    </a:lnTo>
                    <a:lnTo>
                      <a:pt x="1042" y="1411"/>
                    </a:lnTo>
                    <a:lnTo>
                      <a:pt x="1057" y="1393"/>
                    </a:lnTo>
                    <a:lnTo>
                      <a:pt x="1074" y="1371"/>
                    </a:lnTo>
                    <a:lnTo>
                      <a:pt x="1087" y="1347"/>
                    </a:lnTo>
                    <a:lnTo>
                      <a:pt x="1098" y="1315"/>
                    </a:lnTo>
                    <a:lnTo>
                      <a:pt x="1079" y="1297"/>
                    </a:lnTo>
                    <a:lnTo>
                      <a:pt x="1055" y="1282"/>
                    </a:lnTo>
                    <a:lnTo>
                      <a:pt x="1027" y="1267"/>
                    </a:lnTo>
                    <a:lnTo>
                      <a:pt x="998" y="1256"/>
                    </a:lnTo>
                    <a:lnTo>
                      <a:pt x="965" y="1247"/>
                    </a:lnTo>
                    <a:lnTo>
                      <a:pt x="930" y="1240"/>
                    </a:lnTo>
                    <a:lnTo>
                      <a:pt x="893" y="1234"/>
                    </a:lnTo>
                    <a:lnTo>
                      <a:pt x="854" y="1229"/>
                    </a:lnTo>
                    <a:lnTo>
                      <a:pt x="815" y="1227"/>
                    </a:lnTo>
                    <a:lnTo>
                      <a:pt x="777" y="1225"/>
                    </a:lnTo>
                    <a:lnTo>
                      <a:pt x="738" y="1223"/>
                    </a:lnTo>
                    <a:lnTo>
                      <a:pt x="701" y="1223"/>
                    </a:lnTo>
                    <a:lnTo>
                      <a:pt x="664" y="1225"/>
                    </a:lnTo>
                    <a:lnTo>
                      <a:pt x="631" y="1227"/>
                    </a:lnTo>
                    <a:lnTo>
                      <a:pt x="599" y="1229"/>
                    </a:lnTo>
                    <a:lnTo>
                      <a:pt x="570" y="1231"/>
                    </a:lnTo>
                    <a:lnTo>
                      <a:pt x="563" y="1218"/>
                    </a:lnTo>
                    <a:lnTo>
                      <a:pt x="555" y="1203"/>
                    </a:lnTo>
                    <a:lnTo>
                      <a:pt x="548" y="1190"/>
                    </a:lnTo>
                    <a:lnTo>
                      <a:pt x="540" y="1177"/>
                    </a:lnTo>
                    <a:lnTo>
                      <a:pt x="581" y="1181"/>
                    </a:lnTo>
                    <a:lnTo>
                      <a:pt x="627" y="1184"/>
                    </a:lnTo>
                    <a:lnTo>
                      <a:pt x="677" y="1188"/>
                    </a:lnTo>
                    <a:lnTo>
                      <a:pt x="732" y="1192"/>
                    </a:lnTo>
                    <a:lnTo>
                      <a:pt x="789" y="1195"/>
                    </a:lnTo>
                    <a:lnTo>
                      <a:pt x="849" y="1201"/>
                    </a:lnTo>
                    <a:lnTo>
                      <a:pt x="909" y="1208"/>
                    </a:lnTo>
                    <a:lnTo>
                      <a:pt x="968" y="1218"/>
                    </a:lnTo>
                    <a:lnTo>
                      <a:pt x="1026" y="1229"/>
                    </a:lnTo>
                    <a:lnTo>
                      <a:pt x="1081" y="1242"/>
                    </a:lnTo>
                    <a:lnTo>
                      <a:pt x="1131" y="1258"/>
                    </a:lnTo>
                    <a:lnTo>
                      <a:pt x="1177" y="1279"/>
                    </a:lnTo>
                    <a:lnTo>
                      <a:pt x="1217" y="1302"/>
                    </a:lnTo>
                    <a:lnTo>
                      <a:pt x="1251" y="1332"/>
                    </a:lnTo>
                    <a:lnTo>
                      <a:pt x="1275" y="1363"/>
                    </a:lnTo>
                    <a:lnTo>
                      <a:pt x="1291" y="1402"/>
                    </a:lnTo>
                    <a:lnTo>
                      <a:pt x="1258" y="1430"/>
                    </a:lnTo>
                    <a:lnTo>
                      <a:pt x="1223" y="1456"/>
                    </a:lnTo>
                    <a:lnTo>
                      <a:pt x="1188" y="1476"/>
                    </a:lnTo>
                    <a:lnTo>
                      <a:pt x="1155" y="1494"/>
                    </a:lnTo>
                    <a:lnTo>
                      <a:pt x="1120" y="1511"/>
                    </a:lnTo>
                    <a:lnTo>
                      <a:pt x="1085" y="1526"/>
                    </a:lnTo>
                    <a:lnTo>
                      <a:pt x="1050" y="1537"/>
                    </a:lnTo>
                    <a:lnTo>
                      <a:pt x="1015" y="1548"/>
                    </a:lnTo>
                    <a:lnTo>
                      <a:pt x="978" y="1555"/>
                    </a:lnTo>
                    <a:lnTo>
                      <a:pt x="943" y="1563"/>
                    </a:lnTo>
                    <a:lnTo>
                      <a:pt x="908" y="1570"/>
                    </a:lnTo>
                    <a:lnTo>
                      <a:pt x="872" y="1576"/>
                    </a:lnTo>
                    <a:lnTo>
                      <a:pt x="837" y="1579"/>
                    </a:lnTo>
                    <a:lnTo>
                      <a:pt x="801" y="1585"/>
                    </a:lnTo>
                    <a:lnTo>
                      <a:pt x="765" y="1588"/>
                    </a:lnTo>
                    <a:lnTo>
                      <a:pt x="730" y="1594"/>
                    </a:lnTo>
                    <a:lnTo>
                      <a:pt x="727" y="1605"/>
                    </a:lnTo>
                    <a:lnTo>
                      <a:pt x="723" y="1616"/>
                    </a:lnTo>
                    <a:lnTo>
                      <a:pt x="719" y="1627"/>
                    </a:lnTo>
                    <a:lnTo>
                      <a:pt x="716" y="1636"/>
                    </a:lnTo>
                    <a:lnTo>
                      <a:pt x="701" y="1635"/>
                    </a:lnTo>
                    <a:lnTo>
                      <a:pt x="677" y="1629"/>
                    </a:lnTo>
                    <a:lnTo>
                      <a:pt x="649" y="1625"/>
                    </a:lnTo>
                    <a:lnTo>
                      <a:pt x="620" y="1622"/>
                    </a:lnTo>
                    <a:lnTo>
                      <a:pt x="592" y="1618"/>
                    </a:lnTo>
                    <a:lnTo>
                      <a:pt x="572" y="1616"/>
                    </a:lnTo>
                    <a:lnTo>
                      <a:pt x="561" y="1616"/>
                    </a:lnTo>
                    <a:lnTo>
                      <a:pt x="563" y="1618"/>
                    </a:lnTo>
                    <a:lnTo>
                      <a:pt x="531" y="1616"/>
                    </a:lnTo>
                    <a:lnTo>
                      <a:pt x="498" y="1616"/>
                    </a:lnTo>
                    <a:lnTo>
                      <a:pt x="463" y="1616"/>
                    </a:lnTo>
                    <a:lnTo>
                      <a:pt x="428" y="1616"/>
                    </a:lnTo>
                    <a:lnTo>
                      <a:pt x="393" y="1616"/>
                    </a:lnTo>
                    <a:lnTo>
                      <a:pt x="358" y="1614"/>
                    </a:lnTo>
                    <a:lnTo>
                      <a:pt x="326" y="1612"/>
                    </a:lnTo>
                    <a:lnTo>
                      <a:pt x="297" y="1607"/>
                    </a:lnTo>
                    <a:lnTo>
                      <a:pt x="301" y="1601"/>
                    </a:lnTo>
                    <a:lnTo>
                      <a:pt x="304" y="1598"/>
                    </a:lnTo>
                    <a:lnTo>
                      <a:pt x="308" y="1592"/>
                    </a:lnTo>
                    <a:lnTo>
                      <a:pt x="312" y="1587"/>
                    </a:lnTo>
                    <a:lnTo>
                      <a:pt x="332" y="1585"/>
                    </a:lnTo>
                    <a:lnTo>
                      <a:pt x="350" y="1581"/>
                    </a:lnTo>
                    <a:lnTo>
                      <a:pt x="371" y="1579"/>
                    </a:lnTo>
                    <a:lnTo>
                      <a:pt x="391" y="1576"/>
                    </a:lnTo>
                    <a:lnTo>
                      <a:pt x="409" y="1574"/>
                    </a:lnTo>
                    <a:lnTo>
                      <a:pt x="430" y="1572"/>
                    </a:lnTo>
                    <a:lnTo>
                      <a:pt x="448" y="1568"/>
                    </a:lnTo>
                    <a:lnTo>
                      <a:pt x="468" y="1566"/>
                    </a:lnTo>
                    <a:lnTo>
                      <a:pt x="467" y="1563"/>
                    </a:lnTo>
                    <a:lnTo>
                      <a:pt x="463" y="1559"/>
                    </a:lnTo>
                    <a:lnTo>
                      <a:pt x="461" y="1553"/>
                    </a:lnTo>
                    <a:lnTo>
                      <a:pt x="457" y="1548"/>
                    </a:lnTo>
                    <a:lnTo>
                      <a:pt x="468" y="1539"/>
                    </a:lnTo>
                    <a:lnTo>
                      <a:pt x="480" y="1531"/>
                    </a:lnTo>
                    <a:lnTo>
                      <a:pt x="492" y="1526"/>
                    </a:lnTo>
                    <a:lnTo>
                      <a:pt x="505" y="1518"/>
                    </a:lnTo>
                    <a:lnTo>
                      <a:pt x="518" y="1513"/>
                    </a:lnTo>
                    <a:lnTo>
                      <a:pt x="531" y="1507"/>
                    </a:lnTo>
                    <a:lnTo>
                      <a:pt x="546" y="1502"/>
                    </a:lnTo>
                    <a:lnTo>
                      <a:pt x="559" y="1496"/>
                    </a:lnTo>
                    <a:lnTo>
                      <a:pt x="544" y="1483"/>
                    </a:lnTo>
                    <a:lnTo>
                      <a:pt x="533" y="1472"/>
                    </a:lnTo>
                    <a:lnTo>
                      <a:pt x="526" y="1461"/>
                    </a:lnTo>
                    <a:lnTo>
                      <a:pt x="518" y="1450"/>
                    </a:lnTo>
                    <a:lnTo>
                      <a:pt x="513" y="1439"/>
                    </a:lnTo>
                    <a:lnTo>
                      <a:pt x="507" y="1426"/>
                    </a:lnTo>
                    <a:lnTo>
                      <a:pt x="503" y="1411"/>
                    </a:lnTo>
                    <a:lnTo>
                      <a:pt x="498" y="1393"/>
                    </a:lnTo>
                    <a:lnTo>
                      <a:pt x="527" y="1397"/>
                    </a:lnTo>
                    <a:lnTo>
                      <a:pt x="555" y="1406"/>
                    </a:lnTo>
                    <a:lnTo>
                      <a:pt x="577" y="1419"/>
                    </a:lnTo>
                    <a:lnTo>
                      <a:pt x="599" y="1432"/>
                    </a:lnTo>
                    <a:lnTo>
                      <a:pt x="622" y="1445"/>
                    </a:lnTo>
                    <a:lnTo>
                      <a:pt x="642" y="1457"/>
                    </a:lnTo>
                    <a:lnTo>
                      <a:pt x="666" y="1467"/>
                    </a:lnTo>
                    <a:lnTo>
                      <a:pt x="692" y="1470"/>
                    </a:lnTo>
                    <a:lnTo>
                      <a:pt x="708" y="1452"/>
                    </a:lnTo>
                    <a:lnTo>
                      <a:pt x="727" y="1435"/>
                    </a:lnTo>
                    <a:lnTo>
                      <a:pt x="745" y="1415"/>
                    </a:lnTo>
                    <a:lnTo>
                      <a:pt x="764" y="1397"/>
                    </a:lnTo>
                    <a:lnTo>
                      <a:pt x="784" y="1378"/>
                    </a:lnTo>
                    <a:lnTo>
                      <a:pt x="802" y="1362"/>
                    </a:lnTo>
                    <a:lnTo>
                      <a:pt x="823" y="1345"/>
                    </a:lnTo>
                    <a:lnTo>
                      <a:pt x="841" y="1328"/>
                    </a:lnTo>
                    <a:lnTo>
                      <a:pt x="823" y="1325"/>
                    </a:lnTo>
                    <a:lnTo>
                      <a:pt x="801" y="1323"/>
                    </a:lnTo>
                    <a:lnTo>
                      <a:pt x="775" y="1319"/>
                    </a:lnTo>
                    <a:lnTo>
                      <a:pt x="747" y="1315"/>
                    </a:lnTo>
                    <a:lnTo>
                      <a:pt x="718" y="1314"/>
                    </a:lnTo>
                    <a:lnTo>
                      <a:pt x="686" y="1310"/>
                    </a:lnTo>
                    <a:lnTo>
                      <a:pt x="655" y="1308"/>
                    </a:lnTo>
                    <a:lnTo>
                      <a:pt x="623" y="1304"/>
                    </a:lnTo>
                    <a:lnTo>
                      <a:pt x="592" y="1301"/>
                    </a:lnTo>
                    <a:lnTo>
                      <a:pt x="563" y="1299"/>
                    </a:lnTo>
                    <a:lnTo>
                      <a:pt x="537" y="1295"/>
                    </a:lnTo>
                    <a:lnTo>
                      <a:pt x="511" y="1291"/>
                    </a:lnTo>
                    <a:lnTo>
                      <a:pt x="491" y="1288"/>
                    </a:lnTo>
                    <a:lnTo>
                      <a:pt x="474" y="1286"/>
                    </a:lnTo>
                    <a:lnTo>
                      <a:pt x="461" y="1282"/>
                    </a:lnTo>
                    <a:lnTo>
                      <a:pt x="454" y="1279"/>
                    </a:lnTo>
                    <a:lnTo>
                      <a:pt x="450" y="1321"/>
                    </a:lnTo>
                    <a:lnTo>
                      <a:pt x="444" y="1365"/>
                    </a:lnTo>
                    <a:lnTo>
                      <a:pt x="439" y="1409"/>
                    </a:lnTo>
                    <a:lnTo>
                      <a:pt x="435" y="1456"/>
                    </a:lnTo>
                    <a:lnTo>
                      <a:pt x="422" y="1459"/>
                    </a:lnTo>
                    <a:lnTo>
                      <a:pt x="411" y="1465"/>
                    </a:lnTo>
                    <a:lnTo>
                      <a:pt x="398" y="1470"/>
                    </a:lnTo>
                    <a:lnTo>
                      <a:pt x="385" y="1476"/>
                    </a:lnTo>
                    <a:lnTo>
                      <a:pt x="411" y="1284"/>
                    </a:lnTo>
                    <a:lnTo>
                      <a:pt x="428" y="1101"/>
                    </a:lnTo>
                    <a:lnTo>
                      <a:pt x="432" y="922"/>
                    </a:lnTo>
                    <a:lnTo>
                      <a:pt x="428" y="745"/>
                    </a:lnTo>
                    <a:lnTo>
                      <a:pt x="417" y="568"/>
                    </a:lnTo>
                    <a:lnTo>
                      <a:pt x="398" y="391"/>
                    </a:lnTo>
                    <a:lnTo>
                      <a:pt x="374" y="210"/>
                    </a:lnTo>
                    <a:lnTo>
                      <a:pt x="347" y="2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84"/>
              <p:cNvSpPr/>
              <p:nvPr/>
            </p:nvSpPr>
            <p:spPr>
              <a:xfrm>
                <a:off x="4133520" y="3970800"/>
                <a:ext cx="100080" cy="57600"/>
              </a:xfrm>
              <a:custGeom>
                <a:avLst/>
                <a:gdLst/>
                <a:ahLst/>
                <a:rect l="l" t="t" r="r" b="b"/>
                <a:pathLst>
                  <a:path w="201" h="125">
                    <a:moveTo>
                      <a:pt x="35" y="125"/>
                    </a:moveTo>
                    <a:lnTo>
                      <a:pt x="0" y="123"/>
                    </a:lnTo>
                    <a:lnTo>
                      <a:pt x="55" y="51"/>
                    </a:lnTo>
                    <a:lnTo>
                      <a:pt x="77" y="22"/>
                    </a:lnTo>
                    <a:lnTo>
                      <a:pt x="122" y="11"/>
                    </a:lnTo>
                    <a:lnTo>
                      <a:pt x="90" y="61"/>
                    </a:lnTo>
                    <a:lnTo>
                      <a:pt x="201" y="0"/>
                    </a:lnTo>
                    <a:lnTo>
                      <a:pt x="151" y="55"/>
                    </a:lnTo>
                    <a:lnTo>
                      <a:pt x="133" y="72"/>
                    </a:lnTo>
                    <a:lnTo>
                      <a:pt x="35" y="125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85"/>
              <p:cNvSpPr/>
              <p:nvPr/>
            </p:nvSpPr>
            <p:spPr>
              <a:xfrm>
                <a:off x="5223240" y="4015800"/>
                <a:ext cx="82800" cy="45360"/>
              </a:xfrm>
              <a:custGeom>
                <a:avLst/>
                <a:gdLst/>
                <a:ahLst/>
                <a:rect l="l" t="t" r="r" b="b"/>
                <a:pathLst>
                  <a:path w="168" h="100">
                    <a:moveTo>
                      <a:pt x="4" y="98"/>
                    </a:moveTo>
                    <a:lnTo>
                      <a:pt x="0" y="91"/>
                    </a:lnTo>
                    <a:lnTo>
                      <a:pt x="22" y="56"/>
                    </a:lnTo>
                    <a:lnTo>
                      <a:pt x="168" y="0"/>
                    </a:lnTo>
                    <a:lnTo>
                      <a:pt x="137" y="39"/>
                    </a:lnTo>
                    <a:lnTo>
                      <a:pt x="55" y="100"/>
                    </a:lnTo>
                    <a:lnTo>
                      <a:pt x="4" y="9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6"/>
              <p:cNvSpPr/>
              <p:nvPr/>
            </p:nvSpPr>
            <p:spPr>
              <a:xfrm>
                <a:off x="5283360" y="4053240"/>
                <a:ext cx="25560" cy="3240"/>
              </a:xfrm>
              <a:custGeom>
                <a:avLst/>
                <a:gdLst/>
                <a:ahLst/>
                <a:rect l="l" t="t" r="r" b="b"/>
                <a:pathLst>
                  <a:path w="52" h="7">
                    <a:moveTo>
                      <a:pt x="0" y="0"/>
                    </a:moveTo>
                    <a:lnTo>
                      <a:pt x="4" y="5"/>
                    </a:lnTo>
                    <a:lnTo>
                      <a:pt x="52" y="7"/>
                    </a:lnTo>
                    <a:lnTo>
                      <a:pt x="5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87"/>
              <p:cNvSpPr/>
              <p:nvPr/>
            </p:nvSpPr>
            <p:spPr>
              <a:xfrm>
                <a:off x="5283360" y="405144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4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88"/>
              <p:cNvSpPr/>
              <p:nvPr/>
            </p:nvSpPr>
            <p:spPr>
              <a:xfrm>
                <a:off x="5283360" y="405144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4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9"/>
              <p:cNvSpPr/>
              <p:nvPr/>
            </p:nvSpPr>
            <p:spPr>
              <a:xfrm>
                <a:off x="5283360" y="4048920"/>
                <a:ext cx="26640" cy="3240"/>
              </a:xfrm>
              <a:custGeom>
                <a:avLst/>
                <a:gdLst/>
                <a:ahLst/>
                <a:rect l="l" t="t" r="r" b="b"/>
                <a:pathLst>
                  <a:path w="53" h="8">
                    <a:moveTo>
                      <a:pt x="5" y="0"/>
                    </a:moveTo>
                    <a:lnTo>
                      <a:pt x="0" y="6"/>
                    </a:lnTo>
                    <a:lnTo>
                      <a:pt x="52" y="8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90"/>
              <p:cNvSpPr/>
              <p:nvPr/>
            </p:nvSpPr>
            <p:spPr>
              <a:xfrm>
                <a:off x="5285520" y="4049640"/>
                <a:ext cx="26640" cy="25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5" y="0"/>
                    </a:moveTo>
                    <a:lnTo>
                      <a:pt x="0" y="4"/>
                    </a:lnTo>
                    <a:lnTo>
                      <a:pt x="48" y="6"/>
                    </a:lnTo>
                    <a:lnTo>
                      <a:pt x="53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1"/>
              <p:cNvSpPr/>
              <p:nvPr/>
            </p:nvSpPr>
            <p:spPr>
              <a:xfrm>
                <a:off x="5286240" y="4046760"/>
                <a:ext cx="25560" cy="25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8" y="0"/>
                    </a:moveTo>
                    <a:lnTo>
                      <a:pt x="0" y="3"/>
                    </a:lnTo>
                    <a:lnTo>
                      <a:pt x="48" y="5"/>
                    </a:lnTo>
                    <a:lnTo>
                      <a:pt x="52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92"/>
              <p:cNvSpPr/>
              <p:nvPr/>
            </p:nvSpPr>
            <p:spPr>
              <a:xfrm>
                <a:off x="5288400" y="404676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4" y="0"/>
                    </a:moveTo>
                    <a:lnTo>
                      <a:pt x="0" y="5"/>
                    </a:lnTo>
                    <a:lnTo>
                      <a:pt x="48" y="7"/>
                    </a:lnTo>
                    <a:lnTo>
                      <a:pt x="4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93"/>
              <p:cNvSpPr/>
              <p:nvPr/>
            </p:nvSpPr>
            <p:spPr>
              <a:xfrm>
                <a:off x="5289480" y="40460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5" y="0"/>
                    </a:moveTo>
                    <a:lnTo>
                      <a:pt x="0" y="4"/>
                    </a:lnTo>
                    <a:lnTo>
                      <a:pt x="44" y="6"/>
                    </a:lnTo>
                    <a:lnTo>
                      <a:pt x="4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94"/>
              <p:cNvSpPr/>
              <p:nvPr/>
            </p:nvSpPr>
            <p:spPr>
              <a:xfrm>
                <a:off x="5289480" y="4043880"/>
                <a:ext cx="22680" cy="360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5" y="0"/>
                    </a:moveTo>
                    <a:lnTo>
                      <a:pt x="0" y="8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95"/>
              <p:cNvSpPr/>
              <p:nvPr/>
            </p:nvSpPr>
            <p:spPr>
              <a:xfrm>
                <a:off x="5292360" y="4043880"/>
                <a:ext cx="19440" cy="18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4" y="0"/>
                    </a:moveTo>
                    <a:lnTo>
                      <a:pt x="0" y="4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96"/>
              <p:cNvSpPr/>
              <p:nvPr/>
            </p:nvSpPr>
            <p:spPr>
              <a:xfrm>
                <a:off x="5292360" y="4041360"/>
                <a:ext cx="21600" cy="252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10" y="0"/>
                    </a:moveTo>
                    <a:lnTo>
                      <a:pt x="0" y="5"/>
                    </a:lnTo>
                    <a:lnTo>
                      <a:pt x="39" y="5"/>
                    </a:lnTo>
                    <a:lnTo>
                      <a:pt x="45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97"/>
              <p:cNvSpPr/>
              <p:nvPr/>
            </p:nvSpPr>
            <p:spPr>
              <a:xfrm>
                <a:off x="5294160" y="4041360"/>
                <a:ext cx="19800" cy="25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6" y="0"/>
                    </a:moveTo>
                    <a:lnTo>
                      <a:pt x="0" y="5"/>
                    </a:lnTo>
                    <a:lnTo>
                      <a:pt x="35" y="5"/>
                    </a:lnTo>
                    <a:lnTo>
                      <a:pt x="4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98"/>
              <p:cNvSpPr/>
              <p:nvPr/>
            </p:nvSpPr>
            <p:spPr>
              <a:xfrm>
                <a:off x="5297400" y="4039560"/>
                <a:ext cx="16560" cy="288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9"/>
              <p:cNvSpPr/>
              <p:nvPr/>
            </p:nvSpPr>
            <p:spPr>
              <a:xfrm>
                <a:off x="5297400" y="4039560"/>
                <a:ext cx="16560" cy="288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00"/>
              <p:cNvSpPr/>
              <p:nvPr/>
            </p:nvSpPr>
            <p:spPr>
              <a:xfrm>
                <a:off x="5299200" y="40377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6" y="0"/>
                    </a:moveTo>
                    <a:lnTo>
                      <a:pt x="0" y="4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01"/>
              <p:cNvSpPr/>
              <p:nvPr/>
            </p:nvSpPr>
            <p:spPr>
              <a:xfrm>
                <a:off x="5299200" y="403776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9" y="0"/>
                    </a:moveTo>
                    <a:lnTo>
                      <a:pt x="0" y="4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2"/>
              <p:cNvSpPr/>
              <p:nvPr/>
            </p:nvSpPr>
            <p:spPr>
              <a:xfrm>
                <a:off x="5301360" y="403596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3" y="0"/>
                    </a:moveTo>
                    <a:lnTo>
                      <a:pt x="0" y="3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03"/>
              <p:cNvSpPr/>
              <p:nvPr/>
            </p:nvSpPr>
            <p:spPr>
              <a:xfrm>
                <a:off x="5303160" y="4034160"/>
                <a:ext cx="10800" cy="3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6" y="0"/>
                    </a:moveTo>
                    <a:lnTo>
                      <a:pt x="0" y="9"/>
                    </a:lnTo>
                    <a:lnTo>
                      <a:pt x="23" y="9"/>
                    </a:lnTo>
                    <a:lnTo>
                      <a:pt x="2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4"/>
              <p:cNvSpPr/>
              <p:nvPr/>
            </p:nvSpPr>
            <p:spPr>
              <a:xfrm>
                <a:off x="5303160" y="403416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6" y="0"/>
                    </a:moveTo>
                    <a:lnTo>
                      <a:pt x="0" y="6"/>
                    </a:lnTo>
                    <a:lnTo>
                      <a:pt x="23" y="6"/>
                    </a:lnTo>
                    <a:lnTo>
                      <a:pt x="2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05"/>
              <p:cNvSpPr/>
              <p:nvPr/>
            </p:nvSpPr>
            <p:spPr>
              <a:xfrm>
                <a:off x="5306040" y="403236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4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6"/>
              <p:cNvSpPr/>
              <p:nvPr/>
            </p:nvSpPr>
            <p:spPr>
              <a:xfrm>
                <a:off x="5306040" y="403236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7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07"/>
              <p:cNvSpPr/>
              <p:nvPr/>
            </p:nvSpPr>
            <p:spPr>
              <a:xfrm>
                <a:off x="5308200" y="4030200"/>
                <a:ext cx="5760" cy="18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3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08"/>
              <p:cNvSpPr/>
              <p:nvPr/>
            </p:nvSpPr>
            <p:spPr>
              <a:xfrm>
                <a:off x="5310360" y="40302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6" y="0"/>
                    </a:move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9"/>
              <p:cNvSpPr/>
              <p:nvPr/>
            </p:nvSpPr>
            <p:spPr>
              <a:xfrm>
                <a:off x="5310360" y="4028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6" y="0"/>
                    </a:moveTo>
                    <a:lnTo>
                      <a:pt x="0" y="4"/>
                    </a:lnTo>
                    <a:lnTo>
                      <a:pt x="10" y="4"/>
                    </a:lnTo>
                    <a:lnTo>
                      <a:pt x="1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10"/>
              <p:cNvSpPr/>
              <p:nvPr/>
            </p:nvSpPr>
            <p:spPr>
              <a:xfrm>
                <a:off x="5312160" y="4028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11"/>
              <p:cNvSpPr/>
              <p:nvPr/>
            </p:nvSpPr>
            <p:spPr>
              <a:xfrm>
                <a:off x="5312160" y="4025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2"/>
              <p:cNvSpPr/>
              <p:nvPr/>
            </p:nvSpPr>
            <p:spPr>
              <a:xfrm>
                <a:off x="5314320" y="4023720"/>
                <a:ext cx="2880" cy="4680"/>
              </a:xfrm>
              <a:prstGeom prst="rect">
                <a:avLst/>
              </a:pr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13"/>
              <p:cNvSpPr/>
              <p:nvPr/>
            </p:nvSpPr>
            <p:spPr>
              <a:xfrm>
                <a:off x="5314320" y="40237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14"/>
              <p:cNvSpPr/>
              <p:nvPr/>
            </p:nvSpPr>
            <p:spPr>
              <a:xfrm>
                <a:off x="5314320" y="402300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5"/>
              <p:cNvSpPr/>
              <p:nvPr/>
            </p:nvSpPr>
            <p:spPr>
              <a:xfrm>
                <a:off x="5317200" y="4023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16"/>
              <p:cNvSpPr/>
              <p:nvPr/>
            </p:nvSpPr>
            <p:spPr>
              <a:xfrm>
                <a:off x="4390920" y="3908520"/>
                <a:ext cx="112680" cy="88560"/>
              </a:xfrm>
              <a:custGeom>
                <a:avLst/>
                <a:gdLst/>
                <a:ahLst/>
                <a:rect l="l" t="t" r="r" b="b"/>
                <a:pathLst>
                  <a:path w="229" h="194">
                    <a:moveTo>
                      <a:pt x="13" y="185"/>
                    </a:moveTo>
                    <a:lnTo>
                      <a:pt x="0" y="185"/>
                    </a:lnTo>
                    <a:lnTo>
                      <a:pt x="207" y="0"/>
                    </a:lnTo>
                    <a:lnTo>
                      <a:pt x="229" y="28"/>
                    </a:lnTo>
                    <a:lnTo>
                      <a:pt x="34" y="194"/>
                    </a:lnTo>
                    <a:lnTo>
                      <a:pt x="13" y="185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17"/>
              <p:cNvSpPr/>
              <p:nvPr/>
            </p:nvSpPr>
            <p:spPr>
              <a:xfrm>
                <a:off x="4127400" y="3929760"/>
                <a:ext cx="111600" cy="50400"/>
              </a:xfrm>
              <a:custGeom>
                <a:avLst/>
                <a:gdLst/>
                <a:ahLst/>
                <a:rect l="l" t="t" r="r" b="b"/>
                <a:pathLst>
                  <a:path w="227" h="109">
                    <a:moveTo>
                      <a:pt x="26" y="109"/>
                    </a:moveTo>
                    <a:lnTo>
                      <a:pt x="0" y="109"/>
                    </a:lnTo>
                    <a:lnTo>
                      <a:pt x="37" y="57"/>
                    </a:lnTo>
                    <a:lnTo>
                      <a:pt x="79" y="59"/>
                    </a:lnTo>
                    <a:lnTo>
                      <a:pt x="173" y="11"/>
                    </a:lnTo>
                    <a:lnTo>
                      <a:pt x="227" y="0"/>
                    </a:lnTo>
                    <a:lnTo>
                      <a:pt x="181" y="56"/>
                    </a:lnTo>
                    <a:lnTo>
                      <a:pt x="137" y="67"/>
                    </a:lnTo>
                    <a:lnTo>
                      <a:pt x="26" y="10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18"/>
              <p:cNvSpPr/>
              <p:nvPr/>
            </p:nvSpPr>
            <p:spPr>
              <a:xfrm>
                <a:off x="4963680" y="3609000"/>
                <a:ext cx="366120" cy="365040"/>
              </a:xfrm>
              <a:custGeom>
                <a:avLst/>
                <a:gdLst/>
                <a:ahLst/>
                <a:rect l="l" t="t" r="r" b="b"/>
                <a:pathLst>
                  <a:path w="740" h="799">
                    <a:moveTo>
                      <a:pt x="452" y="788"/>
                    </a:moveTo>
                    <a:lnTo>
                      <a:pt x="454" y="753"/>
                    </a:lnTo>
                    <a:lnTo>
                      <a:pt x="456" y="720"/>
                    </a:lnTo>
                    <a:lnTo>
                      <a:pt x="456" y="687"/>
                    </a:lnTo>
                    <a:lnTo>
                      <a:pt x="458" y="653"/>
                    </a:lnTo>
                    <a:lnTo>
                      <a:pt x="437" y="653"/>
                    </a:lnTo>
                    <a:lnTo>
                      <a:pt x="417" y="655"/>
                    </a:lnTo>
                    <a:lnTo>
                      <a:pt x="397" y="657"/>
                    </a:lnTo>
                    <a:lnTo>
                      <a:pt x="377" y="659"/>
                    </a:lnTo>
                    <a:lnTo>
                      <a:pt x="356" y="663"/>
                    </a:lnTo>
                    <a:lnTo>
                      <a:pt x="338" y="666"/>
                    </a:lnTo>
                    <a:lnTo>
                      <a:pt x="317" y="670"/>
                    </a:lnTo>
                    <a:lnTo>
                      <a:pt x="297" y="674"/>
                    </a:lnTo>
                    <a:lnTo>
                      <a:pt x="277" y="677"/>
                    </a:lnTo>
                    <a:lnTo>
                      <a:pt x="258" y="679"/>
                    </a:lnTo>
                    <a:lnTo>
                      <a:pt x="238" y="681"/>
                    </a:lnTo>
                    <a:lnTo>
                      <a:pt x="218" y="681"/>
                    </a:lnTo>
                    <a:lnTo>
                      <a:pt x="198" y="681"/>
                    </a:lnTo>
                    <a:lnTo>
                      <a:pt x="179" y="679"/>
                    </a:lnTo>
                    <a:lnTo>
                      <a:pt x="159" y="674"/>
                    </a:lnTo>
                    <a:lnTo>
                      <a:pt x="139" y="668"/>
                    </a:lnTo>
                    <a:lnTo>
                      <a:pt x="150" y="664"/>
                    </a:lnTo>
                    <a:lnTo>
                      <a:pt x="161" y="659"/>
                    </a:lnTo>
                    <a:lnTo>
                      <a:pt x="172" y="655"/>
                    </a:lnTo>
                    <a:lnTo>
                      <a:pt x="183" y="651"/>
                    </a:lnTo>
                    <a:lnTo>
                      <a:pt x="155" y="637"/>
                    </a:lnTo>
                    <a:lnTo>
                      <a:pt x="135" y="626"/>
                    </a:lnTo>
                    <a:lnTo>
                      <a:pt x="120" y="616"/>
                    </a:lnTo>
                    <a:lnTo>
                      <a:pt x="107" y="607"/>
                    </a:lnTo>
                    <a:lnTo>
                      <a:pt x="96" y="594"/>
                    </a:lnTo>
                    <a:lnTo>
                      <a:pt x="87" y="580"/>
                    </a:lnTo>
                    <a:lnTo>
                      <a:pt x="78" y="559"/>
                    </a:lnTo>
                    <a:lnTo>
                      <a:pt x="65" y="530"/>
                    </a:lnTo>
                    <a:lnTo>
                      <a:pt x="55" y="535"/>
                    </a:lnTo>
                    <a:lnTo>
                      <a:pt x="48" y="539"/>
                    </a:lnTo>
                    <a:lnTo>
                      <a:pt x="41" y="539"/>
                    </a:lnTo>
                    <a:lnTo>
                      <a:pt x="33" y="539"/>
                    </a:lnTo>
                    <a:lnTo>
                      <a:pt x="26" y="539"/>
                    </a:lnTo>
                    <a:lnTo>
                      <a:pt x="19" y="535"/>
                    </a:lnTo>
                    <a:lnTo>
                      <a:pt x="11" y="532"/>
                    </a:lnTo>
                    <a:lnTo>
                      <a:pt x="0" y="526"/>
                    </a:lnTo>
                    <a:lnTo>
                      <a:pt x="8" y="519"/>
                    </a:lnTo>
                    <a:lnTo>
                      <a:pt x="15" y="511"/>
                    </a:lnTo>
                    <a:lnTo>
                      <a:pt x="20" y="504"/>
                    </a:lnTo>
                    <a:lnTo>
                      <a:pt x="28" y="495"/>
                    </a:lnTo>
                    <a:lnTo>
                      <a:pt x="35" y="485"/>
                    </a:lnTo>
                    <a:lnTo>
                      <a:pt x="43" y="478"/>
                    </a:lnTo>
                    <a:lnTo>
                      <a:pt x="48" y="471"/>
                    </a:lnTo>
                    <a:lnTo>
                      <a:pt x="55" y="463"/>
                    </a:lnTo>
                    <a:lnTo>
                      <a:pt x="46" y="461"/>
                    </a:lnTo>
                    <a:lnTo>
                      <a:pt x="37" y="460"/>
                    </a:lnTo>
                    <a:lnTo>
                      <a:pt x="26" y="458"/>
                    </a:lnTo>
                    <a:lnTo>
                      <a:pt x="17" y="454"/>
                    </a:lnTo>
                    <a:lnTo>
                      <a:pt x="39" y="421"/>
                    </a:lnTo>
                    <a:lnTo>
                      <a:pt x="63" y="386"/>
                    </a:lnTo>
                    <a:lnTo>
                      <a:pt x="87" y="353"/>
                    </a:lnTo>
                    <a:lnTo>
                      <a:pt x="113" y="319"/>
                    </a:lnTo>
                    <a:lnTo>
                      <a:pt x="142" y="292"/>
                    </a:lnTo>
                    <a:lnTo>
                      <a:pt x="175" y="268"/>
                    </a:lnTo>
                    <a:lnTo>
                      <a:pt x="210" y="249"/>
                    </a:lnTo>
                    <a:lnTo>
                      <a:pt x="251" y="240"/>
                    </a:lnTo>
                    <a:lnTo>
                      <a:pt x="238" y="251"/>
                    </a:lnTo>
                    <a:lnTo>
                      <a:pt x="225" y="264"/>
                    </a:lnTo>
                    <a:lnTo>
                      <a:pt x="212" y="275"/>
                    </a:lnTo>
                    <a:lnTo>
                      <a:pt x="199" y="288"/>
                    </a:lnTo>
                    <a:lnTo>
                      <a:pt x="186" y="301"/>
                    </a:lnTo>
                    <a:lnTo>
                      <a:pt x="174" y="312"/>
                    </a:lnTo>
                    <a:lnTo>
                      <a:pt x="161" y="325"/>
                    </a:lnTo>
                    <a:lnTo>
                      <a:pt x="148" y="336"/>
                    </a:lnTo>
                    <a:lnTo>
                      <a:pt x="159" y="332"/>
                    </a:lnTo>
                    <a:lnTo>
                      <a:pt x="170" y="327"/>
                    </a:lnTo>
                    <a:lnTo>
                      <a:pt x="181" y="321"/>
                    </a:lnTo>
                    <a:lnTo>
                      <a:pt x="194" y="316"/>
                    </a:lnTo>
                    <a:lnTo>
                      <a:pt x="207" y="310"/>
                    </a:lnTo>
                    <a:lnTo>
                      <a:pt x="218" y="305"/>
                    </a:lnTo>
                    <a:lnTo>
                      <a:pt x="229" y="297"/>
                    </a:lnTo>
                    <a:lnTo>
                      <a:pt x="240" y="292"/>
                    </a:lnTo>
                    <a:lnTo>
                      <a:pt x="247" y="299"/>
                    </a:lnTo>
                    <a:lnTo>
                      <a:pt x="253" y="305"/>
                    </a:lnTo>
                    <a:lnTo>
                      <a:pt x="258" y="312"/>
                    </a:lnTo>
                    <a:lnTo>
                      <a:pt x="266" y="319"/>
                    </a:lnTo>
                    <a:lnTo>
                      <a:pt x="229" y="336"/>
                    </a:lnTo>
                    <a:lnTo>
                      <a:pt x="198" y="351"/>
                    </a:lnTo>
                    <a:lnTo>
                      <a:pt x="170" y="362"/>
                    </a:lnTo>
                    <a:lnTo>
                      <a:pt x="148" y="375"/>
                    </a:lnTo>
                    <a:lnTo>
                      <a:pt x="127" y="391"/>
                    </a:lnTo>
                    <a:lnTo>
                      <a:pt x="111" y="412"/>
                    </a:lnTo>
                    <a:lnTo>
                      <a:pt x="98" y="439"/>
                    </a:lnTo>
                    <a:lnTo>
                      <a:pt x="89" y="474"/>
                    </a:lnTo>
                    <a:lnTo>
                      <a:pt x="105" y="467"/>
                    </a:lnTo>
                    <a:lnTo>
                      <a:pt x="124" y="460"/>
                    </a:lnTo>
                    <a:lnTo>
                      <a:pt x="140" y="452"/>
                    </a:lnTo>
                    <a:lnTo>
                      <a:pt x="159" y="443"/>
                    </a:lnTo>
                    <a:lnTo>
                      <a:pt x="175" y="436"/>
                    </a:lnTo>
                    <a:lnTo>
                      <a:pt x="194" y="428"/>
                    </a:lnTo>
                    <a:lnTo>
                      <a:pt x="210" y="421"/>
                    </a:lnTo>
                    <a:lnTo>
                      <a:pt x="227" y="413"/>
                    </a:lnTo>
                    <a:lnTo>
                      <a:pt x="212" y="426"/>
                    </a:lnTo>
                    <a:lnTo>
                      <a:pt x="196" y="439"/>
                    </a:lnTo>
                    <a:lnTo>
                      <a:pt x="179" y="452"/>
                    </a:lnTo>
                    <a:lnTo>
                      <a:pt x="164" y="463"/>
                    </a:lnTo>
                    <a:lnTo>
                      <a:pt x="148" y="476"/>
                    </a:lnTo>
                    <a:lnTo>
                      <a:pt x="131" y="487"/>
                    </a:lnTo>
                    <a:lnTo>
                      <a:pt x="113" y="498"/>
                    </a:lnTo>
                    <a:lnTo>
                      <a:pt x="96" y="509"/>
                    </a:lnTo>
                    <a:lnTo>
                      <a:pt x="100" y="524"/>
                    </a:lnTo>
                    <a:lnTo>
                      <a:pt x="105" y="539"/>
                    </a:lnTo>
                    <a:lnTo>
                      <a:pt x="109" y="554"/>
                    </a:lnTo>
                    <a:lnTo>
                      <a:pt x="113" y="567"/>
                    </a:lnTo>
                    <a:lnTo>
                      <a:pt x="118" y="568"/>
                    </a:lnTo>
                    <a:lnTo>
                      <a:pt x="126" y="570"/>
                    </a:lnTo>
                    <a:lnTo>
                      <a:pt x="131" y="572"/>
                    </a:lnTo>
                    <a:lnTo>
                      <a:pt x="139" y="576"/>
                    </a:lnTo>
                    <a:lnTo>
                      <a:pt x="139" y="583"/>
                    </a:lnTo>
                    <a:lnTo>
                      <a:pt x="140" y="589"/>
                    </a:lnTo>
                    <a:lnTo>
                      <a:pt x="140" y="596"/>
                    </a:lnTo>
                    <a:lnTo>
                      <a:pt x="140" y="602"/>
                    </a:lnTo>
                    <a:lnTo>
                      <a:pt x="161" y="603"/>
                    </a:lnTo>
                    <a:lnTo>
                      <a:pt x="181" y="605"/>
                    </a:lnTo>
                    <a:lnTo>
                      <a:pt x="201" y="607"/>
                    </a:lnTo>
                    <a:lnTo>
                      <a:pt x="222" y="611"/>
                    </a:lnTo>
                    <a:lnTo>
                      <a:pt x="242" y="613"/>
                    </a:lnTo>
                    <a:lnTo>
                      <a:pt x="262" y="615"/>
                    </a:lnTo>
                    <a:lnTo>
                      <a:pt x="282" y="616"/>
                    </a:lnTo>
                    <a:lnTo>
                      <a:pt x="303" y="618"/>
                    </a:lnTo>
                    <a:lnTo>
                      <a:pt x="323" y="620"/>
                    </a:lnTo>
                    <a:lnTo>
                      <a:pt x="343" y="620"/>
                    </a:lnTo>
                    <a:lnTo>
                      <a:pt x="364" y="622"/>
                    </a:lnTo>
                    <a:lnTo>
                      <a:pt x="384" y="622"/>
                    </a:lnTo>
                    <a:lnTo>
                      <a:pt x="404" y="620"/>
                    </a:lnTo>
                    <a:lnTo>
                      <a:pt x="424" y="620"/>
                    </a:lnTo>
                    <a:lnTo>
                      <a:pt x="443" y="618"/>
                    </a:lnTo>
                    <a:lnTo>
                      <a:pt x="463" y="615"/>
                    </a:lnTo>
                    <a:lnTo>
                      <a:pt x="476" y="517"/>
                    </a:lnTo>
                    <a:lnTo>
                      <a:pt x="489" y="417"/>
                    </a:lnTo>
                    <a:lnTo>
                      <a:pt x="500" y="318"/>
                    </a:lnTo>
                    <a:lnTo>
                      <a:pt x="509" y="216"/>
                    </a:lnTo>
                    <a:lnTo>
                      <a:pt x="502" y="222"/>
                    </a:lnTo>
                    <a:lnTo>
                      <a:pt x="495" y="229"/>
                    </a:lnTo>
                    <a:lnTo>
                      <a:pt x="487" y="236"/>
                    </a:lnTo>
                    <a:lnTo>
                      <a:pt x="478" y="244"/>
                    </a:lnTo>
                    <a:lnTo>
                      <a:pt x="474" y="240"/>
                    </a:lnTo>
                    <a:lnTo>
                      <a:pt x="469" y="236"/>
                    </a:lnTo>
                    <a:lnTo>
                      <a:pt x="463" y="234"/>
                    </a:lnTo>
                    <a:lnTo>
                      <a:pt x="456" y="231"/>
                    </a:lnTo>
                    <a:lnTo>
                      <a:pt x="467" y="218"/>
                    </a:lnTo>
                    <a:lnTo>
                      <a:pt x="478" y="205"/>
                    </a:lnTo>
                    <a:lnTo>
                      <a:pt x="487" y="190"/>
                    </a:lnTo>
                    <a:lnTo>
                      <a:pt x="498" y="175"/>
                    </a:lnTo>
                    <a:lnTo>
                      <a:pt x="471" y="185"/>
                    </a:lnTo>
                    <a:lnTo>
                      <a:pt x="441" y="190"/>
                    </a:lnTo>
                    <a:lnTo>
                      <a:pt x="410" y="194"/>
                    </a:lnTo>
                    <a:lnTo>
                      <a:pt x="378" y="196"/>
                    </a:lnTo>
                    <a:lnTo>
                      <a:pt x="345" y="196"/>
                    </a:lnTo>
                    <a:lnTo>
                      <a:pt x="314" y="192"/>
                    </a:lnTo>
                    <a:lnTo>
                      <a:pt x="282" y="187"/>
                    </a:lnTo>
                    <a:lnTo>
                      <a:pt x="253" y="179"/>
                    </a:lnTo>
                    <a:lnTo>
                      <a:pt x="225" y="166"/>
                    </a:lnTo>
                    <a:lnTo>
                      <a:pt x="201" y="153"/>
                    </a:lnTo>
                    <a:lnTo>
                      <a:pt x="179" y="135"/>
                    </a:lnTo>
                    <a:lnTo>
                      <a:pt x="161" y="115"/>
                    </a:lnTo>
                    <a:lnTo>
                      <a:pt x="146" y="91"/>
                    </a:lnTo>
                    <a:lnTo>
                      <a:pt x="137" y="65"/>
                    </a:lnTo>
                    <a:lnTo>
                      <a:pt x="133" y="33"/>
                    </a:lnTo>
                    <a:lnTo>
                      <a:pt x="135" y="0"/>
                    </a:lnTo>
                    <a:lnTo>
                      <a:pt x="151" y="11"/>
                    </a:lnTo>
                    <a:lnTo>
                      <a:pt x="166" y="26"/>
                    </a:lnTo>
                    <a:lnTo>
                      <a:pt x="179" y="43"/>
                    </a:lnTo>
                    <a:lnTo>
                      <a:pt x="190" y="59"/>
                    </a:lnTo>
                    <a:lnTo>
                      <a:pt x="199" y="78"/>
                    </a:lnTo>
                    <a:lnTo>
                      <a:pt x="209" y="98"/>
                    </a:lnTo>
                    <a:lnTo>
                      <a:pt x="216" y="118"/>
                    </a:lnTo>
                    <a:lnTo>
                      <a:pt x="225" y="139"/>
                    </a:lnTo>
                    <a:lnTo>
                      <a:pt x="255" y="139"/>
                    </a:lnTo>
                    <a:lnTo>
                      <a:pt x="282" y="140"/>
                    </a:lnTo>
                    <a:lnTo>
                      <a:pt x="312" y="140"/>
                    </a:lnTo>
                    <a:lnTo>
                      <a:pt x="340" y="140"/>
                    </a:lnTo>
                    <a:lnTo>
                      <a:pt x="369" y="140"/>
                    </a:lnTo>
                    <a:lnTo>
                      <a:pt x="397" y="140"/>
                    </a:lnTo>
                    <a:lnTo>
                      <a:pt x="424" y="140"/>
                    </a:lnTo>
                    <a:lnTo>
                      <a:pt x="452" y="139"/>
                    </a:lnTo>
                    <a:lnTo>
                      <a:pt x="480" y="139"/>
                    </a:lnTo>
                    <a:lnTo>
                      <a:pt x="508" y="137"/>
                    </a:lnTo>
                    <a:lnTo>
                      <a:pt x="535" y="137"/>
                    </a:lnTo>
                    <a:lnTo>
                      <a:pt x="565" y="135"/>
                    </a:lnTo>
                    <a:lnTo>
                      <a:pt x="592" y="133"/>
                    </a:lnTo>
                    <a:lnTo>
                      <a:pt x="622" y="131"/>
                    </a:lnTo>
                    <a:lnTo>
                      <a:pt x="650" y="131"/>
                    </a:lnTo>
                    <a:lnTo>
                      <a:pt x="679" y="129"/>
                    </a:lnTo>
                    <a:lnTo>
                      <a:pt x="683" y="124"/>
                    </a:lnTo>
                    <a:lnTo>
                      <a:pt x="688" y="115"/>
                    </a:lnTo>
                    <a:lnTo>
                      <a:pt x="694" y="107"/>
                    </a:lnTo>
                    <a:lnTo>
                      <a:pt x="701" y="100"/>
                    </a:lnTo>
                    <a:lnTo>
                      <a:pt x="710" y="105"/>
                    </a:lnTo>
                    <a:lnTo>
                      <a:pt x="722" y="111"/>
                    </a:lnTo>
                    <a:lnTo>
                      <a:pt x="731" y="118"/>
                    </a:lnTo>
                    <a:lnTo>
                      <a:pt x="740" y="124"/>
                    </a:lnTo>
                    <a:lnTo>
                      <a:pt x="718" y="140"/>
                    </a:lnTo>
                    <a:lnTo>
                      <a:pt x="698" y="153"/>
                    </a:lnTo>
                    <a:lnTo>
                      <a:pt x="677" y="163"/>
                    </a:lnTo>
                    <a:lnTo>
                      <a:pt x="657" y="168"/>
                    </a:lnTo>
                    <a:lnTo>
                      <a:pt x="635" y="172"/>
                    </a:lnTo>
                    <a:lnTo>
                      <a:pt x="613" y="174"/>
                    </a:lnTo>
                    <a:lnTo>
                      <a:pt x="585" y="175"/>
                    </a:lnTo>
                    <a:lnTo>
                      <a:pt x="555" y="177"/>
                    </a:lnTo>
                    <a:lnTo>
                      <a:pt x="546" y="233"/>
                    </a:lnTo>
                    <a:lnTo>
                      <a:pt x="539" y="288"/>
                    </a:lnTo>
                    <a:lnTo>
                      <a:pt x="530" y="343"/>
                    </a:lnTo>
                    <a:lnTo>
                      <a:pt x="522" y="399"/>
                    </a:lnTo>
                    <a:lnTo>
                      <a:pt x="515" y="454"/>
                    </a:lnTo>
                    <a:lnTo>
                      <a:pt x="509" y="508"/>
                    </a:lnTo>
                    <a:lnTo>
                      <a:pt x="502" y="563"/>
                    </a:lnTo>
                    <a:lnTo>
                      <a:pt x="495" y="616"/>
                    </a:lnTo>
                    <a:lnTo>
                      <a:pt x="511" y="615"/>
                    </a:lnTo>
                    <a:lnTo>
                      <a:pt x="528" y="613"/>
                    </a:lnTo>
                    <a:lnTo>
                      <a:pt x="544" y="611"/>
                    </a:lnTo>
                    <a:lnTo>
                      <a:pt x="563" y="609"/>
                    </a:lnTo>
                    <a:lnTo>
                      <a:pt x="579" y="607"/>
                    </a:lnTo>
                    <a:lnTo>
                      <a:pt x="596" y="605"/>
                    </a:lnTo>
                    <a:lnTo>
                      <a:pt x="613" y="602"/>
                    </a:lnTo>
                    <a:lnTo>
                      <a:pt x="629" y="600"/>
                    </a:lnTo>
                    <a:lnTo>
                      <a:pt x="616" y="618"/>
                    </a:lnTo>
                    <a:lnTo>
                      <a:pt x="603" y="629"/>
                    </a:lnTo>
                    <a:lnTo>
                      <a:pt x="589" y="639"/>
                    </a:lnTo>
                    <a:lnTo>
                      <a:pt x="572" y="644"/>
                    </a:lnTo>
                    <a:lnTo>
                      <a:pt x="554" y="648"/>
                    </a:lnTo>
                    <a:lnTo>
                      <a:pt x="535" y="650"/>
                    </a:lnTo>
                    <a:lnTo>
                      <a:pt x="515" y="651"/>
                    </a:lnTo>
                    <a:lnTo>
                      <a:pt x="493" y="655"/>
                    </a:lnTo>
                    <a:lnTo>
                      <a:pt x="491" y="690"/>
                    </a:lnTo>
                    <a:lnTo>
                      <a:pt x="487" y="727"/>
                    </a:lnTo>
                    <a:lnTo>
                      <a:pt x="482" y="762"/>
                    </a:lnTo>
                    <a:lnTo>
                      <a:pt x="478" y="799"/>
                    </a:lnTo>
                    <a:lnTo>
                      <a:pt x="471" y="795"/>
                    </a:lnTo>
                    <a:lnTo>
                      <a:pt x="465" y="792"/>
                    </a:lnTo>
                    <a:lnTo>
                      <a:pt x="460" y="790"/>
                    </a:lnTo>
                    <a:lnTo>
                      <a:pt x="452" y="78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19"/>
              <p:cNvSpPr/>
              <p:nvPr/>
            </p:nvSpPr>
            <p:spPr>
              <a:xfrm>
                <a:off x="4676400" y="3750120"/>
                <a:ext cx="135360" cy="144720"/>
              </a:xfrm>
              <a:custGeom>
                <a:avLst/>
                <a:gdLst/>
                <a:ahLst/>
                <a:rect l="l" t="t" r="r" b="b"/>
                <a:pathLst>
                  <a:path w="273" h="318">
                    <a:moveTo>
                      <a:pt x="75" y="318"/>
                    </a:moveTo>
                    <a:lnTo>
                      <a:pt x="63" y="316"/>
                    </a:lnTo>
                    <a:lnTo>
                      <a:pt x="24" y="284"/>
                    </a:lnTo>
                    <a:lnTo>
                      <a:pt x="0" y="257"/>
                    </a:lnTo>
                    <a:lnTo>
                      <a:pt x="13" y="231"/>
                    </a:lnTo>
                    <a:lnTo>
                      <a:pt x="15" y="205"/>
                    </a:lnTo>
                    <a:lnTo>
                      <a:pt x="16" y="179"/>
                    </a:lnTo>
                    <a:lnTo>
                      <a:pt x="20" y="152"/>
                    </a:lnTo>
                    <a:lnTo>
                      <a:pt x="27" y="126"/>
                    </a:lnTo>
                    <a:lnTo>
                      <a:pt x="37" y="98"/>
                    </a:lnTo>
                    <a:lnTo>
                      <a:pt x="51" y="72"/>
                    </a:lnTo>
                    <a:lnTo>
                      <a:pt x="72" y="46"/>
                    </a:lnTo>
                    <a:lnTo>
                      <a:pt x="99" y="21"/>
                    </a:lnTo>
                    <a:lnTo>
                      <a:pt x="136" y="0"/>
                    </a:lnTo>
                    <a:lnTo>
                      <a:pt x="157" y="15"/>
                    </a:lnTo>
                    <a:lnTo>
                      <a:pt x="70" y="124"/>
                    </a:lnTo>
                    <a:lnTo>
                      <a:pt x="168" y="85"/>
                    </a:lnTo>
                    <a:lnTo>
                      <a:pt x="230" y="52"/>
                    </a:lnTo>
                    <a:lnTo>
                      <a:pt x="273" y="63"/>
                    </a:lnTo>
                    <a:lnTo>
                      <a:pt x="90" y="155"/>
                    </a:lnTo>
                    <a:lnTo>
                      <a:pt x="77" y="164"/>
                    </a:lnTo>
                    <a:lnTo>
                      <a:pt x="50" y="185"/>
                    </a:lnTo>
                    <a:lnTo>
                      <a:pt x="50" y="220"/>
                    </a:lnTo>
                    <a:lnTo>
                      <a:pt x="164" y="159"/>
                    </a:lnTo>
                    <a:lnTo>
                      <a:pt x="74" y="242"/>
                    </a:lnTo>
                    <a:lnTo>
                      <a:pt x="57" y="255"/>
                    </a:lnTo>
                    <a:lnTo>
                      <a:pt x="55" y="268"/>
                    </a:lnTo>
                    <a:lnTo>
                      <a:pt x="64" y="286"/>
                    </a:lnTo>
                    <a:lnTo>
                      <a:pt x="111" y="301"/>
                    </a:lnTo>
                    <a:lnTo>
                      <a:pt x="75" y="318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20"/>
              <p:cNvSpPr/>
              <p:nvPr/>
            </p:nvSpPr>
            <p:spPr>
              <a:xfrm>
                <a:off x="4351320" y="3674160"/>
                <a:ext cx="153360" cy="187560"/>
              </a:xfrm>
              <a:custGeom>
                <a:avLst/>
                <a:gdLst/>
                <a:ahLst/>
                <a:rect l="l" t="t" r="r" b="b"/>
                <a:pathLst>
                  <a:path w="310" h="412">
                    <a:moveTo>
                      <a:pt x="146" y="412"/>
                    </a:moveTo>
                    <a:lnTo>
                      <a:pt x="39" y="360"/>
                    </a:lnTo>
                    <a:lnTo>
                      <a:pt x="18" y="329"/>
                    </a:lnTo>
                    <a:lnTo>
                      <a:pt x="9" y="262"/>
                    </a:lnTo>
                    <a:lnTo>
                      <a:pt x="0" y="249"/>
                    </a:lnTo>
                    <a:lnTo>
                      <a:pt x="2" y="205"/>
                    </a:lnTo>
                    <a:lnTo>
                      <a:pt x="28" y="85"/>
                    </a:lnTo>
                    <a:lnTo>
                      <a:pt x="65" y="52"/>
                    </a:lnTo>
                    <a:lnTo>
                      <a:pt x="184" y="4"/>
                    </a:lnTo>
                    <a:lnTo>
                      <a:pt x="232" y="0"/>
                    </a:lnTo>
                    <a:lnTo>
                      <a:pt x="231" y="32"/>
                    </a:lnTo>
                    <a:lnTo>
                      <a:pt x="168" y="98"/>
                    </a:lnTo>
                    <a:lnTo>
                      <a:pt x="231" y="48"/>
                    </a:lnTo>
                    <a:lnTo>
                      <a:pt x="284" y="24"/>
                    </a:lnTo>
                    <a:lnTo>
                      <a:pt x="304" y="39"/>
                    </a:lnTo>
                    <a:lnTo>
                      <a:pt x="260" y="67"/>
                    </a:lnTo>
                    <a:lnTo>
                      <a:pt x="247" y="72"/>
                    </a:lnTo>
                    <a:lnTo>
                      <a:pt x="216" y="105"/>
                    </a:lnTo>
                    <a:lnTo>
                      <a:pt x="54" y="222"/>
                    </a:lnTo>
                    <a:lnTo>
                      <a:pt x="35" y="238"/>
                    </a:lnTo>
                    <a:lnTo>
                      <a:pt x="42" y="281"/>
                    </a:lnTo>
                    <a:lnTo>
                      <a:pt x="79" y="244"/>
                    </a:lnTo>
                    <a:lnTo>
                      <a:pt x="164" y="200"/>
                    </a:lnTo>
                    <a:lnTo>
                      <a:pt x="199" y="179"/>
                    </a:lnTo>
                    <a:lnTo>
                      <a:pt x="244" y="150"/>
                    </a:lnTo>
                    <a:lnTo>
                      <a:pt x="310" y="131"/>
                    </a:lnTo>
                    <a:lnTo>
                      <a:pt x="247" y="176"/>
                    </a:lnTo>
                    <a:lnTo>
                      <a:pt x="203" y="209"/>
                    </a:lnTo>
                    <a:lnTo>
                      <a:pt x="153" y="242"/>
                    </a:lnTo>
                    <a:lnTo>
                      <a:pt x="50" y="318"/>
                    </a:lnTo>
                    <a:lnTo>
                      <a:pt x="63" y="330"/>
                    </a:lnTo>
                    <a:lnTo>
                      <a:pt x="83" y="362"/>
                    </a:lnTo>
                    <a:lnTo>
                      <a:pt x="127" y="332"/>
                    </a:lnTo>
                    <a:lnTo>
                      <a:pt x="172" y="321"/>
                    </a:lnTo>
                    <a:lnTo>
                      <a:pt x="192" y="356"/>
                    </a:lnTo>
                    <a:lnTo>
                      <a:pt x="116" y="384"/>
                    </a:lnTo>
                    <a:lnTo>
                      <a:pt x="196" y="391"/>
                    </a:lnTo>
                    <a:lnTo>
                      <a:pt x="260" y="390"/>
                    </a:lnTo>
                    <a:lnTo>
                      <a:pt x="146" y="412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21"/>
              <p:cNvSpPr/>
              <p:nvPr/>
            </p:nvSpPr>
            <p:spPr>
              <a:xfrm>
                <a:off x="5249880" y="3711600"/>
                <a:ext cx="133560" cy="162720"/>
              </a:xfrm>
              <a:custGeom>
                <a:avLst/>
                <a:gdLst/>
                <a:ahLst/>
                <a:rect l="l" t="t" r="r" b="b"/>
                <a:pathLst>
                  <a:path w="271" h="356">
                    <a:moveTo>
                      <a:pt x="149" y="356"/>
                    </a:moveTo>
                    <a:lnTo>
                      <a:pt x="127" y="356"/>
                    </a:lnTo>
                    <a:lnTo>
                      <a:pt x="55" y="305"/>
                    </a:lnTo>
                    <a:lnTo>
                      <a:pt x="42" y="273"/>
                    </a:lnTo>
                    <a:lnTo>
                      <a:pt x="0" y="242"/>
                    </a:lnTo>
                    <a:lnTo>
                      <a:pt x="37" y="209"/>
                    </a:lnTo>
                    <a:lnTo>
                      <a:pt x="33" y="194"/>
                    </a:lnTo>
                    <a:lnTo>
                      <a:pt x="35" y="170"/>
                    </a:lnTo>
                    <a:lnTo>
                      <a:pt x="38" y="146"/>
                    </a:lnTo>
                    <a:lnTo>
                      <a:pt x="44" y="124"/>
                    </a:lnTo>
                    <a:lnTo>
                      <a:pt x="49" y="102"/>
                    </a:lnTo>
                    <a:lnTo>
                      <a:pt x="59" y="80"/>
                    </a:lnTo>
                    <a:lnTo>
                      <a:pt x="73" y="57"/>
                    </a:lnTo>
                    <a:lnTo>
                      <a:pt x="92" y="37"/>
                    </a:lnTo>
                    <a:lnTo>
                      <a:pt x="118" y="15"/>
                    </a:lnTo>
                    <a:lnTo>
                      <a:pt x="180" y="0"/>
                    </a:lnTo>
                    <a:lnTo>
                      <a:pt x="201" y="32"/>
                    </a:lnTo>
                    <a:lnTo>
                      <a:pt x="153" y="33"/>
                    </a:lnTo>
                    <a:lnTo>
                      <a:pt x="94" y="102"/>
                    </a:lnTo>
                    <a:lnTo>
                      <a:pt x="271" y="26"/>
                    </a:lnTo>
                    <a:lnTo>
                      <a:pt x="168" y="100"/>
                    </a:lnTo>
                    <a:lnTo>
                      <a:pt x="136" y="129"/>
                    </a:lnTo>
                    <a:lnTo>
                      <a:pt x="83" y="163"/>
                    </a:lnTo>
                    <a:lnTo>
                      <a:pt x="68" y="196"/>
                    </a:lnTo>
                    <a:lnTo>
                      <a:pt x="232" y="124"/>
                    </a:lnTo>
                    <a:lnTo>
                      <a:pt x="79" y="231"/>
                    </a:lnTo>
                    <a:lnTo>
                      <a:pt x="73" y="270"/>
                    </a:lnTo>
                    <a:lnTo>
                      <a:pt x="219" y="214"/>
                    </a:lnTo>
                    <a:lnTo>
                      <a:pt x="97" y="316"/>
                    </a:lnTo>
                    <a:lnTo>
                      <a:pt x="267" y="334"/>
                    </a:lnTo>
                    <a:lnTo>
                      <a:pt x="149" y="35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22"/>
              <p:cNvSpPr/>
              <p:nvPr/>
            </p:nvSpPr>
            <p:spPr>
              <a:xfrm>
                <a:off x="4302000" y="3641040"/>
                <a:ext cx="63000" cy="189360"/>
              </a:xfrm>
              <a:custGeom>
                <a:avLst/>
                <a:gdLst/>
                <a:ahLst/>
                <a:rect l="l" t="t" r="r" b="b"/>
                <a:pathLst>
                  <a:path w="128" h="415">
                    <a:moveTo>
                      <a:pt x="26" y="406"/>
                    </a:moveTo>
                    <a:lnTo>
                      <a:pt x="0" y="59"/>
                    </a:lnTo>
                    <a:lnTo>
                      <a:pt x="43" y="0"/>
                    </a:lnTo>
                    <a:lnTo>
                      <a:pt x="104" y="11"/>
                    </a:lnTo>
                    <a:lnTo>
                      <a:pt x="128" y="48"/>
                    </a:lnTo>
                    <a:lnTo>
                      <a:pt x="98" y="46"/>
                    </a:lnTo>
                    <a:lnTo>
                      <a:pt x="82" y="91"/>
                    </a:lnTo>
                    <a:lnTo>
                      <a:pt x="70" y="135"/>
                    </a:lnTo>
                    <a:lnTo>
                      <a:pt x="67" y="179"/>
                    </a:lnTo>
                    <a:lnTo>
                      <a:pt x="67" y="222"/>
                    </a:lnTo>
                    <a:lnTo>
                      <a:pt x="70" y="266"/>
                    </a:lnTo>
                    <a:lnTo>
                      <a:pt x="76" y="308"/>
                    </a:lnTo>
                    <a:lnTo>
                      <a:pt x="83" y="355"/>
                    </a:lnTo>
                    <a:lnTo>
                      <a:pt x="89" y="399"/>
                    </a:lnTo>
                    <a:lnTo>
                      <a:pt x="54" y="399"/>
                    </a:lnTo>
                    <a:lnTo>
                      <a:pt x="43" y="323"/>
                    </a:lnTo>
                    <a:lnTo>
                      <a:pt x="48" y="415"/>
                    </a:lnTo>
                    <a:lnTo>
                      <a:pt x="26" y="406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23"/>
              <p:cNvSpPr/>
              <p:nvPr/>
            </p:nvSpPr>
            <p:spPr>
              <a:xfrm>
                <a:off x="4050360" y="37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24"/>
              <p:cNvSpPr/>
              <p:nvPr/>
            </p:nvSpPr>
            <p:spPr>
              <a:xfrm>
                <a:off x="4050360" y="37710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25"/>
              <p:cNvSpPr/>
              <p:nvPr/>
            </p:nvSpPr>
            <p:spPr>
              <a:xfrm>
                <a:off x="4050360" y="3771000"/>
                <a:ext cx="720" cy="1800"/>
              </a:xfrm>
              <a:prstGeom prst="rect">
                <a:avLst/>
              </a:pr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26"/>
              <p:cNvSpPr/>
              <p:nvPr/>
            </p:nvSpPr>
            <p:spPr>
              <a:xfrm>
                <a:off x="4050360" y="3769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27"/>
              <p:cNvSpPr/>
              <p:nvPr/>
            </p:nvSpPr>
            <p:spPr>
              <a:xfrm>
                <a:off x="4048200" y="376956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28"/>
              <p:cNvSpPr/>
              <p:nvPr/>
            </p:nvSpPr>
            <p:spPr>
              <a:xfrm>
                <a:off x="4048200" y="3766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lnTo>
                      <a:pt x="4" y="6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29"/>
              <p:cNvSpPr/>
              <p:nvPr/>
            </p:nvSpPr>
            <p:spPr>
              <a:xfrm>
                <a:off x="4048200" y="3766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lnTo>
                      <a:pt x="0" y="6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30"/>
              <p:cNvSpPr/>
              <p:nvPr/>
            </p:nvSpPr>
            <p:spPr>
              <a:xfrm>
                <a:off x="4048200" y="3764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31"/>
              <p:cNvSpPr/>
              <p:nvPr/>
            </p:nvSpPr>
            <p:spPr>
              <a:xfrm>
                <a:off x="4048200" y="376488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0" y="3"/>
                    </a:lnTo>
                    <a:lnTo>
                      <a:pt x="17" y="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32"/>
              <p:cNvSpPr/>
              <p:nvPr/>
            </p:nvSpPr>
            <p:spPr>
              <a:xfrm>
                <a:off x="4048200" y="37620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0" y="6"/>
                    </a:lnTo>
                    <a:lnTo>
                      <a:pt x="17" y="6"/>
                    </a:lnTo>
                    <a:lnTo>
                      <a:pt x="2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33"/>
              <p:cNvSpPr/>
              <p:nvPr/>
            </p:nvSpPr>
            <p:spPr>
              <a:xfrm>
                <a:off x="4048200" y="37620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0" y="6"/>
                    </a:lnTo>
                    <a:lnTo>
                      <a:pt x="23" y="6"/>
                    </a:lnTo>
                    <a:lnTo>
                      <a:pt x="2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34"/>
              <p:cNvSpPr/>
              <p:nvPr/>
            </p:nvSpPr>
            <p:spPr>
              <a:xfrm>
                <a:off x="4048200" y="3761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0" y="4"/>
                    </a:lnTo>
                    <a:lnTo>
                      <a:pt x="23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35"/>
              <p:cNvSpPr/>
              <p:nvPr/>
            </p:nvSpPr>
            <p:spPr>
              <a:xfrm>
                <a:off x="4048200" y="3761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0" y="4"/>
                    </a:lnTo>
                    <a:lnTo>
                      <a:pt x="23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36"/>
              <p:cNvSpPr/>
              <p:nvPr/>
            </p:nvSpPr>
            <p:spPr>
              <a:xfrm>
                <a:off x="4048200" y="375912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37"/>
              <p:cNvSpPr/>
              <p:nvPr/>
            </p:nvSpPr>
            <p:spPr>
              <a:xfrm>
                <a:off x="4048200" y="375912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38"/>
              <p:cNvSpPr/>
              <p:nvPr/>
            </p:nvSpPr>
            <p:spPr>
              <a:xfrm>
                <a:off x="4048200" y="375660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0" y="6"/>
                    </a:lnTo>
                    <a:lnTo>
                      <a:pt x="32" y="6"/>
                    </a:lnTo>
                    <a:lnTo>
                      <a:pt x="3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39"/>
              <p:cNvSpPr/>
              <p:nvPr/>
            </p:nvSpPr>
            <p:spPr>
              <a:xfrm>
                <a:off x="4046400" y="37566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0"/>
                    </a:moveTo>
                    <a:lnTo>
                      <a:pt x="3" y="6"/>
                    </a:lnTo>
                    <a:lnTo>
                      <a:pt x="35" y="6"/>
                    </a:lnTo>
                    <a:lnTo>
                      <a:pt x="3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40"/>
              <p:cNvSpPr/>
              <p:nvPr/>
            </p:nvSpPr>
            <p:spPr>
              <a:xfrm>
                <a:off x="4046400" y="37548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0"/>
                    </a:moveTo>
                    <a:lnTo>
                      <a:pt x="3" y="4"/>
                    </a:lnTo>
                    <a:lnTo>
                      <a:pt x="35" y="6"/>
                    </a:lnTo>
                    <a:lnTo>
                      <a:pt x="3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41"/>
              <p:cNvSpPr/>
              <p:nvPr/>
            </p:nvSpPr>
            <p:spPr>
              <a:xfrm>
                <a:off x="4046400" y="3754800"/>
                <a:ext cx="18720" cy="252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0" y="4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9" y="2"/>
                    </a:lnTo>
                    <a:lnTo>
                      <a:pt x="39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42"/>
              <p:cNvSpPr/>
              <p:nvPr/>
            </p:nvSpPr>
            <p:spPr>
              <a:xfrm>
                <a:off x="4046400" y="3753000"/>
                <a:ext cx="21600" cy="25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3"/>
              <p:cNvSpPr/>
              <p:nvPr/>
            </p:nvSpPr>
            <p:spPr>
              <a:xfrm>
                <a:off x="4048200" y="3753000"/>
                <a:ext cx="19440" cy="25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13" y="0"/>
                    </a:moveTo>
                    <a:lnTo>
                      <a:pt x="0" y="3"/>
                    </a:lnTo>
                    <a:lnTo>
                      <a:pt x="36" y="5"/>
                    </a:lnTo>
                    <a:lnTo>
                      <a:pt x="41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4"/>
              <p:cNvSpPr/>
              <p:nvPr/>
            </p:nvSpPr>
            <p:spPr>
              <a:xfrm>
                <a:off x="4051080" y="37508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13" y="0"/>
                    </a:moveTo>
                    <a:lnTo>
                      <a:pt x="0" y="4"/>
                    </a:lnTo>
                    <a:lnTo>
                      <a:pt x="35" y="6"/>
                    </a:lnTo>
                    <a:lnTo>
                      <a:pt x="3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45"/>
              <p:cNvSpPr/>
              <p:nvPr/>
            </p:nvSpPr>
            <p:spPr>
              <a:xfrm>
                <a:off x="4053960" y="37508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10" y="0"/>
                    </a:moveTo>
                    <a:lnTo>
                      <a:pt x="0" y="4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46"/>
              <p:cNvSpPr/>
              <p:nvPr/>
            </p:nvSpPr>
            <p:spPr>
              <a:xfrm>
                <a:off x="4057200" y="375012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9" y="0"/>
                    </a:moveTo>
                    <a:lnTo>
                      <a:pt x="0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47"/>
              <p:cNvSpPr/>
              <p:nvPr/>
            </p:nvSpPr>
            <p:spPr>
              <a:xfrm>
                <a:off x="4059360" y="37501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9" y="0"/>
                    </a:moveTo>
                    <a:lnTo>
                      <a:pt x="0" y="4"/>
                    </a:lnTo>
                    <a:lnTo>
                      <a:pt x="22" y="4"/>
                    </a:lnTo>
                    <a:lnTo>
                      <a:pt x="2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8"/>
              <p:cNvSpPr/>
              <p:nvPr/>
            </p:nvSpPr>
            <p:spPr>
              <a:xfrm>
                <a:off x="4062240" y="3747600"/>
                <a:ext cx="10440" cy="25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13" y="0"/>
                    </a:moveTo>
                    <a:lnTo>
                      <a:pt x="0" y="5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49"/>
              <p:cNvSpPr/>
              <p:nvPr/>
            </p:nvSpPr>
            <p:spPr>
              <a:xfrm>
                <a:off x="4062960" y="3748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0"/>
                    </a:moveTo>
                    <a:lnTo>
                      <a:pt x="0" y="3"/>
                    </a:lnTo>
                    <a:lnTo>
                      <a:pt x="18" y="3"/>
                    </a:lnTo>
                    <a:lnTo>
                      <a:pt x="1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50"/>
              <p:cNvSpPr/>
              <p:nvPr/>
            </p:nvSpPr>
            <p:spPr>
              <a:xfrm>
                <a:off x="4068000" y="37454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0"/>
                    </a:moveTo>
                    <a:lnTo>
                      <a:pt x="0" y="4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51"/>
              <p:cNvSpPr/>
              <p:nvPr/>
            </p:nvSpPr>
            <p:spPr>
              <a:xfrm>
                <a:off x="4070160" y="3745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0"/>
                    </a:lnTo>
                    <a:lnTo>
                      <a:pt x="5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52"/>
              <p:cNvSpPr/>
              <p:nvPr/>
            </p:nvSpPr>
            <p:spPr>
              <a:xfrm>
                <a:off x="4073040" y="3745440"/>
                <a:ext cx="1080" cy="720"/>
              </a:xfrm>
              <a:prstGeom prst="rect">
                <a:avLst/>
              </a:pr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53"/>
              <p:cNvSpPr/>
              <p:nvPr/>
            </p:nvSpPr>
            <p:spPr>
              <a:xfrm>
                <a:off x="4368240" y="3693600"/>
                <a:ext cx="73440" cy="63000"/>
              </a:xfrm>
              <a:custGeom>
                <a:avLst/>
                <a:gdLst/>
                <a:ahLst/>
                <a:rect l="l" t="t" r="r" b="b"/>
                <a:pathLst>
                  <a:path w="150" h="138">
                    <a:moveTo>
                      <a:pt x="0" y="138"/>
                    </a:moveTo>
                    <a:lnTo>
                      <a:pt x="52" y="35"/>
                    </a:lnTo>
                    <a:lnTo>
                      <a:pt x="150" y="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54"/>
              <p:cNvSpPr/>
              <p:nvPr/>
            </p:nvSpPr>
            <p:spPr>
              <a:xfrm>
                <a:off x="4636440" y="3518280"/>
                <a:ext cx="329760" cy="232560"/>
              </a:xfrm>
              <a:custGeom>
                <a:avLst/>
                <a:gdLst/>
                <a:ahLst/>
                <a:rect l="l" t="t" r="r" b="b"/>
                <a:pathLst>
                  <a:path w="666" h="507">
                    <a:moveTo>
                      <a:pt x="138" y="507"/>
                    </a:moveTo>
                    <a:lnTo>
                      <a:pt x="25" y="402"/>
                    </a:lnTo>
                    <a:lnTo>
                      <a:pt x="5" y="347"/>
                    </a:lnTo>
                    <a:lnTo>
                      <a:pt x="0" y="291"/>
                    </a:lnTo>
                    <a:lnTo>
                      <a:pt x="11" y="236"/>
                    </a:lnTo>
                    <a:lnTo>
                      <a:pt x="38" y="181"/>
                    </a:lnTo>
                    <a:lnTo>
                      <a:pt x="175" y="29"/>
                    </a:lnTo>
                    <a:lnTo>
                      <a:pt x="166" y="7"/>
                    </a:lnTo>
                    <a:lnTo>
                      <a:pt x="203" y="0"/>
                    </a:lnTo>
                    <a:lnTo>
                      <a:pt x="221" y="51"/>
                    </a:lnTo>
                    <a:lnTo>
                      <a:pt x="180" y="81"/>
                    </a:lnTo>
                    <a:lnTo>
                      <a:pt x="145" y="110"/>
                    </a:lnTo>
                    <a:lnTo>
                      <a:pt x="114" y="142"/>
                    </a:lnTo>
                    <a:lnTo>
                      <a:pt x="86" y="173"/>
                    </a:lnTo>
                    <a:lnTo>
                      <a:pt x="64" y="206"/>
                    </a:lnTo>
                    <a:lnTo>
                      <a:pt x="48" y="241"/>
                    </a:lnTo>
                    <a:lnTo>
                      <a:pt x="37" y="277"/>
                    </a:lnTo>
                    <a:lnTo>
                      <a:pt x="33" y="312"/>
                    </a:lnTo>
                    <a:lnTo>
                      <a:pt x="44" y="376"/>
                    </a:lnTo>
                    <a:lnTo>
                      <a:pt x="136" y="463"/>
                    </a:lnTo>
                    <a:lnTo>
                      <a:pt x="269" y="312"/>
                    </a:lnTo>
                    <a:lnTo>
                      <a:pt x="326" y="288"/>
                    </a:lnTo>
                    <a:lnTo>
                      <a:pt x="548" y="278"/>
                    </a:lnTo>
                    <a:lnTo>
                      <a:pt x="623" y="203"/>
                    </a:lnTo>
                    <a:lnTo>
                      <a:pt x="634" y="151"/>
                    </a:lnTo>
                    <a:lnTo>
                      <a:pt x="627" y="116"/>
                    </a:lnTo>
                    <a:lnTo>
                      <a:pt x="614" y="103"/>
                    </a:lnTo>
                    <a:lnTo>
                      <a:pt x="594" y="88"/>
                    </a:lnTo>
                    <a:lnTo>
                      <a:pt x="551" y="51"/>
                    </a:lnTo>
                    <a:lnTo>
                      <a:pt x="544" y="22"/>
                    </a:lnTo>
                    <a:lnTo>
                      <a:pt x="579" y="22"/>
                    </a:lnTo>
                    <a:lnTo>
                      <a:pt x="655" y="96"/>
                    </a:lnTo>
                    <a:lnTo>
                      <a:pt x="666" y="138"/>
                    </a:lnTo>
                    <a:lnTo>
                      <a:pt x="662" y="181"/>
                    </a:lnTo>
                    <a:lnTo>
                      <a:pt x="649" y="225"/>
                    </a:lnTo>
                    <a:lnTo>
                      <a:pt x="631" y="269"/>
                    </a:lnTo>
                    <a:lnTo>
                      <a:pt x="584" y="302"/>
                    </a:lnTo>
                    <a:lnTo>
                      <a:pt x="540" y="323"/>
                    </a:lnTo>
                    <a:lnTo>
                      <a:pt x="383" y="308"/>
                    </a:lnTo>
                    <a:lnTo>
                      <a:pt x="356" y="315"/>
                    </a:lnTo>
                    <a:lnTo>
                      <a:pt x="311" y="336"/>
                    </a:lnTo>
                    <a:lnTo>
                      <a:pt x="179" y="478"/>
                    </a:lnTo>
                    <a:lnTo>
                      <a:pt x="182" y="496"/>
                    </a:lnTo>
                    <a:lnTo>
                      <a:pt x="138" y="50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55"/>
              <p:cNvSpPr/>
              <p:nvPr/>
            </p:nvSpPr>
            <p:spPr>
              <a:xfrm>
                <a:off x="5477400" y="3690360"/>
                <a:ext cx="21600" cy="82440"/>
              </a:xfrm>
              <a:custGeom>
                <a:avLst/>
                <a:gdLst/>
                <a:ahLst/>
                <a:rect l="l" t="t" r="r" b="b"/>
                <a:pathLst>
                  <a:path w="42" h="179">
                    <a:moveTo>
                      <a:pt x="2" y="179"/>
                    </a:moveTo>
                    <a:lnTo>
                      <a:pt x="0" y="17"/>
                    </a:lnTo>
                    <a:lnTo>
                      <a:pt x="13" y="0"/>
                    </a:lnTo>
                    <a:lnTo>
                      <a:pt x="42" y="15"/>
                    </a:lnTo>
                    <a:lnTo>
                      <a:pt x="28" y="163"/>
                    </a:lnTo>
                    <a:lnTo>
                      <a:pt x="2" y="179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56"/>
              <p:cNvSpPr/>
              <p:nvPr/>
            </p:nvSpPr>
            <p:spPr>
              <a:xfrm>
                <a:off x="5795640" y="3643920"/>
                <a:ext cx="73080" cy="114480"/>
              </a:xfrm>
              <a:custGeom>
                <a:avLst/>
                <a:gdLst/>
                <a:ahLst/>
                <a:rect l="l" t="t" r="r" b="b"/>
                <a:pathLst>
                  <a:path w="150" h="249">
                    <a:moveTo>
                      <a:pt x="0" y="240"/>
                    </a:moveTo>
                    <a:lnTo>
                      <a:pt x="24" y="201"/>
                    </a:lnTo>
                    <a:lnTo>
                      <a:pt x="20" y="162"/>
                    </a:lnTo>
                    <a:lnTo>
                      <a:pt x="35" y="140"/>
                    </a:lnTo>
                    <a:lnTo>
                      <a:pt x="57" y="120"/>
                    </a:lnTo>
                    <a:lnTo>
                      <a:pt x="0" y="109"/>
                    </a:lnTo>
                    <a:lnTo>
                      <a:pt x="2" y="83"/>
                    </a:lnTo>
                    <a:lnTo>
                      <a:pt x="96" y="0"/>
                    </a:lnTo>
                    <a:lnTo>
                      <a:pt x="140" y="14"/>
                    </a:lnTo>
                    <a:lnTo>
                      <a:pt x="138" y="35"/>
                    </a:lnTo>
                    <a:lnTo>
                      <a:pt x="116" y="64"/>
                    </a:lnTo>
                    <a:lnTo>
                      <a:pt x="150" y="88"/>
                    </a:lnTo>
                    <a:lnTo>
                      <a:pt x="144" y="110"/>
                    </a:lnTo>
                    <a:lnTo>
                      <a:pt x="85" y="177"/>
                    </a:lnTo>
                    <a:lnTo>
                      <a:pt x="72" y="186"/>
                    </a:lnTo>
                    <a:lnTo>
                      <a:pt x="17" y="249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7"/>
              <p:cNvSpPr/>
              <p:nvPr/>
            </p:nvSpPr>
            <p:spPr>
              <a:xfrm>
                <a:off x="4231440" y="3557160"/>
                <a:ext cx="378000" cy="111600"/>
              </a:xfrm>
              <a:custGeom>
                <a:avLst/>
                <a:gdLst/>
                <a:ahLst/>
                <a:rect l="l" t="t" r="r" b="b"/>
                <a:pathLst>
                  <a:path w="764" h="243">
                    <a:moveTo>
                      <a:pt x="605" y="243"/>
                    </a:moveTo>
                    <a:lnTo>
                      <a:pt x="596" y="243"/>
                    </a:lnTo>
                    <a:lnTo>
                      <a:pt x="534" y="214"/>
                    </a:lnTo>
                    <a:lnTo>
                      <a:pt x="594" y="199"/>
                    </a:lnTo>
                    <a:lnTo>
                      <a:pt x="522" y="147"/>
                    </a:lnTo>
                    <a:lnTo>
                      <a:pt x="129" y="142"/>
                    </a:lnTo>
                    <a:lnTo>
                      <a:pt x="100" y="140"/>
                    </a:lnTo>
                    <a:lnTo>
                      <a:pt x="133" y="168"/>
                    </a:lnTo>
                    <a:lnTo>
                      <a:pt x="118" y="190"/>
                    </a:lnTo>
                    <a:lnTo>
                      <a:pt x="102" y="188"/>
                    </a:lnTo>
                    <a:lnTo>
                      <a:pt x="56" y="151"/>
                    </a:lnTo>
                    <a:lnTo>
                      <a:pt x="26" y="138"/>
                    </a:lnTo>
                    <a:lnTo>
                      <a:pt x="0" y="114"/>
                    </a:lnTo>
                    <a:lnTo>
                      <a:pt x="37" y="68"/>
                    </a:lnTo>
                    <a:lnTo>
                      <a:pt x="83" y="0"/>
                    </a:lnTo>
                    <a:lnTo>
                      <a:pt x="126" y="14"/>
                    </a:lnTo>
                    <a:lnTo>
                      <a:pt x="96" y="88"/>
                    </a:lnTo>
                    <a:lnTo>
                      <a:pt x="96" y="108"/>
                    </a:lnTo>
                    <a:lnTo>
                      <a:pt x="502" y="125"/>
                    </a:lnTo>
                    <a:lnTo>
                      <a:pt x="482" y="81"/>
                    </a:lnTo>
                    <a:lnTo>
                      <a:pt x="539" y="48"/>
                    </a:lnTo>
                    <a:lnTo>
                      <a:pt x="524" y="79"/>
                    </a:lnTo>
                    <a:lnTo>
                      <a:pt x="530" y="97"/>
                    </a:lnTo>
                    <a:lnTo>
                      <a:pt x="541" y="114"/>
                    </a:lnTo>
                    <a:lnTo>
                      <a:pt x="554" y="131"/>
                    </a:lnTo>
                    <a:lnTo>
                      <a:pt x="570" y="147"/>
                    </a:lnTo>
                    <a:lnTo>
                      <a:pt x="587" y="162"/>
                    </a:lnTo>
                    <a:lnTo>
                      <a:pt x="604" y="175"/>
                    </a:lnTo>
                    <a:lnTo>
                      <a:pt x="622" y="186"/>
                    </a:lnTo>
                    <a:lnTo>
                      <a:pt x="639" y="195"/>
                    </a:lnTo>
                    <a:lnTo>
                      <a:pt x="720" y="199"/>
                    </a:lnTo>
                    <a:lnTo>
                      <a:pt x="764" y="201"/>
                    </a:lnTo>
                    <a:lnTo>
                      <a:pt x="762" y="232"/>
                    </a:lnTo>
                    <a:lnTo>
                      <a:pt x="720" y="234"/>
                    </a:lnTo>
                    <a:lnTo>
                      <a:pt x="605" y="24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8"/>
              <p:cNvSpPr/>
              <p:nvPr/>
            </p:nvSpPr>
            <p:spPr>
              <a:xfrm>
                <a:off x="4008600" y="3594240"/>
                <a:ext cx="182880" cy="32040"/>
              </a:xfrm>
              <a:custGeom>
                <a:avLst/>
                <a:gdLst/>
                <a:ahLst/>
                <a:rect l="l" t="t" r="r" b="b"/>
                <a:pathLst>
                  <a:path w="371" h="70">
                    <a:moveTo>
                      <a:pt x="61" y="63"/>
                    </a:moveTo>
                    <a:lnTo>
                      <a:pt x="9" y="42"/>
                    </a:lnTo>
                    <a:lnTo>
                      <a:pt x="0" y="24"/>
                    </a:lnTo>
                    <a:lnTo>
                      <a:pt x="46" y="0"/>
                    </a:lnTo>
                    <a:lnTo>
                      <a:pt x="67" y="31"/>
                    </a:lnTo>
                    <a:lnTo>
                      <a:pt x="153" y="44"/>
                    </a:lnTo>
                    <a:lnTo>
                      <a:pt x="210" y="46"/>
                    </a:lnTo>
                    <a:lnTo>
                      <a:pt x="371" y="44"/>
                    </a:lnTo>
                    <a:lnTo>
                      <a:pt x="273" y="70"/>
                    </a:lnTo>
                    <a:lnTo>
                      <a:pt x="109" y="68"/>
                    </a:lnTo>
                    <a:lnTo>
                      <a:pt x="61" y="63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59"/>
              <p:cNvSpPr/>
              <p:nvPr/>
            </p:nvSpPr>
            <p:spPr>
              <a:xfrm>
                <a:off x="4958640" y="3511800"/>
                <a:ext cx="515880" cy="51120"/>
              </a:xfrm>
              <a:custGeom>
                <a:avLst/>
                <a:gdLst/>
                <a:ahLst/>
                <a:rect l="l" t="t" r="r" b="b"/>
                <a:pathLst>
                  <a:path w="1042" h="111">
                    <a:moveTo>
                      <a:pt x="633" y="111"/>
                    </a:moveTo>
                    <a:lnTo>
                      <a:pt x="546" y="90"/>
                    </a:lnTo>
                    <a:lnTo>
                      <a:pt x="513" y="63"/>
                    </a:lnTo>
                    <a:lnTo>
                      <a:pt x="6" y="87"/>
                    </a:lnTo>
                    <a:lnTo>
                      <a:pt x="0" y="39"/>
                    </a:lnTo>
                    <a:lnTo>
                      <a:pt x="68" y="53"/>
                    </a:lnTo>
                    <a:lnTo>
                      <a:pt x="557" y="39"/>
                    </a:lnTo>
                    <a:lnTo>
                      <a:pt x="592" y="61"/>
                    </a:lnTo>
                    <a:lnTo>
                      <a:pt x="635" y="55"/>
                    </a:lnTo>
                    <a:lnTo>
                      <a:pt x="690" y="0"/>
                    </a:lnTo>
                    <a:lnTo>
                      <a:pt x="725" y="2"/>
                    </a:lnTo>
                    <a:lnTo>
                      <a:pt x="679" y="77"/>
                    </a:lnTo>
                    <a:lnTo>
                      <a:pt x="657" y="87"/>
                    </a:lnTo>
                    <a:lnTo>
                      <a:pt x="1007" y="26"/>
                    </a:lnTo>
                    <a:lnTo>
                      <a:pt x="1042" y="35"/>
                    </a:lnTo>
                    <a:lnTo>
                      <a:pt x="1028" y="61"/>
                    </a:lnTo>
                    <a:lnTo>
                      <a:pt x="843" y="94"/>
                    </a:lnTo>
                    <a:lnTo>
                      <a:pt x="633" y="111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60"/>
              <p:cNvSpPr/>
              <p:nvPr/>
            </p:nvSpPr>
            <p:spPr>
              <a:xfrm>
                <a:off x="5461920" y="301284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0"/>
                    </a:moveTo>
                    <a:lnTo>
                      <a:pt x="3" y="13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a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61"/>
              <p:cNvSpPr/>
              <p:nvPr/>
            </p:nvSpPr>
            <p:spPr>
              <a:xfrm>
                <a:off x="5461920" y="3009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3" y="13"/>
                    </a:lnTo>
                    <a:lnTo>
                      <a:pt x="20" y="15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62"/>
              <p:cNvSpPr/>
              <p:nvPr/>
            </p:nvSpPr>
            <p:spPr>
              <a:xfrm>
                <a:off x="5461920" y="300744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0" y="12"/>
                    </a:lnTo>
                    <a:lnTo>
                      <a:pt x="20" y="12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63"/>
              <p:cNvSpPr/>
              <p:nvPr/>
            </p:nvSpPr>
            <p:spPr>
              <a:xfrm>
                <a:off x="5461920" y="30027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0" y="13"/>
                    </a:lnTo>
                    <a:lnTo>
                      <a:pt x="16" y="13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64"/>
              <p:cNvSpPr/>
              <p:nvPr/>
            </p:nvSpPr>
            <p:spPr>
              <a:xfrm>
                <a:off x="5461920" y="30009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13"/>
                    </a:lnTo>
                    <a:lnTo>
                      <a:pt x="16" y="1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7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65"/>
              <p:cNvSpPr/>
              <p:nvPr/>
            </p:nvSpPr>
            <p:spPr>
              <a:xfrm>
                <a:off x="5459760" y="2997360"/>
                <a:ext cx="10440" cy="540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0"/>
                    </a:moveTo>
                    <a:lnTo>
                      <a:pt x="4" y="13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66"/>
              <p:cNvSpPr/>
              <p:nvPr/>
            </p:nvSpPr>
            <p:spPr>
              <a:xfrm>
                <a:off x="5459760" y="29944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4" y="15"/>
                    </a:lnTo>
                    <a:lnTo>
                      <a:pt x="17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4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7"/>
              <p:cNvSpPr/>
              <p:nvPr/>
            </p:nvSpPr>
            <p:spPr>
              <a:xfrm>
                <a:off x="5459760" y="2992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9"/>
                    </a:lnTo>
                    <a:lnTo>
                      <a:pt x="17" y="9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68"/>
              <p:cNvSpPr/>
              <p:nvPr/>
            </p:nvSpPr>
            <p:spPr>
              <a:xfrm>
                <a:off x="5459760" y="29880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0" y="13"/>
                    </a:lnTo>
                    <a:lnTo>
                      <a:pt x="13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69"/>
              <p:cNvSpPr/>
              <p:nvPr/>
            </p:nvSpPr>
            <p:spPr>
              <a:xfrm>
                <a:off x="5457960" y="2987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4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70"/>
              <p:cNvSpPr/>
              <p:nvPr/>
            </p:nvSpPr>
            <p:spPr>
              <a:xfrm>
                <a:off x="5457960" y="298260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4" y="13"/>
                    </a:lnTo>
                    <a:lnTo>
                      <a:pt x="17" y="15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5b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71"/>
              <p:cNvSpPr/>
              <p:nvPr/>
            </p:nvSpPr>
            <p:spPr>
              <a:xfrm>
                <a:off x="5457960" y="2980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72"/>
              <p:cNvSpPr/>
              <p:nvPr/>
            </p:nvSpPr>
            <p:spPr>
              <a:xfrm>
                <a:off x="5457960" y="297720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2" y="0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73"/>
              <p:cNvSpPr/>
              <p:nvPr/>
            </p:nvSpPr>
            <p:spPr>
              <a:xfrm>
                <a:off x="5455800" y="297540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0"/>
                    </a:moveTo>
                    <a:lnTo>
                      <a:pt x="3" y="13"/>
                    </a:lnTo>
                    <a:lnTo>
                      <a:pt x="12" y="13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74"/>
              <p:cNvSpPr/>
              <p:nvPr/>
            </p:nvSpPr>
            <p:spPr>
              <a:xfrm>
                <a:off x="5455800" y="29707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0"/>
                    </a:moveTo>
                    <a:lnTo>
                      <a:pt x="5" y="13"/>
                    </a:lnTo>
                    <a:lnTo>
                      <a:pt x="12" y="1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75"/>
              <p:cNvSpPr/>
              <p:nvPr/>
            </p:nvSpPr>
            <p:spPr>
              <a:xfrm>
                <a:off x="5455800" y="29689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0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6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76"/>
              <p:cNvSpPr/>
              <p:nvPr/>
            </p:nvSpPr>
            <p:spPr>
              <a:xfrm>
                <a:off x="5455800" y="296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1" y="0"/>
                    </a:moveTo>
                    <a:lnTo>
                      <a:pt x="0" y="13"/>
                    </a:lnTo>
                    <a:lnTo>
                      <a:pt x="9" y="13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77"/>
              <p:cNvSpPr/>
              <p:nvPr/>
            </p:nvSpPr>
            <p:spPr>
              <a:xfrm>
                <a:off x="5456880" y="296244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0"/>
                    </a:moveTo>
                    <a:lnTo>
                      <a:pt x="0" y="15"/>
                    </a:lnTo>
                    <a:lnTo>
                      <a:pt x="8" y="1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78"/>
              <p:cNvSpPr/>
              <p:nvPr/>
            </p:nvSpPr>
            <p:spPr>
              <a:xfrm>
                <a:off x="5454720" y="295884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3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79"/>
              <p:cNvSpPr/>
              <p:nvPr/>
            </p:nvSpPr>
            <p:spPr>
              <a:xfrm>
                <a:off x="5454720" y="295596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3" y="13"/>
                    </a:lnTo>
                    <a:lnTo>
                      <a:pt x="7" y="1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80"/>
              <p:cNvSpPr/>
              <p:nvPr/>
            </p:nvSpPr>
            <p:spPr>
              <a:xfrm>
                <a:off x="5454720" y="295344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0" y="13"/>
                    </a:lnTo>
                    <a:lnTo>
                      <a:pt x="7" y="1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454720" y="2950560"/>
                <a:ext cx="1800" cy="5400"/>
              </a:xfrm>
              <a:prstGeom prst="rect">
                <a:avLst/>
              </a:prstGeom>
              <a:solidFill>
                <a:srgbClr val="66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82"/>
              <p:cNvSpPr/>
              <p:nvPr/>
            </p:nvSpPr>
            <p:spPr>
              <a:xfrm>
                <a:off x="5453640" y="294588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4" y="14"/>
                    </a:lnTo>
                    <a:lnTo>
                      <a:pt x="7" y="1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83"/>
              <p:cNvSpPr/>
              <p:nvPr/>
            </p:nvSpPr>
            <p:spPr>
              <a:xfrm>
                <a:off x="5453640" y="29451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4" y="13"/>
                    </a:lnTo>
                    <a:lnTo>
                      <a:pt x="7" y="1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284"/>
              <p:cNvSpPr/>
              <p:nvPr/>
            </p:nvSpPr>
            <p:spPr>
              <a:xfrm>
                <a:off x="5453640" y="2940480"/>
                <a:ext cx="108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85"/>
              <p:cNvSpPr/>
              <p:nvPr/>
            </p:nvSpPr>
            <p:spPr>
              <a:xfrm>
                <a:off x="5453640" y="29386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6"/>
              <p:cNvSpPr/>
              <p:nvPr/>
            </p:nvSpPr>
            <p:spPr>
              <a:xfrm>
                <a:off x="5453640" y="293688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7"/>
              <p:cNvSpPr/>
              <p:nvPr/>
            </p:nvSpPr>
            <p:spPr>
              <a:xfrm>
                <a:off x="5453640" y="29368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5" name="Picture 288" descr="b39"/>
            <p:cNvPicPr/>
            <p:nvPr/>
          </p:nvPicPr>
          <p:blipFill>
            <a:blip r:embed="rId14"/>
            <a:stretch/>
          </p:blipFill>
          <p:spPr>
            <a:xfrm rot="1122000">
              <a:off x="5528520" y="3175920"/>
              <a:ext cx="789480" cy="7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89" descr="b39"/>
            <p:cNvPicPr/>
            <p:nvPr/>
          </p:nvPicPr>
          <p:blipFill>
            <a:blip r:embed="rId15"/>
            <a:stretch/>
          </p:blipFill>
          <p:spPr>
            <a:xfrm rot="1122000">
              <a:off x="3131640" y="2952360"/>
              <a:ext cx="44388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90" descr="b39"/>
            <p:cNvPicPr/>
            <p:nvPr/>
          </p:nvPicPr>
          <p:blipFill>
            <a:blip r:embed="rId16"/>
            <a:stretch/>
          </p:blipFill>
          <p:spPr>
            <a:xfrm rot="1122000">
              <a:off x="5928120" y="371232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91" descr="b39"/>
            <p:cNvPicPr/>
            <p:nvPr/>
          </p:nvPicPr>
          <p:blipFill>
            <a:blip r:embed="rId17"/>
            <a:stretch/>
          </p:blipFill>
          <p:spPr>
            <a:xfrm rot="1122000">
              <a:off x="5178240" y="237060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92" descr="b39"/>
            <p:cNvPicPr/>
            <p:nvPr/>
          </p:nvPicPr>
          <p:blipFill>
            <a:blip r:embed="rId18"/>
            <a:stretch/>
          </p:blipFill>
          <p:spPr>
            <a:xfrm rot="1122000">
              <a:off x="4479120" y="286236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93" descr="b39"/>
            <p:cNvPicPr/>
            <p:nvPr/>
          </p:nvPicPr>
          <p:blipFill>
            <a:blip r:embed="rId19"/>
            <a:stretch/>
          </p:blipFill>
          <p:spPr>
            <a:xfrm rot="1122000">
              <a:off x="4280040" y="237060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4" descr="b39"/>
            <p:cNvPicPr/>
            <p:nvPr/>
          </p:nvPicPr>
          <p:blipFill>
            <a:blip r:embed="rId20"/>
            <a:stretch/>
          </p:blipFill>
          <p:spPr>
            <a:xfrm rot="1122000">
              <a:off x="5828040" y="295236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95" descr="b39"/>
            <p:cNvPicPr/>
            <p:nvPr/>
          </p:nvPicPr>
          <p:blipFill>
            <a:blip r:embed="rId21"/>
            <a:stretch/>
          </p:blipFill>
          <p:spPr>
            <a:xfrm rot="1122000">
              <a:off x="4379040" y="3309840"/>
              <a:ext cx="4435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96" descr="b39"/>
            <p:cNvPicPr/>
            <p:nvPr/>
          </p:nvPicPr>
          <p:blipFill>
            <a:blip r:embed="rId22"/>
            <a:stretch/>
          </p:blipFill>
          <p:spPr>
            <a:xfrm rot="1122000">
              <a:off x="4030200" y="3488760"/>
              <a:ext cx="44352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4   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8" name="Group 51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529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WordArt 9"/>
            <p:cNvSpPr txBox="1"/>
            <p:nvPr/>
          </p:nvSpPr>
          <p:spPr>
            <a:xfrm>
              <a:off x="2916360" y="5445000"/>
              <a:ext cx="7189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1" name="Group 48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532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WordArt 14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4" name="Group 5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35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7" name="Group 45"/>
          <p:cNvGrpSpPr/>
          <p:nvPr/>
        </p:nvGrpSpPr>
        <p:grpSpPr>
          <a:xfrm>
            <a:off x="5253120" y="3389760"/>
            <a:ext cx="1288800" cy="1767960"/>
            <a:chOff x="5253120" y="3389760"/>
            <a:chExt cx="1288800" cy="1767960"/>
          </a:xfrm>
        </p:grpSpPr>
        <p:sp>
          <p:nvSpPr>
            <p:cNvPr id="538" name="WordArt 24"/>
            <p:cNvSpPr txBox="1"/>
            <p:nvPr/>
          </p:nvSpPr>
          <p:spPr>
            <a:xfrm>
              <a:off x="5508360" y="4581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539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292720" y="342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47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41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WordArt 29"/>
            <p:cNvSpPr txBox="1"/>
            <p:nvPr/>
          </p:nvSpPr>
          <p:spPr>
            <a:xfrm>
              <a:off x="1692360" y="2871720"/>
              <a:ext cx="72072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43" name="Group 49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44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WordArt 34"/>
            <p:cNvSpPr txBox="1"/>
            <p:nvPr/>
          </p:nvSpPr>
          <p:spPr>
            <a:xfrm>
              <a:off x="7380360" y="2709720"/>
              <a:ext cx="72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46" name="Group 50"/>
          <p:cNvGrpSpPr/>
          <p:nvPr/>
        </p:nvGrpSpPr>
        <p:grpSpPr>
          <a:xfrm>
            <a:off x="6842520" y="3900960"/>
            <a:ext cx="1421280" cy="1813680"/>
            <a:chOff x="6842520" y="3900960"/>
            <a:chExt cx="1421280" cy="1813680"/>
          </a:xfrm>
        </p:grpSpPr>
        <p:pic>
          <p:nvPicPr>
            <p:cNvPr id="547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6948360" y="400500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WordArt 39"/>
            <p:cNvSpPr txBox="1"/>
            <p:nvPr/>
          </p:nvSpPr>
          <p:spPr>
            <a:xfrm>
              <a:off x="7237440" y="501336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9" name="Oval 41"/>
          <p:cNvSpPr/>
          <p:nvPr/>
        </p:nvSpPr>
        <p:spPr>
          <a:xfrm>
            <a:off x="4356000" y="98100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3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51" name="ура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72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752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7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018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0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54" name="Group 5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55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7" name="Group 58"/>
          <p:cNvGrpSpPr/>
          <p:nvPr/>
        </p:nvGrpSpPr>
        <p:grpSpPr>
          <a:xfrm>
            <a:off x="6771240" y="4476960"/>
            <a:ext cx="1421280" cy="1814400"/>
            <a:chOff x="6771240" y="4476960"/>
            <a:chExt cx="1421280" cy="1814400"/>
          </a:xfrm>
        </p:grpSpPr>
        <p:pic>
          <p:nvPicPr>
            <p:cNvPr id="558" name="Picture 22" descr="b39"/>
            <p:cNvPicPr/>
            <p:nvPr/>
          </p:nvPicPr>
          <p:blipFill>
            <a:blip r:embed="rId2"/>
            <a:stretch/>
          </p:blipFill>
          <p:spPr>
            <a:xfrm rot="661200">
              <a:off x="687708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WordArt 23"/>
            <p:cNvSpPr txBox="1"/>
            <p:nvPr/>
          </p:nvSpPr>
          <p:spPr>
            <a:xfrm>
              <a:off x="7093080" y="5589720"/>
              <a:ext cx="792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0" name="Group 59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561" name="Picture 19" descr="b39"/>
            <p:cNvPicPr/>
            <p:nvPr/>
          </p:nvPicPr>
          <p:blipFill>
            <a:blip r:embed="rId3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3" name="Group 56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564" name="Picture 10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WordArt 11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6" name="Group 6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67" name="Picture 13" descr="b39"/>
            <p:cNvPicPr/>
            <p:nvPr/>
          </p:nvPicPr>
          <p:blipFill>
            <a:blip r:embed="rId5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9" name="Group 5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70" name="Picture 16" descr="b39"/>
            <p:cNvPicPr/>
            <p:nvPr/>
          </p:nvPicPr>
          <p:blipFill>
            <a:blip r:embed="rId6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WordArt 17"/>
            <p:cNvSpPr txBox="1"/>
            <p:nvPr/>
          </p:nvSpPr>
          <p:spPr>
            <a:xfrm>
              <a:off x="1619280" y="2871720"/>
              <a:ext cx="64764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2" name="Group 55"/>
          <p:cNvGrpSpPr/>
          <p:nvPr/>
        </p:nvGrpSpPr>
        <p:grpSpPr>
          <a:xfrm>
            <a:off x="3571560" y="2142000"/>
            <a:ext cx="1483560" cy="1917360"/>
            <a:chOff x="3571560" y="2142000"/>
            <a:chExt cx="1483560" cy="1917360"/>
          </a:xfrm>
        </p:grpSpPr>
        <p:pic>
          <p:nvPicPr>
            <p:cNvPr id="573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WordArt 26"/>
            <p:cNvSpPr txBox="1"/>
            <p:nvPr/>
          </p:nvSpPr>
          <p:spPr>
            <a:xfrm>
              <a:off x="4265640" y="335772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75" name="Picture 4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76" name="здорово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798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828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7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1" dur="701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3    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79" name="Group 49"/>
          <p:cNvGrpSpPr/>
          <p:nvPr/>
        </p:nvGrpSpPr>
        <p:grpSpPr>
          <a:xfrm>
            <a:off x="2660760" y="4469400"/>
            <a:ext cx="1288800" cy="1623600"/>
            <a:chOff x="2660760" y="4469400"/>
            <a:chExt cx="1288800" cy="1623600"/>
          </a:xfrm>
        </p:grpSpPr>
        <p:pic>
          <p:nvPicPr>
            <p:cNvPr id="580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WordArt 9"/>
            <p:cNvSpPr txBox="1"/>
            <p:nvPr/>
          </p:nvSpPr>
          <p:spPr>
            <a:xfrm>
              <a:off x="2916360" y="5445000"/>
              <a:ext cx="792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583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WordArt 14"/>
            <p:cNvSpPr txBox="1"/>
            <p:nvPr/>
          </p:nvSpPr>
          <p:spPr>
            <a:xfrm>
              <a:off x="3851280" y="3375000"/>
              <a:ext cx="8650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5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86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46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589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WordArt 24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592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WordArt 29"/>
            <p:cNvSpPr txBox="1"/>
            <p:nvPr/>
          </p:nvSpPr>
          <p:spPr>
            <a:xfrm>
              <a:off x="1547640" y="2871720"/>
              <a:ext cx="665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4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95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WordArt 34"/>
            <p:cNvSpPr txBox="1"/>
            <p:nvPr/>
          </p:nvSpPr>
          <p:spPr>
            <a:xfrm>
              <a:off x="7308720" y="2709720"/>
              <a:ext cx="7923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48"/>
          <p:cNvGrpSpPr/>
          <p:nvPr/>
        </p:nvGrpSpPr>
        <p:grpSpPr>
          <a:xfrm>
            <a:off x="7058520" y="4476960"/>
            <a:ext cx="1421280" cy="1688760"/>
            <a:chOff x="7058520" y="4476960"/>
            <a:chExt cx="1421280" cy="1688760"/>
          </a:xfrm>
        </p:grpSpPr>
        <p:pic>
          <p:nvPicPr>
            <p:cNvPr id="598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WordArt 39"/>
            <p:cNvSpPr txBox="1"/>
            <p:nvPr/>
          </p:nvSpPr>
          <p:spPr>
            <a:xfrm>
              <a:off x="7308720" y="5589720"/>
              <a:ext cx="719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00" name="Oval 41"/>
          <p:cNvSpPr/>
          <p:nvPr/>
        </p:nvSpPr>
        <p:spPr>
          <a:xfrm>
            <a:off x="4356000" y="90792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602" name="молодец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3" dur="780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6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605" name="Group 42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606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8" name="Group 41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609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WordArt 11"/>
            <p:cNvSpPr txBox="1"/>
            <p:nvPr/>
          </p:nvSpPr>
          <p:spPr>
            <a:xfrm>
              <a:off x="5867280" y="436572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1" name="Group 45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612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Group 39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615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Group 44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618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Group 43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621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WordArt 23"/>
            <p:cNvSpPr txBox="1"/>
            <p:nvPr/>
          </p:nvSpPr>
          <p:spPr>
            <a:xfrm>
              <a:off x="745344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Group 40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624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WordArt 26"/>
            <p:cNvSpPr txBox="1"/>
            <p:nvPr/>
          </p:nvSpPr>
          <p:spPr>
            <a:xfrm>
              <a:off x="4211640" y="3375000"/>
              <a:ext cx="504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26" name="Picture 35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627" name="здорово.mp3" descr=""/>
          <p:cNvPicPr/>
          <p:nvPr/>
        </p:nvPicPr>
        <p:blipFill>
          <a:blip r:embed="rId9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0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974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3" dur="2000" fill="hold"/>
                                        <p:tgtEl>
                                          <p:spTgt spid="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5" dur="70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5"/>
          <p:cNvSpPr txBox="1"/>
          <p:nvPr/>
        </p:nvSpPr>
        <p:spPr>
          <a:xfrm>
            <a:off x="3203640" y="693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0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631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634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WordArt 11"/>
            <p:cNvSpPr txBox="1"/>
            <p:nvPr/>
          </p:nvSpPr>
          <p:spPr>
            <a:xfrm>
              <a:off x="5867640" y="4365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6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637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9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640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2" name="Group 18"/>
          <p:cNvGrpSpPr/>
          <p:nvPr/>
        </p:nvGrpSpPr>
        <p:grpSpPr>
          <a:xfrm>
            <a:off x="2876760" y="4397760"/>
            <a:ext cx="1288800" cy="1677600"/>
            <a:chOff x="2876760" y="4397760"/>
            <a:chExt cx="1288800" cy="1677600"/>
          </a:xfrm>
        </p:grpSpPr>
        <p:pic>
          <p:nvPicPr>
            <p:cNvPr id="643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916360" y="443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WordArt 20"/>
            <p:cNvSpPr txBox="1"/>
            <p:nvPr/>
          </p:nvSpPr>
          <p:spPr>
            <a:xfrm>
              <a:off x="3276720" y="5373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5" name="Group 21"/>
          <p:cNvGrpSpPr/>
          <p:nvPr/>
        </p:nvGrpSpPr>
        <p:grpSpPr>
          <a:xfrm>
            <a:off x="6771240" y="4476960"/>
            <a:ext cx="1421280" cy="1814400"/>
            <a:chOff x="6771240" y="4476960"/>
            <a:chExt cx="1421280" cy="1814400"/>
          </a:xfrm>
        </p:grpSpPr>
        <p:pic>
          <p:nvPicPr>
            <p:cNvPr id="646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687708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WordArt 23"/>
            <p:cNvSpPr txBox="1"/>
            <p:nvPr/>
          </p:nvSpPr>
          <p:spPr>
            <a:xfrm>
              <a:off x="716580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8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649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51" name="ура.mp3" descr=""/>
          <p:cNvPicPr/>
          <p:nvPr/>
        </p:nvPicPr>
        <p:blipFill>
          <a:blip r:embed="rId8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0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050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062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5" dur="2000" fill="hold"/>
                                        <p:tgtEl>
                                          <p:spTgt spid="6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7" dur="1018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7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26" name="Group 54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327" name="Picture 19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20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Group 58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30" name="Picture 25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WordArt 26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Group 6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33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WordArt 14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5" name="Group 62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36" name="Picture 10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WordArt 11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8" name="Group 57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39" name="Picture 16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1" name="Group 59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42" name="Picture 7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4" name="Group 61"/>
          <p:cNvGrpSpPr/>
          <p:nvPr/>
        </p:nvGrpSpPr>
        <p:grpSpPr>
          <a:xfrm>
            <a:off x="6987240" y="4261320"/>
            <a:ext cx="1421280" cy="1831680"/>
            <a:chOff x="6987240" y="4261320"/>
            <a:chExt cx="1421280" cy="1831680"/>
          </a:xfrm>
        </p:grpSpPr>
        <p:pic>
          <p:nvPicPr>
            <p:cNvPr id="345" name="Picture 22" descr="b39"/>
            <p:cNvPicPr/>
            <p:nvPr/>
          </p:nvPicPr>
          <p:blipFill>
            <a:blip r:embed="rId7"/>
            <a:stretch/>
          </p:blipFill>
          <p:spPr>
            <a:xfrm rot="661200">
              <a:off x="7093080" y="4365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WordArt 23"/>
            <p:cNvSpPr txBox="1"/>
            <p:nvPr/>
          </p:nvSpPr>
          <p:spPr>
            <a:xfrm>
              <a:off x="7308720" y="5391000"/>
              <a:ext cx="449280" cy="70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47" name="Picture 48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здорово.mp3" descr=""/>
          <p:cNvPicPr/>
          <p:nvPr/>
        </p:nvPicPr>
        <p:blipFill>
          <a:blip r:embed="rId10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70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 * 4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51" name="Group 33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52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WordArt 8"/>
            <p:cNvSpPr txBox="1"/>
            <p:nvPr/>
          </p:nvSpPr>
          <p:spPr>
            <a:xfrm>
              <a:off x="7453440" y="27097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55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WordArt 11"/>
            <p:cNvSpPr txBox="1"/>
            <p:nvPr/>
          </p:nvSpPr>
          <p:spPr>
            <a:xfrm>
              <a:off x="5796000" y="4365720"/>
              <a:ext cx="719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58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3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61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WordArt 17"/>
            <p:cNvSpPr txBox="1"/>
            <p:nvPr/>
          </p:nvSpPr>
          <p:spPr>
            <a:xfrm>
              <a:off x="1763640" y="2871720"/>
              <a:ext cx="44928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364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367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3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70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WordArt 26"/>
            <p:cNvSpPr txBox="1"/>
            <p:nvPr/>
          </p:nvSpPr>
          <p:spPr>
            <a:xfrm>
              <a:off x="4338720" y="3375000"/>
              <a:ext cx="37764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72" name="Picture 30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73" name="правильно.mp3" descr=""/>
          <p:cNvPicPr/>
          <p:nvPr/>
        </p:nvPicPr>
        <p:blipFill>
          <a:blip r:embed="rId10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15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8 :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377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9" name="Group 9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380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WordArt 11"/>
            <p:cNvSpPr txBox="1"/>
            <p:nvPr/>
          </p:nvSpPr>
          <p:spPr>
            <a:xfrm>
              <a:off x="5867640" y="4365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2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383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386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389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392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395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97" name="Picture 29" descr="8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98" name="здорово.mp3" descr=""/>
          <p:cNvPicPr/>
          <p:nvPr/>
        </p:nvPicPr>
        <p:blipFill>
          <a:blip r:embed="rId10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70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6   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01" name="Group 46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402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WordArt 9"/>
            <p:cNvSpPr txBox="1"/>
            <p:nvPr/>
          </p:nvSpPr>
          <p:spPr>
            <a:xfrm>
              <a:off x="2916360" y="5445000"/>
              <a:ext cx="7189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4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05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WordArt 14"/>
            <p:cNvSpPr txBox="1"/>
            <p:nvPr/>
          </p:nvSpPr>
          <p:spPr>
            <a:xfrm>
              <a:off x="3851280" y="3375000"/>
              <a:ext cx="8650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7" name="Group 50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08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WordArt 19"/>
            <p:cNvSpPr txBox="1"/>
            <p:nvPr/>
          </p:nvSpPr>
          <p:spPr>
            <a:xfrm>
              <a:off x="826920" y="4940280"/>
              <a:ext cx="72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1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0" name="Group 47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411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WordArt 24"/>
            <p:cNvSpPr txBox="1"/>
            <p:nvPr/>
          </p:nvSpPr>
          <p:spPr>
            <a:xfrm>
              <a:off x="5867280" y="4365720"/>
              <a:ext cx="6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3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14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WordArt 29"/>
            <p:cNvSpPr txBox="1"/>
            <p:nvPr/>
          </p:nvSpPr>
          <p:spPr>
            <a:xfrm>
              <a:off x="1547640" y="2871720"/>
              <a:ext cx="72072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6" name="Group 48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17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WordArt 34"/>
            <p:cNvSpPr txBox="1"/>
            <p:nvPr/>
          </p:nvSpPr>
          <p:spPr>
            <a:xfrm>
              <a:off x="7236000" y="2709720"/>
              <a:ext cx="72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9" name="Group 49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20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WordArt 39"/>
            <p:cNvSpPr txBox="1"/>
            <p:nvPr/>
          </p:nvSpPr>
          <p:spPr>
            <a:xfrm>
              <a:off x="7308720" y="5589720"/>
              <a:ext cx="71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22" name="Oval 41"/>
          <p:cNvSpPr/>
          <p:nvPr/>
        </p:nvSpPr>
        <p:spPr>
          <a:xfrm>
            <a:off x="4284720" y="90792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24" name="ура.mp3" descr=""/>
          <p:cNvPicPr/>
          <p:nvPr/>
        </p:nvPicPr>
        <p:blipFill>
          <a:blip r:embed="rId9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018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    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27" name="Group 49"/>
          <p:cNvGrpSpPr/>
          <p:nvPr/>
        </p:nvGrpSpPr>
        <p:grpSpPr>
          <a:xfrm>
            <a:off x="2660760" y="4469400"/>
            <a:ext cx="1288800" cy="1677240"/>
            <a:chOff x="2660760" y="4469400"/>
            <a:chExt cx="1288800" cy="1677240"/>
          </a:xfrm>
        </p:grpSpPr>
        <p:pic>
          <p:nvPicPr>
            <p:cNvPr id="428" name="Picture 8" descr="b39"/>
            <p:cNvPicPr/>
            <p:nvPr/>
          </p:nvPicPr>
          <p:blipFill>
            <a:blip r:embed="rId1"/>
            <a:stretch/>
          </p:blipFill>
          <p:spPr>
            <a:xfrm rot="21369600">
              <a:off x="2700360" y="4508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WordArt 9"/>
            <p:cNvSpPr txBox="1"/>
            <p:nvPr/>
          </p:nvSpPr>
          <p:spPr>
            <a:xfrm>
              <a:off x="3060720" y="544500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45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31" name="Picture 13" descr="b39"/>
            <p:cNvPicPr/>
            <p:nvPr/>
          </p:nvPicPr>
          <p:blipFill>
            <a:blip r:embed="rId2"/>
            <a:stretch/>
          </p:blipFill>
          <p:spPr>
            <a:xfrm rot="20706600">
              <a:off x="3708360" y="227664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WordArt 14"/>
            <p:cNvSpPr txBox="1"/>
            <p:nvPr/>
          </p:nvSpPr>
          <p:spPr>
            <a:xfrm>
              <a:off x="3995640" y="3375000"/>
              <a:ext cx="720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644760" y="3750120"/>
            <a:ext cx="1288800" cy="1839600"/>
            <a:chOff x="644760" y="3750120"/>
            <a:chExt cx="1288800" cy="1839600"/>
          </a:xfrm>
        </p:grpSpPr>
        <p:pic>
          <p:nvPicPr>
            <p:cNvPr id="434" name="Picture 18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WordArt 19"/>
            <p:cNvSpPr txBox="1"/>
            <p:nvPr/>
          </p:nvSpPr>
          <p:spPr>
            <a:xfrm>
              <a:off x="826920" y="4940280"/>
              <a:ext cx="79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46"/>
          <p:cNvGrpSpPr/>
          <p:nvPr/>
        </p:nvGrpSpPr>
        <p:grpSpPr>
          <a:xfrm>
            <a:off x="5469120" y="3318480"/>
            <a:ext cx="1288800" cy="1838880"/>
            <a:chOff x="5469120" y="3318480"/>
            <a:chExt cx="1288800" cy="1838880"/>
          </a:xfrm>
        </p:grpSpPr>
        <p:pic>
          <p:nvPicPr>
            <p:cNvPr id="437" name="Picture 23" descr="b39"/>
            <p:cNvPicPr/>
            <p:nvPr/>
          </p:nvPicPr>
          <p:blipFill>
            <a:blip r:embed="rId4"/>
            <a:stretch/>
          </p:blipFill>
          <p:spPr>
            <a:xfrm rot="21369600">
              <a:off x="5508720" y="335736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WordArt 24"/>
            <p:cNvSpPr txBox="1"/>
            <p:nvPr/>
          </p:nvSpPr>
          <p:spPr>
            <a:xfrm>
              <a:off x="5653080" y="4510080"/>
              <a:ext cx="719280" cy="64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44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40" name="Picture 28" descr="b39"/>
            <p:cNvPicPr/>
            <p:nvPr/>
          </p:nvPicPr>
          <p:blipFill>
            <a:blip r:embed="rId5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WordArt 29"/>
            <p:cNvSpPr txBox="1"/>
            <p:nvPr/>
          </p:nvSpPr>
          <p:spPr>
            <a:xfrm>
              <a:off x="1403280" y="2871720"/>
              <a:ext cx="809640" cy="63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43" name="Picture 33" descr="b39"/>
            <p:cNvPicPr/>
            <p:nvPr/>
          </p:nvPicPr>
          <p:blipFill>
            <a:blip r:embed="rId6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WordArt 34"/>
            <p:cNvSpPr txBox="1"/>
            <p:nvPr/>
          </p:nvSpPr>
          <p:spPr>
            <a:xfrm>
              <a:off x="7308720" y="2709720"/>
              <a:ext cx="648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48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46" name="Picture 38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WordArt 39"/>
            <p:cNvSpPr txBox="1"/>
            <p:nvPr/>
          </p:nvSpPr>
          <p:spPr>
            <a:xfrm>
              <a:off x="7236000" y="5589720"/>
              <a:ext cx="66672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48" name="Oval 41"/>
          <p:cNvSpPr/>
          <p:nvPr/>
        </p:nvSpPr>
        <p:spPr>
          <a:xfrm>
            <a:off x="4356000" y="981000"/>
            <a:ext cx="216000" cy="22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2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50" name="ура.mp3" descr=""/>
          <p:cNvPicPr/>
          <p:nvPr/>
        </p:nvPicPr>
        <p:blipFill>
          <a:blip r:embed="rId9"/>
          <a:stretch/>
        </p:blipFill>
        <p:spPr>
          <a:xfrm>
            <a:off x="9396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018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5"/>
          <p:cNvSpPr txBox="1"/>
          <p:nvPr/>
        </p:nvSpPr>
        <p:spPr>
          <a:xfrm>
            <a:off x="3132000" y="69372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1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53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54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6" name="Group 9"/>
          <p:cNvGrpSpPr/>
          <p:nvPr/>
        </p:nvGrpSpPr>
        <p:grpSpPr>
          <a:xfrm>
            <a:off x="1219320" y="1949760"/>
            <a:ext cx="1288800" cy="1767960"/>
            <a:chOff x="1219320" y="1949760"/>
            <a:chExt cx="1288800" cy="1767960"/>
          </a:xfrm>
        </p:grpSpPr>
        <p:pic>
          <p:nvPicPr>
            <p:cNvPr id="457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1258920" y="198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WordArt 11"/>
            <p:cNvSpPr txBox="1"/>
            <p:nvPr/>
          </p:nvSpPr>
          <p:spPr>
            <a:xfrm>
              <a:off x="1474920" y="314136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9" name="Group 1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60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WordArt 14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5396040" y="3389760"/>
            <a:ext cx="1288800" cy="1767960"/>
            <a:chOff x="5396040" y="3389760"/>
            <a:chExt cx="1288800" cy="1767960"/>
          </a:xfrm>
        </p:grpSpPr>
        <p:pic>
          <p:nvPicPr>
            <p:cNvPr id="463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5435640" y="3428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WordArt 17"/>
            <p:cNvSpPr txBox="1"/>
            <p:nvPr/>
          </p:nvSpPr>
          <p:spPr>
            <a:xfrm>
              <a:off x="5867280" y="452772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660760" y="4469400"/>
            <a:ext cx="1288800" cy="1676880"/>
            <a:chOff x="2660760" y="4469400"/>
            <a:chExt cx="1288800" cy="1676880"/>
          </a:xfrm>
        </p:grpSpPr>
        <p:pic>
          <p:nvPicPr>
            <p:cNvPr id="466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700360" y="4508280"/>
              <a:ext cx="12096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WordArt 20"/>
            <p:cNvSpPr txBox="1"/>
            <p:nvPr/>
          </p:nvSpPr>
          <p:spPr>
            <a:xfrm>
              <a:off x="3060720" y="5445000"/>
              <a:ext cx="449280" cy="70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469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WordArt 23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72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74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75" name="ура.mp3" descr=""/>
          <p:cNvPicPr/>
          <p:nvPr/>
        </p:nvPicPr>
        <p:blipFill>
          <a:blip r:embed="rId9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018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2411280" y="549360"/>
            <a:ext cx="4176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5"/>
          <p:cNvSpPr txBox="1"/>
          <p:nvPr/>
        </p:nvSpPr>
        <p:spPr>
          <a:xfrm>
            <a:off x="3132000" y="692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5 :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478" name="Group 6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479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WordArt 8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1" name="Group 31"/>
          <p:cNvGrpSpPr/>
          <p:nvPr/>
        </p:nvGrpSpPr>
        <p:grpSpPr>
          <a:xfrm>
            <a:off x="5612040" y="3173760"/>
            <a:ext cx="1288800" cy="1767960"/>
            <a:chOff x="5612040" y="3173760"/>
            <a:chExt cx="1288800" cy="1767960"/>
          </a:xfrm>
        </p:grpSpPr>
        <p:pic>
          <p:nvPicPr>
            <p:cNvPr id="482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5651640" y="3212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WordArt 11"/>
            <p:cNvSpPr txBox="1"/>
            <p:nvPr/>
          </p:nvSpPr>
          <p:spPr>
            <a:xfrm>
              <a:off x="6012000" y="4365720"/>
              <a:ext cx="5032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4" name="Group 32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485" name="Picture 13" descr="b39"/>
            <p:cNvPicPr/>
            <p:nvPr/>
          </p:nvPicPr>
          <p:blipFill>
            <a:blip r:embed="rId3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WordArt 14"/>
            <p:cNvSpPr txBox="1"/>
            <p:nvPr/>
          </p:nvSpPr>
          <p:spPr>
            <a:xfrm>
              <a:off x="1042920" y="4940280"/>
              <a:ext cx="504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7" name="Group 15"/>
          <p:cNvGrpSpPr/>
          <p:nvPr/>
        </p:nvGrpSpPr>
        <p:grpSpPr>
          <a:xfrm>
            <a:off x="1292400" y="1734120"/>
            <a:ext cx="1288800" cy="1767960"/>
            <a:chOff x="1292400" y="1734120"/>
            <a:chExt cx="1288800" cy="1767960"/>
          </a:xfrm>
        </p:grpSpPr>
        <p:pic>
          <p:nvPicPr>
            <p:cNvPr id="488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1332000" y="1773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WordArt 17"/>
            <p:cNvSpPr txBox="1"/>
            <p:nvPr/>
          </p:nvSpPr>
          <p:spPr>
            <a:xfrm>
              <a:off x="1763640" y="287208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803680" y="4110480"/>
            <a:ext cx="1288800" cy="1677600"/>
            <a:chOff x="2803680" y="4110480"/>
            <a:chExt cx="1288800" cy="1677600"/>
          </a:xfrm>
        </p:grpSpPr>
        <p:pic>
          <p:nvPicPr>
            <p:cNvPr id="491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2843280" y="4149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WordArt 20"/>
            <p:cNvSpPr txBox="1"/>
            <p:nvPr/>
          </p:nvSpPr>
          <p:spPr>
            <a:xfrm>
              <a:off x="3203640" y="508644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3" name="Group 21"/>
          <p:cNvGrpSpPr/>
          <p:nvPr/>
        </p:nvGrpSpPr>
        <p:grpSpPr>
          <a:xfrm>
            <a:off x="6698160" y="4476960"/>
            <a:ext cx="1421280" cy="1814400"/>
            <a:chOff x="6698160" y="4476960"/>
            <a:chExt cx="1421280" cy="1814400"/>
          </a:xfrm>
        </p:grpSpPr>
        <p:pic>
          <p:nvPicPr>
            <p:cNvPr id="494" name="Picture 22" descr="b39"/>
            <p:cNvPicPr/>
            <p:nvPr/>
          </p:nvPicPr>
          <p:blipFill>
            <a:blip r:embed="rId6"/>
            <a:stretch/>
          </p:blipFill>
          <p:spPr>
            <a:xfrm rot="661200">
              <a:off x="680400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WordArt 23"/>
            <p:cNvSpPr txBox="1"/>
            <p:nvPr/>
          </p:nvSpPr>
          <p:spPr>
            <a:xfrm>
              <a:off x="709272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6" name="Group 24"/>
          <p:cNvGrpSpPr/>
          <p:nvPr/>
        </p:nvGrpSpPr>
        <p:grpSpPr>
          <a:xfrm>
            <a:off x="3571560" y="2142000"/>
            <a:ext cx="1483560" cy="1934640"/>
            <a:chOff x="3571560" y="2142000"/>
            <a:chExt cx="1483560" cy="1934640"/>
          </a:xfrm>
        </p:grpSpPr>
        <p:pic>
          <p:nvPicPr>
            <p:cNvPr id="497" name="Picture 25" descr="b39"/>
            <p:cNvPicPr/>
            <p:nvPr/>
          </p:nvPicPr>
          <p:blipFill>
            <a:blip r:embed="rId7"/>
            <a:stretch/>
          </p:blipFill>
          <p:spPr>
            <a:xfrm rot="20706600">
              <a:off x="370836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WordArt 26"/>
            <p:cNvSpPr txBox="1"/>
            <p:nvPr/>
          </p:nvSpPr>
          <p:spPr>
            <a:xfrm>
              <a:off x="433836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9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00" name="молодец.mp3" descr=""/>
          <p:cNvPicPr/>
          <p:nvPr/>
        </p:nvPicPr>
        <p:blipFill>
          <a:blip r:embed="rId9"/>
          <a:stretch/>
        </p:blipFill>
        <p:spPr>
          <a:xfrm>
            <a:off x="9325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780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2411280" y="404640"/>
            <a:ext cx="417672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5"/>
          <p:cNvSpPr txBox="1"/>
          <p:nvPr/>
        </p:nvSpPr>
        <p:spPr>
          <a:xfrm>
            <a:off x="3203640" y="620640"/>
            <a:ext cx="26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3 *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03" name="Group 6"/>
          <p:cNvGrpSpPr/>
          <p:nvPr/>
        </p:nvGrpSpPr>
        <p:grpSpPr>
          <a:xfrm>
            <a:off x="3092400" y="4326480"/>
            <a:ext cx="1288800" cy="1677600"/>
            <a:chOff x="3092400" y="4326480"/>
            <a:chExt cx="1288800" cy="1677600"/>
          </a:xfrm>
        </p:grpSpPr>
        <p:pic>
          <p:nvPicPr>
            <p:cNvPr id="504" name="Picture 7" descr="b39"/>
            <p:cNvPicPr/>
            <p:nvPr/>
          </p:nvPicPr>
          <p:blipFill>
            <a:blip r:embed="rId1"/>
            <a:stretch/>
          </p:blipFill>
          <p:spPr>
            <a:xfrm rot="21369600">
              <a:off x="3132000" y="436536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WordArt 8"/>
            <p:cNvSpPr txBox="1"/>
            <p:nvPr/>
          </p:nvSpPr>
          <p:spPr>
            <a:xfrm>
              <a:off x="3492360" y="530244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9"/>
          <p:cNvGrpSpPr/>
          <p:nvPr/>
        </p:nvGrpSpPr>
        <p:grpSpPr>
          <a:xfrm>
            <a:off x="1436760" y="2021400"/>
            <a:ext cx="1288800" cy="1767960"/>
            <a:chOff x="1436760" y="2021400"/>
            <a:chExt cx="1288800" cy="1767960"/>
          </a:xfrm>
        </p:grpSpPr>
        <p:pic>
          <p:nvPicPr>
            <p:cNvPr id="507" name="Picture 10" descr="b39"/>
            <p:cNvPicPr/>
            <p:nvPr/>
          </p:nvPicPr>
          <p:blipFill>
            <a:blip r:embed="rId2"/>
            <a:stretch/>
          </p:blipFill>
          <p:spPr>
            <a:xfrm rot="21369600">
              <a:off x="1476360" y="206028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WordArt 11"/>
            <p:cNvSpPr txBox="1"/>
            <p:nvPr/>
          </p:nvSpPr>
          <p:spPr>
            <a:xfrm>
              <a:off x="1908000" y="3159360"/>
              <a:ext cx="44928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12"/>
          <p:cNvGrpSpPr/>
          <p:nvPr/>
        </p:nvGrpSpPr>
        <p:grpSpPr>
          <a:xfrm>
            <a:off x="3714480" y="2142000"/>
            <a:ext cx="1483560" cy="1934640"/>
            <a:chOff x="3714480" y="2142000"/>
            <a:chExt cx="1483560" cy="1934640"/>
          </a:xfrm>
        </p:grpSpPr>
        <p:pic>
          <p:nvPicPr>
            <p:cNvPr id="510" name="Picture 13" descr="b39"/>
            <p:cNvPicPr/>
            <p:nvPr/>
          </p:nvPicPr>
          <p:blipFill>
            <a:blip r:embed="rId3"/>
            <a:stretch/>
          </p:blipFill>
          <p:spPr>
            <a:xfrm rot="20706600">
              <a:off x="3851280" y="227664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WordArt 14"/>
            <p:cNvSpPr txBox="1"/>
            <p:nvPr/>
          </p:nvSpPr>
          <p:spPr>
            <a:xfrm>
              <a:off x="4481280" y="3375000"/>
              <a:ext cx="3780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7053480" y="1518120"/>
            <a:ext cx="1288800" cy="1839600"/>
            <a:chOff x="7053480" y="1518120"/>
            <a:chExt cx="1288800" cy="1839600"/>
          </a:xfrm>
        </p:grpSpPr>
        <p:pic>
          <p:nvPicPr>
            <p:cNvPr id="513" name="Picture 16" descr="b39"/>
            <p:cNvPicPr/>
            <p:nvPr/>
          </p:nvPicPr>
          <p:blipFill>
            <a:blip r:embed="rId4"/>
            <a:stretch/>
          </p:blipFill>
          <p:spPr>
            <a:xfrm rot="21369600">
              <a:off x="7093080" y="1557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WordArt 17"/>
            <p:cNvSpPr txBox="1"/>
            <p:nvPr/>
          </p:nvSpPr>
          <p:spPr>
            <a:xfrm>
              <a:off x="7453440" y="2710080"/>
              <a:ext cx="503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18"/>
          <p:cNvGrpSpPr/>
          <p:nvPr/>
        </p:nvGrpSpPr>
        <p:grpSpPr>
          <a:xfrm>
            <a:off x="644760" y="3750120"/>
            <a:ext cx="1288800" cy="1766520"/>
            <a:chOff x="644760" y="3750120"/>
            <a:chExt cx="1288800" cy="1766520"/>
          </a:xfrm>
        </p:grpSpPr>
        <p:pic>
          <p:nvPicPr>
            <p:cNvPr id="516" name="Picture 19" descr="b39"/>
            <p:cNvPicPr/>
            <p:nvPr/>
          </p:nvPicPr>
          <p:blipFill>
            <a:blip r:embed="rId5"/>
            <a:stretch/>
          </p:blipFill>
          <p:spPr>
            <a:xfrm rot="21369600">
              <a:off x="684360" y="3789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WordArt 20"/>
            <p:cNvSpPr txBox="1"/>
            <p:nvPr/>
          </p:nvSpPr>
          <p:spPr>
            <a:xfrm>
              <a:off x="827280" y="4940640"/>
              <a:ext cx="720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21"/>
          <p:cNvGrpSpPr/>
          <p:nvPr/>
        </p:nvGrpSpPr>
        <p:grpSpPr>
          <a:xfrm>
            <a:off x="5396040" y="3677040"/>
            <a:ext cx="1288800" cy="1767960"/>
            <a:chOff x="5396040" y="3677040"/>
            <a:chExt cx="1288800" cy="1767960"/>
          </a:xfrm>
        </p:grpSpPr>
        <p:pic>
          <p:nvPicPr>
            <p:cNvPr id="519" name="Picture 22" descr="b39"/>
            <p:cNvPicPr/>
            <p:nvPr/>
          </p:nvPicPr>
          <p:blipFill>
            <a:blip r:embed="rId6"/>
            <a:stretch/>
          </p:blipFill>
          <p:spPr>
            <a:xfrm rot="21369600">
              <a:off x="5435640" y="371592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WordArt 23"/>
            <p:cNvSpPr txBox="1"/>
            <p:nvPr/>
          </p:nvSpPr>
          <p:spPr>
            <a:xfrm>
              <a:off x="5651640" y="4868640"/>
              <a:ext cx="6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2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24"/>
          <p:cNvGrpSpPr/>
          <p:nvPr/>
        </p:nvGrpSpPr>
        <p:grpSpPr>
          <a:xfrm>
            <a:off x="7058520" y="4476960"/>
            <a:ext cx="1421280" cy="1814400"/>
            <a:chOff x="7058520" y="4476960"/>
            <a:chExt cx="1421280" cy="1814400"/>
          </a:xfrm>
        </p:grpSpPr>
        <p:pic>
          <p:nvPicPr>
            <p:cNvPr id="522" name="Picture 25" descr="b39"/>
            <p:cNvPicPr/>
            <p:nvPr/>
          </p:nvPicPr>
          <p:blipFill>
            <a:blip r:embed="rId7"/>
            <a:stretch/>
          </p:blipFill>
          <p:spPr>
            <a:xfrm rot="661200">
              <a:off x="7164360" y="4581000"/>
              <a:ext cx="1209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WordArt 26"/>
            <p:cNvSpPr txBox="1"/>
            <p:nvPr/>
          </p:nvSpPr>
          <p:spPr>
            <a:xfrm>
              <a:off x="7453080" y="5589720"/>
              <a:ext cx="44928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24" name="Picture 29" descr="8b"/>
          <p:cNvPicPr/>
          <p:nvPr/>
        </p:nvPicPr>
        <p:blipFill>
          <a:blip r:embed="rId8"/>
          <a:stretch/>
        </p:blipFill>
        <p:spPr>
          <a:xfrm>
            <a:off x="8101080" y="59515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25" name="молодец1.mp3" descr=""/>
          <p:cNvPicPr/>
          <p:nvPr/>
        </p:nvPicPr>
        <p:blipFill>
          <a:blip r:embed="rId9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52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2000" fill="hold"/>
                                        <p:tgtEl>
                                          <p:spTgt spid="5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014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2:29:26Z</dcterms:created>
  <dc:creator>Maria</dc:creator>
  <dc:description/>
  <dc:language>en-US</dc:language>
  <cp:lastModifiedBy>Ксения</cp:lastModifiedBy>
  <dcterms:modified xsi:type="dcterms:W3CDTF">2017-04-25T13:25:51Z</dcterms:modified>
  <cp:revision>2</cp:revision>
  <dc:subject/>
  <dc:title>Слайд 1</dc:title>
</cp:coreProperties>
</file>