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1AC-9F35-43A5-AC76-7DC6F46F4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AC2-E198-41B8-B13F-3764F5ECF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3B7-B43C-44E8-9C29-28BE1F05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303-7B51-49CA-956A-D41B0552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B32-231F-4A2E-AED8-7FE8F49B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0DD-2ADB-465D-A3B8-5D710520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540-CBDE-4156-8F6C-6A56B5C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FBCC-C4DD-4A8F-81EB-3E91A8F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796-82F5-4A77-8F0A-330AC3B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136A-A13C-44A6-8ACE-4EB81B2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7C0-63CD-4439-AF73-8BD6183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5292-FE19-4D7B-AB6A-C75E917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CD68-E031-4E2F-B307-F2A7BA2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8BA-1148-46B9-AF20-3A7FE236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2BA-275A-4791-B5A9-ECFF2C0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23D-82D9-4EE8-84DC-C40D7DB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84D2-13E7-4EBD-ABCD-59ED873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EB61-2637-465E-A5E9-9D8264E8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A981-B0B0-4C9E-992F-8CD44842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4BC-6A81-4A4D-90CF-1FFD1EA6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A54-E00F-40FC-98F4-5C38D01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084-3662-4FD7-977F-9EB5ECA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6A0-E90B-484D-A49C-91163F53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647-FEF9-41EB-A0D3-D8BC935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E18-3DB3-44F9-9AEA-5CD33A3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D62-EFD4-4329-ABB8-392D8C0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D6E-6BDB-431D-9F8F-2294D456A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B216-20F8-441E-82E9-C1D094B39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hop.vetby.com/pics/items/iglukoza40400ml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centurylonglive.com/ru/imgproducts/07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3.jpeg"/><Relationship Id="rId7" Type="http://schemas.openxmlformats.org/officeDocument/2006/relationships/hyperlink" Target="http://www.soil.msu.ru/soilyeasts/images/formulas/Galactose.gif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69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1123920"/>
            <a:ext cx="612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исахар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ароза (обычный пищевой сах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содержится в большом количестве сахарной свекле, сахарном трост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сахар"/>
          <p:cNvPicPr/>
          <p:nvPr/>
        </p:nvPicPr>
        <p:blipFill>
          <a:blip r:embed="rId2"/>
          <a:stretch/>
        </p:blipFill>
        <p:spPr>
          <a:xfrm>
            <a:off x="928800" y="3214800"/>
            <a:ext cx="7429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Мальт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тоза (солодовый 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тозу можно получить при гидролизе крахмала под действием ферментов, содержащихся в сол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мальта"/>
          <p:cNvPicPr/>
          <p:nvPr/>
        </p:nvPicPr>
        <p:blipFill>
          <a:blip r:embed="rId2"/>
          <a:stretch/>
        </p:blipFill>
        <p:spPr>
          <a:xfrm>
            <a:off x="826920" y="3714840"/>
            <a:ext cx="77457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ахма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резервный полисахарид многих растений. В промышленности его получают из картофеля. Это белый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краха"/>
          <p:cNvPicPr/>
          <p:nvPr/>
        </p:nvPicPr>
        <p:blipFill>
          <a:blip r:embed="rId2"/>
          <a:stretch/>
        </p:blipFill>
        <p:spPr>
          <a:xfrm>
            <a:off x="571680" y="3571920"/>
            <a:ext cx="8001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люлоз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чатка) – широко распространена в природе: из неё построены ткани растений. Вата, фильтровальная бумага – наиболее чистые формы целлюлозы (до 96%). Составная часть древесины – целлюло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целка"/>
          <p:cNvPicPr/>
          <p:nvPr/>
        </p:nvPicPr>
        <p:blipFill>
          <a:blip r:embed="rId2"/>
          <a:stretch/>
        </p:blipFill>
        <p:spPr>
          <a:xfrm>
            <a:off x="500040" y="3786120"/>
            <a:ext cx="778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иког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животный крахмал, который откладывается в печени и является резервным веществом в организме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глик"/>
          <p:cNvPicPr/>
          <p:nvPr/>
        </p:nvPicPr>
        <p:blipFill>
          <a:blip r:embed="rId2"/>
          <a:stretch/>
        </p:blipFill>
        <p:spPr>
          <a:xfrm>
            <a:off x="900000" y="3716280"/>
            <a:ext cx="7886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Физические свойства глю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3840" y="1599840"/>
            <a:ext cx="8929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рдое, кристаллическ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ет сладковатый 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Исследуйте характер среды раствора глюкозы индик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Вывод : </a:t>
            </a:r>
            <a:br>
              <a:rPr sz="3200"/>
            </a:br>
            <a:r>
              <a:rPr b="1" i="1" lang="ru-RU" sz="3600" spc="-1" strike="noStrike">
                <a:solidFill>
                  <a:srgbClr val="0000ff"/>
                </a:solidFill>
                <a:latin typeface="Century Schoolbook"/>
              </a:rPr>
              <a:t>характер среды - нейтр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оказательства состава и строения глюк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640" y="1700280"/>
            <a:ext cx="8175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ая реакция является качественно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атомные спирты? Каким внешним эффектом она сопровожд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826920" y="3284640"/>
            <a:ext cx="79218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0a90"/>
                </a:solidFill>
                <a:latin typeface="Century Schoolbook"/>
              </a:rPr>
              <a:t>Эксперимент №1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0a90"/>
                </a:solidFill>
                <a:latin typeface="Century Schoolbook"/>
              </a:rPr>
              <a:t>Взаимодействие раствора глюкозы с гидроксидом меди (</a:t>
            </a:r>
            <a:r>
              <a:rPr b="1" i="1" lang="en-US" sz="2800" spc="-1" strike="noStrike">
                <a:solidFill>
                  <a:srgbClr val="1d0a90"/>
                </a:solidFill>
                <a:latin typeface="Century Schoolbook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4653000"/>
            <a:ext cx="91440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Вывод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глюкоза является многоатомным спи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(Одна молекула глюкозы содержит 5 гидроксильных групп (-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лная структурная 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Н     Н    ОН    Н 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  │     │     │     │     │     </a:t>
            </a:r>
            <a:r>
              <a:rPr b="1" lang="en-US" sz="3200" spc="-1" strike="noStrike">
                <a:solidFill>
                  <a:srgbClr val="070e93"/>
                </a:solidFill>
                <a:latin typeface="Arial"/>
              </a:rPr>
              <a:t>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Н─ С ─ С ─ С ─ С ─ С ─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│     │     │     │     │      </a:t>
            </a:r>
            <a:r>
              <a:rPr b="1" lang="en-US" sz="3200" spc="-1" strike="noStrike">
                <a:solidFill>
                  <a:srgbClr val="070e93"/>
                </a:solidFill>
                <a:latin typeface="Arial"/>
              </a:rPr>
              <a:t>\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ОН  ОН  ОН  Н    ОН      Н</a:t>
            </a:r>
            <a:r>
              <a:rPr b="0" lang="ru-RU" sz="3200" spc="-1" strike="noStrike">
                <a:solidFill>
                  <a:srgbClr val="070e9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9144000" cy="257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 Schoolbook"/>
              </a:rPr>
              <a:t>1. Глюкоза является бифункциональным соединением – альдегидоспиртом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entury Schoolbook"/>
              </a:rPr>
              <a:t>2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люкоза также существует в виде циклических форм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Циклические формы глюкозы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имические свойства глю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4200" y="164304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как многоатмоного спи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по – ОН групп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войства как альдег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 -СОН групп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пецифические свойства глюк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http://media1.picsearch.com/is?Wwo59V6u0Xi3tqMS-IBvKMmELOLqIRmxd8zcltGeBy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572000"/>
            <a:ext cx="148572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://images.google.com/images?q=tbn:AAZQvu9BuwMF-M:www.centurylonglive.com/ru/imgproducts/0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4643280"/>
            <a:ext cx="17571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 такие 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Углевод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 полифункциональны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рганические вещества, молекулы которых состоят из атомов углерода, водорода и кислорода, причем водород и кислород находятся в них, как правило, в таком же соотношении, как и в молекуле воды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Общая формула углевод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(H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O)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пецифические  свойства глю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пиртов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+ 2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иловый 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) молочнокисл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ОН –С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аслянокисл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Н + 2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) Полное 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6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6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4089240" y="1224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5"/>
          <p:cNvSpPr/>
          <p:nvPr/>
        </p:nvSpPr>
        <p:spPr>
          <a:xfrm>
            <a:off x="4089240" y="17384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4089240" y="3414600"/>
            <a:ext cx="10288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1"/>
          <p:cNvSpPr/>
          <p:nvPr/>
        </p:nvSpPr>
        <p:spPr>
          <a:xfrm>
            <a:off x="4089240" y="49068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Функции углев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686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ни поставляют энергию для биологически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Являются исходным материалом для синтеза в организме други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ежуточных или конечных метаболи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долю углеводов приходится около 80% сухого вещества растений и около 20%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а человека состоит примерно на 70% из углев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Углеводы используются с глубокой древности - самым первым угле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(точнее смесью углеводов), с которой познакомился человек, был мё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Родиной сахарного тростника является северо-западная Индия-Бенгалия. Европейцы познакомились с тростниковым сахаром благодаря походам Александр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Македонского в 327 г. до н.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Крахмал был известен ещё древним гре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143680" cy="16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векловичный сахар в чистом виде был откр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шь в 1747 г. немецким химиком А. Марггра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marggraf"/>
          <p:cNvPicPr/>
          <p:nvPr/>
        </p:nvPicPr>
        <p:blipFill>
          <a:blip r:embed="rId1"/>
          <a:stretch/>
        </p:blipFill>
        <p:spPr>
          <a:xfrm>
            <a:off x="5643720" y="1413000"/>
            <a:ext cx="3286080" cy="37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Kirchhoff"/>
          <p:cNvPicPr/>
          <p:nvPr/>
        </p:nvPicPr>
        <p:blipFill>
          <a:blip r:embed="rId2"/>
          <a:stretch/>
        </p:blipFill>
        <p:spPr>
          <a:xfrm>
            <a:off x="5857920" y="1413000"/>
            <a:ext cx="294624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erzel"/>
          <p:cNvPicPr/>
          <p:nvPr/>
        </p:nvPicPr>
        <p:blipFill>
          <a:blip r:embed="rId3"/>
          <a:stretch/>
        </p:blipFill>
        <p:spPr>
          <a:xfrm>
            <a:off x="5715000" y="1357200"/>
            <a:ext cx="3197160" cy="388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бутлеров"/>
          <p:cNvPicPr/>
          <p:nvPr/>
        </p:nvPicPr>
        <p:blipFill>
          <a:blip r:embed="rId4"/>
          <a:stretch/>
        </p:blipFill>
        <p:spPr>
          <a:xfrm>
            <a:off x="5643720" y="1413000"/>
            <a:ext cx="3176280" cy="388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0" y="1989000"/>
            <a:ext cx="50720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В 1811 г. русский химик Кирхгоф впервые получил глюкозу гидролизом крахм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3143160"/>
            <a:ext cx="5143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Впервые правильную эмпирическую формулу глюкозы предложил швед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мик Я. Берцеллиус в 1837 г. 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5000760"/>
            <a:ext cx="5749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Синтез углеводов из формальдегида в присутствии Са(ОН)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был произведён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М. Бутлеровым в 1861 г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лассификация углев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59280" y="1557360"/>
            <a:ext cx="27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еводы = 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79280" y="2492280"/>
            <a:ext cx="2305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2421000"/>
            <a:ext cx="2016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492360" y="3284640"/>
            <a:ext cx="22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300720" y="3284640"/>
            <a:ext cx="26640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1258560" y="1844640"/>
            <a:ext cx="180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796000" y="184464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643280" y="2708280"/>
            <a:ext cx="2089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45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181080" y="3715920"/>
            <a:ext cx="12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а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1332000" y="3789360"/>
            <a:ext cx="215640" cy="7905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1636920" y="3985920"/>
            <a:ext cx="144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екс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83240" y="508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зоксириб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0"/>
          <p:cNvSpPr/>
          <p:nvPr/>
        </p:nvSpPr>
        <p:spPr>
          <a:xfrm>
            <a:off x="1763640" y="501336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1908000" y="5138280"/>
            <a:ext cx="153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нт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3353400" y="479700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т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4427640" y="4869000"/>
            <a:ext cx="234720" cy="865080"/>
          </a:xfrm>
          <a:custGeom>
            <a:avLst/>
            <a:gdLst>
              <a:gd name="textAreaLeft" fmla="*/ 0 w 234720"/>
              <a:gd name="textAreaRight" fmla="*/ 84600 w 234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4643280" y="5083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гексо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6085080" y="4652640"/>
            <a:ext cx="13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6"/>
          <p:cNvSpPr/>
          <p:nvPr/>
        </p:nvSpPr>
        <p:spPr>
          <a:xfrm>
            <a:off x="7451640" y="4724280"/>
            <a:ext cx="92160" cy="1081080"/>
          </a:xfrm>
          <a:custGeom>
            <a:avLst/>
            <a:gdLst>
              <a:gd name="textAreaLeft" fmla="*/ 0 w 92160"/>
              <a:gd name="textAreaRight" fmla="*/ 33120 w 921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7526520" y="5083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екс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179280" y="59187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Чем больше молекулярная масса углеводов, тем менее растворимое вещество и не сладкое на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3"/>
          <p:cNvSpPr/>
          <p:nvPr/>
        </p:nvSpPr>
        <p:spPr>
          <a:xfrm>
            <a:off x="673272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ик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идролизуются на большое количество молекул моносахари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538200" y="1414440"/>
            <a:ext cx="3673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5146560" y="1341360"/>
            <a:ext cx="3673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3852720" y="5156280"/>
            <a:ext cx="48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1000080" y="428760"/>
            <a:ext cx="6985080" cy="1643040"/>
          </a:xfrm>
          <a:prstGeom prst="downArrowCallout">
            <a:avLst>
              <a:gd name="adj1" fmla="val 156211"/>
              <a:gd name="adj2" fmla="val 220438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лассификация угле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6"/>
          <p:cNvSpPr/>
          <p:nvPr/>
        </p:nvSpPr>
        <p:spPr>
          <a:xfrm>
            <a:off x="357120" y="2071800"/>
            <a:ext cx="2087640" cy="1069920"/>
          </a:xfrm>
          <a:prstGeom prst="downArrowCallout">
            <a:avLst>
              <a:gd name="adj1" fmla="val 51314"/>
              <a:gd name="adj2" fmla="val 72420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но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7"/>
          <p:cNvSpPr/>
          <p:nvPr/>
        </p:nvSpPr>
        <p:spPr>
          <a:xfrm>
            <a:off x="3357720" y="2357280"/>
            <a:ext cx="2447640" cy="782640"/>
          </a:xfrm>
          <a:prstGeom prst="downArrowCallout">
            <a:avLst>
              <a:gd name="adj1" fmla="val 66956"/>
              <a:gd name="adj2" fmla="val 94474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и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6516720" y="2143080"/>
            <a:ext cx="2158920" cy="925560"/>
          </a:xfrm>
          <a:prstGeom prst="downArrowCallout">
            <a:avLst>
              <a:gd name="adj1" fmla="val 59054"/>
              <a:gd name="adj2" fmla="val 83324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и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39528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юко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 виноградн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е гидролизую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41964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хароза (свекловичный или тростников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ктоза (молочн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идролизуются на 2 молекулы моносахари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596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носахариды - пент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2880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бок"/>
          <p:cNvPicPr/>
          <p:nvPr/>
        </p:nvPicPr>
        <p:blipFill>
          <a:blip r:embed="rId2"/>
          <a:stretch/>
        </p:blipFill>
        <p:spPr>
          <a:xfrm>
            <a:off x="571680" y="1285920"/>
            <a:ext cx="4000320" cy="32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дезоксирибок"/>
          <p:cNvPicPr/>
          <p:nvPr/>
        </p:nvPicPr>
        <p:blipFill>
          <a:blip r:embed="rId3"/>
          <a:stretch/>
        </p:blipFill>
        <p:spPr>
          <a:xfrm>
            <a:off x="4751280" y="1357200"/>
            <a:ext cx="3959280" cy="3214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928800" y="4714920"/>
            <a:ext cx="2728800" cy="64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000760" y="4786200"/>
            <a:ext cx="3571920" cy="64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окси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фрук"/>
          <p:cNvPicPr/>
          <p:nvPr/>
        </p:nvPicPr>
        <p:blipFill>
          <a:blip r:embed="rId1"/>
          <a:stretch/>
        </p:blipFill>
        <p:spPr>
          <a:xfrm>
            <a:off x="3000240" y="1928880"/>
            <a:ext cx="33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глюк"/>
          <p:cNvPicPr/>
          <p:nvPr/>
        </p:nvPicPr>
        <p:blipFill>
          <a:blip r:embed="rId2"/>
          <a:stretch/>
        </p:blipFill>
        <p:spPr>
          <a:xfrm>
            <a:off x="179280" y="1928880"/>
            <a:ext cx="2664000" cy="3357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571680" y="5715000"/>
            <a:ext cx="151272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857760" y="6000840"/>
            <a:ext cx="1441440" cy="36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858000" y="5857920"/>
            <a:ext cx="151128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ак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носахариды - гекс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media2.picsearch.com/is?rceBsqr1qX0QViWxSI37FJckcGhLwEITUsZzprLQyA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00880" y="2000160"/>
            <a:ext cx="2357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22:11Z</dcterms:created>
  <dc:creator>Speed_XP</dc:creator>
  <dc:description/>
  <dc:language>en-US</dc:language>
  <cp:lastModifiedBy>Kruglov Uwu</cp:lastModifiedBy>
  <dcterms:modified xsi:type="dcterms:W3CDTF">2023-06-09T10:16:44Z</dcterms:modified>
  <cp:revision>16</cp:revision>
  <dc:subject/>
  <dc:title>Углеводы</dc:title>
</cp:coreProperties>
</file>