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0B9D-81D9-4CD2-BD22-1736F2F03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368A-04CF-454A-84E3-DFB6E3649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004-4373-4D82-8F36-52B903DD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51A-90F2-4BBF-B223-6078B796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04D-B8FC-4E22-BB1E-E16A1822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56F-3736-4564-B5DC-63FF0022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09D4-C408-4C73-9316-938583F3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E58C-AEB8-4423-B3C6-691BE351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E259-8F60-4331-B4C3-5593ED55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7A66-2740-4E92-A982-AAA7682C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F2B8-B608-407E-A892-F52CF308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01F4-FD63-48EB-8DEA-4A24F0B4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1C79-77FC-44D2-8F8A-6307AA3C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753F-FC46-4E2A-B6FB-A774DC63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E2AF-0CD3-4708-AB64-63A820B6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C84D-864A-4014-9AF5-62061728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E74C-5FC9-43F5-BD6E-C07989C0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A99D-EB08-454D-8D8D-1A5F7950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83E4-B0B0-4245-B80F-50C612D2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4A4-64A9-4A19-A691-B8E012ED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FFD-102E-4F18-9496-653FC601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C7A-73FC-4128-9D70-46D5C783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73C-7697-4CD3-A107-D6DD0E2E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C40-3AAD-4B4E-AA7C-BBB9B8B6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DD2-D37C-4383-8685-22502196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91E-84EB-40DB-A9A2-55931FB9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6552-F8D4-40F3-8FE2-4B16A9598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6B49-E09B-4FD2-BD38-24511DCBD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hop.vetby.com/pics/items/iglukoza40400ml.jpg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www.centurylonglive.com/ru/imgproducts/07.jpg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3.jpeg"/><Relationship Id="rId7" Type="http://schemas.openxmlformats.org/officeDocument/2006/relationships/hyperlink" Target="http://www.soil.msu.ru/soilyeasts/images/formulas/Galactose.gif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698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39640" y="1123920"/>
            <a:ext cx="612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Дисахар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хароза (обычный пищевой саха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содержится в большом количестве сахарной свекле, сахарном тростн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сахар"/>
          <p:cNvPicPr/>
          <p:nvPr/>
        </p:nvPicPr>
        <p:blipFill>
          <a:blip r:embed="rId2"/>
          <a:stretch/>
        </p:blipFill>
        <p:spPr>
          <a:xfrm>
            <a:off x="928800" y="3214800"/>
            <a:ext cx="7429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Мальто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ьтоза (солодовый 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ьтозу можно получить при гидролизе крахмала под действием ферментов, содержащихся в сол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мальта"/>
          <p:cNvPicPr/>
          <p:nvPr/>
        </p:nvPicPr>
        <p:blipFill>
          <a:blip r:embed="rId2"/>
          <a:stretch/>
        </p:blipFill>
        <p:spPr>
          <a:xfrm>
            <a:off x="826920" y="3714840"/>
            <a:ext cx="774576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Полисахари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рахмал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резервный полисахарид многих растений. В промышленности его получают из картофеля. Это белый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краха"/>
          <p:cNvPicPr/>
          <p:nvPr/>
        </p:nvPicPr>
        <p:blipFill>
          <a:blip r:embed="rId2"/>
          <a:stretch/>
        </p:blipFill>
        <p:spPr>
          <a:xfrm>
            <a:off x="571680" y="3571920"/>
            <a:ext cx="8001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Полисахари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ллюлоз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тчатка) – широко распространена в природе: из неё построены ткани растений. Вата, фильтровальная бумага – наиболее чистые формы целлюлозы (до 96%). Составная часть древесины – целлюло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целка"/>
          <p:cNvPicPr/>
          <p:nvPr/>
        </p:nvPicPr>
        <p:blipFill>
          <a:blip r:embed="rId2"/>
          <a:stretch/>
        </p:blipFill>
        <p:spPr>
          <a:xfrm>
            <a:off x="500040" y="3786120"/>
            <a:ext cx="778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Полисахари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85480" y="1599840"/>
            <a:ext cx="864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ликоге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животный крахмал, который откладывается в печени и является резервным веществом в организме человека и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глик"/>
          <p:cNvPicPr/>
          <p:nvPr/>
        </p:nvPicPr>
        <p:blipFill>
          <a:blip r:embed="rId2"/>
          <a:stretch/>
        </p:blipFill>
        <p:spPr>
          <a:xfrm>
            <a:off x="900000" y="3716280"/>
            <a:ext cx="78868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Физические свойства глюкоз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13840" y="1599840"/>
            <a:ext cx="8929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ердое, кристаллическ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 ц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ет сладковатый в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растворимо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Исследуйте характер среды раствора глюкозы индикат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Вывод : </a:t>
            </a:r>
            <a:br>
              <a:rPr sz="3200"/>
            </a:br>
            <a:r>
              <a:rPr b="1" i="1" lang="ru-RU" sz="3600" spc="-1" strike="noStrike">
                <a:solidFill>
                  <a:srgbClr val="0000ff"/>
                </a:solidFill>
                <a:latin typeface="Century Schoolbook"/>
              </a:rPr>
              <a:t>характер среды - нейтра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Доказательства состава и строения глюко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9640" y="1700280"/>
            <a:ext cx="8175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ая реакция является качественно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атомные спирты? Каким внешним эффектом она сопровожд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826920" y="3284640"/>
            <a:ext cx="79218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0a90"/>
                </a:solidFill>
                <a:latin typeface="Century Schoolbook"/>
              </a:rPr>
              <a:t>Эксперимент №1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0a90"/>
                </a:solidFill>
                <a:latin typeface="Century Schoolbook"/>
              </a:rPr>
              <a:t>Взаимодействие раствора глюкозы с гидроксидом меди (</a:t>
            </a:r>
            <a:r>
              <a:rPr b="1" i="1" lang="en-US" sz="2800" spc="-1" strike="noStrike">
                <a:solidFill>
                  <a:srgbClr val="1d0a90"/>
                </a:solidFill>
                <a:latin typeface="Century Schoolbook"/>
              </a:rPr>
              <a:t>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4653000"/>
            <a:ext cx="914400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Вывод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 Schoolbook"/>
              </a:rPr>
              <a:t>глюкоза является многоатомным спир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 Schoolbook"/>
              </a:rPr>
              <a:t>(Одна молекула глюкозы содержит 5 гидроксильных групп (-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лная структурная форму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a9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a9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1d0a9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70e93"/>
                </a:solidFill>
                <a:latin typeface="Arial"/>
              </a:rPr>
              <a:t>Н     Н    ОН    Н     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0e93"/>
                </a:solidFill>
                <a:latin typeface="Arial"/>
              </a:rPr>
              <a:t>        │     │     │     │     │     </a:t>
            </a:r>
            <a:r>
              <a:rPr b="1" lang="en-US" sz="3200" spc="-1" strike="noStrike">
                <a:solidFill>
                  <a:srgbClr val="070e93"/>
                </a:solidFill>
                <a:latin typeface="Arial"/>
              </a:rPr>
              <a:t>/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0e9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70e93"/>
                </a:solidFill>
                <a:latin typeface="Arial"/>
              </a:rPr>
              <a:t>Н─ С ─ С ─ С ─ С ─ С ─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0e93"/>
                </a:solidFill>
                <a:latin typeface="Arial"/>
              </a:rPr>
              <a:t>      │     │     │     │     │      </a:t>
            </a:r>
            <a:r>
              <a:rPr b="1" lang="en-US" sz="3200" spc="-1" strike="noStrike">
                <a:solidFill>
                  <a:srgbClr val="070e93"/>
                </a:solidFill>
                <a:latin typeface="Arial"/>
              </a:rPr>
              <a:t>\</a:t>
            </a:r>
            <a:r>
              <a:rPr b="1" lang="ru-RU" sz="3200" spc="-1" strike="noStrike">
                <a:solidFill>
                  <a:srgbClr val="070e9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0e93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70e93"/>
                </a:solidFill>
                <a:latin typeface="Arial"/>
              </a:rPr>
              <a:t>ОН  ОН  ОН  Н    ОН      Н</a:t>
            </a:r>
            <a:r>
              <a:rPr b="0" lang="ru-RU" sz="3200" spc="-1" strike="noStrike">
                <a:solidFill>
                  <a:srgbClr val="070e9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4286160"/>
            <a:ext cx="9144000" cy="2571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entury Schoolbook"/>
              </a:rPr>
              <a:t>1. Глюкоза является бифункциональным соединением – альдегидоспиртом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entury Schoolbook"/>
              </a:rPr>
              <a:t>2.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люкоза также существует в виде циклических форм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Циклические формы глюкозы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Химические свойства глюк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14200" y="164304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йства как многоатмоного спир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 по – ОН групп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войства как альдег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о -СОН групп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пецифические свойства глюко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http://media1.picsearch.com/is?Wwo59V6u0Xi3tqMS-IBvKMmELOLqIRmxd8zcltGeBy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880" y="4572000"/>
            <a:ext cx="148572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http://images.google.com/images?q=tbn:AAZQvu9BuwMF-M:www.centurylonglive.com/ru/imgproducts/07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57920" y="4643280"/>
            <a:ext cx="17571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то такие угле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Углевод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– полифункциональные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органические вещества, молекулы которых состоят из атомов углерода, водорода и кислорода, причем водород и кислород находятся в них, как правило, в таком же соотношении, как и в молекуле воды (2: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Общая формула углевод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i="1" lang="en-US" sz="6000" spc="-1" strike="noStrike" baseline="-25000">
                <a:solidFill>
                  <a:srgbClr val="ff0066"/>
                </a:solidFill>
                <a:latin typeface="Arial"/>
              </a:rPr>
              <a:t>n</a:t>
            </a:r>
            <a:r>
              <a:rPr b="1" i="1" lang="en-US" sz="6000" spc="-1" strike="noStrike">
                <a:solidFill>
                  <a:srgbClr val="ff0066"/>
                </a:solidFill>
                <a:latin typeface="Arial"/>
              </a:rPr>
              <a:t>(H</a:t>
            </a:r>
            <a:r>
              <a:rPr b="1" i="1" lang="en-US" sz="60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i="1" lang="en-US" sz="6000" spc="-1" strike="noStrike">
                <a:solidFill>
                  <a:srgbClr val="ff0066"/>
                </a:solidFill>
                <a:latin typeface="Arial"/>
              </a:rPr>
              <a:t>O)</a:t>
            </a:r>
            <a:r>
              <a:rPr b="1" i="1" lang="en-US" sz="6000" spc="-1" strike="noStrike" baseline="-25000">
                <a:solidFill>
                  <a:srgbClr val="ff0066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пецифические  свойства глюк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спиртовое бро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С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С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+ 2С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Этиловый спи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) молочнокислое бро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С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СНОН –СО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маслянокислое бро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ОН + 2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↑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2С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4) Полное оки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6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6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6С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2"/>
          <p:cNvSpPr/>
          <p:nvPr/>
        </p:nvSpPr>
        <p:spPr>
          <a:xfrm>
            <a:off x="4089240" y="122400"/>
            <a:ext cx="137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5"/>
          <p:cNvSpPr/>
          <p:nvPr/>
        </p:nvSpPr>
        <p:spPr>
          <a:xfrm>
            <a:off x="4089240" y="173844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8"/>
          <p:cNvSpPr/>
          <p:nvPr/>
        </p:nvSpPr>
        <p:spPr>
          <a:xfrm>
            <a:off x="4089240" y="3414600"/>
            <a:ext cx="10288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1"/>
          <p:cNvSpPr/>
          <p:nvPr/>
        </p:nvSpPr>
        <p:spPr>
          <a:xfrm>
            <a:off x="4089240" y="49068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Функции углев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6868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Они поставляют энергию для биологических процес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Являются исходным материалом для синтеза в организме других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ежуточных или конечных метаболи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долю углеводов приходится около 80% сухого вещества растений и около 20%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ща человека состоит примерно на 70% из углев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599840"/>
            <a:ext cx="9144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Углеводы используются с глубокой древности - самым первым углев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(точнее смесью углеводов), с которой познакомился человек, был мё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Родиной сахарного тростника является северо-западная Индия-Бенгалия. Европейцы познакомились с тростниковым сахаром благодаря походам Александр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Македонского в 327 г. до н.э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Крахмал был известен ещё древним гре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5143680" cy="16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Свекловичный сахар в чистом виде был откры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шь в 1747 г. немецким химиком А. Маргграф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marggraf"/>
          <p:cNvPicPr/>
          <p:nvPr/>
        </p:nvPicPr>
        <p:blipFill>
          <a:blip r:embed="rId1"/>
          <a:stretch/>
        </p:blipFill>
        <p:spPr>
          <a:xfrm>
            <a:off x="5643720" y="1413000"/>
            <a:ext cx="3286080" cy="374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Kirchhoff"/>
          <p:cNvPicPr/>
          <p:nvPr/>
        </p:nvPicPr>
        <p:blipFill>
          <a:blip r:embed="rId2"/>
          <a:stretch/>
        </p:blipFill>
        <p:spPr>
          <a:xfrm>
            <a:off x="5857920" y="1413000"/>
            <a:ext cx="2946240" cy="381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berzel"/>
          <p:cNvPicPr/>
          <p:nvPr/>
        </p:nvPicPr>
        <p:blipFill>
          <a:blip r:embed="rId3"/>
          <a:stretch/>
        </p:blipFill>
        <p:spPr>
          <a:xfrm>
            <a:off x="5715000" y="1357200"/>
            <a:ext cx="3197160" cy="388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бутлеров"/>
          <p:cNvPicPr/>
          <p:nvPr/>
        </p:nvPicPr>
        <p:blipFill>
          <a:blip r:embed="rId4"/>
          <a:stretch/>
        </p:blipFill>
        <p:spPr>
          <a:xfrm>
            <a:off x="5643720" y="1413000"/>
            <a:ext cx="3176280" cy="3887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2"/>
          <p:cNvSpPr/>
          <p:nvPr/>
        </p:nvSpPr>
        <p:spPr>
          <a:xfrm>
            <a:off x="0" y="1989000"/>
            <a:ext cx="50720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В 1811 г. русский химик Кирхгоф впервые получил глюкозу гидролизом крахм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0" y="3143160"/>
            <a:ext cx="51436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Впервые правильную эмпирическую формулу глюкозы предложил шведск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имик Я. Берцеллиус в 1837 г. С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0" y="5000760"/>
            <a:ext cx="5749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Синтез углеводов из формальдегида в присутствии Са(ОН)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был произведён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.М. Бутлеровым в 1861 г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лассификация углев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059280" y="1557360"/>
            <a:ext cx="27349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еводы = саха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79280" y="2492280"/>
            <a:ext cx="230508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осаха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372360" y="2421000"/>
            <a:ext cx="2016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3492360" y="3284640"/>
            <a:ext cx="223380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аха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6300720" y="3284640"/>
            <a:ext cx="266400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саха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1258560" y="1844640"/>
            <a:ext cx="180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5796000" y="1844640"/>
            <a:ext cx="1728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 flipH="1">
            <a:off x="4643280" y="2708280"/>
            <a:ext cx="2089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745164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181080" y="3715920"/>
            <a:ext cx="121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укт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лакт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6"/>
          <p:cNvSpPr/>
          <p:nvPr/>
        </p:nvSpPr>
        <p:spPr>
          <a:xfrm>
            <a:off x="1332000" y="3789360"/>
            <a:ext cx="215640" cy="790560"/>
          </a:xfrm>
          <a:custGeom>
            <a:avLst/>
            <a:gdLst>
              <a:gd name="textAreaLeft" fmla="*/ 0 w 215640"/>
              <a:gd name="textAreaRight" fmla="*/ 77760 w 21564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8"/>
          <p:cNvSpPr/>
          <p:nvPr/>
        </p:nvSpPr>
        <p:spPr>
          <a:xfrm>
            <a:off x="1636920" y="3985920"/>
            <a:ext cx="144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гекс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183240" y="508428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зоксирибо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0"/>
          <p:cNvSpPr/>
          <p:nvPr/>
        </p:nvSpPr>
        <p:spPr>
          <a:xfrm>
            <a:off x="1763640" y="5013360"/>
            <a:ext cx="216000" cy="719280"/>
          </a:xfrm>
          <a:custGeom>
            <a:avLst/>
            <a:gdLst>
              <a:gd name="textAreaLeft" fmla="*/ 0 w 216000"/>
              <a:gd name="textAreaRight" fmla="*/ 78120 w 2160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1908000" y="5138280"/>
            <a:ext cx="153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ент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2"/>
          <p:cNvSpPr/>
          <p:nvPr/>
        </p:nvSpPr>
        <p:spPr>
          <a:xfrm>
            <a:off x="3353400" y="4797000"/>
            <a:ext cx="12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ха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кт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ьто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3"/>
          <p:cNvSpPr/>
          <p:nvPr/>
        </p:nvSpPr>
        <p:spPr>
          <a:xfrm>
            <a:off x="4427640" y="4869000"/>
            <a:ext cx="234720" cy="865080"/>
          </a:xfrm>
          <a:custGeom>
            <a:avLst/>
            <a:gdLst>
              <a:gd name="textAreaLeft" fmla="*/ 0 w 234720"/>
              <a:gd name="textAreaRight" fmla="*/ 84600 w 23472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4643280" y="508392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гексо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>
            <a:off x="6085080" y="4652640"/>
            <a:ext cx="137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х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к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лю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6"/>
          <p:cNvSpPr/>
          <p:nvPr/>
        </p:nvSpPr>
        <p:spPr>
          <a:xfrm>
            <a:off x="7451640" y="4724280"/>
            <a:ext cx="92160" cy="1081080"/>
          </a:xfrm>
          <a:custGeom>
            <a:avLst/>
            <a:gdLst>
              <a:gd name="textAreaLeft" fmla="*/ 0 w 92160"/>
              <a:gd name="textAreaRight" fmla="*/ 33120 w 921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>
            <a:off x="7526520" y="508392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екс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>
            <a:off x="179280" y="59187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Чем больше молекулярная масса углеводов, тем менее растворимое вещество и не сладкое на вк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3"/>
          <p:cNvSpPr/>
          <p:nvPr/>
        </p:nvSpPr>
        <p:spPr>
          <a:xfrm>
            <a:off x="6732720" y="3500280"/>
            <a:ext cx="2089080" cy="3097440"/>
          </a:xfrm>
          <a:prstGeom prst="rect">
            <a:avLst/>
          </a:prstGeom>
          <a:solidFill>
            <a:srgbClr val="fdfed6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хм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люл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иког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гидролизуются на большое количество молекул моносахари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538200" y="1414440"/>
            <a:ext cx="36734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5146560" y="1341360"/>
            <a:ext cx="3673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3852720" y="5156280"/>
            <a:ext cx="489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5"/>
          <p:cNvSpPr/>
          <p:nvPr/>
        </p:nvSpPr>
        <p:spPr>
          <a:xfrm>
            <a:off x="1000080" y="428760"/>
            <a:ext cx="6985080" cy="1643040"/>
          </a:xfrm>
          <a:prstGeom prst="downArrowCallout">
            <a:avLst>
              <a:gd name="adj1" fmla="val 156211"/>
              <a:gd name="adj2" fmla="val 220438"/>
              <a:gd name="adj3" fmla="val 19838"/>
              <a:gd name="adj4" fmla="val 66667"/>
            </a:avLst>
          </a:prstGeom>
          <a:solidFill>
            <a:srgbClr val="cc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лассификация углев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6"/>
          <p:cNvSpPr/>
          <p:nvPr/>
        </p:nvSpPr>
        <p:spPr>
          <a:xfrm>
            <a:off x="357120" y="2071800"/>
            <a:ext cx="2087640" cy="1069920"/>
          </a:xfrm>
          <a:prstGeom prst="downArrowCallout">
            <a:avLst>
              <a:gd name="adj1" fmla="val 51314"/>
              <a:gd name="adj2" fmla="val 72420"/>
              <a:gd name="adj3" fmla="val 19838"/>
              <a:gd name="adj4" fmla="val 6666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носахар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7"/>
          <p:cNvSpPr/>
          <p:nvPr/>
        </p:nvSpPr>
        <p:spPr>
          <a:xfrm>
            <a:off x="3357720" y="2357280"/>
            <a:ext cx="2447640" cy="782640"/>
          </a:xfrm>
          <a:prstGeom prst="downArrowCallout">
            <a:avLst>
              <a:gd name="adj1" fmla="val 66956"/>
              <a:gd name="adj2" fmla="val 94474"/>
              <a:gd name="adj3" fmla="val 19838"/>
              <a:gd name="adj4" fmla="val 6666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исахар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8"/>
          <p:cNvSpPr/>
          <p:nvPr/>
        </p:nvSpPr>
        <p:spPr>
          <a:xfrm>
            <a:off x="6516720" y="2143080"/>
            <a:ext cx="2158920" cy="925560"/>
          </a:xfrm>
          <a:prstGeom prst="downArrowCallout">
            <a:avLst>
              <a:gd name="adj1" fmla="val 59054"/>
              <a:gd name="adj2" fmla="val 83324"/>
              <a:gd name="adj3" fmla="val 19838"/>
              <a:gd name="adj4" fmla="val 6666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исахар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395280" y="3500280"/>
            <a:ext cx="2089080" cy="3097440"/>
          </a:xfrm>
          <a:prstGeom prst="rect">
            <a:avLst/>
          </a:prstGeom>
          <a:solidFill>
            <a:srgbClr val="fdfed6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юко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 виноградный саха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рукт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б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не гидролизуютс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3419640" y="3500280"/>
            <a:ext cx="2089080" cy="3097440"/>
          </a:xfrm>
          <a:prstGeom prst="rect">
            <a:avLst/>
          </a:prstGeom>
          <a:solidFill>
            <a:srgbClr val="fdfed6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хароза (свекловичный или тростниковый саха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ктоза (молочный саха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гидролизуются на 2 молекулы моносахари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596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Моносахариды - пенто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28800"/>
            <a:ext cx="85010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рибок"/>
          <p:cNvPicPr/>
          <p:nvPr/>
        </p:nvPicPr>
        <p:blipFill>
          <a:blip r:embed="rId2"/>
          <a:stretch/>
        </p:blipFill>
        <p:spPr>
          <a:xfrm>
            <a:off x="571680" y="1285920"/>
            <a:ext cx="4000320" cy="3214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дезоксирибок"/>
          <p:cNvPicPr/>
          <p:nvPr/>
        </p:nvPicPr>
        <p:blipFill>
          <a:blip r:embed="rId3"/>
          <a:stretch/>
        </p:blipFill>
        <p:spPr>
          <a:xfrm>
            <a:off x="4751280" y="1357200"/>
            <a:ext cx="3959280" cy="32148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928800" y="4714920"/>
            <a:ext cx="2728800" cy="642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б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000760" y="4786200"/>
            <a:ext cx="3571920" cy="64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оксириб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фрук"/>
          <p:cNvPicPr/>
          <p:nvPr/>
        </p:nvPicPr>
        <p:blipFill>
          <a:blip r:embed="rId1"/>
          <a:stretch/>
        </p:blipFill>
        <p:spPr>
          <a:xfrm>
            <a:off x="3000240" y="1928880"/>
            <a:ext cx="3384720" cy="350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глюк"/>
          <p:cNvPicPr/>
          <p:nvPr/>
        </p:nvPicPr>
        <p:blipFill>
          <a:blip r:embed="rId2"/>
          <a:stretch/>
        </p:blipFill>
        <p:spPr>
          <a:xfrm>
            <a:off x="179280" y="1928880"/>
            <a:ext cx="2664000" cy="3357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9"/>
          <p:cNvSpPr/>
          <p:nvPr/>
        </p:nvSpPr>
        <p:spPr>
          <a:xfrm>
            <a:off x="571680" y="5715000"/>
            <a:ext cx="151272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3857760" y="6000840"/>
            <a:ext cx="1441440" cy="36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укт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6858000" y="5857920"/>
            <a:ext cx="151128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лакт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6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Моносахариды - гексо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media2.picsearch.com/is?rceBsqr1qX0QViWxSI37FJckcGhLwEITUsZzprLQyA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00880" y="2000160"/>
            <a:ext cx="2357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4:22:11Z</dcterms:created>
  <dc:creator>Speed_XP</dc:creator>
  <dc:description/>
  <dc:language>en-US</dc:language>
  <cp:lastModifiedBy>Kruglov Uwu</cp:lastModifiedBy>
  <dcterms:modified xsi:type="dcterms:W3CDTF">2023-06-09T10:16:44Z</dcterms:modified>
  <cp:revision>16</cp:revision>
  <dc:subject/>
  <dc:title>Углеводы</dc:title>
</cp:coreProperties>
</file>