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5157-971C-48E3-92BA-32DF0FD5C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8240-7BDA-4C64-AEB3-9D46A711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6628AA-E349-41D1-946A-2201BDCE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88EDE0-88E0-4B5E-8A0E-8A18E188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76B2A-B03C-43A6-8B4F-C82CDA6C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1B337-24DC-4D50-8424-3A5E15BE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ED825-38FF-4300-BF2C-7E21638D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5E5AF1-C687-43CD-870D-35CE77F0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0B24DB-FFD4-4489-9652-67608223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53CE06-8B84-4376-B6E1-5218918F4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8F663-0D9F-4E06-BE24-F8E1C5E49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CD302-F3EC-4206-9D77-E5F5D9DC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ECE4-CDD2-46CF-98C2-C279DC196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4860C-E674-4CF1-BA7D-024031C4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F3209E-9179-436B-92F7-49694625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53032-BBD2-4E38-945A-7F701FEE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225EC-C436-4D38-9956-59FC40FE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AB2C7-9B2A-4D58-84E7-C5600D9C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C1C28-B235-46EE-A6D7-44B83208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0828D-3D23-40C7-90A5-90AB48FC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13B7BB-5C76-4D89-831C-7D624B6D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E65DBA-6DE1-43C9-8F44-69A4FE22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4FEA10-C486-4C5E-BDB3-A3090F7FE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3F6A-527F-4D77-AC29-1C8298904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425373-AD7D-4157-A736-7200145F9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6A528-373F-46C9-83EE-057FB0A83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99859-46C0-4A74-9373-99212408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FDD9D-BB59-470E-BFFA-2A4A5357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82B40-02FE-4388-90FA-ECE9A7F2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88CEB-E6BB-421D-9773-A2E60574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D2DB5-0DC3-4DC9-BB87-DCE3F6CE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46E85-07E7-4632-AB3A-2F610036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84FF0-8C10-47EB-B84B-D44D4435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A4A00-CF53-471B-AB3A-D063F515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F345-3422-4047-B40A-3644E0CDE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A1E30-9B40-4D10-B02D-7A02FADB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A14F9-8692-4E3A-AA99-B9A081FBB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F3B37-43D3-42A8-AD4F-ED27BD205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04FD8C-0E7C-42F7-9FF6-8A6AE60C8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73A3F-9B05-43C6-B1BF-393C5C2B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E57144-915B-4388-AAF2-C5336582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D9CB1F-E826-4E39-A1A5-D6077D50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CB417F-BAEB-4535-8EC3-7092FAFC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9D990C-17E5-477D-96C6-54553E8F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397A77-E9DE-4594-B321-731E2736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913F-4E5E-4E54-9EDE-09A85E3A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DC6659-545E-48D2-A89B-D30E5C8E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AD91E3-5291-4D24-85C6-43406628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6DCC1D-E435-4DF4-9583-E8F050A4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3E9F73-4B5D-47F5-8D91-D19AA2890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DDC6ED-36BC-4BBB-A010-2E197815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E5B1-826E-4D09-8779-FA15EF6C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8297-39E1-4706-B5A1-4D3885EB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45E0-5762-4D67-BC5E-A414BA1F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669D-F824-48F7-B77D-F501DEA2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CDE9-B921-4AE8-A60F-563E4ED1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BE87-A63E-4064-89FB-7BB21EEF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9E21-DB49-4DB8-B443-D38D5AE5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097E-117E-4A7B-A172-8C6A260B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5CE7-5878-4A1B-B26D-E8104646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906C-D214-41A9-9BA8-9929E6BB3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7DAE-88E2-43E8-833B-E62F73235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502A8-560C-4756-92B9-61ECE5022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39246-FCA4-47C0-8319-CD3AE7E5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24790-58FC-4E4E-A330-BA91AE57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EBC05-DD2E-4840-9618-45E8DE44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62681-9E5A-4AA8-AC17-83D31CF7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B34F-A30E-43EC-9D5F-0837410F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5EB10-06F7-4F19-9C1F-5309AF2D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4F66C-E0D6-404E-AAE1-C8D9111B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58707-6369-43C9-B3C9-5BC30EF0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3D98F-8071-49D1-BA81-D193BD88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42A68-EE69-45A0-BD23-FC3A83C0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79E4A-685A-475F-AB5E-513E2ACE4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8F00F-68E6-47BE-B2EB-0804B473F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05B56-6155-4450-ACA4-97B3F29D5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CFF4B-156E-4CB5-B64B-A3FA0EF6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DA2DE-AFCF-4FD8-9385-10160D62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B4B5-2FB3-4468-91E7-A1DE4240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6832F-C20E-4F4A-A07F-0A61D283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D912F-2ED7-44ED-81A4-C866EE72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38948-D6C4-46B5-9BC3-6CD67AA9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20CDC-20C9-49A4-924F-8413F622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28ACA-FFA8-4464-AE29-E07485DC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E80D8-ED50-48D6-9214-5D412329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AD28C-CD67-4B56-9F7A-4803FC78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F4BD9-B4DD-401F-8C82-0546E356B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BB608-DF67-4116-BA2D-F5840426E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529BE-DB94-432F-9810-11ABF9B7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83EF-B92C-4E7C-9270-8011C16B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6375D-2B52-4D50-8271-CE8019B2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814C3-9F10-4E41-9D40-1E1ACD63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FDA26-5653-4FE3-90B2-DADEE1A4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D0B59-FE4B-4A2E-8B38-B9A820C1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1D7C2-C74D-4AF6-92DD-7BF13F4B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67032-AEC4-452F-98E3-09BB281E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3A5A7-FB8F-42AF-B596-782A7F0A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19ABD-9F87-4449-8CDC-9E69EADB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CDC99-9514-4629-A5A3-34B80C62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D0B9B-FE28-473C-AD8F-13B08DA80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D36B-49D5-47DA-8571-3F7B6277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B3874-F5FD-4036-84DB-98B57A3D3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0E56D-93ED-4CB2-A3E2-11AF87899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7488D-5E3A-4C42-934D-2182B06F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CA55B-ABFE-467A-88B4-ECC5D864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3194D-3C55-4C30-9BB5-4DECA906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E1E20-9BAA-4F03-B935-8C053F67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047B8-FB98-4DE3-8C74-B744CBC1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A9F71-2568-464E-A030-0FFD6AFF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4872B-A0D2-4FCE-AB33-C3E0D6A7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F80A6-B3E3-4EED-B7DC-5E932BBE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30BF-AEA6-469E-BAAC-AEFE6280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CE8E1-AF29-4C10-84CB-27A5E0BB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E0FF8-3180-4A6B-814C-04B5C1C49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F9D41-90EA-4818-9B8A-D69BCBA9D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89C77-F5EA-4655-8DA6-CE2F2EBE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094A2-BB1E-478C-8D1A-F1D65E4E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450C9-C10F-4FC7-9FEF-07C793E0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37EFD-D057-47F9-8E87-568E5F58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8F4D3-86EB-4D74-AEAC-A37F0698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95F92-F84E-4D7A-83EC-6811CFA1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09D19-F5D7-4FE7-B7EF-8087103C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3212-F582-4359-B56A-38D9F264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F0568-21CA-4D76-A4D7-620212D5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011D2-FA1C-40D0-B383-B56376FD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CE3F5-1EC9-4192-8F50-6401E158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46E19-F1B9-4F4C-9816-D2F7FA83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52103-DC1C-4F4A-A394-C0EF3781A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D258F-38AE-4718-984D-47DF1CDA5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E6DAB-B781-4380-95F6-75E887C3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26D21-21F0-4724-932C-84DF33CF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FB1DA-C71F-493E-BDC3-36EB5F12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D6E58-FD65-4E59-98B8-24B7D587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A1A9-364F-47C2-BB6E-59A7C758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CC4F5-0E4F-404D-AF21-6E195B84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3821B-582C-453B-965B-3E5BF98E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E7CDB-8634-4332-9E1F-5EDEB523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BD3AC-F099-4822-B436-CE1A137B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6E725-5DA8-4EA4-BC64-9DCA9C61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9F220-15CD-4B9B-86FA-B4211304A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14E06-9D29-4D39-93F3-0AC504BE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403B6-A006-4EBA-A040-8C54BD928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CA80C-BBC2-40A8-892A-58738E5D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B100C-0DFF-4F50-ACAC-A23320C2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5E69-9A63-497A-8A32-06262535270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1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2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2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2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3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3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840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84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2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843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EBCC-9F92-47C4-881C-51D98AA2AB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9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0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0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1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2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2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6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927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92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9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930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9E2B-173B-4077-B293-A92D0DDC2D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8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9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9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0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1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1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1014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101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6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1017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3A01-0235-464C-BF6A-25B7E38CB2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121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12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124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5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5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9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BD83-346B-4B15-86FE-A5FF7B034C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0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1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1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2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2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231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23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3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234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9422-A9FD-4399-895F-F859113360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8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9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9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0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1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318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31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0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321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D10C-6D63-4409-A771-B6707FD126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7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8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8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9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0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0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405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40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7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408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9163-D44F-42FA-90F4-75BF041177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6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7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7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8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8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8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492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49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4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495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1E7B-143E-4D5A-B87F-01CBC5462B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4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5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6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6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7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7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579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58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1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582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3B39-EF1B-41AF-A310-DDA5E8CF68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3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4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4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5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6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6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666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66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8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669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1000-397B-4DE9-95E4-1A496973F5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2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3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3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4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4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5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753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75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5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756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B61F-3F95-43D9-9E52-0019312DBC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астер –класс по математике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ма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«Развитие функциональной  грамотности на уроках математики в начальной школе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WordArt 4"/>
          <p:cNvSpPr txBox="1"/>
          <p:nvPr/>
        </p:nvSpPr>
        <p:spPr>
          <a:xfrm>
            <a:off x="771480" y="404640"/>
            <a:ext cx="107964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0" name="WordArt 5"/>
          <p:cNvSpPr txBox="1"/>
          <p:nvPr/>
        </p:nvSpPr>
        <p:spPr>
          <a:xfrm>
            <a:off x="2987640" y="476280"/>
            <a:ext cx="93672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1" name="WordArt 6"/>
          <p:cNvSpPr txBox="1"/>
          <p:nvPr/>
        </p:nvSpPr>
        <p:spPr>
          <a:xfrm>
            <a:off x="4788000" y="476280"/>
            <a:ext cx="86364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2" name="WordArt 7"/>
          <p:cNvSpPr txBox="1"/>
          <p:nvPr/>
        </p:nvSpPr>
        <p:spPr>
          <a:xfrm>
            <a:off x="6588000" y="476280"/>
            <a:ext cx="1008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3" name="WordArt 8"/>
          <p:cNvSpPr txBox="1"/>
          <p:nvPr/>
        </p:nvSpPr>
        <p:spPr>
          <a:xfrm>
            <a:off x="971640" y="2997360"/>
            <a:ext cx="936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4" name="WordArt 9"/>
          <p:cNvSpPr txBox="1"/>
          <p:nvPr/>
        </p:nvSpPr>
        <p:spPr>
          <a:xfrm>
            <a:off x="2843280" y="3068640"/>
            <a:ext cx="1008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5" name="WordArt 10"/>
          <p:cNvSpPr txBox="1"/>
          <p:nvPr/>
        </p:nvSpPr>
        <p:spPr>
          <a:xfrm>
            <a:off x="4788000" y="3068640"/>
            <a:ext cx="792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6" name="WordArt 11"/>
          <p:cNvSpPr txBox="1"/>
          <p:nvPr/>
        </p:nvSpPr>
        <p:spPr>
          <a:xfrm>
            <a:off x="6659640" y="3141720"/>
            <a:ext cx="122544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685800" y="404640"/>
            <a:ext cx="7696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аблица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95" name=""/>
          <p:cNvGraphicFramePr/>
          <p:nvPr/>
        </p:nvGraphicFramePr>
        <p:xfrm>
          <a:off x="1042920" y="944640"/>
          <a:ext cx="6485040" cy="5994360"/>
        </p:xfrm>
        <a:graphic>
          <a:graphicData uri="http://schemas.openxmlformats.org/drawingml/2006/table">
            <a:tbl>
              <a:tblPr/>
              <a:tblGrid>
                <a:gridCol w="1170000"/>
                <a:gridCol w="1082880"/>
                <a:gridCol w="1260360"/>
                <a:gridCol w="900000"/>
                <a:gridCol w="2071800"/>
              </a:tblGrid>
              <a:tr h="1262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гази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ои (1 рулон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аминат (упаковк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аска для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тол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обые усло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7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Все для ремонт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литр 500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идка 500 рублей на обои при покупке обоев на 3500 рублей и вы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Красивый дом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литра 800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идка 1000 рублей на ламинат, при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купке ламината на сумму 7000 и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Мастеровой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5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литр 400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идка 2000 рублей при общей стоимости покупки свыше 1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685800" y="188640"/>
            <a:ext cx="769608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редполагаемые  вопросы к задач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Какой общий доход семьи за месяц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• Чему равна сумма обязательных платежей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• Сколько семья денег тратит на питание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• Какова наименьшая стоимость ремонта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• Смогут ли Ивановы закончить ремонт в феврале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• Останутся ли у них деньги и сколько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1042560" y="115920"/>
            <a:ext cx="7696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ан решения  задачи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читайте внимательно задачу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Заполните таблицу №2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вычислите доходы и расходы семьи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Заполните таблицу №3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вычислите все возможные варианты стоимости ремонта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выберите самый дешевый вариант стоимости ремонта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вычислите, за сколько месяцев Ивановы сделают ремонт в комнате Маш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Таблица№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01" name=""/>
          <p:cNvGraphicFramePr/>
          <p:nvPr/>
        </p:nvGraphicFramePr>
        <p:xfrm>
          <a:off x="1692360" y="1052640"/>
          <a:ext cx="6551640" cy="4716360"/>
        </p:xfrm>
        <a:graphic>
          <a:graphicData uri="http://schemas.openxmlformats.org/drawingml/2006/table">
            <a:tbl>
              <a:tblPr/>
              <a:tblGrid>
                <a:gridCol w="1727280"/>
                <a:gridCol w="4824360"/>
              </a:tblGrid>
              <a:tr h="720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ходы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сход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5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Таблица№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03" name=""/>
          <p:cNvGraphicFramePr/>
          <p:nvPr/>
        </p:nvGraphicFramePr>
        <p:xfrm>
          <a:off x="1692360" y="1052640"/>
          <a:ext cx="6551640" cy="5254560"/>
        </p:xfrm>
        <a:graphic>
          <a:graphicData uri="http://schemas.openxmlformats.org/drawingml/2006/table">
            <a:tbl>
              <a:tblPr/>
              <a:tblGrid>
                <a:gridCol w="968400"/>
                <a:gridCol w="5583240"/>
              </a:tblGrid>
              <a:tr h="720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ходы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сход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38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работная плата папы за месяц 40000 рублей, мамы – 30000 рублей.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: 70000ру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квартплата составляет 4000 руб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электроэнергии  за месяц 200 кВт по 2 рубля за 1 кВт/ч =400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интернет 600 руб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телефонных тарифов по 300 рублей Х 3=900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на обеды в столовой мамы, папы и Маши составляет 300 рублей в день при шестидневной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бочей неделе=300х3=900. 900х6=5400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 на питание 5000 рублей в неделю=5000х4=20000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 Джинсы -2000 рублей, папе  часы на 23 февраля  5600 рубл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: 38900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Таблица 3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05" name=""/>
          <p:cNvGraphicFramePr/>
          <p:nvPr/>
        </p:nvGraphicFramePr>
        <p:xfrm>
          <a:off x="1116000" y="1341360"/>
          <a:ext cx="6095880" cy="20192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2019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монта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вариант 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монта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вариант 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монта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вариант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 сколько месяцев Ивановы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делают ремонт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07" name=""/>
          <p:cNvGraphicFramePr/>
          <p:nvPr/>
        </p:nvGraphicFramePr>
        <p:xfrm>
          <a:off x="1314360" y="73080"/>
          <a:ext cx="6480360" cy="6643800"/>
        </p:xfrm>
        <a:graphic>
          <a:graphicData uri="http://schemas.openxmlformats.org/drawingml/2006/table">
            <a:tbl>
              <a:tblPr/>
              <a:tblGrid>
                <a:gridCol w="990720"/>
                <a:gridCol w="1422360"/>
                <a:gridCol w="1366920"/>
                <a:gridCol w="1260360"/>
                <a:gridCol w="1440000"/>
              </a:tblGrid>
              <a:tr h="863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гази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ои (1 руло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аминат (упаков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аска для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тол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обые усло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Все для ремонт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0 х8=4000-500=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00 х 5=1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литр 500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х 2=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 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идка 500 рублей на обои при покупке обоев на 3500 рублей и выш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9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Красивый дом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0 х8=4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00 х5=12500-1000=11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литра 800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блейх2=1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 17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идка 1000 рублей на ламинат, при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купке ламината на сумму 7000 и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ш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0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Мастеровой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50х8=6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00 х5=11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литр 400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блейх2=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 18300-2000=16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идка 2000 рублей при общей стоимости покупки свыше 1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8" name="Rectangle 1"/>
          <p:cNvSpPr/>
          <p:nvPr/>
        </p:nvSpPr>
        <p:spPr>
          <a:xfrm>
            <a:off x="1301040" y="818640"/>
            <a:ext cx="127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0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Таблица 3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10" name=""/>
          <p:cNvGraphicFramePr/>
          <p:nvPr/>
        </p:nvGraphicFramePr>
        <p:xfrm>
          <a:off x="1116000" y="1341360"/>
          <a:ext cx="6095880" cy="24624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2462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монта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вариант 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монта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вариант 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монта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вариант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 сколько месяцев Ивановы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делают ремонт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меся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105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.70000-38900=31100 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105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. 31100-16300 =14800р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105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3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20000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4800= не хватает за 1 месяц 5200, потребуется 2 месяц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5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14" name="image2.png" descr="https://avatars.mds.yandex.net/get-zen_doc/34175/pub_5d2ed898c49f2900aef43946_5d2edd8edfdd2500aeab9425/scale_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685800" y="188640"/>
            <a:ext cx="769608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и мастер-класса: 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знакомить с собственным педагогическим опытом применения компетентностно - ориентированных заданий для развития функциональной грамотности на уроках математик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16" name="image3.jpeg" descr="C:\Users\Алла_2\Desktop\2020\написать статью инфографика\img6.jpg"/>
          <p:cNvPicPr/>
          <p:nvPr/>
        </p:nvPicPr>
        <p:blipFill>
          <a:blip r:embed="rId1"/>
          <a:stretch/>
        </p:blipFill>
        <p:spPr>
          <a:xfrm>
            <a:off x="0" y="115920"/>
            <a:ext cx="910908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18" name=""/>
          <p:cNvGraphicFramePr/>
          <p:nvPr/>
        </p:nvGraphicFramePr>
        <p:xfrm>
          <a:off x="1763640" y="260280"/>
          <a:ext cx="6985080" cy="4753080"/>
        </p:xfrm>
        <a:graphic>
          <a:graphicData uri="http://schemas.openxmlformats.org/drawingml/2006/table">
            <a:tbl>
              <a:tblPr/>
              <a:tblGrid>
                <a:gridCol w="2355840"/>
                <a:gridCol w="2517840"/>
                <a:gridCol w="2111400"/>
              </a:tblGrid>
              <a:tr h="2279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ХОД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СХОД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ТАТ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3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000+32000+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13800=90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000+5158+399+1570+8400+1500+7000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1300=473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90800-47327=434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0" name=""/>
          <p:cNvGraphicFramePr/>
          <p:nvPr/>
        </p:nvGraphicFramePr>
        <p:xfrm>
          <a:off x="717480" y="1522440"/>
          <a:ext cx="7272360" cy="2879640"/>
        </p:xfrm>
        <a:graphic>
          <a:graphicData uri="http://schemas.openxmlformats.org/drawingml/2006/table">
            <a:tbl>
              <a:tblPr/>
              <a:tblGrid>
                <a:gridCol w="2335320"/>
                <a:gridCol w="2273400"/>
                <a:gridCol w="2663640"/>
              </a:tblGrid>
              <a:tr h="6429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ХОД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СХОД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ТАТ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6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000+32000+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13800=90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000+5158+399+1570+8400+1500+7000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1300=473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90800-47327=434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2" name=""/>
          <p:cNvGraphicFramePr/>
          <p:nvPr/>
        </p:nvGraphicFramePr>
        <p:xfrm>
          <a:off x="1908000" y="625320"/>
          <a:ext cx="5256360" cy="6316920"/>
        </p:xfrm>
        <a:graphic>
          <a:graphicData uri="http://schemas.openxmlformats.org/drawingml/2006/table">
            <a:tbl>
              <a:tblPr/>
              <a:tblGrid>
                <a:gridCol w="2159280"/>
                <a:gridCol w="3097080"/>
              </a:tblGrid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Доход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5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1. зарплата папы – 45 000 рублей;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2. зарплата мамы – 32 000 рублей;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3. пенсия бабушки – 13800 рублей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Итого: 90800 руб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1. продукты – 22000 рублей;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2. ЖКХ – 5158 рублей;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3. интернет – 399 рублей;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4. проезд – 1570 рублей;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5. репетитор по английскому языку – 8 400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рублей;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6. Шко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обеды – 1500 рублей;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7. бензин – 7000 рублей;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8. корм собаке - 1300 рублей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Итого: 47327 руб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42021"/>
                </a:solidFill>
                <a:latin typeface="Times New Roman"/>
                <a:ea typeface="Times New Roman"/>
              </a:rPr>
              <a:t>«</a:t>
            </a:r>
            <a:r>
              <a:rPr b="0" lang="ru-RU" sz="3600" spc="-1" strike="noStrike">
                <a:solidFill>
                  <a:srgbClr val="242021"/>
                </a:solidFill>
                <a:latin typeface="Times New Roman"/>
                <a:ea typeface="Times New Roman"/>
              </a:rPr>
              <a:t>Тарифы на воду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4" name=""/>
          <p:cNvGraphicFramePr/>
          <p:nvPr/>
        </p:nvGraphicFramePr>
        <p:xfrm>
          <a:off x="2050920" y="1989000"/>
          <a:ext cx="4824720" cy="3575160"/>
        </p:xfrm>
        <a:graphic>
          <a:graphicData uri="http://schemas.openxmlformats.org/drawingml/2006/table">
            <a:tbl>
              <a:tblPr/>
              <a:tblGrid>
                <a:gridCol w="2737080"/>
                <a:gridCol w="2087640"/>
              </a:tblGrid>
              <a:tr h="959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Потребление вод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Стоимость 1 м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Холодная вод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Горячая вод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Водоотвед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685800" y="401400"/>
            <a:ext cx="7696080" cy="62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42021"/>
                </a:solidFill>
                <a:latin typeface="Times New Roman"/>
                <a:ea typeface="Times New Roman"/>
              </a:rPr>
              <a:t>Учить детей сегодня трудно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42021"/>
                </a:solidFill>
                <a:latin typeface="Times New Roman"/>
                <a:ea typeface="Times New Roman"/>
              </a:rPr>
              <a:t>Читать, считать, писать учили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42021"/>
                </a:solidFill>
                <a:latin typeface="Times New Roman"/>
                <a:ea typeface="Times New Roman"/>
              </a:rPr>
              <a:t>«Даёт корова молоко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42021"/>
                </a:solidFill>
                <a:latin typeface="Times New Roman"/>
                <a:ea typeface="Times New Roman"/>
              </a:rPr>
              <a:t>Век XXI – век открытий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42021"/>
                </a:solidFill>
                <a:latin typeface="Times New Roman"/>
                <a:ea typeface="Times New Roman"/>
              </a:rPr>
              <a:t>Век инноваций, новизны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42021"/>
                </a:solidFill>
                <a:latin typeface="Times New Roman"/>
                <a:ea typeface="Times New Roman"/>
              </a:rPr>
              <a:t>Но от учителя зависит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42021"/>
                </a:solidFill>
                <a:latin typeface="Times New Roman"/>
                <a:ea typeface="Times New Roman"/>
              </a:rPr>
              <a:t>Какими дети быть должны</a:t>
            </a:r>
            <a:r>
              <a:rPr b="0" i="1" lang="ru-RU" sz="3200" spc="-1" strike="noStrike">
                <a:solidFill>
                  <a:srgbClr val="242021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242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685800" y="188640"/>
            <a:ext cx="769608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 мастер-класса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казать необходимость использования в работе с учащимися компетентностно- ориентированных заданий для развития функциональной грамотности учащихс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дача своего опыта путём прямого и комментированного показа последовательности действий  методов, приёмов и форм педагогической деятельност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действовать профессиональному общению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звать желание к сотрудничеству, взаимопониманию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1332000" y="0"/>
            <a:ext cx="7696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f8a00"/>
                </a:solidFill>
                <a:latin typeface="Times New Roman"/>
                <a:ea typeface="Calibri"/>
              </a:rPr>
              <a:t>                             </a:t>
            </a:r>
            <a:r>
              <a:rPr b="1" lang="ru-RU" sz="1800" spc="-1" strike="noStrike">
                <a:solidFill>
                  <a:srgbClr val="bf8a00"/>
                </a:solidFill>
                <a:latin typeface="Times New Roman"/>
                <a:ea typeface="Calibri"/>
              </a:rPr>
              <a:t>Анкетирование учащихс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Какие задания тебе интересно делать на уроке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) работать с учебником – 2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Б) решать  задачи – 45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) самому придумывать задания или вопрос – 85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) составлять схемы, графики, таблицы – 30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Что для тебя важно при выполнении заданий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) задание должно быть интересным, связанным с жизнью – 100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Б) в задании должны быть представлены критерии оценки – 33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) консультация учителя – 75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) возможность выполнения совместно с одноклассником – 80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) не потратить много времени на выполнение заданий – 50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Интересно ли тебе выполнять задания на бланках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 – 80%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т – 12%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знаю – 8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685800" y="115920"/>
            <a:ext cx="769608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15000"/>
              </a:lnSpc>
              <a:spcBef>
                <a:spcPts val="675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ния, для составления задач, способствующие развитию функциональной грамотности на уроках математи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Решение задач  с помощью таблицы, диаграммы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Решение задач разными способам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Представление ситуации, описанной в задачи и её моделирование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а) с помощью отрезков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б) с помощью рисунк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) с помощью чертеж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Разбивка текста задачи на значимые част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5. Решение задач с недостающими или лишними данным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6. Самостоятельное составление задач ученикам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1) используя слова: больше на несколько, меньше на несколько единиц, в несколько раз больше, в несколько раз меньше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2) по данному плану ее решения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)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йствиям и ответу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4) по выражению и т. д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7. Объяснение готового решения задач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8. Изменение вопроса задач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9. Составление разных выражений к данным задачам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10. Выбор выражений, которые являются решением задач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685800" y="115920"/>
            <a:ext cx="769608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10. Выбор выражений, которые являются решением задач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11. Выбор способа записи решения задачи (выражением, уравнением, по действиям, с пояснением, с вопросами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12. Использование приема сравнения задач и их решений.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13. Выбор решения из двух предложенных  (верного и неверного)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14. Изменение условия задачи так, чтобы задача решалась другим действием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15. Закончить решение задач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16. Составление аналогичной задачи с измененными данным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17. Составление и решение обратных задач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685800" y="115920"/>
            <a:ext cx="769608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того, чтобы оплатить покупку в магазине, требуется ввести ПИН-код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шифруй код при помощи шифр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 цифр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астное чисел 42 и 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 цифр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умма чисел 10 и 5 деленная на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3 цифр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изведение чисел 135 и 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4 цифр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 сколько раз 24 больше 1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684360" y="0"/>
            <a:ext cx="7696080" cy="6121440"/>
          </a:xfrm>
          <a:prstGeom prst="rect">
            <a:avLst/>
          </a:prstGeom>
          <a:gradFill rotWithShape="0">
            <a:gsLst>
              <a:gs pos="0">
                <a:srgbClr val="ffff97"/>
              </a:gs>
              <a:gs pos="100000">
                <a:srgbClr val="ffffd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может произойти, если пин-код будет введен неверно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вет: На первые два раза не будет ничего. Банкомат или терминал всего лишь попросит повторить попытку. После третьей ошибки банковская система блокирует карту – то есть, ввести код еще раз будет уже нельзя. Это нужно, чтобы злоумышленник не мог подобрать пароль простым перебором. Соответственно, вы тоже не сможете использовать карту, пока с нее не снимут блокировк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685800" y="115920"/>
            <a:ext cx="769608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городе Лесосибирске проживает семья Ивановых: мама, папа и Маш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работная плата папы за месяц 40000 рублей, мамы – 30000 рубле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вартплата составляет 4000 рублей в месяц, расход электроэнергии составляет 200 кВт по 2 рубля за 1 кВт/ч, оплата за интернет 600 рублей, оплата мобильной связи каждого из телефонных тарифов по 300 рублей . Расход на обеды в столовой мамы, папы и Маши составляет 300 рублей в день при шестидневной рабочей неделе. Расходы на питание составляют 5000 рублей в недел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семейном совете решили, что Маше необходимы новые джинсы, их стоимость 2000 рублей, папе на 23 февраля запланировали купить часы, стоимостью 5600 рубле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 1 февраля 2022 года запланировали начать ремонт в комнате Маши. Для ремонта необходимо 8 рулонов обоев, 5 упаковок ламината, 2 литра краски. Стоимость работы ремонтной бригады составляет 20000 рубле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городе три магазина, в которых можно купить обои, ламинат и краску для потолка: «Все для ремонта», «Красивый дом», «Мастеровой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Ханбековы</cp:lastModifiedBy>
  <dcterms:modified xsi:type="dcterms:W3CDTF">2023-02-20T02:56:12Z</dcterms:modified>
  <cp:revision>294</cp:revision>
  <dc:subject/>
  <dc:title>Слайд 1</dc:title>
</cp:coreProperties>
</file>