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335-C10E-4B3E-B720-CC63DE3A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CE5-BBDB-4DD4-B29E-25B263F7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28A7E-509D-44B2-B4A0-E12F1BD4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B5BB1-DA6D-4FF8-8D63-5110CCFD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09C54-F5D4-4CBD-BA46-6F9B9B65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6C77E-7B20-4095-AED0-7AE728D8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81491-6E8C-4EE3-AF7E-8DEF96DE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FF786-0E4E-428F-8B1D-85127823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9E1B7-4C9E-48D4-987F-6B3610CE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B167E-3085-44DD-A81D-6464EBE0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ECC28-7BFB-450E-A7D4-63152A72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7CDFB-3E04-4574-AD36-E745680B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CDA-3427-4742-9312-8B21FF5F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92986-F6FD-4C12-B9F8-FE33920C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A82F5-C6B3-4C90-9CE8-93BA5FA4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F1056-59E4-4579-A4A9-612C012F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091AC-947D-4C76-9878-3016D2B0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47003-6E36-4BEE-AA13-278C4356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1136B-C12A-456B-8017-4192C47A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BF10D-2EC5-45E4-AFDF-E5ECCFAE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EE149-E35D-461D-B743-5F33177F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E1E0D-CF26-4A8F-9E51-9547D92F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68073-0696-4C3C-9408-FD98BDC4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30A-F2AE-4525-81D0-F97EBFC8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23E32-202C-473C-893B-B50E75A2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79DDF-0716-4FD9-BEE2-A7022E39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A7DC2-0793-4851-80DF-CC29B5CD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B26B8-85A2-4472-A0F9-DFEA78F0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A8B1A-C359-405C-B863-AADEB9CB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00794-C5AF-4E86-8974-62585D15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7F710-3D57-4D5A-B4D9-1C2E03E7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3DBA2-AE41-4C79-8D41-FF8E1378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4ACD7-164B-47E6-92E2-40A21611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5ADE7-29A5-44E0-BB53-2D974CFF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A922-DFE9-436C-9281-79C52DD9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4F28A-B261-442E-8CAD-C4A83075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613A3-95C8-494A-A0F9-300A17E8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EA9EE-7428-40D1-B96D-A6EEF563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4828C-BC26-42DE-B3DD-1588A869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2EC4E-0164-48CA-8536-D91E7161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A1369-757D-4768-AB61-E81CE48C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FCFA7-4CDE-49E3-B8A4-345EEF70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AF4BF-03ED-4604-9AB8-79720A48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A26BB-816D-4972-81EA-E425C276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8797C-392D-4E44-9EFA-6672C1C5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4159-AB26-48BF-8C84-0F653338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677B7-B37D-4DFA-BE5A-65B4D25B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37BB3-B0CA-4F06-B8EF-80D9377E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3746F-4A93-4F29-BF7C-4652B3BD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420BA-A38A-4B79-853A-43EFF293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8AAB3-249A-4323-A717-C038A300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3DAD-1042-40AA-A0AD-E283C93E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54BA-0156-4662-AA6E-1F1D7384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A65C-6A14-4090-AB42-F5628C8D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4FEE-EC2A-4BED-ACD2-725D3B23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361F-51CE-44BA-8DF8-A96CEBB4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BAF-D6D3-403F-81F5-2789BF94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587F-0D61-4ECC-A89B-4ED6921D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CCF6-6E6A-4C87-90BA-27600A47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92DE-0C13-4F5E-971D-7589A38B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C7A8-6264-49B7-82E8-265F8F09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D939-59B9-4157-A8D8-AB9409BB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55C12-A25A-4209-A105-62D5915D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92999-8136-4756-94E8-42F8CA2F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A94EF-2E23-4666-94A8-1846B776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CCDB5-99AE-4076-A72B-7D7DBD6D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DD42-222C-483C-9BF7-BFF906D0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C4C-3BCD-4300-8411-50C47C62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E983-ED9F-4648-A373-B1584FC8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7244-1100-4A96-AE62-E793DA3C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43108-57CC-4929-971A-329D8F1A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FC75C-21C3-44B3-BF50-C84A524D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10DED-6F94-4E4F-98B1-1B119059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18009-4705-4E3C-A4BB-7A5B9AEB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0568D-AD28-4657-9CBA-72EE6CB1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BBA34-CD5A-4AE8-A872-FD6C6D1E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117C0-6541-4CE4-B818-9463544F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695D3-2A55-4E8D-88F8-1272038D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4A11-FF2D-4AFD-BC3E-9670BFF3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CD512-70E5-4ADF-85F0-F6BAC5C8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3FFD4-7C46-4B88-8C29-7C0EEC5D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E6AC0-65EE-435D-BEA3-89CB4B00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FA721-64E9-4AA2-A5C5-FEC79D43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2B6E4-EFDD-4D0E-A84F-2BD494FE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9BA07-DEC4-4C28-BB7F-B5BBC5D6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55B7-1D8E-4B0B-881C-FB441A05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4A93E-AE83-4424-99EB-87B45D02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399E9-F858-4952-9CE5-40C9F0AE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3F42F-6A28-4ED4-89A4-1B846DEC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D2A-840C-4C79-B773-C8C46F2E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4D682-51AB-4886-9D17-1AA5B360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91022-6837-4FE5-A2C4-BB9A3B21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14460-6F51-4550-91BD-6F0DCF97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370B3-5C3F-4DF1-A038-6DC2BA0A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74284-4871-43A4-B0FA-D59F8859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DA979-40C5-48F9-90B7-67E7A44E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FC94F-7712-4446-8B1F-5792A7F3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7D5B9-2616-4656-B2DB-7FF80BA3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1F367-A310-440D-90ED-458B65CC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EFEE1-083A-418D-A986-4B775892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A49-DCDA-4221-80C6-FF24BF90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F7224-11D2-4B9E-9761-F4B9B980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01FC7-1120-452B-BBFC-A1202ACD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619F6-FDBD-45F1-AB30-C4AD4847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D6874-DB48-453C-B7FB-38418583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43695-13B9-4597-B3FE-0EB2972E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BBA73-18F0-40C4-B3DF-1CA8A6BC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3675E-E36C-4BEC-97BB-E7DAC8E2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5A5FD-461A-4B74-84A3-4A2DA8D4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57A5D-BF85-425F-9F3D-6F5C59C0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CFEFB-CDF0-4D3D-9261-7419F132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45E-2B37-491A-AA99-59A13068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74D66-FD9F-48D5-88B0-61918CAB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DAE5A-1419-4951-8847-AB0ADE9F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2C829-4A91-4D7D-B923-6F71749F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8C72A-97A3-41BB-936A-6971A927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3F6DD-C595-439F-BB07-32043E2E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E227F-C069-41F7-941B-B2443AEF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0D1CA-7D3B-4350-BF88-0BEAD7D7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FBA97-4EA1-4709-BC14-725F67CD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BD87D-90E3-496A-85A3-92034CC8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C8EB6-0823-4395-86D8-AFF110BD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308-7747-42BB-9D04-69CBBE8D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CB590-F31B-4E0A-96CA-C95B2E29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1FD0A-2B66-4BDA-BDC1-62AB69C4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8E317-2986-4034-A8D8-8197F60A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FDEF2-BB94-4BB8-8C38-7CB285FA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D368C-9F65-4DB9-9FDF-C5ECF6BF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2FB20-9903-4AFF-904D-0B7DFFF0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9BA11-CC6E-4702-A742-EB5DA46E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91BF4-8994-4903-BECF-C114ED45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8676F-0792-4720-B8E8-563A1E5C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90DFA-0F52-4AA3-8460-7333FD96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A82-4E75-4A6C-9164-80DD2172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46E8E-1EF5-4F2D-BBFA-C6D91BD0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B8905-EAAD-4C07-809D-9C52B089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3ACC0-1B83-4144-B288-D3917BB6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03233-597D-472A-B167-B9354C36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76483-BC49-47E2-BD06-DDBFA995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AFAB2-BB76-489B-9AEA-BB1B9A35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98828-AA17-40D1-A531-F3B93090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53F69-04A8-44E3-86C6-0DB92727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CAAB8-5DDC-47FB-8688-545A5B1D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755DB-88ED-4756-A22D-AC7BD92F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49CD-B14A-482B-B111-2251DA00900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1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2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2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2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3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840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84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2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843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277E-1A6D-4EBA-AD83-3AC9606767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9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0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0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1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2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2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927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92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9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930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AC04-5E2D-479A-91E3-1F8C0338ED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8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9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9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0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1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1014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101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6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1017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A04B-23CC-41C2-9A33-CB2038D659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0C1F-90CA-451A-9156-20D8E2AA45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231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23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234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83DB-5A43-4863-89CE-529A181FE3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8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9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9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0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1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18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31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321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2CDF-CC14-4D96-A14C-FF08B0A840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7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8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8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9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0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405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08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5A94-E79F-4180-865B-AE5D419976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6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7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7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8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8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492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9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95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5A50-0DB5-45B5-A027-71509DA6D6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4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5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6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6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7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57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58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58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DF10-F291-4DE6-89DC-1AE14884D2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3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4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4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5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6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666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66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669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746F-11D9-4270-8CDE-BB6CD75F6E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2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3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3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4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5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753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75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756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9918-FC72-4237-8FB0-578203B38F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астер –класс по математике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«Развитие функциональной  грамотности на уроках математики в начальной школ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WordArt 4"/>
          <p:cNvSpPr txBox="1"/>
          <p:nvPr/>
        </p:nvSpPr>
        <p:spPr>
          <a:xfrm>
            <a:off x="771480" y="404640"/>
            <a:ext cx="1079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0" name="WordArt 5"/>
          <p:cNvSpPr txBox="1"/>
          <p:nvPr/>
        </p:nvSpPr>
        <p:spPr>
          <a:xfrm>
            <a:off x="2987640" y="476280"/>
            <a:ext cx="936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1" name="WordArt 6"/>
          <p:cNvSpPr txBox="1"/>
          <p:nvPr/>
        </p:nvSpPr>
        <p:spPr>
          <a:xfrm>
            <a:off x="4788000" y="476280"/>
            <a:ext cx="863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2" name="WordArt 7"/>
          <p:cNvSpPr txBox="1"/>
          <p:nvPr/>
        </p:nvSpPr>
        <p:spPr>
          <a:xfrm>
            <a:off x="6588000" y="476280"/>
            <a:ext cx="100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3" name="WordArt 8"/>
          <p:cNvSpPr txBox="1"/>
          <p:nvPr/>
        </p:nvSpPr>
        <p:spPr>
          <a:xfrm>
            <a:off x="971640" y="2997360"/>
            <a:ext cx="936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4" name="WordArt 9"/>
          <p:cNvSpPr txBox="1"/>
          <p:nvPr/>
        </p:nvSpPr>
        <p:spPr>
          <a:xfrm>
            <a:off x="2843280" y="3068640"/>
            <a:ext cx="100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5" name="WordArt 10"/>
          <p:cNvSpPr txBox="1"/>
          <p:nvPr/>
        </p:nvSpPr>
        <p:spPr>
          <a:xfrm>
            <a:off x="4788000" y="3068640"/>
            <a:ext cx="79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6" name="WordArt 11"/>
          <p:cNvSpPr txBox="1"/>
          <p:nvPr/>
        </p:nvSpPr>
        <p:spPr>
          <a:xfrm>
            <a:off x="6659640" y="3141720"/>
            <a:ext cx="1225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685800" y="404640"/>
            <a:ext cx="7696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блица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95" name=""/>
          <p:cNvGraphicFramePr/>
          <p:nvPr/>
        </p:nvGraphicFramePr>
        <p:xfrm>
          <a:off x="1042920" y="944640"/>
          <a:ext cx="6485040" cy="5994360"/>
        </p:xfrm>
        <a:graphic>
          <a:graphicData uri="http://schemas.openxmlformats.org/drawingml/2006/table">
            <a:tbl>
              <a:tblPr/>
              <a:tblGrid>
                <a:gridCol w="1170000"/>
                <a:gridCol w="1082880"/>
                <a:gridCol w="1260360"/>
                <a:gridCol w="900000"/>
                <a:gridCol w="2071800"/>
              </a:tblGrid>
              <a:tr h="1262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газ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и (1 руло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минат (упаков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ка для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о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обые 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Все для ремон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литр 500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идка 500 рублей на обои при покупке обоев на 3500 рублей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расивый дом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литра 800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идка 1000 рублей на ламинат, при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упке ламината на сумму 7000 и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астеровой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литр 400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идка 2000 рублей при общей стоимости покупки свыше 1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685800" y="18864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редполагаемые  вопросы к задач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акой общий доход семьи за месяц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• Чему равна сумма обязательных платежей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• Сколько семья денег тратит на питание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• Какова наименьшая стоимость ремонт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• Смогут ли Ивановы закончить ремонт в феврале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• Останутся ли у них деньги и скольк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1042560" y="115920"/>
            <a:ext cx="7696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решения  задач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читайте внимательно задач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Заполните таблицу №2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вычислите доходы и расходы семь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Заполните таблицу №3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вычислите все возможные варианты стоимости ремонт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выберите самый дешевый вариант стоимости ремонта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вычислите, за сколько месяцев Ивановы сделают ремонт в комнате Маш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а№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01" name=""/>
          <p:cNvGraphicFramePr/>
          <p:nvPr/>
        </p:nvGraphicFramePr>
        <p:xfrm>
          <a:off x="1692360" y="1052640"/>
          <a:ext cx="6551640" cy="4716360"/>
        </p:xfrm>
        <a:graphic>
          <a:graphicData uri="http://schemas.openxmlformats.org/drawingml/2006/table">
            <a:tbl>
              <a:tblPr/>
              <a:tblGrid>
                <a:gridCol w="1727280"/>
                <a:gridCol w="4824360"/>
              </a:tblGrid>
              <a:tr h="72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ходы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ход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5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а№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1692360" y="1052640"/>
          <a:ext cx="6551640" cy="5254560"/>
        </p:xfrm>
        <a:graphic>
          <a:graphicData uri="http://schemas.openxmlformats.org/drawingml/2006/table">
            <a:tbl>
              <a:tblPr/>
              <a:tblGrid>
                <a:gridCol w="968400"/>
                <a:gridCol w="5583240"/>
              </a:tblGrid>
              <a:tr h="72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ходы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ход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3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работная плата папы за месяц 40000 рублей, мамы – 30000 рублей.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: 70000ру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квартплата составляет 4000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электроэнергии  за месяц 200 кВт по 2 рубля за 1 кВт/ч =40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интернет 600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телефонных тарифов по 300 рублей Х 3=90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на обеды в столовой мамы, папы и Маши составляет 300 рублей в день при шестидневно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чей неделе=300х3=900. 900х6=540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 на питание 5000 рублей в неделю=5000х4=2000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 Джинсы -2000 рублей, папе  часы на 23 февраля  5600 рубл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: 38900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а 3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05" name=""/>
          <p:cNvGraphicFramePr/>
          <p:nvPr/>
        </p:nvGraphicFramePr>
        <p:xfrm>
          <a:off x="1116000" y="1341360"/>
          <a:ext cx="6095880" cy="20192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20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монт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вариант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монт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вариант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монт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вариант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 сколько месяцев Ивановы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делают ремон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1314360" y="73080"/>
          <a:ext cx="6480360" cy="6643800"/>
        </p:xfrm>
        <a:graphic>
          <a:graphicData uri="http://schemas.openxmlformats.org/drawingml/2006/table">
            <a:tbl>
              <a:tblPr/>
              <a:tblGrid>
                <a:gridCol w="990720"/>
                <a:gridCol w="1422360"/>
                <a:gridCol w="1366920"/>
                <a:gridCol w="1260360"/>
                <a:gridCol w="1440000"/>
              </a:tblGrid>
              <a:tr h="863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газ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и (1 руло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минат (упаков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ка для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о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обы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Все для ремон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0 х8=4000-500=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0 х 5=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литр 500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х 2=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идка 500 рублей на обои при покупке обоев на 3500 рублей и выш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9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Красивый дом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 х8=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00 х5=12500-1000=1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литра 800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блейх2=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1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идка 1000 рублей на ламинат, пр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упке ламината на сумму 7000 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ш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0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астеровой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0х8=6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00 х5=1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литр 400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блейх2=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18300-2000=16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идка 2000 рублей при общей стоимости покупки свыше 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8" name="Rectangle 1"/>
          <p:cNvSpPr/>
          <p:nvPr/>
        </p:nvSpPr>
        <p:spPr>
          <a:xfrm>
            <a:off x="1301040" y="818640"/>
            <a:ext cx="127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0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Таблица 3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10" name=""/>
          <p:cNvGraphicFramePr/>
          <p:nvPr/>
        </p:nvGraphicFramePr>
        <p:xfrm>
          <a:off x="1116000" y="1341360"/>
          <a:ext cx="6095880" cy="24624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2462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монт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вариант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монт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вариант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монт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вариант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 сколько месяцев Ивановы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делают ремон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меся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70000-38900=31100 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31100-16300 =14800р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20000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4800= не хватает за 1 месяц 5200, потребуется 2 меся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5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4" name="image2.png" descr="https://avatars.mds.yandex.net/get-zen_doc/34175/pub_5d2ed898c49f2900aef43946_5d2edd8edfdd2500aeab9425/scale_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685800" y="18864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и мастер-класса: 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накомить с собственным педагогическим опытом применения компетентностно - ориентированных заданий для развития функциональной грамотности на уроках математи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6" name="image3.jpeg" descr="C:\Users\Алла_2\Desktop\2020\написать статью инфографика\img6.jpg"/>
          <p:cNvPicPr/>
          <p:nvPr/>
        </p:nvPicPr>
        <p:blipFill>
          <a:blip r:embed="rId1"/>
          <a:stretch/>
        </p:blipFill>
        <p:spPr>
          <a:xfrm>
            <a:off x="0" y="115920"/>
            <a:ext cx="9109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18" name=""/>
          <p:cNvGraphicFramePr/>
          <p:nvPr/>
        </p:nvGraphicFramePr>
        <p:xfrm>
          <a:off x="1763640" y="260280"/>
          <a:ext cx="6985080" cy="4753080"/>
        </p:xfrm>
        <a:graphic>
          <a:graphicData uri="http://schemas.openxmlformats.org/drawingml/2006/table">
            <a:tbl>
              <a:tblPr/>
              <a:tblGrid>
                <a:gridCol w="2355840"/>
                <a:gridCol w="2517840"/>
                <a:gridCol w="2111400"/>
              </a:tblGrid>
              <a:tr h="2279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ХОД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ХОД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ТА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000+32000+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13800=90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00+5158+399+1570+8400+1500+7000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1300=473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90800-47327=434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717480" y="1522440"/>
          <a:ext cx="7272360" cy="2879640"/>
        </p:xfrm>
        <a:graphic>
          <a:graphicData uri="http://schemas.openxmlformats.org/drawingml/2006/table">
            <a:tbl>
              <a:tblPr/>
              <a:tblGrid>
                <a:gridCol w="2335320"/>
                <a:gridCol w="2273400"/>
                <a:gridCol w="2663640"/>
              </a:tblGrid>
              <a:tr h="642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ХОД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ХОД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ТА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6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000+32000+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13800=9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00+5158+399+1570+8400+1500+7000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1300=47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90800-47327=434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2" name=""/>
          <p:cNvGraphicFramePr/>
          <p:nvPr/>
        </p:nvGraphicFramePr>
        <p:xfrm>
          <a:off x="1908000" y="625320"/>
          <a:ext cx="5256360" cy="6316920"/>
        </p:xfrm>
        <a:graphic>
          <a:graphicData uri="http://schemas.openxmlformats.org/drawingml/2006/table">
            <a:tbl>
              <a:tblPr/>
              <a:tblGrid>
                <a:gridCol w="2159280"/>
                <a:gridCol w="3097080"/>
              </a:tblGrid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1. зарплата папы – 45 000 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2. зарплата мамы – 32 000 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3. пенсия бабушки – 13800 рублей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Итого: 90800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1. продукты – 22000 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2. ЖКХ – 5158 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3. интернет – 399 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4. проезд – 1570 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5. репетитор по английскому языку – 8 400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6. Шко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обеды – 1500 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7. бензин – 7000 рублей;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8. корм собаке - 1300 рублей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Итого: 47327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Тарифы на воду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4" name=""/>
          <p:cNvGraphicFramePr/>
          <p:nvPr/>
        </p:nvGraphicFramePr>
        <p:xfrm>
          <a:off x="2050920" y="1989000"/>
          <a:ext cx="4824720" cy="3575160"/>
        </p:xfrm>
        <a:graphic>
          <a:graphicData uri="http://schemas.openxmlformats.org/drawingml/2006/table">
            <a:tbl>
              <a:tblPr/>
              <a:tblGrid>
                <a:gridCol w="2737080"/>
                <a:gridCol w="2087640"/>
              </a:tblGrid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Потребление вод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Стоимость 1 м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Холодная во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Горячая во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Водоотвед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42021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685800" y="401400"/>
            <a:ext cx="769608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Учить детей сегодня трудно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Читать, считать, писать учил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«Даёт корова молоко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Век XXI – век открыти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Век инноваций, новизны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Но от учителя зависит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Какими дети быть должны</a:t>
            </a:r>
            <a:r>
              <a:rPr b="0" i="1" lang="ru-RU" sz="3200" spc="-1" strike="noStrike">
                <a:solidFill>
                  <a:srgbClr val="242021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242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685800" y="18864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мастер-класса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зать необходимость использования в работе с учащимися компетентностно- ориентированных заданий для развития функциональной грамотности учащихс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дача своего опыта путём прямого и комментированного показа последовательности действий  методов, приёмов и форм педагог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действовать профессиональному общению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звать желание к сотрудничеству, взаимопонимани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1332000" y="0"/>
            <a:ext cx="7696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8a00"/>
                </a:solidFill>
                <a:latin typeface="Times New Roman"/>
                <a:ea typeface="Calibri"/>
              </a:rPr>
              <a:t>                             </a:t>
            </a:r>
            <a:r>
              <a:rPr b="1" lang="ru-RU" sz="1800" spc="-1" strike="noStrike">
                <a:solidFill>
                  <a:srgbClr val="bf8a00"/>
                </a:solidFill>
                <a:latin typeface="Times New Roman"/>
                <a:ea typeface="Calibri"/>
              </a:rPr>
              <a:t>Анкетирование учащихс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Какие задания тебе интересно делать на уроке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работать с учебником – 2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решать  задачи – 4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самому придумывать задания или вопрос – 8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) составлять схемы, графики, таблицы – 3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Что для тебя важно при выполнении заданий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задание должно быть интересным, связанным с жизнью – 10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в задании должны быть представлены критерии оценки – 33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консультация учителя – 7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) возможность выполнения совместно с одноклассником – 8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) не потратить много времени на выполнение заданий – 5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Интересно ли тебе выполнять задания на бланках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– 80%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 – 12%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знаю – 8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685800" y="115920"/>
            <a:ext cx="76960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15000"/>
              </a:lnSpc>
              <a:spcBef>
                <a:spcPts val="675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я, для составления задач, способствующие развитию функциональной грамотности на уроках математ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ешение задач  с помощью таблицы, диаграмм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Решение задач разными способа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едставление ситуации, описанной в задачи и её моделирование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с помощью отрезко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с помощью рисун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с помощью чертеж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азбивка текста задачи на значимые част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Решение задач с недостающими или лишними данны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Самостоятельное составление задач ученика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используя слова: больше на несколько, меньше на несколько единиц, в несколько раз больше, в несколько раз меньше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по данному плану ее решения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йствиям и ответу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по выражению и т. д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Объяснение готового решения задач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Изменение вопроса задач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9. Составление разных выражений к данным задача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Выбор выражений, которые являются решением задач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685800" y="115920"/>
            <a:ext cx="76960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0. Выбор выражений, которые являются решением задач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Выбор способа записи решения задачи (выражением, уравнением, по действиям, с пояснением, с вопросами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Использование приема сравнения задач и их решений.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3. Выбор решения из двух предложенных  (верного и неверного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4. Изменение условия задачи так, чтобы задача решалась другим действие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5. Закончить решение задач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6. Составление аналогичной задачи с измененными данны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7. Составление и решение обратных задач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685800" y="115920"/>
            <a:ext cx="76960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того, чтобы оплатить покупку в магазине, требуется ввести ПИН-ко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шифруй код при помощи шиф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 циф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ное чисел 42 и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 циф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мма чисел 10 и 5 деленная на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 циф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изведение чисел 135 и 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 циф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 сколько раз 24 больше 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684360" y="0"/>
            <a:ext cx="7696080" cy="6121440"/>
          </a:xfrm>
          <a:prstGeom prst="rect">
            <a:avLst/>
          </a:prstGeom>
          <a:gradFill rotWithShape="0">
            <a:gsLst>
              <a:gs pos="0">
                <a:srgbClr val="ffff97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может произойти, если пин-код будет введен неверн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На первые два раза не будет ничего. Банкомат или терминал всего лишь попросит повторить попытку. После третьей ошибки банковская система блокирует карту – то есть, ввести код еще раз будет уже нельзя. Это нужно, чтобы злоумышленник не мог подобрать пароль простым перебором. Соответственно, вы тоже не сможете использовать карту, пока с нее не снимут блокиров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685800" y="115920"/>
            <a:ext cx="769608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городе Лесосибирске проживает семья Ивановых: мама, папа и Маш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работная плата папы за месяц 40000 рублей, мамы – 30000 рубл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вартплата составляет 4000 рублей в месяц, расход электроэнергии составляет 200 кВт по 2 рубля за 1 кВт/ч, оплата за интернет 600 рублей, оплата мобильной связи каждого из телефонных тарифов по 300 рублей . Расход на обеды в столовой мамы, папы и Маши составляет 300 рублей в день при шестидневной рабочей неделе. Расходы на питание составляют 5000 рублей в неде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емейном совете решили, что Маше необходимы новые джинсы, их стоимость 2000 рублей, папе на 23 февраля запланировали купить часы, стоимостью 5600 рубл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1 февраля 2022 года запланировали начать ремонт в комнате Маши. Для ремонта необходимо 8 рулонов обоев, 5 упаковок ламината, 2 литра краски. Стоимость работы ремонтной бригады составляет 20000 рубл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городе три магазина, в которых можно купить обои, ламинат и краску для потолка: «Все для ремонта», «Красивый дом», «Мастеровой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Ханбековы</cp:lastModifiedBy>
  <dcterms:modified xsi:type="dcterms:W3CDTF">2023-02-20T02:56:12Z</dcterms:modified>
  <cp:revision>294</cp:revision>
  <dc:subject/>
  <dc:title>Слайд 1</dc:title>
</cp:coreProperties>
</file>