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07D-AA01-4192-B3B1-6664DD02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6E4-8F36-45DB-B0CF-0475878B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CD0-2801-4CB8-8422-22FA1B05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5CA-C5FC-43AB-A4C9-57B70865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934-6A21-40E3-BD23-D037D3FE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943-EB83-4330-9240-B3D84C96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9B0-A574-44D9-9448-FEBFE723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461-4363-47A3-BC15-2A943E7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4F8-8BFA-4118-87F5-B7678C1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CD4-5F4C-45AB-A61E-61FBD590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56C-FD99-4312-84DA-C600D61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E10-05DA-45D5-986A-0BE1111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5FB2-F79D-4410-BA4F-E91061DE5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1"/>
          <a:stretch/>
        </p:blipFill>
        <p:spPr>
          <a:xfrm>
            <a:off x="530280" y="1670040"/>
            <a:ext cx="7516800" cy="35305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4870440" y="5559480"/>
            <a:ext cx="4127400" cy="1305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581280" y="30492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ГБОУ г.Москвы «Школа №86 им. М.Е.Катук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Свойства мокрого пес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Люба\Desktop\опыты\DSC00327.JPG"/>
          <p:cNvPicPr/>
          <p:nvPr/>
        </p:nvPicPr>
        <p:blipFill>
          <a:blip r:embed="rId1"/>
          <a:stretch/>
        </p:blipFill>
        <p:spPr>
          <a:xfrm>
            <a:off x="685800" y="1911240"/>
            <a:ext cx="3733920" cy="441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Люба\Desktop\опыты\DSC00330.JPG"/>
          <p:cNvPicPr/>
          <p:nvPr/>
        </p:nvPicPr>
        <p:blipFill>
          <a:blip r:embed="rId2"/>
          <a:stretch/>
        </p:blipFill>
        <p:spPr>
          <a:xfrm>
            <a:off x="5257800" y="1905120"/>
            <a:ext cx="334800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«Определение возможности проживания в пустыне верблюдов, неделями обходящихся без в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Люба\Desktop\опыты\DSC00239.JPG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484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Люба\Desktop\опыты\DSC00240.JPG"/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4876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Монета в стака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Люба\Desktop\опыты\DSC00312.JPG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Люба\Desktop\опыты\DSC00322.JPG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Тонет – не то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Люба\Desktop\опыты\DSC00323.JPG"/>
          <p:cNvPicPr/>
          <p:nvPr/>
        </p:nvPicPr>
        <p:blipFill>
          <a:blip r:embed="rId1"/>
          <a:stretch/>
        </p:blipFill>
        <p:spPr>
          <a:xfrm>
            <a:off x="685800" y="1728720"/>
            <a:ext cx="3375000" cy="41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Люба\Desktop\опыты\DSC00325.JPG"/>
          <p:cNvPicPr/>
          <p:nvPr/>
        </p:nvPicPr>
        <p:blipFill>
          <a:blip r:embed="rId2"/>
          <a:stretch/>
        </p:blipFill>
        <p:spPr>
          <a:xfrm>
            <a:off x="4938840" y="1752480"/>
            <a:ext cx="3367080" cy="4129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Тонет – не то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Люба\Desktop\опыты\DSC00275.JPG"/>
          <p:cNvPicPr/>
          <p:nvPr/>
        </p:nvPicPr>
        <p:blipFill>
          <a:blip r:embed="rId1"/>
          <a:stretch/>
        </p:blipFill>
        <p:spPr>
          <a:xfrm>
            <a:off x="5181480" y="1371600"/>
            <a:ext cx="3375000" cy="42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Люба\Desktop\опыты\DSC00268.JPG"/>
          <p:cNvPicPr/>
          <p:nvPr/>
        </p:nvPicPr>
        <p:blipFill>
          <a:blip r:embed="rId2"/>
          <a:stretch/>
        </p:blipFill>
        <p:spPr>
          <a:xfrm>
            <a:off x="457200" y="1371600"/>
            <a:ext cx="3429000" cy="4335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Электрическая расчёс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Люба\Desktop\опыты\DSC00244.JPG"/>
          <p:cNvPicPr/>
          <p:nvPr/>
        </p:nvPicPr>
        <p:blipFill>
          <a:blip r:embed="rId1"/>
          <a:stretch/>
        </p:blipFill>
        <p:spPr>
          <a:xfrm>
            <a:off x="4800600" y="1905120"/>
            <a:ext cx="3429000" cy="3733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Люба\Desktop\опыты\DSC00242.JPG"/>
          <p:cNvPicPr/>
          <p:nvPr/>
        </p:nvPicPr>
        <p:blipFill>
          <a:blip r:embed="rId2"/>
          <a:stretch/>
        </p:blipFill>
        <p:spPr>
          <a:xfrm>
            <a:off x="685800" y="190512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«Чудесные спич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Люба\Desktop\опыты\DSC00278.JPG"/>
          <p:cNvPicPr/>
          <p:nvPr/>
        </p:nvPicPr>
        <p:blipFill>
          <a:blip r:embed="rId1"/>
          <a:stretch/>
        </p:blipFill>
        <p:spPr>
          <a:xfrm>
            <a:off x="380880" y="1828800"/>
            <a:ext cx="3408480" cy="373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Люба\Desktop\опыты\DSC00284.JPG"/>
          <p:cNvPicPr/>
          <p:nvPr/>
        </p:nvPicPr>
        <p:blipFill>
          <a:blip r:embed="rId2"/>
          <a:stretch/>
        </p:blipFill>
        <p:spPr>
          <a:xfrm>
            <a:off x="5257800" y="1905120"/>
            <a:ext cx="342900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Чудесные спич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Люба\Desktop\опыты\DSC00290.JPG"/>
          <p:cNvPicPr/>
          <p:nvPr/>
        </p:nvPicPr>
        <p:blipFill>
          <a:blip r:embed="rId1"/>
          <a:stretch/>
        </p:blipFill>
        <p:spPr>
          <a:xfrm>
            <a:off x="457200" y="1981080"/>
            <a:ext cx="359712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Люба\Desktop\опыты\DSC00292.JPG"/>
          <p:cNvPicPr/>
          <p:nvPr/>
        </p:nvPicPr>
        <p:blipFill>
          <a:blip r:embed="rId2"/>
          <a:stretch/>
        </p:blipFill>
        <p:spPr>
          <a:xfrm>
            <a:off x="4876920" y="2057400"/>
            <a:ext cx="3276360" cy="369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Чудесные спич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Люба\Desktop\опыты\DSC00294.JPG"/>
          <p:cNvPicPr/>
          <p:nvPr/>
        </p:nvPicPr>
        <p:blipFill>
          <a:blip r:embed="rId1"/>
          <a:stretch/>
        </p:blipFill>
        <p:spPr>
          <a:xfrm>
            <a:off x="4952880" y="1962000"/>
            <a:ext cx="3200400" cy="380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Люба\Desktop\опыты\DSC00295.JPG"/>
          <p:cNvPicPr/>
          <p:nvPr/>
        </p:nvPicPr>
        <p:blipFill>
          <a:blip r:embed="rId2"/>
          <a:stretch/>
        </p:blipFill>
        <p:spPr>
          <a:xfrm>
            <a:off x="457200" y="1905120"/>
            <a:ext cx="3581280" cy="3876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Arial"/>
              </a:rPr>
              <a:t>Результат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получение детьми знаний и умений в проведении опы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умение делать определённые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-1447920"/>
            <a:ext cx="80773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160" y="3045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зучение и внедрение элементов и фор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сследовательской деятельност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зучение психолого-педагогическо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литературы по теме само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одбор содержания для организации и проведении несложных опы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роведение опытов направленных на формирование у детей познава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нте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121968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456840"/>
            <a:ext cx="9144000" cy="79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Бондаренко Т.М. Экологические занятия. Воронеж: ТЦ «Учитель», 2002. – 159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Дыбина О.В., Рахманова Н.П.  Неизведанное рядом: Занимательные опыты и эксперименты для дошкольников. М.: ТЦ Сфера 200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Иванова А.И. Экологические наблюдения и эксперименты в детском саду. М.: ТЦ Сфера 2004. – 240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Костюченко М. Экспериментируем!  «Дошкольное воспитание». 2006. - №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Николаева С.Н. Методика экологического воспитания в детском саду. М.: Просвещение 2004 – 208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Организация экспериментальной деятельности дошкольников. Под ред. Л.Н.Прохоровой. М.: АРКТИ, 2004 М.: ТЦ Сфера 2004. – 240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Прохорова О.Л. Организация экспериментальной деятельности дошкольников. М.: АРКТИ, 2003. – 220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Рыжова Н.А. Экологическое образование в детском саду. М.: Изд. Дом «Карапуз», 2001. – 432 с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609840"/>
            <a:ext cx="82296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пы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Пар – тоже в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Вода прозрач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У воды нет запа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В воде одни вещества растворяются, другие не           растворяют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Пламя загрязняет возд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В воде есть возд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Свойства мокрого пе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Определение возможности проживания в пустыне верблюдов, неделями обходящихся без вод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Монета в стака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Тонет – не то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Электрическая расчё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Чудесные спич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Пар – тоже во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Люба\Desktop\опыты\DSC00305.JPG"/>
          <p:cNvPicPr/>
          <p:nvPr/>
        </p:nvPicPr>
        <p:blipFill>
          <a:blip r:embed="rId1"/>
          <a:stretch/>
        </p:blipFill>
        <p:spPr>
          <a:xfrm>
            <a:off x="631800" y="1447920"/>
            <a:ext cx="3178080" cy="419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Люба\Desktop\опыты\DSC00306.JPG"/>
          <p:cNvPicPr/>
          <p:nvPr/>
        </p:nvPicPr>
        <p:blipFill>
          <a:blip r:embed="rId2"/>
          <a:stretch/>
        </p:blipFill>
        <p:spPr>
          <a:xfrm>
            <a:off x="5257800" y="1531800"/>
            <a:ext cx="2924280" cy="3954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Вода прозра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Люба\Desktop\опыты\DSC00255.JPG"/>
          <p:cNvPicPr/>
          <p:nvPr/>
        </p:nvPicPr>
        <p:blipFill>
          <a:blip r:embed="rId1"/>
          <a:stretch/>
        </p:blipFill>
        <p:spPr>
          <a:xfrm>
            <a:off x="1371600" y="1951200"/>
            <a:ext cx="6477120" cy="4297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Arial"/>
              </a:rPr>
              <a:t>«В воде одни вещества  растворяются, другие не растворяют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Люба\Desktop\опыты\DSC00247.JPG"/>
          <p:cNvPicPr/>
          <p:nvPr/>
        </p:nvPicPr>
        <p:blipFill>
          <a:blip r:embed="rId1"/>
          <a:stretch/>
        </p:blipFill>
        <p:spPr>
          <a:xfrm>
            <a:off x="1143000" y="1827360"/>
            <a:ext cx="6931080" cy="457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Пламя загрязняет возду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Люба\Desktop\опыты\DSC00300.JPG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Люба\Desktop\опыты\DSC00301.JPG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В воде есть возду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Люба\Desktop\опыты\DSC00246.JPG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а</dc:creator>
  <dc:description/>
  <dc:language>en-US</dc:language>
  <cp:lastModifiedBy>Люба</cp:lastModifiedBy>
  <dcterms:modified xsi:type="dcterms:W3CDTF">2018-02-02T19:12:40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