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4412-F73E-4CAA-8F7F-C5EDB3BE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FF06-DD47-4DC6-8AD0-0804D1BC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335E-B87C-4951-A128-091E743FC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8040-A6DB-4AF8-9F52-DECB10A9C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2983-3258-46C9-A7BD-5295A930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5185-7387-43CA-B317-2829C89B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095E-83D6-4582-AE53-5366CDCE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B87B-C05B-4698-8BFB-6E750C14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CDF7-799D-4C41-8422-0990F432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F6B3-F0DB-44A0-92E2-FA4E61A2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3A3D-18FD-4483-BA33-888CBFE9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2E14-4D88-4673-8558-28142ABC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9B34-4C74-49B1-884E-40571F53AC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6" descr=""/>
          <p:cNvPicPr/>
          <p:nvPr/>
        </p:nvPicPr>
        <p:blipFill>
          <a:blip r:embed="rId1"/>
          <a:stretch/>
        </p:blipFill>
        <p:spPr>
          <a:xfrm>
            <a:off x="530280" y="1670040"/>
            <a:ext cx="7516800" cy="353052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7" descr=""/>
          <p:cNvPicPr/>
          <p:nvPr/>
        </p:nvPicPr>
        <p:blipFill>
          <a:blip r:embed="rId2"/>
          <a:stretch/>
        </p:blipFill>
        <p:spPr>
          <a:xfrm>
            <a:off x="4870440" y="5559480"/>
            <a:ext cx="4127400" cy="130500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5"/>
          <p:cNvSpPr/>
          <p:nvPr/>
        </p:nvSpPr>
        <p:spPr>
          <a:xfrm>
            <a:off x="3581280" y="304920"/>
            <a:ext cx="49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ГБОУ г.Москвы «Школа №86 им. М.Е.Катуко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Arial"/>
              </a:rPr>
              <a:t>«Свойства мокрого пес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Users\Люба\Desktop\опыты\DSC00327.JPG"/>
          <p:cNvPicPr/>
          <p:nvPr/>
        </p:nvPicPr>
        <p:blipFill>
          <a:blip r:embed="rId1"/>
          <a:stretch/>
        </p:blipFill>
        <p:spPr>
          <a:xfrm>
            <a:off x="685800" y="1911240"/>
            <a:ext cx="3733920" cy="4413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Люба\Desktop\опыты\DSC00330.JPG"/>
          <p:cNvPicPr/>
          <p:nvPr/>
        </p:nvPicPr>
        <p:blipFill>
          <a:blip r:embed="rId2"/>
          <a:stretch/>
        </p:blipFill>
        <p:spPr>
          <a:xfrm>
            <a:off x="5257800" y="1905120"/>
            <a:ext cx="3348000" cy="4267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6bcf"/>
                </a:solidFill>
                <a:latin typeface="Arial"/>
              </a:rPr>
              <a:t>«Определение возможности проживания в пустыне верблюдов, неделями обходящихся без вод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Users\Люба\Desktop\опыты\DSC00239.JPG"/>
          <p:cNvPicPr/>
          <p:nvPr/>
        </p:nvPicPr>
        <p:blipFill>
          <a:blip r:embed="rId1"/>
          <a:stretch/>
        </p:blipFill>
        <p:spPr>
          <a:xfrm>
            <a:off x="457200" y="1676520"/>
            <a:ext cx="4038480" cy="4843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Users\Люба\Desktop\опыты\DSC00240.JPG"/>
          <p:cNvPicPr/>
          <p:nvPr/>
        </p:nvPicPr>
        <p:blipFill>
          <a:blip r:embed="rId2"/>
          <a:stretch/>
        </p:blipFill>
        <p:spPr>
          <a:xfrm>
            <a:off x="4648320" y="1676520"/>
            <a:ext cx="4038480" cy="48765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Arial"/>
              </a:rPr>
              <a:t>«Монета в стакан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Люба\Desktop\опыты\DSC00312.JPG"/>
          <p:cNvPicPr/>
          <p:nvPr/>
        </p:nvPicPr>
        <p:blipFill>
          <a:blip r:embed="rId1"/>
          <a:stretch/>
        </p:blipFill>
        <p:spPr>
          <a:xfrm>
            <a:off x="457200" y="1295280"/>
            <a:ext cx="4038480" cy="502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Users\Люба\Desktop\опыты\DSC00322.JPG"/>
          <p:cNvPicPr/>
          <p:nvPr/>
        </p:nvPicPr>
        <p:blipFill>
          <a:blip r:embed="rId2"/>
          <a:stretch/>
        </p:blipFill>
        <p:spPr>
          <a:xfrm>
            <a:off x="4648320" y="1295280"/>
            <a:ext cx="4038480" cy="50292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Arial"/>
              </a:rPr>
              <a:t>«Тонет – не тоне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Users\Люба\Desktop\опыты\DSC00323.JPG"/>
          <p:cNvPicPr/>
          <p:nvPr/>
        </p:nvPicPr>
        <p:blipFill>
          <a:blip r:embed="rId1"/>
          <a:stretch/>
        </p:blipFill>
        <p:spPr>
          <a:xfrm>
            <a:off x="685800" y="1728720"/>
            <a:ext cx="3375000" cy="4138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Users\Люба\Desktop\опыты\DSC00325.JPG"/>
          <p:cNvPicPr/>
          <p:nvPr/>
        </p:nvPicPr>
        <p:blipFill>
          <a:blip r:embed="rId2"/>
          <a:stretch/>
        </p:blipFill>
        <p:spPr>
          <a:xfrm>
            <a:off x="4938840" y="1752480"/>
            <a:ext cx="3367080" cy="41292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Arial"/>
              </a:rPr>
              <a:t>«Тонет – не тоне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Users\Люба\Desktop\опыты\DSC00275.JPG"/>
          <p:cNvPicPr/>
          <p:nvPr/>
        </p:nvPicPr>
        <p:blipFill>
          <a:blip r:embed="rId1"/>
          <a:stretch/>
        </p:blipFill>
        <p:spPr>
          <a:xfrm>
            <a:off x="5181480" y="1371600"/>
            <a:ext cx="3375000" cy="4267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Users\Люба\Desktop\опыты\DSC00268.JPG"/>
          <p:cNvPicPr/>
          <p:nvPr/>
        </p:nvPicPr>
        <p:blipFill>
          <a:blip r:embed="rId2"/>
          <a:stretch/>
        </p:blipFill>
        <p:spPr>
          <a:xfrm>
            <a:off x="457200" y="1371600"/>
            <a:ext cx="3429000" cy="43354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Arial"/>
              </a:rPr>
              <a:t>«Электрическая расчёс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Users\Люба\Desktop\опыты\DSC00244.JPG"/>
          <p:cNvPicPr/>
          <p:nvPr/>
        </p:nvPicPr>
        <p:blipFill>
          <a:blip r:embed="rId1"/>
          <a:stretch/>
        </p:blipFill>
        <p:spPr>
          <a:xfrm>
            <a:off x="4800600" y="1905120"/>
            <a:ext cx="3429000" cy="3733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C:\Users\Люба\Desktop\опыты\DSC00242.JPG"/>
          <p:cNvPicPr/>
          <p:nvPr/>
        </p:nvPicPr>
        <p:blipFill>
          <a:blip r:embed="rId2"/>
          <a:stretch/>
        </p:blipFill>
        <p:spPr>
          <a:xfrm>
            <a:off x="685800" y="1905120"/>
            <a:ext cx="3327480" cy="38098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«Чудесные спич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C:\Users\Люба\Desktop\опыты\DSC00278.JPG"/>
          <p:cNvPicPr/>
          <p:nvPr/>
        </p:nvPicPr>
        <p:blipFill>
          <a:blip r:embed="rId1"/>
          <a:stretch/>
        </p:blipFill>
        <p:spPr>
          <a:xfrm>
            <a:off x="380880" y="1828800"/>
            <a:ext cx="3408480" cy="3733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C:\Users\Люба\Desktop\опыты\DSC00284.JPG"/>
          <p:cNvPicPr/>
          <p:nvPr/>
        </p:nvPicPr>
        <p:blipFill>
          <a:blip r:embed="rId2"/>
          <a:stretch/>
        </p:blipFill>
        <p:spPr>
          <a:xfrm>
            <a:off x="5257800" y="1905120"/>
            <a:ext cx="3429000" cy="35049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Arial"/>
              </a:rPr>
              <a:t>«Чудесные спич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Users\Люба\Desktop\опыты\DSC00290.JPG"/>
          <p:cNvPicPr/>
          <p:nvPr/>
        </p:nvPicPr>
        <p:blipFill>
          <a:blip r:embed="rId1"/>
          <a:stretch/>
        </p:blipFill>
        <p:spPr>
          <a:xfrm>
            <a:off x="457200" y="1981080"/>
            <a:ext cx="3597120" cy="3886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Users\Люба\Desktop\опыты\DSC00292.JPG"/>
          <p:cNvPicPr/>
          <p:nvPr/>
        </p:nvPicPr>
        <p:blipFill>
          <a:blip r:embed="rId2"/>
          <a:stretch/>
        </p:blipFill>
        <p:spPr>
          <a:xfrm>
            <a:off x="4876920" y="2057400"/>
            <a:ext cx="3276360" cy="3699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Arial"/>
              </a:rPr>
              <a:t>«Чудесные спич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C:\Users\Люба\Desktop\опыты\DSC00294.JPG"/>
          <p:cNvPicPr/>
          <p:nvPr/>
        </p:nvPicPr>
        <p:blipFill>
          <a:blip r:embed="rId1"/>
          <a:stretch/>
        </p:blipFill>
        <p:spPr>
          <a:xfrm>
            <a:off x="4952880" y="1962000"/>
            <a:ext cx="3200400" cy="3805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C:\Users\Люба\Desktop\опыты\DSC00295.JPG"/>
          <p:cNvPicPr/>
          <p:nvPr/>
        </p:nvPicPr>
        <p:blipFill>
          <a:blip r:embed="rId2"/>
          <a:stretch/>
        </p:blipFill>
        <p:spPr>
          <a:xfrm>
            <a:off x="457200" y="1905120"/>
            <a:ext cx="3581280" cy="38764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51920" y="167616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70c0"/>
                </a:solidFill>
                <a:latin typeface="Arial"/>
              </a:rPr>
              <a:t>Результаты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Arial"/>
              </a:rPr>
              <a:t>получение детьми знаний и умений в проведении опытов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Arial"/>
              </a:rPr>
              <a:t>умение делать определённые выво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-1447920"/>
            <a:ext cx="807732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3160" y="304560"/>
            <a:ext cx="83818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Ц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Изучение и внедрение элементов и фор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исследовательской деятельности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Изучение психолого-педагогической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литературы по теме самообраз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Подбор содержания для организации и проведении несложных опы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Проведение опытов направленных на формирование у детей познаватель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интер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-121968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456840"/>
            <a:ext cx="9144000" cy="79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70c0"/>
                </a:solidFill>
                <a:latin typeface="Arial"/>
              </a:rPr>
              <a:t>Бондаренко Т.М. Экологические занятия. Воронеж: ТЦ «Учитель», 2002. – 159 с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70c0"/>
                </a:solidFill>
                <a:latin typeface="Arial"/>
              </a:rPr>
              <a:t>Дыбина О.В., Рахманова Н.П.  Неизведанное рядом: Занимательные опыты и эксперименты для дошкольников. М.: ТЦ Сфера 2001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70c0"/>
                </a:solidFill>
                <a:latin typeface="Arial"/>
              </a:rPr>
              <a:t>Иванова А.И. Экологические наблюдения и эксперименты в детском саду. М.: ТЦ Сфера 2004. – 240 с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70c0"/>
                </a:solidFill>
                <a:latin typeface="Arial"/>
              </a:rPr>
              <a:t>Костюченко М. Экспериментируем!  «Дошкольное воспитание». 2006. - №8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70c0"/>
                </a:solidFill>
                <a:latin typeface="Arial"/>
              </a:rPr>
              <a:t>Николаева С.Н. Методика экологического воспитания в детском саду. М.: Просвещение 2004 – 208 с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70c0"/>
                </a:solidFill>
                <a:latin typeface="Arial"/>
              </a:rPr>
              <a:t>Организация экспериментальной деятельности дошкольников. Под ред. Л.Н.Прохоровой. М.: АРКТИ, 2004 М.: ТЦ Сфера 2004. – 240 с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70c0"/>
                </a:solidFill>
                <a:latin typeface="Arial"/>
              </a:rPr>
              <a:t>Прохорова О.Л. Организация экспериментальной деятельности дошкольников. М.: АРКТИ, 2003. – 220 с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70c0"/>
                </a:solidFill>
                <a:latin typeface="Arial"/>
              </a:rPr>
              <a:t>Рыжова Н.А. Экологическое образование в детском саду. М.: Изд. Дом «Карапуз», 2001. – 432 с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-609840"/>
            <a:ext cx="8229600" cy="20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Опы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8240" y="7617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«Пар – тоже вод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«Вода прозрачна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«У воды нет запах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«В воде одни вещества растворяются, другие не           растворяютс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«Пламя загрязняет возду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«В воде есть возду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«Свойства мокрого пес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«Определение возможности проживания в пустыне верблюдов, неделями обходящихся без вод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«Монета в стакан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«Тонет – не тоне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«Электрическая расчёс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«Чудесные спичк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8088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Arial"/>
              </a:rPr>
              <a:t>«Пар – тоже вод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C:\Users\Люба\Desktop\опыты\DSC00305.JPG"/>
          <p:cNvPicPr/>
          <p:nvPr/>
        </p:nvPicPr>
        <p:blipFill>
          <a:blip r:embed="rId1"/>
          <a:stretch/>
        </p:blipFill>
        <p:spPr>
          <a:xfrm>
            <a:off x="631800" y="1447920"/>
            <a:ext cx="3178080" cy="4198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:\Users\Люба\Desktop\опыты\DSC00306.JPG"/>
          <p:cNvPicPr/>
          <p:nvPr/>
        </p:nvPicPr>
        <p:blipFill>
          <a:blip r:embed="rId2"/>
          <a:stretch/>
        </p:blipFill>
        <p:spPr>
          <a:xfrm>
            <a:off x="5257800" y="1531800"/>
            <a:ext cx="2924280" cy="39546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Arial"/>
              </a:rPr>
              <a:t>«Вода прозрачна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Users\Люба\Desktop\опыты\DSC00255.JPG"/>
          <p:cNvPicPr/>
          <p:nvPr/>
        </p:nvPicPr>
        <p:blipFill>
          <a:blip r:embed="rId1"/>
          <a:stretch/>
        </p:blipFill>
        <p:spPr>
          <a:xfrm>
            <a:off x="1371600" y="1951200"/>
            <a:ext cx="6477120" cy="42973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6bcf"/>
                </a:solidFill>
                <a:latin typeface="Arial"/>
              </a:rPr>
              <a:t>«В воде одни вещества  растворяются, другие не растворяютс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Люба\Desktop\опыты\DSC00247.JPG"/>
          <p:cNvPicPr/>
          <p:nvPr/>
        </p:nvPicPr>
        <p:blipFill>
          <a:blip r:embed="rId1"/>
          <a:stretch/>
        </p:blipFill>
        <p:spPr>
          <a:xfrm>
            <a:off x="1143000" y="1827360"/>
            <a:ext cx="6931080" cy="4573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Arial"/>
              </a:rPr>
              <a:t>«Пламя загрязняет воздух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Users\Люба\Desktop\опыты\DSC00300.JPG"/>
          <p:cNvPicPr/>
          <p:nvPr/>
        </p:nvPicPr>
        <p:blipFill>
          <a:blip r:embed="rId1"/>
          <a:stretch/>
        </p:blipFill>
        <p:spPr>
          <a:xfrm>
            <a:off x="457200" y="1447920"/>
            <a:ext cx="4038480" cy="4952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Люба\Desktop\опыты\DSC00301.JPG"/>
          <p:cNvPicPr/>
          <p:nvPr/>
        </p:nvPicPr>
        <p:blipFill>
          <a:blip r:embed="rId2"/>
          <a:stretch/>
        </p:blipFill>
        <p:spPr>
          <a:xfrm>
            <a:off x="4648320" y="1447920"/>
            <a:ext cx="4038480" cy="49528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Arial"/>
              </a:rPr>
              <a:t>«В воде есть воздух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Users\Люба\Desktop\опыты\DSC00246.JPG"/>
          <p:cNvPicPr/>
          <p:nvPr/>
        </p:nvPicPr>
        <p:blipFill>
          <a:blip r:embed="rId1"/>
          <a:stretch/>
        </p:blipFill>
        <p:spPr>
          <a:xfrm>
            <a:off x="609480" y="1600200"/>
            <a:ext cx="8077320" cy="4525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юба</dc:creator>
  <dc:description/>
  <dc:language>en-US</dc:language>
  <cp:lastModifiedBy>Люба</cp:lastModifiedBy>
  <dcterms:modified xsi:type="dcterms:W3CDTF">2018-02-02T19:12:40Z</dcterms:modified>
  <cp:revision>10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