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2.wmf" ContentType="image/x-wmf"/>
  <Override PartName="/ppt/media/image27.png" ContentType="image/png"/>
  <Override PartName="/ppt/media/image13.wmf" ContentType="image/x-wmf"/>
  <Override PartName="/ppt/media/image30.png" ContentType="image/png"/>
  <Override PartName="/ppt/media/image28.png" ContentType="image/png"/>
  <Override PartName="/ppt/media/image31.wmf" ContentType="image/x-wmf"/>
  <Override PartName="/ppt/media/image6.wmf" ContentType="image/x-wmf"/>
  <Override PartName="/ppt/media/image4.png" ContentType="image/png"/>
  <Override PartName="/ppt/media/image34.png" ContentType="image/png"/>
  <Override PartName="/ppt/media/image5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9.wmf" ContentType="image/x-wmf"/>
  <Override PartName="/ppt/media/image39.png" ContentType="image/png"/>
  <Override PartName="/ppt/media/image38.png" ContentType="image/png"/>
  <Override PartName="/ppt/media/image8.png" ContentType="image/png"/>
  <Override PartName="/ppt/media/image7.wmf" ContentType="image/x-wmf"/>
  <Override PartName="/ppt/media/image11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25.wmf" ContentType="image/x-wmf"/>
  <Override PartName="/ppt/media/image29.png" ContentType="image/png"/>
  <Override PartName="/ppt/media/image32.wmf" ContentType="image/x-wmf"/>
  <Override PartName="/ppt/media/image2.wmf" ContentType="image/x-wmf"/>
  <Override PartName="/ppt/media/image1.png" ContentType="image/png"/>
  <Override PartName="/ppt/media/image24.png" ContentType="image/png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3D77-37D0-466A-A066-18231BDE1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4BC0-3FEF-4708-A1D9-AA773913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DED2-BB42-422E-958F-33CE04438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205B-1A04-45B8-BFF7-EFD4ABBB9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4910-71C6-41FA-A3B9-0CA1A600B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DA22-0114-406F-A9D7-FA716EE7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5C32-1BE0-418F-BA0F-467ED2977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8631-34B3-4FD7-ABA5-5829E029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B37B-050A-477B-8EEF-0D31FD8D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6E9FF-0072-49F3-A569-FB7622D9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7152-B91F-4321-ABE2-1060787E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0D54-CA7B-40FA-A144-8F541932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E5C7-8EF4-4066-B6EB-AAB41AAC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E226-45FC-4AA9-A263-145EE9A0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1EBFB-562B-4BAD-B0C7-449F563B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5F03-4CB5-461C-B2EF-601CDC960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0A5C-416F-4F63-B5E7-4F656BED7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8C84-FE2A-4117-9362-7F4342CD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6C75-C028-4D6D-AAE4-815B88B8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98D5-96F1-4AED-8272-7D9428E0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AD22-33A0-4A89-8CC7-CCF65C45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ACA2-8AD1-46D3-8CBE-6FDB26E9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90DF-04FF-4076-8F1C-4EEBC012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1C03-2E97-46A2-9C76-43AE5593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3F77-7B01-428E-BC0E-DB0C5C98DD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F8B8-22BB-4FA1-81AF-6B608C78FF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wmf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596880"/>
            <a:ext cx="846936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8000"/>
                </a:solidFill>
                <a:latin typeface="Verdana"/>
              </a:rPr>
              <a:t>УРОК МАТЕМАТИКИ </a:t>
            </a:r>
            <a:br>
              <a:rPr sz="5200"/>
            </a:br>
            <a:r>
              <a:rPr b="1" lang="ru-RU" sz="5200" spc="-1" strike="noStrike">
                <a:solidFill>
                  <a:srgbClr val="008000"/>
                </a:solidFill>
                <a:latin typeface="Verdana"/>
              </a:rPr>
              <a:t>во 2 «А» классе</a:t>
            </a:r>
            <a:endParaRPr b="0" lang="en-US" sz="5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997000" y="3789000"/>
            <a:ext cx="589572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Тема: Прямая. Луч.        Отрезок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801280" y="5603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42800" y="-237960"/>
            <a:ext cx="82440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Picture 5" descr="scissors"/>
          <p:cNvPicPr/>
          <p:nvPr/>
        </p:nvPicPr>
        <p:blipFill>
          <a:blip r:embed="rId1"/>
          <a:stretch/>
        </p:blipFill>
        <p:spPr>
          <a:xfrm>
            <a:off x="179280" y="1628640"/>
            <a:ext cx="5184720" cy="456120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13"/>
          <p:cNvSpPr/>
          <p:nvPr/>
        </p:nvSpPr>
        <p:spPr>
          <a:xfrm>
            <a:off x="6804000" y="1197000"/>
            <a:ext cx="1441440" cy="1368360"/>
          </a:xfrm>
          <a:prstGeom prst="smileyFace">
            <a:avLst>
              <a:gd name="adj" fmla="val 9282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Line 27"/>
          <p:cNvSpPr/>
          <p:nvPr/>
        </p:nvSpPr>
        <p:spPr>
          <a:xfrm flipH="1">
            <a:off x="4932000" y="1844640"/>
            <a:ext cx="3600360" cy="4105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91 -0.08023 C 0.33421 -0.0585 0.54948 -0.03676 0.55035 -0.01549 C 0.55122 0.00601 0.1283 0.01017 0.12414 0.04786 C 0.12014 0.08532 0.54757 0.18312 0.52553 0.2104 C 0.50348 0.23792 0.08073 0.21225 -0.00815 0.21248 E">
                                      <p:cBhvr>
                                        <p:cTn id="296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2800" y="-165960"/>
            <a:ext cx="82440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09080" rIns="109080" tIns="65880" bIns="658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Line 4"/>
          <p:cNvSpPr/>
          <p:nvPr/>
        </p:nvSpPr>
        <p:spPr>
          <a:xfrm flipH="1">
            <a:off x="6516720" y="1844640"/>
            <a:ext cx="20160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Line 5"/>
          <p:cNvSpPr/>
          <p:nvPr/>
        </p:nvSpPr>
        <p:spPr>
          <a:xfrm flipH="1">
            <a:off x="3276360" y="3357720"/>
            <a:ext cx="2447640" cy="122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Line 6"/>
          <p:cNvSpPr/>
          <p:nvPr/>
        </p:nvSpPr>
        <p:spPr>
          <a:xfrm flipH="1">
            <a:off x="610920" y="4941720"/>
            <a:ext cx="208908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Line 7"/>
          <p:cNvSpPr/>
          <p:nvPr/>
        </p:nvSpPr>
        <p:spPr>
          <a:xfrm>
            <a:off x="6372360" y="2781360"/>
            <a:ext cx="21564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Line 8"/>
          <p:cNvSpPr/>
          <p:nvPr/>
        </p:nvSpPr>
        <p:spPr>
          <a:xfrm>
            <a:off x="5651640" y="3284640"/>
            <a:ext cx="144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Line 9"/>
          <p:cNvSpPr/>
          <p:nvPr/>
        </p:nvSpPr>
        <p:spPr>
          <a:xfrm>
            <a:off x="3203640" y="4508640"/>
            <a:ext cx="144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Line 10"/>
          <p:cNvSpPr/>
          <p:nvPr/>
        </p:nvSpPr>
        <p:spPr>
          <a:xfrm>
            <a:off x="2627280" y="4869000"/>
            <a:ext cx="14436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11"/>
          <p:cNvSpPr/>
          <p:nvPr/>
        </p:nvSpPr>
        <p:spPr>
          <a:xfrm>
            <a:off x="4211640" y="2492280"/>
            <a:ext cx="1368360" cy="1297080"/>
          </a:xfrm>
          <a:prstGeom prst="smileyFace">
            <a:avLst>
              <a:gd name="adj" fmla="val 9282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Line 12"/>
          <p:cNvSpPr/>
          <p:nvPr/>
        </p:nvSpPr>
        <p:spPr>
          <a:xfrm flipH="1">
            <a:off x="6516720" y="1844640"/>
            <a:ext cx="201600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7341E-007 L -0.23628 0.14682 E">
                                      <p:cBhvr>
                                        <p:cTn id="302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629 0.14682 L 0.00798 -4.62428E-007 E">
                                      <p:cBhvr>
                                        <p:cTn id="305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62428E-007 L -0.23629 0.14682 E">
                                      <p:cBhvr>
                                        <p:cTn id="308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628 0.14682 L -4.16667E-006 3.69942E-006 E">
                                      <p:cBhvr>
                                        <p:cTn id="311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3.69942E-006 L -0.22049 0.13618 E">
                                      <p:cBhvr>
                                        <p:cTn id="314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628 0.14682 L -0.00781 0.01064 E">
                                      <p:cBhvr>
                                        <p:cTn id="317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рямая соединительная линия 2"/>
          <p:cNvSpPr/>
          <p:nvPr/>
        </p:nvSpPr>
        <p:spPr>
          <a:xfrm flipV="1">
            <a:off x="581040" y="4637160"/>
            <a:ext cx="1851120" cy="1342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Прямая соединительная линия 5"/>
          <p:cNvSpPr/>
          <p:nvPr/>
        </p:nvSpPr>
        <p:spPr>
          <a:xfrm flipV="1">
            <a:off x="2987640" y="2565000"/>
            <a:ext cx="2448000" cy="182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Прямая соединительная линия 7"/>
          <p:cNvSpPr/>
          <p:nvPr/>
        </p:nvSpPr>
        <p:spPr>
          <a:xfrm flipH="1">
            <a:off x="5940360" y="806400"/>
            <a:ext cx="1727280" cy="134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 rot="1839600">
            <a:off x="5387760" y="2917800"/>
            <a:ext cx="2322360" cy="360828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ая соединительная линия 19"/>
          <p:cNvSpPr/>
          <p:nvPr/>
        </p:nvSpPr>
        <p:spPr>
          <a:xfrm>
            <a:off x="2897280" y="4222800"/>
            <a:ext cx="180720" cy="333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Прямая соединительная линия 23"/>
          <p:cNvSpPr/>
          <p:nvPr/>
        </p:nvSpPr>
        <p:spPr>
          <a:xfrm>
            <a:off x="5394240" y="2484360"/>
            <a:ext cx="84240" cy="1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Прямая соединительная линия 26"/>
          <p:cNvSpPr/>
          <p:nvPr/>
        </p:nvSpPr>
        <p:spPr>
          <a:xfrm>
            <a:off x="2360520" y="4556160"/>
            <a:ext cx="92160" cy="357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Прямая соединительная линия 37"/>
          <p:cNvSpPr/>
          <p:nvPr/>
        </p:nvSpPr>
        <p:spPr>
          <a:xfrm>
            <a:off x="5864400" y="1989000"/>
            <a:ext cx="144360" cy="2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Box 51"/>
          <p:cNvSpPr/>
          <p:nvPr/>
        </p:nvSpPr>
        <p:spPr>
          <a:xfrm flipH="1" flipV="1" rot="10800000">
            <a:off x="3081960" y="4890240"/>
            <a:ext cx="37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Box 52"/>
          <p:cNvSpPr/>
          <p:nvPr/>
        </p:nvSpPr>
        <p:spPr>
          <a:xfrm>
            <a:off x="5478480" y="3044880"/>
            <a:ext cx="38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Box 53"/>
          <p:cNvSpPr/>
          <p:nvPr/>
        </p:nvSpPr>
        <p:spPr>
          <a:xfrm>
            <a:off x="1908000" y="3813120"/>
            <a:ext cx="48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TextBox 54"/>
          <p:cNvSpPr/>
          <p:nvPr/>
        </p:nvSpPr>
        <p:spPr>
          <a:xfrm>
            <a:off x="395280" y="4913280"/>
            <a:ext cx="2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Box 55"/>
          <p:cNvSpPr/>
          <p:nvPr/>
        </p:nvSpPr>
        <p:spPr>
          <a:xfrm>
            <a:off x="5397480" y="1006560"/>
            <a:ext cx="49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TextBox 56"/>
          <p:cNvSpPr/>
          <p:nvPr/>
        </p:nvSpPr>
        <p:spPr>
          <a:xfrm>
            <a:off x="6804000" y="16524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AutoShape 11"/>
          <p:cNvSpPr/>
          <p:nvPr/>
        </p:nvSpPr>
        <p:spPr>
          <a:xfrm>
            <a:off x="3635280" y="1846440"/>
            <a:ext cx="1368360" cy="1296720"/>
          </a:xfrm>
          <a:prstGeom prst="smileyFace">
            <a:avLst>
              <a:gd name="adj" fmla="val 9282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7341E-007 L -0.23628 0.14682 E">
                                      <p:cBhvr>
                                        <p:cTn id="333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629 0.14682 L 0.00798 -4.62428E-007 E">
                                      <p:cBhvr>
                                        <p:cTn id="336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62428E-007 L -0.23629 0.14682 E">
                                      <p:cBhvr>
                                        <p:cTn id="339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628 0.14682 L -4.16667E-006 3.69942E-006 E">
                                      <p:cBhvr>
                                        <p:cTn id="342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3.69942E-006 L -0.22049 0.13618 E">
                                      <p:cBhvr>
                                        <p:cTn id="345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628 0.14682 L -0.00781 0.01064 E">
                                      <p:cBhvr>
                                        <p:cTn id="348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1619280" y="1211400"/>
            <a:ext cx="734544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1042200" y="451800"/>
            <a:ext cx="7008840" cy="1152360"/>
          </a:xfrm>
          <a:prstGeom prst="rect">
            <a:avLst/>
          </a:prstGeom>
          <a:ln w="0">
            <a:noFill/>
          </a:ln>
        </p:spPr>
      </p:pic>
      <p:sp>
        <p:nvSpPr>
          <p:cNvPr id="262" name="TextBox 1"/>
          <p:cNvSpPr/>
          <p:nvPr/>
        </p:nvSpPr>
        <p:spPr>
          <a:xfrm>
            <a:off x="2195640" y="2430360"/>
            <a:ext cx="4297320" cy="180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ТРАНИЦА 72 № 2, 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ТРАНИЦА 72 № 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omic Sans MS"/>
              </a:rPr>
              <a:t>(РАБОТА В ПАРАХ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AutoShape 11"/>
          <p:cNvSpPr/>
          <p:nvPr/>
        </p:nvSpPr>
        <p:spPr>
          <a:xfrm>
            <a:off x="6948360" y="1846440"/>
            <a:ext cx="1368720" cy="1296720"/>
          </a:xfrm>
          <a:prstGeom prst="smileyFace">
            <a:avLst>
              <a:gd name="adj" fmla="val 9282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7341E-007 L -0.23628 0.14682 E">
                                      <p:cBhvr>
                                        <p:cTn id="354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629 0.14682 L 0.00798 -4.62428E-007 E">
                                      <p:cBhvr>
                                        <p:cTn id="357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62428E-007 L -0.23629 0.14682 E">
                                      <p:cBhvr>
                                        <p:cTn id="360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628 0.14682 L -4.16667E-006 3.69942E-006 E">
                                      <p:cBhvr>
                                        <p:cTn id="363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3.69942E-006 L -0.22049 0.13618 E">
                                      <p:cBhvr>
                                        <p:cTn id="366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628 0.14682 L -0.00781 0.01064 E">
                                      <p:cBhvr>
                                        <p:cTn id="369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122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c00000"/>
                </a:solidFill>
                <a:uFillTx/>
                <a:latin typeface="Verdana"/>
              </a:rPr>
              <a:t>Работа в группах</a:t>
            </a:r>
            <a:br>
              <a:rPr sz="4400"/>
            </a:br>
            <a:r>
              <a:rPr b="0" i="1" lang="ru-RU" sz="4400" spc="-1" strike="noStrike">
                <a:solidFill>
                  <a:srgbClr val="c00000"/>
                </a:solidFill>
                <a:latin typeface="Verdana"/>
              </a:rPr>
              <a:t>Группа № 1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79280" y="15588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Verdana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1332000" y="1409760"/>
            <a:ext cx="7812000" cy="47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11280" y="102960"/>
            <a:ext cx="8075520" cy="80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00000"/>
                </a:solidFill>
                <a:latin typeface="Verdana"/>
              </a:rPr>
              <a:t>Группа № 2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1600200"/>
            <a:ext cx="89647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Verdana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80643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0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00000"/>
                </a:solidFill>
                <a:latin typeface="Verdana"/>
              </a:rPr>
              <a:t>Группа № 3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1600200"/>
            <a:ext cx="91440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Verdana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971640" y="1528920"/>
            <a:ext cx="7921440" cy="49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0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00000"/>
                </a:solidFill>
                <a:latin typeface="Verdana"/>
              </a:rPr>
              <a:t>Группа № 4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0" y="1600200"/>
            <a:ext cx="91440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8020080" cy="29527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" descr=""/>
          <p:cNvPicPr/>
          <p:nvPr/>
        </p:nvPicPr>
        <p:blipFill>
          <a:blip r:embed="rId2"/>
          <a:stretch/>
        </p:blipFill>
        <p:spPr>
          <a:xfrm>
            <a:off x="223920" y="5229360"/>
            <a:ext cx="881208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560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098072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7343640" cy="478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2"/>
          <a:stretch/>
        </p:blipFill>
        <p:spPr>
          <a:xfrm>
            <a:off x="1258920" y="1403280"/>
            <a:ext cx="7345440" cy="478800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7"/>
          <p:cNvSpPr/>
          <p:nvPr/>
        </p:nvSpPr>
        <p:spPr>
          <a:xfrm rot="21167400">
            <a:off x="2307600" y="245736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Если вы выполните правильно все задания, то прочитаете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название страны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куда мы отправимся во время изучения новой тем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rcRect l="0" t="20356" r="0" b="0"/>
          <a:stretch/>
        </p:blipFill>
        <p:spPr>
          <a:xfrm>
            <a:off x="3273480" y="2563920"/>
            <a:ext cx="5514840" cy="6872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"/>
          <p:cNvPicPr/>
          <p:nvPr/>
        </p:nvPicPr>
        <p:blipFill>
          <a:blip r:embed="rId2"/>
          <a:stretch/>
        </p:blipFill>
        <p:spPr>
          <a:xfrm rot="1445400">
            <a:off x="306000" y="-270000"/>
            <a:ext cx="3179880" cy="37674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2"/>
          <p:cNvSpPr/>
          <p:nvPr/>
        </p:nvSpPr>
        <p:spPr>
          <a:xfrm>
            <a:off x="3924360" y="362124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 15, 18, 21,23 …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3"/>
          <a:stretch/>
        </p:blipFill>
        <p:spPr>
          <a:xfrm>
            <a:off x="1457280" y="4468680"/>
            <a:ext cx="2255760" cy="1955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"/>
          <p:cNvPicPr/>
          <p:nvPr/>
        </p:nvPicPr>
        <p:blipFill>
          <a:blip r:embed="rId4"/>
          <a:srcRect l="0" t="20356" r="0" b="0"/>
          <a:stretch/>
        </p:blipFill>
        <p:spPr>
          <a:xfrm>
            <a:off x="3219480" y="2563920"/>
            <a:ext cx="551484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 rot="20617200">
            <a:off x="-267840" y="-600120"/>
            <a:ext cx="4249800" cy="4181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3600360" y="2308320"/>
            <a:ext cx="4481640" cy="407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"/>
          <p:cNvPicPr/>
          <p:nvPr/>
        </p:nvPicPr>
        <p:blipFill>
          <a:blip r:embed="rId3"/>
          <a:stretch/>
        </p:blipFill>
        <p:spPr>
          <a:xfrm>
            <a:off x="1692360" y="3003480"/>
            <a:ext cx="7059600" cy="520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"/>
          <p:cNvPicPr/>
          <p:nvPr/>
        </p:nvPicPr>
        <p:blipFill>
          <a:blip r:embed="rId4"/>
          <a:stretch/>
        </p:blipFill>
        <p:spPr>
          <a:xfrm>
            <a:off x="1298520" y="4608360"/>
            <a:ext cx="1116000" cy="10731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"/>
          <p:cNvPicPr/>
          <p:nvPr/>
        </p:nvPicPr>
        <p:blipFill>
          <a:blip r:embed="rId5"/>
          <a:stretch/>
        </p:blipFill>
        <p:spPr>
          <a:xfrm>
            <a:off x="2195640" y="3651120"/>
            <a:ext cx="6732360" cy="5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-541440" y="-644400"/>
            <a:ext cx="5261040" cy="52178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"/>
          <p:cNvPicPr/>
          <p:nvPr/>
        </p:nvPicPr>
        <p:blipFill>
          <a:blip r:embed="rId2"/>
          <a:stretch/>
        </p:blipFill>
        <p:spPr>
          <a:xfrm>
            <a:off x="4140360" y="2133720"/>
            <a:ext cx="4479840" cy="8316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"/>
          <p:cNvPicPr/>
          <p:nvPr/>
        </p:nvPicPr>
        <p:blipFill>
          <a:blip r:embed="rId3"/>
          <a:stretch/>
        </p:blipFill>
        <p:spPr>
          <a:xfrm>
            <a:off x="4140360" y="3357720"/>
            <a:ext cx="1857240" cy="801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4"/>
          <a:stretch/>
        </p:blipFill>
        <p:spPr>
          <a:xfrm>
            <a:off x="6672240" y="3357720"/>
            <a:ext cx="1895400" cy="801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"/>
          <p:cNvPicPr/>
          <p:nvPr/>
        </p:nvPicPr>
        <p:blipFill>
          <a:blip r:embed="rId5"/>
          <a:stretch/>
        </p:blipFill>
        <p:spPr>
          <a:xfrm>
            <a:off x="4643280" y="3003480"/>
            <a:ext cx="963720" cy="304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"/>
          <p:cNvPicPr/>
          <p:nvPr/>
        </p:nvPicPr>
        <p:blipFill>
          <a:blip r:embed="rId6"/>
          <a:stretch/>
        </p:blipFill>
        <p:spPr>
          <a:xfrm>
            <a:off x="7159680" y="3017880"/>
            <a:ext cx="922320" cy="326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"/>
          <p:cNvPicPr/>
          <p:nvPr/>
        </p:nvPicPr>
        <p:blipFill>
          <a:blip r:embed="rId7"/>
          <a:stretch/>
        </p:blipFill>
        <p:spPr>
          <a:xfrm>
            <a:off x="1189080" y="4870440"/>
            <a:ext cx="1268280" cy="11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-263520" y="-930240"/>
            <a:ext cx="5261040" cy="52182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"/>
          <p:cNvPicPr/>
          <p:nvPr/>
        </p:nvPicPr>
        <p:blipFill>
          <a:blip r:embed="rId2"/>
          <a:stretch/>
        </p:blipFill>
        <p:spPr>
          <a:xfrm>
            <a:off x="3995640" y="2276640"/>
            <a:ext cx="4753080" cy="1296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"/>
          <p:cNvPicPr/>
          <p:nvPr/>
        </p:nvPicPr>
        <p:blipFill>
          <a:blip r:embed="rId3"/>
          <a:stretch/>
        </p:blipFill>
        <p:spPr>
          <a:xfrm>
            <a:off x="4211640" y="3789360"/>
            <a:ext cx="3825720" cy="2160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"/>
          <p:cNvPicPr/>
          <p:nvPr/>
        </p:nvPicPr>
        <p:blipFill>
          <a:blip r:embed="rId4"/>
          <a:srcRect l="11203" t="23876" r="2777" b="0"/>
          <a:stretch/>
        </p:blipFill>
        <p:spPr>
          <a:xfrm>
            <a:off x="6361200" y="5999040"/>
            <a:ext cx="1565280" cy="3924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"/>
          <p:cNvPicPr/>
          <p:nvPr/>
        </p:nvPicPr>
        <p:blipFill>
          <a:blip r:embed="rId5"/>
          <a:stretch/>
        </p:blipFill>
        <p:spPr>
          <a:xfrm>
            <a:off x="901800" y="4651200"/>
            <a:ext cx="1463400" cy="9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1655640" cy="1082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"/>
          <p:cNvPicPr/>
          <p:nvPr/>
        </p:nvPicPr>
        <p:blipFill>
          <a:blip r:embed="rId2"/>
          <a:stretch/>
        </p:blipFill>
        <p:spPr>
          <a:xfrm>
            <a:off x="2484360" y="1700280"/>
            <a:ext cx="1765440" cy="1227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"/>
          <p:cNvPicPr/>
          <p:nvPr/>
        </p:nvPicPr>
        <p:blipFill>
          <a:blip r:embed="rId3"/>
          <a:stretch/>
        </p:blipFill>
        <p:spPr>
          <a:xfrm>
            <a:off x="4716360" y="1681200"/>
            <a:ext cx="1268640" cy="11224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"/>
          <p:cNvPicPr/>
          <p:nvPr/>
        </p:nvPicPr>
        <p:blipFill>
          <a:blip r:embed="rId4"/>
          <a:stretch/>
        </p:blipFill>
        <p:spPr>
          <a:xfrm>
            <a:off x="7020000" y="1681200"/>
            <a:ext cx="1116000" cy="10666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5"/>
          <a:stretch/>
        </p:blipFill>
        <p:spPr>
          <a:xfrm>
            <a:off x="2135160" y="3141720"/>
            <a:ext cx="4294080" cy="10094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"/>
          <p:cNvPicPr/>
          <p:nvPr/>
        </p:nvPicPr>
        <p:blipFill>
          <a:blip r:embed="rId6"/>
          <a:stretch/>
        </p:blipFill>
        <p:spPr>
          <a:xfrm>
            <a:off x="5985000" y="4365720"/>
            <a:ext cx="2479680" cy="1773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"/>
          <p:cNvPicPr/>
          <p:nvPr/>
        </p:nvPicPr>
        <p:blipFill>
          <a:blip r:embed="rId7"/>
          <a:stretch/>
        </p:blipFill>
        <p:spPr>
          <a:xfrm>
            <a:off x="468360" y="4151160"/>
            <a:ext cx="277020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6" dur="2000" fill="hold"/>
                                        <p:tgtEl>
                                          <p:spTgt spid="2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Bernard MT Condensed"/>
              </a:rPr>
              <a:t>Соотнесите буквы с результатами действий в порядке возрастания. Расшифровав это слово, вы познакомитесь с королевой  Геометри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57200" y="4581360"/>
          <a:ext cx="8147160" cy="2133720"/>
        </p:xfrm>
        <a:graphic>
          <a:graphicData uri="http://schemas.openxmlformats.org/drawingml/2006/table">
            <a:tbl>
              <a:tblPr/>
              <a:tblGrid>
                <a:gridCol w="1630440"/>
                <a:gridCol w="1627200"/>
                <a:gridCol w="1631880"/>
                <a:gridCol w="1627200"/>
                <a:gridCol w="1630440"/>
              </a:tblGrid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4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8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3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4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AutoShape 74"/>
          <p:cNvSpPr/>
          <p:nvPr/>
        </p:nvSpPr>
        <p:spPr>
          <a:xfrm>
            <a:off x="179280" y="1773360"/>
            <a:ext cx="2089080" cy="11509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896 -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6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AutoShape 75"/>
          <p:cNvSpPr/>
          <p:nvPr/>
        </p:nvSpPr>
        <p:spPr>
          <a:xfrm>
            <a:off x="3059280" y="1773360"/>
            <a:ext cx="2160360" cy="1150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700 - 26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76"/>
          <p:cNvSpPr/>
          <p:nvPr/>
        </p:nvSpPr>
        <p:spPr>
          <a:xfrm>
            <a:off x="6012000" y="1773360"/>
            <a:ext cx="2232000" cy="1079280"/>
          </a:xfrm>
          <a:prstGeom prst="roundRect">
            <a:avLst>
              <a:gd name="adj" fmla="val 16667"/>
            </a:avLst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544 - 51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77"/>
          <p:cNvSpPr/>
          <p:nvPr/>
        </p:nvSpPr>
        <p:spPr>
          <a:xfrm>
            <a:off x="1116000" y="3213000"/>
            <a:ext cx="2303640" cy="1224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14 + 43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AutoShape 78"/>
          <p:cNvSpPr/>
          <p:nvPr/>
        </p:nvSpPr>
        <p:spPr>
          <a:xfrm>
            <a:off x="5148360" y="3213000"/>
            <a:ext cx="2303280" cy="12240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418 + 17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1979640" y="1700280"/>
            <a:ext cx="1440000" cy="122400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80"/>
          <p:cNvSpPr/>
          <p:nvPr/>
        </p:nvSpPr>
        <p:spPr>
          <a:xfrm>
            <a:off x="2268360" y="2205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4932360" y="1700280"/>
            <a:ext cx="1428840" cy="115236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83"/>
          <p:cNvSpPr/>
          <p:nvPr/>
        </p:nvSpPr>
        <p:spPr>
          <a:xfrm>
            <a:off x="5219640" y="2133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3"/>
          <a:stretch/>
        </p:blipFill>
        <p:spPr>
          <a:xfrm flipH="1" rot="21559200">
            <a:off x="7162560" y="3067560"/>
            <a:ext cx="1582560" cy="12193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91"/>
          <p:cNvSpPr/>
          <p:nvPr/>
        </p:nvSpPr>
        <p:spPr>
          <a:xfrm>
            <a:off x="7885080" y="3573360"/>
            <a:ext cx="3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4"/>
          <a:stretch/>
        </p:blipFill>
        <p:spPr>
          <a:xfrm>
            <a:off x="3348000" y="3068640"/>
            <a:ext cx="1511280" cy="122544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93"/>
          <p:cNvSpPr/>
          <p:nvPr/>
        </p:nvSpPr>
        <p:spPr>
          <a:xfrm>
            <a:off x="3635280" y="3357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5"/>
          <a:stretch/>
        </p:blipFill>
        <p:spPr>
          <a:xfrm flipH="1" rot="9600">
            <a:off x="7876800" y="1626120"/>
            <a:ext cx="1257480" cy="12207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95"/>
          <p:cNvSpPr/>
          <p:nvPr/>
        </p:nvSpPr>
        <p:spPr>
          <a:xfrm>
            <a:off x="8440560" y="198900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60116E-006 L 0.38594 0.56138 E">
                                      <p:cBhvr>
                                        <p:cTn id="250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8.67052E-007 L 0.39375 0.56439 E">
                                      <p:cBhvr>
                                        <p:cTn id="252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6.93642E-007 L -0.29079 0.56647 E">
                                      <p:cBhvr>
                                        <p:cTn id="256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75723E-006 L -0.29131 0.56439 E">
                                      <p:cBhvr>
                                        <p:cTn id="258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46821E-007 L -0.80035 0.58266 E">
                                      <p:cBhvr>
                                        <p:cTn id="262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21965E-006 L -0.79878 0.58543 E">
                                      <p:cBhvr>
                                        <p:cTn id="264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9711E-006 L 0.41355 0.36185 E">
                                      <p:cBhvr>
                                        <p:cTn id="268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13873E-006 L 0.42535 0.39653 E">
                                      <p:cBhvr>
                                        <p:cTn id="270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54335E-006 L -0.36979 0.36231 E">
                                      <p:cBhvr>
                                        <p:cTn id="274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77457E-006 L -0.38819 0.35468 E">
                                      <p:cBhvr>
                                        <p:cTn id="276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Line 5"/>
          <p:cNvSpPr/>
          <p:nvPr/>
        </p:nvSpPr>
        <p:spPr>
          <a:xfrm flipH="1">
            <a:off x="0" y="1413000"/>
            <a:ext cx="9144000" cy="496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AutoShape 4"/>
          <p:cNvSpPr/>
          <p:nvPr/>
        </p:nvSpPr>
        <p:spPr>
          <a:xfrm rot="20450400">
            <a:off x="3132000" y="2491920"/>
            <a:ext cx="1584360" cy="1441440"/>
          </a:xfrm>
          <a:prstGeom prst="smileyFace">
            <a:avLst>
              <a:gd name="adj" fmla="val 9282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autoRev="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5347 -0.35653 L -0.51198 0.53086 E">
                                      <p:cBhvr>
                                        <p:cTn id="282" dur="3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4" autoRev="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083 -0.28717 L -0.5316 0.53086 E">
                                      <p:cBhvr>
                                        <p:cTn id="285" dur="3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8T09:07:20Z</dcterms:created>
  <dc:creator>d</dc:creator>
  <dc:description/>
  <dc:language>en-US</dc:language>
  <cp:lastModifiedBy>teacher</cp:lastModifiedBy>
  <cp:lastPrinted>2022-11-24T14:18:34Z</cp:lastPrinted>
  <dcterms:modified xsi:type="dcterms:W3CDTF">2023-06-20T09:56:24Z</dcterms:modified>
  <cp:revision>91</cp:revision>
  <dc:subject/>
  <dc:title>УРОК МАТЕМАТИКИ  во 2 классе</dc:title>
</cp:coreProperties>
</file>