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2.wmf" ContentType="image/x-wmf"/>
  <Override PartName="/ppt/media/image27.png" ContentType="image/png"/>
  <Override PartName="/ppt/media/image13.wmf" ContentType="image/x-wmf"/>
  <Override PartName="/ppt/media/image30.png" ContentType="image/png"/>
  <Override PartName="/ppt/media/image28.png" ContentType="image/png"/>
  <Override PartName="/ppt/media/image31.wmf" ContentType="image/x-wmf"/>
  <Override PartName="/ppt/media/image6.wmf" ContentType="image/x-wmf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9.wmf" ContentType="image/x-wmf"/>
  <Override PartName="/ppt/media/image39.png" ContentType="image/png"/>
  <Override PartName="/ppt/media/image38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5.wmf" ContentType="image/x-wmf"/>
  <Override PartName="/ppt/media/image29.png" ContentType="image/png"/>
  <Override PartName="/ppt/media/image32.wmf" ContentType="image/x-wmf"/>
  <Override PartName="/ppt/media/image2.wmf" ContentType="image/x-wmf"/>
  <Override PartName="/ppt/media/image1.png" ContentType="image/png"/>
  <Override PartName="/ppt/media/image24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F40-9103-4B78-A7BB-29ACEF40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9BE-2401-4E6C-9214-F4B457FF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3E2-4D05-4EC1-B1DC-E72D2C6C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FE6-0CE9-4087-86F4-193B1761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A718-A1C6-4615-AE8A-B499D1BC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74AD-80C1-40AC-815D-E58548C8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5FD4-902C-4722-A482-3A7883E8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AC35-13A4-49FC-82C9-99A21264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23E1-294F-45EA-A1D7-57D14A9E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8650-F80B-4095-849F-7E9357CD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1F72-C5AB-4390-8E55-DF178302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052-081D-4610-AD52-2E8CD580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28A4-5AC0-4696-B262-42916DAE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FD60-B9AC-469D-A845-4551DE7D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AB75-981F-47B0-A504-0B654B61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3C2F-3483-433C-9EAE-53CEE48E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127A-6C7A-41CA-A953-4249F118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07C-2D4E-4FA5-A68E-822BBABA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E40-77F4-4B4C-BA23-16706A7B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0EF-458A-4BA3-8FF6-FB6F1F4A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7BC-04BB-4B61-AF35-3A35FB86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7DA-7CB0-4883-9867-C23EC1C4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AB1-2173-42F4-8250-97DAA976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2D5-8C55-406B-874D-704F2F50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252B-E572-4FA7-85C8-7CFF629D47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57B0-6B78-4ECD-9EE9-CDE763EC4B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596880"/>
            <a:ext cx="846936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8000"/>
                </a:solidFill>
                <a:latin typeface="Verdana"/>
              </a:rPr>
              <a:t>УРОК МАТЕМАТИКИ </a:t>
            </a:r>
            <a:br>
              <a:rPr sz="5200"/>
            </a:br>
            <a:r>
              <a:rPr b="1" lang="ru-RU" sz="5200" spc="-1" strike="noStrike">
                <a:solidFill>
                  <a:srgbClr val="008000"/>
                </a:solidFill>
                <a:latin typeface="Verdana"/>
              </a:rPr>
              <a:t>во 2 «А» классе</a:t>
            </a:r>
            <a:endParaRPr b="0" lang="en-US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997000" y="3789000"/>
            <a:ext cx="5895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ема: Прямая. Луч.        Отрезо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801280" y="560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42800" y="-23796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5" descr="scissors"/>
          <p:cNvPicPr/>
          <p:nvPr/>
        </p:nvPicPr>
        <p:blipFill>
          <a:blip r:embed="rId1"/>
          <a:stretch/>
        </p:blipFill>
        <p:spPr>
          <a:xfrm>
            <a:off x="179280" y="1628640"/>
            <a:ext cx="5184720" cy="45612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3"/>
          <p:cNvSpPr/>
          <p:nvPr/>
        </p:nvSpPr>
        <p:spPr>
          <a:xfrm>
            <a:off x="6804000" y="1197000"/>
            <a:ext cx="1441440" cy="136836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27"/>
          <p:cNvSpPr/>
          <p:nvPr/>
        </p:nvSpPr>
        <p:spPr>
          <a:xfrm flipH="1">
            <a:off x="4932000" y="1844640"/>
            <a:ext cx="3600360" cy="410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1 -0.08023 C 0.33421 -0.0585 0.54948 -0.03676 0.55035 -0.01549 C 0.55122 0.00601 0.1283 0.01017 0.12414 0.04786 C 0.12014 0.08532 0.54757 0.18312 0.52553 0.2104 C 0.50348 0.23792 0.08073 0.21225 -0.00815 0.21248 E">
                                      <p:cBhvr>
                                        <p:cTn id="29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-16596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4"/>
          <p:cNvSpPr/>
          <p:nvPr/>
        </p:nvSpPr>
        <p:spPr>
          <a:xfrm flipH="1">
            <a:off x="6516720" y="1844640"/>
            <a:ext cx="2016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5"/>
          <p:cNvSpPr/>
          <p:nvPr/>
        </p:nvSpPr>
        <p:spPr>
          <a:xfrm flipH="1">
            <a:off x="3276360" y="3357720"/>
            <a:ext cx="2447640" cy="122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6"/>
          <p:cNvSpPr/>
          <p:nvPr/>
        </p:nvSpPr>
        <p:spPr>
          <a:xfrm flipH="1">
            <a:off x="610920" y="4941720"/>
            <a:ext cx="208908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6372360" y="2781360"/>
            <a:ext cx="215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5651640" y="328464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3203640" y="450864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2627280" y="486900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11"/>
          <p:cNvSpPr/>
          <p:nvPr/>
        </p:nvSpPr>
        <p:spPr>
          <a:xfrm>
            <a:off x="4211640" y="2492280"/>
            <a:ext cx="1368360" cy="129708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Line 12"/>
          <p:cNvSpPr/>
          <p:nvPr/>
        </p:nvSpPr>
        <p:spPr>
          <a:xfrm flipH="1">
            <a:off x="6516720" y="1844640"/>
            <a:ext cx="20160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7 L -0.23628 0.14682 E">
                                      <p:cBhvr>
                                        <p:cTn id="302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9 0.14682 L 0.00798 -4.62428E-007 E">
                                      <p:cBhvr>
                                        <p:cTn id="305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62428E-007 L -0.23629 0.14682 E">
                                      <p:cBhvr>
                                        <p:cTn id="308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4682 L -4.16667E-006 3.69942E-006 E">
                                      <p:cBhvr>
                                        <p:cTn id="311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3.69942E-006 L -0.22049 0.13618 E">
                                      <p:cBhvr>
                                        <p:cTn id="31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4682 L -0.00781 0.01064 E">
                                      <p:cBhvr>
                                        <p:cTn id="317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ая соединительная линия 2"/>
          <p:cNvSpPr/>
          <p:nvPr/>
        </p:nvSpPr>
        <p:spPr>
          <a:xfrm flipV="1">
            <a:off x="581040" y="4637160"/>
            <a:ext cx="1851120" cy="134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Прямая соединительная линия 5"/>
          <p:cNvSpPr/>
          <p:nvPr/>
        </p:nvSpPr>
        <p:spPr>
          <a:xfrm flipV="1">
            <a:off x="2987640" y="2565000"/>
            <a:ext cx="2448000" cy="182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ая соединительная линия 7"/>
          <p:cNvSpPr/>
          <p:nvPr/>
        </p:nvSpPr>
        <p:spPr>
          <a:xfrm flipH="1">
            <a:off x="5940360" y="806400"/>
            <a:ext cx="1727280" cy="134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 rot="1839600">
            <a:off x="5387760" y="2917800"/>
            <a:ext cx="2322360" cy="360828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19"/>
          <p:cNvSpPr/>
          <p:nvPr/>
        </p:nvSpPr>
        <p:spPr>
          <a:xfrm>
            <a:off x="2897280" y="4222800"/>
            <a:ext cx="180720" cy="3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Прямая соединительная линия 23"/>
          <p:cNvSpPr/>
          <p:nvPr/>
        </p:nvSpPr>
        <p:spPr>
          <a:xfrm>
            <a:off x="5394240" y="2484360"/>
            <a:ext cx="84240" cy="1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Прямая соединительная линия 26"/>
          <p:cNvSpPr/>
          <p:nvPr/>
        </p:nvSpPr>
        <p:spPr>
          <a:xfrm>
            <a:off x="2360520" y="4556160"/>
            <a:ext cx="9216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Прямая соединительная линия 37"/>
          <p:cNvSpPr/>
          <p:nvPr/>
        </p:nvSpPr>
        <p:spPr>
          <a:xfrm>
            <a:off x="5864400" y="1989000"/>
            <a:ext cx="14436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51"/>
          <p:cNvSpPr/>
          <p:nvPr/>
        </p:nvSpPr>
        <p:spPr>
          <a:xfrm flipH="1" flipV="1" rot="10800000">
            <a:off x="3081960" y="4890240"/>
            <a:ext cx="37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52"/>
          <p:cNvSpPr/>
          <p:nvPr/>
        </p:nvSpPr>
        <p:spPr>
          <a:xfrm>
            <a:off x="5478480" y="3044880"/>
            <a:ext cx="3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Box 53"/>
          <p:cNvSpPr/>
          <p:nvPr/>
        </p:nvSpPr>
        <p:spPr>
          <a:xfrm>
            <a:off x="1908000" y="3813120"/>
            <a:ext cx="48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Box 54"/>
          <p:cNvSpPr/>
          <p:nvPr/>
        </p:nvSpPr>
        <p:spPr>
          <a:xfrm>
            <a:off x="395280" y="4913280"/>
            <a:ext cx="2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55"/>
          <p:cNvSpPr/>
          <p:nvPr/>
        </p:nvSpPr>
        <p:spPr>
          <a:xfrm>
            <a:off x="5397480" y="1006560"/>
            <a:ext cx="49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Box 56"/>
          <p:cNvSpPr/>
          <p:nvPr/>
        </p:nvSpPr>
        <p:spPr>
          <a:xfrm>
            <a:off x="6804000" y="1652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11"/>
          <p:cNvSpPr/>
          <p:nvPr/>
        </p:nvSpPr>
        <p:spPr>
          <a:xfrm>
            <a:off x="3635280" y="1846440"/>
            <a:ext cx="1368360" cy="129672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7 L -0.23628 0.14682 E">
                                      <p:cBhvr>
                                        <p:cTn id="333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9 0.14682 L 0.00798 -4.62428E-007 E">
                                      <p:cBhvr>
                                        <p:cTn id="336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62428E-007 L -0.23629 0.14682 E">
                                      <p:cBhvr>
                                        <p:cTn id="339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4682 L -4.16667E-006 3.69942E-006 E">
                                      <p:cBhvr>
                                        <p:cTn id="342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3.69942E-006 L -0.22049 0.13618 E">
                                      <p:cBhvr>
                                        <p:cTn id="345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4682 L -0.00781 0.01064 E">
                                      <p:cBhvr>
                                        <p:cTn id="348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619280" y="1211400"/>
            <a:ext cx="734544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042200" y="451800"/>
            <a:ext cx="7008840" cy="11523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"/>
          <p:cNvSpPr/>
          <p:nvPr/>
        </p:nvSpPr>
        <p:spPr>
          <a:xfrm>
            <a:off x="2195640" y="2430360"/>
            <a:ext cx="429732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ИЦА 72 № 2,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ИЦА 72 №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(РАБОТА В ПАРАХ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AutoShape 11"/>
          <p:cNvSpPr/>
          <p:nvPr/>
        </p:nvSpPr>
        <p:spPr>
          <a:xfrm>
            <a:off x="6948360" y="1846440"/>
            <a:ext cx="1368720" cy="129672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7 L -0.23628 0.14682 E">
                                      <p:cBhvr>
                                        <p:cTn id="354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9 0.14682 L 0.00798 -4.62428E-007 E">
                                      <p:cBhvr>
                                        <p:cTn id="357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62428E-007 L -0.23629 0.14682 E">
                                      <p:cBhvr>
                                        <p:cTn id="360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4682 L -4.16667E-006 3.69942E-006 E">
                                      <p:cBhvr>
                                        <p:cTn id="363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3.69942E-006 L -0.22049 0.13618 E">
                                      <p:cBhvr>
                                        <p:cTn id="366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4682 L -0.00781 0.01064 E">
                                      <p:cBhvr>
                                        <p:cTn id="369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c00000"/>
                </a:solidFill>
                <a:uFillTx/>
                <a:latin typeface="Verdana"/>
              </a:rPr>
              <a:t>Работа в группах</a:t>
            </a:r>
            <a:br>
              <a:rPr sz="4400"/>
            </a:br>
            <a:r>
              <a:rPr b="0" i="1" lang="ru-RU" sz="4400" spc="-1" strike="noStrike">
                <a:solidFill>
                  <a:srgbClr val="c00000"/>
                </a:solidFill>
                <a:latin typeface="Verdana"/>
              </a:rPr>
              <a:t>Группа № 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79280" y="1558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Verdan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332000" y="1409760"/>
            <a:ext cx="78120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02960"/>
            <a:ext cx="807552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Verdana"/>
              </a:rPr>
              <a:t>Группа №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60020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Verdan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8064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Verdana"/>
              </a:rPr>
              <a:t>Группа № 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600200"/>
            <a:ext cx="9144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Verdan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71640" y="1528920"/>
            <a:ext cx="792144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Verdana"/>
              </a:rPr>
              <a:t>Группа № 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8020080" cy="2952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223920" y="5229360"/>
            <a:ext cx="881208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980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7343640" cy="478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1258920" y="1403280"/>
            <a:ext cx="7345440" cy="47880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7"/>
          <p:cNvSpPr/>
          <p:nvPr/>
        </p:nvSpPr>
        <p:spPr>
          <a:xfrm rot="21167400">
            <a:off x="2307600" y="2457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сли вы выполните правильно все задания, то прочитаете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название стран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уда мы отправимся во время изучения новой те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0" t="20356" r="0" b="0"/>
          <a:stretch/>
        </p:blipFill>
        <p:spPr>
          <a:xfrm>
            <a:off x="3273480" y="2563920"/>
            <a:ext cx="5514840" cy="68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 rot="1445400">
            <a:off x="306000" y="-270000"/>
            <a:ext cx="3179880" cy="37674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3924360" y="36212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 15, 18, 21,23 …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1457280" y="4468680"/>
            <a:ext cx="2255760" cy="1955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4"/>
          <a:srcRect l="0" t="20356" r="0" b="0"/>
          <a:stretch/>
        </p:blipFill>
        <p:spPr>
          <a:xfrm>
            <a:off x="3219480" y="2563920"/>
            <a:ext cx="551484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 rot="20617200">
            <a:off x="-267840" y="-600120"/>
            <a:ext cx="4249800" cy="4181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3600360" y="2308320"/>
            <a:ext cx="4481640" cy="407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3"/>
          <a:stretch/>
        </p:blipFill>
        <p:spPr>
          <a:xfrm>
            <a:off x="1692360" y="3003480"/>
            <a:ext cx="7059600" cy="520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4"/>
          <a:stretch/>
        </p:blipFill>
        <p:spPr>
          <a:xfrm>
            <a:off x="1298520" y="4608360"/>
            <a:ext cx="1116000" cy="1073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5"/>
          <a:stretch/>
        </p:blipFill>
        <p:spPr>
          <a:xfrm>
            <a:off x="2195640" y="3651120"/>
            <a:ext cx="6732360" cy="5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-541440" y="-644400"/>
            <a:ext cx="5261040" cy="5217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4140360" y="2133720"/>
            <a:ext cx="4479840" cy="831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3"/>
          <a:stretch/>
        </p:blipFill>
        <p:spPr>
          <a:xfrm>
            <a:off x="4140360" y="3357720"/>
            <a:ext cx="1857240" cy="801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4"/>
          <a:stretch/>
        </p:blipFill>
        <p:spPr>
          <a:xfrm>
            <a:off x="6672240" y="3357720"/>
            <a:ext cx="1895400" cy="801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5"/>
          <a:stretch/>
        </p:blipFill>
        <p:spPr>
          <a:xfrm>
            <a:off x="4643280" y="3003480"/>
            <a:ext cx="963720" cy="304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6"/>
          <a:stretch/>
        </p:blipFill>
        <p:spPr>
          <a:xfrm>
            <a:off x="7159680" y="3017880"/>
            <a:ext cx="922320" cy="326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7"/>
          <a:stretch/>
        </p:blipFill>
        <p:spPr>
          <a:xfrm>
            <a:off x="1189080" y="4870440"/>
            <a:ext cx="12682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-263520" y="-930240"/>
            <a:ext cx="5261040" cy="5218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3995640" y="2276640"/>
            <a:ext cx="4753080" cy="1296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4211640" y="3789360"/>
            <a:ext cx="3825720" cy="216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4"/>
          <a:srcRect l="11203" t="23876" r="2777" b="0"/>
          <a:stretch/>
        </p:blipFill>
        <p:spPr>
          <a:xfrm>
            <a:off x="6361200" y="5999040"/>
            <a:ext cx="1565280" cy="392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5"/>
          <a:stretch/>
        </p:blipFill>
        <p:spPr>
          <a:xfrm>
            <a:off x="901800" y="4651200"/>
            <a:ext cx="146340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1655640" cy="1082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1765440" cy="1227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3"/>
          <a:stretch/>
        </p:blipFill>
        <p:spPr>
          <a:xfrm>
            <a:off x="4716360" y="1681200"/>
            <a:ext cx="1268640" cy="1122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4"/>
          <a:stretch/>
        </p:blipFill>
        <p:spPr>
          <a:xfrm>
            <a:off x="7020000" y="1681200"/>
            <a:ext cx="1116000" cy="1066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5"/>
          <a:stretch/>
        </p:blipFill>
        <p:spPr>
          <a:xfrm>
            <a:off x="2135160" y="3141720"/>
            <a:ext cx="4294080" cy="1009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6"/>
          <a:stretch/>
        </p:blipFill>
        <p:spPr>
          <a:xfrm>
            <a:off x="5985000" y="4365720"/>
            <a:ext cx="2479680" cy="1773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7"/>
          <a:stretch/>
        </p:blipFill>
        <p:spPr>
          <a:xfrm>
            <a:off x="468360" y="4151160"/>
            <a:ext cx="27702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Bernard MT Condensed"/>
              </a:rPr>
              <a:t>Соотнесите буквы с результатами действий в порядке возрастания. Расшифровав это слово, вы познакомитесь с королевой  Геомет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4581360"/>
          <a:ext cx="8147160" cy="2133720"/>
        </p:xfrm>
        <a:graphic>
          <a:graphicData uri="http://schemas.openxmlformats.org/drawingml/2006/table">
            <a:tbl>
              <a:tblPr/>
              <a:tblGrid>
                <a:gridCol w="1630440"/>
                <a:gridCol w="1627200"/>
                <a:gridCol w="1631880"/>
                <a:gridCol w="1627200"/>
                <a:gridCol w="163044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AutoShape 74"/>
          <p:cNvSpPr/>
          <p:nvPr/>
        </p:nvSpPr>
        <p:spPr>
          <a:xfrm>
            <a:off x="179280" y="1773360"/>
            <a:ext cx="2089080" cy="11509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96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6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AutoShape 75"/>
          <p:cNvSpPr/>
          <p:nvPr/>
        </p:nvSpPr>
        <p:spPr>
          <a:xfrm>
            <a:off x="3059280" y="1773360"/>
            <a:ext cx="2160360" cy="1150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00 - 26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76"/>
          <p:cNvSpPr/>
          <p:nvPr/>
        </p:nvSpPr>
        <p:spPr>
          <a:xfrm>
            <a:off x="6012000" y="1773360"/>
            <a:ext cx="2232000" cy="1079280"/>
          </a:xfrm>
          <a:prstGeom prst="roundRect">
            <a:avLst>
              <a:gd name="adj" fmla="val 16667"/>
            </a:avLst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44 - 5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77"/>
          <p:cNvSpPr/>
          <p:nvPr/>
        </p:nvSpPr>
        <p:spPr>
          <a:xfrm>
            <a:off x="1116000" y="3213000"/>
            <a:ext cx="2303640" cy="1224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14 + 4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78"/>
          <p:cNvSpPr/>
          <p:nvPr/>
        </p:nvSpPr>
        <p:spPr>
          <a:xfrm>
            <a:off x="5148360" y="3213000"/>
            <a:ext cx="2303280" cy="1224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18 + 17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1440000" cy="1224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0"/>
          <p:cNvSpPr/>
          <p:nvPr/>
        </p:nvSpPr>
        <p:spPr>
          <a:xfrm>
            <a:off x="2268360" y="220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1428840" cy="1152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83"/>
          <p:cNvSpPr/>
          <p:nvPr/>
        </p:nvSpPr>
        <p:spPr>
          <a:xfrm>
            <a:off x="521964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 flipH="1" rot="21559200">
            <a:off x="7162560" y="3067560"/>
            <a:ext cx="1582560" cy="12193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1"/>
          <p:cNvSpPr/>
          <p:nvPr/>
        </p:nvSpPr>
        <p:spPr>
          <a:xfrm>
            <a:off x="7885080" y="35733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4"/>
          <a:stretch/>
        </p:blipFill>
        <p:spPr>
          <a:xfrm>
            <a:off x="3348000" y="3068640"/>
            <a:ext cx="1511280" cy="1225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93"/>
          <p:cNvSpPr/>
          <p:nvPr/>
        </p:nvSpPr>
        <p:spPr>
          <a:xfrm>
            <a:off x="3635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5"/>
          <a:stretch/>
        </p:blipFill>
        <p:spPr>
          <a:xfrm flipH="1" rot="9600">
            <a:off x="7876800" y="1626120"/>
            <a:ext cx="1257480" cy="1220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95"/>
          <p:cNvSpPr/>
          <p:nvPr/>
        </p:nvSpPr>
        <p:spPr>
          <a:xfrm>
            <a:off x="8440560" y="198900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60116E-006 L 0.38594 0.56138 E">
                                      <p:cBhvr>
                                        <p:cTn id="250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8.67052E-007 L 0.39375 0.56439 E">
                                      <p:cBhvr>
                                        <p:cTn id="25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93642E-007 L -0.29079 0.56647 E">
                                      <p:cBhvr>
                                        <p:cTn id="256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5723E-006 L -0.29131 0.56439 E">
                                      <p:cBhvr>
                                        <p:cTn id="25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46821E-007 L -0.80035 0.58266 E">
                                      <p:cBhvr>
                                        <p:cTn id="26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21965E-006 L -0.79878 0.58543 E">
                                      <p:cBhvr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9711E-006 L 0.41355 0.36185 E">
                                      <p:cBhvr>
                                        <p:cTn id="268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13873E-006 L 0.42535 0.39653 E">
                                      <p:cBhvr>
                                        <p:cTn id="270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4335E-006 L -0.36979 0.36231 E">
                                      <p:cBhvr>
                                        <p:cTn id="27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77457E-006 L -0.38819 0.35468 E">
                                      <p:cBhvr>
                                        <p:cTn id="27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5"/>
          <p:cNvSpPr/>
          <p:nvPr/>
        </p:nvSpPr>
        <p:spPr>
          <a:xfrm flipH="1">
            <a:off x="0" y="1413000"/>
            <a:ext cx="9144000" cy="49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 rot="20450400">
            <a:off x="3132000" y="2491920"/>
            <a:ext cx="1584360" cy="144144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autoRev="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347 -0.35653 L -0.51198 0.53086 E">
                                      <p:cBhvr>
                                        <p:cTn id="282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autoRev="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083 -0.28717 L -0.5316 0.53086 E">
                                      <p:cBhvr>
                                        <p:cTn id="285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9:07:20Z</dcterms:created>
  <dc:creator>d</dc:creator>
  <dc:description/>
  <dc:language>en-US</dc:language>
  <cp:lastModifiedBy>teacher</cp:lastModifiedBy>
  <cp:lastPrinted>2022-11-24T14:18:34Z</cp:lastPrinted>
  <dcterms:modified xsi:type="dcterms:W3CDTF">2023-06-20T09:56:24Z</dcterms:modified>
  <cp:revision>91</cp:revision>
  <dc:subject/>
  <dc:title>УРОК МАТЕМАТИКИ  во 2 классе</dc:title>
</cp:coreProperties>
</file>