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D6F5-1B04-4D79-87D3-0F11DFA2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297A-BA9D-4821-9D7F-8937BEC2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C2F4-C760-49C0-A729-8A5A85D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9D98-2DAE-43E1-96F2-D0C4273A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E06C-44A3-4120-BD43-79F32B2B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72F5-DB8B-4F7B-96E4-797EA7B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724C-B914-4085-89BB-12B0589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E0A-AEE1-4060-9D53-BF9783D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81C-A3C4-4A23-AA1A-561BB09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1A4-50D4-4532-9F9C-02574741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0B6-328A-4E37-ABA9-FE0521C8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04EB-87CA-44D0-B396-0BEBF1B5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A9FE-3583-4723-ADF7-752199C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BA80-E41B-4344-8751-F4E4587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E70-B085-4466-B23A-90E2BB19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731-A1CA-4BFC-B202-58A71EA2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88F3-F930-47AD-8609-F5EA9894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605F-F8BA-49F6-8318-39767F2A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D862-E592-46EA-A9FC-F45DD1C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4D57-1EE4-463D-9FA5-01F0871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DA1E-A62B-439C-A33A-D23FE49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0139-7F95-4C49-94AF-2976466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8584-0288-4C46-B9AD-CF6061C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E3E4-F645-4DD4-A1FF-63BEC1E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EDF4-08E3-40F7-B2EB-E1F1DCA1A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F4D-40D8-4275-A240-E9157E84F9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11280" y="24300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There …. Four rooms in our fl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There …. no TV in my bed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… there any paintings in the living ro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There … a fridge, a cooker and a sink in the kitc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… there any books in the bookc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There …. no carpet in the kitc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7T15:08:31Z</dcterms:created>
  <dc:creator>Дмитрий</dc:creator>
  <dc:description/>
  <dc:language>en-US</dc:language>
  <cp:lastModifiedBy>Дмитрий</cp:lastModifiedBy>
  <dcterms:modified xsi:type="dcterms:W3CDTF">2023-06-20T18:31:13Z</dcterms:modified>
  <cp:revision>3</cp:revision>
  <dc:subject/>
  <dc:title>Слайд 1</dc:title>
</cp:coreProperties>
</file>