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96D5-6F3F-4FB0-A12E-724A3FC2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7848-2A9F-4C6C-B072-1188777D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A0B00-02FA-4B81-8A1F-6BE43E36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50D35-6DA6-4817-9774-56CCB895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D09C-E9C1-4636-B1AA-C33680C0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AE1E-2DEF-4F5D-91C8-9DACF00C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DDBF-F6A6-4A63-BD05-994C87CB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D7BA-ED38-4148-BDF4-24AB93AF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DFD8-3650-44A9-9D76-A2AC94D2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C89A-706A-4290-8D9B-C83CBA77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28BE-E5A2-42D2-81E7-3BA275F2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08B1-61F8-40D8-8857-C86C815B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8879-9610-449D-8826-112260C6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A07D-F9E0-4259-BCCE-8B7CAE1F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C187-B3EE-4CCA-BADA-9B4F0169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32BE-F96C-4941-BAF5-6A8F9C0A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F8ED-C28A-485F-95FB-413C5441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55DF-39A1-4906-9184-90DB002C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1F57-3981-4E13-9B45-B297AB98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6426-7546-40A0-A3C5-91148A73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ABA3-DFFE-4BF0-8B7E-B69A96E2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9460A-4DD7-4502-B8EC-CDC70E5E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C039-834F-4D98-931A-638EB268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8EA3-5B8D-4961-A286-26E19C42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99BE-301E-4C0F-8B3D-2024E4CE93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76FB-B5C2-4E68-BC9C-7AAFDECB2B7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611280" y="243000"/>
            <a:ext cx="82087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There …. Four rooms in our fl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There …. no TV in my bedro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… there any paintings in the living roo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There … a fridge, a cooker and a sink in the kitch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… there any books in the bookc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There …. no carpet in the kitch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7T15:08:31Z</dcterms:created>
  <dc:creator>Дмитрий</dc:creator>
  <dc:description/>
  <dc:language>en-US</dc:language>
  <cp:lastModifiedBy>Дмитрий</cp:lastModifiedBy>
  <dcterms:modified xsi:type="dcterms:W3CDTF">2023-06-20T18:31:13Z</dcterms:modified>
  <cp:revision>3</cp:revision>
  <dc:subject/>
  <dc:title>Слайд 1</dc:title>
</cp:coreProperties>
</file>