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E39-D68F-4DEF-AC27-BA556A79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4E5-B13B-47E5-88E8-54F2F615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B15-625C-4FDC-919F-E4F25138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88C-5EE9-4AFD-9497-871F5271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A80-6AF7-4785-8B07-98A5001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7DE-8624-47CC-A4EA-9716056F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E22-B073-4B27-942E-A90DACC2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A81-D36F-4EB3-963B-38A12A98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C5E-EBA6-4262-8498-14D83531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25C-C2E7-4BAD-B7DD-7623CD5A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572-C6B2-4271-8D8D-2945A57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390-45CC-4843-84EC-7A49314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0336-62C0-4229-B156-104FD9A071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1101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Оживи дерев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20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Селютина Марина Леонид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286000" y="3747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 комбинированного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Октябрьский детский сад № 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 flipV="1" rot="10800000">
            <a:off x="3286080" y="38646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.Октябрьское, 202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Азм\Desktop\эколята 23\IMG_6295.JPG"/>
          <p:cNvPicPr/>
          <p:nvPr/>
        </p:nvPicPr>
        <p:blipFill>
          <a:blip r:embed="rId1"/>
          <a:stretch/>
        </p:blipFill>
        <p:spPr>
          <a:xfrm>
            <a:off x="6786720" y="142920"/>
            <a:ext cx="928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онно-творческ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ети подготовительной группы, воспитатель, род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раткосрочный (1 меся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ая деятельность является одним из важнейших средств познания мира и развития знаний эстетического восприятия, так как оно связано с самостоятельной, практической и творческой деятельностью ребенк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различных материалов  позволяет совершенствовать   навыки и умения  в художественно-эстетической деятельности, пробуждают интерес к исследованию  изобразительных возможностей материалов, и, как следствие, повышают интерес к художественно-эстетической деятельности в целом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 обусловлена тем что в период дошкольного детства происходит становление человеческой личности, формируются основы познавательной, экологической , художественно-эстетической культуры будущего дошкольник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егодняшний день очень важно формирование человека нового типа с новым экологическим мышлением, способного осознавать последствия своих действий по отношению к окружающей среде и умеющего жить в относительной гармонии с природой.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 важно вызвать у  детей интерес к живой и неживой природе, воспитывать любовь к ней, научить беречь окружающий мир и  делать мир лучше и красиве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ы решили заинтересовать детей и родителей и предложили  участие в проекте «Оживи Дерев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213920"/>
            <a:ext cx="864396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ив перед собой 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детей осознанно-правильное отношение к природе Родного края, основываясь на ее неповторимости, ценности, красоте через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ормировать у детей дошкольного возраста представление о своеобразии природы родного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овершенствовать творческие способности, умение работать с различными материал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звивать мелкую моторику, аккуратность, эстетический вк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оспитывать экологическую образованность и любовь к красоте природы Родного кр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ступили к реализации проектной деятельности разработали перспективный план, наметили пути решения поставленных целей и задач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9880"/>
            <a:ext cx="8229600" cy="29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вести до участников проекта важность данной проблемы; составить план проектной деятельности, проанализировать и систематизировать информацию о природе Родного края, проинформировать родителей о целях и задачах проекта; подобрать  методическую, познавательную, художественную  литературу, оборудование и  пособия по экологическому, художественно-эстетическому образованию детей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Основной: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, игры, экскурсии, занятия с детьми по теме  проекта, акции, 1.продуктивная деятельность с детьми в ДОУ; 2.продуктивная деятельность  родителей с детьми до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Заключительный этап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выставки  детских работ в группе детского сада, презентация про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живи дерево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о реализации экологического проекта  на сайте ДОУ, награждение грамотами активных участников проек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детские работы выполненные вместе с род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Азм\Desktop\март2023\IMG_6279.JPG"/>
          <p:cNvPicPr/>
          <p:nvPr/>
        </p:nvPicPr>
        <p:blipFill>
          <a:blip r:embed="rId1"/>
          <a:stretch/>
        </p:blipFill>
        <p:spPr>
          <a:xfrm>
            <a:off x="768240" y="1268280"/>
            <a:ext cx="1255680" cy="164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Азм\Desktop\март2023\IMG_6272.JPG"/>
          <p:cNvPicPr/>
          <p:nvPr/>
        </p:nvPicPr>
        <p:blipFill>
          <a:blip r:embed="rId2"/>
          <a:stretch/>
        </p:blipFill>
        <p:spPr>
          <a:xfrm>
            <a:off x="2193840" y="1268280"/>
            <a:ext cx="1281240" cy="168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Азм\Desktop\март2023\IMG_6280.JPG"/>
          <p:cNvPicPr/>
          <p:nvPr/>
        </p:nvPicPr>
        <p:blipFill>
          <a:blip r:embed="rId3"/>
          <a:stretch/>
        </p:blipFill>
        <p:spPr>
          <a:xfrm>
            <a:off x="3554280" y="1268280"/>
            <a:ext cx="122580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Азм\Desktop\март2023\IMG_6276.JPG"/>
          <p:cNvPicPr/>
          <p:nvPr/>
        </p:nvPicPr>
        <p:blipFill>
          <a:blip r:embed="rId4"/>
          <a:stretch/>
        </p:blipFill>
        <p:spPr>
          <a:xfrm>
            <a:off x="4906800" y="1268280"/>
            <a:ext cx="1133640" cy="16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Азм\Desktop\март2023\IMG_6260.JPG"/>
          <p:cNvPicPr/>
          <p:nvPr/>
        </p:nvPicPr>
        <p:blipFill>
          <a:blip r:embed="rId5"/>
          <a:stretch/>
        </p:blipFill>
        <p:spPr>
          <a:xfrm>
            <a:off x="6126120" y="1268280"/>
            <a:ext cx="1255680" cy="16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Азм\Desktop\март2023\IMG_6262.JPG"/>
          <p:cNvPicPr/>
          <p:nvPr/>
        </p:nvPicPr>
        <p:blipFill>
          <a:blip r:embed="rId6"/>
          <a:stretch/>
        </p:blipFill>
        <p:spPr>
          <a:xfrm>
            <a:off x="7407360" y="1335240"/>
            <a:ext cx="120024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Азм\Desktop\март2023\IMG_6263.JPG"/>
          <p:cNvPicPr/>
          <p:nvPr/>
        </p:nvPicPr>
        <p:blipFill>
          <a:blip r:embed="rId7"/>
          <a:stretch/>
        </p:blipFill>
        <p:spPr>
          <a:xfrm>
            <a:off x="3498840" y="2981160"/>
            <a:ext cx="1225440" cy="16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Азм\Desktop\март2023\IMG_6283.JPG"/>
          <p:cNvPicPr/>
          <p:nvPr/>
        </p:nvPicPr>
        <p:blipFill>
          <a:blip r:embed="rId8"/>
          <a:stretch/>
        </p:blipFill>
        <p:spPr>
          <a:xfrm>
            <a:off x="4840200" y="2981160"/>
            <a:ext cx="1206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е работы детей с воспитате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Азм\Desktop\март2023\IMG_6261.JPG"/>
          <p:cNvPicPr/>
          <p:nvPr/>
        </p:nvPicPr>
        <p:blipFill>
          <a:blip r:embed="rId1"/>
          <a:stretch/>
        </p:blipFill>
        <p:spPr>
          <a:xfrm>
            <a:off x="768240" y="1268280"/>
            <a:ext cx="1096920" cy="159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Азм\Desktop\март2023\IMG_6284.JPG"/>
          <p:cNvPicPr/>
          <p:nvPr/>
        </p:nvPicPr>
        <p:blipFill>
          <a:blip r:embed="rId2"/>
          <a:stretch/>
        </p:blipFill>
        <p:spPr>
          <a:xfrm>
            <a:off x="1981080" y="1268280"/>
            <a:ext cx="1231920" cy="170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Азм\Desktop\март2023\IMG_6273.JPG"/>
          <p:cNvPicPr/>
          <p:nvPr/>
        </p:nvPicPr>
        <p:blipFill>
          <a:blip r:embed="rId3"/>
          <a:stretch/>
        </p:blipFill>
        <p:spPr>
          <a:xfrm>
            <a:off x="4621320" y="1335240"/>
            <a:ext cx="1255680" cy="16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Азм\Desktop\эколята 23\IMG_6329.JPG"/>
          <p:cNvPicPr/>
          <p:nvPr/>
        </p:nvPicPr>
        <p:blipFill>
          <a:blip r:embed="rId4"/>
          <a:stretch/>
        </p:blipFill>
        <p:spPr>
          <a:xfrm>
            <a:off x="3297240" y="1274760"/>
            <a:ext cx="1231920" cy="163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Азм\Desktop\март2023\IMG_6269.JPG"/>
          <p:cNvPicPr/>
          <p:nvPr/>
        </p:nvPicPr>
        <p:blipFill>
          <a:blip r:embed="rId5"/>
          <a:stretch/>
        </p:blipFill>
        <p:spPr>
          <a:xfrm>
            <a:off x="5979960" y="1268280"/>
            <a:ext cx="1268640" cy="168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Азм\Desktop\март2023\IMG_6270.JPG"/>
          <p:cNvPicPr/>
          <p:nvPr/>
        </p:nvPicPr>
        <p:blipFill>
          <a:blip r:embed="rId6"/>
          <a:stretch/>
        </p:blipFill>
        <p:spPr>
          <a:xfrm>
            <a:off x="7338960" y="1268280"/>
            <a:ext cx="1262160" cy="168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Азм\Desktop\март2023\IMG_6275.JPG"/>
          <p:cNvPicPr/>
          <p:nvPr/>
        </p:nvPicPr>
        <p:blipFill>
          <a:blip r:embed="rId7"/>
          <a:stretch/>
        </p:blipFill>
        <p:spPr>
          <a:xfrm>
            <a:off x="3267000" y="2981160"/>
            <a:ext cx="1219320" cy="16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Азм\Desktop\эколята 23\IMG_6266.JPG"/>
          <p:cNvPicPr/>
          <p:nvPr/>
        </p:nvPicPr>
        <p:blipFill>
          <a:blip r:embed="rId8"/>
          <a:stretch/>
        </p:blipFill>
        <p:spPr>
          <a:xfrm>
            <a:off x="4621320" y="2981160"/>
            <a:ext cx="12618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1T13:46:13Z</dcterms:created>
  <dc:creator>Азм</dc:creator>
  <dc:description/>
  <dc:language>en-US</dc:language>
  <cp:lastModifiedBy>Азм</cp:lastModifiedBy>
  <dcterms:modified xsi:type="dcterms:W3CDTF">2023-06-21T15:01:34Z</dcterms:modified>
  <cp:revision>12</cp:revision>
  <dc:subject/>
  <dc:title>Экопроект «Оживи дерево»</dc:title>
</cp:coreProperties>
</file>