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5CE-184E-4ED4-BA91-0B268F7B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FA5-9CAD-40FC-99D8-9C745F26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93B-CF06-4775-82F1-C8488BBC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7A5-80C6-44BC-B661-D48C175B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DE6-1AA4-452A-95EB-7F7A0D84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6C2-5DC6-4BE4-9BF0-A5895B70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861-403A-4B1D-A2E2-EC828E49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FCE-2733-4ABD-9EFA-7B62FBB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394-76FF-42A5-A437-99E3B2E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05E-6F26-429E-BB84-A83C803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AD8-F4F5-4A41-84AB-8D2539B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14C-2226-455C-A676-5FE57D2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D7BD-3ED0-46D6-93A6-D16C7B46CA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36.jpeg"/><Relationship Id="rId6" Type="http://schemas.openxmlformats.org/officeDocument/2006/relationships/image" Target="../media/image15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pulson.ru/wp-content/uploads/2011/05/1304337886_1304163m.jpg"/>
          <p:cNvPicPr/>
          <p:nvPr/>
        </p:nvPicPr>
        <p:blipFill>
          <a:blip r:embed="rId1"/>
          <a:stretch/>
        </p:blipFill>
        <p:spPr>
          <a:xfrm>
            <a:off x="2333520" y="496800"/>
            <a:ext cx="4824360" cy="4048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776160" y="-14436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катерина Илларионовна Дёмина (192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Golden Star medal 473.jpg"/>
          <p:cNvPicPr/>
          <p:nvPr/>
        </p:nvPicPr>
        <p:blipFill>
          <a:blip r:embed="rId2"/>
          <a:stretch/>
        </p:blipFill>
        <p:spPr>
          <a:xfrm>
            <a:off x="7308720" y="69228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Order of Lenin type4.jpg"/>
          <p:cNvPicPr/>
          <p:nvPr/>
        </p:nvPicPr>
        <p:blipFill>
          <a:blip r:embed="rId3"/>
          <a:stretch/>
        </p:blipFill>
        <p:spPr>
          <a:xfrm>
            <a:off x="7216920" y="1778040"/>
            <a:ext cx="958680" cy="101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Order of the Red Banner.png"/>
          <p:cNvPicPr/>
          <p:nvPr/>
        </p:nvPicPr>
        <p:blipFill>
          <a:blip r:embed="rId4"/>
          <a:stretch/>
        </p:blipFill>
        <p:spPr>
          <a:xfrm>
            <a:off x="8156520" y="1778040"/>
            <a:ext cx="98748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Order of the Patriotic War (1st class).png"/>
          <p:cNvPicPr/>
          <p:nvPr/>
        </p:nvPicPr>
        <p:blipFill>
          <a:blip r:embed="rId5"/>
          <a:stretch/>
        </p:blipFill>
        <p:spPr>
          <a:xfrm>
            <a:off x="7122960" y="2795760"/>
            <a:ext cx="1052640" cy="150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www.gazeta.lv/photos/d/58885008_1273555946_image.jpg"/>
          <p:cNvPicPr/>
          <p:nvPr/>
        </p:nvPicPr>
        <p:blipFill>
          <a:blip r:embed="rId6"/>
          <a:stretch/>
        </p:blipFill>
        <p:spPr>
          <a:xfrm>
            <a:off x="8191440" y="2797200"/>
            <a:ext cx="952560" cy="1503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973160" y="4572000"/>
            <a:ext cx="67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инструктор 369-го отдельного батальона морской пехоты и старший санинструктор сводной роты Берегового отряда сопровождения Дунайской военной флотилии; одна из немногих женщин, служивших в разведке морско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181240" y="565776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ней по сценарию Сергея Смирнова режиссёр Виктор Лисакович в 1964 году снял документальный фильм «Катюша». В 2008 году был снят документальный фильм «Катюша большая и маленькая»,     восстанавливающий события 196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2840" y="-171720"/>
            <a:ext cx="869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аида Михайловна Туснолобова (1920-19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4292280"/>
            <a:ext cx="7416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шина медицинской службы, фронтовая санитарка, Герой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8 месяцев пребывания на фронте вынесла с поля боя 128 раненых. 2 февраля 1943 года в бою за станцию Горшечное Курской области была тяжело ранена, обморожена, сутки пролежала среди трупов. Вследствие обморожения лишилась рук и но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Tusnolobova-Marczenko.jpg"/>
          <p:cNvPicPr/>
          <p:nvPr/>
        </p:nvPicPr>
        <p:blipFill>
          <a:blip r:embed="rId1"/>
          <a:stretch/>
        </p:blipFill>
        <p:spPr>
          <a:xfrm>
            <a:off x="5778360" y="700200"/>
            <a:ext cx="2592360" cy="34671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www.kramola.info/sites/default/files/any_images/20100512133322.jpg"/>
          <p:cNvPicPr/>
          <p:nvPr/>
        </p:nvPicPr>
        <p:blipFill>
          <a:blip r:embed="rId2"/>
          <a:stretch/>
        </p:blipFill>
        <p:spPr>
          <a:xfrm>
            <a:off x="2087640" y="708120"/>
            <a:ext cx="2663640" cy="3467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Golden Star medal 473.jpg"/>
          <p:cNvPicPr/>
          <p:nvPr/>
        </p:nvPicPr>
        <p:blipFill>
          <a:blip r:embed="rId3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Order of the Red Banner.png"/>
          <p:cNvPicPr/>
          <p:nvPr/>
        </p:nvPicPr>
        <p:blipFill>
          <a:blip r:embed="rId4"/>
          <a:stretch/>
        </p:blipFill>
        <p:spPr>
          <a:xfrm>
            <a:off x="5160960" y="5599080"/>
            <a:ext cx="107964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ZV0053764.jpg"/>
          <p:cNvPicPr/>
          <p:nvPr/>
        </p:nvPicPr>
        <p:blipFill>
          <a:blip r:embed="rId5"/>
          <a:stretch/>
        </p:blipFill>
        <p:spPr>
          <a:xfrm>
            <a:off x="6230880" y="5599080"/>
            <a:ext cx="1066680" cy="10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&amp;Kcy;&amp;ocy;&amp;scy;&amp;mcy;&amp;ocy;&amp;dcy;&amp;iecy;&amp;mcy;&amp;softcy;&amp;yacy;&amp;ncy;&amp;scy;&amp;kcy;&amp;acy;&amp;yacy; &amp;Zcy;&amp;ocy;&amp;yacy; &amp;Acy;&amp;ncy;&amp;acy;&amp;tcy;&amp;ocy;&amp;lcy;&amp;softcy;&amp;iecy;&amp;vcy;&amp;ncy;&amp;acy;.jpg"/>
          <p:cNvPicPr/>
          <p:nvPr/>
        </p:nvPicPr>
        <p:blipFill>
          <a:blip r:embed="rId1"/>
          <a:stretch/>
        </p:blipFill>
        <p:spPr>
          <a:xfrm>
            <a:off x="2050920" y="609480"/>
            <a:ext cx="2881440" cy="3395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Golden Star medal 473.jpg"/>
          <p:cNvPicPr/>
          <p:nvPr/>
        </p:nvPicPr>
        <p:blipFill>
          <a:blip r:embed="rId2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Order of Lenin type4.jpg"/>
          <p:cNvPicPr/>
          <p:nvPr/>
        </p:nvPicPr>
        <p:blipFill>
          <a:blip r:embed="rId3"/>
          <a:stretch/>
        </p:blipFill>
        <p:spPr>
          <a:xfrm>
            <a:off x="5176800" y="5575320"/>
            <a:ext cx="762120" cy="1085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720720" y="428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оя Анатольевна Космодемьянская (1923-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1671480" y="4149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армеец диверсионно-разведывательной группы штаба Западного фронта, заброшенная в 1941 году в немецкий тыл. Партиза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женщина, удостоенная звания Герой Советского Союза(посмертно) во время Великой Отечественной вой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rc_mi" descr="http://img132.imageshack.us/img132/898/dokkino1159695495i4314qt6.jpg"/>
          <p:cNvPicPr/>
          <p:nvPr/>
        </p:nvPicPr>
        <p:blipFill>
          <a:blip r:embed="rId4"/>
          <a:stretch/>
        </p:blipFill>
        <p:spPr>
          <a:xfrm>
            <a:off x="5184720" y="609480"/>
            <a:ext cx="3673440" cy="33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581200" y="-46080"/>
            <a:ext cx="64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а Даниловна Волошина (1919-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&amp;Fcy;&amp;acy;&amp;jcy;&amp;lcy;:&amp;Vcy;&amp;iecy;&amp;rcy;&amp;acy; &amp;Vcy;&amp;ocy;&amp;lcy;&amp;ocy;&amp;shcy;&amp;icy;&amp;ncy;&amp;acy;.jpg"/>
          <p:cNvPicPr/>
          <p:nvPr/>
        </p:nvPicPr>
        <p:blipFill>
          <a:blip r:embed="rId1"/>
          <a:stretch/>
        </p:blipFill>
        <p:spPr>
          <a:xfrm>
            <a:off x="1835280" y="476280"/>
            <a:ext cx="3171600" cy="416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Order of the Patriotic War (1st class).png"/>
          <p:cNvPicPr/>
          <p:nvPr/>
        </p:nvPicPr>
        <p:blipFill>
          <a:blip r:embed="rId2"/>
          <a:stretch/>
        </p:blipFill>
        <p:spPr>
          <a:xfrm>
            <a:off x="7715160" y="5288040"/>
            <a:ext cx="1428840" cy="150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1835280" y="4638600"/>
            <a:ext cx="75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ая разведчица, специального партизанского отряда (войсковая часть № 9903), действовавшего по заданию штаба Западного фрон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ой Российской Федерации (199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Hero of the Russian Federation medal.png"/>
          <p:cNvPicPr/>
          <p:nvPr/>
        </p:nvPicPr>
        <p:blipFill>
          <a:blip r:embed="rId3"/>
          <a:stretch/>
        </p:blipFill>
        <p:spPr>
          <a:xfrm>
            <a:off x="6858000" y="5300640"/>
            <a:ext cx="857160" cy="1569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forum.sysert.ru/uploads/post-14412-1359566927.jpg"/>
          <p:cNvPicPr/>
          <p:nvPr/>
        </p:nvPicPr>
        <p:blipFill>
          <a:blip r:embed="rId4"/>
          <a:stretch/>
        </p:blipFill>
        <p:spPr>
          <a:xfrm>
            <a:off x="5446800" y="474840"/>
            <a:ext cx="3333600" cy="405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2195640" y="5562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парках страны советов стояла скульптура "Девушка с веслом". Моделью скульптора Ивана Шадра стала Вера Волоши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Golden Star medal 473.jpg"/>
          <p:cNvPicPr/>
          <p:nvPr/>
        </p:nvPicPr>
        <p:blipFill>
          <a:blip r:embed="rId1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148360" y="5575320"/>
            <a:ext cx="76176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upload.wikimedia.org/wikipedia/commons/thumb/a/a0/Lyudmilapavlichenko.jpg/250px-Lyudmilapavlichenko.jpg"/>
          <p:cNvPicPr/>
          <p:nvPr/>
        </p:nvPicPr>
        <p:blipFill>
          <a:blip r:embed="rId3"/>
          <a:stretch/>
        </p:blipFill>
        <p:spPr>
          <a:xfrm>
            <a:off x="1797120" y="609480"/>
            <a:ext cx="3244680" cy="321948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10" descr="http://pravda-team.ru/pravda/image/article/5/3/2/265532.jpeg"/>
          <p:cNvPicPr/>
          <p:nvPr/>
        </p:nvPicPr>
        <p:blipFill>
          <a:blip r:embed="rId4"/>
          <a:stretch/>
        </p:blipFill>
        <p:spPr>
          <a:xfrm>
            <a:off x="5243400" y="609480"/>
            <a:ext cx="367200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1134720" y="0"/>
            <a:ext cx="78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мила Михайловна Павличенко (1916-19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1797120" y="393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айпер 25-й Чапаевской стрелковой дивизии, майор, 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1908000" y="4886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жесточённых боях уничтожила 309 солдат и офицеров противника, одна - почти целый батальон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6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юбовь Михайловна Макаров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OrderOfGlory1stClass.png"/>
          <p:cNvPicPr/>
          <p:nvPr/>
        </p:nvPicPr>
        <p:blipFill>
          <a:blip r:embed="rId1"/>
          <a:stretch/>
        </p:blipFill>
        <p:spPr>
          <a:xfrm>
            <a:off x="6095880" y="4433760"/>
            <a:ext cx="1428840" cy="167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Order of Glory.jpg"/>
          <p:cNvPicPr/>
          <p:nvPr/>
        </p:nvPicPr>
        <p:blipFill>
          <a:blip r:embed="rId2"/>
          <a:stretch/>
        </p:blipFill>
        <p:spPr>
          <a:xfrm>
            <a:off x="7524720" y="4433760"/>
            <a:ext cx="1428840" cy="1662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http://forumishka.net/attachments/sssr-i-vov/13830d1299604639-jenshiny-velikoi-otechestvennoi-voiny-0296-33xotlu5pri8s8ogs0s80w800-ejcuplo1l0oo0sk8c40s8osc4-th-jpeg"/>
          <p:cNvPicPr/>
          <p:nvPr/>
        </p:nvPicPr>
        <p:blipFill>
          <a:blip r:embed="rId3"/>
          <a:stretch/>
        </p:blipFill>
        <p:spPr>
          <a:xfrm>
            <a:off x="1941480" y="514440"/>
            <a:ext cx="3444840" cy="36115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908000" y="4530600"/>
            <a:ext cx="43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йпер 3-й ударной армии 2-го Прибалтийского фронта гвардии сержан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личном счету сержанта Макаровой 84 уничтоженных гитлеров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2195640" y="62118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фронтовой жизни посвящена книга К. Лапина «Девушка с винтовко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&amp;Lcy;.&amp;Mcy;.&amp;Mcy;&amp;acy;&amp;kcy;&amp;acy;&amp;rcy;&amp;ocy;&amp;vcy;&amp;acy;."/>
          <p:cNvPicPr/>
          <p:nvPr/>
        </p:nvPicPr>
        <p:blipFill>
          <a:blip r:embed="rId4"/>
          <a:stretch/>
        </p:blipFill>
        <p:spPr>
          <a:xfrm>
            <a:off x="5796000" y="514440"/>
            <a:ext cx="24732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http://forumishka.net/attachments/sssr-i-vov/13822d1299603614-jenshiny-velikoi-otechestvennoi-voiny-839462-9bnqous678084so8gkos0ok88-ejcuplo1l0oo0sk8c40s8osc4-th-jpeg"/>
          <p:cNvPicPr/>
          <p:nvPr/>
        </p:nvPicPr>
        <p:blipFill>
          <a:blip r:embed="rId1"/>
          <a:stretch/>
        </p:blipFill>
        <p:spPr>
          <a:xfrm>
            <a:off x="1403280" y="608040"/>
            <a:ext cx="3600360" cy="396072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13446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748520" y="-98280"/>
            <a:ext cx="67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вдокия Григорьевна Мотин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&amp;IEcy;&amp;vcy;&amp;dcy;&amp;ocy;&amp;kcy;&amp;icy;&amp;yacy; &amp;Mcy;&amp;ocy;&amp;tcy;&amp;icy;&amp;ncy;&amp;acy;"/>
          <p:cNvPicPr/>
          <p:nvPr/>
        </p:nvPicPr>
        <p:blipFill>
          <a:blip r:embed="rId2"/>
          <a:stretch/>
        </p:blipFill>
        <p:spPr>
          <a:xfrm>
            <a:off x="5148360" y="609480"/>
            <a:ext cx="3995640" cy="3961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9"/>
          <p:cNvSpPr/>
          <p:nvPr/>
        </p:nvSpPr>
        <p:spPr>
          <a:xfrm>
            <a:off x="1908000" y="49878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йпер 21-й гвардейской дивизии гвардии сержан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докия Мотина была награждена орденом Крас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ени  осенью 1943 года за участие в Невельс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упательной оп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11" descr="Order of the Red Banner.png"/>
          <p:cNvPicPr/>
          <p:nvPr/>
        </p:nvPicPr>
        <p:blipFill>
          <a:blip r:embed="rId3"/>
          <a:stretch/>
        </p:blipFill>
        <p:spPr>
          <a:xfrm>
            <a:off x="7634160" y="4797360"/>
            <a:ext cx="12258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http://forumishka.net/attachments/sssr-i-vov/13826d1299603614-jenshiny-velikoi-otechestvennoi-voiny-839462-9bnqous678084so8gkos0ok88-ejcuplo1l0oo0sk8c40s8osc4-th-jpeg"/>
          <p:cNvPicPr/>
          <p:nvPr/>
        </p:nvPicPr>
        <p:blipFill>
          <a:blip r:embed="rId1"/>
          <a:stretch/>
        </p:blipFill>
        <p:spPr>
          <a:xfrm>
            <a:off x="1747800" y="584280"/>
            <a:ext cx="7362720" cy="39988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1908000" y="4724280"/>
            <a:ext cx="7648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тские летчицы из женского 46-го гвардейского ночного бомбардировочного авиаполка, Герои Советского Союза Руфина Гашева (слева) и Наталья Меклин у самолетов По-2. Одни и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х  результативных летчиков советской военной авиации по боевым вылета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648960" y="11592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Ночные ведь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Kravcova nataliya.jpg"/>
          <p:cNvPicPr/>
          <p:nvPr/>
        </p:nvPicPr>
        <p:blipFill>
          <a:blip r:embed="rId1"/>
          <a:stretch/>
        </p:blipFill>
        <p:spPr>
          <a:xfrm>
            <a:off x="2303640" y="658800"/>
            <a:ext cx="3168360" cy="40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Golden Star medal 473.jpg"/>
          <p:cNvPicPr/>
          <p:nvPr/>
        </p:nvPicPr>
        <p:blipFill>
          <a:blip r:embed="rId2"/>
          <a:stretch/>
        </p:blipFill>
        <p:spPr>
          <a:xfrm>
            <a:off x="5473800" y="1741320"/>
            <a:ext cx="1692000" cy="1086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Order of Lenin type4.jpg"/>
          <p:cNvPicPr/>
          <p:nvPr/>
        </p:nvPicPr>
        <p:blipFill>
          <a:blip r:embed="rId3"/>
          <a:stretch/>
        </p:blipFill>
        <p:spPr>
          <a:xfrm>
            <a:off x="7240680" y="1746360"/>
            <a:ext cx="79200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Order of the Red Banner.png"/>
          <p:cNvPicPr/>
          <p:nvPr/>
        </p:nvPicPr>
        <p:blipFill>
          <a:blip r:embed="rId4"/>
          <a:stretch/>
        </p:blipFill>
        <p:spPr>
          <a:xfrm>
            <a:off x="8032680" y="1720800"/>
            <a:ext cx="86688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Znakpocheta2.jpg"/>
          <p:cNvPicPr/>
          <p:nvPr/>
        </p:nvPicPr>
        <p:blipFill>
          <a:blip r:embed="rId5"/>
          <a:stretch/>
        </p:blipFill>
        <p:spPr>
          <a:xfrm>
            <a:off x="7888320" y="2973240"/>
            <a:ext cx="8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Order of the Patriotic War (1st class).png"/>
          <p:cNvPicPr/>
          <p:nvPr/>
        </p:nvPicPr>
        <p:blipFill>
          <a:blip r:embed="rId6"/>
          <a:stretch/>
        </p:blipFill>
        <p:spPr>
          <a:xfrm>
            <a:off x="5450040" y="2962440"/>
            <a:ext cx="124776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ZV0053764.jpg"/>
          <p:cNvPicPr/>
          <p:nvPr/>
        </p:nvPicPr>
        <p:blipFill>
          <a:blip r:embed="rId7"/>
          <a:stretch/>
        </p:blipFill>
        <p:spPr>
          <a:xfrm>
            <a:off x="6737400" y="2962440"/>
            <a:ext cx="10555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924560" y="4737240"/>
            <a:ext cx="70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ир звена 46-го гвардейского ночного бомбардирово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иационного полка 325-й ночной бомбардировочной авиацио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визии 4-й воздушной армии 2-го Белорусского фр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ила 980  боевых вылета на бомбардировку важных объектов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лу враг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559440" y="1260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талья Фёдоровна Меклин (1922-20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Gasheva rufina.jpg"/>
          <p:cNvPicPr/>
          <p:nvPr/>
        </p:nvPicPr>
        <p:blipFill>
          <a:blip r:embed="rId1"/>
          <a:stretch/>
        </p:blipFill>
        <p:spPr>
          <a:xfrm>
            <a:off x="2050920" y="711360"/>
            <a:ext cx="2965680" cy="33969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131120" y="0"/>
            <a:ext cx="81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фина Сергеевна Гашева (1921-201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Order of Lenin type4.jpg"/>
          <p:cNvPicPr/>
          <p:nvPr/>
        </p:nvPicPr>
        <p:blipFill>
          <a:blip r:embed="rId2"/>
          <a:stretch/>
        </p:blipFill>
        <p:spPr>
          <a:xfrm>
            <a:off x="7866000" y="2006640"/>
            <a:ext cx="12351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Order of the Red Banner.png"/>
          <p:cNvPicPr/>
          <p:nvPr/>
        </p:nvPicPr>
        <p:blipFill>
          <a:blip r:embed="rId3"/>
          <a:stretch/>
        </p:blipFill>
        <p:spPr>
          <a:xfrm>
            <a:off x="5092560" y="2046240"/>
            <a:ext cx="1428840" cy="141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Order of the Patriotic War (1st class).png"/>
          <p:cNvPicPr/>
          <p:nvPr/>
        </p:nvPicPr>
        <p:blipFill>
          <a:blip r:embed="rId4"/>
          <a:stretch/>
        </p:blipFill>
        <p:spPr>
          <a:xfrm>
            <a:off x="6437160" y="200664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Golden Star medal 473.jpg"/>
          <p:cNvPicPr/>
          <p:nvPr/>
        </p:nvPicPr>
        <p:blipFill>
          <a:blip r:embed="rId5"/>
          <a:stretch/>
        </p:blipFill>
        <p:spPr>
          <a:xfrm>
            <a:off x="6288120" y="549360"/>
            <a:ext cx="1727280" cy="1346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195640" y="4111560"/>
            <a:ext cx="66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урман эскадрильи 46-го гвардейского ночного бомбардировочного авиационного полка 325-й ночной бомбардировочной авиационной дивизии 4-й воздушной армии 2-го Белорусского фронта (получившей название от немцев «Ночные ведьмы»), гвардии старший лейтена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2451240" y="5805360"/>
            <a:ext cx="669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декабрю 1944 года Гашева совершила 848 боевых вылета, нанеся противнику значительный урон в боевой технике и живой силе. Дважды была сбита вражескими зенитч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Георгий Константинович Жу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Zhukov"/>
          <p:cNvPicPr/>
          <p:nvPr/>
        </p:nvPicPr>
        <p:blipFill>
          <a:blip r:embed="rId1"/>
          <a:stretch/>
        </p:blipFill>
        <p:spPr>
          <a:xfrm>
            <a:off x="1928880" y="1857240"/>
            <a:ext cx="2914560" cy="44499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857840" y="1857240"/>
            <a:ext cx="4143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.12.1896-18.6.1974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8.1.1943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упнейший полководец ВОВ. Начальник Генштаба (1941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фронтами, член ставки ВГК, заместитель Главнокомандующего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55-57 - министр обороны ССС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Nadezhda Popova.jpg"/>
          <p:cNvPicPr/>
          <p:nvPr/>
        </p:nvPicPr>
        <p:blipFill>
          <a:blip r:embed="rId1"/>
          <a:stretch/>
        </p:blipFill>
        <p:spPr>
          <a:xfrm>
            <a:off x="2301840" y="1052640"/>
            <a:ext cx="294480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Golden Star medal 473.jpg"/>
          <p:cNvPicPr/>
          <p:nvPr/>
        </p:nvPicPr>
        <p:blipFill>
          <a:blip r:embed="rId2"/>
          <a:stretch/>
        </p:blipFill>
        <p:spPr>
          <a:xfrm>
            <a:off x="2301840" y="5359320"/>
            <a:ext cx="1693800" cy="1085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Order of Lenin type4.jpg"/>
          <p:cNvPicPr/>
          <p:nvPr/>
        </p:nvPicPr>
        <p:blipFill>
          <a:blip r:embed="rId3"/>
          <a:stretch/>
        </p:blipFill>
        <p:spPr>
          <a:xfrm>
            <a:off x="4140360" y="5359320"/>
            <a:ext cx="792000" cy="10857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Order of the Red Banner.png"/>
          <p:cNvPicPr/>
          <p:nvPr/>
        </p:nvPicPr>
        <p:blipFill>
          <a:blip r:embed="rId4"/>
          <a:stretch/>
        </p:blipFill>
        <p:spPr>
          <a:xfrm>
            <a:off x="5016600" y="5369040"/>
            <a:ext cx="866520" cy="1076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Order of the Patriotic War (1st class).png"/>
          <p:cNvPicPr/>
          <p:nvPr/>
        </p:nvPicPr>
        <p:blipFill>
          <a:blip r:embed="rId5"/>
          <a:stretch/>
        </p:blipFill>
        <p:spPr>
          <a:xfrm>
            <a:off x="5915160" y="5310360"/>
            <a:ext cx="124776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2084400" y="4138560"/>
            <a:ext cx="73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годы Великой Отечественной войны совершила 852 боевых вылета. По окончании войны вышла замуж за Героя Советского Союза лётчика-истребителя Харламова С.И. и до 1952 года проходила службу в Вооружённых Силах СССР, уволившись в запас в звании май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5292720" y="1158840"/>
            <a:ext cx="340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командира эскадрильи 46-го гвардейского женского полка ночных бомбардировщиков 4-й Воздушной армии 2-го Белорусского фронта, Герой Советского Союза, гвардии майо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679400" y="18900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дежда Васильевна Поп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Помним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4720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беда в войне – это ликование и скорбь. Время их не приглушает. А мы с вами должны эту память о самой страшной войне, которая коснулась каждой семьи, передавать из поколения в поколение. День Победы был, есть и должен оставаться самым святым праздником. Ведь те, кто заплатил за него своей жизнью, дали нам возможность жить сейчас. Мы обязаны помнить об этом всегда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0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6500880" y="14292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Александр Михайлович Василе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Vasilevsky"/>
          <p:cNvPicPr/>
          <p:nvPr/>
        </p:nvPicPr>
        <p:blipFill>
          <a:blip r:embed="rId1"/>
          <a:stretch/>
        </p:blipFill>
        <p:spPr>
          <a:xfrm>
            <a:off x="1928880" y="1857240"/>
            <a:ext cx="2514600" cy="3286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572000" y="1500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0.9.1895-5.12.1977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6.2.1943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42-4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альник Генштаб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азработал множество блестящих операций. В 1945 командующий 3-м Белорусским фронтом, затем Главком на войне с Японией. В 1949-53 - министр вооруженных сил и военный министр СССР. Дважды кавалер ордена "Победа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Иван Степанович Кон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Konev"/>
          <p:cNvPicPr/>
          <p:nvPr/>
        </p:nvPicPr>
        <p:blipFill>
          <a:blip r:embed="rId1"/>
          <a:stretch/>
        </p:blipFill>
        <p:spPr>
          <a:xfrm>
            <a:off x="2071800" y="1571760"/>
            <a:ext cx="237780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572000" y="157176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8.12.1897-21.5.1973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0.2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армиями и фронтам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1944 - 1-м Украинским фронтом. В 1946-50 и 1955-56 главком сухопутных войск; в 1956-60 главком ОВС Варшавского договора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Леонид Александрович Гов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Govorov"/>
          <p:cNvPicPr/>
          <p:nvPr/>
        </p:nvPicPr>
        <p:blipFill>
          <a:blip r:embed="rId1"/>
          <a:stretch/>
        </p:blipFill>
        <p:spPr>
          <a:xfrm>
            <a:off x="2000160" y="1500120"/>
            <a:ext cx="2508480" cy="3436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4572000" y="15001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ы жизн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2.2.1897-19.3.1955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18.6.1944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942 до конца войны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андующий Ленинградским фронт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 войны командовал ПВО (1948-52, 1954-55). Кавалер ордена "Побед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Родион Яковлевич Малин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Malinovsky"/>
          <p:cNvPicPr/>
          <p:nvPr/>
        </p:nvPicPr>
        <p:blipFill>
          <a:blip r:embed="rId1"/>
          <a:stretch/>
        </p:blipFill>
        <p:spPr>
          <a:xfrm>
            <a:off x="2000160" y="1500120"/>
            <a:ext cx="2643120" cy="3749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4714920" y="15001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3.11.1898-31.3.1967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0.9.1944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рмиям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м Украинским фронт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1957-67 министр обороны СССР. Кавалер ордена "Победа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Федор Иванович Толбух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olbukhin"/>
          <p:cNvPicPr/>
          <p:nvPr/>
        </p:nvPicPr>
        <p:blipFill>
          <a:blip r:embed="rId1"/>
          <a:stretch/>
        </p:blipFill>
        <p:spPr>
          <a:xfrm>
            <a:off x="2000160" y="1500120"/>
            <a:ext cx="2533680" cy="3127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572000" y="15001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.6.1894-17.10.1949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2.9.1944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андующ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миями, 4-м, пот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м Украинским фронтом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ска Толбухина освободили Румынию и Болгарию. Кавалер ордена "Побед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Кирилл Афанасьевич Мерец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eretskov"/>
          <p:cNvPicPr/>
          <p:nvPr/>
        </p:nvPicPr>
        <p:blipFill>
          <a:blip r:embed="rId1"/>
          <a:stretch/>
        </p:blipFill>
        <p:spPr>
          <a:xfrm>
            <a:off x="1928880" y="1643040"/>
            <a:ext cx="2432160" cy="3500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4572000" y="171468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7.6.1897-30.12.1968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6.10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финскую войну взял Выборг; один из трёх первых советских генералов армии (1940). В 1940-январе 1941 начальник Генштаба, в июне-сентябре 1941 в заключении; после освобождения командовал Волховским фронтом (1941-1944, с перерывом). С февраля 1944 до конца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Карельским фронто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тем 1-м Дальневосточным фронтом против Японии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Константин Константинович Рокосс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okossovski"/>
          <p:cNvPicPr/>
          <p:nvPr/>
        </p:nvPicPr>
        <p:blipFill>
          <a:blip r:embed="rId1"/>
          <a:stretch/>
        </p:blipFill>
        <p:spPr>
          <a:xfrm>
            <a:off x="1857240" y="1785960"/>
            <a:ext cx="2479680" cy="3905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429080" y="17146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1.12.1896-3.8.1968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29.6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7-40 был в заключении. В ВОВ командующий фронтами, участник Сталинградской и Курской битв. В 1944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. 1-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том 2-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орусским фронт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1949-56 в польской армии; имел звание Маршала Польши,был министром нац. обороны ПНР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HP</cp:lastModifiedBy>
  <dcterms:modified xsi:type="dcterms:W3CDTF">2023-06-21T13:42:57Z</dcterms:modified>
  <cp:revision>54</cp:revision>
  <dc:subject/>
  <dc:title>Слайд 1</dc:title>
</cp:coreProperties>
</file>