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F4CE-7BD6-4B91-803E-1073D5BF29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B75C-7EA4-4EF7-B93E-F4419FD404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2B9-AEBE-4B54-AD61-E2AA98E5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A5E-DF20-402F-AAE1-8CA38C09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4BD-D9CA-43BF-B5A7-D8107382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DE3-A2E2-4EE6-9711-F46D7FC2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91ED-C437-444E-8EFB-A5E39F76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8D00-26F2-4D1D-9364-633D614E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F077-5D04-468C-8EAF-0819613E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394-EFCB-4778-B1CE-EEDCF516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9F5A-E186-4997-B3C0-A1169FEB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FFA6-8ACC-41EB-B992-8DDAFF16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D20F-AAE3-467B-90D2-D1F76BF0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3E4-CF8D-4F59-8FEF-1841B9C3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6511-CF49-4234-82D1-9177B614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FC86-D173-4129-83B5-6EAB24EE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BBBF-988A-4913-B6CF-311DFE0D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5527-3307-4B23-BBEE-D59D6ADD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FA70-E892-40F6-AB56-4A6832E0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A0C-4BAB-4C76-ADBA-1E6BB879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F4F-61E6-40D6-8440-D7218F29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DE6-A66A-44EE-8686-4950FB98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FC1-86D3-4C23-A147-509C548F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CDE-920A-47CA-AC72-2DB68EF0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EDF-B14B-4752-8A63-049C402B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3A7-9142-47B3-8F95-B1495233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40D9-4209-4F53-A5A3-9A7BCDB1CF1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5B91-693F-4E17-8730-56A076B4609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iro.nnov.ru/?id=54704" TargetMode="External"/><Relationship Id="rId2" Type="http://schemas.openxmlformats.org/officeDocument/2006/relationships/hyperlink" Target="http://www.niro.nnov.ru/?id=54128" TargetMode="External"/><Relationship Id="rId3" Type="http://schemas.openxmlformats.org/officeDocument/2006/relationships/hyperlink" Target="http://www.niro.nnov.ru/?id=54127" TargetMode="External"/><Relationship Id="rId4" Type="http://schemas.openxmlformats.org/officeDocument/2006/relationships/hyperlink" Target="http://www.niro.nnov.ru/?id=54126" TargetMode="External"/><Relationship Id="rId5" Type="http://schemas.openxmlformats.org/officeDocument/2006/relationships/hyperlink" Target="http://www.niro.nnov.ru/?id=54125" TargetMode="External"/><Relationship Id="rId6" Type="http://schemas.openxmlformats.org/officeDocument/2006/relationships/hyperlink" Target="http://www.niro.nnov.ru/?id=596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base.garant.ru/70662982/53f89421bbdaf741eb2d1ecc4ddb4c33/#block_1224" TargetMode="External"/><Relationship Id="rId2" Type="http://schemas.openxmlformats.org/officeDocument/2006/relationships/hyperlink" Target="https://base.garant.ru/70662982/53f89421bbdaf741eb2d1ecc4ddb4c33/#block_1225" TargetMode="External"/><Relationship Id="rId3" Type="http://schemas.openxmlformats.org/officeDocument/2006/relationships/hyperlink" Target="https://base.garant.ru/70662982/53f89421bbdaf741eb2d1ecc4ddb4c33/#block_1226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base.garant.ru/70429494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base.garant.ru/70849960/#block_300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e.stvospitatel.ru/npd-doc?npmid=99&amp;npid=499089779&amp;anchor=XA00M4C2MJ#XA00M4C2MJ" TargetMode="External"/><Relationship Id="rId2" Type="http://schemas.openxmlformats.org/officeDocument/2006/relationships/hyperlink" Target="https://e.stvospitatel.ru/npd-doc?npmid=99&amp;npid=499089779&amp;anchor=XA00M3Q2MG#XA00M3Q2M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d13102.edu35.ru/images/slide_1.jpg"/>
          <p:cNvPicPr/>
          <p:nvPr/>
        </p:nvPicPr>
        <p:blipFill>
          <a:blip r:embed="rId1"/>
          <a:srcRect l="0" t="0" r="0" b="9501"/>
          <a:stretch/>
        </p:blipFill>
        <p:spPr>
          <a:xfrm>
            <a:off x="395280" y="333360"/>
            <a:ext cx="85168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85760" y="46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шибка 5. Воспитатель формально включает в портфолио педтехнолог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77760" y="372960"/>
            <a:ext cx="9145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от нас требуют педтехнологии..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..Ладно, пусть будет у меня... технология занятий «Форум»: дети сидят в кругу и изучают новое в дискуссиях. Напишу так, и хвати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30240" y="1052640"/>
            <a:ext cx="89326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 категория  воспитатели должны включать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вторские педагогические технолог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бы педагоги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 только придумали что-то новое для образования, но и активно применяли свои разработ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дагог описывает педтехнологию, но в других блоках, например, о результативности детей, о ней ничего не пишет, эксперты снижают баллы  , потому что не могут отследить работу с педтехнологие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, как педагог работает по своей педтехнологии, нужна демонстрация  этой технологии  и на  заня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185760" y="2646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шибка 6. Воспитатель репетирует открытые занятия с деть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85760" y="3573360"/>
            <a:ext cx="8777160" cy="1310760"/>
          </a:xfrm>
          <a:prstGeom prst="rect">
            <a:avLst/>
          </a:prstGeom>
          <a:solidFill>
            <a:srgbClr val="ffffff"/>
          </a:solidFill>
          <a:ln w="28440">
            <a:solidFill>
              <a:srgbClr val="e68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а старшего воспитател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мотивировать педагогов пройти аттестацию на категор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им избежать ошиб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готовиться в межаттестационный период, а не  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 месяц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 аттеста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грамотно составить портфоли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овать   педагогическую  разработку   (презентацию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2843280" y="998640"/>
            <a:ext cx="5473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Согласие на обработку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Таблицы для подачи документов на аттест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Таблица для подачи результатов аттестации на первую категорию для МО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Бланк за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График приема документов в 2022-2023 учебно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340000" y="444600"/>
            <a:ext cx="67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6"/>
              </a:rPr>
              <a:t>Центр организационно-методического сопровождения аттест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278440" y="10944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БОУ ДПО НИР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Нижегородский институт развития образования - лауреат конкурса «Лучшие учебные центры Российской Федерации»"/>
          <p:cNvPicPr/>
          <p:nvPr/>
        </p:nvPicPr>
        <p:blipFill>
          <a:blip r:embed="rId7"/>
          <a:stretch/>
        </p:blipFill>
        <p:spPr>
          <a:xfrm>
            <a:off x="146160" y="79200"/>
            <a:ext cx="2315880" cy="1176480"/>
          </a:xfrm>
          <a:prstGeom prst="rect">
            <a:avLst/>
          </a:prstGeom>
          <a:ln w="0">
            <a:noFill/>
          </a:ln>
        </p:spPr>
      </p:pic>
      <p:sp>
        <p:nvSpPr>
          <p:cNvPr id="101" name="Стрелка вниз 10"/>
          <p:cNvSpPr/>
          <p:nvPr/>
        </p:nvSpPr>
        <p:spPr>
          <a:xfrm>
            <a:off x="4165560" y="912960"/>
            <a:ext cx="335160" cy="169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076b4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8"/>
          <a:srcRect l="42131" t="10232" r="20636" b="2599"/>
          <a:stretch/>
        </p:blipFill>
        <p:spPr>
          <a:xfrm>
            <a:off x="225360" y="1224000"/>
            <a:ext cx="2201760" cy="290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9"/>
          <a:srcRect l="41199" t="10362" r="20736" b="4479"/>
          <a:stretch/>
        </p:blipFill>
        <p:spPr>
          <a:xfrm>
            <a:off x="84240" y="3402000"/>
            <a:ext cx="2700360" cy="34005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7"/>
          <p:cNvSpPr/>
          <p:nvPr/>
        </p:nvSpPr>
        <p:spPr>
          <a:xfrm>
            <a:off x="2984040" y="3811680"/>
            <a:ext cx="318744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 педагогического работн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986920" y="4586400"/>
            <a:ext cx="136044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4987800" y="4541760"/>
            <a:ext cx="385632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6389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х достижений профессиональной деятельности аттестуем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994280" y="5264280"/>
            <a:ext cx="143964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e68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Двойная стрелка влево/вверх 13"/>
          <p:cNvSpPr/>
          <p:nvPr/>
        </p:nvSpPr>
        <p:spPr>
          <a:xfrm rot="9249600">
            <a:off x="4478400" y="4849200"/>
            <a:ext cx="457200" cy="431640"/>
          </a:xfrm>
          <a:custGeom>
            <a:avLst/>
            <a:gdLst/>
            <a:ahLst/>
            <a:rect l="l" t="t" r="r" b="b"/>
            <a:pathLst>
              <a:path w="457200" h="431800">
                <a:moveTo>
                  <a:pt x="0" y="323850"/>
                </a:moveTo>
                <a:lnTo>
                  <a:pt x="107950" y="215900"/>
                </a:lnTo>
                <a:lnTo>
                  <a:pt x="107950" y="269875"/>
                </a:lnTo>
                <a:lnTo>
                  <a:pt x="295275" y="269875"/>
                </a:lnTo>
                <a:lnTo>
                  <a:pt x="295275" y="107950"/>
                </a:lnTo>
                <a:lnTo>
                  <a:pt x="241300" y="107950"/>
                </a:lnTo>
                <a:lnTo>
                  <a:pt x="349250" y="0"/>
                </a:lnTo>
                <a:lnTo>
                  <a:pt x="457200" y="107950"/>
                </a:lnTo>
                <a:lnTo>
                  <a:pt x="403225" y="107950"/>
                </a:lnTo>
                <a:lnTo>
                  <a:pt x="403225" y="377825"/>
                </a:lnTo>
                <a:lnTo>
                  <a:pt x="107950" y="377825"/>
                </a:lnTo>
                <a:lnTo>
                  <a:pt x="107950" y="431800"/>
                </a:lnTo>
                <a:lnTo>
                  <a:pt x="0" y="323850"/>
                </a:lnTo>
                <a:close/>
              </a:path>
            </a:pathLst>
          </a:custGeom>
          <a:solidFill>
            <a:srgbClr val="6076b4"/>
          </a:solidFill>
          <a:ln w="28440">
            <a:solidFill>
              <a:srgbClr val="4455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20"/>
          <p:cNvSpPr/>
          <p:nvPr/>
        </p:nvSpPr>
        <p:spPr>
          <a:xfrm>
            <a:off x="6732360" y="3816360"/>
            <a:ext cx="239220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ое тес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6322320" y="3784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2700360" y="2997360"/>
            <a:ext cx="59403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проведению компьютерного тест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станционной форме(правила ввода ответов на задания открытого тип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2652840" y="2014560"/>
            <a:ext cx="603540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84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оценке профессиональной деятельности педагогических работников в целях установления квалификационной категории на основе результатов их рабо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2784600" y="6148440"/>
            <a:ext cx="631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квалификационная категория – от 70 до 79 баллов (70% и боле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квалификационная категория – от 80 до 100 баллов (80% и боле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15917" t="16689" r="50002" b="6940"/>
          <a:stretch/>
        </p:blipFill>
        <p:spPr>
          <a:xfrm>
            <a:off x="108000" y="907920"/>
            <a:ext cx="4776840" cy="6021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108000" y="115920"/>
            <a:ext cx="88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на аттестацию подается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и месяца (90 дней) до окончания срока действия квалификационной категор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rcRect l="19593" t="16668" r="50002" b="6054"/>
          <a:stretch/>
        </p:blipFill>
        <p:spPr>
          <a:xfrm>
            <a:off x="2771640" y="650880"/>
            <a:ext cx="4392720" cy="6278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rcRect l="17449" t="18117" r="50919" b="6782"/>
          <a:stretch/>
        </p:blipFill>
        <p:spPr>
          <a:xfrm>
            <a:off x="4643280" y="595440"/>
            <a:ext cx="477684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49320" y="2023920"/>
            <a:ext cx="9018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тестац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х работников в целях подтверждения  СЗД   1 раз в 5 л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оценки их профессиональной деятельности аттестационными комиссиями, самостоятельно формируемыми организациями (далее - аттестационная комиссия организации)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Аттестацию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подтверждения  СЗД   не проходят следующие педагогические работн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дагогические работники, имеющие квалификационные категор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работавшие в занимаемой должности менее двух лет в организации, в которой проводится аттестац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беременные женщин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, находящиеся в отпуске по беременности и рода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находящиеся в отпуске по уходу за ребенком до достижения им возраста трех ле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е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овавшие на рабочем месте более четырех месяцев подряд в связи с заболевани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дагогических работников, предусмотренных 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1"/>
              </a:rPr>
              <a:t>подпунктами "г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2"/>
              </a:rPr>
              <a:t>"д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стоящего пункта, возможна не ранее чем через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ва года после их выхода из указанных отпуск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дагогических работников, предусмотренных 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3"/>
              </a:rPr>
              <a:t>подпунктом "е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настоящего пункта, возможна не ране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м через год после их выхода на рабо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31760" y="115920"/>
            <a:ext cx="88520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на аттестацию подается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и месяца (90 дней) до окончания срока действия квалификационной катего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, которые имели прежде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ую категор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гут аттестоваться на высшую категорию независимо от того, был перерыв в аттестации или 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омн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документы в папке должны быть за период             между аттестациями (но не более 5 л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ttp://school.cfkis.spb.ru/uploads/images/%D0%9D%D0%BE%D0%B2%D0%BE%D1%81%D1%82%D0%B8/c7a88b0f40f1.jpg"/>
          <p:cNvPicPr/>
          <p:nvPr/>
        </p:nvPicPr>
        <p:blipFill>
          <a:blip r:embed="rId4"/>
          <a:stretch/>
        </p:blipFill>
        <p:spPr>
          <a:xfrm>
            <a:off x="8332920" y="1231920"/>
            <a:ext cx="5428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108000" y="115920"/>
            <a:ext cx="892800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кв. категория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м работникам устанавливается на основ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ьных положительных результатов освоения  ОП по итогам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иторингов, проводимых организаци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ьных положительных результатов освоения обучающимися образовательных программ по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тогам мониторинга системы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водимого в порядке, установленном 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1"/>
              </a:rPr>
              <a:t>постановлени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тельства Российской Федерации от 5 августа 2013 г. N 66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го вклада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овышение качества образования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я методов обучения и воспита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анслирования в педагогических коллективах опыта практических результат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профессиональной деяте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го участ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бот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ических объедине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ГМО ,РЦ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едагогических работников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сшая кв. категор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на основ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(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то же что и в 1 кв. кат)          +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я в олимпиадах, конкурсах, фестивалях, соревнования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го вкла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ышение качества образования, совершенствования методов обучения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я, и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дуктивного использования новых образовательных технолог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анслирова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дагогических коллективах опыта практических результатов своей профессиональной деятельности, в том числе экспериментальной и инновационно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ого участ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методических объединений (ГМО ,РЦ ,Уч. в экпер.  Площ.)  педагогических работников организаций, в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аботке программно-методического сопровождения образовательного процесса, профессиональных конкурс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54000" y="5938920"/>
            <a:ext cx="903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аттестации в целях установления квалификационной категории (первой или высшей) педагогический работник вправе обжаловать в соответствии с законодательством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4"/>
          <p:cNvSpPr/>
          <p:nvPr/>
        </p:nvSpPr>
        <p:spPr>
          <a:xfrm>
            <a:off x="90360" y="44280"/>
            <a:ext cx="901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Аттестация педагогических работников в целях установления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. </a:t>
            </a:r>
            <a:r>
              <a:rPr b="0" lang="ru-RU" sz="14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1"/>
              </a:rPr>
              <a:t>письм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инобрнауки России и Общероссийского Профсоюза образования от 3 декабря 2014 г. N 08-1933/5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90360" y="692280"/>
            <a:ext cx="894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педагогических работников проводится на основании их заявлений, подаваемых непосредственно в аттестационную комисс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явлении о проведении аттестации педагогические работники указывают квалификационные категории и должности, по которым они желают пройти аттест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о проведении аттестации подаются педагогическими работниками независимо от продолжительности работы в организации, в том числе в период нахождения в отпуске по уходу за ребен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о проведении аттестации в целях установлен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ей квалификационно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ии по должности, по которой аттестация будет проводить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первы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ются педагогическими работникам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ранее чем через два г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становления по этой должности первой квалификационной категор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а действи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ей  ка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граничивает право педагогического работника впоследствии обращаться в аттестационную комиссию с заявлением о проведении его аттестации в целях установлени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шей квалификационной категории по той же дол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педагогических работников о проведении аттестации рассматриваются аттестационными комиссиями в срок не более 30 календарных дней со дня их получения, в течение которо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3"/>
          <p:cNvSpPr/>
          <p:nvPr/>
        </p:nvSpPr>
        <p:spPr>
          <a:xfrm>
            <a:off x="900000" y="104760"/>
            <a:ext cx="59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шибка 1. Воспитатель боится аттесто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84240" y="474840"/>
            <a:ext cx="9097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В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портфоли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может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казать достижения в разных профессиональных областях и в разных форматах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документы педагогам помогут ответственные за организацию аттест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детском саду это старшие воспитател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ть заявлени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 образцу и 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готовить портфоли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овать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в портфолио   поможет старший воспитател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н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 свою профессиональную деятельность и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материа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 высшую категорию – разработать и внедрить педтехнолог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0" y="2782800"/>
            <a:ext cx="896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Готовиться к аттестации педагогу нуж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имум три год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может  собрать полноценное портфолио, а также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 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ить педтехнологи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оваться на одну и ту же категорию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жно раз в год – не чащ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1"/>
              </a:rPr>
              <a:t>п. 4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рядка аттестации, утв. приказом Минобрнауки от 07.04.2014 № 276, далее – Порядок аттестации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ую категорию впервы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минимум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рез два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того, как педагог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получит первую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. 30 Порядка аттестаци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сли комиссия откажется присвоить высшую категор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 может в тот же день подать заявление о присвоении первой или она продолжит действовать до конца срок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ea typeface="Times New Roman"/>
                <a:hlinkClick r:id="rId2"/>
              </a:rPr>
              <a:t>п. 4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рядка аттестации, ответ на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4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азъяснений по применению Порядка аттестации, направленный письмом Минобрнауки России от 03.12.2014 № 08-1933/505, далее – Разъяснения Порядка аттестации). Зато присваивают категории на пять лет 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. 2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рядка аттестации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 категории положены надбавки к зарплате 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бз. 7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. 3 Порядка аттестации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1042920" y="842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шибка 2. Воспитатель хочет подготовиться к аттестации за 2–3 меся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185760" y="333360"/>
            <a:ext cx="9061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этом году у меня заканчивается срок действия категор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Подожду,  заявления начнут принимать (за 3  месяца), а там быстро все соберу – хорошо, что компьютеры нигде не меняли и вроде я ничего не удаля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44280" y="1193760"/>
            <a:ext cx="895536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  текущей   папки  ПОРФОЛИО педагогов быстрее сформируют портфолио перед аттестацией – не придется тратить время на поис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ся к аттестации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 два-три месяца нереально !!!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Palatino Linotype"/>
              </a:rPr>
              <a:t>За 2–3 месяца до аттестации педагог не наберет столько выступлений разного уровн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) за такой короткий срок педагоги не могут собрать все необходимые докумен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Кто-то не сохранил документы в печатном виде, и их нужно заново набира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 кого-то электронные сертификаты хранились на  сервисах, доступ к которым закончилс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Часто подводит техника: пропадают электронные документы, пособия, планы работы, конспекты занят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третьих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ам нужно сначала наработать свой опы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 только потом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лять его профессиональной аудитор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если педагоги успешно аттестовались на первую категорию, они могут только первый год или два не думать о следующей аттеста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дагоги захотят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тверди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ысить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имум за три г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 аттестации им нужно подумать, какие новые результаты своей деятельности они представя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114480" y="4594320"/>
            <a:ext cx="90295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о формировать базу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ортфолио постепенно: добавлять новые сертификаты, материалы , грамоты , планы   и др.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 общей папки материалов педагоги быстрее сформируют портфолио перед аттестацией – не придется тратить время на поиск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1116000" y="302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шибка 3. Воспитатель добавляет в портфолио все под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7640" y="333360"/>
            <a:ext cx="903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спитатели включают в портфолио все  курсы,  вебинары, которые прослушали, семинары, которые посетили.  Однако комиссия обычно не засчитывает все дипломы и сертификаты 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висит от 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ионального регламента аттест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( см. требования сайт НИРО 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полнить портфолио тем, что принесет баллы, педагогам вместе с методистами нужно изучить региональные треб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30240" y="1355760"/>
            <a:ext cx="8886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остижения нужно подтверждат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спитатель проводит семинары, в портфолио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ужны документы организатор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ы участников с печать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дагог публикует материалы, обязательно получить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 публик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ть материалы педагог может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 персональной странице детского са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 личном сайт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 это приносит меньше баллов, чем публикации в изданиях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п. 3.3.4, 3.3.5 Экспертного 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люч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 уровне квалификации воспитателя ДОО МО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о: страница в соцсети – это не личный сайт педагог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47520" y="3171960"/>
            <a:ext cx="90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Ошибка 4. Воспитатель собирает в портфолио материалы так, чтобы пройти порог по балл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30240" y="3616200"/>
            <a:ext cx="8894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спешно аттестоваться на квалификационную категорию, педагогу надо набрать определенное количество баллов – от 70 % до 80%   -1  кв.категория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80% - 100%  Высшая кв. категория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 педагогам  не стоит ограничиваться минимальным порогом балл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при предварительном подсчете за счет материалов получить хотя бы на 25–30 процентов баллов больше минимального порог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ероятность, что эксперты сочтут какие-то материалы неподходящими и не засчитают и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более для аттестации важны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пехи за последние пять л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3T11:15:51Z</dcterms:created>
  <dc:creator>User</dc:creator>
  <dc:description/>
  <dc:language>en-US</dc:language>
  <cp:lastModifiedBy>User</cp:lastModifiedBy>
  <dcterms:modified xsi:type="dcterms:W3CDTF">2023-06-21T06:45:48Z</dcterms:modified>
  <cp:revision>22</cp:revision>
  <dc:subject/>
  <dc:title>Презентация PowerPoint</dc:title>
</cp:coreProperties>
</file>