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DB4-96DE-4EB7-A414-6F7B493E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93E-33E0-4321-918B-841AF02A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2ED-D8C5-407B-A89F-A60C6E58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A90-00FE-48C4-A712-74F202F0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CDC-E249-4513-87A0-A0905915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ADE-1C6D-4C3B-97D0-F8EF9CEF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AE4-9920-4775-AF26-3508E721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A31-25C9-4A2C-9C45-1C5876C2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575-D291-426E-99D9-90948C6C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C704-D900-4166-AF0B-004ECA29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467-3430-4710-B9B3-F28CF87A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B8B-02AA-44AD-9E52-25E20E39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07DB-A53F-4EA3-BF2C-9529038DE5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716360" y="682560"/>
            <a:ext cx="3714840" cy="49532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1477080" y="682560"/>
            <a:ext cx="2992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Терещ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асил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ван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755640" y="525600"/>
            <a:ext cx="756144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дедушка моей мамы был участником Великой Отечественной войны.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рещенко Василий Иванович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так его звали, родился 2 мая 1909 года в городе Морозовск Ростовской области. Его родители погибли в Гражданскую войну, и он воспитывался в детском доме, прадедушка был очень целеустремленный: хорошо учился и поступил в сельскохозяйственный институт, до войны он работал агрономом. В 1941 году, когда началась война, прадедушка ушел на фронт, дома у него остались жена и трое сынов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http://xn----7sbbaa7bunhkipgo5n.xn--p1ai/images/2021/7/004.jpg"/>
          <p:cNvPicPr/>
          <p:nvPr/>
        </p:nvPicPr>
        <p:blipFill>
          <a:blip r:embed="rId1"/>
          <a:stretch/>
        </p:blipFill>
        <p:spPr>
          <a:xfrm>
            <a:off x="5435640" y="4373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971640" y="507960"/>
            <a:ext cx="75610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асилий Иванович храбро сражался в составе 5- го Донского кавалерийского корпуса в звании гвардии старшего лейтенанта. За проявленные мужество и героизм награжден Орденом Отечественной войны 2 степени и Орденом Красной Звезды, а также медалями за отвагу. Великую победу встретил на территории Венгрии. После войны вернулся к мирной жизни и прошел путь от рядового агронома до директора зернового совхоза. Он растил хлеб , необходимый Родине. Мне хочется поблагодарить прадедушку за Победу за наше мирное неб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https://atributia.ru/upload/iblock/86b/86b5c907308fbb90d138a4cb8da55335.jpg"/>
          <p:cNvPicPr/>
          <p:nvPr/>
        </p:nvPicPr>
        <p:blipFill>
          <a:blip r:embed="rId1"/>
          <a:stretch/>
        </p:blipFill>
        <p:spPr>
          <a:xfrm>
            <a:off x="3492360" y="4408560"/>
            <a:ext cx="1897200" cy="1758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s://topwar.ru/uploads/posts/2013-12/1387857531_orden-krasnoy-zvezdy-3-a.jpg"/>
          <p:cNvPicPr/>
          <p:nvPr/>
        </p:nvPicPr>
        <p:blipFill>
          <a:blip r:embed="rId2"/>
          <a:stretch/>
        </p:blipFill>
        <p:spPr>
          <a:xfrm>
            <a:off x="6227640" y="4438800"/>
            <a:ext cx="17877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mily</dc:creator>
  <dc:description/>
  <dc:language>en-US</dc:language>
  <cp:lastModifiedBy>Family</cp:lastModifiedBy>
  <dcterms:modified xsi:type="dcterms:W3CDTF">2023-04-22T02:49:59Z</dcterms:modified>
  <cp:revision>9</cp:revision>
  <dc:subject/>
  <dc:title>Слайд 1</dc:title>
</cp:coreProperties>
</file>