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5EA8-BDED-4746-B518-FA375A2A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DFBC-765D-48E6-8CFC-9927BEF8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617A-396B-4065-A500-739B28AC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2BC9-4FA8-49C4-80D9-9F849871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2B6-8D0A-4C8D-88E4-9617A77D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CF3B-5DF3-4FBD-9C8C-91B8D66F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1E21-ADCF-4068-9ACE-B39CB624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8315-5A4C-43F7-9833-CA1960E7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BCEA-01BC-4C03-B929-0AC94085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5A7A-F3A6-4DA7-B3A6-A5EE6999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F716-3897-498B-9222-FAC5A965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E1CB-FA6C-4D49-A35C-38C6CFBD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2A12-8D49-41A1-8024-CE26608443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4716360" y="682560"/>
            <a:ext cx="3714840" cy="49532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1"/>
          <p:cNvSpPr/>
          <p:nvPr/>
        </p:nvSpPr>
        <p:spPr>
          <a:xfrm>
            <a:off x="1477080" y="682560"/>
            <a:ext cx="2992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Терещ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асил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ван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755640" y="525600"/>
            <a:ext cx="756144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дедушка моей мамы был участником Великой Отечественной войны.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Терещенко Василий Иванович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, так его звали, родился 2 мая 1909 года в городе Морозовск Ростовской области. Его родители погибли в Гражданскую войну, и он воспитывался в детском доме, прадедушка был очень целеустремленный: хорошо учился и поступил в сельскохозяйственный институт, до войны он работал агрономом. В 1941 году, когда началась война, прадедушка ушел на фронт, дома у него остались жена и трое сынов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http://xn----7sbbaa7bunhkipgo5n.xn--p1ai/images/2021/7/004.jpg"/>
          <p:cNvPicPr/>
          <p:nvPr/>
        </p:nvPicPr>
        <p:blipFill>
          <a:blip r:embed="rId1"/>
          <a:stretch/>
        </p:blipFill>
        <p:spPr>
          <a:xfrm>
            <a:off x="5435640" y="437364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971640" y="507960"/>
            <a:ext cx="756108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Василий Иванович храбро сражался в составе 5- го Донского кавалерийского корпуса в звании гвардии старшего лейтенанта. За проявленные мужество и героизм награжден Орденом Отечественной войны 2 степени и Орденом Красной Звезды, а также медалями за отвагу. Великую победу встретил на территории Венгрии. После войны вернулся к мирной жизни и прошел путь от рядового агронома до директора зернового совхоза. Он растил хлеб , необходимый Родине. Мне хочется поблагодарить прадедушку за Победу за наше мирное неб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s://atributia.ru/upload/iblock/86b/86b5c907308fbb90d138a4cb8da55335.jpg"/>
          <p:cNvPicPr/>
          <p:nvPr/>
        </p:nvPicPr>
        <p:blipFill>
          <a:blip r:embed="rId1"/>
          <a:stretch/>
        </p:blipFill>
        <p:spPr>
          <a:xfrm>
            <a:off x="3492360" y="4408560"/>
            <a:ext cx="1897200" cy="1758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s://topwar.ru/uploads/posts/2013-12/1387857531_orden-krasnoy-zvezdy-3-a.jpg"/>
          <p:cNvPicPr/>
          <p:nvPr/>
        </p:nvPicPr>
        <p:blipFill>
          <a:blip r:embed="rId2"/>
          <a:stretch/>
        </p:blipFill>
        <p:spPr>
          <a:xfrm>
            <a:off x="6227640" y="4438800"/>
            <a:ext cx="17877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amily</dc:creator>
  <dc:description/>
  <dc:language>en-US</dc:language>
  <cp:lastModifiedBy>Family</cp:lastModifiedBy>
  <dcterms:modified xsi:type="dcterms:W3CDTF">2023-04-22T02:49:59Z</dcterms:modified>
  <cp:revision>9</cp:revision>
  <dc:subject/>
  <dc:title>Слайд 1</dc:title>
</cp:coreProperties>
</file>