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DDC5-BF4A-4924-991D-0414B8B91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8B8F-60F0-41E0-9929-EE91AEBE7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DB93-FDFF-4F4E-A339-0E8EF6FB79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40AE-4275-41BB-B0FF-A8D6DE13E7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2CB8-381C-40A6-9A6D-86C18ECD77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693-7A79-42C7-810A-D08FF7A5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A9E-0FFE-441D-806F-7EB220E0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D1C-D4DA-41EA-9650-93747BFC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8A7-7323-4BB6-8797-EA1EABA9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414-4349-4C8F-81EB-44F87540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592-4DE4-4153-9A45-64CD70ED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C36-0B24-4654-823B-22DB0DCF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AF7-EBF9-4A8D-AA5E-199AF8E5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FCC-C806-4996-A958-F93D6C7D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A56-FAE1-48ED-9949-8DED162A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69D-0D85-4C31-8A66-7AD92B36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12B-3770-4687-A5E0-07FB5AFB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0193-1ADD-4077-9EE3-17221E8C8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10080" y="158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Организация биосферы Построй дом своими руками!"/>
          <p:cNvPicPr/>
          <p:nvPr/>
        </p:nvPicPr>
        <p:blipFill>
          <a:blip r:embed="rId1"/>
          <a:stretch/>
        </p:blipFill>
        <p:spPr>
          <a:xfrm>
            <a:off x="2425680" y="3346560"/>
            <a:ext cx="4492800" cy="3157560"/>
          </a:xfrm>
          <a:prstGeom prst="rect">
            <a:avLst/>
          </a:prstGeom>
          <a:ln w="0">
            <a:noFill/>
          </a:ln>
        </p:spPr>
      </p:pic>
      <p:sp>
        <p:nvSpPr>
          <p:cNvPr id="50" name="Подзаголовок 2"/>
          <p:cNvSpPr/>
          <p:nvPr/>
        </p:nvSpPr>
        <p:spPr>
          <a:xfrm>
            <a:off x="420840" y="398520"/>
            <a:ext cx="8362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Calibri"/>
              </a:rPr>
              <a:t>Государственное бюджетное общеобразовательное   учреждение Самарской области </a:t>
            </a:r>
            <a:br>
              <a:rPr sz="1400"/>
            </a:br>
            <a:r>
              <a:rPr b="1" lang="ru-RU" sz="1400" spc="-1" strike="noStrike">
                <a:solidFill>
                  <a:srgbClr val="222268"/>
                </a:solidFill>
                <a:latin typeface="Calibri"/>
              </a:rPr>
              <a:t> средняя общеобразовательная школа №1 «Образовательный центр»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Calibri"/>
              </a:rPr>
              <a:t>имени 21 армии Вооруженных сил СССР п.г.т. Стройкерамик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2268"/>
                </a:solidFill>
                <a:latin typeface="Calibri"/>
              </a:rPr>
              <a:t>муниципального района Волжский Самар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600" spc="-1" strike="noStrike">
                <a:solidFill>
                  <a:srgbClr val="222268"/>
                </a:solidFill>
                <a:latin typeface="Calibri"/>
              </a:rPr>
              <a:t>структурное подразделение «Детский сад «Солныш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512640" y="1962000"/>
            <a:ext cx="84283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70c0"/>
                </a:solidFill>
                <a:latin typeface="Calibri"/>
              </a:rPr>
              <a:t>«Загрязнения окружающей среды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Загрязнение бытовым мусо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3" descr="1___2014.jpeg"/>
          <p:cNvPicPr/>
          <p:nvPr/>
        </p:nvPicPr>
        <p:blipFill>
          <a:blip r:embed="rId1"/>
          <a:stretch/>
        </p:blipFill>
        <p:spPr>
          <a:xfrm>
            <a:off x="4894200" y="1433520"/>
            <a:ext cx="4249800" cy="27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2355840" y="4200480"/>
            <a:ext cx="3795840" cy="265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247680" y="152712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загрязнение озера Байкал. Вокруг света"/>
          <p:cNvPicPr/>
          <p:nvPr/>
        </p:nvPicPr>
        <p:blipFill>
          <a:blip r:embed="rId1"/>
          <a:stretch/>
        </p:blipFill>
        <p:spPr>
          <a:xfrm>
            <a:off x="755640" y="3068640"/>
            <a:ext cx="5184720" cy="3533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Защита окружающей среды"/>
          <p:cNvPicPr/>
          <p:nvPr/>
        </p:nvPicPr>
        <p:blipFill>
          <a:blip r:embed="rId2"/>
          <a:stretch/>
        </p:blipFill>
        <p:spPr>
          <a:xfrm>
            <a:off x="3780000" y="549360"/>
            <a:ext cx="5100480" cy="3825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Загрязнение и охрана окружающей среды x-Uni"/>
          <p:cNvPicPr/>
          <p:nvPr/>
        </p:nvPicPr>
        <p:blipFill>
          <a:blip r:embed="rId3"/>
          <a:stretch/>
        </p:blipFill>
        <p:spPr>
          <a:xfrm>
            <a:off x="160200" y="189000"/>
            <a:ext cx="44578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Чистота и порядок - дело наших р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665440" y="4094280"/>
            <a:ext cx="3889440" cy="2590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4533840" y="1494000"/>
            <a:ext cx="4281480" cy="2522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0" y="1442880"/>
            <a:ext cx="42768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е бытовым мусо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3" descr="1___2014.jpeg"/>
          <p:cNvPicPr/>
          <p:nvPr/>
        </p:nvPicPr>
        <p:blipFill>
          <a:blip r:embed="rId1"/>
          <a:stretch/>
        </p:blipFill>
        <p:spPr>
          <a:xfrm>
            <a:off x="4857840" y="1628640"/>
            <a:ext cx="4286160" cy="257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268360" y="4292640"/>
            <a:ext cx="3187800" cy="22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539640" y="177480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4"/>
          <a:stretch/>
        </p:blipFill>
        <p:spPr>
          <a:xfrm>
            <a:off x="0" y="-25884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0" y="-75240"/>
            <a:ext cx="4610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ы посмотри на шар </a:t>
            </a:r>
            <a:r>
              <a:rPr b="1" lang="ru-RU" sz="25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земной</a:t>
            </a: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акой прекрасный и родно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уша кричит:  «Тебя  люблю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Я сберегу. Я  сберегу!»</a:t>
            </a:r>
            <a:r>
              <a:rPr b="0" lang="ru-RU" sz="2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7960" y="53352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Проблема загрязнения окружающей среды- одна из угроз человечества. Все страны мира борются с экологическими проблемами. Современные люди не приучены беречь природу, у них отсутствует культура поведения в окружающей среде, поэтому говорить  о вреде, наносимом человеком природе, а также нашему здоровью, важно и акту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200628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рост численности населения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огромные масштабы человеческой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нерациональное использование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901800" y="152280"/>
            <a:ext cx="749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ичины загрязнения окружающей сред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Вода - источник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85756383.jpg"/>
          <p:cNvPicPr/>
          <p:nvPr/>
        </p:nvPicPr>
        <p:blipFill>
          <a:blip r:embed="rId1"/>
          <a:stretch/>
        </p:blipFill>
        <p:spPr>
          <a:xfrm>
            <a:off x="395280" y="1197000"/>
            <a:ext cx="4032360" cy="2550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маринка\проект\мой\море\30.JPG"/>
          <p:cNvPicPr/>
          <p:nvPr/>
        </p:nvPicPr>
        <p:blipFill>
          <a:blip r:embed="rId2"/>
          <a:stretch/>
        </p:blipFill>
        <p:spPr>
          <a:xfrm>
            <a:off x="4500720" y="1197000"/>
            <a:ext cx="4043160" cy="2587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D:\фото\море 2010\DSC05327.JPG"/>
          <p:cNvPicPr/>
          <p:nvPr/>
        </p:nvPicPr>
        <p:blipFill>
          <a:blip r:embed="rId3"/>
          <a:stretch/>
        </p:blipFill>
        <p:spPr>
          <a:xfrm>
            <a:off x="2411280" y="3821040"/>
            <a:ext cx="43214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Загрязнение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3" descr="im_18_ExALRm.jpg"/>
          <p:cNvPicPr/>
          <p:nvPr/>
        </p:nvPicPr>
        <p:blipFill>
          <a:blip r:embed="rId1"/>
          <a:stretch/>
        </p:blipFill>
        <p:spPr>
          <a:xfrm>
            <a:off x="2771640" y="3716280"/>
            <a:ext cx="3384720" cy="253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3601800" cy="240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643280" y="907920"/>
            <a:ext cx="3673800" cy="23986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324000" y="33577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вы нефти в м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788000" y="3357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брос химически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916360" y="63507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Загрязнения берега (мусор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Лес – «легкие нашей плане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3" descr="6676.jpg"/>
          <p:cNvPicPr/>
          <p:nvPr/>
        </p:nvPicPr>
        <p:blipFill>
          <a:blip r:embed="rId1"/>
          <a:stretch/>
        </p:blipFill>
        <p:spPr>
          <a:xfrm>
            <a:off x="4788000" y="3897360"/>
            <a:ext cx="3578040" cy="268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D:\маринка\проект\мой\лес\513019.JPG"/>
          <p:cNvPicPr/>
          <p:nvPr/>
        </p:nvPicPr>
        <p:blipFill>
          <a:blip r:embed="rId2"/>
          <a:stretch/>
        </p:blipFill>
        <p:spPr>
          <a:xfrm>
            <a:off x="684360" y="4005360"/>
            <a:ext cx="3817800" cy="255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маринка\проект\мой\лес\GetImage.jpeg"/>
          <p:cNvPicPr/>
          <p:nvPr/>
        </p:nvPicPr>
        <p:blipFill>
          <a:blip r:embed="rId3"/>
          <a:stretch/>
        </p:blipFill>
        <p:spPr>
          <a:xfrm>
            <a:off x="4788000" y="1484280"/>
            <a:ext cx="3585960" cy="23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D:\маринка\проект\мой\лес\0_67c1d_a9299e50_XL.jpeg"/>
          <p:cNvPicPr/>
          <p:nvPr/>
        </p:nvPicPr>
        <p:blipFill>
          <a:blip r:embed="rId4"/>
          <a:stretch/>
        </p:blipFill>
        <p:spPr>
          <a:xfrm>
            <a:off x="611280" y="1424160"/>
            <a:ext cx="3889440" cy="24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80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Экологические беды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маринка\проект\мой\лес\6078.jpg"/>
          <p:cNvPicPr/>
          <p:nvPr/>
        </p:nvPicPr>
        <p:blipFill>
          <a:blip r:embed="rId1"/>
          <a:stretch/>
        </p:blipFill>
        <p:spPr>
          <a:xfrm>
            <a:off x="611280" y="1062000"/>
            <a:ext cx="330336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аринка\проект\мой\лес\post_3_12951640822457.jpg"/>
          <p:cNvPicPr/>
          <p:nvPr/>
        </p:nvPicPr>
        <p:blipFill>
          <a:blip r:embed="rId2"/>
          <a:stretch/>
        </p:blipFill>
        <p:spPr>
          <a:xfrm>
            <a:off x="4716360" y="949320"/>
            <a:ext cx="386892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аринка\проект\мой\лес\86ca44f2fb75.jpg"/>
          <p:cNvPicPr/>
          <p:nvPr/>
        </p:nvPicPr>
        <p:blipFill>
          <a:blip r:embed="rId3"/>
          <a:stretch/>
        </p:blipFill>
        <p:spPr>
          <a:xfrm>
            <a:off x="2598840" y="362412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764280" y="325440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Разведение костров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5003640" y="32446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Захламление мусо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3618720" y="64040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Вырубка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Атмосфера - воздушная оболочка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3" descr="picture76.jpg"/>
          <p:cNvPicPr/>
          <p:nvPr/>
        </p:nvPicPr>
        <p:blipFill>
          <a:blip r:embed="rId1"/>
          <a:stretch/>
        </p:blipFill>
        <p:spPr>
          <a:xfrm>
            <a:off x="468360" y="1557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843280" y="414972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4716360" y="1557360"/>
            <a:ext cx="35290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-360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Загрязнение атмосф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3" descr="POWERN11.jpg"/>
          <p:cNvPicPr/>
          <p:nvPr/>
        </p:nvPicPr>
        <p:blipFill>
          <a:blip r:embed="rId1"/>
          <a:stretch/>
        </p:blipFill>
        <p:spPr>
          <a:xfrm>
            <a:off x="93600" y="765000"/>
            <a:ext cx="3686400" cy="2764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D:\маринка\проект\мой\атмосфера\1316755355_vyhlopnye-gazy.jpg"/>
          <p:cNvPicPr/>
          <p:nvPr/>
        </p:nvPicPr>
        <p:blipFill>
          <a:blip r:embed="rId2"/>
          <a:stretch/>
        </p:blipFill>
        <p:spPr>
          <a:xfrm>
            <a:off x="4551480" y="765000"/>
            <a:ext cx="3692520" cy="27687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4567320" y="3635280"/>
            <a:ext cx="46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ос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лопны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ов автомоби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06200" y="35481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атмосферы заводскими выбро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3484440" y="4005360"/>
            <a:ext cx="2695680" cy="2334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3564000" y="634032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жигание    лис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6:17:09Z</dcterms:created>
  <dc:creator>Наталья</dc:creator>
  <dc:description/>
  <dc:language>en-US</dc:language>
  <cp:lastModifiedBy>Виталий</cp:lastModifiedBy>
  <dcterms:modified xsi:type="dcterms:W3CDTF">2020-04-13T09:50:40Z</dcterms:modified>
  <cp:revision>53</cp:revision>
  <dc:subject/>
  <dc:title>Слайд 1</dc:title>
</cp:coreProperties>
</file>