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BD5-5316-4B7D-A4C6-D626680C2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3A8B-B77B-4757-B19C-EB12BDBD8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F22-A34E-4765-BC0D-D37A6ABB2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DB5D-8746-40F9-8F27-88DFAB1A8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8F3-425A-4BE1-8861-A6C5D2368C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1A-C5C8-4CBD-BA48-C676B245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130-3DF1-43D1-8BF4-BAF8AD4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E48-E982-4730-A5FD-C6033F68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69D-3964-4580-A67A-02EA7249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B59-4813-4127-AA33-D9A73958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F55-AF9F-4EC7-97F5-BA3708B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DCC-9757-4B4D-A307-57DF40C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CEF-0B51-47E2-9DF6-4679656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E9C-B0B9-4F0A-8FFE-80CAD58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780-9A09-4B70-B433-0ECB352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AE2-8EAC-4F90-98F4-25004CB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6C0-1E8A-4711-9637-AB93CA4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FF4-5D07-418B-966E-BFA202368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10080" y="158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Организация биосферы Построй дом своими руками!"/>
          <p:cNvPicPr/>
          <p:nvPr/>
        </p:nvPicPr>
        <p:blipFill>
          <a:blip r:embed="rId1"/>
          <a:stretch/>
        </p:blipFill>
        <p:spPr>
          <a:xfrm>
            <a:off x="2425680" y="3346560"/>
            <a:ext cx="449280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420840" y="398520"/>
            <a:ext cx="836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Государственное бюджетное общеобразовательное   учреждение Сама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 средняя общеобразовательная школа №1 «Образовательный центр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имени 21 армии Вооруженных сил СССР п.г.т. Стройкерамик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муниципального района Волжский Сама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600" spc="-1" strike="noStrike">
                <a:solidFill>
                  <a:srgbClr val="222268"/>
                </a:solidFill>
                <a:latin typeface="Calibri"/>
              </a:rPr>
              <a:t>структурное подразделение «Детский сад «Солныш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12640" y="1962000"/>
            <a:ext cx="8428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Calibri"/>
              </a:rPr>
              <a:t>«Загрязнения окружающей среды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1___2014.jpeg"/>
          <p:cNvPicPr/>
          <p:nvPr/>
        </p:nvPicPr>
        <p:blipFill>
          <a:blip r:embed="rId1"/>
          <a:stretch/>
        </p:blipFill>
        <p:spPr>
          <a:xfrm>
            <a:off x="4894200" y="1433520"/>
            <a:ext cx="42498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355840" y="4200480"/>
            <a:ext cx="3795840" cy="26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47680" y="15271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загрязнение озера Байкал. Вокруг света"/>
          <p:cNvPicPr/>
          <p:nvPr/>
        </p:nvPicPr>
        <p:blipFill>
          <a:blip r:embed="rId1"/>
          <a:stretch/>
        </p:blipFill>
        <p:spPr>
          <a:xfrm>
            <a:off x="755640" y="3068640"/>
            <a:ext cx="5184720" cy="35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Защита окружающей среды"/>
          <p:cNvPicPr/>
          <p:nvPr/>
        </p:nvPicPr>
        <p:blipFill>
          <a:blip r:embed="rId2"/>
          <a:stretch/>
        </p:blipFill>
        <p:spPr>
          <a:xfrm>
            <a:off x="3780000" y="549360"/>
            <a:ext cx="5100480" cy="382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Загрязнение и охрана окружающей среды x-Uni"/>
          <p:cNvPicPr/>
          <p:nvPr/>
        </p:nvPicPr>
        <p:blipFill>
          <a:blip r:embed="rId3"/>
          <a:stretch/>
        </p:blipFill>
        <p:spPr>
          <a:xfrm>
            <a:off x="160200" y="189000"/>
            <a:ext cx="44578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Чистота и порядок - дело наших р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665440" y="4094280"/>
            <a:ext cx="388944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4533840" y="1494000"/>
            <a:ext cx="4281480" cy="252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0" y="1442880"/>
            <a:ext cx="42768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1___2014.jpeg"/>
          <p:cNvPicPr/>
          <p:nvPr/>
        </p:nvPicPr>
        <p:blipFill>
          <a:blip r:embed="rId1"/>
          <a:stretch/>
        </p:blipFill>
        <p:spPr>
          <a:xfrm>
            <a:off x="4857840" y="16286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318780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39640" y="1774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0" y="-258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-75240"/>
            <a:ext cx="4610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ы посмотри на шар </a:t>
            </a:r>
            <a:r>
              <a:rPr b="1" lang="ru-RU" sz="25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земной</a:t>
            </a: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акой прекрасный и род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уша кричит:  «Тебя  люблю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Я сберегу. Я  сберегу!»</a:t>
            </a:r>
            <a:r>
              <a:rPr b="0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7960" y="53352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Проблема загрязнения окружающей среды- одна из угроз человечества. Все страны мира борются с экологическими проблемами. Современные люди не приучены беречь природу, у них отсутствует культура поведения в окружающей среде, поэтому говорить  о вреде, наносимом человеком природе, а также нашему здоровью, важно и акт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рост численности населения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огромные масштабы человеческой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нерациональное использование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901800" y="152280"/>
            <a:ext cx="749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чины загрязнения окружающей сред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Вода - источник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85756383.jpg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255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маринка\проект\мой\море\30.JPG"/>
          <p:cNvPicPr/>
          <p:nvPr/>
        </p:nvPicPr>
        <p:blipFill>
          <a:blip r:embed="rId2"/>
          <a:stretch/>
        </p:blipFill>
        <p:spPr>
          <a:xfrm>
            <a:off x="4500720" y="1197000"/>
            <a:ext cx="4043160" cy="258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фото\море 2010\DSC05327.JPG"/>
          <p:cNvPicPr/>
          <p:nvPr/>
        </p:nvPicPr>
        <p:blipFill>
          <a:blip r:embed="rId3"/>
          <a:stretch/>
        </p:blipFill>
        <p:spPr>
          <a:xfrm>
            <a:off x="2411280" y="3821040"/>
            <a:ext cx="4321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im_18_ExALRm.jpg"/>
          <p:cNvPicPr/>
          <p:nvPr/>
        </p:nvPicPr>
        <p:blipFill>
          <a:blip r:embed="rId1"/>
          <a:stretch/>
        </p:blipFill>
        <p:spPr>
          <a:xfrm>
            <a:off x="2771640" y="3716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601800" cy="240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3673800" cy="2398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324000" y="3357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вы нефти в м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788000" y="3357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брос химически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916360" y="63507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грязнения берега (мусо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Лес – «легкие нашей плане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6676.jpg"/>
          <p:cNvPicPr/>
          <p:nvPr/>
        </p:nvPicPr>
        <p:blipFill>
          <a:blip r:embed="rId1"/>
          <a:stretch/>
        </p:blipFill>
        <p:spPr>
          <a:xfrm>
            <a:off x="4788000" y="3897360"/>
            <a:ext cx="3578040" cy="26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маринка\проект\мой\лес\513019.JPG"/>
          <p:cNvPicPr/>
          <p:nvPr/>
        </p:nvPicPr>
        <p:blipFill>
          <a:blip r:embed="rId2"/>
          <a:stretch/>
        </p:blipFill>
        <p:spPr>
          <a:xfrm>
            <a:off x="684360" y="4005360"/>
            <a:ext cx="3817800" cy="25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аринка\проект\мой\лес\GetImage.jpeg"/>
          <p:cNvPicPr/>
          <p:nvPr/>
        </p:nvPicPr>
        <p:blipFill>
          <a:blip r:embed="rId3"/>
          <a:stretch/>
        </p:blipFill>
        <p:spPr>
          <a:xfrm>
            <a:off x="4788000" y="1484280"/>
            <a:ext cx="358596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аринка\проект\мой\лес\0_67c1d_a9299e50_XL.jpeg"/>
          <p:cNvPicPr/>
          <p:nvPr/>
        </p:nvPicPr>
        <p:blipFill>
          <a:blip r:embed="rId4"/>
          <a:stretch/>
        </p:blipFill>
        <p:spPr>
          <a:xfrm>
            <a:off x="611280" y="1424160"/>
            <a:ext cx="38894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8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Экологические беды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маринка\проект\мой\лес\6078.jpg"/>
          <p:cNvPicPr/>
          <p:nvPr/>
        </p:nvPicPr>
        <p:blipFill>
          <a:blip r:embed="rId1"/>
          <a:stretch/>
        </p:blipFill>
        <p:spPr>
          <a:xfrm>
            <a:off x="611280" y="1062000"/>
            <a:ext cx="330336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аринка\проект\мой\лес\post_3_12951640822457.jpg"/>
          <p:cNvPicPr/>
          <p:nvPr/>
        </p:nvPicPr>
        <p:blipFill>
          <a:blip r:embed="rId2"/>
          <a:stretch/>
        </p:blipFill>
        <p:spPr>
          <a:xfrm>
            <a:off x="4716360" y="949320"/>
            <a:ext cx="386892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аринка\проект\мой\лес\86ca44f2fb75.jpg"/>
          <p:cNvPicPr/>
          <p:nvPr/>
        </p:nvPicPr>
        <p:blipFill>
          <a:blip r:embed="rId3"/>
          <a:stretch/>
        </p:blipFill>
        <p:spPr>
          <a:xfrm>
            <a:off x="2598840" y="362412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764280" y="32544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Разведение костров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003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Захламление мус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618720" y="64040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Атмосфера - воздушная оболочка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picture76.jpg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352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-360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POWERN11.jpg"/>
          <p:cNvPicPr/>
          <p:nvPr/>
        </p:nvPicPr>
        <p:blipFill>
          <a:blip r:embed="rId1"/>
          <a:stretch/>
        </p:blipFill>
        <p:spPr>
          <a:xfrm>
            <a:off x="93600" y="765000"/>
            <a:ext cx="3686400" cy="276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маринка\проект\мой\атмосфера\1316755355_vyhlopnye-gazy.jpg"/>
          <p:cNvPicPr/>
          <p:nvPr/>
        </p:nvPicPr>
        <p:blipFill>
          <a:blip r:embed="rId2"/>
          <a:stretch/>
        </p:blipFill>
        <p:spPr>
          <a:xfrm>
            <a:off x="4551480" y="765000"/>
            <a:ext cx="3692520" cy="2768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567320" y="3635280"/>
            <a:ext cx="46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ос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лоп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в автомоби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6200" y="3548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атмосферы заводскими выбро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3484440" y="4005360"/>
            <a:ext cx="2695680" cy="2334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3564000" y="63403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гание   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6:17:09Z</dcterms:created>
  <dc:creator>Наталья</dc:creator>
  <dc:description/>
  <dc:language>en-US</dc:language>
  <cp:lastModifiedBy>Виталий</cp:lastModifiedBy>
  <dcterms:modified xsi:type="dcterms:W3CDTF">2020-04-13T09:50:40Z</dcterms:modified>
  <cp:revision>53</cp:revision>
  <dc:subject/>
  <dc:title>Слайд 1</dc:title>
</cp:coreProperties>
</file>