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CAA-067C-48CB-97F7-15B11CAE54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6690-5393-4D85-9A13-F0CEB1169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0DAF-4106-4374-B1E7-17FE6961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BD98-488B-462A-A243-F4750C3A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1D76-0DD8-46C2-982F-B13C7A72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79D9-5881-47DC-ACB4-FECE28C0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340-5CDB-4078-8B68-0B5D6DD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8E5-5201-4AF0-B700-78E286A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9029-7EB9-4FF9-B9A6-CDB305D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AC47-1C7E-45EF-BC68-48531C0F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7703-B0D5-47FA-ACF0-F38E8C2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A589-091D-4B6A-9468-F93BF778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CD2E-7881-4B8D-99B1-A2CEFC4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39FE-27B6-4260-88E0-994EC2E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AD68-0749-4D04-9FFE-19FA71A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91D9-32A3-4B86-835E-F35EF8E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7462-4FFD-488F-8D88-FCDF4D2B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4BD9-32B9-4D82-85CF-00189D2C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238A-432A-42E8-A5D2-036C3E61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3598-3E00-4B3B-8253-F1AB7AED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5E90-0936-400F-83E0-114DA310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BA74-8D07-43B9-99F5-B2FC19B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4671-0C75-4B83-A04C-62D09740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848E-919D-4102-9A9D-DF23FAC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5E8C-2859-4E7B-9412-2166759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2106-0040-4B88-B48E-5E08C6F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CF7-7A1A-4D64-9CF2-C2CF66820E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1EF-C3EE-4145-9597-973A97AF5C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ое воспитание в условиях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4149360"/>
            <a:ext cx="6019920" cy="23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Нельзя считать один пол совершеннее другого, так и нельзя их уравниват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Ж.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95128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485928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Гаиз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отив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(стимулирует   детей,   если   в   содержание   включены   способы постро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ая   заинтересованность   детей   к  деятельности (предлагая сделать что-то  в  подарок  или для  иг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 детей   со   взрослыми   (будет  стимулировать  детей   в том,   случае,   если   воспитатель   сумеет   убедить девочку   или мальчика,  что  без  их  помощи  ей  не  обойтис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6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19238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оведении работы по воспитанию детей с учётом их гендерных особенностей, предлагаем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статочность и полноту материала для игр, в процессе которой девочки воспроизводят модель социального поведения женщины –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личие атрибутики и маркеров игрового пространства для игр – «путешествий» в которых для мальчиков представляется возможность проиграть мужскую модель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5292720" y="5084640"/>
            <a:ext cx="200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, какими должны быть мужчины и женщины, очень важно, но ограничиваться этим нельзя. Надо помочь ребенку реализовать эти представления. Для этого, прежде всего, используются естественные и создаются проблемные ситуации, близкие жизненному опыту детей. Немалую роль играет и личный пример поведения взрослого, который воспитывает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738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и девочка – два разны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оспитатели и родители заинтересованы в воспитании детей с учетом их гендерных особенностей, то они могут с успехом решить эти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0956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ошкольные годы не заложить у девочек – мягкость, нежность, аккуратность, стремление к красоте, а у мальчиков – смелость, твердость, выносливость, решительность, рыцарское отношение к представительницам противоположного пола, т. е. не развить предпосылки женственности и мужественности, то это может привести к тому, что став взрослыми мужчинами и женщинами, они будут плохо справляться со своими семейными, общественными и социальными 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инство родителей сыновей в будущем хотят виде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ль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осли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ерей хотят виде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ко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ящ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775040" y="1628640"/>
            <a:ext cx="361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ши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и лишены скромности, нежности, терпения, не умеют мирно разрешать конфликт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же, наоборот, не умеют постоять за себя, слабы физически, лишены выносливости и эмоциональной устойчивости, у них отсутствует культура поведения по отношению к девоч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4186080"/>
            <a:ext cx="3889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игр детей так же вызывает тревогу: дети демонстрируют модели поведения, не соответствующие полу ребенка, не умеют договариваться в игре, распределять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дети не умеют самостоятельно распределять обязанности с учетом пола парт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а и девочку нельзя воспитывать и обучать одинаково. Они по-разному воспринимают мир, по-разному смотрят и видят, слушают и слышат, по-разному говорят и молчат, чувствуют и пережи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гры с детьми по «гендерному (полоролевому)воспитанию.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Чем похожи наши мамы? Чем похожи наши папы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умение выделять существенные сходства и различия между представителями разного пола. Воспитывать любовь к близким людям, уважение к их труду. Помочь ребенку выразить свои чувства к близким ему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семейные альбомные фотографии кажд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Волшебный цветок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1 вариант «За что нам нравятся мальчики (девочки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Воспитывать культуру взаимоотношения между мальчиками и девочками. Формировать у детей понятия о положительных чертах характера мальчиков и дев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цветок из разноцветного картона, лепестки съемные, вставляются в серед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2 вариант «Как я дома помогаю?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представления о домашних обязанностях женщин и мужчин, девочек и мальчиков. Воспитывать желание оказывать помощь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цветок из разноцветного картона, лепестки съемные, вставляются в середи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«Дом добрых де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(с 4 л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: Формировать представления о домашних обязанностях женщин и мужчин, девочек и мальчиков. Воспитывать желание оказывать помощь в семье и другим люд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: констру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«Пожел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(с 3 л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и: Научить детей быть внимательными друг к другу, уметь проявлять симпатии к детям своего и противоположного пола. Закреплять знания о качествах мужественности и женстве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: игрушка-сердечко (любая игруш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«Отгадай профессию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Arial"/>
              </a:rPr>
              <a:t>(с 5 л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: Закреплять знания детей о профессиях. Учить умению разделять профессии на мужские и женс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йском языке для обозначения пола человека употребляются два слова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sex и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из этих слов обозначает пол человека как сексуально-биологическую характерис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— пол как систему полоролев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372360" y="4468680"/>
            <a:ext cx="277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ЕСЕД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84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бесед с мальчикам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альчики-защитники слабых (девочек, женщин, стариков)», «Мальчики — маленькие рыцари», «Мальчики - юные мастера», «Мальчики – будущие пап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бесед с девочкам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евочки - маленькие хранительницы и утешительницы», «Девочки - маленькие принцессы», «Девочки – будущие ма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 совместных бесед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альчик и девочка – такие разные и такие похожие», «Защита и сострадание - качества мужчины и женщины», «Внешние формы поведения мальчика и девочки», «Мальчики и девочки в совместной деятельности», «Мальчик и девочка –  будущ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КЕТЫ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 Вы считаете, в чём заключается роль семьи в воспитании мужских/женских качеств в ребёнке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ова роль матери в полоролевом воспитании ребёнк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 отец влияет на полоролевое развитие ребёнк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Что Вы делаете в семье, чтобы воспитать достойных мужчину/женщину, как полноценного члена общества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ак Вы поступаете, если поведение ребёнка не соответствует нормам и правилам поведения мужчины/женщины в социуме (агрессивность, кривляние, излишнее кокетство, плаксивость мальчика, агрессивность девочки и т. 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Что бы Вы хотели узнать о полоролевом воспитании мальчиков/девочек?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могите ребёнку осознать его истинное половое «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Учите мальчика быть мальчиком, а девочку — быть девоч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Стремитесь к собственному совершенству, чтобы ребёнок, подражая, переня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ько ваши лучшие черты. Так как воспитывают не словом, а де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Надо помнить, что как бы сильно не любил вас ребёнок, больше всего в люб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ждается он сам. Приложите максимум усилий, чтобы любовь ваша бы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роанализируйте стиль отношений в семье и не делите любовь ребёнка меж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ой. Не решайте свои взрослые проблемы за счёт ребёнка. Ваш ребёнок 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быть «орудием» в борьбе друг с друг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Договоритесь между собой, как вы будете воспитывать ребёнка и выдвин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ые требования к нему. Иначе ребёнок не сможет усвоить, что можно,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нельзя - он будет разрываться между вами, а это может привести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врозу или антисоциальному поведе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Помните, что отец — это опора и защита в семье. Он воспитывает в де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сть, дисциплинированность, организованность, уважение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м и слабым, мужественность, чут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Мать - это любовь, доброта, уют, хороший эмоциональный климат в семь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ь даёт ребёнку эмоциональное благополучие, душевное спокойствие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вновесие, уверенность в свои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Заключ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начинают задавать вопросы об отношениях между мужчиной и женщиной примерно в возрасте от 4 до 6 лет. Не обманывайте их, отвечайте точно, кратко и правдиво. Даже если они ничего не поймут, важно, что они увидят наше желание объяснить им то, что их интересу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первых отношений девочек и мальчиков является фундаментом для дальнейшего развития личности дошкольника и во многом определяет особенности самосознания ребёнка, его отношение к миру, его поведение и самочувствие среди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6" descr=""/>
          <p:cNvPicPr/>
          <p:nvPr/>
        </p:nvPicPr>
        <p:blipFill>
          <a:blip r:embed="rId1"/>
          <a:stretch/>
        </p:blipFill>
        <p:spPr>
          <a:xfrm>
            <a:off x="3635280" y="5291280"/>
            <a:ext cx="212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Спасибо всем педагогам </a:t>
            </a:r>
            <a:br>
              <a:rPr sz="4400"/>
            </a:br>
            <a:r>
              <a:rPr b="1" i="1" lang="ru-RU" sz="4400" spc="-1" strike="noStrike">
                <a:solidFill>
                  <a:srgbClr val="00007d"/>
                </a:solidFill>
                <a:latin typeface="Arial"/>
              </a:rPr>
              <a:t>за работу в педсове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5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3744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лич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— это совокупность анатомо-физиологических особенностей организма, заданных от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имеет отношение к физическим, телесным различиям между мужчиной и женщ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 — социальный пол, определяющий поведение человека в обществе и то, как это поведение восприним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гендер» затрагивает их психологические, социальные и культур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1042920" y="4772160"/>
            <a:ext cx="3024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доказали, что к 2 годам ребенок начинает понимать, кто он - девочка или мальчик, а с 4 до 7 лет дети уже осознают, что девочки становятся женщинами, а мальчики - мужчинами, что принадлежность к полу сохраняется независимо от возникающих ситуаций или желаний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419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ологи, психологи и педагоги считают, что формирование гендерной устойчивости обусловлено социокультурными нормами и зависит в первую очередь от отношения родителей к ребёнку, характера родительских установок и привязанности как матери к ребёнку, так и ребёнка к матери, а также от воспитания его в дошкольном образовательном учрежд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516720" y="4761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Личностно-ориентированны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5435640" y="3144960"/>
            <a:ext cx="353232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Organization Chart 7"/>
          <p:cNvGrpSpPr/>
          <p:nvPr/>
        </p:nvGrpSpPr>
        <p:grpSpPr>
          <a:xfrm>
            <a:off x="395280" y="620640"/>
            <a:ext cx="8208000" cy="5903280"/>
            <a:chOff x="395280" y="620640"/>
            <a:chExt cx="8208000" cy="5903280"/>
          </a:xfrm>
        </p:grpSpPr>
        <p:cxnSp>
          <p:nvCxnSpPr>
            <p:cNvPr id="131" name="_s1028"/>
            <p:cNvCxnSpPr>
              <a:stCxn id="132" idx="0"/>
              <a:endCxn id="133" idx="2"/>
            </p:cNvCxnSpPr>
            <p:nvPr/>
          </p:nvCxnSpPr>
          <p:spPr>
            <a:xfrm flipV="1">
              <a:off x="6140520" y="5258520"/>
              <a:ext cx="6840" cy="4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29"/>
            <p:cNvCxnSpPr>
              <a:stCxn id="133" idx="1"/>
              <a:endCxn id="135" idx="2"/>
            </p:cNvCxnSpPr>
            <p:nvPr/>
          </p:nvCxnSpPr>
          <p:spPr>
            <a:xfrm rot="10800000">
              <a:off x="2856960" y="1463040"/>
              <a:ext cx="821520" cy="33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0"/>
            <p:cNvCxnSpPr>
              <a:stCxn id="137" idx="1"/>
              <a:endCxn id="135" idx="2"/>
            </p:cNvCxnSpPr>
            <p:nvPr/>
          </p:nvCxnSpPr>
          <p:spPr>
            <a:xfrm rot="10800000">
              <a:off x="2856960" y="1463040"/>
              <a:ext cx="82152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1"/>
            <p:cNvCxnSpPr>
              <a:stCxn id="139" idx="1"/>
              <a:endCxn id="135" idx="2"/>
            </p:cNvCxnSpPr>
            <p:nvPr/>
          </p:nvCxnSpPr>
          <p:spPr>
            <a:xfrm rot="10800000">
              <a:off x="2856960" y="1463040"/>
              <a:ext cx="82152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395280" y="62064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3678480" y="188568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>
              <a:off x="3678480" y="315072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родные 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5"/>
            <p:cNvSpPr/>
            <p:nvPr/>
          </p:nvSpPr>
          <p:spPr>
            <a:xfrm>
              <a:off x="3678480" y="441576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слов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6"/>
            <p:cNvSpPr/>
            <p:nvPr/>
          </p:nvSpPr>
          <p:spPr>
            <a:xfrm>
              <a:off x="3678480" y="568080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олыбельные пе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1"/>
            <a:stretch/>
          </p:blipFill>
          <p:spPr>
            <a:xfrm>
              <a:off x="418320" y="4293000"/>
              <a:ext cx="2524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Organization Chart 7"/>
          <p:cNvGrpSpPr/>
          <p:nvPr/>
        </p:nvGrpSpPr>
        <p:grpSpPr>
          <a:xfrm>
            <a:off x="442800" y="549360"/>
            <a:ext cx="8208000" cy="5831640"/>
            <a:chOff x="442800" y="549360"/>
            <a:chExt cx="8208000" cy="5831640"/>
          </a:xfrm>
        </p:grpSpPr>
        <p:cxnSp>
          <p:nvCxnSpPr>
            <p:cNvPr id="142" name="_s2052"/>
            <p:cNvCxnSpPr>
              <a:stCxn id="143" idx="1"/>
              <a:endCxn id="144" idx="2"/>
            </p:cNvCxnSpPr>
            <p:nvPr/>
          </p:nvCxnSpPr>
          <p:spPr>
            <a:xfrm rot="10800000">
              <a:off x="290448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3"/>
            <p:cNvCxnSpPr>
              <a:stCxn id="146" idx="1"/>
              <a:endCxn id="144" idx="2"/>
            </p:cNvCxnSpPr>
            <p:nvPr/>
          </p:nvCxnSpPr>
          <p:spPr>
            <a:xfrm rot="10800000">
              <a:off x="290448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4"/>
            <p:cNvCxnSpPr>
              <a:stCxn id="148" idx="1"/>
              <a:endCxn id="144" idx="2"/>
            </p:cNvCxnSpPr>
            <p:nvPr/>
          </p:nvCxnSpPr>
          <p:spPr>
            <a:xfrm rot="10800000">
              <a:off x="290448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5"/>
            <p:cNvCxnSpPr>
              <a:stCxn id="150" idx="1"/>
              <a:endCxn id="144" idx="2"/>
            </p:cNvCxnSpPr>
            <p:nvPr/>
          </p:nvCxnSpPr>
          <p:spPr>
            <a:xfrm rot="10800000">
              <a:off x="290448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2056"/>
            <p:cNvSpPr/>
            <p:nvPr/>
          </p:nvSpPr>
          <p:spPr>
            <a:xfrm>
              <a:off x="44280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372600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8"/>
            <p:cNvSpPr/>
            <p:nvPr/>
          </p:nvSpPr>
          <p:spPr>
            <a:xfrm>
              <a:off x="372600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372600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>
              <a:off x="372600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Organization Chart 17"/>
          <p:cNvGrpSpPr/>
          <p:nvPr/>
        </p:nvGrpSpPr>
        <p:grpSpPr>
          <a:xfrm>
            <a:off x="468360" y="549360"/>
            <a:ext cx="8208000" cy="5831640"/>
            <a:chOff x="468360" y="549360"/>
            <a:chExt cx="8208000" cy="5831640"/>
          </a:xfrm>
        </p:grpSpPr>
        <p:cxnSp>
          <p:nvCxnSpPr>
            <p:cNvPr id="152" name="_s2063"/>
            <p:cNvCxnSpPr>
              <a:stCxn id="153" idx="1"/>
              <a:endCxn id="154" idx="2"/>
            </p:cNvCxnSpPr>
            <p:nvPr/>
          </p:nvCxnSpPr>
          <p:spPr>
            <a:xfrm rot="10800000">
              <a:off x="293004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2064"/>
            <p:cNvCxnSpPr>
              <a:stCxn id="156" idx="1"/>
              <a:endCxn id="154" idx="2"/>
            </p:cNvCxnSpPr>
            <p:nvPr/>
          </p:nvCxnSpPr>
          <p:spPr>
            <a:xfrm rot="10800000">
              <a:off x="293004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2065"/>
            <p:cNvCxnSpPr>
              <a:stCxn id="158" idx="1"/>
              <a:endCxn id="154" idx="2"/>
            </p:cNvCxnSpPr>
            <p:nvPr/>
          </p:nvCxnSpPr>
          <p:spPr>
            <a:xfrm rot="10800000">
              <a:off x="293004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2066"/>
            <p:cNvCxnSpPr>
              <a:stCxn id="160" idx="1"/>
              <a:endCxn id="154" idx="2"/>
            </p:cNvCxnSpPr>
            <p:nvPr/>
          </p:nvCxnSpPr>
          <p:spPr>
            <a:xfrm rot="10800000">
              <a:off x="293004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2067"/>
            <p:cNvSpPr/>
            <p:nvPr/>
          </p:nvSpPr>
          <p:spPr>
            <a:xfrm>
              <a:off x="46836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2068"/>
            <p:cNvSpPr/>
            <p:nvPr/>
          </p:nvSpPr>
          <p:spPr>
            <a:xfrm>
              <a:off x="375156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69"/>
            <p:cNvSpPr/>
            <p:nvPr/>
          </p:nvSpPr>
          <p:spPr>
            <a:xfrm>
              <a:off x="375156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70"/>
            <p:cNvSpPr/>
            <p:nvPr/>
          </p:nvSpPr>
          <p:spPr>
            <a:xfrm>
              <a:off x="375156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71"/>
            <p:cNvSpPr/>
            <p:nvPr/>
          </p:nvSpPr>
          <p:spPr>
            <a:xfrm>
              <a:off x="375156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Рисунок 16" descr=""/>
          <p:cNvPicPr/>
          <p:nvPr/>
        </p:nvPicPr>
        <p:blipFill>
          <a:blip r:embed="rId1"/>
          <a:stretch/>
        </p:blipFill>
        <p:spPr>
          <a:xfrm>
            <a:off x="0" y="2852640"/>
            <a:ext cx="270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Organization Chart 7"/>
          <p:cNvGrpSpPr/>
          <p:nvPr/>
        </p:nvGrpSpPr>
        <p:grpSpPr>
          <a:xfrm>
            <a:off x="250920" y="549360"/>
            <a:ext cx="8207280" cy="5903280"/>
            <a:chOff x="250920" y="549360"/>
            <a:chExt cx="8207280" cy="5903280"/>
          </a:xfrm>
        </p:grpSpPr>
        <p:cxnSp>
          <p:nvCxnSpPr>
            <p:cNvPr id="163" name="_s3076"/>
            <p:cNvCxnSpPr>
              <a:stCxn id="164" idx="1"/>
              <a:endCxn id="165" idx="2"/>
            </p:cNvCxnSpPr>
            <p:nvPr/>
          </p:nvCxnSpPr>
          <p:spPr>
            <a:xfrm rot="10800000">
              <a:off x="2712240" y="1621800"/>
              <a:ext cx="821160" cy="429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3077"/>
            <p:cNvCxnSpPr>
              <a:stCxn id="167" idx="1"/>
              <a:endCxn id="165" idx="2"/>
            </p:cNvCxnSpPr>
            <p:nvPr/>
          </p:nvCxnSpPr>
          <p:spPr>
            <a:xfrm rot="10800000">
              <a:off x="2712240" y="1621800"/>
              <a:ext cx="821160" cy="268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3078"/>
            <p:cNvCxnSpPr>
              <a:stCxn id="169" idx="1"/>
              <a:endCxn id="165" idx="2"/>
            </p:cNvCxnSpPr>
            <p:nvPr/>
          </p:nvCxnSpPr>
          <p:spPr>
            <a:xfrm rot="10800000">
              <a:off x="2712240" y="1621800"/>
              <a:ext cx="821160" cy="107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5" name="_s3079"/>
            <p:cNvSpPr/>
            <p:nvPr/>
          </p:nvSpPr>
          <p:spPr>
            <a:xfrm>
              <a:off x="250920" y="54936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а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0"/>
            <p:cNvSpPr/>
            <p:nvPr/>
          </p:nvSpPr>
          <p:spPr>
            <a:xfrm>
              <a:off x="3533760" y="21592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игровая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81"/>
            <p:cNvSpPr/>
            <p:nvPr/>
          </p:nvSpPr>
          <p:spPr>
            <a:xfrm>
              <a:off x="3533760" y="376920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82"/>
            <p:cNvSpPr/>
            <p:nvPr/>
          </p:nvSpPr>
          <p:spPr>
            <a:xfrm>
              <a:off x="3533760" y="53794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блемно- поиск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Рисунок 1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58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49:09Z</dcterms:created>
  <dc:creator>Таня</dc:creator>
  <dc:description/>
  <dc:language>en-US</dc:language>
  <cp:lastModifiedBy>Олеся</cp:lastModifiedBy>
  <dcterms:modified xsi:type="dcterms:W3CDTF">2016-01-20T15:51:29Z</dcterms:modified>
  <cp:revision>45</cp:revision>
  <dc:subject/>
  <dc:title>Слайд 1</dc:title>
</cp:coreProperties>
</file>