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7A0-0A1F-4F52-81CB-6980FD21B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2AE4-61C3-4292-9BA3-EEE9CDB1D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8EAF-4ABD-4265-AA53-78C6C833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653D-36CF-4439-BDD5-DA575DFF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2413-2145-4B51-B22E-B802C686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4C9E-0A4E-4695-AC82-045B4F26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B417-B4A6-4CF4-ABDD-5617CF30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72BA-CC33-4C89-A6E8-AE1FB1C7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AF53-DA9B-41C2-BC4D-04363CB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53E-AF05-430A-8442-1FD229FF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8C2A-ED91-4161-B0C4-E4E1D1E1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51C5-590C-49DD-8F20-0E06E74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AD16-8A62-4812-A7E5-E0BCF79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D54F-C228-4267-BFF5-C39DFAE6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38E5-2E2D-4152-8E00-06C8F88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F32-E74A-4394-8912-2CA4F2E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40DF-7A6A-415C-B166-77D8135D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AF23-ECBF-49CD-836E-F11A707D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C8C-5749-4CB5-BCA4-5B484BF4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B704-F34F-492A-BF49-20ABCEA9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554C-5CE3-4658-868A-B7BFB1D7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AFC6-3932-43C5-A31C-7FB0342C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CF33-21E4-446C-833E-8019E66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F82F-23DA-4DD4-B229-8CC58C8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FF0B-F990-4DE5-865A-EAA519A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AE30-EBE8-4987-829B-550C0F52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DA20-5F79-4106-B1B7-09EDB67E6C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40D-D811-490A-8B0F-7A33BA4A30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ое воспитание в условиях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4149360"/>
            <a:ext cx="601992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Нельзя считать один пол совершеннее другого, так и нельзя их уравниват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Ж.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95128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485928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Гаиз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отив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(стимулирует   детей,   если   в   содержание   включены   способы постро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ая   заинтересованность   детей   к  деятельности (предлагая сделать что-то  в  подарок  или для  иг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 детей   со   взрослыми   (будет  стимулировать  детей   в том,   случае,   если   воспитатель   сумеет   убедить девочку   или мальчика,  что  без  их  помощи  ей  не  обойтис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6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19238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оведении работы по воспитанию детей с учётом их гендерных особенностей, предлагаем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статочность и полноту материала для игр, в процессе которой девочки воспроизводят модель социального поведения женщины –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личие атрибутики и маркеров игрового пространства для игр – «путешествий» в которых для мальчиков представляется возможность проиграть мужскую модель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5292720" y="5084640"/>
            <a:ext cx="200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, какими должны быть мужчины и женщины, очень важно, но ограничиваться этим нельзя. Надо помочь ребенку реализовать эти представления. Для этого, прежде всего, используются естественные и создаются проблемные ситуации, близкие жизненному опыту детей. Немалую роль играет и личный пример поведения взрослого, который воспитывает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738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и девочка – два разны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оспитатели и родители заинтересованы в воспитании детей с учетом их гендерных особенностей, то они могут с успехом решить эти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0956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ошкольные годы не заложить у девочек – мягкость, нежность, аккуратность, стремление к красоте, а у мальчиков – смелость, твердость, выносливость, решительность, рыцарское отношение к представительницам противоположного пола, т. е. не развить предпосылки женственности и мужественности, то это может привести к тому, что став взрослыми мужчинами и женщинами, они будут плохо справляться со своими семейными, общественными и социальными 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инство родителей сыновей в будущем хотят виде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ль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осли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ерей хотят виде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ко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ящ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75040" y="1628640"/>
            <a:ext cx="361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ши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и лишены скромности, нежности, терпения, не умеют мирно разрешать конфликт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же, наоборот, не умеют постоять за себя, слабы физически, лишены выносливости и эмоциональной устойчивости, у них отсутствует культура поведения по отношению к девоч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4186080"/>
            <a:ext cx="3889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игр детей так же вызывает тревогу: дети демонстрируют модели поведения, не соответствующие полу ребенка, не умеют договариваться в игре, распределять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дети не умеют самостоятельно распределять обязанности с учетом пола парт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а и девочку нельзя воспитывать и обучать одинаково. Они по-разному воспринимают мир, по-разному смотрят и видят, слушают и слышат, по-разному говорят и молчат, чувствуют и пережи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ы с детьми по «гендерному (полоролевому)воспитанию.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Чем похожи наши мамы? Чем похожи наши папы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умение выделять существенные сходства и различия между представителями разного пола. Воспитывать любовь к близким людям, уважение к их труду. Помочь ребенку выразить свои чувства к близким ему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семейные альбомные фотографии кажд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Волшебный цветок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1 вариант «За что нам нравятся мальчики (девочки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Воспитывать культуру взаимоотношения между мальчиками и девочками. Формировать у детей понятия о положительных чертах характера мальчиков и дев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цветок из разноцветного картона, лепестки съемные, вставляются в серед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2 вариант «Как я дома помогаю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представления о домашних обязанностях женщин и мужчин, девочек и мальчиков. Воспитывать желание оказывать помощь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цветок из разноцветного картона, лепестки съемные, вставляются в серед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Дом добрых де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4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представления о домашних обязанностях женщин и мужчин, девочек и мальчиков. Воспитывать желание оказывать помощь в семье и другим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констру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«Пожел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и: Научить детей быть внимательными друг к другу, уметь проявлять симпатии к детям своего и противоположного пола. Закреплять знания о качествах мужественности и жен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: игрушка-сердечко (любая игруш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«Отгадай професс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(с 5 л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: Закреплять знания детей о профессиях. Учить умению разделять профессии на мужские и жен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йском языке для обозначения пола человека употребляются два слова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sex и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из этих слов обозначает пол человека как сексуально-биологическую характерис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— пол как систему полоролев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372360" y="4468680"/>
            <a:ext cx="277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ЕСЕД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84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бесед с мальчикам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альчики-защитники слабых (девочек, женщин, стариков)», «Мальчики — маленькие рыцари», «Мальчики - юные мастера», «Мальчики – будущие пап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бесед с девочкам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вочки - маленькие хранительницы и утешительницы», «Девочки - маленькие принцессы», «Девочки – будущие ма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совместных бесед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альчик и девочка – такие разные и такие похожие», «Защита и сострадание - качества мужчины и женщины», «Внешние формы поведения мальчика и девочки», «Мальчики и девочки в совместной деятельности», «Мальчик и девочка –  будущ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КЕТЫ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 Вы считаете, в чём заключается роль семьи в воспитании мужских/женских качеств в ребёнке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ова роль матери в полоролевом воспитании ребёнк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 отец влияет на полоролевое развитие ребёнк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Что Вы делаете в семье, чтобы воспитать достойных мужчину/женщину, как полноценного члена обществ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ак Вы поступаете, если поведение ребёнка не соответствует нормам и правилам поведения мужчины/женщины в социуме (агрессивность, кривляние, излишнее кокетство, плаксивость мальчика, агрессивность девочки и т. 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Что бы Вы хотели узнать о полоролевом воспитании мальчиков/девочек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могите ребёнку осознать его истинное половое «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Учите мальчика быть мальчиком, а девочку — быть девоч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Стремитесь к собственному совершенству, чтобы ребёнок, подражая, переня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ько ваши лучшие черты. Так как воспитывают не словом, а де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адо помнить, что как бы сильно не любил вас ребёнок, больше всего в люб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ждается он сам. Приложите максимум усилий, чтобы любовь ваша бы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роанализируйте стиль отношений в семье и не делите любовь ребёнка меж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ой. Не решайте свои взрослые проблемы за счёт ребёнка. Ваш ребёнок 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быть «орудием» в борьбе друг с друг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Договоритесь между собой, как вы будете воспитывать ребёнка и выдви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ые требования к нему. Иначе ребёнок не сможет усвоить, что можно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нельзя - он будет разрываться между вами, а это может привести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врозу или антисоциальному повед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Помните, что отец — это опора и защита в семье. Он воспитывает в д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сть, дисциплинированность, организованность, уважение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м и слабым, мужественность, чут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Мать - это любовь, доброта, уют, хороший эмоциональный климат в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ь даёт ребёнку эмоциональное благополучие, душевное спокойствие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вновесие, уверенность в свои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Заключ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начинают задавать вопросы об отношениях между мужчиной и женщиной примерно в возрасте от 4 до 6 лет. Не обманывайте их, отвечайте точно, кратко и правдиво. Даже если они ничего не поймут, важно, что они увидят наше желание объяснить им то, что их интересу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первых отношений девочек и мальчиков является фундаментом для дальнейшего развития личности дошкольника и во многом определяет особенности самосознания ребёнка, его отношение к миру, его поведение и самочувствие среди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6" descr=""/>
          <p:cNvPicPr/>
          <p:nvPr/>
        </p:nvPicPr>
        <p:blipFill>
          <a:blip r:embed="rId1"/>
          <a:stretch/>
        </p:blipFill>
        <p:spPr>
          <a:xfrm>
            <a:off x="3635280" y="5291280"/>
            <a:ext cx="212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Спасибо всем педагогам </a:t>
            </a:r>
            <a:br>
              <a:rPr sz="4400"/>
            </a:b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за работу в педсове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744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лич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— это совокупность анатомо-физиологических особенностей организма, заданных от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имеет отношение к физическим, телесным различиям между мужчиной и женщ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 — социальный пол, определяющий поведение человека в обществе и то, как это поведение восприним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гендер» затрагивает их психологические, социальные и культур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1042920" y="4772160"/>
            <a:ext cx="3024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доказали, что к 2 годам ребенок начинает понимать, кто он - девочка или мальчик, а с 4 до 7 лет дети уже осознают, что девочки становятся женщинами, а мальчики - мужчинами, что принадлежность к полу сохраняется независимо от возникающих ситуаций или желаний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419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ологи, психологи и педагоги считают, что формирование гендерной устойчивости обусловлено социокультурными нормами и зависит в первую очередь от отношения родителей к ребёнку, характера родительских установок и привязанности как матери к ребёнку, так и ребёнка к матери, а также от воспитания его в дошкольном образовательном учрежд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516720" y="4761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Личностно-ориентированны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5435640" y="3144960"/>
            <a:ext cx="353232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rganization Chart 7"/>
          <p:cNvGrpSpPr/>
          <p:nvPr/>
        </p:nvGrpSpPr>
        <p:grpSpPr>
          <a:xfrm>
            <a:off x="395280" y="620640"/>
            <a:ext cx="8208000" cy="5903280"/>
            <a:chOff x="395280" y="620640"/>
            <a:chExt cx="8208000" cy="5903280"/>
          </a:xfrm>
        </p:grpSpPr>
        <p:cxnSp>
          <p:nvCxnSpPr>
            <p:cNvPr id="131" name="_s1028"/>
            <p:cNvCxnSpPr>
              <a:stCxn id="132" idx="0"/>
              <a:endCxn id="133" idx="2"/>
            </p:cNvCxnSpPr>
            <p:nvPr/>
          </p:nvCxnSpPr>
          <p:spPr>
            <a:xfrm flipV="1">
              <a:off x="6140520" y="5258520"/>
              <a:ext cx="6840" cy="4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29"/>
            <p:cNvCxnSpPr>
              <a:stCxn id="133" idx="1"/>
              <a:endCxn id="135" idx="2"/>
            </p:cNvCxnSpPr>
            <p:nvPr/>
          </p:nvCxnSpPr>
          <p:spPr>
            <a:xfrm rot="10800000">
              <a:off x="2856960" y="1463040"/>
              <a:ext cx="821520" cy="33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0"/>
            <p:cNvCxnSpPr>
              <a:stCxn id="137" idx="1"/>
              <a:endCxn id="135" idx="2"/>
            </p:cNvCxnSpPr>
            <p:nvPr/>
          </p:nvCxnSpPr>
          <p:spPr>
            <a:xfrm rot="10800000">
              <a:off x="2856960" y="1463040"/>
              <a:ext cx="82152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1"/>
            <p:cNvCxnSpPr>
              <a:stCxn id="139" idx="1"/>
              <a:endCxn id="135" idx="2"/>
            </p:cNvCxnSpPr>
            <p:nvPr/>
          </p:nvCxnSpPr>
          <p:spPr>
            <a:xfrm rot="10800000">
              <a:off x="2856960" y="1463040"/>
              <a:ext cx="82152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95280" y="62064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3678480" y="188568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3678480" y="315072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родные 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5"/>
            <p:cNvSpPr/>
            <p:nvPr/>
          </p:nvSpPr>
          <p:spPr>
            <a:xfrm>
              <a:off x="3678480" y="441576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слов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6"/>
            <p:cNvSpPr/>
            <p:nvPr/>
          </p:nvSpPr>
          <p:spPr>
            <a:xfrm>
              <a:off x="3678480" y="568080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олыбельные пе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1"/>
            <a:stretch/>
          </p:blipFill>
          <p:spPr>
            <a:xfrm>
              <a:off x="418320" y="4293000"/>
              <a:ext cx="2524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Organization Chart 7"/>
          <p:cNvGrpSpPr/>
          <p:nvPr/>
        </p:nvGrpSpPr>
        <p:grpSpPr>
          <a:xfrm>
            <a:off x="442800" y="549360"/>
            <a:ext cx="8208000" cy="5831640"/>
            <a:chOff x="442800" y="549360"/>
            <a:chExt cx="8208000" cy="5831640"/>
          </a:xfrm>
        </p:grpSpPr>
        <p:cxnSp>
          <p:nvCxnSpPr>
            <p:cNvPr id="142" name="_s2052"/>
            <p:cNvCxnSpPr>
              <a:stCxn id="143" idx="1"/>
              <a:endCxn id="144" idx="2"/>
            </p:cNvCxnSpPr>
            <p:nvPr/>
          </p:nvCxnSpPr>
          <p:spPr>
            <a:xfrm rot="10800000">
              <a:off x="290448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3"/>
            <p:cNvCxnSpPr>
              <a:stCxn id="146" idx="1"/>
              <a:endCxn id="144" idx="2"/>
            </p:cNvCxnSpPr>
            <p:nvPr/>
          </p:nvCxnSpPr>
          <p:spPr>
            <a:xfrm rot="10800000">
              <a:off x="290448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4"/>
            <p:cNvCxnSpPr>
              <a:stCxn id="148" idx="1"/>
              <a:endCxn id="144" idx="2"/>
            </p:cNvCxnSpPr>
            <p:nvPr/>
          </p:nvCxnSpPr>
          <p:spPr>
            <a:xfrm rot="10800000">
              <a:off x="290448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5"/>
            <p:cNvCxnSpPr>
              <a:stCxn id="150" idx="1"/>
              <a:endCxn id="144" idx="2"/>
            </p:cNvCxnSpPr>
            <p:nvPr/>
          </p:nvCxnSpPr>
          <p:spPr>
            <a:xfrm rot="10800000">
              <a:off x="290448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2056"/>
            <p:cNvSpPr/>
            <p:nvPr/>
          </p:nvSpPr>
          <p:spPr>
            <a:xfrm>
              <a:off x="44280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372600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8"/>
            <p:cNvSpPr/>
            <p:nvPr/>
          </p:nvSpPr>
          <p:spPr>
            <a:xfrm>
              <a:off x="372600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372600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>
              <a:off x="372600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Organization Chart 17"/>
          <p:cNvGrpSpPr/>
          <p:nvPr/>
        </p:nvGrpSpPr>
        <p:grpSpPr>
          <a:xfrm>
            <a:off x="468360" y="549360"/>
            <a:ext cx="8208000" cy="5831640"/>
            <a:chOff x="468360" y="549360"/>
            <a:chExt cx="8208000" cy="5831640"/>
          </a:xfrm>
        </p:grpSpPr>
        <p:cxnSp>
          <p:nvCxnSpPr>
            <p:cNvPr id="152" name="_s2063"/>
            <p:cNvCxnSpPr>
              <a:stCxn id="153" idx="1"/>
              <a:endCxn id="154" idx="2"/>
            </p:cNvCxnSpPr>
            <p:nvPr/>
          </p:nvCxnSpPr>
          <p:spPr>
            <a:xfrm rot="10800000">
              <a:off x="293004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2064"/>
            <p:cNvCxnSpPr>
              <a:stCxn id="156" idx="1"/>
              <a:endCxn id="154" idx="2"/>
            </p:cNvCxnSpPr>
            <p:nvPr/>
          </p:nvCxnSpPr>
          <p:spPr>
            <a:xfrm rot="10800000">
              <a:off x="293004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2065"/>
            <p:cNvCxnSpPr>
              <a:stCxn id="158" idx="1"/>
              <a:endCxn id="154" idx="2"/>
            </p:cNvCxnSpPr>
            <p:nvPr/>
          </p:nvCxnSpPr>
          <p:spPr>
            <a:xfrm rot="10800000">
              <a:off x="293004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2066"/>
            <p:cNvCxnSpPr>
              <a:stCxn id="160" idx="1"/>
              <a:endCxn id="154" idx="2"/>
            </p:cNvCxnSpPr>
            <p:nvPr/>
          </p:nvCxnSpPr>
          <p:spPr>
            <a:xfrm rot="10800000">
              <a:off x="293004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2067"/>
            <p:cNvSpPr/>
            <p:nvPr/>
          </p:nvSpPr>
          <p:spPr>
            <a:xfrm>
              <a:off x="46836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068"/>
            <p:cNvSpPr/>
            <p:nvPr/>
          </p:nvSpPr>
          <p:spPr>
            <a:xfrm>
              <a:off x="375156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69"/>
            <p:cNvSpPr/>
            <p:nvPr/>
          </p:nvSpPr>
          <p:spPr>
            <a:xfrm>
              <a:off x="375156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70"/>
            <p:cNvSpPr/>
            <p:nvPr/>
          </p:nvSpPr>
          <p:spPr>
            <a:xfrm>
              <a:off x="375156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71"/>
            <p:cNvSpPr/>
            <p:nvPr/>
          </p:nvSpPr>
          <p:spPr>
            <a:xfrm>
              <a:off x="375156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Рисунок 16" descr=""/>
          <p:cNvPicPr/>
          <p:nvPr/>
        </p:nvPicPr>
        <p:blipFill>
          <a:blip r:embed="rId1"/>
          <a:stretch/>
        </p:blipFill>
        <p:spPr>
          <a:xfrm>
            <a:off x="0" y="2852640"/>
            <a:ext cx="270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Organization Chart 7"/>
          <p:cNvGrpSpPr/>
          <p:nvPr/>
        </p:nvGrpSpPr>
        <p:grpSpPr>
          <a:xfrm>
            <a:off x="250920" y="549360"/>
            <a:ext cx="8207280" cy="5903280"/>
            <a:chOff x="250920" y="549360"/>
            <a:chExt cx="8207280" cy="5903280"/>
          </a:xfrm>
        </p:grpSpPr>
        <p:cxnSp>
          <p:nvCxnSpPr>
            <p:cNvPr id="163" name="_s3076"/>
            <p:cNvCxnSpPr>
              <a:stCxn id="164" idx="1"/>
              <a:endCxn id="165" idx="2"/>
            </p:cNvCxnSpPr>
            <p:nvPr/>
          </p:nvCxnSpPr>
          <p:spPr>
            <a:xfrm rot="10800000">
              <a:off x="2712240" y="1621800"/>
              <a:ext cx="821160" cy="429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3077"/>
            <p:cNvCxnSpPr>
              <a:stCxn id="167" idx="1"/>
              <a:endCxn id="165" idx="2"/>
            </p:cNvCxnSpPr>
            <p:nvPr/>
          </p:nvCxnSpPr>
          <p:spPr>
            <a:xfrm rot="10800000">
              <a:off x="2712240" y="1621800"/>
              <a:ext cx="821160" cy="268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3078"/>
            <p:cNvCxnSpPr>
              <a:stCxn id="169" idx="1"/>
              <a:endCxn id="165" idx="2"/>
            </p:cNvCxnSpPr>
            <p:nvPr/>
          </p:nvCxnSpPr>
          <p:spPr>
            <a:xfrm rot="10800000">
              <a:off x="2712240" y="1621800"/>
              <a:ext cx="821160" cy="107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5" name="_s3079"/>
            <p:cNvSpPr/>
            <p:nvPr/>
          </p:nvSpPr>
          <p:spPr>
            <a:xfrm>
              <a:off x="250920" y="54936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а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0"/>
            <p:cNvSpPr/>
            <p:nvPr/>
          </p:nvSpPr>
          <p:spPr>
            <a:xfrm>
              <a:off x="3533760" y="21592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игровая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81"/>
            <p:cNvSpPr/>
            <p:nvPr/>
          </p:nvSpPr>
          <p:spPr>
            <a:xfrm>
              <a:off x="3533760" y="376920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82"/>
            <p:cNvSpPr/>
            <p:nvPr/>
          </p:nvSpPr>
          <p:spPr>
            <a:xfrm>
              <a:off x="3533760" y="53794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блемно- поиск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Рисунок 1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58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49:09Z</dcterms:created>
  <dc:creator>Таня</dc:creator>
  <dc:description/>
  <dc:language>en-US</dc:language>
  <cp:lastModifiedBy>Олеся</cp:lastModifiedBy>
  <dcterms:modified xsi:type="dcterms:W3CDTF">2016-01-20T15:51:29Z</dcterms:modified>
  <cp:revision>45</cp:revision>
  <dc:subject/>
  <dc:title>Слайд 1</dc:title>
</cp:coreProperties>
</file>