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1D3-C152-4899-B835-D125C1E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39A-9198-43A1-BC14-E4C2AE52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DE1A-AD02-42B6-A057-E41154F8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9566B-B538-48DA-B662-4BBD636D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5323B-A584-4129-880F-33965EE5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56DF1-213B-4862-85A2-B1A87F4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93A62-5C73-4018-BCB3-3935BB1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0BABF-7291-47CF-96E6-5D4677D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5375-AE85-4EC2-8DE2-8AF9572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C2352-C749-437D-AE0D-D9881FDE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BFF3-BE3D-47F2-9D5E-9E40442C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C209B-5226-475B-8649-141E3465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FA-A08B-439A-8285-F8267924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03BD3-0CFD-425B-BD21-0938CF2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443E9-D166-4FB2-BD13-67C63FE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383EB-A320-444C-BA28-BECF2573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7BF8B-B8FF-41EF-B0DC-A5A7B21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FF224-A673-4013-9532-985AD25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8313A-87CB-49B0-9595-C44788FF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E9167-0143-4CCD-A449-007D528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3D0E2-1F90-4E5D-B772-6063C75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D7C07-D00D-480D-B3E9-DA27EAD0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C5471-A67F-426E-8443-22C9AE4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561-1612-46E4-B84F-6A01966D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C84F0-E550-43A8-9A5D-E560EADA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D9BF2-1E0D-4233-85F2-F99674E2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CB8B5-D104-4FFB-A87C-D708D1C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78428-281D-4504-BA97-4CBF2E71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731C6-D84A-47BF-8A35-7830C08D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63E8-EAB2-4255-9B49-072A5DD8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44463-15C4-48C4-BCEB-7C53CCB5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B526F-1E16-46E7-A4B5-C2CB4E3B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70F3F-5B63-4629-BA3B-4560892F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89377-4EF0-49FF-9DDF-1125B0D6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EBE-0BDE-4DF3-B463-C7E71A58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701EF-6AA6-4A0B-8496-2149507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DA368-B349-4633-8D05-FA1AC75A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DE88F-6A43-4425-B498-AA69D4E0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E21F0-24BC-48C0-87D6-B10DBB9B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E6E5-594B-4700-82DE-6D74AC79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94C4-4456-449B-87AE-2FC665BB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3A19A-3AC1-4B4A-BEFC-71E989E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B8AED-7E68-4242-8137-59D75FC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74C16-4BDC-40D2-AEDC-41D84918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C859F-EFCF-4DBF-9C6A-336773B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BC72-489B-425B-8093-4CAA89A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9D0A9-C858-43A5-AC3B-1C8B967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F3D44-7D92-44C3-A288-5572A92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6C14A-3CDC-415C-A86A-F264D9E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1E36D-EF86-45BB-A31D-4A59D8AF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A1334-CD3E-439A-9766-AB91476B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C923-0984-418C-A819-BAE1A1A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C3BA-E511-4F5D-9CF9-3702B4B4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4046-9A89-4F31-9AEC-2EF13209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9D13-FBEC-41AC-9ED6-AB87743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781-B84B-483A-AB91-671E285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30D-A411-4589-BCB0-B76BEEE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E976-A4C8-445F-9013-F10A9DB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ED70-3A9F-4A56-81CB-DA9F860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2141-C6B4-4878-BB10-DC70A305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C3FB-C32E-425B-BDD5-6CE3139B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1B6-FCE9-4668-9AF4-660653C3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2922-5346-4BBD-9D80-8EBC0994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071F-7952-417C-8176-67E0AEB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D559-CD71-4956-93D7-2E22595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21859-8F6D-48CB-B624-B21C130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2B7B-FB2C-458B-82D4-A0011A7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A95-3721-4C88-A96C-4A575829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521D-BAD9-4D9A-86C5-FF4FBCE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DA29-434E-4004-BDC6-E695F35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DE10-AFF7-4F38-AF49-7597908B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3B4F-EF57-4DEE-9254-76CF4DA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4B40-4756-46C4-8F52-425A061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2A27-5AE3-444E-8762-E44E12D0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8D66-EBB7-47BB-87A7-E6592F96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E13F-C2FF-4B48-B304-8D680B0E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8AE4-9531-4ECC-86CB-12CB1A58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013D9-CDF0-4037-8BD6-398D75C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ED0-6687-49D4-95F2-FA7D705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EE9D-83C1-499C-BB3D-98AE0643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B264-53B5-4926-A629-DFEFEAA4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AEE35-BB7A-48AC-B1A3-FF39501B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EAF2-4DCE-485E-9D29-EC534732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6219-B5B9-4DB7-B08B-FF7D943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C0E6-064E-4D25-A761-1AA3F39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5A5A-C477-4D69-89D1-0A3ED73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9AF8-E534-45B4-866F-AF0F7CDF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3927-3EAE-460E-B8DD-35B639AA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4BEA-2918-4E65-9EA3-8579F419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881-0B49-4D1E-8D16-723BEBE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2CAC-D6F3-4FD3-8140-4B3ED9C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61D5-A236-474C-9D9B-940228B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FDBC-E593-4F0C-BF76-8D562A7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DF54C-D88D-486A-99D7-0BC5516B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E47C-741F-428D-9AB2-35A86DDB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97F5-2FC6-4423-B060-B8438F7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01B1-3472-4053-B172-E9C1F9F0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CBCFC-4EF5-454B-8674-BF874FE4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C2EA-A15B-4F35-B829-E7446D5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75C2-1EF6-4F6E-96CB-09A80E46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69E-99ED-4583-A397-1B376ED0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8136-A2CB-44F0-AA4C-536AFE44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F8EF-BE9E-4231-9206-84DD3ED2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AE5C-0DC8-4642-91ED-EAA019F5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279E1-ED64-4E74-A769-9A5695D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0282-23B7-489C-9311-0EDB5D38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51102-5312-49A1-96BF-0A4C358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9A95-92F1-42DF-BF27-535216E0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CD15-CDEC-46A6-9799-F39D277E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B5FF-6E18-40C1-8D7C-6FE590A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39C14-FEA9-4EAD-A7A1-5F02D02B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A0D-A452-446C-8EAB-F51657F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A101-D06E-4A07-849D-02F0858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1CCC0-3041-4D40-AEF9-D650985C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EA2F-9B1A-4C26-A84F-46C81BE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61DC-C7BA-4182-A1FE-01811375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A8B6-C5B1-4EF2-AB96-3FA0AE9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A418C-2F2B-4B79-ACEC-D3B9C98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F1998-F3D5-44CD-B9A7-2F3B2ED7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1581-79E6-4320-8056-2863CF34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A3D6-BD7E-4EDB-93DA-37A6DEFE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A7704-C280-413D-86C7-A1AC833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B7A-914E-4503-B646-16ACA27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0E073-1124-4CAE-AF7A-2693F23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E6FAD-C7F0-45CE-A9F8-1B99402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E918-6F91-474C-B558-1C19234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154C4-9470-46BD-BEB3-A163B87A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50ADC-7EA5-497E-BE89-AA9FF00A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781C0-2C9C-4EAA-877C-3F4F38E3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15275-CABB-4C4E-8A6C-115D9C9E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C279-AF24-4E69-A71A-451E145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7AD2-6837-4371-AD5F-238000FC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04AB-1F98-4FFA-86A5-80EAD15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837-F5C9-4895-B4C1-7B38B04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54A65-2BBF-40A2-9791-5CC31F1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DB322-36CC-499F-B5B8-90C7F6E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D61C-05B0-4167-AA21-67E3491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EE33-D95B-4EC7-B492-F149766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C8111-4C51-41A4-8DB3-6DEA4AD3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28DF2-F380-4A1D-A381-3575C439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6E984-2EE4-4C2A-81ED-73BAEB61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17436-182E-4711-BBB9-0213257F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41298-DCAF-4B7D-8E41-CD20151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23B09-C2EE-49C9-824C-3CC0657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559-A258-4AF6-AB17-1C470499C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5F10-A3AD-41B4-93DA-23185F94F3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2E9-E3A0-42C3-AAF1-1F2290B92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17EA-3896-415C-BBEC-325679212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F41-FFAC-4BE1-BE0B-5EDDFFEE3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9E8-7CEB-4317-B1AD-0AC7FA6F1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4A6-22A5-42FE-B24A-EA348CB82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EB80-CD3C-4C07-B6D6-057915CA7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8165-F9DE-49D2-8553-36F8EF78D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6CD6-3C25-425E-9B4D-559336F6E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ADEC-DDC7-49FD-954F-AD249B81F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EA2-9069-4473-99FD-02F52E6C2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6920" y="244440"/>
            <a:ext cx="2341440" cy="2333520"/>
            <a:chOff x="1096920" y="244440"/>
            <a:chExt cx="2341440" cy="233352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6920" y="244440"/>
              <a:ext cx="23414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4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9360" y="407880"/>
            <a:ext cx="1334880" cy="1341720"/>
            <a:chOff x="549360" y="407880"/>
            <a:chExt cx="1334880" cy="1341720"/>
          </a:xfrm>
        </p:grpSpPr>
        <p:pic>
          <p:nvPicPr>
            <p:cNvPr id="503" name="5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549360" y="407880"/>
              <a:ext cx="1334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15200" y="5376960"/>
            <a:ext cx="1341360" cy="1341360"/>
            <a:chOff x="7315200" y="5376960"/>
            <a:chExt cx="1341360" cy="1341360"/>
          </a:xfrm>
        </p:grpSpPr>
        <p:pic>
          <p:nvPicPr>
            <p:cNvPr id="506" name="5-конечная звезда 26" descr=""/>
            <p:cNvPicPr/>
            <p:nvPr/>
          </p:nvPicPr>
          <p:blipFill>
            <a:blip r:embed="rId4"/>
            <a:stretch/>
          </p:blipFill>
          <p:spPr>
            <a:xfrm>
              <a:off x="7315200" y="537696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5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4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1" name="5-конечная звезда 6"/>
          <p:cNvGrpSpPr/>
          <p:nvPr/>
        </p:nvGrpSpPr>
        <p:grpSpPr>
          <a:xfrm>
            <a:off x="-42840" y="-42840"/>
            <a:ext cx="2103480" cy="1749240"/>
            <a:chOff x="-42840" y="-42840"/>
            <a:chExt cx="2103480" cy="1749240"/>
          </a:xfrm>
        </p:grpSpPr>
        <p:pic>
          <p:nvPicPr>
            <p:cNvPr id="632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2840" y="-4284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5-конечная звезда 7"/>
          <p:cNvGrpSpPr/>
          <p:nvPr/>
        </p:nvGrpSpPr>
        <p:grpSpPr>
          <a:xfrm>
            <a:off x="7047000" y="5114880"/>
            <a:ext cx="2103480" cy="1749600"/>
            <a:chOff x="7047000" y="5114880"/>
            <a:chExt cx="2103480" cy="1749600"/>
          </a:xfrm>
        </p:grpSpPr>
        <p:pic>
          <p:nvPicPr>
            <p:cNvPr id="635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7000" y="5114880"/>
              <a:ext cx="210348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5-конечная звезда 26"/>
          <p:cNvGrpSpPr/>
          <p:nvPr/>
        </p:nvGrpSpPr>
        <p:grpSpPr>
          <a:xfrm>
            <a:off x="549360" y="407880"/>
            <a:ext cx="1334880" cy="1341720"/>
            <a:chOff x="549360" y="407880"/>
            <a:chExt cx="1334880" cy="1341720"/>
          </a:xfrm>
        </p:grpSpPr>
        <p:pic>
          <p:nvPicPr>
            <p:cNvPr id="511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9360" y="407880"/>
              <a:ext cx="1334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5-конечная звезда 26"/>
          <p:cNvGrpSpPr/>
          <p:nvPr/>
        </p:nvGrpSpPr>
        <p:grpSpPr>
          <a:xfrm>
            <a:off x="7315200" y="5376960"/>
            <a:ext cx="1341360" cy="1341360"/>
            <a:chOff x="7315200" y="5376960"/>
            <a:chExt cx="1341360" cy="1341360"/>
          </a:xfrm>
        </p:grpSpPr>
        <p:pic>
          <p:nvPicPr>
            <p:cNvPr id="514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15200" y="5376960"/>
              <a:ext cx="13413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9" name="5-конечная звезда 3"/>
          <p:cNvGrpSpPr/>
          <p:nvPr/>
        </p:nvGrpSpPr>
        <p:grpSpPr>
          <a:xfrm>
            <a:off x="-42840" y="-42840"/>
            <a:ext cx="2103480" cy="1749240"/>
            <a:chOff x="-42840" y="-42840"/>
            <a:chExt cx="2103480" cy="1749240"/>
          </a:xfrm>
        </p:grpSpPr>
        <p:pic>
          <p:nvPicPr>
            <p:cNvPr id="64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2840" y="-4284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5-конечная звезда 4"/>
          <p:cNvGrpSpPr/>
          <p:nvPr/>
        </p:nvGrpSpPr>
        <p:grpSpPr>
          <a:xfrm>
            <a:off x="6907320" y="4968720"/>
            <a:ext cx="2097000" cy="1749600"/>
            <a:chOff x="6907320" y="4968720"/>
            <a:chExt cx="2097000" cy="1749600"/>
          </a:xfrm>
        </p:grpSpPr>
        <p:pic>
          <p:nvPicPr>
            <p:cNvPr id="64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7320" y="4968720"/>
              <a:ext cx="209700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8" name="5-конечная звезда 3"/>
          <p:cNvGrpSpPr/>
          <p:nvPr/>
        </p:nvGrpSpPr>
        <p:grpSpPr>
          <a:xfrm>
            <a:off x="353880" y="360360"/>
            <a:ext cx="2097360" cy="1749600"/>
            <a:chOff x="353880" y="360360"/>
            <a:chExt cx="2097360" cy="1749600"/>
          </a:xfrm>
        </p:grpSpPr>
        <p:pic>
          <p:nvPicPr>
            <p:cNvPr id="649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53880" y="360360"/>
              <a:ext cx="20973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5-конечная звезда 4"/>
          <p:cNvGrpSpPr/>
          <p:nvPr/>
        </p:nvGrpSpPr>
        <p:grpSpPr>
          <a:xfrm>
            <a:off x="7192800" y="5187960"/>
            <a:ext cx="2103480" cy="1749240"/>
            <a:chOff x="7192800" y="5187960"/>
            <a:chExt cx="2103480" cy="1749240"/>
          </a:xfrm>
        </p:grpSpPr>
        <p:pic>
          <p:nvPicPr>
            <p:cNvPr id="652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92800" y="5187960"/>
              <a:ext cx="21034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5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5-конечная звезда 26"/>
          <p:cNvGrpSpPr/>
          <p:nvPr/>
        </p:nvGrpSpPr>
        <p:grpSpPr>
          <a:xfrm>
            <a:off x="8028000" y="5602320"/>
            <a:ext cx="1341360" cy="1334880"/>
            <a:chOff x="8028000" y="5602320"/>
            <a:chExt cx="1341360" cy="1334880"/>
          </a:xfrm>
        </p:grpSpPr>
        <p:pic>
          <p:nvPicPr>
            <p:cNvPr id="533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8000" y="5602320"/>
              <a:ext cx="134136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5-конечная звезда 26"/>
          <p:cNvGrpSpPr/>
          <p:nvPr/>
        </p:nvGrpSpPr>
        <p:grpSpPr>
          <a:xfrm>
            <a:off x="682560" y="5224320"/>
            <a:ext cx="1201680" cy="1157400"/>
            <a:chOff x="682560" y="5224320"/>
            <a:chExt cx="1201680" cy="1157400"/>
          </a:xfrm>
        </p:grpSpPr>
        <p:pic>
          <p:nvPicPr>
            <p:cNvPr id="554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82560" y="5224320"/>
              <a:ext cx="12016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4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ользователь Windows</cp:lastModifiedBy>
  <dcterms:modified xsi:type="dcterms:W3CDTF">2021-04-22T10:02:51Z</dcterms:modified>
  <cp:revision>51</cp:revision>
  <dc:subject/>
  <dc:title>Дети - герои ВОВ</dc:title>
</cp:coreProperties>
</file>