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6F7-650F-4153-9CDD-DBDE8C76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858-001C-4885-AFDF-A0F69D3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26936-E52E-4EF3-98BA-6204419E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734AE-B872-4C65-90DA-E4F1A689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EBDD7-FA52-4CBB-A2E9-1D64C11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CE04B-CE98-44F1-88D0-74279BE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35CF3-1E3A-456B-B537-930C61C1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1C8AD-9CF1-4879-B0D7-A123800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B5BC6-D82B-434D-B6F0-378CF581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FB666-5679-476A-8D24-07C3D5D7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20718-AA46-46AA-BC6F-1F42B2E7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75BF6-403F-40E8-8CBC-1E4CC7D0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264-8260-41B4-8002-22CA949A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9CF58-25B9-4960-B4D0-2AE5480A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31214-EC20-4F68-B826-BD7E914F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F6BAC-912F-4FE5-9EB7-4B97290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BBEA3-B42A-4575-953D-B13D45EB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A8E32-020B-4611-A7C5-D1B0339B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20565-63C7-49D3-B744-669FDE1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65C5D-9ADB-47AA-B3AC-D11F91A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58526-F1A5-498D-8A27-BF7B187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5E7D6-4835-41A8-89EB-DA5F90C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00E2F-8FDF-4786-A5A8-6DD86961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16F-A533-4AA9-8ED2-686ED8AF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606FB-CCB8-44CA-A9CF-C86FD9EA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86915-22D6-4150-9C55-67FF5B6F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EF66C-8118-43AD-A807-68F82CDD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CCE62-32F9-4D87-A67D-0F23F5FA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B8BFD-0367-48A5-9818-48EB4CB7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60E1B-1BC6-43C5-B361-2582E75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43416-7092-4235-862F-8E5C9DA2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5479F-E88E-420A-8068-63917C77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FD7C6-1D98-4398-B58C-FC902A3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1E39E-C53E-4828-A21C-A3553D0A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BA3E-891B-4093-93E0-6882364B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B5DF3-B1A9-4375-8663-FC55223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7E6C3-C34C-4B5E-96D5-90BD3A5E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EC0B2-B35D-4504-AF02-CC550191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81BAB-93CA-4AC3-8CBB-52F5047C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02906-ED77-4853-B2E3-43A5FD38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00466-11C3-483E-AAF6-ADD356BF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0B31E-81A8-4559-958E-2DB2A4F2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0C493-857D-4937-B574-74DCE97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FCCBF-B568-4910-AA3B-DF13A73F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6961D-9EFA-4507-BF23-96D6B7E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9636-D492-471B-99DE-C4C3BCE5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7CD23-73DC-4131-AA0A-7D7B8F2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7F8D4-849D-4D05-A959-FECEED5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6C9C2-3156-41C1-9DDF-4191A317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4F773-43A0-4612-B075-DF91CA23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D8897-CE1D-4D09-BF12-4C5541F6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C896-F07B-491C-8B37-6EFFD7D4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1FD4-E35F-4709-B6D1-63EACD63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AF73-3337-4E85-8B46-4A38905E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A7E-7EDC-4182-80B8-538D9ECA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9D9C-F1F8-4FA9-BD02-284FD69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87E-7004-4F0A-ADDF-3335E4EB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B879-6DFC-47B2-AB14-D3537BC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46F-95B9-476A-8C85-8290909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D83E-ED45-4AB6-8E47-CF7EB8A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78EA-8617-4543-B74A-CF7BE73C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5FF-7470-4C1C-86CA-6017297F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0A9A-E335-4211-ACCD-B3327385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AEC4-3C82-4172-B1D8-DD7DA4BC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21D8-E636-4E15-B712-3AB06B8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CC44-E99C-4344-BBAD-A1F08D8F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3E70-5DE9-410E-8B75-55274E8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AEF-96D6-4626-9203-19D43631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7D73-EDCB-49F2-95B1-21DFAF5E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820E-699E-4236-A86C-61C7EC3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980B-3E93-4C28-BF4B-C54F99B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BBED-B631-4B35-A386-1C3C6CFF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7CB1-C2B2-4A83-9190-330234EE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2DB0-C57E-46E1-9052-981C9332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9713-600A-40A7-A586-E4D6B0BA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4DD3-87BB-4796-BB84-59236D5E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FF523-0AFC-4A83-968A-C09C932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277AE-FDC0-4962-A9B3-57A5CAEB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4A4-BA77-4E0B-A4CD-A9AE3F5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737A-1005-4D6F-A421-0C4E8121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48836-70D0-4C84-AF2D-A09C4F85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DEB5-899D-4A6B-90A0-1FE59A7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4BAF-CC39-4177-8DE2-40979AA5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69EE-A6ED-4B9F-B675-84F88EB2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A002-ADF4-4B4C-8F12-4E79378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B60C8-7949-4E04-A36D-838358D3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B301-E0DE-4DE1-8E6D-4CB2461E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08A0-4FC9-4CF0-9DA7-9B6FDE2D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AE6A-C7B3-4D47-9945-29A3891F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C3A-13A9-4BD5-8511-F0BCB644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BD18-3355-478F-BE7D-D9531732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7E05-29FB-4E31-B9EB-7C9DED6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92AB4-E8EE-4327-B403-F329DA9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ED1A-A993-4047-AB15-0AB25919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EA8F-0E8C-49F5-8BE8-C6386F45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6519-782B-41F7-9793-ADE81CE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12C1-FF0C-424A-B038-EC09578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63B06-D1FE-4AFC-9949-560CD92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010F-2AE2-43FB-A622-D4442B7A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EEBA-876F-421F-AC96-E5E2020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AC9-70B3-4132-BE2B-7484D459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85F0-27C7-4D24-BFD3-57A654D0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B87C1-35BA-4C7C-B9C4-3C9D5FD7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A72D-D3F0-4C12-BD62-47E95BE5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CDF6-3273-41E2-A748-55F47B9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46F5-31BF-441C-94D1-23772BE2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036A-932D-4492-A29B-20B2D564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00334-56D8-4B98-924F-B89E4A3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DEA3A-B8DB-4392-8654-C520544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D581A-E3C8-4621-9E1B-496035E8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73396-A7F3-4094-878C-55E8BA7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CFD-04C0-4463-87D5-4744AE5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5614D-A5EB-4495-9C81-E8C0AA71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1A70-7C17-4161-9838-9759C051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26A7-3A6A-4FB7-9828-236688CD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BB332-6D0B-4646-835E-5889F67E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057B7-C8BC-481A-91E0-8FCE4B3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4AC9-FACF-4236-B3BD-BC6FAD53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673F9-6E21-4AAF-B439-E2E0324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9CC53-C413-4030-9B72-BFAA435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660A7-E395-4BE0-A90C-C30C437E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642A-0AC3-4DCD-8961-5D51B1A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85D-2C02-4263-8DEE-CCB315C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E8EE-27DD-4C61-B85A-FA4BDDF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7EBA6-0243-40EC-8EE4-DECFBC3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6122-90AD-4F71-A2CF-0BAB927B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1DEB-BADF-4490-A32B-51D5BE58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E705-5A48-4238-B87F-8499A00A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2631-8923-47D3-AC59-1A02057A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FEDFB-7BC8-4F8C-A425-85EDA999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C55CA-0904-4D16-89A8-086110B0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09F26-A9CC-423E-8F99-C61C0E3A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DA103-3D5C-46E2-8082-DC70BDC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712-3311-44E1-BEFC-DA77375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08BF-0F39-4530-9E54-8B5F829E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49FB0-63C6-4883-BAFD-8AE744F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B541-C960-483B-81F9-53D7625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FB77-D7FB-4BBE-B0DB-AE663E4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47AE4-8FC0-4BDF-A182-7A034D34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7633-A8D7-466A-B189-78BDFDA4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BECF7-80F5-4CE3-B479-FF00AE7E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B6B81-0679-462F-A1C0-EFB65DC1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2D73A-4364-4961-991D-7ADC53A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ED0F-1DCA-47ED-B27F-27DA67C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7F3-1B47-48D6-93F5-6047186AD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10AA-A52F-49BA-8D6C-E82590025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386F-D45F-4DE0-9BAB-FEB9B1546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588-DD5B-4FC9-A5F6-CA7D045C6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B61-D151-43B5-B0C4-E4AE2BD7A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DA81-5D73-4A11-A171-45B93C208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4D04-A6C5-43AD-98A8-13893A96E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7F92-63D8-48F7-B5C1-9C061C661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CBC-A8E6-4455-8AF2-4BC2E07CD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9F61-07AA-4218-9652-5B5186E17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E178-FD31-4A27-A983-6E864EB76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60D2-81AC-4D60-A3B3-F709D11418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6920" y="244440"/>
            <a:ext cx="2341440" cy="2333520"/>
            <a:chOff x="1096920" y="244440"/>
            <a:chExt cx="2341440" cy="233352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6920" y="244440"/>
              <a:ext cx="234144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4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9360" y="407880"/>
            <a:ext cx="1334880" cy="1341720"/>
            <a:chOff x="549360" y="407880"/>
            <a:chExt cx="1334880" cy="1341720"/>
          </a:xfrm>
        </p:grpSpPr>
        <p:pic>
          <p:nvPicPr>
            <p:cNvPr id="503" name="5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549360" y="407880"/>
              <a:ext cx="1334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15200" y="5376960"/>
            <a:ext cx="1341360" cy="1341360"/>
            <a:chOff x="7315200" y="5376960"/>
            <a:chExt cx="1341360" cy="1341360"/>
          </a:xfrm>
        </p:grpSpPr>
        <p:pic>
          <p:nvPicPr>
            <p:cNvPr id="506" name="5-конечная звезда 26" descr=""/>
            <p:cNvPicPr/>
            <p:nvPr/>
          </p:nvPicPr>
          <p:blipFill>
            <a:blip r:embed="rId4"/>
            <a:stretch/>
          </p:blipFill>
          <p:spPr>
            <a:xfrm>
              <a:off x="7315200" y="5376960"/>
              <a:ext cx="1341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5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1" name="5-конечная звезда 6"/>
          <p:cNvGrpSpPr/>
          <p:nvPr/>
        </p:nvGrpSpPr>
        <p:grpSpPr>
          <a:xfrm>
            <a:off x="-42840" y="-42840"/>
            <a:ext cx="2103480" cy="1749240"/>
            <a:chOff x="-42840" y="-42840"/>
            <a:chExt cx="2103480" cy="1749240"/>
          </a:xfrm>
        </p:grpSpPr>
        <p:pic>
          <p:nvPicPr>
            <p:cNvPr id="632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2840" y="-42840"/>
              <a:ext cx="21034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5-конечная звезда 7"/>
          <p:cNvGrpSpPr/>
          <p:nvPr/>
        </p:nvGrpSpPr>
        <p:grpSpPr>
          <a:xfrm>
            <a:off x="7047000" y="5114880"/>
            <a:ext cx="2103480" cy="1749600"/>
            <a:chOff x="7047000" y="5114880"/>
            <a:chExt cx="2103480" cy="1749600"/>
          </a:xfrm>
        </p:grpSpPr>
        <p:pic>
          <p:nvPicPr>
            <p:cNvPr id="635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7000" y="5114880"/>
              <a:ext cx="210348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5-конечная звезда 26"/>
          <p:cNvGrpSpPr/>
          <p:nvPr/>
        </p:nvGrpSpPr>
        <p:grpSpPr>
          <a:xfrm>
            <a:off x="549360" y="407880"/>
            <a:ext cx="1334880" cy="1341720"/>
            <a:chOff x="549360" y="407880"/>
            <a:chExt cx="1334880" cy="1341720"/>
          </a:xfrm>
        </p:grpSpPr>
        <p:pic>
          <p:nvPicPr>
            <p:cNvPr id="511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9360" y="407880"/>
              <a:ext cx="1334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5-конечная звезда 26"/>
          <p:cNvGrpSpPr/>
          <p:nvPr/>
        </p:nvGrpSpPr>
        <p:grpSpPr>
          <a:xfrm>
            <a:off x="7315200" y="5376960"/>
            <a:ext cx="1341360" cy="1341360"/>
            <a:chOff x="7315200" y="5376960"/>
            <a:chExt cx="1341360" cy="1341360"/>
          </a:xfrm>
        </p:grpSpPr>
        <p:pic>
          <p:nvPicPr>
            <p:cNvPr id="514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15200" y="5376960"/>
              <a:ext cx="1341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9" name="5-конечная звезда 3"/>
          <p:cNvGrpSpPr/>
          <p:nvPr/>
        </p:nvGrpSpPr>
        <p:grpSpPr>
          <a:xfrm>
            <a:off x="-42840" y="-42840"/>
            <a:ext cx="2103480" cy="1749240"/>
            <a:chOff x="-42840" y="-42840"/>
            <a:chExt cx="2103480" cy="1749240"/>
          </a:xfrm>
        </p:grpSpPr>
        <p:pic>
          <p:nvPicPr>
            <p:cNvPr id="64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2840" y="-42840"/>
              <a:ext cx="21034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5-конечная звезда 4"/>
          <p:cNvGrpSpPr/>
          <p:nvPr/>
        </p:nvGrpSpPr>
        <p:grpSpPr>
          <a:xfrm>
            <a:off x="6907320" y="4968720"/>
            <a:ext cx="2097000" cy="1749600"/>
            <a:chOff x="6907320" y="4968720"/>
            <a:chExt cx="2097000" cy="1749600"/>
          </a:xfrm>
        </p:grpSpPr>
        <p:pic>
          <p:nvPicPr>
            <p:cNvPr id="64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7320" y="4968720"/>
              <a:ext cx="209700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8" name="5-конечная звезда 3"/>
          <p:cNvGrpSpPr/>
          <p:nvPr/>
        </p:nvGrpSpPr>
        <p:grpSpPr>
          <a:xfrm>
            <a:off x="353880" y="360360"/>
            <a:ext cx="2097360" cy="1749600"/>
            <a:chOff x="353880" y="360360"/>
            <a:chExt cx="2097360" cy="1749600"/>
          </a:xfrm>
        </p:grpSpPr>
        <p:pic>
          <p:nvPicPr>
            <p:cNvPr id="649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53880" y="360360"/>
              <a:ext cx="20973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5-конечная звезда 4"/>
          <p:cNvGrpSpPr/>
          <p:nvPr/>
        </p:nvGrpSpPr>
        <p:grpSpPr>
          <a:xfrm>
            <a:off x="7192800" y="5187960"/>
            <a:ext cx="2103480" cy="1749240"/>
            <a:chOff x="7192800" y="5187960"/>
            <a:chExt cx="2103480" cy="1749240"/>
          </a:xfrm>
        </p:grpSpPr>
        <p:pic>
          <p:nvPicPr>
            <p:cNvPr id="652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92800" y="5187960"/>
              <a:ext cx="21034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5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5-конечная звезда 26"/>
          <p:cNvGrpSpPr/>
          <p:nvPr/>
        </p:nvGrpSpPr>
        <p:grpSpPr>
          <a:xfrm>
            <a:off x="8028000" y="5602320"/>
            <a:ext cx="1341360" cy="1334880"/>
            <a:chOff x="8028000" y="5602320"/>
            <a:chExt cx="1341360" cy="1334880"/>
          </a:xfrm>
        </p:grpSpPr>
        <p:pic>
          <p:nvPicPr>
            <p:cNvPr id="533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8000" y="5602320"/>
              <a:ext cx="134136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5-конечная звезда 26"/>
          <p:cNvGrpSpPr/>
          <p:nvPr/>
        </p:nvGrpSpPr>
        <p:grpSpPr>
          <a:xfrm>
            <a:off x="682560" y="5224320"/>
            <a:ext cx="1201680" cy="1157400"/>
            <a:chOff x="682560" y="5224320"/>
            <a:chExt cx="1201680" cy="1157400"/>
          </a:xfrm>
        </p:grpSpPr>
        <p:pic>
          <p:nvPicPr>
            <p:cNvPr id="554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82560" y="5224320"/>
              <a:ext cx="12016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4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ользователь Windows</cp:lastModifiedBy>
  <dcterms:modified xsi:type="dcterms:W3CDTF">2021-04-22T10:02:51Z</dcterms:modified>
  <cp:revision>51</cp:revision>
  <dc:subject/>
  <dc:title>Дети - герои ВОВ</dc:title>
</cp:coreProperties>
</file>