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png" ContentType="image/png"/>
  <Override PartName="/ppt/media/image46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1.png" ContentType="image/png"/>
  <Override PartName="/ppt/media/image40.png" ContentType="image/png"/>
  <Override PartName="/ppt/media/image37.jpeg" ContentType="image/jpeg"/>
  <Override PartName="/ppt/media/image25.jpeg" ContentType="image/jpeg"/>
  <Override PartName="/ppt/media/image18.jpeg" ContentType="image/jpeg"/>
  <Override PartName="/ppt/media/image24.jpeg" ContentType="image/jpeg"/>
  <Override PartName="/ppt/media/image21.jpeg" ContentType="image/jpeg"/>
  <Override PartName="/ppt/media/image12.png" ContentType="image/png"/>
  <Override PartName="/ppt/media/image2.png" ContentType="image/png"/>
  <Override PartName="/ppt/media/image72.jpeg" ContentType="image/jpeg"/>
  <Override PartName="/ppt/media/image28.jpeg" ContentType="image/jpeg"/>
  <Override PartName="/ppt/media/image51.jpeg" ContentType="image/jpeg"/>
  <Override PartName="/ppt/media/image16.jpeg" ContentType="image/jpeg"/>
  <Override PartName="/ppt/media/image60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63.jpeg" ContentType="image/jpeg"/>
  <Override PartName="/ppt/media/image4.png" ContentType="image/png"/>
  <Override PartName="/ppt/media/image13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47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6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1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921-DFC5-46CC-ACC6-576D17A2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95B-5EFB-48CF-BD04-6ED85F13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956-BD8B-4F10-BA35-255AADD4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F86-66B3-4AC0-8969-6773946E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1C1-4E4A-475F-A56D-A0C29AA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813-E831-466E-8017-9724DC15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672-3919-45B4-A1C1-0D237288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6DD-A507-46FB-91F8-75B10A28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8D8-D643-4622-B384-3936FFEB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790-CDA4-4582-9076-B741C8A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303-BB4F-4D1E-9C22-A16B6171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7F2-93BA-46A2-BBA7-22D8AD22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C287-1511-4422-B67A-8986B75105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0920" y="907920"/>
            <a:ext cx="6048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МБДОУ «Детский сад №14»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. Городец Нижегород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06064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Проект по ранней профориентации до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«Городецкие масте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оспитатель : Татаринцева А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82793cd0c2ca990f00a0bfec5cc7025d?url=http%3A%2F%2Fimg1"/>
          <p:cNvPicPr/>
          <p:nvPr/>
        </p:nvPicPr>
        <p:blipFill>
          <a:blip r:embed="rId2"/>
          <a:stretch/>
        </p:blipFill>
        <p:spPr>
          <a:xfrm>
            <a:off x="7236000" y="4797360"/>
            <a:ext cx="1438200" cy="175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82793cd0c2ca990f00a0bfec5cc7025d"/>
          <p:cNvPicPr/>
          <p:nvPr/>
        </p:nvPicPr>
        <p:blipFill>
          <a:blip r:embed="rId3"/>
          <a:stretch/>
        </p:blipFill>
        <p:spPr>
          <a:xfrm>
            <a:off x="0" y="404640"/>
            <a:ext cx="1104840" cy="134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82793cd0c2ca990f00a0bfec5cc7025d?url=http%3A%2F%2Fimg1"/>
          <p:cNvPicPr/>
          <p:nvPr/>
        </p:nvPicPr>
        <p:blipFill>
          <a:blip r:embed="rId4"/>
          <a:stretch/>
        </p:blipFill>
        <p:spPr>
          <a:xfrm>
            <a:off x="8028000" y="4005360"/>
            <a:ext cx="863640" cy="95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82793cd0c2ca990f00a0bfec5cc7025d?url=http%3A%2F%2Fimg1"/>
          <p:cNvPicPr/>
          <p:nvPr/>
        </p:nvPicPr>
        <p:blipFill>
          <a:blip r:embed="rId5"/>
          <a:stretch/>
        </p:blipFill>
        <p:spPr>
          <a:xfrm>
            <a:off x="8358120" y="4005360"/>
            <a:ext cx="78588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937 0.00209 -0.03472 0.00255 -0.05711 0.00394 C -0.06475 0.00417 -0.07482 0.00463 -0.08107 0.0051 C -0.0835 0.00533 -0.08559 0.00556 -0.08854 0.00579 C -0.09079 0.00579 -0.09357 0.00579 -0.096 0.00579 C -0.10729 0.00649 -0.11927 0.00695 -0.13107 0.00764 C -0.13472 0.00764 -0.14218 0.00811 -0.14218 0.00811 C -0.1526 0.00926 -0.13854 0.00787 -0.15138 0.0088 C -0.15659 0.00926 -0.15954 0.00949 -0.16614 0.00996 C -0.17291 0.01065 -0.16614 0.00996 -0.17534 0.01065 C -0.18229 0.01112 -0.18541 0.01158 -0.19375 0.01204 E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375 0.01204 C -0.26754 0.01412 -0.34219 0.00926 -0.41528 0.02014 C -0.42136 0.02199 -0.42674 0.0243 -0.43299 0.0243 E">
                                      <p:cBhvr>
                                        <p:cTn id="9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299 0.0243 C -0.48247 0.04815 -0.44149 0.02893 -0.57899 0.02893 C -0.63212 0.02893 -0.77934 0.08032 -0.73924 0.0243 E">
                                      <p:cBhvr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C 0.00156 -0.00208 0.00278 -0.0044 0.00451 -0.00602 C 0.00729 -0.0088 0.01337 -0.01366 0.01337 -0.01366 C 0.02326 -0.03403 0.00833 -0.0044 0.02066 -0.02546 C 0.02986 -0.04143 0.0224 -0.03356 0.0309 -0.0412 C 0.03663 -0.05255 0.04618 -0.06412 0.0559 -0.06875 C 0.0599 -0.07685 0.06354 -0.07708 0.06927 -0.08241 C 0.08299 -0.09537 0.06545 -0.08287 0.07795 -0.09028 C 0.08004 -0.09143 0.08194 -0.09259 0.08385 -0.09421 C 0.08698 -0.09676 0.09271 -0.10208 0.09271 -0.10208 C 0.12431 -0.10093 0.14323 -0.10486 0.16927 -0.09421 C 0.17413 -0.08981 0.17535 -0.08472 0.1809 -0.08241 C 0.18438 -0.06829 0.18125 -0.07292 0.18837 -0.06667 C 0.19132 -0.05417 0.18715 -0.06643 0.19427 -0.0588 C 0.20677 -0.04537 0.18958 -0.05833 0.2 -0.05093 E">
                                      <p:cBhvr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-0.05092 C 0.20295 -0.05161 0.20608 -0.05115 0.20868 -0.053 C 0.21042 -0.05416 0.21389 -0.0655 0.21458 -0.06666 C 0.2158 -0.06851 0.21754 -0.06921 0.2191 -0.07059 C 0.22934 -0.09073 0.25122 -0.08402 0.26754 -0.08634 C 0.27882 -0.09097 0.28993 -0.09629 0.30139 -0.09999 C 0.32292 -0.0993 0.34462 -0.0993 0.36615 -0.09814 C 0.38142 -0.09722 0.40434 -0.08726 0.4191 -0.08032 C 0.42361 -0.0743 0.4283 -0.07337 0.43229 -0.06666 C 0.4349 -0.06226 0.43958 -0.053 0.43958 -0.053 C 0.44011 -0.05046 0.43993 -0.04722 0.44115 -0.04513 C 0.44601 -0.03703 0.44549 -0.04675 0.44549 -0.0412 E">
                                      <p:cBhvr>
                                        <p:cTn id="18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9 -0.0412 C 0.45417 -0.0412 0.46198 -0.04467 0.47083 -0.04467 C 0.48351 -0.04837 0.47743 -0.04791 0.48802 -0.04745 C 0.49323 -0.04884 0.49774 -0.0493 0.50313 -0.04907 C 0.52101 -0.05462 0.49392 -0.04699 0.51493 -0.05069 C 0.51875 -0.05092 0.52222 -0.05254 0.52552 -0.0537 C 0.52778 -0.05416 0.52986 -0.053 0.53194 -0.05324 C 0.5401 -0.05324 0.54635 -0.05509 0.55382 -0.05462 C 0.56042 -0.05648 0.56545 -0.05578 0.57153 -0.05879 C 0.77257 -0.00115 0.6783 -0.03518 0.74583 -0.00601 C 0.75781 0.00163 0.77153 0.00625 0.7842 0.01366 C 0.7908 0.02014 0.79722 0.02385 0.80521 0.02848 C 0.80816 0.03033 0.81129 0.03218 0.81441 0.03403 C 0.8158 0.03496 0.81875 0.03681 0.8191 0.03704 C 0.82309 0.04538 0.82795 0.05186 0.83507 0.05788 C 0.83906 0.06505 0.84045 0.0713 0.84358 0.07825 C 0.84427 0.07963 0.84358 0.08172 0.84479 0.08288 C 0.84566 0.08426 0.84809 0.08473 0.84931 0.08588 C 0.85521 0.09028 0.86181 0.09445 0.86701 0.09977 C 0.86736 0.10116 0.8691 0.10348 0.86806 0.10463 C 0.86667 0.10556 0.86441 0.10394 0.86302 0.10487 C 0.85712 0.10811 0.86024 0.10834 0.8625 0.1088 E">
                                      <p:cBhvr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913 -0.29074 C -0.73767 -0.2912 -0.72639 -0.29027 -0.71527 -0.29282 C -0.71267 -0.29328 -0.70121 -0.30949 -0.70069 -0.30995 C -0.69357 -0.3199 -0.6842 -0.33055 -0.67413 -0.33703 C -0.66927 -0.34421 -0.66701 -0.35162 -0.66215 -0.35879 C -0.66041 -0.38819 -0.65954 -0.41643 -0.64982 -0.44467 C -0.64652 -0.48356 -0.62986 -0.53981 -0.66701 -0.56435 C -0.67639 -0.57801 -0.68958 -0.58819 -0.70555 -0.59328 C -0.71284 -0.59838 -0.71927 -0.60069 -0.72743 -0.60324 C -0.80052 -0.60023 -0.76632 -0.60509 -0.79982 -0.59328 C -0.81892 -0.56481 -0.80954 -0.58472 -0.80954 -0.52754 E">
                                      <p:cBhvr>
                                        <p:cTn id="27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331 C -0.00069 -0.0412 -0.00086 -0.04953 -0.00173 -0.05787 C -0.00173 -0.0581 -0.00451 -0.06319 -0.00468 -0.06342 C -0.00642 -0.06551 -0.01076 -0.06921 -0.01076 -0.06898 C -0.01388 -0.07569 -0.00937 -0.06875 -0.01649 -0.07407 C -0.02309 -0.07893 -0.02586 -0.08333 -0.03559 -0.08541 C -0.04409 -0.08912 -0.05312 -0.09004 -0.06215 -0.09398 C -0.07569 -0.09375 -0.12309 -0.09606 -0.14739 -0.0912 C -0.14895 -0.09051 -0.15034 -0.08981 -0.15173 -0.08935 C -0.15451 -0.08842 -0.16076 -0.08726 -0.16076 -0.08726 C -0.16753 -0.08287 -0.1743 -0.07754 -0.18298 -0.07407 C -0.1875 -0.06944 -0.18524 -0.07222 -0.18871 -0.06551 C -0.18941 -0.06412 -0.19184 -0.06365 -0.19322 -0.0625 C -0.19427 -0.06157 -0.19496 -0.06064 -0.196 -0.05972 C -0.19791 -0.05578 -0.19809 -0.05439 -0.20329 -0.05208 C -0.20434 -0.05115 -0.20486 -0.05 -0.20607 -0.04907 C -0.20746 -0.04861 -0.20972 -0.04907 -0.21076 -0.04814 C -0.21163 -0.04768 -0.2151 -0.0412 -0.21666 -0.03958 C -0.21979 -0.02662 -0.21493 -0.03958 -0.22239 -0.03101 C -0.22343 -0.02986 -0.22326 -0.02847 -0.22395 -0.02731 C -0.22465 -0.02615 -0.22586 -0.02523 -0.22691 -0.0243 C -0.22829 -0.0206 -0.23003 -0.01689 -0.23125 -0.01296 C -0.23402 0.00718 -0.22743 -0.00578 -0.23715 0.00047 C -0.24652 0.00649 -0.23316 0.00047 -0.24461 0.00533 C -0.24756 0.01111 -0.25121 0.0132 -0.25781 0.01783 C -0.26197 0.02037 -0.26267 0.02431 -0.26666 0.02709 C -0.27656 0.03357 -0.29375 0.03264 -0.30625 0.0338 C -0.31111 0.03357 -0.31753 0.03519 -0.32118 0.03287 C -0.32309 0.03149 -0.31805 0.02709 -0.31805 0.02732 C -0.31666 0.01088 -0.32309 0.00787 -0.30191 0.00996 C -0.29479 0.0169 -0.29895 0.01158 -0.29895 0.02801 E">
                                      <p:cBhvr>
                                        <p:cTn id="30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здание новых альбомов о профессиях «Художник», «Резчик по дереву», « Мастера Городецкой роспис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rcRect l="-895" t="0" r="0" b="0"/>
          <a:stretch/>
        </p:blipFill>
        <p:spPr>
          <a:xfrm>
            <a:off x="900000" y="954000"/>
            <a:ext cx="4176720" cy="2799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3456000" y="3908520"/>
            <a:ext cx="2592360" cy="2739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3"/>
          <a:stretch/>
        </p:blipFill>
        <p:spPr>
          <a:xfrm>
            <a:off x="5580000" y="1052640"/>
            <a:ext cx="2808360" cy="2743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736720" cy="2784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"/>
          <p:cNvPicPr/>
          <p:nvPr/>
        </p:nvPicPr>
        <p:blipFill>
          <a:blip r:embed="rId5"/>
          <a:stretch/>
        </p:blipFill>
        <p:spPr>
          <a:xfrm>
            <a:off x="6300720" y="3881520"/>
            <a:ext cx="25369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80643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эпбук «Городецкая роспи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250920" y="687240"/>
            <a:ext cx="4465440" cy="3035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"/>
          <p:cNvPicPr/>
          <p:nvPr/>
        </p:nvPicPr>
        <p:blipFill>
          <a:blip r:embed="rId2"/>
          <a:stretch/>
        </p:blipFill>
        <p:spPr>
          <a:xfrm>
            <a:off x="5292720" y="712800"/>
            <a:ext cx="2951280" cy="29354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"/>
          <p:cNvPicPr/>
          <p:nvPr/>
        </p:nvPicPr>
        <p:blipFill>
          <a:blip r:embed="rId3"/>
          <a:stretch/>
        </p:blipFill>
        <p:spPr>
          <a:xfrm>
            <a:off x="344520" y="3827520"/>
            <a:ext cx="2139840" cy="28526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"/>
          <p:cNvPicPr/>
          <p:nvPr/>
        </p:nvPicPr>
        <p:blipFill>
          <a:blip r:embed="rId4"/>
          <a:stretch/>
        </p:blipFill>
        <p:spPr>
          <a:xfrm>
            <a:off x="2916360" y="3827520"/>
            <a:ext cx="2160360" cy="2879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"/>
          <p:cNvPicPr/>
          <p:nvPr/>
        </p:nvPicPr>
        <p:blipFill>
          <a:blip r:embed="rId5"/>
          <a:stretch/>
        </p:blipFill>
        <p:spPr>
          <a:xfrm>
            <a:off x="5511960" y="3827520"/>
            <a:ext cx="2592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идактическая игра  «Составь узор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456000" cy="32684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"/>
          <p:cNvPicPr/>
          <p:nvPr/>
        </p:nvPicPr>
        <p:blipFill>
          <a:blip r:embed="rId2"/>
          <a:stretch/>
        </p:blipFill>
        <p:spPr>
          <a:xfrm>
            <a:off x="3921120" y="552600"/>
            <a:ext cx="2448000" cy="32652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3"/>
          <a:stretch/>
        </p:blipFill>
        <p:spPr>
          <a:xfrm>
            <a:off x="457200" y="4011480"/>
            <a:ext cx="2459160" cy="2678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4"/>
          <a:stretch/>
        </p:blipFill>
        <p:spPr>
          <a:xfrm>
            <a:off x="3276720" y="4019400"/>
            <a:ext cx="2590560" cy="2657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"/>
          <p:cNvPicPr/>
          <p:nvPr/>
        </p:nvPicPr>
        <p:blipFill>
          <a:blip r:embed="rId5"/>
          <a:stretch/>
        </p:blipFill>
        <p:spPr>
          <a:xfrm>
            <a:off x="6651720" y="684360"/>
            <a:ext cx="2313000" cy="3084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"/>
          <p:cNvPicPr/>
          <p:nvPr/>
        </p:nvPicPr>
        <p:blipFill>
          <a:blip r:embed="rId6"/>
          <a:stretch/>
        </p:blipFill>
        <p:spPr>
          <a:xfrm>
            <a:off x="6234120" y="3995640"/>
            <a:ext cx="24145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360" y="189000"/>
            <a:ext cx="878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ртуальная экскурсия на фабр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Городецкая роспи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3174840" y="1201680"/>
            <a:ext cx="2784600" cy="2887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" descr=""/>
          <p:cNvPicPr/>
          <p:nvPr/>
        </p:nvPicPr>
        <p:blipFill>
          <a:blip r:embed="rId2"/>
          <a:stretch/>
        </p:blipFill>
        <p:spPr>
          <a:xfrm>
            <a:off x="355680" y="1055520"/>
            <a:ext cx="2490840" cy="3116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4859280" y="189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и и видеоролики о  мастерах городецкой росписи и резьбы по де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"/>
          <p:cNvPicPr/>
          <p:nvPr/>
        </p:nvPicPr>
        <p:blipFill>
          <a:blip r:embed="rId3"/>
          <a:stretch/>
        </p:blipFill>
        <p:spPr>
          <a:xfrm>
            <a:off x="6297480" y="1214280"/>
            <a:ext cx="2597400" cy="1629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"/>
          <p:cNvPicPr/>
          <p:nvPr/>
        </p:nvPicPr>
        <p:blipFill>
          <a:blip r:embed="rId4"/>
          <a:stretch/>
        </p:blipFill>
        <p:spPr>
          <a:xfrm>
            <a:off x="6288120" y="2944800"/>
            <a:ext cx="2536920" cy="16239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5"/>
          <a:stretch/>
        </p:blipFill>
        <p:spPr>
          <a:xfrm>
            <a:off x="6353280" y="4781520"/>
            <a:ext cx="2662200" cy="17082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" descr=""/>
          <p:cNvPicPr/>
          <p:nvPr/>
        </p:nvPicPr>
        <p:blipFill>
          <a:blip r:embed="rId6"/>
          <a:stretch/>
        </p:blipFill>
        <p:spPr>
          <a:xfrm>
            <a:off x="3218040" y="4257720"/>
            <a:ext cx="2989080" cy="2241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7"/>
          <a:stretch/>
        </p:blipFill>
        <p:spPr>
          <a:xfrm>
            <a:off x="166680" y="4454640"/>
            <a:ext cx="290520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посредственно образовательная и самостоятельная художестве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Объект 5" descr=""/>
          <p:cNvPicPr/>
          <p:nvPr/>
        </p:nvPicPr>
        <p:blipFill>
          <a:blip r:embed="rId1"/>
          <a:stretch/>
        </p:blipFill>
        <p:spPr>
          <a:xfrm>
            <a:off x="77760" y="1028880"/>
            <a:ext cx="2521080" cy="24177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2"/>
          <a:stretch/>
        </p:blipFill>
        <p:spPr>
          <a:xfrm>
            <a:off x="2682720" y="1046160"/>
            <a:ext cx="3524400" cy="2400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"/>
          <p:cNvPicPr/>
          <p:nvPr/>
        </p:nvPicPr>
        <p:blipFill>
          <a:blip r:embed="rId3"/>
          <a:stretch/>
        </p:blipFill>
        <p:spPr>
          <a:xfrm>
            <a:off x="2716200" y="3649680"/>
            <a:ext cx="3166920" cy="2711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"/>
          <p:cNvPicPr/>
          <p:nvPr/>
        </p:nvPicPr>
        <p:blipFill>
          <a:blip r:embed="rId4"/>
          <a:stretch/>
        </p:blipFill>
        <p:spPr>
          <a:xfrm>
            <a:off x="163440" y="3573360"/>
            <a:ext cx="2435400" cy="2857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2" descr=""/>
          <p:cNvPicPr/>
          <p:nvPr/>
        </p:nvPicPr>
        <p:blipFill>
          <a:blip r:embed="rId5"/>
          <a:stretch/>
        </p:blipFill>
        <p:spPr>
          <a:xfrm>
            <a:off x="6207120" y="3672000"/>
            <a:ext cx="2720880" cy="26683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6"/>
          <a:stretch/>
        </p:blipFill>
        <p:spPr>
          <a:xfrm>
            <a:off x="6453360" y="789120"/>
            <a:ext cx="2327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Экскурсия по Городцу и в Город Мас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5" descr=""/>
          <p:cNvPicPr/>
          <p:nvPr/>
        </p:nvPicPr>
        <p:blipFill>
          <a:blip r:embed="rId1"/>
          <a:stretch/>
        </p:blipFill>
        <p:spPr>
          <a:xfrm>
            <a:off x="179280" y="841320"/>
            <a:ext cx="2287800" cy="2658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"/>
          <p:cNvPicPr/>
          <p:nvPr/>
        </p:nvPicPr>
        <p:blipFill>
          <a:blip r:embed="rId2"/>
          <a:stretch/>
        </p:blipFill>
        <p:spPr>
          <a:xfrm>
            <a:off x="2700360" y="836640"/>
            <a:ext cx="207180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"/>
          <p:cNvPicPr/>
          <p:nvPr/>
        </p:nvPicPr>
        <p:blipFill>
          <a:blip r:embed="rId3"/>
          <a:stretch/>
        </p:blipFill>
        <p:spPr>
          <a:xfrm>
            <a:off x="4971960" y="836640"/>
            <a:ext cx="20163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"/>
          <p:cNvPicPr/>
          <p:nvPr/>
        </p:nvPicPr>
        <p:blipFill>
          <a:blip r:embed="rId4"/>
          <a:stretch/>
        </p:blipFill>
        <p:spPr>
          <a:xfrm>
            <a:off x="7189920" y="822240"/>
            <a:ext cx="1774800" cy="26780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"/>
          <p:cNvPicPr/>
          <p:nvPr/>
        </p:nvPicPr>
        <p:blipFill>
          <a:blip r:embed="rId5"/>
          <a:stretch/>
        </p:blipFill>
        <p:spPr>
          <a:xfrm>
            <a:off x="179280" y="4014720"/>
            <a:ext cx="2952720" cy="23097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"/>
          <p:cNvPicPr/>
          <p:nvPr/>
        </p:nvPicPr>
        <p:blipFill>
          <a:blip r:embed="rId6"/>
          <a:stretch/>
        </p:blipFill>
        <p:spPr>
          <a:xfrm>
            <a:off x="3348000" y="4006800"/>
            <a:ext cx="2621160" cy="2320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"/>
          <p:cNvPicPr/>
          <p:nvPr/>
        </p:nvPicPr>
        <p:blipFill>
          <a:blip r:embed="rId7"/>
          <a:stretch/>
        </p:blipFill>
        <p:spPr>
          <a:xfrm>
            <a:off x="6275520" y="4006800"/>
            <a:ext cx="26892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стер- класс по Городецкой росписи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6" descr=""/>
          <p:cNvPicPr/>
          <p:nvPr/>
        </p:nvPicPr>
        <p:blipFill>
          <a:blip r:embed="rId1"/>
          <a:stretch/>
        </p:blipFill>
        <p:spPr>
          <a:xfrm>
            <a:off x="420840" y="738360"/>
            <a:ext cx="2317680" cy="29509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8" descr=""/>
          <p:cNvPicPr/>
          <p:nvPr/>
        </p:nvPicPr>
        <p:blipFill>
          <a:blip r:embed="rId2"/>
          <a:stretch/>
        </p:blipFill>
        <p:spPr>
          <a:xfrm>
            <a:off x="3164040" y="736560"/>
            <a:ext cx="2319120" cy="29527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"/>
          <p:cNvPicPr/>
          <p:nvPr/>
        </p:nvPicPr>
        <p:blipFill>
          <a:blip r:embed="rId3"/>
          <a:stretch/>
        </p:blipFill>
        <p:spPr>
          <a:xfrm>
            <a:off x="5908680" y="736560"/>
            <a:ext cx="2376360" cy="2952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"/>
          <p:cNvPicPr/>
          <p:nvPr/>
        </p:nvPicPr>
        <p:blipFill>
          <a:blip r:embed="rId4"/>
          <a:srcRect l="-868" t="0" r="0" b="0"/>
          <a:stretch/>
        </p:blipFill>
        <p:spPr>
          <a:xfrm>
            <a:off x="82440" y="4005360"/>
            <a:ext cx="4737240" cy="2487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2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38689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гостях у резчика по дереву Владислава Бобы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"/>
          <p:cNvPicPr/>
          <p:nvPr/>
        </p:nvPicPr>
        <p:blipFill>
          <a:blip r:embed="rId1"/>
          <a:stretch/>
        </p:blipFill>
        <p:spPr>
          <a:xfrm>
            <a:off x="284040" y="689040"/>
            <a:ext cx="3865680" cy="28987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7" descr=""/>
          <p:cNvPicPr/>
          <p:nvPr/>
        </p:nvPicPr>
        <p:blipFill>
          <a:blip r:embed="rId2"/>
          <a:stretch/>
        </p:blipFill>
        <p:spPr>
          <a:xfrm>
            <a:off x="284040" y="3749760"/>
            <a:ext cx="2422800" cy="29322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8" descr=""/>
          <p:cNvPicPr/>
          <p:nvPr/>
        </p:nvPicPr>
        <p:blipFill>
          <a:blip r:embed="rId3"/>
          <a:stretch/>
        </p:blipFill>
        <p:spPr>
          <a:xfrm>
            <a:off x="2890800" y="4129200"/>
            <a:ext cx="3336840" cy="2324160"/>
          </a:xfrm>
          <a:prstGeom prst="rect">
            <a:avLst/>
          </a:prstGeom>
          <a:ln w="0">
            <a:noFill/>
          </a:ln>
        </p:spPr>
      </p:pic>
      <p:pic>
        <p:nvPicPr>
          <p:cNvPr id="127" name="Объект 10" descr=""/>
          <p:cNvPicPr/>
          <p:nvPr/>
        </p:nvPicPr>
        <p:blipFill>
          <a:blip r:embed="rId4"/>
          <a:stretch/>
        </p:blipFill>
        <p:spPr>
          <a:xfrm>
            <a:off x="457200" y="5692680"/>
            <a:ext cx="154080" cy="114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"/>
          <p:cNvPicPr/>
          <p:nvPr/>
        </p:nvPicPr>
        <p:blipFill>
          <a:blip r:embed="rId5"/>
          <a:stretch/>
        </p:blipFill>
        <p:spPr>
          <a:xfrm>
            <a:off x="4602240" y="67140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"/>
          <p:cNvPicPr/>
          <p:nvPr/>
        </p:nvPicPr>
        <p:blipFill>
          <a:blip r:embed="rId6"/>
          <a:stretch/>
        </p:blipFill>
        <p:spPr>
          <a:xfrm>
            <a:off x="6372360" y="3824280"/>
            <a:ext cx="25700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ставка рисунков  «Чудо – роспись Горо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6997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ини- музей в группе «Деревянная 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200160" y="574560"/>
            <a:ext cx="3997080" cy="3359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087280" cy="26607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"/>
          <p:cNvPicPr/>
          <p:nvPr/>
        </p:nvPicPr>
        <p:blipFill>
          <a:blip r:embed="rId3"/>
          <a:stretch/>
        </p:blipFill>
        <p:spPr>
          <a:xfrm>
            <a:off x="2638440" y="4129200"/>
            <a:ext cx="1933560" cy="2577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"/>
          <p:cNvPicPr/>
          <p:nvPr/>
        </p:nvPicPr>
        <p:blipFill>
          <a:blip r:embed="rId4"/>
          <a:stretch/>
        </p:blipFill>
        <p:spPr>
          <a:xfrm>
            <a:off x="4335480" y="576360"/>
            <a:ext cx="4330800" cy="32479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"/>
          <p:cNvPicPr/>
          <p:nvPr/>
        </p:nvPicPr>
        <p:blipFill>
          <a:blip r:embed="rId5"/>
          <a:stretch/>
        </p:blipFill>
        <p:spPr>
          <a:xfrm>
            <a:off x="4799160" y="4135320"/>
            <a:ext cx="1933560" cy="25765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"/>
          <p:cNvPicPr/>
          <p:nvPr/>
        </p:nvPicPr>
        <p:blipFill>
          <a:blip r:embed="rId6"/>
          <a:stretch/>
        </p:blipFill>
        <p:spPr>
          <a:xfrm>
            <a:off x="6959520" y="4105440"/>
            <a:ext cx="195120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075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Актуальност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78544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Одной из приоритетных задач ФГОС ДО считается, формирование общей культуры дошкольников, в том числе формирование ценностных ориентаций, а также развитие нравственных,  эстетических качеств личности детей. Важное значение приобретает приобщение детей к истокам народного творч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Эффективным средством развития художественного вкуса является народное декоративно-прикладное искусство. Народное декоративно-прикладное искусство бережно сохраняет и творчески развивает традиции, пришедшие из глубокой дре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Городецкая роспись - уникальное явление русской национальной культу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Городецкое искусство образно, красочно, оригинально по своему замыслу. Оно доступно детскому восприятию, так как несет в себе понятное содержание, которое конкретно, в простых, лаконичных формах раскрывает ребенку красоту и прелесть окружающего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Еще не так давно считалось, что рисование — один из тех видов творчества, которыми принято заниматься в детстве, но заработать ими невозможно. Но сейчас культура постепенно становится все более визуальной, а развитие технологий дает широкие возможности для самореализации. ? Как создать условия для динамики творческого роста и поддержать пытливое стремление ребенка узнать мир во всех его ярких красках и проявлениях, проявить свои творческие способн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Этим вопросам и посвящен данный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0001-001-Gorodetskaja-rospis"/>
          <p:cNvPicPr/>
          <p:nvPr/>
        </p:nvPicPr>
        <p:blipFill>
          <a:blip r:embed="rId1"/>
          <a:stretch/>
        </p:blipFill>
        <p:spPr>
          <a:xfrm rot="20496000">
            <a:off x="5003640" y="4654080"/>
            <a:ext cx="409284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Ставенки резные, окна расписны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Объект 1" descr=""/>
          <p:cNvPicPr/>
          <p:nvPr/>
        </p:nvPicPr>
        <p:blipFill>
          <a:blip r:embed="rId1"/>
          <a:stretch/>
        </p:blipFill>
        <p:spPr>
          <a:xfrm>
            <a:off x="-757080" y="4886280"/>
            <a:ext cx="144360" cy="109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8002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зовое место во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Международном чемпионате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BYSKILLS - 2023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среди воспитанников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488360" cy="50515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 flipH="1" flipV="1" rot="10800000">
            <a:off x="1475280" y="6030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кова  Кира    6 лет          МБДОУ «Детский сад № 1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Паспорт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856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Направлен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оспитание духовного, творческого патриотизма с раннего детства. Развитие интереса к творческим профессиям, актуальными в родном крае. Расширение знаний о народных промыслах родного к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Тип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- образовательно- творческий, пра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Вид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- краткоср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Сроки реализ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март-май 2023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Участник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-воспитанники, воспитатели, родители, соци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b050"/>
                </a:solidFill>
                <a:uFillTx/>
                <a:latin typeface="Times New Roman"/>
              </a:rPr>
              <a:t>Конечный продукт: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ыставка творческих работ детей «Чудо-роспись Город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Создание мини-музея «Деревянная 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001-001-Gorodetskaja-rospis"/>
          <p:cNvPicPr/>
          <p:nvPr/>
        </p:nvPicPr>
        <p:blipFill>
          <a:blip r:embed="rId1"/>
          <a:stretch/>
        </p:blipFill>
        <p:spPr>
          <a:xfrm rot="20086200">
            <a:off x="6048000" y="4849560"/>
            <a:ext cx="338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353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- развитие   личности  воспитанника, его творческих  способностей  и индивидуальных  дарований через декоративно-прикладное искусство. Формирование у детей познавательного интереса к русской народной культуре через ознакомление с народными промыслами Городца и организацию художественно-продуктивной и творческой деятельности. Развитие интереса к профессиям художника, мастера художественной росписи по дереву, резчика п дерев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Задачи: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1. Продолжать знакомить детей с городецкими промыслами: городецкая роспись и резьба по дереву. Воспитывать интерес и любовь к народному искусству, русским традициям и промысл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2. Расширить и систематизировать знания детей о  городецких мастерах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3. Развивать художественно-творческие способности в процессе восприятия произведений декоративного искусства и изобразительной деятельности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6.  Включать Городецкую роспись и декоративные узоры в творческую работу детей, помогать осваивать специфику этих промы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7. Создать условия для формирования умения составлять узоры по мотивам Городецкой росписи  и деревянного зод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8. Содействовать знакомству с цветовым решением, спецификой создания декоративных уз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001-001-Gorodetskaja-rospis"/>
          <p:cNvPicPr/>
          <p:nvPr/>
        </p:nvPicPr>
        <p:blipFill>
          <a:blip r:embed="rId1"/>
          <a:stretch/>
        </p:blipFill>
        <p:spPr>
          <a:xfrm rot="20697000">
            <a:off x="6449760" y="4916160"/>
            <a:ext cx="29718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Формы реализации 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Непосредственно образовательная деятельность, дидактические игры, наблюдения, рассматривание альбомов, иллюстраций, беседы,  чтение художественной литературы,  посещение музеев, «Города мастеров», виртуальная экскурсия на фабрику «Городецкая роспись», встреча с художником городецкой росписи, с резчиком по дереву, работа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Ожидаемый результа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по окончании данного проекта у детей разовьются интерес к профессии художник, к изделиям народных промыслов, умение узнавать предметы Городецких мастеров, умение создавать рисунок, используя цветовые сочетания. Самостоятельно выбирать элементы орнамента при создании компози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Проект позволит использовать приобретенные навыки и умения в повседневной жизни в выполнении продуктивной деятельности,  у детей постепенно будет развиваться художественный вкус, появятся представления о профессии художника, мастера по росписи деревянных изделий, резчика п дере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001-001-Gorodetskaja-rospis"/>
          <p:cNvPicPr/>
          <p:nvPr/>
        </p:nvPicPr>
        <p:blipFill>
          <a:blip r:embed="rId2"/>
          <a:stretch/>
        </p:blipFill>
        <p:spPr>
          <a:xfrm rot="20699400">
            <a:off x="6297480" y="5366880"/>
            <a:ext cx="29275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360" y="189000"/>
            <a:ext cx="878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Этапы реализации проекта: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.     Подготовительный: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Цель: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здание развивающей среды. Работа с родителями. Подбор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азработка плана проекта «Городецкие маст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Подготовка цикла бесед для детей, консультаций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Разработка конспектов зан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Изготовление дидактических игр, подбор демонстрацион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Изготовление пооперационных карт (схемы рисования элементов) и картотеки с элементами для демонстрации и самостоятельной творческой деятель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Организация развивающей среды в группе; обновление творческого уго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Подбор познавательной литературы о народных промыслах, об особенностях Городецких узоров, об истории этих промы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Уточнение методов и приемов, используемых при работе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Подготовка выставки творческих работ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001-001-Gorodetskaja-rospis"/>
          <p:cNvPicPr/>
          <p:nvPr/>
        </p:nvPicPr>
        <p:blipFill>
          <a:blip r:embed="rId1"/>
          <a:stretch/>
        </p:blipFill>
        <p:spPr>
          <a:xfrm rot="20568000">
            <a:off x="6006600" y="4749840"/>
            <a:ext cx="33847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2.     Практический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 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Цель: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Организация деятель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Содержание этапа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Непосредственно-организованная деятельность с детьми ( беседа «Городец- город мастеров», «Городецкая роспись», «Городецкие промыслы», декоративное рисование по мотивам городецкой росписи, пластилинография «Ставенки резные, окна расписны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Виртуальные экскурсии на фабрику городецкой росписи, просмотр презентаций и видеороликов: «Есть такая профессия. Резчик п дереву», «Мастера Городецкой росписи», «Деревянных дел мастера», « Судьба мастера городецкой росписи А.В. Соколовой»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Посещение музеев, мастер - классов «Города Маст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Дидактические игры, рассматривание альбомов с предметами городецкой росписи, изделий с резьбой по дереву, с фотографиями мас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Самостоятельная художественная деятельность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001-001-Gorodetskaja-rospis"/>
          <p:cNvPicPr/>
          <p:nvPr/>
        </p:nvPicPr>
        <p:blipFill>
          <a:blip r:embed="rId1"/>
          <a:stretch/>
        </p:blipFill>
        <p:spPr>
          <a:xfrm rot="20436000">
            <a:off x="5671800" y="4821120"/>
            <a:ext cx="35211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578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3. Заключительный эта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Цель: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азвитие самостоятельности и творчества, стимулирование эстетическое отношение к окружающему ми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Содержание этапа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Оформление тематических выставок дет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Самостоятельная художественная и игровая  деятельность детей (игры «Художественная мастерская», «Сувенирная лавка»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Создание мини-музея «Деревянная 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Результативность 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появление интереса к искусству Городецкой росписи и  Резьбы по дереву, желания больше узнать о профессии  резчика и мастера художественной росписи по де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Умение создавать узор и рисунок, используя цветовые сочетания Городецкой росписи, самостоятельно выбирать элементы при создании ком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Расширение и углубление знаний и  умения использовать приобретенные навыки и умения в повседневной жизни и выполнении продуктивной деятельности, умения замечать особенности построения узора, красоту цветосочетаний на различных предметах и постепенное развитие художественного вкуса и творческих способностей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001-001-Gorodetskaja-rospis"/>
          <p:cNvPicPr/>
          <p:nvPr/>
        </p:nvPicPr>
        <p:blipFill>
          <a:blip r:embed="rId1"/>
          <a:stretch/>
        </p:blipFill>
        <p:spPr>
          <a:xfrm rot="18943200">
            <a:off x="6688080" y="4935600"/>
            <a:ext cx="2936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3920" y="65160"/>
            <a:ext cx="865044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бор и рассматривание книг, альбомов  Городце, о народных промыс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7" descr=""/>
          <p:cNvPicPr/>
          <p:nvPr/>
        </p:nvPicPr>
        <p:blipFill>
          <a:blip r:embed="rId1"/>
          <a:stretch/>
        </p:blipFill>
        <p:spPr>
          <a:xfrm rot="421200">
            <a:off x="2955960" y="3827520"/>
            <a:ext cx="1886040" cy="2603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"/>
          <p:cNvPicPr/>
          <p:nvPr/>
        </p:nvPicPr>
        <p:blipFill>
          <a:blip r:embed="rId2"/>
          <a:stretch/>
        </p:blipFill>
        <p:spPr>
          <a:xfrm rot="229800">
            <a:off x="1517760" y="3811320"/>
            <a:ext cx="1800000" cy="2597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"/>
          <p:cNvPicPr/>
          <p:nvPr/>
        </p:nvPicPr>
        <p:blipFill>
          <a:blip r:embed="rId3"/>
          <a:stretch/>
        </p:blipFill>
        <p:spPr>
          <a:xfrm rot="21244200">
            <a:off x="151920" y="3727080"/>
            <a:ext cx="1700280" cy="2714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4"/>
          <a:stretch/>
        </p:blipFill>
        <p:spPr>
          <a:xfrm>
            <a:off x="314280" y="76680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"/>
          <p:cNvPicPr/>
          <p:nvPr/>
        </p:nvPicPr>
        <p:blipFill>
          <a:blip r:embed="rId5"/>
          <a:stretch/>
        </p:blipFill>
        <p:spPr>
          <a:xfrm>
            <a:off x="4435560" y="752400"/>
            <a:ext cx="2225520" cy="2967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"/>
          <p:cNvPicPr/>
          <p:nvPr/>
        </p:nvPicPr>
        <p:blipFill>
          <a:blip r:embed="rId6"/>
          <a:stretch/>
        </p:blipFill>
        <p:spPr>
          <a:xfrm>
            <a:off x="6873840" y="752400"/>
            <a:ext cx="2212920" cy="2949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7"/>
          <a:stretch/>
        </p:blipFill>
        <p:spPr>
          <a:xfrm>
            <a:off x="5219640" y="3860640"/>
            <a:ext cx="345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06:55:03Z</dcterms:created>
  <dc:creator>User</dc:creator>
  <dc:description/>
  <dc:language>en-US</dc:language>
  <cp:lastModifiedBy>lelik19741704@outlook.com</cp:lastModifiedBy>
  <dcterms:modified xsi:type="dcterms:W3CDTF">2023-06-22T09:45:20Z</dcterms:modified>
  <cp:revision>51</cp:revision>
  <dc:subject/>
  <dc:title>Слайд 1</dc:title>
</cp:coreProperties>
</file>