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7.wmf" ContentType="image/x-wmf"/>
  <Override PartName="/ppt/media/image1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26.png" ContentType="image/png"/>
  <Override PartName="/ppt/media/image17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B3F-6BB5-4735-81D9-7A538C35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2F9-5A96-4279-87EF-7630F57D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0B9-C667-490B-A486-846E1C72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069-52E7-49CC-9ECC-2FD07540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F4C-B174-4411-AAC3-442611EC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B19-9301-4EE8-AFD8-A63498CE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A86-89F1-4146-9348-F59A8E79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33A-FEAA-4969-8284-4BA131C3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B35-D2ED-4AFE-944B-DA8C5DCC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5B2-A6A9-46E1-92F9-979848D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627-74F2-465C-9BE6-9FE37B0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644-817A-415C-B522-7BB3422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18B1-F9CD-4C48-926E-E6F30B82F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8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image" Target="../media/image1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alantiki.ru/pi/rus-12b816-wb.jpg" TargetMode="External"/><Relationship Id="rId2" Type="http://schemas.openxmlformats.org/officeDocument/2006/relationships/hyperlink" Target="http://gamelika.com/imaginator/1/4e5fe9026d37b_1299255688_soccer-ball.jpg" TargetMode="External"/><Relationship Id="rId3" Type="http://schemas.openxmlformats.org/officeDocument/2006/relationships/hyperlink" Target="http://edu.mari.ru/prof/ttk/DocLib5/_w/kolokol4ik_gif.jpg" TargetMode="External"/><Relationship Id="rId4" Type="http://schemas.openxmlformats.org/officeDocument/2006/relationships/hyperlink" Target="http://www.mir-igrushki.ru/published/publicdata/NEW/attachments/SC/products_pictures/1zi_enl5z.jpg" TargetMode="External"/><Relationship Id="rId5" Type="http://schemas.openxmlformats.org/officeDocument/2006/relationships/hyperlink" Target="http://static6.depositphotos.com/1000126/578/v/950/depositphotos_5782083-Fairy-tale-house-among-trees.jpg" TargetMode="External"/><Relationship Id="rId6" Type="http://schemas.openxmlformats.org/officeDocument/2006/relationships/hyperlink" Target="http://www.agentprodukt.ru/downloads/image/pictures/katalog2/bp/dushes.jpg" TargetMode="External"/><Relationship Id="rId7" Type="http://schemas.openxmlformats.org/officeDocument/2006/relationships/hyperlink" Target="http://i-komok.narod.ru/top/topic_55418.html" TargetMode="External"/><Relationship Id="rId8" Type="http://schemas.openxmlformats.org/officeDocument/2006/relationships/hyperlink" Target="http://www.otryv-pertsa.org.ua/uploads/post-519-1170108072.jp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21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23.png"/><Relationship Id="rId7" Type="http://schemas.openxmlformats.org/officeDocument/2006/relationships/image" Target="../media/image11.png"/><Relationship Id="rId8" Type="http://schemas.openxmlformats.org/officeDocument/2006/relationships/image" Target="../media/image18.jpe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28640" y="914400"/>
            <a:ext cx="63248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личение звук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[М] и [М`]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7" descr="Изображение 015"/>
          <p:cNvPicPr/>
          <p:nvPr/>
        </p:nvPicPr>
        <p:blipFill>
          <a:blip r:embed="rId1"/>
          <a:stretch/>
        </p:blipFill>
        <p:spPr>
          <a:xfrm>
            <a:off x="685800" y="3505320"/>
            <a:ext cx="1709640" cy="2209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4724280" y="4419720"/>
            <a:ext cx="4038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фуллина Р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  МАДОУ  ДС №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50292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2025"/>
                </a:solidFill>
                <a:latin typeface="Arial"/>
              </a:rPr>
              <a:t>Мель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риятие, здание с приспособлениями для размола зерн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4114800" cy="3940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над активизацией и обогащением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10"/>
          <p:cNvSpPr txBox="1"/>
          <p:nvPr/>
        </p:nvSpPr>
        <p:spPr>
          <a:xfrm>
            <a:off x="4572000" y="5029200"/>
            <a:ext cx="121932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4419720" y="2895480"/>
            <a:ext cx="2047680" cy="2076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4"/>
          <a:stretch/>
        </p:blipFill>
        <p:spPr>
          <a:xfrm>
            <a:off x="6553080" y="1523880"/>
            <a:ext cx="2024280" cy="179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5"/>
          <a:stretch/>
        </p:blipFill>
        <p:spPr>
          <a:xfrm>
            <a:off x="380880" y="17524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6"/>
          <a:stretch/>
        </p:blipFill>
        <p:spPr>
          <a:xfrm>
            <a:off x="914400" y="4154400"/>
            <a:ext cx="2514600" cy="16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7"/>
          <a:stretch/>
        </p:blipFill>
        <p:spPr>
          <a:xfrm>
            <a:off x="7010280" y="3886200"/>
            <a:ext cx="130356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"/>
          <p:cNvPicPr/>
          <p:nvPr/>
        </p:nvPicPr>
        <p:blipFill>
          <a:blip r:embed="rId8"/>
          <a:stretch/>
        </p:blipFill>
        <p:spPr>
          <a:xfrm>
            <a:off x="3276720" y="1371600"/>
            <a:ext cx="1847880" cy="2038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витие психологической базы речи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 Внимательно посмотри на картинки, запомни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Игра «Чего не стало?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Игра «Что сначала, что пото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5715000" y="2514600"/>
            <a:ext cx="1898640" cy="192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2"/>
          <a:stretch/>
        </p:blipFill>
        <p:spPr>
          <a:xfrm>
            <a:off x="2286000" y="3048120"/>
            <a:ext cx="1752480" cy="1135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"/>
          <p:cNvPicPr/>
          <p:nvPr/>
        </p:nvPicPr>
        <p:blipFill>
          <a:blip r:embed="rId3"/>
          <a:stretch/>
        </p:blipFill>
        <p:spPr>
          <a:xfrm>
            <a:off x="7577280" y="2819520"/>
            <a:ext cx="1566720" cy="1390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"/>
          <p:cNvPicPr/>
          <p:nvPr/>
        </p:nvPicPr>
        <p:blipFill>
          <a:blip r:embed="rId4"/>
          <a:stretch/>
        </p:blipFill>
        <p:spPr>
          <a:xfrm>
            <a:off x="0" y="26668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5"/>
          <a:stretch/>
        </p:blipFill>
        <p:spPr>
          <a:xfrm>
            <a:off x="4419720" y="2590920"/>
            <a:ext cx="15714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1673280" cy="1695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3"/>
          <a:stretch/>
        </p:blipFill>
        <p:spPr>
          <a:xfrm>
            <a:off x="7391520" y="3048120"/>
            <a:ext cx="1752480" cy="1135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1566720" cy="139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5"/>
          <a:stretch/>
        </p:blipFill>
        <p:spPr>
          <a:xfrm>
            <a:off x="1981080" y="2743200"/>
            <a:ext cx="15717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лово рассыпало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Х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Р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М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лово рассыпалось»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«Найди «лишнее» сл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Найди «лишнее» сл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Найди «лишнее» слово». Прове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Озорница рези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066680"/>
            <a:ext cx="8540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е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ы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ос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5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j0232107"/>
          <p:cNvPicPr/>
          <p:nvPr/>
        </p:nvPicPr>
        <p:blipFill>
          <a:blip r:embed="rId1"/>
          <a:stretch/>
        </p:blipFill>
        <p:spPr>
          <a:xfrm>
            <a:off x="3276720" y="2590920"/>
            <a:ext cx="26431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2362320"/>
            <a:ext cx="8991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А   И  О  М  Э  Ы  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609480" y="259092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28600" y="27432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533520" y="27432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228600" y="2895480"/>
            <a:ext cx="91440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685800" y="251460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228600" y="3048120"/>
            <a:ext cx="9144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5"/>
          <p:cNvSpPr/>
          <p:nvPr/>
        </p:nvSpPr>
        <p:spPr>
          <a:xfrm>
            <a:off x="1371600" y="2895480"/>
            <a:ext cx="1490760" cy="10321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939" h="650">
                <a:moveTo>
                  <a:pt x="279" y="0"/>
                </a:moveTo>
                <a:cubicBezTo>
                  <a:pt x="453" y="3"/>
                  <a:pt x="627" y="4"/>
                  <a:pt x="801" y="9"/>
                </a:cubicBezTo>
                <a:cubicBezTo>
                  <a:pt x="936" y="13"/>
                  <a:pt x="939" y="8"/>
                  <a:pt x="882" y="27"/>
                </a:cubicBezTo>
                <a:cubicBezTo>
                  <a:pt x="843" y="56"/>
                  <a:pt x="805" y="105"/>
                  <a:pt x="756" y="117"/>
                </a:cubicBezTo>
                <a:cubicBezTo>
                  <a:pt x="582" y="160"/>
                  <a:pt x="233" y="143"/>
                  <a:pt x="153" y="144"/>
                </a:cubicBezTo>
                <a:cubicBezTo>
                  <a:pt x="165" y="181"/>
                  <a:pt x="213" y="197"/>
                  <a:pt x="252" y="198"/>
                </a:cubicBezTo>
                <a:cubicBezTo>
                  <a:pt x="435" y="204"/>
                  <a:pt x="618" y="204"/>
                  <a:pt x="801" y="207"/>
                </a:cubicBezTo>
                <a:cubicBezTo>
                  <a:pt x="808" y="208"/>
                  <a:pt x="911" y="214"/>
                  <a:pt x="864" y="252"/>
                </a:cubicBezTo>
                <a:cubicBezTo>
                  <a:pt x="847" y="266"/>
                  <a:pt x="823" y="269"/>
                  <a:pt x="801" y="270"/>
                </a:cubicBezTo>
                <a:cubicBezTo>
                  <a:pt x="633" y="276"/>
                  <a:pt x="465" y="276"/>
                  <a:pt x="297" y="279"/>
                </a:cubicBezTo>
                <a:cubicBezTo>
                  <a:pt x="284" y="288"/>
                  <a:pt x="224" y="339"/>
                  <a:pt x="288" y="342"/>
                </a:cubicBezTo>
                <a:cubicBezTo>
                  <a:pt x="486" y="351"/>
                  <a:pt x="684" y="348"/>
                  <a:pt x="882" y="351"/>
                </a:cubicBezTo>
                <a:cubicBezTo>
                  <a:pt x="870" y="386"/>
                  <a:pt x="872" y="401"/>
                  <a:pt x="819" y="414"/>
                </a:cubicBezTo>
                <a:cubicBezTo>
                  <a:pt x="795" y="420"/>
                  <a:pt x="747" y="432"/>
                  <a:pt x="747" y="432"/>
                </a:cubicBezTo>
                <a:cubicBezTo>
                  <a:pt x="590" y="425"/>
                  <a:pt x="415" y="403"/>
                  <a:pt x="261" y="441"/>
                </a:cubicBezTo>
                <a:cubicBezTo>
                  <a:pt x="225" y="465"/>
                  <a:pt x="212" y="454"/>
                  <a:pt x="198" y="495"/>
                </a:cubicBezTo>
                <a:cubicBezTo>
                  <a:pt x="227" y="539"/>
                  <a:pt x="248" y="545"/>
                  <a:pt x="297" y="558"/>
                </a:cubicBezTo>
                <a:cubicBezTo>
                  <a:pt x="315" y="563"/>
                  <a:pt x="351" y="576"/>
                  <a:pt x="351" y="576"/>
                </a:cubicBezTo>
                <a:cubicBezTo>
                  <a:pt x="414" y="573"/>
                  <a:pt x="477" y="573"/>
                  <a:pt x="540" y="567"/>
                </a:cubicBezTo>
                <a:cubicBezTo>
                  <a:pt x="587" y="562"/>
                  <a:pt x="628" y="536"/>
                  <a:pt x="675" y="531"/>
                </a:cubicBezTo>
                <a:cubicBezTo>
                  <a:pt x="717" y="526"/>
                  <a:pt x="759" y="525"/>
                  <a:pt x="801" y="522"/>
                </a:cubicBezTo>
                <a:cubicBezTo>
                  <a:pt x="828" y="525"/>
                  <a:pt x="856" y="522"/>
                  <a:pt x="882" y="531"/>
                </a:cubicBezTo>
                <a:cubicBezTo>
                  <a:pt x="891" y="534"/>
                  <a:pt x="864" y="537"/>
                  <a:pt x="855" y="540"/>
                </a:cubicBezTo>
                <a:cubicBezTo>
                  <a:pt x="776" y="563"/>
                  <a:pt x="857" y="536"/>
                  <a:pt x="792" y="558"/>
                </a:cubicBezTo>
                <a:cubicBezTo>
                  <a:pt x="685" y="555"/>
                  <a:pt x="350" y="513"/>
                  <a:pt x="225" y="576"/>
                </a:cubicBezTo>
                <a:cubicBezTo>
                  <a:pt x="200" y="650"/>
                  <a:pt x="381" y="605"/>
                  <a:pt x="459" y="603"/>
                </a:cubicBezTo>
                <a:cubicBezTo>
                  <a:pt x="576" y="599"/>
                  <a:pt x="693" y="597"/>
                  <a:pt x="810" y="594"/>
                </a:cubicBezTo>
                <a:cubicBezTo>
                  <a:pt x="839" y="584"/>
                  <a:pt x="862" y="568"/>
                  <a:pt x="891" y="558"/>
                </a:cubicBezTo>
                <a:cubicBezTo>
                  <a:pt x="853" y="444"/>
                  <a:pt x="621" y="471"/>
                  <a:pt x="549" y="468"/>
                </a:cubicBezTo>
                <a:cubicBezTo>
                  <a:pt x="441" y="464"/>
                  <a:pt x="333" y="462"/>
                  <a:pt x="225" y="459"/>
                </a:cubicBezTo>
                <a:cubicBezTo>
                  <a:pt x="375" y="509"/>
                  <a:pt x="547" y="458"/>
                  <a:pt x="702" y="441"/>
                </a:cubicBezTo>
                <a:cubicBezTo>
                  <a:pt x="735" y="433"/>
                  <a:pt x="768" y="422"/>
                  <a:pt x="801" y="414"/>
                </a:cubicBezTo>
                <a:cubicBezTo>
                  <a:pt x="866" y="371"/>
                  <a:pt x="763" y="335"/>
                  <a:pt x="720" y="333"/>
                </a:cubicBezTo>
                <a:cubicBezTo>
                  <a:pt x="567" y="328"/>
                  <a:pt x="414" y="327"/>
                  <a:pt x="261" y="324"/>
                </a:cubicBezTo>
                <a:cubicBezTo>
                  <a:pt x="160" y="311"/>
                  <a:pt x="16" y="313"/>
                  <a:pt x="333" y="297"/>
                </a:cubicBezTo>
                <a:cubicBezTo>
                  <a:pt x="412" y="258"/>
                  <a:pt x="508" y="245"/>
                  <a:pt x="594" y="225"/>
                </a:cubicBezTo>
                <a:cubicBezTo>
                  <a:pt x="658" y="210"/>
                  <a:pt x="697" y="186"/>
                  <a:pt x="756" y="171"/>
                </a:cubicBezTo>
                <a:cubicBezTo>
                  <a:pt x="762" y="162"/>
                  <a:pt x="776" y="155"/>
                  <a:pt x="774" y="144"/>
                </a:cubicBezTo>
                <a:cubicBezTo>
                  <a:pt x="768" y="109"/>
                  <a:pt x="683" y="90"/>
                  <a:pt x="657" y="81"/>
                </a:cubicBezTo>
                <a:cubicBezTo>
                  <a:pt x="177" y="92"/>
                  <a:pt x="134" y="63"/>
                  <a:pt x="315" y="108"/>
                </a:cubicBezTo>
                <a:cubicBezTo>
                  <a:pt x="464" y="104"/>
                  <a:pt x="605" y="117"/>
                  <a:pt x="747" y="81"/>
                </a:cubicBezTo>
                <a:cubicBezTo>
                  <a:pt x="710" y="54"/>
                  <a:pt x="683" y="38"/>
                  <a:pt x="639" y="27"/>
                </a:cubicBezTo>
                <a:cubicBezTo>
                  <a:pt x="38" y="38"/>
                  <a:pt x="0" y="0"/>
                  <a:pt x="243" y="81"/>
                </a:cubicBezTo>
                <a:cubicBezTo>
                  <a:pt x="398" y="75"/>
                  <a:pt x="542" y="70"/>
                  <a:pt x="693" y="45"/>
                </a:cubicBezTo>
                <a:cubicBezTo>
                  <a:pt x="748" y="51"/>
                  <a:pt x="802" y="54"/>
                  <a:pt x="855" y="72"/>
                </a:cubicBezTo>
                <a:cubicBezTo>
                  <a:pt x="833" y="158"/>
                  <a:pt x="744" y="176"/>
                  <a:pt x="666" y="189"/>
                </a:cubicBezTo>
                <a:cubicBezTo>
                  <a:pt x="592" y="238"/>
                  <a:pt x="490" y="236"/>
                  <a:pt x="405" y="243"/>
                </a:cubicBezTo>
                <a:cubicBezTo>
                  <a:pt x="362" y="254"/>
                  <a:pt x="329" y="274"/>
                  <a:pt x="288" y="288"/>
                </a:cubicBezTo>
                <a:cubicBezTo>
                  <a:pt x="266" y="354"/>
                  <a:pt x="392" y="376"/>
                  <a:pt x="441" y="378"/>
                </a:cubicBezTo>
                <a:cubicBezTo>
                  <a:pt x="549" y="383"/>
                  <a:pt x="657" y="384"/>
                  <a:pt x="765" y="387"/>
                </a:cubicBezTo>
                <a:cubicBezTo>
                  <a:pt x="665" y="401"/>
                  <a:pt x="567" y="424"/>
                  <a:pt x="468" y="441"/>
                </a:cubicBezTo>
                <a:cubicBezTo>
                  <a:pt x="390" y="472"/>
                  <a:pt x="309" y="486"/>
                  <a:pt x="225" y="495"/>
                </a:cubicBezTo>
                <a:cubicBezTo>
                  <a:pt x="163" y="516"/>
                  <a:pt x="214" y="529"/>
                  <a:pt x="243" y="540"/>
                </a:cubicBezTo>
                <a:cubicBezTo>
                  <a:pt x="317" y="568"/>
                  <a:pt x="390" y="575"/>
                  <a:pt x="468" y="585"/>
                </a:cubicBezTo>
                <a:cubicBezTo>
                  <a:pt x="418" y="602"/>
                  <a:pt x="378" y="606"/>
                  <a:pt x="324" y="612"/>
                </a:cubicBezTo>
                <a:cubicBezTo>
                  <a:pt x="430" y="633"/>
                  <a:pt x="648" y="612"/>
                  <a:pt x="648" y="612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 flipV="1">
            <a:off x="2590920" y="2895120"/>
            <a:ext cx="10666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 flipV="1">
            <a:off x="2743200" y="30481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 flipV="1">
            <a:off x="2895480" y="3200040"/>
            <a:ext cx="106704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9"/>
          <p:cNvSpPr/>
          <p:nvPr/>
        </p:nvSpPr>
        <p:spPr>
          <a:xfrm flipV="1">
            <a:off x="3048120" y="3352320"/>
            <a:ext cx="10666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 flipV="1">
            <a:off x="2514600" y="2742840"/>
            <a:ext cx="106668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3200400" y="3505320"/>
            <a:ext cx="106668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3124080" y="274320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2590920" y="2971800"/>
            <a:ext cx="99036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2971800" y="2819520"/>
            <a:ext cx="83808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2819520" y="289548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3276720" y="266688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7"/>
          <p:cNvSpPr/>
          <p:nvPr/>
        </p:nvSpPr>
        <p:spPr>
          <a:xfrm>
            <a:off x="3581280" y="24382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8"/>
          <p:cNvSpPr/>
          <p:nvPr/>
        </p:nvSpPr>
        <p:spPr>
          <a:xfrm>
            <a:off x="3429000" y="2514600"/>
            <a:ext cx="8380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9"/>
          <p:cNvSpPr/>
          <p:nvPr/>
        </p:nvSpPr>
        <p:spPr>
          <a:xfrm>
            <a:off x="6705720" y="2743200"/>
            <a:ext cx="1143000" cy="1066680"/>
          </a:xfrm>
          <a:prstGeom prst="flowChartSummingJunction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8"/>
          <p:cNvSpPr/>
          <p:nvPr/>
        </p:nvSpPr>
        <p:spPr>
          <a:xfrm>
            <a:off x="4038480" y="2362320"/>
            <a:ext cx="1339920" cy="15588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844" h="982">
                <a:moveTo>
                  <a:pt x="380" y="58"/>
                </a:moveTo>
                <a:cubicBezTo>
                  <a:pt x="201" y="64"/>
                  <a:pt x="74" y="0"/>
                  <a:pt x="17" y="161"/>
                </a:cubicBezTo>
                <a:cubicBezTo>
                  <a:pt x="20" y="189"/>
                  <a:pt x="20" y="217"/>
                  <a:pt x="27" y="244"/>
                </a:cubicBezTo>
                <a:cubicBezTo>
                  <a:pt x="35" y="278"/>
                  <a:pt x="73" y="310"/>
                  <a:pt x="101" y="328"/>
                </a:cubicBezTo>
                <a:cubicBezTo>
                  <a:pt x="208" y="396"/>
                  <a:pt x="321" y="413"/>
                  <a:pt x="445" y="430"/>
                </a:cubicBezTo>
                <a:cubicBezTo>
                  <a:pt x="573" y="423"/>
                  <a:pt x="646" y="443"/>
                  <a:pt x="714" y="337"/>
                </a:cubicBezTo>
                <a:cubicBezTo>
                  <a:pt x="711" y="315"/>
                  <a:pt x="716" y="291"/>
                  <a:pt x="705" y="272"/>
                </a:cubicBezTo>
                <a:cubicBezTo>
                  <a:pt x="695" y="255"/>
                  <a:pt x="675" y="246"/>
                  <a:pt x="658" y="235"/>
                </a:cubicBezTo>
                <a:cubicBezTo>
                  <a:pt x="594" y="194"/>
                  <a:pt x="519" y="173"/>
                  <a:pt x="445" y="161"/>
                </a:cubicBezTo>
                <a:cubicBezTo>
                  <a:pt x="291" y="166"/>
                  <a:pt x="143" y="127"/>
                  <a:pt x="55" y="263"/>
                </a:cubicBezTo>
                <a:cubicBezTo>
                  <a:pt x="61" y="300"/>
                  <a:pt x="63" y="338"/>
                  <a:pt x="73" y="374"/>
                </a:cubicBezTo>
                <a:cubicBezTo>
                  <a:pt x="96" y="459"/>
                  <a:pt x="233" y="485"/>
                  <a:pt x="305" y="495"/>
                </a:cubicBezTo>
                <a:cubicBezTo>
                  <a:pt x="382" y="488"/>
                  <a:pt x="508" y="485"/>
                  <a:pt x="593" y="458"/>
                </a:cubicBezTo>
                <a:cubicBezTo>
                  <a:pt x="655" y="439"/>
                  <a:pt x="702" y="398"/>
                  <a:pt x="761" y="374"/>
                </a:cubicBezTo>
                <a:cubicBezTo>
                  <a:pt x="781" y="332"/>
                  <a:pt x="798" y="309"/>
                  <a:pt x="807" y="263"/>
                </a:cubicBezTo>
                <a:cubicBezTo>
                  <a:pt x="804" y="247"/>
                  <a:pt x="807" y="229"/>
                  <a:pt x="798" y="216"/>
                </a:cubicBezTo>
                <a:cubicBezTo>
                  <a:pt x="790" y="205"/>
                  <a:pt x="772" y="206"/>
                  <a:pt x="761" y="198"/>
                </a:cubicBezTo>
                <a:cubicBezTo>
                  <a:pt x="750" y="190"/>
                  <a:pt x="746" y="174"/>
                  <a:pt x="733" y="170"/>
                </a:cubicBezTo>
                <a:cubicBezTo>
                  <a:pt x="685" y="154"/>
                  <a:pt x="633" y="159"/>
                  <a:pt x="584" y="151"/>
                </a:cubicBezTo>
                <a:cubicBezTo>
                  <a:pt x="510" y="154"/>
                  <a:pt x="434" y="148"/>
                  <a:pt x="361" y="161"/>
                </a:cubicBezTo>
                <a:cubicBezTo>
                  <a:pt x="258" y="180"/>
                  <a:pt x="119" y="263"/>
                  <a:pt x="45" y="337"/>
                </a:cubicBezTo>
                <a:cubicBezTo>
                  <a:pt x="34" y="371"/>
                  <a:pt x="17" y="394"/>
                  <a:pt x="8" y="430"/>
                </a:cubicBezTo>
                <a:cubicBezTo>
                  <a:pt x="25" y="551"/>
                  <a:pt x="34" y="666"/>
                  <a:pt x="166" y="709"/>
                </a:cubicBezTo>
                <a:cubicBezTo>
                  <a:pt x="205" y="722"/>
                  <a:pt x="247" y="725"/>
                  <a:pt x="287" y="737"/>
                </a:cubicBezTo>
                <a:cubicBezTo>
                  <a:pt x="413" y="718"/>
                  <a:pt x="530" y="709"/>
                  <a:pt x="640" y="644"/>
                </a:cubicBezTo>
                <a:cubicBezTo>
                  <a:pt x="659" y="619"/>
                  <a:pt x="677" y="594"/>
                  <a:pt x="696" y="569"/>
                </a:cubicBezTo>
                <a:cubicBezTo>
                  <a:pt x="713" y="546"/>
                  <a:pt x="686" y="513"/>
                  <a:pt x="677" y="486"/>
                </a:cubicBezTo>
                <a:cubicBezTo>
                  <a:pt x="651" y="410"/>
                  <a:pt x="548" y="406"/>
                  <a:pt x="482" y="393"/>
                </a:cubicBezTo>
                <a:cubicBezTo>
                  <a:pt x="426" y="399"/>
                  <a:pt x="369" y="398"/>
                  <a:pt x="315" y="411"/>
                </a:cubicBezTo>
                <a:cubicBezTo>
                  <a:pt x="302" y="414"/>
                  <a:pt x="298" y="431"/>
                  <a:pt x="287" y="439"/>
                </a:cubicBezTo>
                <a:cubicBezTo>
                  <a:pt x="263" y="457"/>
                  <a:pt x="236" y="469"/>
                  <a:pt x="212" y="486"/>
                </a:cubicBezTo>
                <a:cubicBezTo>
                  <a:pt x="179" y="535"/>
                  <a:pt x="170" y="553"/>
                  <a:pt x="157" y="607"/>
                </a:cubicBezTo>
                <a:cubicBezTo>
                  <a:pt x="160" y="638"/>
                  <a:pt x="158" y="669"/>
                  <a:pt x="166" y="699"/>
                </a:cubicBezTo>
                <a:cubicBezTo>
                  <a:pt x="170" y="714"/>
                  <a:pt x="185" y="724"/>
                  <a:pt x="194" y="737"/>
                </a:cubicBezTo>
                <a:cubicBezTo>
                  <a:pt x="265" y="837"/>
                  <a:pt x="348" y="851"/>
                  <a:pt x="463" y="867"/>
                </a:cubicBezTo>
                <a:cubicBezTo>
                  <a:pt x="506" y="864"/>
                  <a:pt x="551" y="867"/>
                  <a:pt x="593" y="857"/>
                </a:cubicBezTo>
                <a:cubicBezTo>
                  <a:pt x="617" y="851"/>
                  <a:pt x="636" y="831"/>
                  <a:pt x="658" y="820"/>
                </a:cubicBezTo>
                <a:cubicBezTo>
                  <a:pt x="691" y="804"/>
                  <a:pt x="735" y="787"/>
                  <a:pt x="770" y="774"/>
                </a:cubicBezTo>
                <a:cubicBezTo>
                  <a:pt x="787" y="751"/>
                  <a:pt x="812" y="734"/>
                  <a:pt x="826" y="709"/>
                </a:cubicBezTo>
                <a:cubicBezTo>
                  <a:pt x="837" y="689"/>
                  <a:pt x="837" y="665"/>
                  <a:pt x="844" y="644"/>
                </a:cubicBezTo>
                <a:cubicBezTo>
                  <a:pt x="835" y="613"/>
                  <a:pt x="829" y="581"/>
                  <a:pt x="816" y="551"/>
                </a:cubicBezTo>
                <a:cubicBezTo>
                  <a:pt x="772" y="450"/>
                  <a:pt x="634" y="428"/>
                  <a:pt x="538" y="411"/>
                </a:cubicBezTo>
                <a:cubicBezTo>
                  <a:pt x="350" y="418"/>
                  <a:pt x="286" y="408"/>
                  <a:pt x="138" y="458"/>
                </a:cubicBezTo>
                <a:cubicBezTo>
                  <a:pt x="100" y="489"/>
                  <a:pt x="79" y="517"/>
                  <a:pt x="45" y="551"/>
                </a:cubicBezTo>
                <a:cubicBezTo>
                  <a:pt x="21" y="626"/>
                  <a:pt x="0" y="710"/>
                  <a:pt x="64" y="774"/>
                </a:cubicBezTo>
                <a:cubicBezTo>
                  <a:pt x="67" y="786"/>
                  <a:pt x="65" y="801"/>
                  <a:pt x="73" y="811"/>
                </a:cubicBezTo>
                <a:cubicBezTo>
                  <a:pt x="82" y="822"/>
                  <a:pt x="99" y="822"/>
                  <a:pt x="110" y="830"/>
                </a:cubicBezTo>
                <a:cubicBezTo>
                  <a:pt x="121" y="837"/>
                  <a:pt x="126" y="852"/>
                  <a:pt x="138" y="857"/>
                </a:cubicBezTo>
                <a:cubicBezTo>
                  <a:pt x="220" y="895"/>
                  <a:pt x="239" y="894"/>
                  <a:pt x="315" y="904"/>
                </a:cubicBezTo>
                <a:cubicBezTo>
                  <a:pt x="386" y="895"/>
                  <a:pt x="457" y="886"/>
                  <a:pt x="528" y="876"/>
                </a:cubicBezTo>
                <a:cubicBezTo>
                  <a:pt x="547" y="873"/>
                  <a:pt x="567" y="875"/>
                  <a:pt x="584" y="867"/>
                </a:cubicBezTo>
                <a:cubicBezTo>
                  <a:pt x="616" y="851"/>
                  <a:pt x="638" y="821"/>
                  <a:pt x="668" y="802"/>
                </a:cubicBezTo>
                <a:cubicBezTo>
                  <a:pt x="677" y="789"/>
                  <a:pt x="689" y="778"/>
                  <a:pt x="696" y="764"/>
                </a:cubicBezTo>
                <a:cubicBezTo>
                  <a:pt x="705" y="747"/>
                  <a:pt x="714" y="709"/>
                  <a:pt x="714" y="709"/>
                </a:cubicBezTo>
                <a:cubicBezTo>
                  <a:pt x="711" y="687"/>
                  <a:pt x="711" y="665"/>
                  <a:pt x="705" y="644"/>
                </a:cubicBezTo>
                <a:cubicBezTo>
                  <a:pt x="681" y="565"/>
                  <a:pt x="526" y="496"/>
                  <a:pt x="454" y="476"/>
                </a:cubicBezTo>
                <a:cubicBezTo>
                  <a:pt x="264" y="486"/>
                  <a:pt x="226" y="472"/>
                  <a:pt x="101" y="597"/>
                </a:cubicBezTo>
                <a:cubicBezTo>
                  <a:pt x="92" y="635"/>
                  <a:pt x="73" y="661"/>
                  <a:pt x="64" y="699"/>
                </a:cubicBezTo>
                <a:cubicBezTo>
                  <a:pt x="67" y="736"/>
                  <a:pt x="66" y="774"/>
                  <a:pt x="73" y="811"/>
                </a:cubicBezTo>
                <a:cubicBezTo>
                  <a:pt x="76" y="828"/>
                  <a:pt x="123" y="871"/>
                  <a:pt x="129" y="876"/>
                </a:cubicBezTo>
                <a:cubicBezTo>
                  <a:pt x="185" y="925"/>
                  <a:pt x="264" y="940"/>
                  <a:pt x="333" y="960"/>
                </a:cubicBezTo>
                <a:cubicBezTo>
                  <a:pt x="441" y="951"/>
                  <a:pt x="551" y="950"/>
                  <a:pt x="658" y="932"/>
                </a:cubicBezTo>
                <a:cubicBezTo>
                  <a:pt x="703" y="925"/>
                  <a:pt x="788" y="885"/>
                  <a:pt x="788" y="885"/>
                </a:cubicBezTo>
                <a:cubicBezTo>
                  <a:pt x="801" y="870"/>
                  <a:pt x="824" y="859"/>
                  <a:pt x="826" y="839"/>
                </a:cubicBezTo>
                <a:cubicBezTo>
                  <a:pt x="831" y="777"/>
                  <a:pt x="799" y="771"/>
                  <a:pt x="770" y="737"/>
                </a:cubicBezTo>
                <a:cubicBezTo>
                  <a:pt x="667" y="617"/>
                  <a:pt x="575" y="603"/>
                  <a:pt x="426" y="579"/>
                </a:cubicBezTo>
                <a:cubicBezTo>
                  <a:pt x="361" y="582"/>
                  <a:pt x="295" y="577"/>
                  <a:pt x="231" y="588"/>
                </a:cubicBezTo>
                <a:cubicBezTo>
                  <a:pt x="197" y="594"/>
                  <a:pt x="155" y="706"/>
                  <a:pt x="147" y="737"/>
                </a:cubicBezTo>
                <a:cubicBezTo>
                  <a:pt x="148" y="744"/>
                  <a:pt x="144" y="872"/>
                  <a:pt x="185" y="904"/>
                </a:cubicBezTo>
                <a:cubicBezTo>
                  <a:pt x="208" y="922"/>
                  <a:pt x="259" y="950"/>
                  <a:pt x="259" y="950"/>
                </a:cubicBezTo>
                <a:cubicBezTo>
                  <a:pt x="318" y="947"/>
                  <a:pt x="377" y="952"/>
                  <a:pt x="435" y="941"/>
                </a:cubicBezTo>
                <a:cubicBezTo>
                  <a:pt x="462" y="936"/>
                  <a:pt x="485" y="916"/>
                  <a:pt x="510" y="904"/>
                </a:cubicBezTo>
                <a:cubicBezTo>
                  <a:pt x="598" y="863"/>
                  <a:pt x="664" y="804"/>
                  <a:pt x="733" y="737"/>
                </a:cubicBezTo>
                <a:cubicBezTo>
                  <a:pt x="777" y="622"/>
                  <a:pt x="755" y="579"/>
                  <a:pt x="686" y="476"/>
                </a:cubicBezTo>
                <a:cubicBezTo>
                  <a:pt x="602" y="351"/>
                  <a:pt x="481" y="292"/>
                  <a:pt x="333" y="272"/>
                </a:cubicBezTo>
                <a:cubicBezTo>
                  <a:pt x="262" y="281"/>
                  <a:pt x="187" y="275"/>
                  <a:pt x="120" y="300"/>
                </a:cubicBezTo>
                <a:cubicBezTo>
                  <a:pt x="91" y="311"/>
                  <a:pt x="64" y="374"/>
                  <a:pt x="64" y="374"/>
                </a:cubicBezTo>
                <a:cubicBezTo>
                  <a:pt x="53" y="406"/>
                  <a:pt x="34" y="451"/>
                  <a:pt x="36" y="486"/>
                </a:cubicBezTo>
                <a:cubicBezTo>
                  <a:pt x="38" y="539"/>
                  <a:pt x="43" y="592"/>
                  <a:pt x="55" y="644"/>
                </a:cubicBezTo>
                <a:cubicBezTo>
                  <a:pt x="59" y="662"/>
                  <a:pt x="122" y="723"/>
                  <a:pt x="129" y="727"/>
                </a:cubicBezTo>
                <a:cubicBezTo>
                  <a:pt x="229" y="791"/>
                  <a:pt x="293" y="790"/>
                  <a:pt x="408" y="802"/>
                </a:cubicBezTo>
                <a:cubicBezTo>
                  <a:pt x="490" y="781"/>
                  <a:pt x="568" y="751"/>
                  <a:pt x="649" y="727"/>
                </a:cubicBezTo>
                <a:cubicBezTo>
                  <a:pt x="719" y="678"/>
                  <a:pt x="778" y="629"/>
                  <a:pt x="816" y="551"/>
                </a:cubicBezTo>
                <a:cubicBezTo>
                  <a:pt x="841" y="432"/>
                  <a:pt x="747" y="313"/>
                  <a:pt x="631" y="281"/>
                </a:cubicBezTo>
                <a:cubicBezTo>
                  <a:pt x="592" y="270"/>
                  <a:pt x="550" y="269"/>
                  <a:pt x="510" y="263"/>
                </a:cubicBezTo>
                <a:cubicBezTo>
                  <a:pt x="363" y="278"/>
                  <a:pt x="337" y="259"/>
                  <a:pt x="250" y="346"/>
                </a:cubicBezTo>
                <a:cubicBezTo>
                  <a:pt x="231" y="394"/>
                  <a:pt x="210" y="437"/>
                  <a:pt x="194" y="486"/>
                </a:cubicBezTo>
                <a:cubicBezTo>
                  <a:pt x="203" y="539"/>
                  <a:pt x="206" y="593"/>
                  <a:pt x="222" y="644"/>
                </a:cubicBezTo>
                <a:cubicBezTo>
                  <a:pt x="245" y="715"/>
                  <a:pt x="340" y="732"/>
                  <a:pt x="398" y="755"/>
                </a:cubicBezTo>
                <a:cubicBezTo>
                  <a:pt x="451" y="752"/>
                  <a:pt x="504" y="755"/>
                  <a:pt x="556" y="746"/>
                </a:cubicBezTo>
                <a:cubicBezTo>
                  <a:pt x="622" y="735"/>
                  <a:pt x="695" y="646"/>
                  <a:pt x="733" y="597"/>
                </a:cubicBezTo>
                <a:cubicBezTo>
                  <a:pt x="743" y="565"/>
                  <a:pt x="768" y="537"/>
                  <a:pt x="770" y="504"/>
                </a:cubicBezTo>
                <a:cubicBezTo>
                  <a:pt x="788" y="256"/>
                  <a:pt x="505" y="193"/>
                  <a:pt x="315" y="170"/>
                </a:cubicBezTo>
                <a:cubicBezTo>
                  <a:pt x="253" y="187"/>
                  <a:pt x="202" y="202"/>
                  <a:pt x="147" y="235"/>
                </a:cubicBezTo>
                <a:cubicBezTo>
                  <a:pt x="117" y="286"/>
                  <a:pt x="102" y="316"/>
                  <a:pt x="92" y="374"/>
                </a:cubicBezTo>
                <a:cubicBezTo>
                  <a:pt x="95" y="408"/>
                  <a:pt x="88" y="445"/>
                  <a:pt x="101" y="476"/>
                </a:cubicBezTo>
                <a:cubicBezTo>
                  <a:pt x="157" y="607"/>
                  <a:pt x="311" y="647"/>
                  <a:pt x="435" y="662"/>
                </a:cubicBezTo>
                <a:cubicBezTo>
                  <a:pt x="594" y="634"/>
                  <a:pt x="699" y="617"/>
                  <a:pt x="798" y="486"/>
                </a:cubicBezTo>
                <a:cubicBezTo>
                  <a:pt x="806" y="444"/>
                  <a:pt x="829" y="388"/>
                  <a:pt x="807" y="346"/>
                </a:cubicBezTo>
                <a:cubicBezTo>
                  <a:pt x="730" y="201"/>
                  <a:pt x="569" y="149"/>
                  <a:pt x="417" y="133"/>
                </a:cubicBezTo>
                <a:cubicBezTo>
                  <a:pt x="358" y="136"/>
                  <a:pt x="297" y="127"/>
                  <a:pt x="240" y="142"/>
                </a:cubicBezTo>
                <a:cubicBezTo>
                  <a:pt x="171" y="160"/>
                  <a:pt x="135" y="240"/>
                  <a:pt x="120" y="300"/>
                </a:cubicBezTo>
                <a:cubicBezTo>
                  <a:pt x="126" y="343"/>
                  <a:pt x="121" y="390"/>
                  <a:pt x="138" y="430"/>
                </a:cubicBezTo>
                <a:cubicBezTo>
                  <a:pt x="175" y="520"/>
                  <a:pt x="273" y="571"/>
                  <a:pt x="361" y="588"/>
                </a:cubicBezTo>
                <a:cubicBezTo>
                  <a:pt x="378" y="586"/>
                  <a:pt x="511" y="587"/>
                  <a:pt x="556" y="551"/>
                </a:cubicBezTo>
                <a:cubicBezTo>
                  <a:pt x="580" y="532"/>
                  <a:pt x="621" y="486"/>
                  <a:pt x="621" y="486"/>
                </a:cubicBezTo>
                <a:cubicBezTo>
                  <a:pt x="644" y="402"/>
                  <a:pt x="635" y="322"/>
                  <a:pt x="556" y="281"/>
                </a:cubicBezTo>
                <a:cubicBezTo>
                  <a:pt x="509" y="219"/>
                  <a:pt x="459" y="212"/>
                  <a:pt x="389" y="188"/>
                </a:cubicBezTo>
                <a:cubicBezTo>
                  <a:pt x="214" y="226"/>
                  <a:pt x="268" y="193"/>
                  <a:pt x="194" y="309"/>
                </a:cubicBezTo>
                <a:cubicBezTo>
                  <a:pt x="187" y="354"/>
                  <a:pt x="172" y="414"/>
                  <a:pt x="194" y="458"/>
                </a:cubicBezTo>
                <a:cubicBezTo>
                  <a:pt x="236" y="543"/>
                  <a:pt x="335" y="564"/>
                  <a:pt x="417" y="579"/>
                </a:cubicBezTo>
                <a:cubicBezTo>
                  <a:pt x="502" y="571"/>
                  <a:pt x="506" y="588"/>
                  <a:pt x="556" y="542"/>
                </a:cubicBezTo>
                <a:cubicBezTo>
                  <a:pt x="579" y="521"/>
                  <a:pt x="621" y="476"/>
                  <a:pt x="621" y="476"/>
                </a:cubicBezTo>
                <a:cubicBezTo>
                  <a:pt x="627" y="461"/>
                  <a:pt x="639" y="447"/>
                  <a:pt x="640" y="430"/>
                </a:cubicBezTo>
                <a:cubicBezTo>
                  <a:pt x="642" y="390"/>
                  <a:pt x="638" y="349"/>
                  <a:pt x="631" y="309"/>
                </a:cubicBezTo>
                <a:cubicBezTo>
                  <a:pt x="617" y="232"/>
                  <a:pt x="486" y="191"/>
                  <a:pt x="426" y="179"/>
                </a:cubicBezTo>
                <a:cubicBezTo>
                  <a:pt x="367" y="182"/>
                  <a:pt x="308" y="178"/>
                  <a:pt x="250" y="188"/>
                </a:cubicBezTo>
                <a:cubicBezTo>
                  <a:pt x="203" y="196"/>
                  <a:pt x="178" y="261"/>
                  <a:pt x="147" y="291"/>
                </a:cubicBezTo>
                <a:cubicBezTo>
                  <a:pt x="120" y="372"/>
                  <a:pt x="93" y="410"/>
                  <a:pt x="120" y="504"/>
                </a:cubicBezTo>
                <a:cubicBezTo>
                  <a:pt x="149" y="608"/>
                  <a:pt x="291" y="667"/>
                  <a:pt x="389" y="681"/>
                </a:cubicBezTo>
                <a:cubicBezTo>
                  <a:pt x="534" y="665"/>
                  <a:pt x="574" y="684"/>
                  <a:pt x="631" y="569"/>
                </a:cubicBezTo>
                <a:cubicBezTo>
                  <a:pt x="628" y="547"/>
                  <a:pt x="627" y="525"/>
                  <a:pt x="621" y="504"/>
                </a:cubicBezTo>
                <a:cubicBezTo>
                  <a:pt x="600" y="433"/>
                  <a:pt x="507" y="405"/>
                  <a:pt x="445" y="393"/>
                </a:cubicBezTo>
                <a:cubicBezTo>
                  <a:pt x="383" y="411"/>
                  <a:pt x="246" y="422"/>
                  <a:pt x="194" y="495"/>
                </a:cubicBezTo>
                <a:cubicBezTo>
                  <a:pt x="161" y="541"/>
                  <a:pt x="110" y="644"/>
                  <a:pt x="110" y="644"/>
                </a:cubicBezTo>
                <a:cubicBezTo>
                  <a:pt x="81" y="748"/>
                  <a:pt x="76" y="729"/>
                  <a:pt x="129" y="876"/>
                </a:cubicBezTo>
                <a:cubicBezTo>
                  <a:pt x="137" y="899"/>
                  <a:pt x="194" y="931"/>
                  <a:pt x="212" y="941"/>
                </a:cubicBezTo>
                <a:cubicBezTo>
                  <a:pt x="237" y="954"/>
                  <a:pt x="287" y="978"/>
                  <a:pt x="287" y="978"/>
                </a:cubicBezTo>
                <a:cubicBezTo>
                  <a:pt x="327" y="975"/>
                  <a:pt x="369" y="978"/>
                  <a:pt x="408" y="969"/>
                </a:cubicBezTo>
                <a:cubicBezTo>
                  <a:pt x="451" y="959"/>
                  <a:pt x="500" y="875"/>
                  <a:pt x="519" y="848"/>
                </a:cubicBezTo>
                <a:cubicBezTo>
                  <a:pt x="558" y="725"/>
                  <a:pt x="496" y="621"/>
                  <a:pt x="389" y="579"/>
                </a:cubicBezTo>
                <a:cubicBezTo>
                  <a:pt x="312" y="598"/>
                  <a:pt x="291" y="669"/>
                  <a:pt x="268" y="737"/>
                </a:cubicBezTo>
                <a:cubicBezTo>
                  <a:pt x="271" y="780"/>
                  <a:pt x="267" y="825"/>
                  <a:pt x="278" y="867"/>
                </a:cubicBezTo>
                <a:cubicBezTo>
                  <a:pt x="294" y="927"/>
                  <a:pt x="382" y="965"/>
                  <a:pt x="435" y="978"/>
                </a:cubicBezTo>
                <a:cubicBezTo>
                  <a:pt x="592" y="960"/>
                  <a:pt x="599" y="982"/>
                  <a:pt x="677" y="867"/>
                </a:cubicBezTo>
                <a:cubicBezTo>
                  <a:pt x="701" y="768"/>
                  <a:pt x="689" y="730"/>
                  <a:pt x="631" y="662"/>
                </a:cubicBezTo>
                <a:cubicBezTo>
                  <a:pt x="609" y="636"/>
                  <a:pt x="607" y="619"/>
                  <a:pt x="575" y="607"/>
                </a:cubicBezTo>
                <a:cubicBezTo>
                  <a:pt x="532" y="591"/>
                  <a:pt x="480" y="590"/>
                  <a:pt x="435" y="579"/>
                </a:cubicBezTo>
                <a:cubicBezTo>
                  <a:pt x="347" y="600"/>
                  <a:pt x="323" y="673"/>
                  <a:pt x="305" y="755"/>
                </a:cubicBezTo>
                <a:cubicBezTo>
                  <a:pt x="323" y="867"/>
                  <a:pt x="304" y="883"/>
                  <a:pt x="398" y="913"/>
                </a:cubicBezTo>
                <a:cubicBezTo>
                  <a:pt x="440" y="900"/>
                  <a:pt x="454" y="865"/>
                  <a:pt x="482" y="830"/>
                </a:cubicBezTo>
                <a:cubicBezTo>
                  <a:pt x="485" y="814"/>
                  <a:pt x="491" y="783"/>
                  <a:pt x="491" y="7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9"/>
          <p:cNvSpPr/>
          <p:nvPr/>
        </p:nvSpPr>
        <p:spPr>
          <a:xfrm flipV="1">
            <a:off x="5486400" y="28191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0"/>
          <p:cNvSpPr/>
          <p:nvPr/>
        </p:nvSpPr>
        <p:spPr>
          <a:xfrm flipV="1">
            <a:off x="5410080" y="28191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1"/>
          <p:cNvSpPr/>
          <p:nvPr/>
        </p:nvSpPr>
        <p:spPr>
          <a:xfrm flipV="1">
            <a:off x="5486400" y="28951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5486400" y="29714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3"/>
          <p:cNvSpPr/>
          <p:nvPr/>
        </p:nvSpPr>
        <p:spPr>
          <a:xfrm flipV="1">
            <a:off x="5638680" y="30477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4"/>
          <p:cNvSpPr/>
          <p:nvPr/>
        </p:nvSpPr>
        <p:spPr>
          <a:xfrm flipV="1">
            <a:off x="5410080" y="27428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5"/>
          <p:cNvSpPr/>
          <p:nvPr/>
        </p:nvSpPr>
        <p:spPr>
          <a:xfrm flipV="1">
            <a:off x="5638680" y="29714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 flipV="1">
            <a:off x="5638680" y="29714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 flipV="1">
            <a:off x="5715000" y="30477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V="1">
            <a:off x="5791320" y="3123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9"/>
          <p:cNvSpPr/>
          <p:nvPr/>
        </p:nvSpPr>
        <p:spPr>
          <a:xfrm flipV="1">
            <a:off x="5791320" y="32000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0"/>
          <p:cNvSpPr/>
          <p:nvPr/>
        </p:nvSpPr>
        <p:spPr>
          <a:xfrm flipV="1">
            <a:off x="5715000" y="3276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1"/>
          <p:cNvSpPr/>
          <p:nvPr/>
        </p:nvSpPr>
        <p:spPr>
          <a:xfrm flipV="1">
            <a:off x="5715000" y="3123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2"/>
          <p:cNvSpPr/>
          <p:nvPr/>
        </p:nvSpPr>
        <p:spPr>
          <a:xfrm flipV="1">
            <a:off x="5638680" y="33523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943600" y="3276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V="1">
            <a:off x="5562720" y="31237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5"/>
          <p:cNvSpPr/>
          <p:nvPr/>
        </p:nvSpPr>
        <p:spPr>
          <a:xfrm flipV="1">
            <a:off x="5486400" y="327636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6"/>
          <p:cNvSpPr/>
          <p:nvPr/>
        </p:nvSpPr>
        <p:spPr>
          <a:xfrm flipV="1">
            <a:off x="5410080" y="30477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5410080" y="28951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V="1">
            <a:off x="5867280" y="327636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5334120" y="266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1"/>
          <p:cNvSpPr/>
          <p:nvPr/>
        </p:nvSpPr>
        <p:spPr>
          <a:xfrm flipV="1">
            <a:off x="5791320" y="33523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3"/>
          <p:cNvSpPr/>
          <p:nvPr/>
        </p:nvSpPr>
        <p:spPr>
          <a:xfrm>
            <a:off x="8229600" y="2743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5"/>
          <p:cNvSpPr/>
          <p:nvPr/>
        </p:nvSpPr>
        <p:spPr>
          <a:xfrm>
            <a:off x="8001000" y="2743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6"/>
          <p:cNvSpPr/>
          <p:nvPr/>
        </p:nvSpPr>
        <p:spPr>
          <a:xfrm>
            <a:off x="8153280" y="2743200"/>
            <a:ext cx="9144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7"/>
          <p:cNvSpPr/>
          <p:nvPr/>
        </p:nvSpPr>
        <p:spPr>
          <a:xfrm>
            <a:off x="7772400" y="28195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8"/>
          <p:cNvSpPr/>
          <p:nvPr/>
        </p:nvSpPr>
        <p:spPr>
          <a:xfrm>
            <a:off x="609480" y="3808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рочитай «зашумленные» буквы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Какая буква лишняя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j0232107"/>
          <p:cNvPicPr/>
          <p:nvPr/>
        </p:nvPicPr>
        <p:blipFill>
          <a:blip r:embed="rId1"/>
          <a:stretch/>
        </p:blipFill>
        <p:spPr>
          <a:xfrm>
            <a:off x="2743200" y="3657600"/>
            <a:ext cx="2643120" cy="2911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j0232052"/>
          <p:cNvPicPr/>
          <p:nvPr/>
        </p:nvPicPr>
        <p:blipFill>
          <a:blip r:embed="rId2"/>
          <a:stretch/>
        </p:blipFill>
        <p:spPr>
          <a:xfrm>
            <a:off x="380880" y="762120"/>
            <a:ext cx="2770200" cy="37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j0232133"/>
          <p:cNvPicPr/>
          <p:nvPr/>
        </p:nvPicPr>
        <p:blipFill>
          <a:blip r:embed="rId3"/>
          <a:stretch/>
        </p:blipFill>
        <p:spPr>
          <a:xfrm>
            <a:off x="5562720" y="609480"/>
            <a:ext cx="311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520" y="609120"/>
            <a:ext cx="854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 следующие картин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ч детский резиновый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alantiki.ru/pi/rus-12b816-w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ч футбольный -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amelika.com/imaginator/1/4e5fe9026d37b_1299255688_soccer-bal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окольчик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du.mari.ru/prof/ttk/DocLib5/_w/kolokol4ik_gi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льница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ir-igrushki.ru/published/publicdata/NEW/attachments/SC/products_pictures/1zi_enl5z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ик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tatic6.depositphotos.com/1000126/578/v/950/depositphotos_5782083-Fairy-tale-house-among-tre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рамель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agentprodukt.ru/downloads/image/pictures/katalog2/bp/dush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мидор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-komok.narod.ru/top/topic_55418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сяц -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otryv-pertsa.org.ua/uploads/post-519-117010807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од - http://planeta-detei.ru/images/shop_items/495-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шина - http://cars-fans.ru/uploads/24/829/25/1609_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мея - http://otdih.dp.ua/wp-content/uploads/2012/04/год-змеи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мка - http://cdn2.purseblog.com/images/Louis_Vuitton_Damier_Al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шка - http://images.yandex.ru/yandsearch?text=%D0%BC%D0%B8%D1%88%D0%BA%D0%B0%20%D1%80%D0%B8%D1%81%D1%83%D0%BD%D0%BE%D0%BA&amp;pos=7&amp;uinfo=sw-1007-sh-655-fw-782-fh-449-pd-1&amp;rpt=simage&amp;img_url=http%3A%2F%2Fsovetik.net%2Fimages%2Fplyushevyj-mish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j0232052"/>
          <p:cNvPicPr/>
          <p:nvPr/>
        </p:nvPicPr>
        <p:blipFill>
          <a:blip r:embed="rId1"/>
          <a:stretch/>
        </p:blipFill>
        <p:spPr>
          <a:xfrm>
            <a:off x="1066680" y="1600200"/>
            <a:ext cx="2995560" cy="403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j0232133"/>
          <p:cNvPicPr/>
          <p:nvPr/>
        </p:nvPicPr>
        <p:blipFill>
          <a:blip r:embed="rId2"/>
          <a:stretch/>
        </p:blipFill>
        <p:spPr>
          <a:xfrm>
            <a:off x="5410080" y="2057400"/>
            <a:ext cx="334188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5943240"/>
            <a:ext cx="3581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5257800" y="5943600"/>
            <a:ext cx="35812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5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762120" y="380880"/>
            <a:ext cx="784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marL="678600" indent="-67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сти.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Вспомните, как зовут девочку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Давайте дадим имя мальч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35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Я</a:t>
            </a:r>
            <a:r>
              <a:rPr b="1" lang="ru-RU" sz="4800" spc="-1" strike="noStrike">
                <a:solidFill>
                  <a:srgbClr val="339935"/>
                </a:solidFill>
                <a:latin typeface="Arial"/>
              </a:rPr>
              <a:t>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0099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57200" y="2286000"/>
            <a:ext cx="1676520" cy="1523880"/>
          </a:xfrm>
          <a:prstGeom prst="rect">
            <a:avLst/>
          </a:prstGeom>
          <a:solidFill>
            <a:srgbClr val="000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8880" y="2209680"/>
            <a:ext cx="1676520" cy="1524240"/>
          </a:xfrm>
          <a:prstGeom prst="rect">
            <a:avLst/>
          </a:prstGeom>
          <a:solidFill>
            <a:srgbClr val="35a5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9"/>
          <p:cNvGrpSpPr/>
          <p:nvPr/>
        </p:nvGrpSpPr>
        <p:grpSpPr>
          <a:xfrm>
            <a:off x="2339640" y="3805920"/>
            <a:ext cx="4802040" cy="704520"/>
            <a:chOff x="2339640" y="3805920"/>
            <a:chExt cx="4802040" cy="704520"/>
          </a:xfrm>
        </p:grpSpPr>
        <p:sp>
          <p:nvSpPr>
            <p:cNvPr id="106" name="Line 8"/>
            <p:cNvSpPr/>
            <p:nvPr/>
          </p:nvSpPr>
          <p:spPr>
            <a:xfrm flipH="1" flipV="1">
              <a:off x="2339640" y="3890880"/>
              <a:ext cx="2484000" cy="59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 flipV="1">
              <a:off x="4744440" y="3805920"/>
              <a:ext cx="2397240" cy="704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0"/>
          <p:cNvGrpSpPr/>
          <p:nvPr/>
        </p:nvGrpSpPr>
        <p:grpSpPr>
          <a:xfrm>
            <a:off x="2362320" y="1295280"/>
            <a:ext cx="4724280" cy="1067040"/>
            <a:chOff x="2362320" y="1295280"/>
            <a:chExt cx="4724280" cy="1067040"/>
          </a:xfrm>
        </p:grpSpPr>
        <p:sp>
          <p:nvSpPr>
            <p:cNvPr id="109" name="Line 57"/>
            <p:cNvSpPr/>
            <p:nvPr/>
          </p:nvSpPr>
          <p:spPr>
            <a:xfrm>
              <a:off x="4572000" y="1295280"/>
              <a:ext cx="25146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8"/>
            <p:cNvSpPr/>
            <p:nvPr/>
          </p:nvSpPr>
          <p:spPr>
            <a:xfrm flipH="1">
              <a:off x="2362320" y="1295280"/>
              <a:ext cx="220968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61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26668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BD07311_"/>
          <p:cNvPicPr/>
          <p:nvPr/>
        </p:nvPicPr>
        <p:blipFill>
          <a:blip r:embed="rId1"/>
          <a:stretch/>
        </p:blipFill>
        <p:spPr>
          <a:xfrm>
            <a:off x="7162920" y="2819520"/>
            <a:ext cx="1657080" cy="179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LITEBLB"/>
          <p:cNvPicPr/>
          <p:nvPr/>
        </p:nvPicPr>
        <p:blipFill>
          <a:blip r:embed="rId2"/>
          <a:stretch/>
        </p:blipFill>
        <p:spPr>
          <a:xfrm>
            <a:off x="7924680" y="1523880"/>
            <a:ext cx="876600" cy="95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AQUARIUM"/>
          <p:cNvPicPr/>
          <p:nvPr/>
        </p:nvPicPr>
        <p:blipFill>
          <a:blip r:embed="rId3"/>
          <a:stretch/>
        </p:blipFill>
        <p:spPr>
          <a:xfrm>
            <a:off x="4724280" y="5181480"/>
            <a:ext cx="2032200" cy="13464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23"/>
          <p:cNvSpPr txBox="1"/>
          <p:nvPr/>
        </p:nvSpPr>
        <p:spPr>
          <a:xfrm>
            <a:off x="5867280" y="3352680"/>
            <a:ext cx="8384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25" descr=""/>
          <p:cNvPicPr/>
          <p:nvPr/>
        </p:nvPicPr>
        <p:blipFill>
          <a:blip r:embed="rId6"/>
          <a:stretch/>
        </p:blipFill>
        <p:spPr>
          <a:xfrm>
            <a:off x="0" y="1523880"/>
            <a:ext cx="2133720" cy="204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"/>
          <p:cNvPicPr/>
          <p:nvPr/>
        </p:nvPicPr>
        <p:blipFill>
          <a:blip r:embed="rId7"/>
          <a:stretch/>
        </p:blipFill>
        <p:spPr>
          <a:xfrm>
            <a:off x="1905120" y="3124080"/>
            <a:ext cx="2065320" cy="210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7" descr=""/>
          <p:cNvPicPr/>
          <p:nvPr/>
        </p:nvPicPr>
        <p:blipFill>
          <a:blip r:embed="rId8"/>
          <a:stretch/>
        </p:blipFill>
        <p:spPr>
          <a:xfrm>
            <a:off x="5791320" y="1295280"/>
            <a:ext cx="1904760" cy="123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"/>
          <p:cNvPicPr/>
          <p:nvPr/>
        </p:nvPicPr>
        <p:blipFill>
          <a:blip r:embed="rId9"/>
          <a:stretch/>
        </p:blipFill>
        <p:spPr>
          <a:xfrm>
            <a:off x="152280" y="3581280"/>
            <a:ext cx="1747800" cy="177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"/>
          <p:cNvPicPr/>
          <p:nvPr/>
        </p:nvPicPr>
        <p:blipFill>
          <a:blip r:embed="rId10"/>
          <a:stretch/>
        </p:blipFill>
        <p:spPr>
          <a:xfrm>
            <a:off x="3809880" y="3352680"/>
            <a:ext cx="1643040" cy="145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"/>
          <p:cNvPicPr/>
          <p:nvPr/>
        </p:nvPicPr>
        <p:blipFill>
          <a:blip r:embed="rId11"/>
          <a:stretch/>
        </p:blipFill>
        <p:spPr>
          <a:xfrm>
            <a:off x="70102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4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 Подари слова М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Подари слова М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7" descr=""/>
          <p:cNvPicPr/>
          <p:nvPr/>
        </p:nvPicPr>
        <p:blipFill>
          <a:blip r:embed="rId12"/>
          <a:stretch/>
        </p:blipFill>
        <p:spPr>
          <a:xfrm>
            <a:off x="2057400" y="5486400"/>
            <a:ext cx="2152800" cy="898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8" descr=""/>
          <p:cNvPicPr/>
          <p:nvPr/>
        </p:nvPicPr>
        <p:blipFill>
          <a:blip r:embed="rId13"/>
          <a:stretch/>
        </p:blipFill>
        <p:spPr>
          <a:xfrm>
            <a:off x="4267080" y="1295280"/>
            <a:ext cx="1133640" cy="152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9" descr=""/>
          <p:cNvPicPr/>
          <p:nvPr/>
        </p:nvPicPr>
        <p:blipFill>
          <a:blip r:embed="rId14"/>
          <a:stretch/>
        </p:blipFill>
        <p:spPr>
          <a:xfrm>
            <a:off x="457200" y="5622840"/>
            <a:ext cx="1133640" cy="1235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0" descr=""/>
          <p:cNvPicPr/>
          <p:nvPr/>
        </p:nvPicPr>
        <p:blipFill>
          <a:blip r:embed="rId15"/>
          <a:stretch/>
        </p:blipFill>
        <p:spPr>
          <a:xfrm>
            <a:off x="2514600" y="1523880"/>
            <a:ext cx="1433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232052"/>
          <p:cNvPicPr/>
          <p:nvPr/>
        </p:nvPicPr>
        <p:blipFill>
          <a:blip r:embed="rId1"/>
          <a:stretch/>
        </p:blipFill>
        <p:spPr>
          <a:xfrm>
            <a:off x="6477120" y="228600"/>
            <a:ext cx="23749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D07311_"/>
          <p:cNvPicPr/>
          <p:nvPr/>
        </p:nvPicPr>
        <p:blipFill>
          <a:blip r:embed="rId2"/>
          <a:stretch/>
        </p:blipFill>
        <p:spPr>
          <a:xfrm>
            <a:off x="457200" y="990720"/>
            <a:ext cx="1657440" cy="179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AQUARIUM"/>
          <p:cNvPicPr/>
          <p:nvPr/>
        </p:nvPicPr>
        <p:blipFill>
          <a:blip r:embed="rId3"/>
          <a:stretch/>
        </p:blipFill>
        <p:spPr>
          <a:xfrm>
            <a:off x="533520" y="5105520"/>
            <a:ext cx="2031840" cy="1346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LITEBLB"/>
          <p:cNvPicPr/>
          <p:nvPr/>
        </p:nvPicPr>
        <p:blipFill>
          <a:blip r:embed="rId4"/>
          <a:stretch/>
        </p:blipFill>
        <p:spPr>
          <a:xfrm>
            <a:off x="838080" y="2971800"/>
            <a:ext cx="12938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5"/>
          <a:stretch/>
        </p:blipFill>
        <p:spPr>
          <a:xfrm>
            <a:off x="3352680" y="4519440"/>
            <a:ext cx="2289240" cy="233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6"/>
          <a:stretch/>
        </p:blipFill>
        <p:spPr>
          <a:xfrm>
            <a:off x="6248520" y="3962520"/>
            <a:ext cx="2457360" cy="245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"/>
          <p:cNvPicPr/>
          <p:nvPr/>
        </p:nvPicPr>
        <p:blipFill>
          <a:blip r:embed="rId7"/>
          <a:stretch/>
        </p:blipFill>
        <p:spPr>
          <a:xfrm>
            <a:off x="2743200" y="1523880"/>
            <a:ext cx="2590920" cy="10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8"/>
          <a:stretch/>
        </p:blipFill>
        <p:spPr>
          <a:xfrm>
            <a:off x="3809880" y="2819520"/>
            <a:ext cx="14763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и</a:t>
            </a: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ш</a:t>
            </a:r>
            <a:r>
              <a:rPr b="1" lang="ru-RU" sz="4800" spc="-1" strike="noStrike">
                <a:solidFill>
                  <a:srgbClr val="fc2025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j0232133"/>
          <p:cNvPicPr/>
          <p:nvPr/>
        </p:nvPicPr>
        <p:blipFill>
          <a:blip r:embed="rId1"/>
          <a:stretch/>
        </p:blipFill>
        <p:spPr>
          <a:xfrm>
            <a:off x="304920" y="304920"/>
            <a:ext cx="2068560" cy="21222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1"/>
          <p:cNvSpPr txBox="1"/>
          <p:nvPr/>
        </p:nvSpPr>
        <p:spPr>
          <a:xfrm>
            <a:off x="3581280" y="5638680"/>
            <a:ext cx="8384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4114800" y="3809880"/>
            <a:ext cx="1747800" cy="1771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5"/>
          <a:stretch/>
        </p:blipFill>
        <p:spPr>
          <a:xfrm>
            <a:off x="762120" y="4267080"/>
            <a:ext cx="2133360" cy="1382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6"/>
          <a:stretch/>
        </p:blipFill>
        <p:spPr>
          <a:xfrm>
            <a:off x="6477120" y="762120"/>
            <a:ext cx="2023920" cy="179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"/>
          <p:cNvPicPr/>
          <p:nvPr/>
        </p:nvPicPr>
        <p:blipFill>
          <a:blip r:embed="rId7"/>
          <a:stretch/>
        </p:blipFill>
        <p:spPr>
          <a:xfrm>
            <a:off x="3352680" y="1676520"/>
            <a:ext cx="2133720" cy="204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6" descr=""/>
          <p:cNvPicPr/>
          <p:nvPr/>
        </p:nvPicPr>
        <p:blipFill>
          <a:blip r:embed="rId8"/>
          <a:stretch/>
        </p:blipFill>
        <p:spPr>
          <a:xfrm>
            <a:off x="6095880" y="4800600"/>
            <a:ext cx="1303560" cy="175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"/>
          <p:cNvPicPr/>
          <p:nvPr/>
        </p:nvPicPr>
        <p:blipFill>
          <a:blip r:embed="rId9"/>
          <a:stretch/>
        </p:blipFill>
        <p:spPr>
          <a:xfrm>
            <a:off x="6934320" y="2895480"/>
            <a:ext cx="1917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2025"/>
                </a:solidFill>
                <a:latin typeface="Arial"/>
              </a:rPr>
              <a:t>Карам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рт жестких конфет с начи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572000" cy="2962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380880" y="228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бота над активизацией и обогащением слов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шана Сайфуллина</cp:lastModifiedBy>
  <dcterms:modified xsi:type="dcterms:W3CDTF">2023-03-27T16:26:55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