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3506-D86F-468D-B3BA-B32C87DA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6B7C-56C5-4CB3-8017-9B201C0A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D60C-58CB-4C57-9156-DECBC820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4FFE-913F-4263-922F-1E93A022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9E59-EBD5-4C02-8D05-A20DA9CC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92B5-53E9-459A-A25B-24BED3D0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0FB4-A55A-4834-8078-399D5FF0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38E7-8D3D-4E85-B92F-E3F4E301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855E-070C-4FDB-9BDD-2EC850FE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44E2-5AA0-4475-938B-2F2B9EFA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4BCD-B770-4FDE-80A6-9BAE5076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7EA3-5606-49AB-91D5-C5F87B8A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7379-CF67-4B52-BF99-9728DD0DCB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6496200" y="3867120"/>
            <a:ext cx="2647800" cy="2990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8"/>
          <p:cNvSpPr/>
          <p:nvPr/>
        </p:nvSpPr>
        <p:spPr>
          <a:xfrm>
            <a:off x="570240" y="1457280"/>
            <a:ext cx="845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ahoma"/>
              </a:rPr>
              <a:t>ПАСХА 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ahoma"/>
              </a:rPr>
              <a:t>– </a:t>
            </a:r>
            <a:r>
              <a:rPr b="1" lang="ru-RU" sz="6000" spc="-1" strike="noStrike">
                <a:solidFill>
                  <a:srgbClr val="cc0000"/>
                </a:solidFill>
                <a:latin typeface="Tahoma"/>
              </a:rPr>
              <a:t>самый радостный 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ahoma"/>
              </a:rPr>
              <a:t>и светлый праздник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0000"/>
                </a:solidFill>
                <a:latin typeface="Arial"/>
              </a:rPr>
              <a:t>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cc0000"/>
                </a:solidFill>
                <a:latin typeface="Arial"/>
              </a:rPr>
              <a:t>Мария Магдалина пришла к римскому императору Тиверию. С собой она принесла простое куриное яйцо. Но когда Мария стала говорить Тиверию о том, что Иисус Христос воскрес, император только рассмеялся: «Это также невозможно, как твоему белому яйцу  превратиться в красное»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3"/>
          <p:cNvSpPr txBox="1"/>
          <p:nvPr/>
        </p:nvSpPr>
        <p:spPr>
          <a:xfrm>
            <a:off x="539640" y="260280"/>
            <a:ext cx="784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чему мы на Пасху красим яйца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5580000" y="2924280"/>
            <a:ext cx="324000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0" lang="ru-RU" sz="2100" spc="-1" strike="noStrike">
                <a:solidFill>
                  <a:srgbClr val="cc0000"/>
                </a:solidFill>
                <a:latin typeface="Times New Roman"/>
              </a:rPr>
              <a:t>И не успел Тиверий закончить фразу, как яйцо в руках Марии Магдалины стало совершенно красным. 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612720" y="2852640"/>
            <a:ext cx="5111640" cy="3834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7.40741E-007 L -0.59305 7.40741E-007 E">
                                      <p:cBhvr>
                                        <p:cTn id="134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8148E-006 L -0.59514 -0.00394 E">
                                      <p:cBhvr>
                                        <p:cTn id="136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000" y="2418840"/>
            <a:ext cx="60483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Драпанки – красят в темный цвет и узор на скорлупу наносят острым предм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16000" y="1557360"/>
            <a:ext cx="460836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Крашенки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от слова крас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крашенки"/>
          <p:cNvPicPr/>
          <p:nvPr/>
        </p:nvPicPr>
        <p:blipFill>
          <a:blip r:embed="rId1"/>
          <a:stretch/>
        </p:blipFill>
        <p:spPr>
          <a:xfrm>
            <a:off x="539640" y="1197000"/>
            <a:ext cx="1871640" cy="1368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драпанки"/>
          <p:cNvPicPr/>
          <p:nvPr/>
        </p:nvPicPr>
        <p:blipFill>
          <a:blip r:embed="rId2"/>
          <a:stretch/>
        </p:blipFill>
        <p:spPr>
          <a:xfrm>
            <a:off x="6588000" y="2224080"/>
            <a:ext cx="2159280" cy="15652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2987640" y="3860640"/>
            <a:ext cx="53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Крапанки – от украинского слова «крапать», то есть покрывать каплями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24000" y="5157720"/>
            <a:ext cx="62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Писанки – это искусно расписанные пасхальные яйца. Украинские писанки – настоящие произведения народного искусств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WordArt 8"/>
          <p:cNvSpPr txBox="1"/>
          <p:nvPr/>
        </p:nvSpPr>
        <p:spPr>
          <a:xfrm>
            <a:off x="539640" y="333360"/>
            <a:ext cx="828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ноцветные пасхальные яйц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9" descr="крапанки"/>
          <p:cNvPicPr/>
          <p:nvPr/>
        </p:nvPicPr>
        <p:blipFill>
          <a:blip r:embed="rId3"/>
          <a:stretch/>
        </p:blipFill>
        <p:spPr>
          <a:xfrm>
            <a:off x="539640" y="3789360"/>
            <a:ext cx="1800360" cy="128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писанки"/>
          <p:cNvPicPr/>
          <p:nvPr/>
        </p:nvPicPr>
        <p:blipFill>
          <a:blip r:embed="rId4"/>
          <a:stretch/>
        </p:blipFill>
        <p:spPr>
          <a:xfrm>
            <a:off x="6588000" y="5229360"/>
            <a:ext cx="1943280" cy="1387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pash02"/>
          <p:cNvPicPr/>
          <p:nvPr/>
        </p:nvPicPr>
        <p:blipFill>
          <a:blip r:embed="rId1"/>
          <a:stretch/>
        </p:blipFill>
        <p:spPr>
          <a:xfrm>
            <a:off x="0" y="0"/>
            <a:ext cx="12430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3"/>
          <p:cNvSpPr txBox="1"/>
          <p:nvPr/>
        </p:nvSpPr>
        <p:spPr>
          <a:xfrm>
            <a:off x="2484360" y="476280"/>
            <a:ext cx="482616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просы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476360" y="2492280"/>
            <a:ext cx="7632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 Black"/>
              </a:rPr>
              <a:t>О каком православном празднике мы сегодня говорили?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 Black"/>
              </a:rPr>
              <a:t>2.Что вам особенно запомнилось?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 Black"/>
              </a:rPr>
              <a:t>3. Что вы сделаете доброго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 Black"/>
              </a:rPr>
              <a:t>	</a:t>
            </a:r>
            <a:r>
              <a:rPr b="1" lang="ru-RU" sz="3000" spc="-1" strike="noStrike">
                <a:solidFill>
                  <a:srgbClr val="cc0000"/>
                </a:solidFill>
                <a:latin typeface="Arial Black"/>
              </a:rPr>
              <a:t>для своих близких?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pash02"/>
          <p:cNvPicPr/>
          <p:nvPr/>
        </p:nvPicPr>
        <p:blipFill>
          <a:blip r:embed="rId1"/>
          <a:stretch/>
        </p:blipFill>
        <p:spPr>
          <a:xfrm>
            <a:off x="0" y="0"/>
            <a:ext cx="12430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WordArt 3"/>
          <p:cNvSpPr txBox="1"/>
          <p:nvPr/>
        </p:nvSpPr>
        <p:spPr>
          <a:xfrm>
            <a:off x="3059280" y="620640"/>
            <a:ext cx="23526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ыводы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608120" y="2112840"/>
            <a:ext cx="59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1.  Пасха – весенний праздник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663920" y="2833560"/>
            <a:ext cx="589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2.  Мы должны стараться быть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добрыми, любить друг друга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546200" y="3860640"/>
            <a:ext cx="454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3.  Пасхальное яйцо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символизирует жизнь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94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08000" y="3141720"/>
            <a:ext cx="4032360" cy="2469960"/>
          </a:xfrm>
          <a:prstGeom prst="rect">
            <a:avLst/>
          </a:prstGeom>
          <a:solidFill>
            <a:srgbClr val="99cc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cc0000"/>
                </a:solidFill>
                <a:uFillTx/>
                <a:latin typeface="Arial Black"/>
              </a:rPr>
              <a:t>Пасха</a:t>
            </a: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—это самый главный православный 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праздник; его также называют Святое 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Христово Воскресение.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572000" y="189000"/>
            <a:ext cx="4329000" cy="4845960"/>
          </a:xfrm>
          <a:prstGeom prst="rect">
            <a:avLst/>
          </a:prstGeom>
          <a:solidFill>
            <a:srgbClr val="99cc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cc0000"/>
                </a:solidFill>
                <a:uFillTx/>
                <a:latin typeface="Arial Black"/>
              </a:rPr>
              <a:t>Пасхальное яйцо</a:t>
            </a: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—это куриное яйцо ,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окрашенное в красный или другой цвет 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на праздник Пасхи.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Это символ Воскресения Христа.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Существует традиция изготавливать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сувенирные пасхальные яйца из дерева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 </a:t>
            </a: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или другого материала.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1187280" y="1341360"/>
            <a:ext cx="6840720" cy="28083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412000" y="260280"/>
            <a:ext cx="4883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33cc"/>
                </a:solidFill>
                <a:latin typeface="Arial Black"/>
              </a:rPr>
              <a:t>Пасху радостно встречаем!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8" name="Picture 2" descr="jajtsa01"/>
          <p:cNvPicPr/>
          <p:nvPr/>
        </p:nvPicPr>
        <p:blipFill>
          <a:blip r:embed="rId1"/>
          <a:stretch/>
        </p:blipFill>
        <p:spPr>
          <a:xfrm rot="2759400">
            <a:off x="1338840" y="1693080"/>
            <a:ext cx="1368720" cy="519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2d3b1a7435a6"/>
          <p:cNvPicPr/>
          <p:nvPr/>
        </p:nvPicPr>
        <p:blipFill>
          <a:blip r:embed="rId2"/>
          <a:stretch/>
        </p:blipFill>
        <p:spPr>
          <a:xfrm>
            <a:off x="1692360" y="2235240"/>
            <a:ext cx="2232000" cy="1770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deva75"/>
          <p:cNvPicPr/>
          <p:nvPr/>
        </p:nvPicPr>
        <p:blipFill>
          <a:blip r:embed="rId3"/>
          <a:stretch/>
        </p:blipFill>
        <p:spPr>
          <a:xfrm>
            <a:off x="3924360" y="1876320"/>
            <a:ext cx="1374840" cy="2081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dac321b48db4"/>
          <p:cNvPicPr/>
          <p:nvPr/>
        </p:nvPicPr>
        <p:blipFill>
          <a:blip r:embed="rId4"/>
          <a:stretch/>
        </p:blipFill>
        <p:spPr>
          <a:xfrm>
            <a:off x="5545080" y="2092320"/>
            <a:ext cx="1979640" cy="19000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7"/>
          <p:cNvSpPr/>
          <p:nvPr/>
        </p:nvSpPr>
        <p:spPr>
          <a:xfrm>
            <a:off x="324000" y="4525920"/>
            <a:ext cx="8424720" cy="228852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 Black"/>
              </a:rPr>
              <a:t>ПАСХА  – это воскресение, оживление, победа жизни над смертью. Воскресение происходит в природе. Как бы ни было холодно зимой, она закончится и придет весна. После ночи обязательно наступает рассвет – это тоже воскресение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image003"/>
          <p:cNvPicPr/>
          <p:nvPr/>
        </p:nvPicPr>
        <p:blipFill>
          <a:blip r:embed="rId1"/>
          <a:stretch/>
        </p:blipFill>
        <p:spPr>
          <a:xfrm>
            <a:off x="5003640" y="260280"/>
            <a:ext cx="3935520" cy="5977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54" name="Picture 5" descr="Krest"/>
          <p:cNvPicPr/>
          <p:nvPr/>
        </p:nvPicPr>
        <p:blipFill>
          <a:blip r:embed="rId2"/>
          <a:stretch/>
        </p:blipFill>
        <p:spPr>
          <a:xfrm>
            <a:off x="250920" y="260280"/>
            <a:ext cx="4394160" cy="5977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55" name="Text Box 6"/>
          <p:cNvSpPr/>
          <p:nvPr/>
        </p:nvSpPr>
        <p:spPr>
          <a:xfrm>
            <a:off x="1535760" y="638172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«Распятие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54200" y="6408720"/>
            <a:ext cx="31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оскресение Христово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067280" y="1628280"/>
            <a:ext cx="4619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По всем городам и деревням,  ставят несколько тысяч бочек и котлов с вареными яйцами, окрашенными в разные  цвета. Некоторые из них позолоченные и посеребренные. Прохожие покупают их. При встрече  здороваются и говорят: «Христос Воскресе!», дают друг другу яйца, целу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971640" y="476280"/>
            <a:ext cx="756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праздновали на Руси Пасху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Picture 5" descr="khristovanie"/>
          <p:cNvPicPr/>
          <p:nvPr/>
        </p:nvPicPr>
        <p:blipFill>
          <a:blip r:embed="rId1"/>
          <a:stretch/>
        </p:blipFill>
        <p:spPr>
          <a:xfrm>
            <a:off x="684360" y="1413000"/>
            <a:ext cx="337500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asha"/>
          <p:cNvPicPr/>
          <p:nvPr/>
        </p:nvPicPr>
        <p:blipFill>
          <a:blip r:embed="rId1"/>
          <a:stretch/>
        </p:blipFill>
        <p:spPr>
          <a:xfrm>
            <a:off x="3059280" y="1557360"/>
            <a:ext cx="3600360" cy="2700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4920" y="4338720"/>
            <a:ext cx="84358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Празднование   Пасхи  продолжается  сорок  дней   –   ровно столько, сколько  Христос  являлся  своим  ученикам  после Воскресения.  В  течение  сорока дней Пасхи, а особенно на первой неделе – ходят, друг к другу в гости, дарят крашеные яйца и куличи, играют в пасхальны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755640" y="333360"/>
            <a:ext cx="76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праздновать Пасху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ll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3"/>
          <p:cNvSpPr txBox="1"/>
          <p:nvPr/>
        </p:nvSpPr>
        <p:spPr>
          <a:xfrm>
            <a:off x="826920" y="404640"/>
            <a:ext cx="7812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ый вкусный кулич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443120" y="1989000"/>
            <a:ext cx="4700520" cy="37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Кулич – это сладкий, сдобный, пасхальный хлеб. Для его приготовления тесто замешивают в ночь с четверга на пятницу. Весь день в пятницу пекут, а в ночь с субботы на воскресенье – освящ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1187280" y="180972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47512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Традиционным пасхальным блюдом является пасха – это творог со сметаной или сливками, спрессованный в виде усеченной пирамидки. На боковых ее сторонах изображается крест и буквы «ХВ», что означает Христос Воскр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ake1"/>
          <p:cNvPicPr/>
          <p:nvPr/>
        </p:nvPicPr>
        <p:blipFill>
          <a:blip r:embed="rId1"/>
          <a:stretch/>
        </p:blipFill>
        <p:spPr>
          <a:xfrm>
            <a:off x="5508720" y="1773360"/>
            <a:ext cx="3497040" cy="4103640"/>
          </a:xfrm>
          <a:prstGeom prst="rect">
            <a:avLst/>
          </a:prstGeom>
          <a:ln w="0">
            <a:noFill/>
          </a:ln>
        </p:spPr>
      </p:pic>
      <p:sp>
        <p:nvSpPr>
          <p:cNvPr id="69" name="WordArt 4"/>
          <p:cNvSpPr txBox="1"/>
          <p:nvPr/>
        </p:nvSpPr>
        <p:spPr>
          <a:xfrm>
            <a:off x="1258920" y="333360"/>
            <a:ext cx="6842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ая вкусная пасх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out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51228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Невозможно представить себе пасхальное поздравление без красного или расписанного яйца. Обычай обмениваться на Пасху красным яйцом, очень давний.                                           Христос дал нам жизнь, а яйцо – это знак жизни. Все христиане и приветствуют друг друга красным яйцом как знаком вечно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1187280" y="333360"/>
            <a:ext cx="7417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подарить на Пасху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5913360" y="1700280"/>
            <a:ext cx="3051360" cy="393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split dir="in" orient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2:11:34Z</dcterms:created>
  <dc:creator>EGN</dc:creator>
  <dc:description/>
  <dc:language>en-US</dc:language>
  <cp:lastModifiedBy>Пользователь Windows</cp:lastModifiedBy>
  <dcterms:modified xsi:type="dcterms:W3CDTF">2021-04-29T09:43:40Z</dcterms:modified>
  <cp:revision>46</cp:revision>
  <dc:subject/>
  <dc:title>Пасха</dc:title>
</cp:coreProperties>
</file>