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13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gif" ContentType="image/gif"/>
  <Override PartName="/ppt/media/image7.jpeg" ContentType="image/jpeg"/>
  <Override PartName="/ppt/media/image11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17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A50-6734-4AB5-9043-AF4CD583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5F2-BF99-4401-BB80-BC0B6ECB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E5C-459C-4A1C-8710-EB6DBE8F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37BA-AB10-4C3C-803D-CA3ECF12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9F2-F5E5-4A0D-87D6-FE286F86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B0DE-CA27-4FFA-B66A-8A5178FE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DA8-3574-4157-A0E6-DF16E7B7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D9D-D5E9-4B59-B5E4-B0EF9B2E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42B-1F02-440E-8172-AEE99A2E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8B72-C470-4277-8ED0-F01F5773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2CE-5D6A-4966-986F-EA8B6958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C9F-D641-49F3-A001-254BBD86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13E9-0111-414A-B655-D29C9C89B3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ogos-pravo.ru/shtraf-po-zakonu-o-zashchite-prav-potrebiteley-v-polzu-potrebitelya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Защита прав потребителей финансовых услуг»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2" name="Picture 6" descr="BD20657_"/>
          <p:cNvPicPr/>
          <p:nvPr/>
        </p:nvPicPr>
        <p:blipFill>
          <a:blip r:embed="rId1"/>
          <a:stretch/>
        </p:blipFill>
        <p:spPr>
          <a:xfrm>
            <a:off x="2800440" y="380880"/>
            <a:ext cx="3543120" cy="639720"/>
          </a:xfrm>
          <a:prstGeom prst="rect">
            <a:avLst/>
          </a:prstGeom>
          <a:ln w="0">
            <a:noFill/>
          </a:ln>
        </p:spPr>
      </p:pic>
      <p:pic>
        <p:nvPicPr>
          <p:cNvPr id="43" name="послушай получше!!!.mp3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0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машенька\Desktop\zashchita-prav-potriebitieliei-finansovykh-uslugh_10.png"/>
          <p:cNvPicPr/>
          <p:nvPr/>
        </p:nvPicPr>
        <p:blipFill>
          <a:blip r:embed="rId1"/>
          <a:srcRect l="4169" t="0" r="5002" b="99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машенька\Desktop\zashchita-prav-potriebitieliei-finansovykh-uslugh_11.png"/>
          <p:cNvPicPr/>
          <p:nvPr/>
        </p:nvPicPr>
        <p:blipFill>
          <a:blip r:embed="rId1"/>
          <a:srcRect l="4164" t="19307" r="5833" b="56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машенька\Desktop\my-sostavili-rejting-na-chto-chashhe-vsego-zhaluyutsya-potrebiteli-finansovy-h.jpg"/>
          <p:cNvPicPr/>
          <p:nvPr/>
        </p:nvPicPr>
        <p:blipFill>
          <a:blip r:embed="rId1"/>
          <a:srcRect l="0" t="0" r="0" b="55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Общественная защита потребителя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енная защита потребителя осуществляется организациями потребителей, которые создаются как по территориальному признаку (районные, городские), так и в зависимости от конкретного интереса группы потребителей (например, автолюбителе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J0095747"/>
          <p:cNvPicPr/>
          <p:nvPr/>
        </p:nvPicPr>
        <p:blipFill>
          <a:blip r:embed="rId1"/>
          <a:stretch/>
        </p:blipFill>
        <p:spPr>
          <a:xfrm>
            <a:off x="6095880" y="1747800"/>
            <a:ext cx="2648160" cy="1681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228600" y="4419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могут объединяться в союзы, конфедерации и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машенька\Desktop\zashchita-prav-potriebitieliei-finansovykh-uslugh_7.png"/>
          <p:cNvPicPr/>
          <p:nvPr/>
        </p:nvPicPr>
        <p:blipFill>
          <a:blip r:embed="rId1"/>
          <a:srcRect l="7499" t="0" r="4819" b="155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машенька\Desktop\zashchita-prav-potriebitieliei-finansovykh-uslugh_6.png"/>
          <p:cNvPicPr/>
          <p:nvPr/>
        </p:nvPicPr>
        <p:blipFill>
          <a:blip r:embed="rId1"/>
          <a:srcRect l="5000" t="17780" r="19165" b="6015"/>
          <a:stretch/>
        </p:blipFill>
        <p:spPr>
          <a:xfrm>
            <a:off x="380880" y="228600"/>
            <a:ext cx="8382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  <a:ea typeface="Times New Roman"/>
              </a:rPr>
              <a:t>Судебная защита прав потребителей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240" y="1218960"/>
            <a:ext cx="8613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етензионного порядка обращения в кредитную организацию, по истечению срока на добровольное исполнение требований потребителя, подаётся исковое заявление в с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о ст. 13 п.6. При удовлетворении судом требований потребителя, установленных законом, суд взыскивает с изготовителя (исполнителя, продавца, уполномоченной организации или уполномоченного индивидуального предпринимателя, импортера) за несоблюдение в добровольном порядке удовлетворения требований потребителя </a:t>
            </a:r>
            <a:r>
              <a:rPr b="0" lang="ru-RU" sz="2000" spc="-1" strike="noStrike" u="sng">
                <a:solidFill>
                  <a:srgbClr val="e42b00"/>
                </a:solidFill>
                <a:uFillTx/>
                <a:latin typeface="Times New Roman"/>
                <a:ea typeface="Times New Roman"/>
                <a:hlinkClick r:id="rId1"/>
              </a:rPr>
              <a:t>штра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размере пятьдесят процентов от суммы, присужденной судом в пользу потреб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 заявлением в защиту прав потребителя выступают общественные объединения потребителей (их ассоциации, союзы) или органы местного самоуправления, пятьдесят процентов суммы взысканного штрафа перечисляются указанным объединениям (их ассоциациям, союзам) или орган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омощь потребителям, в том числе юридическая оказывается бесплатно!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52120" y="3886200"/>
            <a:ext cx="57913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машенька\Desktop\c1eb5d4ec9e5b0791017a26322ba8cd4.jpg"/>
          <p:cNvPicPr/>
          <p:nvPr/>
        </p:nvPicPr>
        <p:blipFill>
          <a:blip r:embed="rId1"/>
          <a:stretch/>
        </p:blipFill>
        <p:spPr>
          <a:xfrm>
            <a:off x="990720" y="274320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«У каждого человека есть три пути, </a:t>
            </a:r>
            <a:br>
              <a:rPr sz="3600"/>
            </a:br>
            <a:r>
              <a:rPr b="1" i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Чтобы поступать мудро и правильно:</a:t>
            </a:r>
            <a:br>
              <a:rPr sz="3600"/>
            </a:br>
            <a:r>
              <a:rPr b="1" i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Первый самый благородный- это размышление,</a:t>
            </a:r>
            <a:br>
              <a:rPr sz="3600"/>
            </a:br>
            <a:r>
              <a:rPr b="1" i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Второй самый легкий- это подражание,</a:t>
            </a:r>
            <a:br>
              <a:rPr sz="3600"/>
            </a:br>
            <a:r>
              <a:rPr b="1" i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Третий самый горький –это опыт»</a:t>
            </a:r>
            <a:br>
              <a:rPr sz="3600"/>
            </a:b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1680" y="5105520"/>
            <a:ext cx="854064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Конфуций , 5 в.до.н.э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83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отребитель финансовых услуг -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1680" y="761760"/>
            <a:ext cx="854064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гражданин заказывающий, приобретающий или использующий товары (работы, услуги) исключительно для личных, семейных, домашних и иных нужд, не связанных с осуществлением предпринимательск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G00222_"/>
          <p:cNvPicPr/>
          <p:nvPr/>
        </p:nvPicPr>
        <p:blipFill>
          <a:blip r:embed="rId1"/>
          <a:stretch/>
        </p:blipFill>
        <p:spPr>
          <a:xfrm>
            <a:off x="3124080" y="3962520"/>
            <a:ext cx="243864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Финансовые услуги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240" y="914400"/>
            <a:ext cx="8613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услуги финансового посредничества или услуги по кредитованию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рупнейшая по объему индустрия в ми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ом организаций, оказывающих финансовые, услуги являются бан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ов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вестицион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керские компании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ие другие комп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машенька\Desktop\large.jpg"/>
          <p:cNvPicPr/>
          <p:nvPr/>
        </p:nvPicPr>
        <p:blipFill>
          <a:blip r:embed="rId1"/>
          <a:stretch/>
        </p:blipFill>
        <p:spPr>
          <a:xfrm>
            <a:off x="5334120" y="4191120"/>
            <a:ext cx="3809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Защита прав потребителя —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143000"/>
            <a:ext cx="854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 мер, реализуемых государством и направленных на регулирование общественных отношений, возникающих между потребителем и субъектом предпринимательской деятельности . Нормы, защища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а потребите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речаются уже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ах Хаммурап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XVIII в. до н. э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ttps://fs00.infourok.ru/images/doc/207/236163/img7.jpg"/>
          <p:cNvPicPr/>
          <p:nvPr/>
        </p:nvPicPr>
        <p:blipFill>
          <a:blip r:embed="rId1"/>
          <a:stretch/>
        </p:blipFill>
        <p:spPr>
          <a:xfrm>
            <a:off x="5029200" y="36576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рава потребителей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1447560"/>
            <a:ext cx="6095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 прав потребителей – понятие, недавно вошедшее в нашу действительность. Работы по ее правовому и организационному обеспечению выдвинули ее в число основных направлений социально – экономической политики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ttps://bazarknig.ru/covers/normal/56/557413.jpg"/>
          <p:cNvPicPr/>
          <p:nvPr/>
        </p:nvPicPr>
        <p:blipFill>
          <a:blip r:embed="rId1"/>
          <a:stretch/>
        </p:blipFill>
        <p:spPr>
          <a:xfrm>
            <a:off x="304920" y="1828800"/>
            <a:ext cx="2590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120" y="609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зопасность товаров и услуг при: использовании;  хранен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анспортировке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не только для жиз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я, имуще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и для окружаю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685800" y="3049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требитель имеет право 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ttps://baikal24.ru/public/images/upload/image1390355708248_i1.jpg"/>
          <p:cNvPicPr/>
          <p:nvPr/>
        </p:nvPicPr>
        <p:blipFill>
          <a:blip r:embed="rId1"/>
          <a:stretch/>
        </p:blipFill>
        <p:spPr>
          <a:xfrm>
            <a:off x="533520" y="3581280"/>
            <a:ext cx="342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бытки потреб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AG00041_"/>
          <p:cNvPicPr/>
          <p:nvPr/>
        </p:nvPicPr>
        <p:blipFill>
          <a:blip r:embed="rId1"/>
          <a:stretch/>
        </p:blipFill>
        <p:spPr>
          <a:xfrm rot="7179600">
            <a:off x="2090160" y="2023920"/>
            <a:ext cx="2057400" cy="447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AG00041_"/>
          <p:cNvPicPr/>
          <p:nvPr/>
        </p:nvPicPr>
        <p:blipFill>
          <a:blip r:embed="rId2"/>
          <a:stretch/>
        </p:blipFill>
        <p:spPr>
          <a:xfrm rot="3349800">
            <a:off x="5132160" y="1954080"/>
            <a:ext cx="2057400" cy="434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5638680" y="304812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зыв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80880" y="312408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ушение треб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6"/>
          <p:cNvSpPr/>
          <p:nvPr/>
        </p:nvSpPr>
        <p:spPr>
          <a:xfrm rot="10800000">
            <a:off x="2362320" y="3123720"/>
            <a:ext cx="4952880" cy="2210040"/>
          </a:xfrm>
          <a:prstGeom prst="pi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3032280" y="5675400"/>
            <a:ext cx="344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2362320" y="53341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лежат возмещению изготовителем в полном объ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Вы потребитель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вы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71" name="Picture 2" descr="http://xn----otbbcd9aedaglc3m.xn--p1ai/upload/iblock/19e/19eaf952554ad28bcf7c753a3b5e975a.jpg"/>
          <p:cNvPicPr/>
          <p:nvPr/>
        </p:nvPicPr>
        <p:blipFill>
          <a:blip r:embed="rId1"/>
          <a:stretch/>
        </p:blipFill>
        <p:spPr>
          <a:xfrm>
            <a:off x="609480" y="1219320"/>
            <a:ext cx="8153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er</cp:lastModifiedBy>
  <dcterms:modified xsi:type="dcterms:W3CDTF">2023-04-19T16:44:0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