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DD8-D9C1-4AFD-8835-E55BE749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2D2-ACC2-46C9-9669-DDB6D3C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FEB-E981-4C0A-A1DA-4931FC9B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8B4-5442-40FA-8C8C-F8E18F28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0008-40B7-48AB-846A-C46A6C17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0A5-9773-4E65-BA6E-55B9FB8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00D7-AD4F-4479-AECC-A98C7D44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D0FC-0F74-4C70-A62D-D7DE03B1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8A0F-4742-4A30-9266-A538B54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3C5F-5879-4A05-8F1C-860D40DC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2239-6C05-455B-80E1-8A64ED5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991-7319-4788-8417-9147E4B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B632-0231-48F2-9F89-51F64F9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3C3C-D958-40E4-909B-33239CF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3D1F-DCBE-489A-9185-A3C12EB7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4392-61DB-48AD-BCC6-B1642D82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CEE-6A7D-42BB-8288-AC57604B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D62-519F-4D06-994E-E15C7E7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AD7-C014-4090-B3B3-0702CA3A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ED8-5F51-4DB4-BEC2-B5A6A483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ACB-736C-4F55-9C1D-5D10ED4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E42-369A-4AED-A92E-5A586650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274-2F9E-4E03-9C6A-6A48BA2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2EA-CB6B-4EB5-AD09-B24A945C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7DD817-0C35-4983-8A54-DB4BE7CDF73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1BCCC-7BD8-4458-8D50-37BB7184C4D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studopedia.ru/17_39797_vidi-kapitala.html" TargetMode="External"/><Relationship Id="rId2" Type="http://schemas.openxmlformats.org/officeDocument/2006/relationships/hyperlink" Target="http://www.grandars.ru/student/ekonomicheskaya-teoriya/kapital.html" TargetMode="External"/><Relationship Id="rId3" Type="http://schemas.openxmlformats.org/officeDocument/2006/relationships/hyperlink" Target="http://www.grandars.ru/college/ekonomika-firmy/finansovyy-risk-predpriyatiya.html" TargetMode="External"/><Relationship Id="rId4" Type="http://schemas.openxmlformats.org/officeDocument/2006/relationships/hyperlink" Target="https://utmagazine.ru/posts/9488-kapital-predpriyatiya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2162880" y="1770120"/>
            <a:ext cx="7862400" cy="4422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440" y="670680"/>
            <a:ext cx="9143640" cy="109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262626"/>
                </a:solidFill>
                <a:latin typeface="Calibri Light"/>
              </a:rPr>
              <a:t>ВИДЫ КАПИТАЛА </a:t>
            </a:r>
            <a:br>
              <a:rPr sz="6000"/>
            </a:br>
            <a:r>
              <a:rPr b="1" lang="ru-RU" sz="4900" spc="-1" strike="noStrike">
                <a:solidFill>
                  <a:srgbClr val="262626"/>
                </a:solidFill>
                <a:latin typeface="Calibri Light"/>
              </a:rPr>
              <a:t>ОРГАНИЗАЦИИ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60840" y="3421440"/>
            <a:ext cx="25419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Работа выполнена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туденткой первого курса факультета безопасности жизнедеятельности второ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9060840" y="4717440"/>
            <a:ext cx="2541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Фокиной О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1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Имущество и капитал организ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Понятие и сущность капитал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Структура капитала предприят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Капитал предприят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5"/>
          <a:stretch/>
        </p:blipFill>
        <p:spPr>
          <a:xfrm>
            <a:off x="6901920" y="1992240"/>
            <a:ext cx="428580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4438800" y="0"/>
            <a:ext cx="823248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Определ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6520" y="1825560"/>
            <a:ext cx="567144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alibri"/>
              </a:rPr>
              <a:t>Капитал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– это сумма благ в виде материальных, интеллектуальных и финансовых средств, используемых в качестве ресурса в целях производства большего количества бла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4280"/>
            <a:ext cx="1273320" cy="62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иды капитала организации</a:t>
            </a:r>
            <a:br>
              <a:rPr sz="4400"/>
            </a:br>
            <a:r>
              <a:rPr b="0" lang="ru-RU" sz="1600" spc="-1" strike="noStrike">
                <a:solidFill>
                  <a:srgbClr val="808080"/>
                </a:solidFill>
                <a:latin typeface="Calibri"/>
              </a:rPr>
              <a:t>(опорная таблица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Объект 3"/>
          <p:cNvGraphicFramePr/>
          <p:nvPr/>
        </p:nvGraphicFramePr>
        <p:xfrm>
          <a:off x="2653920" y="914400"/>
          <a:ext cx="8294400" cy="4852080"/>
        </p:xfrm>
        <a:graphic>
          <a:graphicData uri="http://schemas.openxmlformats.org/drawingml/2006/table">
            <a:tbl>
              <a:tblPr/>
              <a:tblGrid>
                <a:gridCol w="4147200"/>
                <a:gridCol w="4147200"/>
              </a:tblGrid>
              <a:tr h="83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ритерии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Виды и формы капит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14468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форме сущ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Финанс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Дене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Физический (Реаль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способу перенесения стоимости на создаваемый 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Оборо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источникам форм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Соб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Заём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роли в создании прибавочного продукта (прибавочной стои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остоя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ерем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838080" y="3840120"/>
            <a:ext cx="2238120" cy="2333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 rot="21040800">
            <a:off x="7062840" y="3801240"/>
            <a:ext cx="4452840" cy="2659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ыделают два вида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Объект 3"/>
          <p:cNvGraphicFramePr/>
          <p:nvPr/>
        </p:nvGraphicFramePr>
        <p:xfrm>
          <a:off x="1027440" y="1690560"/>
          <a:ext cx="10184040" cy="2383560"/>
        </p:xfrm>
        <a:graphic>
          <a:graphicData uri="http://schemas.openxmlformats.org/drawingml/2006/table">
            <a:tbl>
              <a:tblPr/>
              <a:tblGrid>
                <a:gridCol w="5092200"/>
                <a:gridCol w="5092200"/>
              </a:tblGrid>
              <a:tr h="59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Ре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Дене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89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редставленный в виде материальной и интеллектуальной фо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Выраженный в форме денег и ценных бум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89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Требуемый для осуществления производственной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Необходимый для приобретения средств производст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 rot="1427400">
            <a:off x="3168720" y="3905640"/>
            <a:ext cx="24148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Финансовый и денежный капита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34680"/>
            <a:ext cx="1051524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ужно обратить внимание, что непосредственное владение деньгами денежного капитала не приносит дохода, то есть они не становятся капиталом автоматически. Этим они отличаются от финансового капитала в форме денег на депозит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Финансовый капитал — источник средств компании, полученный за счёт финансовых инструментов (акций, облигаций и долгосрочных кредитов), а также за счёт эффективной работы компании (в виде нераспределённой прибыл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928080" y="5208480"/>
            <a:ext cx="10425240" cy="63828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поз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(банковский вклад) — определённая сумма денежных средств, передаваемая каким-либо лицом кредитному учреждению (бан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«Третий» вид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165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 время нередко выделяют 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ловеческий капита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, который образуется в результате инвестиций в образование и здоровье трудовых ресурс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838080" y="4339800"/>
            <a:ext cx="9960840" cy="1690200"/>
          </a:xfrm>
          <a:prstGeom prst="rect">
            <a:avLst/>
          </a:prstGeom>
          <a:noFill/>
          <a:ln w="0">
            <a:solidFill>
              <a:srgbClr val="5b9bd5">
                <a:alpha val="97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совокупность затрат, реализуемых в форме долгосрочных вложений капитала в промышленность, сельское хозяйство, транспорт и другие отрасли 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рудовые ресурс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часть населения, обладающая физическим развитием, умственными способностями и знаниями, дающими возможность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По источникам формирования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Объект 3"/>
          <p:cNvGraphicFramePr/>
          <p:nvPr/>
        </p:nvGraphicFramePr>
        <p:xfrm>
          <a:off x="838080" y="1825560"/>
          <a:ext cx="10515240" cy="267336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б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Заё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2025360">
                <a:tc>
                  <a:txBody>
                    <a:bodyPr lIns="360000" rIns="360000" t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водная стоимость всего имущества предприятия в денежном эквиваленте, которое целиком находится в его распоря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0" rIns="360000" t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Заёмный капитал привлекается предприятием из вне, путём кредитования, финансовой поддержки, денег под залог, а также из различных ячеек на определённые сроки и при оговорённых условиях, с гарантированной подосн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Прямоугольник 4"/>
          <p:cNvSpPr/>
          <p:nvPr/>
        </p:nvSpPr>
        <p:spPr>
          <a:xfrm>
            <a:off x="838080" y="4924440"/>
            <a:ext cx="10515240" cy="1004400"/>
          </a:xfrm>
          <a:prstGeom prst="rect">
            <a:avLst/>
          </a:prstGeom>
          <a:solidFill>
            <a:schemeClr val="bg1"/>
          </a:solidFill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енежные эквивален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высоколиквидные финансовые вложения, которые могут быть легко обращены в заранее известную сумму денежных средств, подверженные незначительному риску изменения сто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 материальном виде два типа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Объект 3"/>
          <p:cNvGraphicFramePr/>
          <p:nvPr/>
        </p:nvGraphicFramePr>
        <p:xfrm>
          <a:off x="647640" y="1794600"/>
          <a:ext cx="10873440" cy="4489560"/>
        </p:xfrm>
        <a:graphic>
          <a:graphicData uri="http://schemas.openxmlformats.org/drawingml/2006/table">
            <a:tbl>
              <a:tblPr/>
              <a:tblGrid>
                <a:gridCol w="5436720"/>
                <a:gridCol w="5436720"/>
              </a:tblGrid>
              <a:tr h="64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снов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оро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141912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нятие, включающее в себя материальные факторы неоднократного или длительного 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Расходуется на приобретение продукта, дополнительных и основных материалов, оплату труда, расходов на сбыт, т.е. средств для каждого производственного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Служит на протяжении многих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больше одного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олностью расходует себя в течение одного определённого цикла на производ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до одного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Здания, сооружения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Машины, оборудование, инструменты, инвентарь, скот, товары длительного пользования домашних хозяйств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Патенты, товарные знаки, авторские права (нематериальные актив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Сырьё, топливо, энергия, материалы и полуфабрикаты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Незавершённое производство, запасы готовой продукции, товары для перепрода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 роли в создании прибавочного продукта (прибавочной стоимости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Объект 3"/>
          <p:cNvGraphicFramePr/>
          <p:nvPr/>
        </p:nvGraphicFramePr>
        <p:xfrm>
          <a:off x="838080" y="2232000"/>
          <a:ext cx="10515240" cy="208836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69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сто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ерем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ный капитал не изменяет размер стоимости производимого продукта, лишь переносит её на результат производства сразу или по ча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се затраты, кроме заработной пла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ный капитал используется для найма рабочей силы, а также имеет форму заработной платы, помимо того изменяет размер стоимости производимого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Прямоугольник 4"/>
          <p:cNvSpPr/>
          <p:nvPr/>
        </p:nvSpPr>
        <p:spPr>
          <a:xfrm>
            <a:off x="838080" y="4965120"/>
            <a:ext cx="10515240" cy="91260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марксистской теории, прибавочную стоимость создаёт именно переменный капитал. Постоянный капитал создаёт условия, которые распространяют право собственности капиталиста на прибавочную сто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  <Words>577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18:17:51Z</dcterms:created>
  <dc:creator>Ольга</dc:creator>
  <dc:description/>
  <dc:language>en-US</dc:language>
  <cp:lastModifiedBy>Ольга</cp:lastModifiedBy>
  <dcterms:modified xsi:type="dcterms:W3CDTF">2019-02-10T22:35:07Z</dcterms:modified>
  <cp:revision>20</cp:revision>
  <dc:subject/>
  <dc:title>ВИДЫ КАПИТА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