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9CD9-DC76-4649-B300-3E997467EBE9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6DE4-11CA-4300-9660-934809DF3072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028-68B7-4047-A8C3-5E48FA57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98A-4D61-43F5-AC0B-4747247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985-672F-4295-BC14-555BCA1B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16C-39C5-47CB-8CE4-314EA6A3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B81F4-5735-45B3-B193-A51ED805B0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8289C-3847-45BD-941D-E23499E63E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1215-50B4-471C-BFB6-50284B0871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D948-8C48-4DB9-97C9-B059F1256E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B8CE9-1807-4C19-9B51-7A4765480C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28000-6203-4468-8A38-D24D8CA36C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751A-38D7-4B50-B166-2065ACA51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017-4E3D-43FF-8EFE-7EB75D71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56EAE-BDAD-4FFE-AE0E-F09075F1B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40372-1B0B-4DD2-BB12-F86ED7F67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F4729-8A0B-485D-B1FD-ECE8C2DFA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DE25B-F2CE-49A7-8C90-045DF43E6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3B78D-8826-441B-9BBC-5441DEF6D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236-56B0-4443-8BB7-1C305EB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59E-3515-45C8-98A7-6026FDF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29C-24B4-459F-979B-0631E5D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F54-CCAA-4DFD-ABC2-78DD45D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C86-D6D7-4F36-BE89-0AC4BB7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2AF-1048-4295-B1FC-444D6E13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C4E-8E85-49E6-80C1-3D1E76E5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389-51AA-4CD8-89B3-1F25DBA37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68760" y="6526080"/>
            <a:ext cx="169380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D387-6F28-43B8-ACF7-74F7CBCC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80720" y="6552720"/>
            <a:ext cx="5280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8 Accenture All Rights Reserved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ts.micex.ru/" TargetMode="External"/><Relationship Id="rId2" Type="http://schemas.openxmlformats.org/officeDocument/2006/relationships/hyperlink" Target="http://www.mse.ru/" TargetMode="External"/><Relationship Id="rId3" Type="http://schemas.openxmlformats.org/officeDocument/2006/relationships/hyperlink" Target="http://www.spbex.ru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400" y="1699920"/>
            <a:ext cx="86439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ЫНОК ЦЕННЫХ БУМ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1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ОИЗВОДНЫЕ ЦЕННЫЕ БУМАГИ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(ДЕРИВАТ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89000" y="1484280"/>
            <a:ext cx="876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иваты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ценные бумаги, обладатель которых приобретает право (или обязательство) на совершение определенной операции (покупки или продажи) с другими видами ценных бумаг или активами по заранее оговоренной цен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производных ценных бумаг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цион – приобретается прав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ьючерсный контракт –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ется обязательств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Картинки по запросу Виды производных ценных бумаг картинки"/>
          <p:cNvPicPr/>
          <p:nvPr/>
        </p:nvPicPr>
        <p:blipFill>
          <a:blip r:embed="rId1"/>
          <a:stretch/>
        </p:blipFill>
        <p:spPr>
          <a:xfrm>
            <a:off x="6084720" y="5040360"/>
            <a:ext cx="2781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ТОИМОСТЬ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минальная ц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face value) — цена, указанная на лицевой стороне ценной бумаги или зафиксированная в выписке со счёта в депозита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рсовая стоим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рыночная стоимость ценной бумаги, которая определяется спросом и предложением (это цена ценной бумаги на вторичном рынк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Картинки по запросу фондовый рынок картинки"/>
          <p:cNvPicPr/>
          <p:nvPr/>
        </p:nvPicPr>
        <p:blipFill>
          <a:blip r:embed="rId1"/>
          <a:stretch/>
        </p:blipFill>
        <p:spPr>
          <a:xfrm>
            <a:off x="0" y="5457960"/>
            <a:ext cx="9144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ход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ield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центное изменение дохода от ценной бумаги за определенн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ый доход складывается из двух част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латы владельцу финансового а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стоимости финансового актива, выраженные в долях от цены пок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858000" y="5137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ис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характеристика ситуации (в том числе и экономической), которая может привести к неблагоприятному исходу – обернуться опасностью, ущербом или убыт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ндовом рынке риск – это получение доходности ниже ожида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000920" y="4518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ИСК - ДОХОД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авнобедренный треугольник 3"/>
          <p:cNvSpPr/>
          <p:nvPr/>
        </p:nvSpPr>
        <p:spPr>
          <a:xfrm>
            <a:off x="2627280" y="1395360"/>
            <a:ext cx="3745080" cy="1602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276720" y="2205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иват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Трапеция 6"/>
          <p:cNvSpPr/>
          <p:nvPr/>
        </p:nvSpPr>
        <p:spPr>
          <a:xfrm>
            <a:off x="1397160" y="3514680"/>
            <a:ext cx="6349680" cy="1152720"/>
          </a:xfrm>
          <a:custGeom>
            <a:avLst/>
            <a:gdLst/>
            <a:ahLst/>
            <a:rect l="l" t="t" r="r" b="b"/>
            <a:pathLst>
              <a:path w="6350000" h="1152525">
                <a:moveTo>
                  <a:pt x="0" y="1152525"/>
                </a:moveTo>
                <a:lnTo>
                  <a:pt x="1315411" y="0"/>
                </a:lnTo>
                <a:lnTo>
                  <a:pt x="5034589" y="0"/>
                </a:lnTo>
                <a:lnTo>
                  <a:pt x="6350000" y="1152525"/>
                </a:lnTo>
                <a:lnTo>
                  <a:pt x="0" y="1152525"/>
                </a:lnTo>
                <a:close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340000" y="3798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ции и облигац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Трапеция 9"/>
          <p:cNvSpPr/>
          <p:nvPr/>
        </p:nvSpPr>
        <p:spPr>
          <a:xfrm>
            <a:off x="0" y="5154480"/>
            <a:ext cx="9144000" cy="1359000"/>
          </a:xfrm>
          <a:custGeom>
            <a:avLst/>
            <a:gdLst/>
            <a:ahLst/>
            <a:rect l="l" t="t" r="r" b="b"/>
            <a:pathLst>
              <a:path w="9144000" h="1358900">
                <a:moveTo>
                  <a:pt x="0" y="1358900"/>
                </a:moveTo>
                <a:lnTo>
                  <a:pt x="1330594" y="0"/>
                </a:lnTo>
                <a:lnTo>
                  <a:pt x="7813406" y="0"/>
                </a:lnTo>
                <a:lnTo>
                  <a:pt x="9144000" y="1358900"/>
                </a:lnTo>
                <a:lnTo>
                  <a:pt x="0" y="1358900"/>
                </a:lnTo>
                <a:close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1246320" y="5194440"/>
            <a:ext cx="64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нковские вклад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е облигац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Стрелка вверх 8"/>
          <p:cNvSpPr/>
          <p:nvPr/>
        </p:nvSpPr>
        <p:spPr>
          <a:xfrm>
            <a:off x="38160" y="1736640"/>
            <a:ext cx="1581120" cy="3397320"/>
          </a:xfrm>
          <a:prstGeom prst="upArrow">
            <a:avLst>
              <a:gd name="adj1" fmla="val 50000"/>
              <a:gd name="adj2" fmla="val 50016"/>
            </a:avLst>
          </a:pr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11" descr=""/>
          <p:cNvPicPr/>
          <p:nvPr/>
        </p:nvPicPr>
        <p:blipFill>
          <a:blip r:embed="rId1"/>
          <a:stretch/>
        </p:blipFill>
        <p:spPr>
          <a:xfrm>
            <a:off x="7413480" y="1676520"/>
            <a:ext cx="1683000" cy="3443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541440" y="2496960"/>
            <a:ext cx="59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7986600" y="2320920"/>
            <a:ext cx="59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квид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uidity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относительная легкость и быстрота, с которой финансовый актив может быть обращен в наличные день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ные деньги обладают 100% ликвид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1"/>
          <a:stretch/>
        </p:blipFill>
        <p:spPr>
          <a:xfrm>
            <a:off x="5651640" y="412596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ЦЕЛИ ИНВЕСТИЦИОННОГО ПОРТФ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Равнобедренный треугольник 2"/>
          <p:cNvSpPr/>
          <p:nvPr/>
        </p:nvSpPr>
        <p:spPr>
          <a:xfrm>
            <a:off x="2955960" y="1417680"/>
            <a:ext cx="3168720" cy="24591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Равнобедренный треугольник 4"/>
          <p:cNvSpPr/>
          <p:nvPr/>
        </p:nvSpPr>
        <p:spPr>
          <a:xfrm rot="10800000">
            <a:off x="2985840" y="3882600"/>
            <a:ext cx="3168360" cy="24289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Равнобедренный треугольник 5"/>
          <p:cNvSpPr/>
          <p:nvPr/>
        </p:nvSpPr>
        <p:spPr>
          <a:xfrm>
            <a:off x="4570560" y="3878280"/>
            <a:ext cx="3166920" cy="24289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Равнобедренный треугольник 7"/>
          <p:cNvSpPr/>
          <p:nvPr/>
        </p:nvSpPr>
        <p:spPr>
          <a:xfrm>
            <a:off x="1395360" y="3875040"/>
            <a:ext cx="3168720" cy="24274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743280" y="24922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т доход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859040" y="536400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изация рис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5110200" y="536400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ликвиднос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220920" y="3983040"/>
            <a:ext cx="27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вестиционный портфел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126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Скругленный прямоугольник 5"/>
          <p:cNvSpPr/>
          <p:nvPr/>
        </p:nvSpPr>
        <p:spPr>
          <a:xfrm>
            <a:off x="2411280" y="260280"/>
            <a:ext cx="273708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кругленный прямоугольник 6"/>
          <p:cNvSpPr/>
          <p:nvPr/>
        </p:nvSpPr>
        <p:spPr>
          <a:xfrm>
            <a:off x="1168560" y="1521000"/>
            <a:ext cx="1857240" cy="1022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3708360" y="1521000"/>
            <a:ext cx="331164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Скругленный прямоугольник 8"/>
          <p:cNvSpPr/>
          <p:nvPr/>
        </p:nvSpPr>
        <p:spPr>
          <a:xfrm>
            <a:off x="2422440" y="3014640"/>
            <a:ext cx="3229200" cy="86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9"/>
          <p:cNvSpPr/>
          <p:nvPr/>
        </p:nvSpPr>
        <p:spPr>
          <a:xfrm>
            <a:off x="2422440" y="4416480"/>
            <a:ext cx="322920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0"/>
          <p:cNvSpPr/>
          <p:nvPr/>
        </p:nvSpPr>
        <p:spPr>
          <a:xfrm>
            <a:off x="2394000" y="5530680"/>
            <a:ext cx="3257640" cy="1138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851200" y="324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иент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Овальная выноска 12"/>
          <p:cNvSpPr/>
          <p:nvPr/>
        </p:nvSpPr>
        <p:spPr>
          <a:xfrm>
            <a:off x="6156360" y="50760"/>
            <a:ext cx="2736720" cy="1023840"/>
          </a:xfrm>
          <a:prstGeom prst="wedgeEllipseCallout">
            <a:avLst>
              <a:gd name="adj1" fmla="val -86384"/>
              <a:gd name="adj2" fmla="val 22685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300720" y="1731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ие и юридические лиц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1168560" y="17175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окер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4284720" y="1476360"/>
            <a:ext cx="1965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3894120" y="14050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й управляющ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Овальная выноска 18"/>
          <p:cNvSpPr/>
          <p:nvPr/>
        </p:nvSpPr>
        <p:spPr>
          <a:xfrm>
            <a:off x="0" y="0"/>
            <a:ext cx="2187720" cy="1413000"/>
          </a:xfrm>
          <a:prstGeom prst="wedgeEllipseCallout">
            <a:avLst>
              <a:gd name="adj1" fmla="val 37995"/>
              <a:gd name="adj2" fmla="val 54532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103320" y="1764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 исполнитель указаний клиент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Овальная выноска 20"/>
          <p:cNvSpPr/>
          <p:nvPr/>
        </p:nvSpPr>
        <p:spPr>
          <a:xfrm>
            <a:off x="6208560" y="2646360"/>
            <a:ext cx="2827440" cy="1544760"/>
          </a:xfrm>
          <a:prstGeom prst="wedgeEllipseCallout">
            <a:avLst>
              <a:gd name="adj1" fmla="val -38476"/>
              <a:gd name="adj2" fmla="val -55995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6208560" y="2728800"/>
            <a:ext cx="293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которая торгует от своего имени, но в интересах и за счет клиент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2627280" y="3166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Овальная выноска 24"/>
          <p:cNvSpPr/>
          <p:nvPr/>
        </p:nvSpPr>
        <p:spPr>
          <a:xfrm>
            <a:off x="158760" y="3166920"/>
            <a:ext cx="2028960" cy="1486080"/>
          </a:xfrm>
          <a:prstGeom prst="wedgeEllipseCallout">
            <a:avLst>
              <a:gd name="adj1" fmla="val 59634"/>
              <a:gd name="adj2" fmla="val -22837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237960" y="3390840"/>
            <a:ext cx="18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организатор торговл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351160" y="44514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позитар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2351160" y="5592600"/>
            <a:ext cx="33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иринговая пала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Овальная выноска 28"/>
          <p:cNvSpPr/>
          <p:nvPr/>
        </p:nvSpPr>
        <p:spPr>
          <a:xfrm>
            <a:off x="6039000" y="4643280"/>
            <a:ext cx="3024000" cy="2025720"/>
          </a:xfrm>
          <a:prstGeom prst="wedgeEllipseCallout">
            <a:avLst>
              <a:gd name="adj1" fmla="val -60370"/>
              <a:gd name="adj2" fmla="val -38731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29"/>
          <p:cNvSpPr/>
          <p:nvPr/>
        </p:nvSpPr>
        <p:spPr>
          <a:xfrm>
            <a:off x="6156360" y="4870440"/>
            <a:ext cx="285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ранит ценные бумаги, ведет реестр сделок с ними, выдает выписки владельцам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Овальная выноска 30"/>
          <p:cNvSpPr/>
          <p:nvPr/>
        </p:nvSpPr>
        <p:spPr>
          <a:xfrm>
            <a:off x="103320" y="4876920"/>
            <a:ext cx="2084400" cy="1647720"/>
          </a:xfrm>
          <a:prstGeom prst="wedgeEllipseCallout">
            <a:avLst>
              <a:gd name="adj1" fmla="val 58810"/>
              <a:gd name="adj2" fmla="val 37749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263"/>
          <p:cNvSpPr/>
          <p:nvPr/>
        </p:nvSpPr>
        <p:spPr>
          <a:xfrm>
            <a:off x="176040" y="5065560"/>
            <a:ext cx="208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занимающаяся расчетами по сделкам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Стрелка вверх 11265"/>
          <p:cNvSpPr/>
          <p:nvPr/>
        </p:nvSpPr>
        <p:spPr>
          <a:xfrm rot="10800000">
            <a:off x="3708360" y="3956040"/>
            <a:ext cx="463680" cy="419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Стрелка вверх 35"/>
          <p:cNvSpPr/>
          <p:nvPr/>
        </p:nvSpPr>
        <p:spPr>
          <a:xfrm rot="12534600">
            <a:off x="2860200" y="1036800"/>
            <a:ext cx="392400" cy="47304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Стрелка вверх 38"/>
          <p:cNvSpPr/>
          <p:nvPr/>
        </p:nvSpPr>
        <p:spPr>
          <a:xfrm rot="9086400">
            <a:off x="4309560" y="1063800"/>
            <a:ext cx="374760" cy="466560"/>
          </a:xfrm>
          <a:prstGeom prst="upArrow">
            <a:avLst>
              <a:gd name="adj1" fmla="val 50000"/>
              <a:gd name="adj2" fmla="val 49792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Стрелка вверх 39"/>
          <p:cNvSpPr/>
          <p:nvPr/>
        </p:nvSpPr>
        <p:spPr>
          <a:xfrm rot="10800000">
            <a:off x="3716280" y="5133600"/>
            <a:ext cx="463680" cy="420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трелка вверх 40"/>
          <p:cNvSpPr/>
          <p:nvPr/>
        </p:nvSpPr>
        <p:spPr>
          <a:xfrm rot="19960200">
            <a:off x="2950920" y="2477880"/>
            <a:ext cx="392040" cy="4730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Стрелка вверх 41"/>
          <p:cNvSpPr/>
          <p:nvPr/>
        </p:nvSpPr>
        <p:spPr>
          <a:xfrm rot="2032200">
            <a:off x="4424040" y="2511360"/>
            <a:ext cx="374760" cy="466920"/>
          </a:xfrm>
          <a:prstGeom prst="upArrow">
            <a:avLst>
              <a:gd name="adj1" fmla="val 50000"/>
              <a:gd name="adj2" fmla="val 49831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БИРЖ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довая бирж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stock exchange) — фирма-организатор торговли на рынке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ее активные фондовые биржи Росс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сковская биржа ММВБ-РТС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rts.micex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сковская фондовая биржа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se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ская валютная биржа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pbex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довая биржа «Санкт-Петербург» (www. spbex.ru/n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ы интернет-трейдинг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line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atrader (для рынка For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АВИЛО «ТРЕХ Н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907560"/>
            <a:ext cx="8569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уемые в инвестициях деньги должны б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трелка вправо 2"/>
          <p:cNvSpPr/>
          <p:nvPr/>
        </p:nvSpPr>
        <p:spPr>
          <a:xfrm rot="5400000">
            <a:off x="-1123200" y="2778480"/>
            <a:ext cx="5222880" cy="2976480"/>
          </a:xfrm>
          <a:prstGeom prst="rightArrow">
            <a:avLst>
              <a:gd name="adj1" fmla="val 83657"/>
              <a:gd name="adj2" fmla="val 34347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61880" y="53434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заёмны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250920" y="2327400"/>
            <a:ext cx="24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только собственные средств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трелка вправо 11"/>
          <p:cNvSpPr/>
          <p:nvPr/>
        </p:nvSpPr>
        <p:spPr>
          <a:xfrm rot="5400000">
            <a:off x="1969560" y="2779560"/>
            <a:ext cx="5222880" cy="2974680"/>
          </a:xfrm>
          <a:prstGeom prst="rightArrow">
            <a:avLst>
              <a:gd name="adj1" fmla="val 85546"/>
              <a:gd name="adj2" fmla="val 34343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трелка вправо 12"/>
          <p:cNvSpPr/>
          <p:nvPr/>
        </p:nvSpPr>
        <p:spPr>
          <a:xfrm rot="5400000">
            <a:off x="5031000" y="2778480"/>
            <a:ext cx="5222880" cy="2976840"/>
          </a:xfrm>
          <a:prstGeom prst="rightArrow">
            <a:avLst>
              <a:gd name="adj1" fmla="val 80824"/>
              <a:gd name="adj2" fmla="val 34343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3484440" y="53420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следни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6540480" y="53467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коротки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3435480" y="1959120"/>
            <a:ext cx="23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нвестировать на фондовом рынке сбережения всей своей жиз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6411960" y="251136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жидать результатов ранее 10-15 ле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6040" y="836640"/>
          <a:ext cx="8859960" cy="5256360"/>
        </p:xfrm>
        <a:graphic>
          <a:graphicData uri="http://schemas.openxmlformats.org/drawingml/2006/table">
            <a:tbl>
              <a:tblPr/>
              <a:tblGrid>
                <a:gridCol w="2159280"/>
                <a:gridCol w="2597040"/>
                <a:gridCol w="41036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е понятия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-9 клас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юта в современном мире (2 часа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Что такое валютный рынок и как он устрое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Можно ли выиграть, размещая сбережения в валют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юта; мировой валютный рынок; курс валют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т чего зависят курсы валют; понимать условия, при которых семья может выиграть, размещая семейные сбережения в валют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ереводить одну валюты в другую; находить информацию об изменениях курсов валю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ценивать необходимость наличия сбережений в валюте в зависимости от экономической ситуации в стран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ШЕНИЕ О ПОКУПКЕ ИЛИ ПРОДАЖЕ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-9360" y="1530360"/>
          <a:ext cx="9153360" cy="533880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  <a:gridCol w="571680"/>
                <a:gridCol w="571320"/>
                <a:gridCol w="573120"/>
                <a:gridCol w="571680"/>
                <a:gridCol w="573120"/>
                <a:gridCol w="571320"/>
              </a:tblGrid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23" name="Прямая соединительная линия 5"/>
          <p:cNvSpPr/>
          <p:nvPr/>
        </p:nvSpPr>
        <p:spPr>
          <a:xfrm>
            <a:off x="1116000" y="328464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14"/>
          <p:cNvSpPr/>
          <p:nvPr/>
        </p:nvSpPr>
        <p:spPr>
          <a:xfrm flipV="1">
            <a:off x="1692360" y="2852640"/>
            <a:ext cx="57600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21"/>
          <p:cNvSpPr/>
          <p:nvPr/>
        </p:nvSpPr>
        <p:spPr>
          <a:xfrm>
            <a:off x="2268360" y="2852640"/>
            <a:ext cx="57492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23"/>
          <p:cNvSpPr/>
          <p:nvPr/>
        </p:nvSpPr>
        <p:spPr>
          <a:xfrm>
            <a:off x="2843280" y="3284640"/>
            <a:ext cx="57636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26"/>
          <p:cNvSpPr/>
          <p:nvPr/>
        </p:nvSpPr>
        <p:spPr>
          <a:xfrm flipV="1">
            <a:off x="3419640" y="3716280"/>
            <a:ext cx="576000" cy="50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28"/>
          <p:cNvSpPr/>
          <p:nvPr/>
        </p:nvSpPr>
        <p:spPr>
          <a:xfrm>
            <a:off x="3995640" y="3716280"/>
            <a:ext cx="57636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30"/>
          <p:cNvSpPr/>
          <p:nvPr/>
        </p:nvSpPr>
        <p:spPr>
          <a:xfrm>
            <a:off x="4572000" y="4653000"/>
            <a:ext cx="57636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32768"/>
          <p:cNvSpPr/>
          <p:nvPr/>
        </p:nvSpPr>
        <p:spPr>
          <a:xfrm flipV="1">
            <a:off x="5148360" y="4652640"/>
            <a:ext cx="57600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32772"/>
          <p:cNvSpPr/>
          <p:nvPr/>
        </p:nvSpPr>
        <p:spPr>
          <a:xfrm flipH="1">
            <a:off x="5724000" y="3753000"/>
            <a:ext cx="576360" cy="90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32774"/>
          <p:cNvSpPr/>
          <p:nvPr/>
        </p:nvSpPr>
        <p:spPr>
          <a:xfrm flipH="1">
            <a:off x="6300360" y="3284640"/>
            <a:ext cx="574920" cy="4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32777"/>
          <p:cNvSpPr/>
          <p:nvPr/>
        </p:nvSpPr>
        <p:spPr>
          <a:xfrm>
            <a:off x="6875640" y="3284640"/>
            <a:ext cx="172872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32785"/>
          <p:cNvSpPr/>
          <p:nvPr/>
        </p:nvSpPr>
        <p:spPr>
          <a:xfrm>
            <a:off x="8604360" y="4653000"/>
            <a:ext cx="53964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Выноска со стрелкой вниз 32787"/>
          <p:cNvSpPr/>
          <p:nvPr/>
        </p:nvSpPr>
        <p:spPr>
          <a:xfrm>
            <a:off x="1403280" y="1557360"/>
            <a:ext cx="1728720" cy="129528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32788"/>
          <p:cNvSpPr/>
          <p:nvPr/>
        </p:nvSpPr>
        <p:spPr>
          <a:xfrm>
            <a:off x="1547640" y="1620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аж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Выноска со стрелкой вниз 54"/>
          <p:cNvSpPr/>
          <p:nvPr/>
        </p:nvSpPr>
        <p:spPr>
          <a:xfrm>
            <a:off x="4819680" y="3355920"/>
            <a:ext cx="1728720" cy="129528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56"/>
          <p:cNvSpPr/>
          <p:nvPr/>
        </p:nvSpPr>
        <p:spPr>
          <a:xfrm>
            <a:off x="4933800" y="34005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упк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Выноска со стрелкой вниз 57"/>
          <p:cNvSpPr/>
          <p:nvPr/>
        </p:nvSpPr>
        <p:spPr>
          <a:xfrm rot="10800000">
            <a:off x="4284720" y="5111640"/>
            <a:ext cx="1727280" cy="1309680"/>
          </a:xfrm>
          <a:prstGeom prst="downArrowCallout">
            <a:avLst>
              <a:gd name="adj1" fmla="val 24999"/>
              <a:gd name="adj2" fmla="val 25003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58"/>
          <p:cNvSpPr/>
          <p:nvPr/>
        </p:nvSpPr>
        <p:spPr>
          <a:xfrm>
            <a:off x="4427640" y="551664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упк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Выноска со стрелкой вниз 59"/>
          <p:cNvSpPr/>
          <p:nvPr/>
        </p:nvSpPr>
        <p:spPr>
          <a:xfrm>
            <a:off x="6012000" y="1974960"/>
            <a:ext cx="1728720" cy="1296720"/>
          </a:xfrm>
          <a:prstGeom prst="downArrowCallout">
            <a:avLst>
              <a:gd name="adj1" fmla="val 25011"/>
              <a:gd name="adj2" fmla="val 25003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6156360" y="196848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аж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3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ШЕНИЕ О ПОКУПКЕ ИЛИ ПРОДАЖЕ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инвестор, который работает на рынке, принимает решения на базе проведения анализа рынка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ключается в прогнозировании изменений цен в будущем на базе анализа изменений цен в прошл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ый ана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ермин для обозначения ряда методов прогнозирования рыночной (биржевой) стоимости компании, основанных на анализе финансовых и производственных показателей её деятельности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4614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ЕНОМЕН РЕЗКОГО РОСТА ЦЕН НА РЫНКЕ АКТИВ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244440" y="1442880"/>
            <a:ext cx="86742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3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УЗЫРЬ НА ФОНДОВОМ РЫН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зы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фондовом рынк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тклонение фактической (рыночной) стоимости актива от фундаментальной сто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ая стоимость акти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жидаемая стоимость доходов от актива в будущ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т цен на активы не всегда говорит о пузыр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Это могут быть соответствующие ожи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Это может быть следствием присутствия на рынке иррациональных игроков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ise trader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ОЦЕСС ФОРМИРОВАНИЯ ПУЗЫ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55640" y="1217520"/>
          <a:ext cx="7931160" cy="5367600"/>
        </p:xfrm>
        <a:graphic>
          <a:graphicData uri="http://schemas.openxmlformats.org/drawingml/2006/table">
            <a:tbl>
              <a:tblPr/>
              <a:tblGrid>
                <a:gridCol w="1995480"/>
                <a:gridCol w="2870280"/>
                <a:gridCol w="3065400"/>
              </a:tblGrid>
              <a:tr h="1211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/ други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уйдут с рынк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станутся на рынк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уйду с рынк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схлопывается. Выигрывает тот, кто успеет быстрее всех уйти с рынка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продолжает формироваться, я недополучаю прибыль, не вкладывая деньги в быстрорастущий рынок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останусь на рынк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схлопывается.  Цены резко падают, я в сильном проигрыше. 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продолжает формироваться. Все в выигрыше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680" y="96480"/>
            <a:ext cx="778032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TULIPM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49200" y="806040"/>
            <a:ext cx="87948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 веке в Голландии сформировался рынок луковиц обычных и редких видов тюльпа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1634 по 1637 на рынке наблюдался резкий рост ц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а луковицы редкого ви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al Van de Ey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осла с 1,500 гиней в 1634 до 7,500 гиней в 1637 (эквивалент стоимости дома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ы обычных луковиц выросли в 20 раз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еврале 1637 произошел обвал ц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ПЕКУЛЯНТЫ НА ФОНДОВОМ РЫН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89000" y="1484280"/>
            <a:ext cx="884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екулянты на фондовом рынк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люди, которые зарабатывают на разнице между ценой покупки и продажи ценных бумаг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ыки» – играют на повыше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едведи» – играют на пониже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с повышательной тенденцией це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бычий» ры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ынок с понижательной тенденцие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едвежьим» рынк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Картинки по запросу спекулянты на рынке ценных бумаг быки медведи"/>
          <p:cNvPicPr/>
          <p:nvPr/>
        </p:nvPicPr>
        <p:blipFill>
          <a:blip r:embed="rId1"/>
          <a:stretch/>
        </p:blipFill>
        <p:spPr>
          <a:xfrm>
            <a:off x="5580000" y="4508640"/>
            <a:ext cx="33670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иболее предпочтительные формы инвестирования средств по мнению россиян</a:t>
            </a:r>
            <a:br>
              <a:rPr sz="32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ВЦИОМ, 2014,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Недвижимость дороже денег.jpg"/>
          <p:cNvPicPr/>
          <p:nvPr/>
        </p:nvPicPr>
        <p:blipFill>
          <a:blip r:embed="rId1"/>
          <a:srcRect l="0" t="0" r="0" b="36667"/>
          <a:stretch/>
        </p:blipFill>
        <p:spPr>
          <a:xfrm>
            <a:off x="1306440" y="1557360"/>
            <a:ext cx="65311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f82"/>
                </a:solidFill>
                <a:latin typeface="Times New Roman"/>
              </a:rPr>
              <a:t>Участие населения на фондовом рынке </a:t>
            </a:r>
            <a:br>
              <a:rPr sz="4400"/>
            </a:br>
            <a:r>
              <a:rPr b="1" lang="ru-RU" sz="4400" spc="-1" strike="noStrike">
                <a:solidFill>
                  <a:srgbClr val="003f82"/>
                </a:solidFill>
                <a:latin typeface="Times New Roman"/>
              </a:rPr>
              <a:t>в России и С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http://detki-ugra.ru/media/news/1635509650.jpg"/>
          <p:cNvPicPr/>
          <p:nvPr/>
        </p:nvPicPr>
        <p:blipFill>
          <a:blip r:embed="rId1"/>
          <a:srcRect l="0" t="16662" r="1457" b="11302"/>
          <a:stretch/>
        </p:blipFill>
        <p:spPr>
          <a:xfrm>
            <a:off x="1332000" y="2781360"/>
            <a:ext cx="1969920" cy="143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Компьютер\Фондовый рынок\Проекты\Курсера\1 - Новое, on demand\Слайды к лекциям\Картинки\mzl.giuwysun.png"/>
          <p:cNvPicPr/>
          <p:nvPr/>
        </p:nvPicPr>
        <p:blipFill>
          <a:blip r:embed="rId2"/>
          <a:stretch/>
        </p:blipFill>
        <p:spPr>
          <a:xfrm>
            <a:off x="5796000" y="250344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5"/>
          <p:cNvSpPr/>
          <p:nvPr/>
        </p:nvSpPr>
        <p:spPr>
          <a:xfrm>
            <a:off x="684360" y="479736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ее 1% (0,07%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378400" y="47847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 70-80%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7"/>
          <p:cNvSpPr/>
          <p:nvPr/>
        </p:nvSpPr>
        <p:spPr>
          <a:xfrm>
            <a:off x="0" y="117324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Вложения в различные активы на российском рынке (2003-2016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3"/>
          <p:cNvGrpSpPr/>
          <p:nvPr/>
        </p:nvGrpSpPr>
        <p:grpSpPr>
          <a:xfrm>
            <a:off x="355680" y="1598760"/>
            <a:ext cx="8424720" cy="5187960"/>
            <a:chOff x="355680" y="1598760"/>
            <a:chExt cx="8424720" cy="5187960"/>
          </a:xfrm>
        </p:grpSpPr>
        <p:pic>
          <p:nvPicPr>
            <p:cNvPr id="269" name="Рисунок 8" descr="доходность.PNG"/>
            <p:cNvPicPr/>
            <p:nvPr/>
          </p:nvPicPr>
          <p:blipFill>
            <a:blip r:embed="rId1"/>
            <a:stretch/>
          </p:blipFill>
          <p:spPr>
            <a:xfrm>
              <a:off x="355680" y="1671840"/>
              <a:ext cx="8424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9"/>
            <p:cNvSpPr/>
            <p:nvPr/>
          </p:nvSpPr>
          <p:spPr>
            <a:xfrm>
              <a:off x="3121920" y="1598760"/>
              <a:ext cx="5519160" cy="68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Прямоугольник: скругленные углы 2"/>
            <p:cNvSpPr/>
            <p:nvPr/>
          </p:nvSpPr>
          <p:spPr>
            <a:xfrm>
              <a:off x="4263840" y="2164680"/>
              <a:ext cx="4282200" cy="393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Прямоугольник 11"/>
            <p:cNvSpPr/>
            <p:nvPr/>
          </p:nvSpPr>
          <p:spPr>
            <a:xfrm>
              <a:off x="5786280" y="5514480"/>
              <a:ext cx="2633400" cy="68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Title 1"/>
          <p:cNvSpPr/>
          <p:nvPr/>
        </p:nvSpPr>
        <p:spPr>
          <a:xfrm>
            <a:off x="-7920" y="0"/>
            <a:ext cx="9151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82"/>
                </a:solidFill>
                <a:latin typeface="Times New Roman"/>
              </a:rPr>
              <a:t>Преимущества фондового рынка для частных инвесторо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6040" y="836640"/>
          <a:ext cx="8859960" cy="5869080"/>
        </p:xfrm>
        <a:graphic>
          <a:graphicData uri="http://schemas.openxmlformats.org/drawingml/2006/table">
            <a:tbl>
              <a:tblPr/>
              <a:tblGrid>
                <a:gridCol w="2159280"/>
                <a:gridCol w="2597040"/>
                <a:gridCol w="41036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е понятия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1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лас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овый рынок: как его использовать для роста доходов (5 часов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Что такое ценные бумаги и какие они бываю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ые участники рынк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ных бума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е на рынке ценных бума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Зачем нужны паевые инвестиционные фонд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общие фонды банковского управл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перации на валютном рынке: риск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озможност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овый рынок, ценная бумага, акция, облигация, вексель, пай, паевой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онный фонд, общий фонд банковского управления, брокер, дилер,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юта, валютный курс, рынок FOREX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ятие фондового рынка, виды ценных бумаг, разновидности паевы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онных фондов, отличия паевых инвестиционных фондов от общих фондов банковского управления, виды профессиональных участников ценных бумаг, типы валютных сделок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мание порядка функционирования фондового рынка, функций участников рынка, особенностей работы граждан с инструментами такого рынка, осознание рисков, с которыми сталкиваются участники фондового рынка в процессе его функционирования, понимание структуры и порядка работы валютного рынка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ирать подходящий инструмент инвестирования на фондовом рынке, выявлять риски, сопутствующие инвестированию денег на рынке ценных бумаг, рассчитывать уровень доходности по инвестициям, анализировать информацию для принятия решений на фондовом рынк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и выбор инструментов фондового рынка, работа с информационными потоками для принятия оптимальных финансовых решений на рынке, расчёт необходимых показателей эффективности работы на фондовом рынке, определение и нейтрализация основных рисков, связанных с работой на фондовом рынк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Изображение 118" descr="Снимок%20экрана%202016-11-19%20в%2021.52.18.png"/>
          <p:cNvPicPr/>
          <p:nvPr/>
        </p:nvPicPr>
        <p:blipFill>
          <a:blip r:embed="rId1"/>
          <a:srcRect l="0" t="13994" r="0" b="8431"/>
          <a:stretch/>
        </p:blipFill>
        <p:spPr>
          <a:xfrm>
            <a:off x="179280" y="1773360"/>
            <a:ext cx="8785440" cy="4968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5" name="Title 1"/>
          <p:cNvSpPr/>
          <p:nvPr/>
        </p:nvSpPr>
        <p:spPr>
          <a:xfrm>
            <a:off x="-7920" y="0"/>
            <a:ext cx="9151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82"/>
                </a:solidFill>
                <a:latin typeface="Times New Roman"/>
              </a:rPr>
              <a:t>Уровень технологического развития Московской биржи на фоне других мировых бирж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14200" y="9298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довый рынок (stock market) 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к, на котором осуществляется купля и продажа ценных бумаг и других финансовых инструменто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TextBox 1"/>
          <p:cNvGrpSpPr/>
          <p:nvPr/>
        </p:nvGrpSpPr>
        <p:grpSpPr>
          <a:xfrm>
            <a:off x="-55440" y="3322800"/>
            <a:ext cx="2811240" cy="2796840"/>
            <a:chOff x="-55440" y="3322800"/>
            <a:chExt cx="2811240" cy="2796840"/>
          </a:xfrm>
        </p:grpSpPr>
        <p:pic>
          <p:nvPicPr>
            <p:cNvPr id="105" name="TextBox 1" descr=""/>
            <p:cNvPicPr/>
            <p:nvPr/>
          </p:nvPicPr>
          <p:blipFill>
            <a:blip r:embed="rId1"/>
            <a:stretch/>
          </p:blipFill>
          <p:spPr>
            <a:xfrm>
              <a:off x="-55440" y="3322800"/>
              <a:ext cx="2811240" cy="27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0760" y="3373560"/>
              <a:ext cx="237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митент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issuer) организация, выпускающая (размещающая) ценную бумагу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TextBox 9" descr=""/>
          <p:cNvPicPr/>
          <p:nvPr/>
        </p:nvPicPr>
        <p:blipFill>
          <a:blip r:embed="rId2"/>
          <a:stretch/>
        </p:blipFill>
        <p:spPr>
          <a:xfrm>
            <a:off x="3181320" y="2955960"/>
            <a:ext cx="29210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08" name="TextBox 10"/>
          <p:cNvGrpSpPr/>
          <p:nvPr/>
        </p:nvGrpSpPr>
        <p:grpSpPr>
          <a:xfrm>
            <a:off x="6534000" y="3213000"/>
            <a:ext cx="2865600" cy="2882880"/>
            <a:chOff x="6534000" y="3213000"/>
            <a:chExt cx="2865600" cy="2882880"/>
          </a:xfrm>
        </p:grpSpPr>
        <p:pic>
          <p:nvPicPr>
            <p:cNvPr id="109" name="TextBox 10" descr=""/>
            <p:cNvPicPr/>
            <p:nvPr/>
          </p:nvPicPr>
          <p:blipFill>
            <a:blip r:embed="rId3"/>
            <a:stretch/>
          </p:blipFill>
          <p:spPr>
            <a:xfrm>
              <a:off x="6534000" y="3213000"/>
              <a:ext cx="286560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580080" y="3301920"/>
              <a:ext cx="237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весто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(investor) человек или организация, покупающая ценную бумагу 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Стрелка вправо 3"/>
          <p:cNvSpPr/>
          <p:nvPr/>
        </p:nvSpPr>
        <p:spPr>
          <a:xfrm>
            <a:off x="2556000" y="4221000"/>
            <a:ext cx="863640" cy="503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10800000">
            <a:off x="5889240" y="4205160"/>
            <a:ext cx="863640" cy="503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ЦЕННАЯ БУМА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338040" y="791280"/>
            <a:ext cx="834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ная бума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ставляет собой документ, который выражает связанные с ним имущественные и неимущественные права, может самостоятельно обращаться на рынке и быть объектом купли-продажи и других сделок, служит источником получения регулярного или разового доход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ценных бумаг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евы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вы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ы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Картинки по запросу фондовый рынок картинки"/>
          <p:cNvPicPr/>
          <p:nvPr/>
        </p:nvPicPr>
        <p:blipFill>
          <a:blip r:embed="rId1"/>
          <a:stretch/>
        </p:blipFill>
        <p:spPr>
          <a:xfrm>
            <a:off x="6910560" y="3878280"/>
            <a:ext cx="2233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Е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95200" y="1418760"/>
            <a:ext cx="860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stock, share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ценная бумага, свидетельствующая о внесении определенного пая в капитал акционерного общества и дающая на этой основе право на получение части прибыли от функционирования капитала этого общества в виде дивиденда, а также (как правило) на участие в управлении акционерным обществом и на часть имуществ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ликвидац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6443640" y="5041800"/>
            <a:ext cx="27241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Е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57320" y="1052640"/>
            <a:ext cx="8761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ии могут быть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ыкновенные (простые, рядовые)  ак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ют право ее владельцу на получение дивидендов (если есть прибыль), на участие в общих собраниях акционерного общества и в его управлении. Одна акция предоставляет один голос ее владельц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илегированные ак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яют своим владельцам привилегированное право на получение дивидендов, но не дают им права голоса на собрании акционер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сех выплатах владельцы обыкновенных акций стоят на последнем месте, владельцы привилегированных акций на предпоследнем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400" y="75960"/>
            <a:ext cx="864396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ГО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39840" y="1452600"/>
            <a:ext cx="862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игаци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bond, obligation) называется ценная бумага, удостоверяющая внесение ее владельцем денежных средств и подтверждающая обязательство возместить ему номинальную стоимость ценной бумаги в предусмотренный в ней срок с уплатой фиксированного процента, если иное не предусмотрено условиями выкуп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Картинки по запросу облигации картинки"/>
          <p:cNvPicPr/>
          <p:nvPr/>
        </p:nvPicPr>
        <p:blipFill>
          <a:blip r:embed="rId1"/>
          <a:stretch/>
        </p:blipFill>
        <p:spPr>
          <a:xfrm>
            <a:off x="7236000" y="49179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400" y="75960"/>
            <a:ext cx="864396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ГО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8120" y="1177920"/>
            <a:ext cx="879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лигации могут быть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п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оход – купонные платежи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скуп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окупается по цене ниже номинала, выкупается по номиналу, доход – разница в цене покупки и продажи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игация с бесконечным сроком погашения (Великобритания, 1752 г.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Картинки по запросу облигации картинки"/>
          <p:cNvPicPr/>
          <p:nvPr/>
        </p:nvPicPr>
        <p:blipFill>
          <a:blip r:embed="rId1"/>
          <a:stretch/>
        </p:blipFill>
        <p:spPr>
          <a:xfrm>
            <a:off x="2700360" y="4884840"/>
            <a:ext cx="3024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6:27:27Z</dcterms:created>
  <dc:creator>admin</dc:creator>
  <dc:description/>
  <dc:language>en-US</dc:language>
  <cp:lastModifiedBy>Пользователь Windows</cp:lastModifiedBy>
  <dcterms:modified xsi:type="dcterms:W3CDTF">2018-08-19T13:04:15Z</dcterms:modified>
  <cp:revision>380</cp:revision>
  <dc:subject/>
  <dc:title>Lecture 7 Labor Market and Aggregate Supply</dc:title>
</cp:coreProperties>
</file>