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move the slide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7A33-F7A9-4337-AD0E-24F2818F4C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4659-D410-4038-AF84-C56C5C7D9C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A48-6747-4CF8-A6F1-8CA595C0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333-09AC-4632-B811-6E5695FF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4C1-2FEC-4586-80CE-51CF1784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499-BFB0-4A63-AE05-73DD6DEC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EF6-E7D3-43BE-9A54-30661B36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DA99-DD5F-4539-A821-46010CDD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157-9072-45D9-90C6-61D54160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371-5436-4577-A7C0-6ED95A42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831-517E-4A35-912E-77731451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014-5458-4FBB-83BA-9FCD30BE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2FB-36A3-48A5-A915-271A5D6A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E5F-8CB3-41AA-A1EC-254156A6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6D81-4999-408C-B696-D3C611BB3D98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85840" y="1600200"/>
            <a:ext cx="840096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дель «Трех вопросов»</a:t>
            </a:r>
            <a:endParaRPr b="0" lang="en-US" sz="3600" spc="-1" strike="noStrike">
              <a:solidFill>
                <a:srgbClr val="e97d23"/>
              </a:solidFill>
              <a:latin typeface="Segoe U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боте с детьми с умственной отсталостью (интеллектуальными нарушениями)</a:t>
            </a:r>
            <a:endParaRPr b="0" lang="en-US" sz="3600" spc="-1" strike="noStrike">
              <a:solidFill>
                <a:srgbClr val="e97d23"/>
              </a:solidFill>
              <a:latin typeface="Segoe U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4248000" y="5457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-дефектолог Богаче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-дефектолог Мезенцев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 проекта</a:t>
            </a: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6760" y="1285560"/>
            <a:ext cx="85726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 проектов – это педагогическая технология, стержнем которой является самостоятельная деятельность детей (исследовательская, познавательная, продуктивная), в процессе которой ребенок познает окружающий мир и воплощает новые знания в реальные продукты.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12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 – работа, направленная на решение конкретной проблемы, на достижение оптимальным способом заранее запланированного результата.</a:t>
            </a: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41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методу проекта относится модель  «Трех вопросов»,  разработанная Светланой Михайловной  Оберемок для проектной деятельности в работе с дошкольниками.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Данная модель была адаптирована нами для работы с обучающимися с умственной отсталостью (интеллектуальными нарушениями) в начальной школе.  Модель «Трех вопросов» направлена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формирование базовых учебных действий (познавательных, коммуникативных и личностных), познавательной активности через обучение самостоятельной работе детей с различными источниками информации</a:t>
            </a:r>
            <a:r>
              <a:rPr b="0" lang="ru-RU" sz="2800" spc="-1" strike="noStrike">
                <a:solidFill>
                  <a:srgbClr val="546422"/>
                </a:solidFill>
                <a:latin typeface="Times New Roman"/>
                <a:ea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Кроме того, она обеспечивает преемственность дошкольного образования и школы, так как знакома некоторым детям с детского сада. </a:t>
            </a:r>
            <a:br>
              <a:rPr sz="2800"/>
            </a:br>
            <a:endParaRPr b="0" lang="en-US" sz="28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этапы работы</a:t>
            </a: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r>
              <a:rPr b="0" lang="ru-RU" sz="2200" spc="-1" strike="noStrike">
                <a:solidFill>
                  <a:srgbClr val="e97d23"/>
                </a:solidFill>
                <a:latin typeface="Segoe UI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ельный этап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варительная работа с родителями: знакомим их с новой практикой, объясняем их роль в реализации данного метода и его эффективность, учим кодировать и декодировать информацию с помощью символов. Для погружения в материал проводим мастер-класс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Основной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ятельность педагога с детьми на занятии по теме, совместная познавательная деятельность родителей и детей. Родители помогают оформить информацию в любом доступном для детей виде (презентация, мини-реферат, плакат, книжка-раскладушка, лэп-бук и т.д.).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Заключительный этап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ъявление детьми своего познавательного «продукта»  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ходе занятий или внеурочной деятельности в виде мини-конференций, тематических детско-родительских встреч.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дель  «Трех вопросов»</a:t>
            </a:r>
            <a:endParaRPr b="0" lang="en-US" sz="3600" spc="-1" strike="noStrike">
              <a:solidFill>
                <a:srgbClr val="546422"/>
              </a:solidFill>
              <a:latin typeface="Segoe Scrip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42920" y="3357720"/>
          <a:ext cx="8786880" cy="3222360"/>
        </p:xfrm>
        <a:graphic>
          <a:graphicData uri="http://schemas.openxmlformats.org/drawingml/2006/table">
            <a:tbl>
              <a:tblPr/>
              <a:tblGrid>
                <a:gridCol w="2928960"/>
                <a:gridCol w="2928960"/>
                <a:gridCol w="2928960"/>
              </a:tblGrid>
              <a:tr h="57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я знаю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я узнал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то хочу узна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обсуждение и заполнение с детьми первого столбц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суждение  просмотренного видеоматериала или прочитанного текста и заполнение второго столбц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суждение, помощь в формулировании вопроса и заполнение третьего столбца таблиц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Прямоугольник 4"/>
          <p:cNvSpPr/>
          <p:nvPr/>
        </p:nvSpPr>
        <p:spPr>
          <a:xfrm>
            <a:off x="309600" y="692280"/>
            <a:ext cx="85723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лица, составленная по модели трех вопросов, — основа для планирования деятельности, несущая информацию о первоначальном запасе знаний каждого ребенка. Таблица включает в себя колонки: "Что я знаю", "Что узнал", "Что еще хочу узнать", и заполняется в течение всей работы над темо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этапы работы над темой</a:t>
            </a:r>
            <a:endParaRPr b="0" lang="en-US" sz="36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5480" y="121392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Предъявление темы педагогом</a:t>
            </a:r>
            <a:endParaRPr b="0" lang="en-US" sz="2700" spc="-1" strike="noStrike">
              <a:solidFill>
                <a:srgbClr val="e97d23"/>
              </a:solidFill>
              <a:latin typeface="Segoe U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изация знаний обучающихся по теме через обсуждение, беседу. Заполнение столбца №1 таблицы </a:t>
            </a:r>
            <a:endParaRPr b="0" lang="en-US" sz="2700" spc="-1" strike="noStrike">
              <a:solidFill>
                <a:srgbClr val="e97d23"/>
              </a:solidFill>
              <a:latin typeface="Segoe U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Получение новых знаний через работу с источниками информации. Заполнение столбца №2 таблицы </a:t>
            </a:r>
            <a:endParaRPr b="0" lang="en-US" sz="2700" spc="-1" strike="noStrike">
              <a:solidFill>
                <a:srgbClr val="e97d23"/>
              </a:solidFill>
              <a:latin typeface="Segoe U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Расширение интересов обучающихся в рамках данной темы. Заполнение столбца №3 таблицы </a:t>
            </a:r>
            <a:endParaRPr b="0" lang="en-US" sz="2700" spc="-1" strike="noStrike">
              <a:solidFill>
                <a:srgbClr val="e97d23"/>
              </a:solidFill>
              <a:latin typeface="Segoe U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Совместная работа родителей и детей над данной темой</a:t>
            </a:r>
            <a:endParaRPr b="0" lang="en-US" sz="2700" spc="-1" strike="noStrike">
              <a:solidFill>
                <a:srgbClr val="e97d23"/>
              </a:solidFill>
              <a:latin typeface="Segoe UI"/>
            </a:endParaRPr>
          </a:p>
          <a:p>
            <a:pPr marL="514440" indent="-514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Презентация обучающимися образовательного «продукта» своей деятельности.</a:t>
            </a:r>
            <a:endParaRPr b="0" lang="en-US" sz="27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1151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4800"/>
            </a:br>
            <a:endParaRPr b="0" lang="en-US" sz="4800" spc="-1" strike="noStrike">
              <a:solidFill>
                <a:srgbClr val="546422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3-01-31T00:33:49Z</dcterms:modified>
  <cp:revision>1</cp:revision>
  <dc:subject/>
  <dc:title/>
</cp:coreProperties>
</file>