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3561-180B-41A6-815A-781352A754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41CC-CB0E-4126-878E-C0E8F1461A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215-AC77-4AC7-A5D2-0E5AFDDA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7893-B833-4C5C-875F-9CD4784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BAB-F80A-4412-87A4-4E6E250B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D46-DC09-4A04-B89A-B704D13D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C92-1BFF-4C58-958A-918B488C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536-ACC5-4916-BE50-2BE1DCED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ABB-689B-446D-B320-C497F2DB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A98-B995-4775-99E6-04A090F5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6C1-87C9-4AAD-A77E-22CC5B87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F59-58F8-4C99-9E6D-B39D088E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AF3-21DE-4D7C-B311-8FF996EA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B17-C52E-4685-8CA9-5220E6DE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A862-72A7-489B-96CE-0A8B99693413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5840" y="1600200"/>
            <a:ext cx="840096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ь «Трех вопросов»</a:t>
            </a:r>
            <a:endParaRPr b="0" lang="en-US" sz="3600" spc="-1" strike="noStrike">
              <a:solidFill>
                <a:srgbClr val="e97d23"/>
              </a:solidFill>
              <a:latin typeface="Segoe U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боте с детьми с умственной отсталостью (интеллектуальными нарушениями)</a:t>
            </a:r>
            <a:endParaRPr b="0" lang="en-US" sz="3600" spc="-1" strike="noStrike">
              <a:solidFill>
                <a:srgbClr val="e97d23"/>
              </a:solidFill>
              <a:latin typeface="Segoe U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4248000" y="5457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-дефектолог Богач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-дефектолог Мезенце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 проекта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6760" y="1285560"/>
            <a:ext cx="8572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 проектов – это педагогическая технология, стержнем которой является самостоятельная деятельность детей (исследовательская, познавательная, продуктивная), в процессе которой ребенок познает окружающий мир и воплощает новые знания в реальные продукты.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12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 – работа, направленная на решение конкретной проблемы, на достижение оптимальным способом заранее запланированного результата.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методу проекта относится модель  «Трех вопросов»,  разработанная Светланой Михайловной  Оберемок для проектной деятельности в работе с дошкольниками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Данная модель была адаптирована нами для работы с обучающимися с умственной отсталостью (интеллектуальными нарушениями) в начальной школе.  Модель «Трех вопросов» направлена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формирование базовых учебных действий (познавательных, коммуникативных и личностных), познавательной активности через обучение самостоятельной работе детей с различными источниками информации</a:t>
            </a:r>
            <a:r>
              <a:rPr b="0" lang="ru-RU" sz="2800" spc="-1" strike="noStrike">
                <a:solidFill>
                  <a:srgbClr val="546422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Кроме того, она обеспечивает преемственность дошкольного образования и школы, так как знакома некоторым детям с детского сада. </a:t>
            </a:r>
            <a:br>
              <a:rPr sz="2800"/>
            </a:br>
            <a:endParaRPr b="0" lang="en-US" sz="28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работы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e97d23"/>
                </a:solidFill>
                <a:latin typeface="Segoe U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варительная работа с родителями: знакомим их с новой практикой, объясняем их роль в реализации данного метода и его эффективность, учим кодировать и декодировать информацию с помощью символов. Для погружения в материал проводим мастер-класс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Основной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 педагога с детьми на занятии по теме, совместная познавательная деятельность родителей и детей. Родители помогают оформить информацию в любом доступном для детей виде (презентация, мини-реферат, плакат, книжка-раскладушка, лэп-бук и т.д.)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Заключительный этап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ъявление детьми своего познавательного «продукта»  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ходе занятий или внеурочной деятельности в виде мини-конференций, тематических детско-родительских встреч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ь  «Трех вопросов»</a:t>
            </a:r>
            <a:endParaRPr b="0" lang="en-US" sz="3600" spc="-1" strike="noStrike">
              <a:solidFill>
                <a:srgbClr val="546422"/>
              </a:solidFill>
              <a:latin typeface="Segoe Scrip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2920" y="3357720"/>
          <a:ext cx="8786880" cy="322236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57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я знаю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я узнал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хочу узн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обсуждение и заполнение с детьми первого столбц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суждение  просмотренного видеоматериала или прочитанного текста и заполнение второго столбц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суждение, помощь в формулировании вопроса и заполнение третьего столбца таблиц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Прямоугольник 4"/>
          <p:cNvSpPr/>
          <p:nvPr/>
        </p:nvSpPr>
        <p:spPr>
          <a:xfrm>
            <a:off x="309600" y="692280"/>
            <a:ext cx="85723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, составленная по модели трех вопросов, — основа для планирования деятельности, несущая информацию о первоначальном запасе знаний каждого ребенка. Таблица включает в себя колонки: "Что я знаю", "Что узнал", "Что еще хочу узнать", и заполняется в течение всей работы над темо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работы над темой</a:t>
            </a:r>
            <a:endParaRPr b="0" lang="en-US" sz="36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480" y="12139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редъявление темы педагогом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изация знаний обучающихся по теме через обсуждение, беседу. Заполнение столбца №1 таблицы 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олучение новых знаний через работу с источниками информации. Заполнение столбца №2 таблицы 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Расширение интересов обучающихся в рамках данной темы. Заполнение столбца №3 таблицы 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овместная работа родителей и детей над данной темой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резентация обучающимися образовательного «продукта» своей деятельности.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1151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800"/>
            </a:br>
            <a:endParaRPr b="0" lang="en-US" sz="48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3-01-31T00:33:49Z</dcterms:modified>
  <cp:revision>1</cp:revision>
  <dc:subject/>
  <dc:title/>
</cp:coreProperties>
</file>