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7B8-F903-4C46-9D2C-651D2616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27D-42AB-4ED4-BD17-0395E49D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C3E-483C-472F-9C68-67907C84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94E-4478-4D57-B474-1F58DCE3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818-9629-4A96-A11A-398D4D4E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725-F9D3-4A73-8286-322B2D82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FD0-2716-4BA3-B4C1-20E10C87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415-3C5A-46B4-B0A2-B7974413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09F-BEC9-46A2-9659-2E28057D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08D-AEF0-4207-83D0-AF0CEF77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3CE-2231-4702-9CD2-BC4284F5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7D0-0451-48CD-A1EB-531FC1CC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d9f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D265-E455-4449-98E7-88B48B6D7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риентирование на мес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олдень тени самые короткие и протягиваются с юга на севе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92896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мение определять на местности стороны горизонта по компасу, Солнцу, звёздам и местным признак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1258920" y="333360"/>
            <a:ext cx="7058160" cy="1655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риен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 определить стороны св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Как определить части света в лесу.avi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472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гнитный компас – древнее китайское изобретение. Сначала компасы использовали при планировании городской застройки для правильного расположения новых домов – считалось, что оно должно гармонировать с природой. Позднее компас использовался в навиг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2286000"/>
            <a:ext cx="3500640" cy="30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ается стре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да и сю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ет нам сев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юг без тру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5" descr="bussola-suunto-core.jpg"/>
          <p:cNvPicPr/>
          <p:nvPr/>
        </p:nvPicPr>
        <p:blipFill>
          <a:blip r:embed="rId1"/>
          <a:stretch/>
        </p:blipFill>
        <p:spPr>
          <a:xfrm>
            <a:off x="3706920" y="2139840"/>
            <a:ext cx="5443560" cy="4535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7286760" y="157176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шк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714840" y="150012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р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9"/>
          <p:cNvCxnSpPr/>
          <p:nvPr/>
        </p:nvCxnSpPr>
        <p:spPr>
          <a:xfrm>
            <a:off x="8357040" y="2143080"/>
            <a:ext cx="14364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Прямая со стрелкой 11"/>
          <p:cNvCxnSpPr/>
          <p:nvPr/>
        </p:nvCxnSpPr>
        <p:spPr>
          <a:xfrm>
            <a:off x="4572000" y="2143080"/>
            <a:ext cx="929520" cy="64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Прямоугольник 3"/>
          <p:cNvSpPr/>
          <p:nvPr/>
        </p:nvSpPr>
        <p:spPr>
          <a:xfrm>
            <a:off x="509400" y="236520"/>
            <a:ext cx="819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риентирование по компа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42960" y="285840"/>
            <a:ext cx="7786800" cy="23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мпас – это прибор, который помогает определить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ороны света. Красная стрелка всегда показывает на юг, а синяя на север. Справа будет восток, а слева запад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1.jpg"/>
          <p:cNvPicPr/>
          <p:nvPr/>
        </p:nvPicPr>
        <p:blipFill>
          <a:blip r:embed="rId1"/>
          <a:stretch/>
        </p:blipFill>
        <p:spPr>
          <a:xfrm>
            <a:off x="2340000" y="2855880"/>
            <a:ext cx="47149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68000" y="2000160"/>
            <a:ext cx="82184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ожите компас на горизонтальную поверхность (или ладонь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елка компаса должна быть неподвижной. После этого поверните коробку компаса так, чтобы буква «С» на шкале компаса совпала с тёмным концом магнитной стрел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357280" y="4943520"/>
            <a:ext cx="6299280" cy="19144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"/>
          <p:cNvSpPr/>
          <p:nvPr/>
        </p:nvSpPr>
        <p:spPr>
          <a:xfrm>
            <a:off x="996480" y="482760"/>
            <a:ext cx="746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работы с компа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понятия «горизонт», «линия горизонта», «основные и промежуточные стороны горизон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учеников с прибором для определения сторон горизонта – компасо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ить определять стороны горизонта по местным признак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3145320" y="69228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компаса определи какие здания расположены к северу от ваше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мпа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Андрианов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ническ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-У (н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www.irmal.ru/product_51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lpaper.zoda.ru/nature/wpkwsrr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://img15.nnm.ru/1/8/1/8/4/e894acb580949ff3967019bc57b_prev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lepser.ru/wp-content/uploads/2011/10/Minimalism-in-Photography-big-34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rewalls.com/pic/201106/1366x768/reWalls.com-38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g-fotki.yandex.ru/get/4706/96189885.21/0_648e2_fefac7f6_X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2.firepic.org/2/images/2012-02/02/nf5wuxenaymw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g-fotki.yandex.ru/get/4703/prockofjewa-maria2011.3/0_47fe1_2c30285_X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g-fotki.yandex.ru/get/5811/124935931.5/0_57a96_70407c17_X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1"/>
          <p:cNvSpPr/>
          <p:nvPr/>
        </p:nvSpPr>
        <p:spPr>
          <a:xfrm>
            <a:off x="3135600" y="549360"/>
            <a:ext cx="29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Объект 2" descr=""/>
          <p:cNvPicPr/>
          <p:nvPr/>
        </p:nvPicPr>
        <p:blipFill>
          <a:blip r:embed="rId1"/>
          <a:stretch/>
        </p:blipFill>
        <p:spPr>
          <a:xfrm>
            <a:off x="-12600" y="-14400"/>
            <a:ext cx="9198000" cy="687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горизон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1554480" y="2997360"/>
            <a:ext cx="66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имое вокруг нас 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тся горизо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2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626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880" y="587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зывают линией горизонт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324000" y="189000"/>
            <a:ext cx="8572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ображаемая граница, где небо сходится с земной или водной  поверхностью, назы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линией горизонта</a:t>
            </a: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179280" y="5084640"/>
            <a:ext cx="8496360" cy="7308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2"/>
          <a:stretch/>
        </p:blipFill>
        <p:spPr>
          <a:xfrm>
            <a:off x="1547640" y="4581360"/>
            <a:ext cx="4332600" cy="28861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412920" y="22050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лько бы ты не стремился к ней, она всегда убег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1066680" y="-115920"/>
            <a:ext cx="6997680" cy="1444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"/>
          <p:cNvPicPr/>
          <p:nvPr/>
        </p:nvPicPr>
        <p:blipFill>
          <a:blip r:embed="rId3"/>
          <a:stretch/>
        </p:blipFill>
        <p:spPr>
          <a:xfrm>
            <a:off x="2954160" y="3146400"/>
            <a:ext cx="1901880" cy="1982880"/>
          </a:xfrm>
          <a:prstGeom prst="rect">
            <a:avLst/>
          </a:prstGeom>
          <a:ln w="0">
            <a:noFill/>
          </a:ln>
        </p:spPr>
      </p:pic>
      <p:cxnSp>
        <p:nvCxnSpPr>
          <p:cNvPr id="59" name="Прямая со стрелкой 9"/>
          <p:cNvCxnSpPr/>
          <p:nvPr/>
        </p:nvCxnSpPr>
        <p:spPr>
          <a:xfrm flipV="1">
            <a:off x="4716360" y="2420640"/>
            <a:ext cx="1440360" cy="100872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Прямоугольник 10"/>
          <p:cNvSpPr/>
          <p:nvPr/>
        </p:nvSpPr>
        <p:spPr>
          <a:xfrm>
            <a:off x="6300720" y="1525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609480" y="558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4"/>
          <p:cNvCxnSpPr/>
          <p:nvPr/>
        </p:nvCxnSpPr>
        <p:spPr>
          <a:xfrm flipH="1">
            <a:off x="1518840" y="4508280"/>
            <a:ext cx="1589760" cy="127044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Прямоугольник 16"/>
          <p:cNvSpPr/>
          <p:nvPr/>
        </p:nvSpPr>
        <p:spPr>
          <a:xfrm>
            <a:off x="5996160" y="5321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7"/>
          <p:cNvSpPr/>
          <p:nvPr/>
        </p:nvSpPr>
        <p:spPr>
          <a:xfrm>
            <a:off x="1400040" y="1681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8"/>
          <p:cNvCxnSpPr/>
          <p:nvPr/>
        </p:nvCxnSpPr>
        <p:spPr>
          <a:xfrm flipH="1" flipV="1">
            <a:off x="2194920" y="2439720"/>
            <a:ext cx="1065960" cy="98928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1"/>
          <p:cNvCxnSpPr/>
          <p:nvPr/>
        </p:nvCxnSpPr>
        <p:spPr>
          <a:xfrm>
            <a:off x="4855680" y="4749480"/>
            <a:ext cx="1140840" cy="84060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 flipV="1">
            <a:off x="4284720" y="1125000"/>
            <a:ext cx="0" cy="237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786120" y="0"/>
            <a:ext cx="9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eeece1"/>
                </a:solidFill>
                <a:latin typeface="Calibri"/>
              </a:rPr>
              <a:t>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284720" y="3500280"/>
            <a:ext cx="0" cy="2665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863520" y="6000840"/>
            <a:ext cx="94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eece1"/>
                </a:solidFill>
                <a:latin typeface="Calibri"/>
              </a:rPr>
              <a:t>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284720" y="3500280"/>
            <a:ext cx="338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719120" y="2786040"/>
            <a:ext cx="6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eece1"/>
                </a:solidFill>
                <a:latin typeface="Calibri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1258560" y="3500280"/>
            <a:ext cx="302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75280" y="2928960"/>
            <a:ext cx="66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eece1"/>
                </a:solidFill>
                <a:latin typeface="Calibri"/>
              </a:rPr>
              <a:t>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428472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4284720" y="1484280"/>
            <a:ext cx="2232000" cy="2016000"/>
          </a:xfrm>
          <a:prstGeom prst="line">
            <a:avLst/>
          </a:prstGeom>
          <a:ln w="57240">
            <a:solidFill>
              <a:srgbClr val="c3d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6578280" y="857160"/>
            <a:ext cx="11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eece1"/>
                </a:solidFill>
                <a:latin typeface="Calibri"/>
              </a:rPr>
              <a:t>С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050560" y="3500280"/>
            <a:ext cx="2233800" cy="1873440"/>
          </a:xfrm>
          <a:prstGeom prst="line">
            <a:avLst/>
          </a:prstGeom>
          <a:ln w="57240">
            <a:solidFill>
              <a:srgbClr val="c3d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361160" y="5286240"/>
            <a:ext cx="13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eece1"/>
                </a:solidFill>
                <a:latin typeface="Calibri"/>
              </a:rPr>
              <a:t>Ю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H="1" flipV="1">
            <a:off x="2195280" y="1700280"/>
            <a:ext cx="2089080" cy="1800000"/>
          </a:xfrm>
          <a:prstGeom prst="line">
            <a:avLst/>
          </a:prstGeom>
          <a:ln w="57240">
            <a:solidFill>
              <a:srgbClr val="c3d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1077840" y="785880"/>
            <a:ext cx="120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eece1"/>
                </a:solidFill>
                <a:latin typeface="Calibri"/>
              </a:rPr>
              <a:t>С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4284720" y="3500280"/>
            <a:ext cx="2374920" cy="1873440"/>
          </a:xfrm>
          <a:prstGeom prst="line">
            <a:avLst/>
          </a:prstGeom>
          <a:ln w="57240">
            <a:solidFill>
              <a:srgbClr val="c3d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6864480" y="5197320"/>
            <a:ext cx="14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eece1"/>
                </a:solidFill>
                <a:latin typeface="Calibri"/>
              </a:rPr>
              <a:t>Ю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лнце всходит на восто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Прямая со стрелкой 4"/>
          <p:cNvCxnSpPr/>
          <p:nvPr/>
        </p:nvCxnSpPr>
        <p:spPr>
          <a:xfrm flipV="1">
            <a:off x="4572000" y="3428640"/>
            <a:ext cx="1440360" cy="100872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5"/>
          <p:cNvCxnSpPr/>
          <p:nvPr/>
        </p:nvCxnSpPr>
        <p:spPr>
          <a:xfrm flipH="1">
            <a:off x="2700000" y="4868640"/>
            <a:ext cx="1296000" cy="93708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9"/>
          <p:cNvCxnSpPr/>
          <p:nvPr/>
        </p:nvCxnSpPr>
        <p:spPr>
          <a:xfrm>
            <a:off x="4572000" y="4827600"/>
            <a:ext cx="1440360" cy="104040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11"/>
          <p:cNvCxnSpPr/>
          <p:nvPr/>
        </p:nvCxnSpPr>
        <p:spPr>
          <a:xfrm flipH="1" flipV="1">
            <a:off x="2592000" y="3644640"/>
            <a:ext cx="1512000" cy="792720"/>
          </a:xfrm>
          <a:prstGeom prst="straightConnector1">
            <a:avLst/>
          </a:prstGeom>
          <a:ln w="8892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Объект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95280" y="189000"/>
            <a:ext cx="8353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анним утром предметы отбрасывают длинные тени с востока на зап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03:55:47Z</dcterms:created>
  <dc:creator>comp</dc:creator>
  <dc:description/>
  <dc:language>en-US</dc:language>
  <cp:lastModifiedBy>Grey Wolf</cp:lastModifiedBy>
  <dcterms:modified xsi:type="dcterms:W3CDTF">2012-09-25T16:47:56Z</dcterms:modified>
  <cp:revision>29</cp:revision>
  <dc:subject/>
  <dc:title>Слайд 1</dc:title>
</cp:coreProperties>
</file>