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8779-4449-47B3-813E-F3D7DBE9B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68A4-4216-44D5-A4C3-8C4D0C89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1A3F-B04C-4F6D-864C-76DC5F6B7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148F-86BA-4FDF-9721-C83953C8C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FBD8-0837-4C89-B3CA-557C8764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E239-B4FB-4959-88DC-7E8F9C1C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BB79-D15E-4F96-B99A-549FDC7C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F9F0-D2DD-4F7D-A8E6-B90FF629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7418-B44D-44FA-854E-EA490C98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F1EC-22BF-4F2F-A29E-8BC56741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8D57-5C92-4E1A-A508-98A41CBD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E177-C736-4428-BEE6-4D5E8EB7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107D-CC37-42DF-91EC-803A75B7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2F9F-F37F-4EB6-B9EB-93D678EB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FBDF-E91B-4EF8-80AD-76A3EC33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3037-EA71-47F2-A1D5-6BF009544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09EF-EF4B-4501-93F4-1A5965A6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E4A6-56C2-4695-BAA2-8DE227CD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2645-B622-4238-8B5E-EB1B8DF9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0590-8CD3-46D5-B82B-D8C6FA77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6448-F856-408C-8899-4E63208A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6F6A-FC05-4F76-AB8E-62C4ADA2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82A1-0254-4002-8FDD-B874E111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32AB-611C-448B-BB7A-DA23C6C6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5958-1181-4488-8A14-FF4FA63927D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A59B-7C51-4C78-85B1-24165FB298E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7640" y="1125000"/>
            <a:ext cx="66294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Открой в себе память.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мять – это тот посох, на который человек опирается в своем жизненном пути, она делает его зрячи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П. Астаф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езультат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курсии в музе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ртуальные экскур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новых экспози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полнение музейных колле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8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8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8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8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8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чему выбрана именно такая тема?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ш проект поможет вам в формировании интереса к истории и культуре Отечества, уважительного отношения к нравственным ценностям людей разных покол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с ожидают встречи с интересными людьми, участие в научно-практических конференциях, занятия поисковой и проектной деятельностью, экскурсии и путеше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Учебные предмет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444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е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ХК (Мировая художественная культур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j0299125"/>
          <p:cNvPicPr/>
          <p:nvPr/>
        </p:nvPicPr>
        <p:blipFill>
          <a:blip r:embed="rId1"/>
          <a:stretch/>
        </p:blipFill>
        <p:spPr>
          <a:xfrm>
            <a:off x="6084720" y="1844640"/>
            <a:ext cx="20196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Участники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2060640"/>
            <a:ext cx="77724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щиеся 5 – 11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j0233018"/>
          <p:cNvPicPr/>
          <p:nvPr/>
        </p:nvPicPr>
        <p:blipFill>
          <a:blip r:embed="rId1"/>
          <a:stretch/>
        </p:blipFill>
        <p:spPr>
          <a:xfrm>
            <a:off x="5076720" y="3068640"/>
            <a:ext cx="34527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16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нформационные ресурс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42920" y="1483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нциклопед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ументы школьного муз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онаты школьного муз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иодическая печ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рические очер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s"/>
          <p:cNvSpPr/>
          <p:nvPr/>
        </p:nvSpPr>
        <p:spPr>
          <a:xfrm>
            <a:off x="7093080" y="4797360"/>
            <a:ext cx="1352520" cy="1809720"/>
          </a:xfrm>
          <a:custGeom>
            <a:avLst/>
            <a:gdLst>
              <a:gd name="textAreaLeft" fmla="*/ 102960 w 1352520"/>
              <a:gd name="textAreaRight" fmla="*/ 1034640 w 1352520"/>
              <a:gd name="textAreaTop" fmla="*/ 349200 h 1809720"/>
              <a:gd name="textAreaBottom" fmla="*/ 145080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водное анкетирование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та создания школьного музе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д основания школ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известные люди учились в нашей школ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располагалось в здании школы в годы Великой отечественной вой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j0217698"/>
          <p:cNvPicPr/>
          <p:nvPr/>
        </p:nvPicPr>
        <p:blipFill>
          <a:blip r:embed="rId1"/>
          <a:stretch/>
        </p:blipFill>
        <p:spPr>
          <a:xfrm>
            <a:off x="3924360" y="479736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сновная идея проект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915920"/>
            <a:ext cx="77724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ойно вести летопись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новлять экспози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полнять коллекцию муз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Наши групп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ев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ограф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форми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дак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курсо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3" descr="j0292020"/>
          <p:cNvPicPr/>
          <p:nvPr/>
        </p:nvPicPr>
        <p:blipFill>
          <a:blip r:embed="rId1"/>
          <a:stretch/>
        </p:blipFill>
        <p:spPr>
          <a:xfrm>
            <a:off x="5651640" y="3500280"/>
            <a:ext cx="287640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2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4550"/>
                            </p:stCondLst>
                            <p:childTnLst>
                              <p:par>
                                <p:cTn id="2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27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иемы работ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3810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кур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в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фер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мин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j0301252"/>
          <p:cNvPicPr/>
          <p:nvPr/>
        </p:nvPicPr>
        <p:blipFill>
          <a:blip r:embed="rId1"/>
          <a:stretch/>
        </p:blipFill>
        <p:spPr>
          <a:xfrm>
            <a:off x="5076720" y="3429000"/>
            <a:ext cx="331308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8:53:22Z</dcterms:created>
  <dc:creator>User</dc:creator>
  <dc:description/>
  <dc:language>en-US</dc:language>
  <cp:lastModifiedBy>Пользователь</cp:lastModifiedBy>
  <dcterms:modified xsi:type="dcterms:W3CDTF">2022-10-25T09:58:31Z</dcterms:modified>
  <cp:revision>3</cp:revision>
  <dc:subject/>
  <dc:title>Открой в себе память.</dc:title>
</cp:coreProperties>
</file>