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B61-C5D1-4E93-AA44-D259C9A7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8F1-7156-4FCD-B10A-7852B5B1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D17-C48B-4A97-AE97-0C535BEB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56C-F90B-4BC8-8693-3EEE10A3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F74A-4E23-48BA-84E5-54631F9D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8530-23DE-493A-BD62-FE0C7C3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732-FBC9-4635-A79B-3AB88EDF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3EFB-B167-4319-8E48-D120C93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27A5-44B4-4185-B933-17359411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404-D032-4A2A-8BDC-F301285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A71-D235-45E3-850D-1869375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A65-9EE2-4288-9084-B37BFD0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32A4-DF7B-41F2-A29A-1C89E1A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6F40-1DA3-4064-BC3B-BCA3D21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C776-26A3-490C-B4AA-8D4C2F7A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A78-68EB-42FC-B4B2-194FA35A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DF0-8D72-49F8-82B6-1D22CB7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E4F-A88D-453E-AE02-7D34AF5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5DA-7620-4DE8-B794-6327822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9A3-0C32-4658-A99B-63D9E33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E42-D94E-4EB8-984E-454201D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C92-70F9-4CD7-9C35-A80C613D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0B4-E5A6-4675-B7E3-CBCECAF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AFB-290D-4CEA-8D38-AF4F41B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AB40-2222-4658-A16A-477E225AC2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2411-1DE8-4912-BE6E-6291A88CAD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ткрой в себе память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– это тот посох, на который человек опирается в своем жизненном пути, она делает его зрячи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П. 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езульта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 в муз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ртуальные экскур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новых экспоз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музейных колл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чему выбрана именно такая тема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проект поможет вам в формировании интереса к истории и культуре Отечества, уважительного отношения к нравственным ценностям людей разных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 ожидают встречи с интересными людьми, участие в научно-практических конференциях, занятия поисковой и проектной деятельностью, экскурсии и путе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ые предме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ХК (Мировая художественная куль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j0299125"/>
          <p:cNvPicPr/>
          <p:nvPr/>
        </p:nvPicPr>
        <p:blipFill>
          <a:blip r:embed="rId1"/>
          <a:stretch/>
        </p:blipFill>
        <p:spPr>
          <a:xfrm>
            <a:off x="6084720" y="1844640"/>
            <a:ext cx="2019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астни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5 – 11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j0233018"/>
          <p:cNvPicPr/>
          <p:nvPr/>
        </p:nvPicPr>
        <p:blipFill>
          <a:blip r:embed="rId1"/>
          <a:stretch/>
        </p:blipFill>
        <p:spPr>
          <a:xfrm>
            <a:off x="5076720" y="3068640"/>
            <a:ext cx="3452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формационные ресур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ы школьного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 школьного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одическая пе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ческие оч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s"/>
          <p:cNvSpPr/>
          <p:nvPr/>
        </p:nvSpPr>
        <p:spPr>
          <a:xfrm>
            <a:off x="7093080" y="479736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одное анкетиров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оздания школьного муз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основания шко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вестные люди учились в нашей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асполагалось в здании школы в годы Великой отечественной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217698"/>
          <p:cNvPicPr/>
          <p:nvPr/>
        </p:nvPicPr>
        <p:blipFill>
          <a:blip r:embed="rId1"/>
          <a:stretch/>
        </p:blipFill>
        <p:spPr>
          <a:xfrm>
            <a:off x="3924360" y="479736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ая идея проек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йно вести летопись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овлять экспоз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ять коллекцию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ши груп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ев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ак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о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j0292020"/>
          <p:cNvPicPr/>
          <p:nvPr/>
        </p:nvPicPr>
        <p:blipFill>
          <a:blip r:embed="rId1"/>
          <a:stretch/>
        </p:blipFill>
        <p:spPr>
          <a:xfrm>
            <a:off x="5651640" y="3500280"/>
            <a:ext cx="2876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емы работ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j0301252"/>
          <p:cNvPicPr/>
          <p:nvPr/>
        </p:nvPicPr>
        <p:blipFill>
          <a:blip r:embed="rId1"/>
          <a:stretch/>
        </p:blipFill>
        <p:spPr>
          <a:xfrm>
            <a:off x="5076720" y="3429000"/>
            <a:ext cx="33130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3:22Z</dcterms:created>
  <dc:creator>User</dc:creator>
  <dc:description/>
  <dc:language>en-US</dc:language>
  <cp:lastModifiedBy>Пользователь</cp:lastModifiedBy>
  <dcterms:modified xsi:type="dcterms:W3CDTF">2022-10-25T09:58:31Z</dcterms:modified>
  <cp:revision>3</cp:revision>
  <dc:subject/>
  <dc:title>Открой в себе память.</dc:title>
</cp:coreProperties>
</file>