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5828C-1291-4A7D-80BC-9D04447AE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8F30F-018E-43AA-806A-FA2E545B2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02590-F3CC-45E5-A428-D21DC3025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24285-68F1-4719-9101-C0C354BA0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1CC49-D648-4F3B-A4BD-9AE7FBA31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6130B-4B18-4C25-BFED-FB59BAD6F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51B7F-273C-44EA-BED4-ACF203E84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65DE8-5C86-4DFE-84E3-4B8C8D526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8FAD6-D366-4F99-A5C9-201950D1C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12CEC-2CCC-485B-BA29-289B65638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CDB19-C8BA-4192-8753-A1CEF0E1C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3B037-B45F-44C4-B55C-0709D3CD0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8B752-AF50-42C7-AB84-3D92648A3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62441-F197-48F6-86ED-62C8F331D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35132-99C6-4208-831B-1389CEEFA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78222-BFCB-4701-ABB8-02BDF3CCC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3377B-E22B-4D4C-A044-9AE4FB939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BC801-8A02-4820-895C-CDF725A49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7E7D8-2A26-467C-AB23-9F1E2745C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7E57E-F892-404D-9EA1-1C5418D11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518AF-4F90-4CEA-A450-4FAB1620A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30D8A-382A-446C-A077-51C07A583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64EB8-B2F2-42A1-9996-997059418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FF011-51AD-442D-900D-78CBF4542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E753D-8833-49C3-B1D7-1F9E21AC99E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6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F084A-A8FE-4534-B8BD-4184173B8C7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1066320"/>
            <a:ext cx="784872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дготовка к сжатому изложению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(по тексту Е. В. Мурашовой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761760" y="4648320"/>
            <a:ext cx="792468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ала учитель русского язы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менская И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80010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и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учить писать выборочное изложе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вивать умение  выбирать необходимый фрагмент из всего тек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спитывать бережное отношение к приро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500" autoRev="1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7" dur="500" autoRev="1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8" dur="500" autoRev="1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еседа по тексту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Какая основная мысль данного тек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Маленький Аркаша Пластов понимал язык родной земл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м маленький Аркаша удивлял родителей и сверстник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 что родители сердились на Аркаш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чём секрет художника Пластов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vert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5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80880" y="9144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C:\Users\Галочка\Desktop\zhatva.jpg"/>
          <p:cNvPicPr/>
          <p:nvPr/>
        </p:nvPicPr>
        <p:blipFill>
          <a:blip r:embed="rId1"/>
          <a:stretch/>
        </p:blipFill>
        <p:spPr>
          <a:xfrm>
            <a:off x="228600" y="609480"/>
            <a:ext cx="4572000" cy="35625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C:\Users\Галочка\Desktop\xudozhnik-Plastov-02.jpg"/>
          <p:cNvPicPr/>
          <p:nvPr/>
        </p:nvPicPr>
        <p:blipFill>
          <a:blip r:embed="rId2"/>
          <a:stretch/>
        </p:blipFill>
        <p:spPr>
          <a:xfrm>
            <a:off x="4038480" y="2895480"/>
            <a:ext cx="4876920" cy="34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C:\Users\Галочка\Desktop\8399ee048e66.jpg"/>
          <p:cNvPicPr/>
          <p:nvPr/>
        </p:nvPicPr>
        <p:blipFill>
          <a:blip r:embed="rId1"/>
          <a:stretch/>
        </p:blipFill>
        <p:spPr>
          <a:xfrm>
            <a:off x="533520" y="762120"/>
            <a:ext cx="82501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C:\Users\Галочка\Desktop\Plastov_Letom.jpg"/>
          <p:cNvPicPr/>
          <p:nvPr/>
        </p:nvPicPr>
        <p:blipFill>
          <a:blip r:embed="rId1"/>
          <a:stretch/>
        </p:blipFill>
        <p:spPr>
          <a:xfrm>
            <a:off x="838080" y="838080"/>
            <a:ext cx="3657600" cy="5275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C:\Users\Галочка\Desktop\b051fab8f6e3.jpg"/>
          <p:cNvPicPr/>
          <p:nvPr/>
        </p:nvPicPr>
        <p:blipFill>
          <a:blip r:embed="rId2"/>
          <a:stretch/>
        </p:blipFill>
        <p:spPr>
          <a:xfrm>
            <a:off x="4952880" y="914400"/>
            <a:ext cx="3546720" cy="52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едупреждение орфографических  и пунктуационных ошибок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д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лялись (дИво), нах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ло (нахОдит), кр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ит (крИк), перед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ю (дАть), отв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ает (отвЕт), г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ит (гОвор, разговОр), св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ят (свИст), док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ть(докАзывать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зали, во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навлива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слушаю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тс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, приходи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тс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сердя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тс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яд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ет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ыш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и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ки препинания при диалог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Кому это ты,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Аркаш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? – спрашивают мальчиш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ки препинания при прямой ре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Отчего же никто ничего не слышит? Как док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ть, что земля на самом деле живая и всё в ней свой голос имеет?» - думает Аркаш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П?»-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500" autoRev="1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86" dur="500" autoRev="1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87" dur="500" autoRev="1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500" autoRev="1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92" dur="500" autoRev="1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93" dur="500" autoRev="1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500" autoRev="1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98" dur="500" autoRev="1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99" dur="500" autoRev="1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500" autoRev="1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04" dur="500" autoRev="1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05" dur="500" autoRev="1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500" autoRev="1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10" dur="500" autoRev="1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11" dur="500" autoRev="1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500" autoRev="1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16" dur="500" autoRev="1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17" dur="500" autoRev="1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500" autoRev="1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22" dur="500" autoRev="1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23" dur="500" autoRev="1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500" autoRev="1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28" dur="500" autoRev="1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29" dur="500" autoRev="1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500" autoRev="1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34" dur="500" autoRev="1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35" dur="500" autoRev="1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бота над планом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114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«С виду пацан как пацан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«Иногда на Аркашу словно находило что-то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Привет вет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Разговор с муравь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Вечерние беседы с зака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 «Как доказать, что земля на самом деле живая и всё на неё свой голос имеет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7" descr="C:\Users\Галочка\Desktop\920284652.jpg"/>
          <p:cNvPicPr/>
          <p:nvPr/>
        </p:nvPicPr>
        <p:blipFill>
          <a:blip r:embed="rId1"/>
          <a:stretch/>
        </p:blipFill>
        <p:spPr>
          <a:xfrm>
            <a:off x="4724280" y="2514600"/>
            <a:ext cx="3899160" cy="2666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4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99cc"/>
                                      </p:to>
                                    </p:animClr>
                                    <p:animClr clrSpc="rgb">
                                      <p:cBhvr>
                                        <p:cTn id="14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99cc"/>
                                      </p:to>
                                    </p:animClr>
                                    <p:set>
                                      <p:cBhvr>
                                        <p:cTn id="14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4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рина Роменская</cp:lastModifiedBy>
  <dcterms:modified xsi:type="dcterms:W3CDTF">2023-06-23T09:28:03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