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0255D-C311-4045-9703-E0429CFB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1502-EBD2-4068-AA61-D48A34F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6DBC-232D-4E67-A56D-562E41AE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EBE1-64B9-47FD-960F-52D04AC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834-8BCD-4CD7-AE90-93A47920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5675-2D8C-4E86-8830-3305102A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1CD1-5DE7-414B-9D8D-9CFEA25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433D-2E19-463B-8D52-897A601B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8F1D-6052-47B4-8EB2-E304DF57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AA65-DA68-4F73-B1EE-43E1A916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3211-73B3-4030-A555-F8ECDC4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19A-473A-4B36-8B42-C50109F7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7A41-BABC-48DC-813C-04DC733F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BB9-A41B-4925-816D-80AD8E6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2DB-330E-4D56-ACED-059447C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FC5-027E-4626-9328-13FB3EA3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B9F5-3C7F-4E02-AA12-04B15F1A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668F-D6DE-4A85-92F2-6740719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7EFB-98C0-49D0-B2AE-18EAB0D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30487-CE22-4C8B-9080-3A16EE2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9FA5-CDB1-4DB4-A254-8B0E713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4CCB-F9D3-4675-AB2E-6326A508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4438E-4935-45E0-9630-575D96A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F445-84A0-44E2-A52F-8066B45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3D07-6A9F-4869-A3B7-20F3231B81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386E-6749-412A-9B1F-05868A6520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готовка к сжатому изложению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 тексту Е. В. Мурашовой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1760" y="4648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 учител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менская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 писать выборочное изл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умение  выбирать необходимый фрагмент из всего тек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еда по текст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ая основная мысль данного тек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ленький Аркаша Пластов понимал язык родной зем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маленький Аркаша удивлял родителей и сверст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что родители сердились на Аркаш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ём секрет художника Пласт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9144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Галочка\Desktop\zhatva.jpg"/>
          <p:cNvPicPr/>
          <p:nvPr/>
        </p:nvPicPr>
        <p:blipFill>
          <a:blip r:embed="rId1"/>
          <a:stretch/>
        </p:blipFill>
        <p:spPr>
          <a:xfrm>
            <a:off x="228600" y="6094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Галочка\Desktop\xudozhnik-Plastov-02.jpg"/>
          <p:cNvPicPr/>
          <p:nvPr/>
        </p:nvPicPr>
        <p:blipFill>
          <a:blip r:embed="rId2"/>
          <a:stretch/>
        </p:blipFill>
        <p:spPr>
          <a:xfrm>
            <a:off x="4038480" y="2895480"/>
            <a:ext cx="4876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Галочка\Desktop\8399ee048e66.jpg"/>
          <p:cNvPicPr/>
          <p:nvPr/>
        </p:nvPicPr>
        <p:blipFill>
          <a:blip r:embed="rId1"/>
          <a:stretch/>
        </p:blipFill>
        <p:spPr>
          <a:xfrm>
            <a:off x="533520" y="762120"/>
            <a:ext cx="825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Галочка\Desktop\Plastov_Letom.jpg"/>
          <p:cNvPicPr/>
          <p:nvPr/>
        </p:nvPicPr>
        <p:blipFill>
          <a:blip r:embed="rId1"/>
          <a:stretch/>
        </p:blipFill>
        <p:spPr>
          <a:xfrm>
            <a:off x="838080" y="838080"/>
            <a:ext cx="3657600" cy="5275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Галочка\Desktop\b051fab8f6e3.jpg"/>
          <p:cNvPicPr/>
          <p:nvPr/>
        </p:nvPicPr>
        <p:blipFill>
          <a:blip r:embed="rId2"/>
          <a:stretch/>
        </p:blipFill>
        <p:spPr>
          <a:xfrm>
            <a:off x="4952880" y="914400"/>
            <a:ext cx="354672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упреждение орфографических  и пунктуационных ошиб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ялись (дИво), н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ло (нахОдит), к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 (крИк), 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 (дАть), от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ет (отвЕт), 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т (гОвор, разговОр), с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ят (свИст), д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ь(докАзыва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али, в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навлив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лушаю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, приход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ерд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д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т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ыш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диалог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му это ты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каш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– спрашивают мальч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препинания при прямой ре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тчего же никто ничего не слышит? Как д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ь, что земля на самом деле живая и всё в ней свой голос имеет?» - думает Арк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?»-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3" dur="500" autoRev="1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8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99" dur="500" autoRev="1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2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8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над план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 виду пацан как паца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Иногда на Аркашу словно находило что-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ивет ве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говор с муравь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ечерние беседы с зак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«Как доказать, что земля на самом деле живая и всё на неё свой голос име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Галочка\Desktop\920284652.jpg"/>
          <p:cNvPicPr/>
          <p:nvPr/>
        </p:nvPicPr>
        <p:blipFill>
          <a:blip r:embed="rId1"/>
          <a:stretch/>
        </p:blipFill>
        <p:spPr>
          <a:xfrm>
            <a:off x="4724280" y="2514600"/>
            <a:ext cx="38991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cc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Роменская</cp:lastModifiedBy>
  <dcterms:modified xsi:type="dcterms:W3CDTF">2023-06-23T09:28:0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