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1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32925-E4AC-44E1-A353-36D38142A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F18A5-3AED-4DA4-B796-18443D1A9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E001A-BBF0-4B21-8673-39EAC4D60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5A141-1E2C-47A8-A0A4-D96A18BCC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F4CE4-249E-4E70-A5D3-D92908D6B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02FA1-D6A0-473D-8229-C5FF2054F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225F7-FB0C-4B91-8753-FAA1135E1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22ED2-F5B3-4F2D-8187-038D88821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02854-2005-42D2-95C0-763F70F95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FAB1D-88FA-4304-BE75-16A3DB646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02033-805C-432E-A643-F8DF1970E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5D6D2-83E2-403C-ADBF-3ECA19B2B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C50B4-C462-45CE-8AE4-B1C3049F9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48318-4378-4343-A0A2-EC0323419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65967-853A-4395-843F-37B950E41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1A658-B50F-4B1A-B744-69D82BE87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C3BF0-F5D0-45D7-BBBD-875AFE02E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6393C-6F7A-4A65-8C0F-F14A8F559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F1FE2-8491-4658-9C6E-88FFBACC5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6291F-1362-4AE2-8F1A-6BB81E41B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636F3-7EB9-41B3-B4E4-8067F753C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4BF84-936C-4E72-9BDF-E77844EFE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C8F29-0197-4BB5-9EE0-E52518C3E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21F48-98A3-4ECD-9202-221030518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54DE2-3BAA-4C11-8DF7-7C230483387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7375e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428840"/>
            <a:ext cx="8229600" cy="46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17375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17375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6C5F8-EFE4-47F7-936B-3B84440A80C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image" Target="../media/image19.png"/><Relationship Id="rId9" Type="http://schemas.openxmlformats.org/officeDocument/2006/relationships/image" Target="../media/image20.png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image" Target="../media/image20.png"/><Relationship Id="rId9" Type="http://schemas.openxmlformats.org/officeDocument/2006/relationships/image" Target="../media/image21.png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image" Target="../media/image21.png"/><Relationship Id="rId9" Type="http://schemas.openxmlformats.org/officeDocument/2006/relationships/image" Target="../media/image15.png"/><Relationship Id="rId1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360" y="278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0000"/>
                </a:solidFill>
                <a:latin typeface="Arial"/>
              </a:rPr>
              <a:t>Испытания:</a:t>
            </a:r>
            <a:br>
              <a:rPr sz="4800"/>
            </a:br>
            <a:br>
              <a:rPr sz="4800"/>
            </a:br>
            <a:r>
              <a:rPr b="1" i="1" lang="ru-RU" sz="5400" spc="-1" strike="noStrike">
                <a:solidFill>
                  <a:srgbClr val="0070c0"/>
                </a:solidFill>
                <a:latin typeface="Arial"/>
              </a:rPr>
              <a:t> «Внимательность и сообразительность»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Заголовок 3" descr=""/>
          <p:cNvPicPr/>
          <p:nvPr/>
        </p:nvPicPr>
        <p:blipFill>
          <a:blip r:embed="rId1"/>
          <a:stretch/>
        </p:blipFill>
        <p:spPr>
          <a:xfrm>
            <a:off x="396720" y="1414440"/>
            <a:ext cx="5851800" cy="865080"/>
          </a:xfrm>
          <a:prstGeom prst="rect">
            <a:avLst/>
          </a:prstGeom>
          <a:ln w="0">
            <a:noFill/>
          </a:ln>
        </p:spPr>
      </p:pic>
      <p:pic>
        <p:nvPicPr>
          <p:cNvPr id="165" name="Заголовок 3" descr=""/>
          <p:cNvPicPr/>
          <p:nvPr/>
        </p:nvPicPr>
        <p:blipFill>
          <a:blip r:embed="rId2"/>
          <a:stretch/>
        </p:blipFill>
        <p:spPr>
          <a:xfrm>
            <a:off x="1884240" y="158760"/>
            <a:ext cx="5851800" cy="865080"/>
          </a:xfrm>
          <a:prstGeom prst="rect">
            <a:avLst/>
          </a:prstGeom>
          <a:ln w="0">
            <a:noFill/>
          </a:ln>
        </p:spPr>
      </p:pic>
      <p:pic>
        <p:nvPicPr>
          <p:cNvPr id="166" name="Заголовок 3" descr=""/>
          <p:cNvPicPr/>
          <p:nvPr/>
        </p:nvPicPr>
        <p:blipFill>
          <a:blip r:embed="rId3"/>
          <a:stretch/>
        </p:blipFill>
        <p:spPr>
          <a:xfrm>
            <a:off x="2700360" y="1414440"/>
            <a:ext cx="5853240" cy="86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" dur="50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" dur="50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" dur="50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Заголовок 3" descr=""/>
          <p:cNvPicPr/>
          <p:nvPr/>
        </p:nvPicPr>
        <p:blipFill>
          <a:blip r:embed="rId1"/>
          <a:stretch/>
        </p:blipFill>
        <p:spPr>
          <a:xfrm>
            <a:off x="1620720" y="2779560"/>
            <a:ext cx="5853240" cy="871560"/>
          </a:xfrm>
          <a:prstGeom prst="rect">
            <a:avLst/>
          </a:prstGeom>
          <a:ln w="0">
            <a:noFill/>
          </a:ln>
        </p:spPr>
      </p:pic>
      <p:sp>
        <p:nvSpPr>
          <p:cNvPr id="168" name="Прямая соединительная линия 6"/>
          <p:cNvSpPr/>
          <p:nvPr/>
        </p:nvSpPr>
        <p:spPr>
          <a:xfrm>
            <a:off x="3059280" y="2852640"/>
            <a:ext cx="0" cy="129708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ая соединительная линия 9"/>
          <p:cNvSpPr/>
          <p:nvPr/>
        </p:nvSpPr>
        <p:spPr>
          <a:xfrm>
            <a:off x="3059280" y="3429000"/>
            <a:ext cx="1081080" cy="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Заголовок 3" descr=""/>
          <p:cNvPicPr/>
          <p:nvPr/>
        </p:nvPicPr>
        <p:blipFill>
          <a:blip r:embed="rId2"/>
          <a:stretch/>
        </p:blipFill>
        <p:spPr>
          <a:xfrm>
            <a:off x="1884240" y="158760"/>
            <a:ext cx="5851800" cy="865080"/>
          </a:xfrm>
          <a:prstGeom prst="rect">
            <a:avLst/>
          </a:prstGeom>
          <a:ln w="0">
            <a:noFill/>
          </a:ln>
        </p:spPr>
      </p:pic>
      <p:pic>
        <p:nvPicPr>
          <p:cNvPr id="171" name="Заголовок 3" descr=""/>
          <p:cNvPicPr/>
          <p:nvPr/>
        </p:nvPicPr>
        <p:blipFill>
          <a:blip r:embed="rId3"/>
          <a:stretch/>
        </p:blipFill>
        <p:spPr>
          <a:xfrm>
            <a:off x="1328760" y="1268280"/>
            <a:ext cx="7205760" cy="10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Заголовок 2" descr=""/>
          <p:cNvPicPr/>
          <p:nvPr/>
        </p:nvPicPr>
        <p:blipFill>
          <a:blip r:embed="rId1"/>
          <a:stretch/>
        </p:blipFill>
        <p:spPr>
          <a:xfrm>
            <a:off x="914400" y="0"/>
            <a:ext cx="8229600" cy="549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3" name=""/>
          <p:cNvGraphicFramePr/>
          <p:nvPr/>
        </p:nvGraphicFramePr>
        <p:xfrm>
          <a:off x="324000" y="692280"/>
          <a:ext cx="8604000" cy="5860800"/>
        </p:xfrm>
        <a:graphic>
          <a:graphicData uri="http://schemas.openxmlformats.org/drawingml/2006/table">
            <a:tbl>
              <a:tblPr/>
              <a:tblGrid>
                <a:gridCol w="8604000"/>
              </a:tblGrid>
              <a:tr h="6035400">
                <a:tc>
                  <a:txBody>
                    <a:bodyPr lIns="114120" rIns="114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Делю сотни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Умножением выполняю проверку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Вычитанием нахожу  остаток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Делю десятки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 Умножением выполняю проверку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Вычитанием нахожу остаток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 Делю единицы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 Умножением выполняю проверку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.Вычитанием нахожу остаток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 Читаю ответ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4120" marR="114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ейс-мето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24000" y="1599840"/>
            <a:ext cx="8362800" cy="168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ямоугольник состоит из двух одинаковых квадратов, сторона которого – 2см. Найдите периметр прямоугольни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Прямоугольник 4"/>
          <p:cNvSpPr/>
          <p:nvPr/>
        </p:nvSpPr>
        <p:spPr>
          <a:xfrm>
            <a:off x="2700360" y="3645000"/>
            <a:ext cx="1800360" cy="16556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Прямоугольник 5"/>
          <p:cNvSpPr/>
          <p:nvPr/>
        </p:nvSpPr>
        <p:spPr>
          <a:xfrm>
            <a:off x="4500720" y="3645000"/>
            <a:ext cx="1800000" cy="16556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Box 6"/>
          <p:cNvSpPr/>
          <p:nvPr/>
        </p:nvSpPr>
        <p:spPr>
          <a:xfrm>
            <a:off x="1839960" y="4292640"/>
            <a:ext cx="71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с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равните решения ребят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763280" y="1413000"/>
            <a:ext cx="6707160" cy="15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то из них прав? Почем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2" descr="Клипарт ученик (67 фото) » Рисунки для срисовки и не только"/>
          <p:cNvPicPr/>
          <p:nvPr/>
        </p:nvPicPr>
        <p:blipFill>
          <a:blip r:embed="rId1"/>
          <a:stretch/>
        </p:blipFill>
        <p:spPr>
          <a:xfrm>
            <a:off x="7093080" y="3141720"/>
            <a:ext cx="1409400" cy="187164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3" descr="C:\Users\Николай\Desktop\293-2935555_ученик-3-самооценка-на-уроке-в-начальной-школе.png"/>
          <p:cNvPicPr/>
          <p:nvPr/>
        </p:nvPicPr>
        <p:blipFill>
          <a:blip r:embed="rId2"/>
          <a:srcRect l="20673" t="2968" r="26926" b="0"/>
          <a:stretch/>
        </p:blipFill>
        <p:spPr>
          <a:xfrm>
            <a:off x="684360" y="4694400"/>
            <a:ext cx="1258920" cy="216360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5" descr="C:\Users\Николай\Desktop\219-2191680_клипарт-отрисовки-детей-на-прозрачном-фоне-школьница-мультяшная.png"/>
          <p:cNvPicPr/>
          <p:nvPr/>
        </p:nvPicPr>
        <p:blipFill>
          <a:blip r:embed="rId3"/>
          <a:srcRect l="25742" t="2803" r="27949" b="4547"/>
          <a:stretch/>
        </p:blipFill>
        <p:spPr>
          <a:xfrm>
            <a:off x="468360" y="1773360"/>
            <a:ext cx="1511280" cy="2771640"/>
          </a:xfrm>
          <a:prstGeom prst="rect">
            <a:avLst/>
          </a:prstGeom>
          <a:ln w="0">
            <a:noFill/>
          </a:ln>
        </p:spPr>
      </p:pic>
      <p:sp>
        <p:nvSpPr>
          <p:cNvPr id="184" name="Прямоугольная выноска 8"/>
          <p:cNvSpPr/>
          <p:nvPr/>
        </p:nvSpPr>
        <p:spPr>
          <a:xfrm>
            <a:off x="2843280" y="2349360"/>
            <a:ext cx="3457440" cy="719280"/>
          </a:xfrm>
          <a:prstGeom prst="wedgeRectCallout">
            <a:avLst>
              <a:gd name="adj1" fmla="val -75925"/>
              <a:gd name="adj2" fmla="val -12078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(2*4)*2=16(см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Прямоугольная выноска 9"/>
          <p:cNvSpPr/>
          <p:nvPr/>
        </p:nvSpPr>
        <p:spPr>
          <a:xfrm>
            <a:off x="3203640" y="5516640"/>
            <a:ext cx="3456000" cy="720720"/>
          </a:xfrm>
          <a:prstGeom prst="wedgeRectCallout">
            <a:avLst>
              <a:gd name="adj1" fmla="val -88523"/>
              <a:gd name="adj2" fmla="val -68518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(2+4)*2=12(см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Прямоугольная выноска 10"/>
          <p:cNvSpPr/>
          <p:nvPr/>
        </p:nvSpPr>
        <p:spPr>
          <a:xfrm>
            <a:off x="3132000" y="3933720"/>
            <a:ext cx="3456000" cy="719280"/>
          </a:xfrm>
          <a:prstGeom prst="wedgeRectCallout">
            <a:avLst>
              <a:gd name="adj1" fmla="val 68106"/>
              <a:gd name="adj2" fmla="val -94722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*2+4*2=12(см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3" descr=""/>
          <p:cNvPicPr/>
          <p:nvPr/>
        </p:nvPicPr>
        <p:blipFill>
          <a:blip r:embed="rId1"/>
          <a:stretch/>
        </p:blipFill>
        <p:spPr>
          <a:xfrm>
            <a:off x="358920" y="2060640"/>
            <a:ext cx="8327880" cy="23050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" descr=""/>
          <p:cNvPicPr/>
          <p:nvPr/>
        </p:nvPicPr>
        <p:blipFill>
          <a:blip r:embed="rId2"/>
          <a:stretch/>
        </p:blipFill>
        <p:spPr>
          <a:xfrm>
            <a:off x="358920" y="0"/>
            <a:ext cx="8327880" cy="19321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"/>
          <p:cNvPicPr/>
          <p:nvPr/>
        </p:nvPicPr>
        <p:blipFill>
          <a:blip r:embed="rId3"/>
          <a:stretch/>
        </p:blipFill>
        <p:spPr>
          <a:xfrm>
            <a:off x="39600" y="5310360"/>
            <a:ext cx="2968560" cy="10080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"/>
          <p:cNvPicPr/>
          <p:nvPr/>
        </p:nvPicPr>
        <p:blipFill>
          <a:blip r:embed="rId4"/>
          <a:stretch/>
        </p:blipFill>
        <p:spPr>
          <a:xfrm>
            <a:off x="2886120" y="5300640"/>
            <a:ext cx="2933640" cy="8636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" descr=""/>
          <p:cNvPicPr/>
          <p:nvPr/>
        </p:nvPicPr>
        <p:blipFill>
          <a:blip r:embed="rId5"/>
          <a:stretch/>
        </p:blipFill>
        <p:spPr>
          <a:xfrm>
            <a:off x="6076800" y="5362560"/>
            <a:ext cx="2953080" cy="93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Подставь подходящую единицу масс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68360" y="4581360"/>
            <a:ext cx="8229600" cy="16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усок белого хлеба весит 50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"/>
          <p:cNvPicPr/>
          <p:nvPr/>
        </p:nvPicPr>
        <p:blipFill>
          <a:blip r:embed="rId1"/>
          <a:stretch/>
        </p:blipFill>
        <p:spPr>
          <a:xfrm>
            <a:off x="2340000" y="1628640"/>
            <a:ext cx="4537080" cy="2376720"/>
          </a:xfrm>
          <a:prstGeom prst="rect">
            <a:avLst/>
          </a:prstGeom>
          <a:ln w="0">
            <a:noFill/>
          </a:ln>
        </p:spPr>
      </p:pic>
      <p:sp>
        <p:nvSpPr>
          <p:cNvPr id="92" name="Объект 2"/>
          <p:cNvSpPr/>
          <p:nvPr/>
        </p:nvSpPr>
        <p:spPr>
          <a:xfrm>
            <a:off x="1474920" y="5521320"/>
            <a:ext cx="1728720" cy="50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грамм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Объект 2"/>
          <p:cNvSpPr/>
          <p:nvPr/>
        </p:nvSpPr>
        <p:spPr>
          <a:xfrm>
            <a:off x="4479840" y="5521320"/>
            <a:ext cx="2592360" cy="4316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килограмм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Подставь подходящую единицу масс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611280" y="4376520"/>
            <a:ext cx="8229600" cy="161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 10 лет Маша весит 40 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Объект 2"/>
          <p:cNvSpPr/>
          <p:nvPr/>
        </p:nvSpPr>
        <p:spPr>
          <a:xfrm>
            <a:off x="1133640" y="5676840"/>
            <a:ext cx="2304720" cy="8096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ff0000"/>
                </a:solidFill>
                <a:latin typeface="Arial"/>
              </a:rPr>
              <a:t>граммов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Объект 2"/>
          <p:cNvSpPr/>
          <p:nvPr/>
        </p:nvSpPr>
        <p:spPr>
          <a:xfrm>
            <a:off x="5076720" y="5649840"/>
            <a:ext cx="2952720" cy="80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ff0000"/>
                </a:solidFill>
                <a:latin typeface="Arial"/>
              </a:rPr>
              <a:t>килограммов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rcRect l="0" t="0" r="3353" b="3607"/>
          <a:stretch/>
        </p:blipFill>
        <p:spPr>
          <a:xfrm>
            <a:off x="3635280" y="1484280"/>
            <a:ext cx="214488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Реши задачу, построй диаграмму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2" descr="C:\Users\Диксон_Школа\Desktop\1630686371_9-papik-pro-p-uchebnie-detskie-risunki-9.png"/>
          <p:cNvPicPr/>
          <p:nvPr/>
        </p:nvPicPr>
        <p:blipFill>
          <a:blip r:embed="rId1"/>
          <a:stretch/>
        </p:blipFill>
        <p:spPr>
          <a:xfrm>
            <a:off x="1868400" y="2568600"/>
            <a:ext cx="5106960" cy="4176720"/>
          </a:xfrm>
          <a:prstGeom prst="rect">
            <a:avLst/>
          </a:prstGeom>
          <a:ln w="0">
            <a:noFill/>
          </a:ln>
        </p:spPr>
      </p:pic>
      <p:sp>
        <p:nvSpPr>
          <p:cNvPr id="101" name="TextBox 3"/>
          <p:cNvSpPr/>
          <p:nvPr/>
        </p:nvSpPr>
        <p:spPr>
          <a:xfrm>
            <a:off x="539640" y="1773360"/>
            <a:ext cx="8064720" cy="1191240"/>
          </a:xfrm>
          <a:prstGeom prst="rect">
            <a:avLst/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дним из важных компонентов для поддержания нашего организма в тонусе является употребление необходимого количества витаминов и минерал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8374320" cy="1008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ыбери пример или подходящий ответ, чтобы герой смог спасти котён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" descr="C:\Users\Николай\Desktop\1639301390_6-papik-pro-p-reka-klipart-6.png"/>
          <p:cNvPicPr/>
          <p:nvPr/>
        </p:nvPicPr>
        <p:blipFill>
          <a:blip r:embed="rId2"/>
          <a:stretch/>
        </p:blipFill>
        <p:spPr>
          <a:xfrm>
            <a:off x="0" y="1268280"/>
            <a:ext cx="9153360" cy="55897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6" descr="C:\Users\Диксон_Школа\Desktop\9-6.png"/>
          <p:cNvPicPr/>
          <p:nvPr/>
        </p:nvPicPr>
        <p:blipFill>
          <a:blip r:embed="rId3"/>
          <a:stretch/>
        </p:blipFill>
        <p:spPr>
          <a:xfrm>
            <a:off x="0" y="2205000"/>
            <a:ext cx="2085840" cy="27878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3" descr="C:\Users\Николай\Desktop\free-png.ru-375.png"/>
          <p:cNvPicPr/>
          <p:nvPr/>
        </p:nvPicPr>
        <p:blipFill>
          <a:blip r:embed="rId4"/>
          <a:stretch/>
        </p:blipFill>
        <p:spPr>
          <a:xfrm>
            <a:off x="6300720" y="1484280"/>
            <a:ext cx="763560" cy="7653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9" descr="C:\Users\Диксон_Школа\Desktop\free-png.ru-272.png"/>
          <p:cNvPicPr/>
          <p:nvPr/>
        </p:nvPicPr>
        <p:blipFill>
          <a:blip r:embed="rId5"/>
          <a:stretch/>
        </p:blipFill>
        <p:spPr>
          <a:xfrm>
            <a:off x="5219640" y="1341360"/>
            <a:ext cx="2003400" cy="2379600"/>
          </a:xfrm>
          <a:prstGeom prst="rect">
            <a:avLst/>
          </a:prstGeom>
          <a:ln w="0">
            <a:noFill/>
          </a:ln>
        </p:spPr>
      </p:pic>
      <p:grpSp>
        <p:nvGrpSpPr>
          <p:cNvPr id="108" name="Группа 22"/>
          <p:cNvGrpSpPr/>
          <p:nvPr/>
        </p:nvGrpSpPr>
        <p:grpSpPr>
          <a:xfrm>
            <a:off x="1261800" y="4204440"/>
            <a:ext cx="1035720" cy="721080"/>
            <a:chOff x="1261800" y="4204440"/>
            <a:chExt cx="1035720" cy="721080"/>
          </a:xfrm>
        </p:grpSpPr>
        <p:pic>
          <p:nvPicPr>
            <p:cNvPr id="109" name="Picture 3" descr="C:\Users\Диксон_Школа\Desktop\free-png.ru-228.png"/>
            <p:cNvPicPr/>
            <p:nvPr/>
          </p:nvPicPr>
          <p:blipFill>
            <a:blip r:embed="rId6"/>
            <a:stretch/>
          </p:blipFill>
          <p:spPr>
            <a:xfrm rot="21427200">
              <a:off x="1278000" y="4228920"/>
              <a:ext cx="1003320" cy="67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TextBox 12"/>
            <p:cNvSpPr/>
            <p:nvPr/>
          </p:nvSpPr>
          <p:spPr>
            <a:xfrm>
              <a:off x="1475280" y="4364640"/>
              <a:ext cx="72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4х2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Группа 21"/>
          <p:cNvGrpSpPr/>
          <p:nvPr/>
        </p:nvGrpSpPr>
        <p:grpSpPr>
          <a:xfrm>
            <a:off x="2896560" y="4766760"/>
            <a:ext cx="925560" cy="653760"/>
            <a:chOff x="2896560" y="4766760"/>
            <a:chExt cx="925560" cy="653760"/>
          </a:xfrm>
        </p:grpSpPr>
        <p:pic>
          <p:nvPicPr>
            <p:cNvPr id="112" name="Picture 3" descr="C:\Users\Диксон_Школа\Desktop\free-png.ru-228.png"/>
            <p:cNvPicPr/>
            <p:nvPr/>
          </p:nvPicPr>
          <p:blipFill>
            <a:blip r:embed="rId7"/>
            <a:stretch/>
          </p:blipFill>
          <p:spPr>
            <a:xfrm rot="21355200">
              <a:off x="2916360" y="4797360"/>
              <a:ext cx="885600" cy="59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TextBox 14"/>
            <p:cNvSpPr/>
            <p:nvPr/>
          </p:nvSpPr>
          <p:spPr>
            <a:xfrm>
              <a:off x="2977560" y="4882680"/>
              <a:ext cx="71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30х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Группа 19"/>
          <p:cNvGrpSpPr/>
          <p:nvPr/>
        </p:nvGrpSpPr>
        <p:grpSpPr>
          <a:xfrm>
            <a:off x="5580720" y="4436640"/>
            <a:ext cx="936000" cy="655200"/>
            <a:chOff x="5580720" y="4436640"/>
            <a:chExt cx="936000" cy="655200"/>
          </a:xfrm>
        </p:grpSpPr>
        <p:pic>
          <p:nvPicPr>
            <p:cNvPr id="115" name="Picture 3" descr="C:\Users\Диксон_Школа\Desktop\free-png.ru-228.png"/>
            <p:cNvPicPr/>
            <p:nvPr/>
          </p:nvPicPr>
          <p:blipFill>
            <a:blip r:embed="rId8"/>
            <a:stretch/>
          </p:blipFill>
          <p:spPr>
            <a:xfrm rot="21355200">
              <a:off x="5600520" y="4467240"/>
              <a:ext cx="885960" cy="59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TextBox 16"/>
            <p:cNvSpPr/>
            <p:nvPr/>
          </p:nvSpPr>
          <p:spPr>
            <a:xfrm>
              <a:off x="5652720" y="4580640"/>
              <a:ext cx="86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90:3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Группа 20"/>
          <p:cNvGrpSpPr/>
          <p:nvPr/>
        </p:nvGrpSpPr>
        <p:grpSpPr>
          <a:xfrm>
            <a:off x="3923640" y="4077720"/>
            <a:ext cx="927360" cy="653760"/>
            <a:chOff x="3923640" y="4077720"/>
            <a:chExt cx="927360" cy="653760"/>
          </a:xfrm>
        </p:grpSpPr>
        <p:pic>
          <p:nvPicPr>
            <p:cNvPr id="118" name="Picture 3" descr="C:\Users\Диксон_Школа\Desktop\free-png.ru-228.png"/>
            <p:cNvPicPr/>
            <p:nvPr/>
          </p:nvPicPr>
          <p:blipFill>
            <a:blip r:embed="rId9"/>
            <a:stretch/>
          </p:blipFill>
          <p:spPr>
            <a:xfrm rot="21355200">
              <a:off x="3943440" y="4108320"/>
              <a:ext cx="887400" cy="59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TextBox 18"/>
            <p:cNvSpPr/>
            <p:nvPr/>
          </p:nvSpPr>
          <p:spPr>
            <a:xfrm>
              <a:off x="3995280" y="4221360"/>
              <a:ext cx="813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140: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Овал 23"/>
          <p:cNvSpPr/>
          <p:nvPr/>
        </p:nvSpPr>
        <p:spPr>
          <a:xfrm>
            <a:off x="3095640" y="4711680"/>
            <a:ext cx="720720" cy="72072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=6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Овал 24"/>
          <p:cNvSpPr/>
          <p:nvPr/>
        </p:nvSpPr>
        <p:spPr>
          <a:xfrm>
            <a:off x="4167360" y="4302000"/>
            <a:ext cx="720720" cy="71928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=7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Овал 25"/>
          <p:cNvSpPr/>
          <p:nvPr/>
        </p:nvSpPr>
        <p:spPr>
          <a:xfrm>
            <a:off x="2050920" y="4230720"/>
            <a:ext cx="720720" cy="71928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=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Овал 26"/>
          <p:cNvSpPr/>
          <p:nvPr/>
        </p:nvSpPr>
        <p:spPr>
          <a:xfrm>
            <a:off x="6265800" y="4427640"/>
            <a:ext cx="720720" cy="71748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=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8374320" cy="1008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ыбери пример или подходящий ответ, чтобы герой смог спасти котён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2" descr="C:\Users\Николай\Desktop\1639301390_6-papik-pro-p-reka-klipart-6.png"/>
          <p:cNvPicPr/>
          <p:nvPr/>
        </p:nvPicPr>
        <p:blipFill>
          <a:blip r:embed="rId2"/>
          <a:stretch/>
        </p:blipFill>
        <p:spPr>
          <a:xfrm>
            <a:off x="-44280" y="1284120"/>
            <a:ext cx="9153360" cy="55897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3" descr="C:\Users\Николай\Desktop\free-png.ru-375.png"/>
          <p:cNvPicPr/>
          <p:nvPr/>
        </p:nvPicPr>
        <p:blipFill>
          <a:blip r:embed="rId3"/>
          <a:stretch/>
        </p:blipFill>
        <p:spPr>
          <a:xfrm>
            <a:off x="6300720" y="1484280"/>
            <a:ext cx="763560" cy="7653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9" descr="C:\Users\Диксон_Школа\Desktop\free-png.ru-272.png"/>
          <p:cNvPicPr/>
          <p:nvPr/>
        </p:nvPicPr>
        <p:blipFill>
          <a:blip r:embed="rId4"/>
          <a:stretch/>
        </p:blipFill>
        <p:spPr>
          <a:xfrm>
            <a:off x="5219640" y="1341360"/>
            <a:ext cx="2003400" cy="2379600"/>
          </a:xfrm>
          <a:prstGeom prst="rect">
            <a:avLst/>
          </a:prstGeom>
          <a:ln w="0">
            <a:noFill/>
          </a:ln>
        </p:spPr>
      </p:pic>
      <p:grpSp>
        <p:nvGrpSpPr>
          <p:cNvPr id="129" name="Группа 22"/>
          <p:cNvGrpSpPr/>
          <p:nvPr/>
        </p:nvGrpSpPr>
        <p:grpSpPr>
          <a:xfrm>
            <a:off x="1261800" y="4204440"/>
            <a:ext cx="1035720" cy="721080"/>
            <a:chOff x="1261800" y="4204440"/>
            <a:chExt cx="1035720" cy="721080"/>
          </a:xfrm>
        </p:grpSpPr>
        <p:pic>
          <p:nvPicPr>
            <p:cNvPr id="130" name="Picture 3" descr="C:\Users\Диксон_Школа\Desktop\free-png.ru-228.png"/>
            <p:cNvPicPr/>
            <p:nvPr/>
          </p:nvPicPr>
          <p:blipFill>
            <a:blip r:embed="rId5"/>
            <a:stretch/>
          </p:blipFill>
          <p:spPr>
            <a:xfrm rot="21427200">
              <a:off x="1278000" y="4228920"/>
              <a:ext cx="1003320" cy="67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TextBox 12"/>
            <p:cNvSpPr/>
            <p:nvPr/>
          </p:nvSpPr>
          <p:spPr>
            <a:xfrm>
              <a:off x="1475280" y="4364640"/>
              <a:ext cx="72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Группа 21"/>
          <p:cNvGrpSpPr/>
          <p:nvPr/>
        </p:nvGrpSpPr>
        <p:grpSpPr>
          <a:xfrm>
            <a:off x="2896560" y="4766760"/>
            <a:ext cx="930960" cy="653760"/>
            <a:chOff x="2896560" y="4766760"/>
            <a:chExt cx="930960" cy="653760"/>
          </a:xfrm>
        </p:grpSpPr>
        <p:pic>
          <p:nvPicPr>
            <p:cNvPr id="133" name="Picture 3" descr="C:\Users\Диксон_Школа\Desktop\free-png.ru-228.png"/>
            <p:cNvPicPr/>
            <p:nvPr/>
          </p:nvPicPr>
          <p:blipFill>
            <a:blip r:embed="rId6"/>
            <a:stretch/>
          </p:blipFill>
          <p:spPr>
            <a:xfrm rot="21355200">
              <a:off x="2916360" y="4797360"/>
              <a:ext cx="886320" cy="59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TextBox 14"/>
            <p:cNvSpPr/>
            <p:nvPr/>
          </p:nvSpPr>
          <p:spPr>
            <a:xfrm>
              <a:off x="3107160" y="4898160"/>
              <a:ext cx="72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" name="Группа 19"/>
          <p:cNvGrpSpPr/>
          <p:nvPr/>
        </p:nvGrpSpPr>
        <p:grpSpPr>
          <a:xfrm>
            <a:off x="5580720" y="4436640"/>
            <a:ext cx="936000" cy="655200"/>
            <a:chOff x="5580720" y="4436640"/>
            <a:chExt cx="936000" cy="655200"/>
          </a:xfrm>
        </p:grpSpPr>
        <p:pic>
          <p:nvPicPr>
            <p:cNvPr id="136" name="Picture 3" descr="C:\Users\Диксон_Школа\Desktop\free-png.ru-228.png"/>
            <p:cNvPicPr/>
            <p:nvPr/>
          </p:nvPicPr>
          <p:blipFill>
            <a:blip r:embed="rId7"/>
            <a:stretch/>
          </p:blipFill>
          <p:spPr>
            <a:xfrm rot="21355200">
              <a:off x="5600520" y="4467240"/>
              <a:ext cx="885960" cy="59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TextBox 16"/>
            <p:cNvSpPr/>
            <p:nvPr/>
          </p:nvSpPr>
          <p:spPr>
            <a:xfrm>
              <a:off x="5868360" y="4580640"/>
              <a:ext cx="64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" name="Группа 20"/>
          <p:cNvGrpSpPr/>
          <p:nvPr/>
        </p:nvGrpSpPr>
        <p:grpSpPr>
          <a:xfrm>
            <a:off x="3923640" y="4077720"/>
            <a:ext cx="927360" cy="653760"/>
            <a:chOff x="3923640" y="4077720"/>
            <a:chExt cx="927360" cy="653760"/>
          </a:xfrm>
        </p:grpSpPr>
        <p:pic>
          <p:nvPicPr>
            <p:cNvPr id="139" name="Picture 3" descr="C:\Users\Диксон_Школа\Desktop\free-png.ru-228.png"/>
            <p:cNvPicPr/>
            <p:nvPr/>
          </p:nvPicPr>
          <p:blipFill>
            <a:blip r:embed="rId8"/>
            <a:stretch/>
          </p:blipFill>
          <p:spPr>
            <a:xfrm rot="21355200">
              <a:off x="3943440" y="4108320"/>
              <a:ext cx="887400" cy="59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TextBox 18"/>
            <p:cNvSpPr/>
            <p:nvPr/>
          </p:nvSpPr>
          <p:spPr>
            <a:xfrm>
              <a:off x="4140000" y="4221360"/>
              <a:ext cx="66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7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1" name="Picture 12" descr="C:\Users\Диксон_Школа\Desktop\3D-Cartoon-Boy-PNG-Isolated-HD.png"/>
          <p:cNvPicPr/>
          <p:nvPr/>
        </p:nvPicPr>
        <p:blipFill>
          <a:blip r:embed="rId9"/>
          <a:stretch/>
        </p:blipFill>
        <p:spPr>
          <a:xfrm>
            <a:off x="971640" y="2565360"/>
            <a:ext cx="1152360" cy="220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2.60116E-006 L 0.17327 0.07283 E">
                                      <p:cBhvr>
                                        <p:cTn id="6" dur="500" fill="hold"/>
                                        <p:tgtEl>
                                          <p:spTgt spid="1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7327 0.07285 L 0.2915 -0.01041 E">
                                      <p:cBhvr>
                                        <p:cTn id="9" dur="500" fill="hold"/>
                                        <p:tgtEl>
                                          <p:spTgt spid="1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9149 -0.01041 L 0.49618 0.04901 E">
                                      <p:cBhvr>
                                        <p:cTn id="12" dur="1000" fill="hold"/>
                                        <p:tgtEl>
                                          <p:spTgt spid="1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9618 0.04901 L 0.61424 0.00693 E">
                                      <p:cBhvr>
                                        <p:cTn id="15" dur="1000" fill="hold"/>
                                        <p:tgtEl>
                                          <p:spTgt spid="1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8374320" cy="1008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пешите творить добрые поступк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2" descr="C:\Users\Николай\Desktop\1639301390_6-papik-pro-p-reka-klipart-6.png"/>
          <p:cNvPicPr/>
          <p:nvPr/>
        </p:nvPicPr>
        <p:blipFill>
          <a:blip r:embed="rId2"/>
          <a:stretch/>
        </p:blipFill>
        <p:spPr>
          <a:xfrm>
            <a:off x="-44280" y="1284120"/>
            <a:ext cx="9153360" cy="55897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9" descr="C:\Users\Диксон_Школа\Desktop\free-png.ru-272.png"/>
          <p:cNvPicPr/>
          <p:nvPr/>
        </p:nvPicPr>
        <p:blipFill>
          <a:blip r:embed="rId3"/>
          <a:stretch/>
        </p:blipFill>
        <p:spPr>
          <a:xfrm>
            <a:off x="5003640" y="1052640"/>
            <a:ext cx="2003760" cy="2379600"/>
          </a:xfrm>
          <a:prstGeom prst="rect">
            <a:avLst/>
          </a:prstGeom>
          <a:ln w="0">
            <a:noFill/>
          </a:ln>
        </p:spPr>
      </p:pic>
      <p:grpSp>
        <p:nvGrpSpPr>
          <p:cNvPr id="146" name="Группа 22"/>
          <p:cNvGrpSpPr/>
          <p:nvPr/>
        </p:nvGrpSpPr>
        <p:grpSpPr>
          <a:xfrm>
            <a:off x="1261800" y="4204440"/>
            <a:ext cx="1035720" cy="721080"/>
            <a:chOff x="1261800" y="4204440"/>
            <a:chExt cx="1035720" cy="721080"/>
          </a:xfrm>
        </p:grpSpPr>
        <p:pic>
          <p:nvPicPr>
            <p:cNvPr id="147" name="Picture 3" descr="C:\Users\Диксон_Школа\Desktop\free-png.ru-228.png"/>
            <p:cNvPicPr/>
            <p:nvPr/>
          </p:nvPicPr>
          <p:blipFill>
            <a:blip r:embed="rId4"/>
            <a:stretch/>
          </p:blipFill>
          <p:spPr>
            <a:xfrm rot="21427200">
              <a:off x="1278000" y="4228920"/>
              <a:ext cx="1003320" cy="67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TextBox 12"/>
            <p:cNvSpPr/>
            <p:nvPr/>
          </p:nvSpPr>
          <p:spPr>
            <a:xfrm>
              <a:off x="1475280" y="4364640"/>
              <a:ext cx="72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Группа 21"/>
          <p:cNvGrpSpPr/>
          <p:nvPr/>
        </p:nvGrpSpPr>
        <p:grpSpPr>
          <a:xfrm>
            <a:off x="2896560" y="4766760"/>
            <a:ext cx="925560" cy="653760"/>
            <a:chOff x="2896560" y="4766760"/>
            <a:chExt cx="925560" cy="653760"/>
          </a:xfrm>
        </p:grpSpPr>
        <p:pic>
          <p:nvPicPr>
            <p:cNvPr id="150" name="Picture 3" descr="C:\Users\Диксон_Школа\Desktop\free-png.ru-228.png"/>
            <p:cNvPicPr/>
            <p:nvPr/>
          </p:nvPicPr>
          <p:blipFill>
            <a:blip r:embed="rId5"/>
            <a:stretch/>
          </p:blipFill>
          <p:spPr>
            <a:xfrm rot="21355200">
              <a:off x="2916360" y="4797360"/>
              <a:ext cx="885600" cy="59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TextBox 14"/>
            <p:cNvSpPr/>
            <p:nvPr/>
          </p:nvSpPr>
          <p:spPr>
            <a:xfrm>
              <a:off x="3059640" y="4869000"/>
              <a:ext cx="71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Группа 19"/>
          <p:cNvGrpSpPr/>
          <p:nvPr/>
        </p:nvGrpSpPr>
        <p:grpSpPr>
          <a:xfrm>
            <a:off x="5580720" y="4436640"/>
            <a:ext cx="936000" cy="655200"/>
            <a:chOff x="5580720" y="4436640"/>
            <a:chExt cx="936000" cy="655200"/>
          </a:xfrm>
        </p:grpSpPr>
        <p:pic>
          <p:nvPicPr>
            <p:cNvPr id="153" name="Picture 3" descr="C:\Users\Диксон_Школа\Desktop\free-png.ru-228.png"/>
            <p:cNvPicPr/>
            <p:nvPr/>
          </p:nvPicPr>
          <p:blipFill>
            <a:blip r:embed="rId6"/>
            <a:stretch/>
          </p:blipFill>
          <p:spPr>
            <a:xfrm rot="21355200">
              <a:off x="5600520" y="4467240"/>
              <a:ext cx="885960" cy="59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TextBox 16"/>
            <p:cNvSpPr/>
            <p:nvPr/>
          </p:nvSpPr>
          <p:spPr>
            <a:xfrm>
              <a:off x="5868360" y="4580640"/>
              <a:ext cx="64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Группа 20"/>
          <p:cNvGrpSpPr/>
          <p:nvPr/>
        </p:nvGrpSpPr>
        <p:grpSpPr>
          <a:xfrm>
            <a:off x="3923640" y="4077720"/>
            <a:ext cx="927360" cy="653760"/>
            <a:chOff x="3923640" y="4077720"/>
            <a:chExt cx="927360" cy="653760"/>
          </a:xfrm>
        </p:grpSpPr>
        <p:pic>
          <p:nvPicPr>
            <p:cNvPr id="156" name="Picture 3" descr="C:\Users\Диксон_Школа\Desktop\free-png.ru-228.png"/>
            <p:cNvPicPr/>
            <p:nvPr/>
          </p:nvPicPr>
          <p:blipFill>
            <a:blip r:embed="rId7"/>
            <a:stretch/>
          </p:blipFill>
          <p:spPr>
            <a:xfrm rot="21355200">
              <a:off x="3943440" y="4108320"/>
              <a:ext cx="887400" cy="59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TextBox 18"/>
            <p:cNvSpPr/>
            <p:nvPr/>
          </p:nvSpPr>
          <p:spPr>
            <a:xfrm>
              <a:off x="4140000" y="4221360"/>
              <a:ext cx="66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7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8" name="Picture 12" descr="C:\Users\Диксон_Школа\Desktop\3D-Cartoon-Boy-PNG-Isolated-HD.png"/>
          <p:cNvPicPr/>
          <p:nvPr/>
        </p:nvPicPr>
        <p:blipFill>
          <a:blip r:embed="rId8"/>
          <a:stretch/>
        </p:blipFill>
        <p:spPr>
          <a:xfrm>
            <a:off x="6372360" y="2205000"/>
            <a:ext cx="1152360" cy="22068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3" descr="C:\Users\Николай\Desktop\free-png.ru-375.png"/>
          <p:cNvPicPr/>
          <p:nvPr/>
        </p:nvPicPr>
        <p:blipFill>
          <a:blip r:embed="rId9"/>
          <a:stretch/>
        </p:blipFill>
        <p:spPr>
          <a:xfrm>
            <a:off x="6804000" y="2708280"/>
            <a:ext cx="763560" cy="76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7280" y="1196640"/>
            <a:ext cx="4465440" cy="92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- 648 рубле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2" descr="C:\Users\Николай\Desktop\1639318168_8-papik-pro-p-koshelek-klipart-8.png"/>
          <p:cNvPicPr/>
          <p:nvPr/>
        </p:nvPicPr>
        <p:blipFill>
          <a:blip r:embed="rId1"/>
          <a:stretch/>
        </p:blipFill>
        <p:spPr>
          <a:xfrm>
            <a:off x="755640" y="260280"/>
            <a:ext cx="2933640" cy="293364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3" descr="C:\Users\Николай\Desktop\free-png.ru-327.png"/>
          <p:cNvPicPr/>
          <p:nvPr/>
        </p:nvPicPr>
        <p:blipFill>
          <a:blip r:embed="rId2"/>
          <a:stretch/>
        </p:blipFill>
        <p:spPr>
          <a:xfrm>
            <a:off x="395280" y="3429000"/>
            <a:ext cx="4635360" cy="2997360"/>
          </a:xfrm>
          <a:prstGeom prst="rect">
            <a:avLst/>
          </a:prstGeom>
          <a:ln w="0">
            <a:noFill/>
          </a:ln>
        </p:spPr>
      </p:pic>
      <p:sp>
        <p:nvSpPr>
          <p:cNvPr id="163" name="Заголовок 1"/>
          <p:cNvSpPr/>
          <p:nvPr/>
        </p:nvSpPr>
        <p:spPr>
          <a:xfrm>
            <a:off x="4140360" y="3716280"/>
            <a:ext cx="4464000" cy="9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- 2 подар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3T03:00:43Z</dcterms:created>
  <dc:creator>User</dc:creator>
  <dc:description/>
  <dc:language>en-US</dc:language>
  <cp:lastModifiedBy>Диксон_Школа</cp:lastModifiedBy>
  <dcterms:modified xsi:type="dcterms:W3CDTF">2023-06-23T09:33:03Z</dcterms:modified>
  <cp:revision>367</cp:revision>
  <dc:subject/>
  <dc:title>Слайд 1</dc:title>
</cp:coreProperties>
</file>