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733-FF9B-4365-8036-8414A0CD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FF9-0159-4B1F-9054-E831B413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076-C9ED-4F69-A79F-6E984BA3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85D-49A0-4FE7-8109-0DB5855B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F50D-6048-4917-974E-E2D7E569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93C-C5BA-487E-9C98-9090F08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D20B-A231-4D41-A294-A68B9CC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F06D-B7E6-4DAA-AA40-07AD011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5D72-224B-4DF8-B986-1864A884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E59D-23B3-41C1-9846-B90E79A1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21C-EB32-447C-80D5-5454E28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CAB-F373-4AA5-B460-39F979E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86FA-D2D3-45E8-95C9-858DAA4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92CD-5B49-4914-A048-4DFC3066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8C41-836A-4D39-8066-EFA35B32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03A2-8FFA-4C77-8EB3-AE02DCF8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24E-6D84-4352-8217-DD1F57A2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0271-A3C8-4C9A-B46F-532EB19F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9BFB8-B609-418D-9101-18199AA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C3EF-DF06-4CE1-A20B-52DD46C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86BC-2247-49CF-9E9A-F053B32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A12D-011F-4450-ACE1-2435265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5B11-F12C-4C10-8E0A-1BE71D40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78DA-D59D-4F32-985A-AAC0FD9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6D75-8F4D-49C3-88BC-F08F380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B64B-6A5F-4FA8-8ABF-3012080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328B-070A-42A0-BE76-0CF7FDE6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8EB9-6B78-4577-AA0C-D21118E6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2D20-C476-4873-85F0-4D3ACF3F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8613-0203-413D-BA2D-63DE216B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57A-F194-4283-B2F7-4C9BE5A1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246-AF32-4F83-A1C8-E4D4CBFC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67D-CA14-407D-85AC-48CC4DA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137-686F-457A-A327-59CAF840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A3D-69F7-41AA-84C8-1ADDB4F8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EA0-A9BC-4ED6-AF03-5B02294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4B3-CA96-4756-A834-7FDEFDE41DE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00E-DF49-4B1D-A19F-3E74BF72646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8BE2-DDF0-4188-BD52-1E81F53E5C7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Коррекционно-логопедическая работа с детьми, имеющими в анамнезе диагноз алалия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23920" y="434340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Сайфуллина Рушания Сягит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учитель – логопе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563c1"/>
                </a:solidFill>
                <a:latin typeface="Calibri"/>
              </a:rPr>
              <a:t>МАДОУ ДС №49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alibri Light"/>
              </a:rPr>
              <a:t>Система коррекционного воздействия при моторной алали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228600" y="106668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28600" y="66294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28600" y="1066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31"/>
          <p:cNvGrpSpPr/>
          <p:nvPr/>
        </p:nvGrpSpPr>
        <p:grpSpPr>
          <a:xfrm>
            <a:off x="609480" y="914400"/>
            <a:ext cx="8229600" cy="5791320"/>
            <a:chOff x="609480" y="914400"/>
            <a:chExt cx="8229600" cy="5791320"/>
          </a:xfrm>
        </p:grpSpPr>
        <p:sp>
          <p:nvSpPr>
            <p:cNvPr id="163" name="Rectangle 4"/>
            <p:cNvSpPr/>
            <p:nvPr/>
          </p:nvSpPr>
          <p:spPr>
            <a:xfrm>
              <a:off x="1143000" y="914400"/>
              <a:ext cx="6934320" cy="3808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Arial"/>
                </a:rPr>
                <a:t>Комплексная системная работа над речью и личностью в цело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609480" y="1600200"/>
              <a:ext cx="2971800" cy="304812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чь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Создание механизмов речев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и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мотивов речев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деятельност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Создание коммуникативного намерения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внутренней программы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высказывания, его лексическая разверстка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тбор лексико-грамматических средств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Грамматическое структурирование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Обогащение речевой практики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Сознательное использование имеющихс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знаний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владение моделированием речевы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операций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3. Восполнение пробелов в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чевом развитии и подготовка к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альнейшему школьному обучени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87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4114800" y="1600200"/>
              <a:ext cx="1981080" cy="15238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витие сенсорных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и двигательных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озможностей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бенка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мелкой моторики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общей моторик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Формирование сенсорны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эталон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7"/>
            <p:cNvSpPr/>
            <p:nvPr/>
          </p:nvSpPr>
          <p:spPr>
            <a:xfrm>
              <a:off x="6629400" y="1600200"/>
              <a:ext cx="2057400" cy="18288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Личность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 Устранение неврологических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аслоений в характере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бенка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Воспитание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целенаправленной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личности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3. Воспитание правильного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тношения  ребенка 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ечевому недоразвитию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и к работе по его преодолению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181080" indent="-181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8"/>
            <p:cNvSpPr/>
            <p:nvPr/>
          </p:nvSpPr>
          <p:spPr>
            <a:xfrm>
              <a:off x="4191120" y="4343400"/>
              <a:ext cx="1904760" cy="6858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витие внима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восприятия, процессов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анализа, синтеза, обобще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отивопоставления,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равнен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91440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едметно-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рактическа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617220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Учебная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Rectangle 11"/>
            <p:cNvSpPr/>
            <p:nvPr/>
          </p:nvSpPr>
          <p:spPr>
            <a:xfrm>
              <a:off x="3505320" y="5334120"/>
              <a:ext cx="1981080" cy="4572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Игров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1752480" y="6095880"/>
              <a:ext cx="5943600" cy="2286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Устранение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травмирующего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воздействия сред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1752480" y="6477120"/>
              <a:ext cx="5943600" cy="22860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истематическое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пецифическое лечение ребенк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14" descr="читающий мальчик"/>
            <p:cNvPicPr/>
            <p:nvPr/>
          </p:nvPicPr>
          <p:blipFill>
            <a:blip r:embed="rId1"/>
            <a:stretch/>
          </p:blipFill>
          <p:spPr>
            <a:xfrm>
              <a:off x="4800600" y="3505320"/>
              <a:ext cx="5428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8"/>
            <p:cNvSpPr/>
            <p:nvPr/>
          </p:nvSpPr>
          <p:spPr>
            <a:xfrm>
              <a:off x="8839080" y="1066680"/>
              <a:ext cx="0" cy="510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H="1">
              <a:off x="7695720" y="6172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 flipH="1">
              <a:off x="8077320" y="10666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23"/>
            <p:cNvSpPr/>
            <p:nvPr/>
          </p:nvSpPr>
          <p:spPr>
            <a:xfrm>
              <a:off x="609480" y="5181480"/>
              <a:ext cx="7925040" cy="762120"/>
            </a:xfrm>
            <a:prstGeom prst="rect">
              <a:avLst/>
            </a:prstGeom>
            <a:noFill/>
            <a:ln w="38160">
              <a:solidFill>
                <a:srgbClr val="0563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24"/>
            <p:cNvSpPr/>
            <p:nvPr/>
          </p:nvSpPr>
          <p:spPr>
            <a:xfrm>
              <a:off x="213372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25"/>
            <p:cNvSpPr/>
            <p:nvPr/>
          </p:nvSpPr>
          <p:spPr>
            <a:xfrm>
              <a:off x="502920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>
              <a:off x="7620120" y="1295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3581280" y="38098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V="1">
              <a:off x="5181480" y="41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 flipH="1">
              <a:off x="5562360" y="3352680"/>
              <a:ext cx="10666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5105520" y="312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alibri Light"/>
              </a:rPr>
              <a:t>Этапы коррекционной работы при моторной алалии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981080" y="609480"/>
            <a:ext cx="5334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ействие направлено на всю систему ре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сширение, уточнение словар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рмирование фразовой и связной реч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рекция звукопроизнош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8600" y="1752480"/>
            <a:ext cx="8686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1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первоначальных речевых навыков в ситуации диалогическог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щ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спитание речевой 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активного и пассивного слов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бота над диалогом, небольшим простым расс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остран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психофоизиологических предпосылок речев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первоначальных навыков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8600" y="3809880"/>
            <a:ext cx="86868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высказывания как основной единицы речевого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фразовой речи на фоне усложнения словаря и структуры ф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спространение предложений, их грамматическое офор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бота над диа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бота над рассказом описате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высказывания как основной единицы речевого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28600" y="5562720"/>
            <a:ext cx="86868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ирование коммуникативных умений и связной реч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вяз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коммуникативных ум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втоматизация грамматически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 Light"/>
              </a:rPr>
              <a:t>Алал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гр. а- приставка, означающая отрицание или отсутствие качества + греч. lalia речь)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это тяжелое недоразвитие экспрессивной и импрессивной  речи, вызванное органическим поражением высших  уровней (языкового и гностико-праксического) речевой функциональной системы, характеризующее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сутствие или недоразвитие речи у детей при нормальном слухе и первично сохранном интеллек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533520" y="4419720"/>
          <a:ext cx="38145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419720"/>
                    <a:ext cx="38145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9"/>
          <p:cNvGraphicFramePr/>
          <p:nvPr/>
        </p:nvGraphicFramePr>
        <p:xfrm>
          <a:off x="4937040" y="4114800"/>
          <a:ext cx="36514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7040" y="4114800"/>
                    <a:ext cx="3651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3"/>
          <p:cNvGrpSpPr/>
          <p:nvPr/>
        </p:nvGrpSpPr>
        <p:grpSpPr>
          <a:xfrm>
            <a:off x="228600" y="228600"/>
            <a:ext cx="8610480" cy="6477120"/>
            <a:chOff x="228600" y="228600"/>
            <a:chExt cx="8610480" cy="6477120"/>
          </a:xfrm>
        </p:grpSpPr>
        <p:sp>
          <p:nvSpPr>
            <p:cNvPr id="132" name="Rectangle 6"/>
            <p:cNvSpPr/>
            <p:nvPr/>
          </p:nvSpPr>
          <p:spPr>
            <a:xfrm>
              <a:off x="228600" y="1523880"/>
              <a:ext cx="274320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Мот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доразвити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кспрессивной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чи, выраженно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труднениями в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владен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ктивным словарем 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рамматически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трое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языка при достаточно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охранном понимани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речи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3429000" y="228600"/>
              <a:ext cx="268596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АЛАЛ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429000" y="1523880"/>
              <a:ext cx="281952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Сенс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доразвитие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импрессивной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ечи, когда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аблюдается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рыв  между смыслом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и звуковой оболочкой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ов;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у ребенка нарушается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понимание речи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кружающих,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смотря на хороши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ух  и сохранные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пособности к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звитию активной реч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6934320" y="1523880"/>
              <a:ext cx="190476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Сенс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моторна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1143000" y="5486400"/>
              <a:ext cx="2514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Эфферентная мотор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1143000" y="6172200"/>
              <a:ext cx="2514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Arial"/>
                </a:rPr>
                <a:t>Афферентная мотор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>
              <a:off x="4800600" y="1066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Line 38"/>
            <p:cNvSpPr/>
            <p:nvPr/>
          </p:nvSpPr>
          <p:spPr>
            <a:xfrm flipH="1">
              <a:off x="1447560" y="1066680"/>
              <a:ext cx="3352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4800600" y="1066680"/>
              <a:ext cx="3124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457200" y="5105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457200" y="6477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457200" y="5791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alibri Light"/>
              </a:rPr>
              <a:t>Моторная Алал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вается при нарушении функций лобно-теменных областей коры левого полушария головного мозг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центр Брока)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является в нарушени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кспрессивной реч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 достаточно хорошем понимании обращенной реч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зднем формировании фразовой речи (после 4 ле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дности предречевых этапов (нередкое отсутствие лепета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провождается грубым нарушением грамматического строя (отсутствие согласования слов в роде, падеже и числе, неправильное употребление предлогов, отсутствие в речи отглагольных форм, перестановка слогов и звуков внутри слова и др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еет место выраженная бедность словарного запас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Моторная алалия лежит в основе нарушений школьных навыков типа дислексии и дисграфии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а также нарушений пространственного гнозиса и расстройств моторики в виде апраксии; она сочетается с локальной и рассеянной неврологической симптоматикой и поражением структур доминантного полушария, определяющего возможности экспрессивной реч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ическом состоян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етей с подобным нарушением нередки проявления разной степени выраженности психоорганического синдрома в виде двигательной расторможенности, расстройств внимания и работоспособности в сочетании с нарушениями интеллектуального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86000" y="20098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 Light"/>
              </a:rPr>
              <a:t>Сенсорная Алал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никает при поражении височной области левого полушар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центр Вернике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вязана с нарушениями акустико-гностической стороны речи при сохранности слух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роявляетс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достаточном понимании обращенной реч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бом нарушении фонетической ее сторон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отсутствием дифференциации зву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етей затруднено и задержано в развитии соотнесение между предметом и словом: они не понимают речь окружающих, в силу чего и экспрессивная речь крайне ограниче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и искажают слова, смешивают сходные по произношению звуки, не прислушиваются к речи окружающих, могут не откликаться на зов, но одновременно реагировать на отвлеченные шумы, отмечаю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холалии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езко нарушено слуховое внимание, хотя тембр речи и интонации не измене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ическом состоя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тмечаются признаки органического поражения головного мозга — нередко в сочетании с интеллектуальным недоразвитием в широком диапазоне (от легких парциальных задержек развития до олигофрени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 Light"/>
              </a:rPr>
              <a:t>Особенности психического развития детей с моторной алалией</a:t>
            </a: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0663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tabLst>
                <a:tab algn="l" pos="0"/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у интеллектуальной недостаточности у детей с М.А. определяют три факто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ое недоразвитие вербального интеллект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несформированности рассуждений, снижении вербальной памяти, всех других умственных действий, опирающихся на дефектную речь 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дленные темпы психического развит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264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ирательная недостаточность отдельных психических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04920" y="3278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большинства детей отмеча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ического инфантилизм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детскость поведения, эмоциональная незрелость, неспособность к волевому усил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ниженная работо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истощаем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нение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общая расторможенность, импульсивность, аффективные вспышки, выраженная неустойчивость произвольного внимания и резкое усиление непроизвольного внимания, медленное включение в задание, трудности переключения с одного действия на друг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рушения в эмоционально-волевой сфер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дети проявляют негативизм, отказываясь выполнять задания, вызывающие затруднения и требующие дополнительных усил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ижение импрессив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ект формирования звуковых образов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йне сложное усвоение звуковой и слоговой струк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сти актуализации сл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дности формирования навыков словообразования, словоизменения и грамматической структуры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начительна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держка появления предложен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1447920" y="372960"/>
            <a:ext cx="6248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latin typeface="+mj-lt"/>
              </a:rPr>
              <a:t>Речевые особенности детей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latin typeface="+mj-lt"/>
              </a:rPr>
              <a:t>с моторной алалией 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885960"/>
          <a:ext cx="8763120" cy="584964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изношение звуков у детей с алал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изношение звуков у детей с дизартр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бщая характеристика произношения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288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статочная сохранность моторной деятельности артикуляционного аппара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имущественно фонематические нарушения, проявляющиеся на знаковом уровне деятельности артикуляционного механиз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гие звуки, подверженные нарушениям (искажения, замены, пропуски), имеют одновременно правильное произношени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типные нарушения звукопроизно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рушении звукопроизношения доминируют замены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раженные нарушения артикуляционного механиз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имущественно характерны фонетические нару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лированные звуки, подверженные нарушениям, не имеют одновременно и правильного произношения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типные нарушения произношения звука (только его искажение, замена или пропуск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рушении произношения доминируют искажения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Искажения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824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небольшого количества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преимущественно сложных по артикуляции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некоторых искажающихся зыков свойственно существование искаженной и правильной артикуля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большого количества звуков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ажение и сложных, и простых по артикуляции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всех искажающихся звуков свойственно постоянное искаж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Замены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56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ны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нообраз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заимозамены звуков сравнительно час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ны преимущественно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образные замены звук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заимозамены звуков сравнительно ред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ропуски зву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стоянные пропус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и как артикуляторно сложных, так и прост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оянные пропус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spcBef>
                          <a:spcPts val="275"/>
                        </a:spcBef>
                        <a:buClr>
                          <a:srgbClr val="0563c1"/>
                        </a:buClr>
                        <a:buSzPct val="7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и преимущественно артикуляторно сложных зву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 Light"/>
              </a:rPr>
              <a:t>Сравнительная характеристика произношения у детей с алалией и дизартриков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Комплексность медико-психолого-педагогического воздействия при  полном взаимодействии всех участников коррекционного процесс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спользование и интегрирование разных видов деятельности в планировании и проведении коррекционной работ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3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нцип опоры на сохранный анализатор с дальнейшим привлечение пострадавшег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Ранняя коррекция неречевых расстройств (психических процессов, особенностей личности, общей и мелкой моторик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Расположение речевого материала от простого к сложному, от восприятия и обозначения конкретного предмета, явления к абстрактному образу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2126"/>
              </a:spcBef>
              <a:buSzPct val="100000"/>
              <a:buBlip>
                <a:blip r:embed="rId6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каждого ребенка: специфики его речевого развития, степени выраженности речевого дефекта, возможностей восприятия коррекционного педагогического воздейств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457200" y="304920"/>
            <a:ext cx="8381880" cy="99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ПРИНЦИП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РЕКЦИОННОЙ РАБО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шана Сайфуллина</cp:lastModifiedBy>
  <dcterms:modified xsi:type="dcterms:W3CDTF">2023-06-24T20:52:44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