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F71-2D97-4C1B-B6F8-B02E5BB6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D66-1129-4743-89E0-03A5250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E3F-00A5-423F-9E39-C46FC6CF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A95-B08D-4C35-9D2A-9DECEDAA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5888-64E4-43C5-9694-14FBB8DD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3280-6107-4073-8738-79F1B2A0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6B64-32FB-4AD4-A080-11B88664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127B-6565-4F0B-979D-0A786B29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334B-C614-43EC-97A7-A4D03F7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928C-B674-452E-8B5E-9BAA77C9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FE17-65A0-424E-B36D-B197EB4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4CB-64D1-4AEB-BBFD-FE95ADA7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FAF4-6B7F-4014-BE34-59BF089B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1EC0-6024-4671-92A0-4BCA2DE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142-34B1-4C13-8F45-4ED57016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CF31-E621-4709-A430-BFC4A558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7C07-65CE-498C-86F4-B2D4A016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AD7B-C2AB-4033-874F-C59F7F16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2EBC-312B-4A2A-882C-51DF329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4E55-930A-42B9-9617-F759323E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6B7D-D12B-4FC6-8FCE-2A8FD75F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12B7-E1E6-47F3-AB47-28EA665C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976-4587-434D-A8D6-6F5492F5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B18E-DE4D-4F5D-9008-2937EED2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A120-55E2-431A-BC6F-10F526C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015B-C9A8-4B87-8F7E-CC884B27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109E-EE7B-4F16-B944-7F3433D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D29F-FD81-4DCC-A6B4-26A7513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9B63-F89A-4D57-86AC-401F4DCF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54C7-EB27-4081-B4A1-0C41C6DF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CA4-E35E-44A1-875C-0EACA61D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988-823F-43C7-9DDF-4D1BC193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5E1-CD24-45E1-B4EF-1AA4AD29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E28-6EBA-4CEB-A326-F8233158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DA6-E124-4D84-88AF-D19ACAD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9DE-9CAA-435A-BE98-CD42566E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73CF-AEDD-4F11-82A2-BCC9B06B0AE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B26-BC41-4464-AE25-ABBE42C39FA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F3C0-6428-40C9-92CD-206C2181EDF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Коррекционно-логопедическая работа с детьми, имеющими в анамнезе диагноз алалия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723920" y="434340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563c1"/>
                </a:solidFill>
                <a:latin typeface="Calibri"/>
              </a:rPr>
              <a:t>Сайфуллина Рушания Сягит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563c1"/>
                </a:solidFill>
                <a:latin typeface="Calibri"/>
              </a:rPr>
              <a:t>учитель – логопе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563c1"/>
                </a:solidFill>
                <a:latin typeface="Calibri"/>
              </a:rPr>
              <a:t>МАДОУ ДС №49 «Роднич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Calibri Light"/>
              </a:rPr>
              <a:t>Система коррекционного воздействия при моторной алали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228600" y="106668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28600" y="66294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28600" y="1066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oup 31"/>
          <p:cNvGrpSpPr/>
          <p:nvPr/>
        </p:nvGrpSpPr>
        <p:grpSpPr>
          <a:xfrm>
            <a:off x="609480" y="914400"/>
            <a:ext cx="8229600" cy="5791320"/>
            <a:chOff x="609480" y="914400"/>
            <a:chExt cx="8229600" cy="5791320"/>
          </a:xfrm>
        </p:grpSpPr>
        <p:sp>
          <p:nvSpPr>
            <p:cNvPr id="163" name="Rectangle 4"/>
            <p:cNvSpPr/>
            <p:nvPr/>
          </p:nvSpPr>
          <p:spPr>
            <a:xfrm>
              <a:off x="1143000" y="914400"/>
              <a:ext cx="6934320" cy="3808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Arial"/>
                </a:rPr>
                <a:t>Комплексная системная работа над речью и личностью в цело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609480" y="1600200"/>
              <a:ext cx="2971800" cy="304812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чь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1.Создание механизмов речевой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еятельности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Формирование мотивов речевой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деятельности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Создание коммуникативного намерения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Формирование внутренней программы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высказывания, его лексическая разверстка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Отбор лексико-грамматических средств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Грамматическое структурирование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2. Обогащение речевой практики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Сознательное использование имеющихся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знаний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Овладение моделированием речевых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операций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3. Восполнение пробелов в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ечевом развитии и подготовка к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альнейшему школьному обучению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6"/>
            <p:cNvSpPr/>
            <p:nvPr/>
          </p:nvSpPr>
          <p:spPr>
            <a:xfrm>
              <a:off x="4114800" y="1600200"/>
              <a:ext cx="1981080" cy="15238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звитие сенсорных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и двигательных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озможностей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бенка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витие мелкой моторики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витие общей моторик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Формирование сенсорных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эталон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7"/>
            <p:cNvSpPr/>
            <p:nvPr/>
          </p:nvSpPr>
          <p:spPr>
            <a:xfrm>
              <a:off x="6629400" y="1600200"/>
              <a:ext cx="2057400" cy="18288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Личность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1. Устранение неврологических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аслоений в характере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ебенка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2. Воспитание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целенаправленной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личности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3. Воспитание правильного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тношения  ребенка 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ечевому недоразвитию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и к работе по его преодолению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8"/>
            <p:cNvSpPr/>
            <p:nvPr/>
          </p:nvSpPr>
          <p:spPr>
            <a:xfrm>
              <a:off x="4191120" y="4343400"/>
              <a:ext cx="1904760" cy="6858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витие внимания,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восприятия, процессов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анализа, синтеза, обобщения,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ротивопоставления,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сравнения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914400" y="5334120"/>
              <a:ext cx="1981080" cy="4572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редметно-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рактическая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6172200" y="5334120"/>
              <a:ext cx="1981080" cy="4572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Учебная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Rectangle 11"/>
            <p:cNvSpPr/>
            <p:nvPr/>
          </p:nvSpPr>
          <p:spPr>
            <a:xfrm>
              <a:off x="3505320" y="5334120"/>
              <a:ext cx="1981080" cy="4572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Игрова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1752480" y="6095880"/>
              <a:ext cx="5943600" cy="2286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Устранение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авмирующего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оздействия сред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1752480" y="6477120"/>
              <a:ext cx="5943600" cy="2286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истематическое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пецифическое лечение ребенк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Picture 14" descr="читающий мальчик"/>
            <p:cNvPicPr/>
            <p:nvPr/>
          </p:nvPicPr>
          <p:blipFill>
            <a:blip r:embed="rId1"/>
            <a:stretch/>
          </p:blipFill>
          <p:spPr>
            <a:xfrm>
              <a:off x="4800600" y="3505320"/>
              <a:ext cx="5428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8"/>
            <p:cNvSpPr/>
            <p:nvPr/>
          </p:nvSpPr>
          <p:spPr>
            <a:xfrm>
              <a:off x="8839080" y="1066680"/>
              <a:ext cx="0" cy="510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H="1">
              <a:off x="7695720" y="6172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 flipH="1">
              <a:off x="8077320" y="10666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23"/>
            <p:cNvSpPr/>
            <p:nvPr/>
          </p:nvSpPr>
          <p:spPr>
            <a:xfrm>
              <a:off x="609480" y="5181480"/>
              <a:ext cx="7925040" cy="762120"/>
            </a:xfrm>
            <a:prstGeom prst="rect">
              <a:avLst/>
            </a:prstGeom>
            <a:noFill/>
            <a:ln w="3816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2133720" y="129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25"/>
            <p:cNvSpPr/>
            <p:nvPr/>
          </p:nvSpPr>
          <p:spPr>
            <a:xfrm>
              <a:off x="5029200" y="129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26"/>
            <p:cNvSpPr/>
            <p:nvPr/>
          </p:nvSpPr>
          <p:spPr>
            <a:xfrm>
              <a:off x="7620120" y="129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3581280" y="38098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V="1">
              <a:off x="518148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 flipH="1">
              <a:off x="5562360" y="3352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5105520" y="312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Calibri Light"/>
              </a:rPr>
              <a:t>Этапы коррекционной работы при моторной алали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981080" y="609480"/>
            <a:ext cx="5334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ействие направлено на всю систему ре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ширение, уточнение словар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рмирование фразовой и связной реч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ррекция звукопроизнош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8600" y="1752480"/>
            <a:ext cx="8686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1 эта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рмирование первоначальных речевых навыков в ситуации диалогическог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бщ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спитание речевой 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активного и пассивного слов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бота над диалогом, небольшим простым расс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остран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психофоизиологических предпосылок речев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первоначальных навыков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8600" y="3809880"/>
            <a:ext cx="86868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2 эта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рмирование высказывания как основной единицы речевого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фразовой речи на фоне усложнения словаря и структуры ф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спространение предложений, их грамматическое офор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бота над диа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бота над рассказом описате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высказывания как основной единицы речевого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28600" y="5562720"/>
            <a:ext cx="86868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3 эта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рмирование коммуникативных умений и связной реч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вяз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коммуникативных ум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матизация грамматически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 Light"/>
              </a:rPr>
              <a:t>Алал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гр. а- приставка, означающая отрицание или отсутствие качества + греч. lalia речь)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то тяжелое недоразвитие экспрессивной и импрессивной  речи, вызванное органическим поражением высших  уровней (языкового и гностико-праксического) речевой функциональной системы, характеризующее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тсутствие или недоразвитие речи у детей при нормальном слухе и первично сохранном интеллек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533520" y="4419720"/>
          <a:ext cx="38145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419720"/>
                    <a:ext cx="38145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9"/>
          <p:cNvGraphicFramePr/>
          <p:nvPr/>
        </p:nvGraphicFramePr>
        <p:xfrm>
          <a:off x="4937040" y="4114800"/>
          <a:ext cx="365148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7040" y="4114800"/>
                    <a:ext cx="3651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3"/>
          <p:cNvGrpSpPr/>
          <p:nvPr/>
        </p:nvGrpSpPr>
        <p:grpSpPr>
          <a:xfrm>
            <a:off x="228600" y="228600"/>
            <a:ext cx="8610480" cy="6477120"/>
            <a:chOff x="228600" y="228600"/>
            <a:chExt cx="8610480" cy="6477120"/>
          </a:xfrm>
        </p:grpSpPr>
        <p:sp>
          <p:nvSpPr>
            <p:cNvPr id="132" name="Rectangle 6"/>
            <p:cNvSpPr/>
            <p:nvPr/>
          </p:nvSpPr>
          <p:spPr>
            <a:xfrm>
              <a:off x="228600" y="1523880"/>
              <a:ext cx="274320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Моторна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доразвити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кспрессивной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ечи, выраженно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труднениями в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владени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ктивным словарем 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рамматически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трое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языка при достаточно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хранном понимани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еч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3429000" y="228600"/>
              <a:ext cx="268596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АЛАЛИ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429000" y="1523880"/>
              <a:ext cx="281952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Сенсорна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доразвитие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импрессивной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ечи, когда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аблюдается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рыв  между смыслом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и звуковой оболочкой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ов;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 ребенка нарушается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онимание речи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кружающих,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смотря на хороший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ух  и сохранные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пособности к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ю активной реч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6934320" y="1523880"/>
              <a:ext cx="190476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Сенс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моторна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1143000" y="5486400"/>
              <a:ext cx="2514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Эфферентная моторн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1143000" y="6172200"/>
              <a:ext cx="2514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Афферентная моторн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37"/>
            <p:cNvSpPr/>
            <p:nvPr/>
          </p:nvSpPr>
          <p:spPr>
            <a:xfrm>
              <a:off x="4800600" y="1066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38"/>
            <p:cNvSpPr/>
            <p:nvPr/>
          </p:nvSpPr>
          <p:spPr>
            <a:xfrm flipH="1">
              <a:off x="1447560" y="1066680"/>
              <a:ext cx="3352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>
              <a:off x="4800600" y="1066680"/>
              <a:ext cx="3124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40"/>
            <p:cNvSpPr/>
            <p:nvPr/>
          </p:nvSpPr>
          <p:spPr>
            <a:xfrm>
              <a:off x="457200" y="5105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>
              <a:off x="457200" y="6477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457200" y="5791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alibri Light"/>
              </a:rPr>
              <a:t>Моторная Алал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ется при нарушении функций лобно-теменных областей коры левого полушария головного мозг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центр Брока)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является в нарушени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кспрессивной реч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 достаточно хорошем понимании обращенной реч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зднем формировании фразовой речи (после 4 ле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дности предречевых этапов (нередкое отсутствие лепета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провождается грубым нарушением грамматического строя (отсутствие согласования слов в роде, падеже и числе, неправильное употребление предлогов, отсутствие в речи отглагольных форм, перестановка слогов и звуков внутри слова и др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еет место выраженная бедность словарного запас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Моторная алалия лежит в основе нарушений школьных навыков типа дислексии и дисграфии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а также нарушений пространственного гнозиса и расстройств моторики в виде апраксии; она сочетается с локальной и рассеянной неврологической симптоматикой и поражением структур доминантного полушария, определяющего возможности экспрессивной реч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ическом состоян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етей с подобным нарушением нередки проявления разной степени выраженности психоорганического синдрома в виде двигательной расторможенности, расстройств внимания и работоспособности в сочетании с нарушениями интеллектуального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86000" y="20098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 Light"/>
              </a:rPr>
              <a:t>Сенсорная Алал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никает при поражении височной области левого полушар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центр Верник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связана с нарушениями акустико-гностической стороны речи при сохранности слух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роявляетс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достаточном понимании обращенной ре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убом нарушении фонетической ее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отсутствием дифференциации зву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детей затруднено и задержано в развитии соотнесение между предметом и словом: они не понимают речь окружающих, в силу чего и экспрессивная речь крайне ограниче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искажают слова, смешивают сходные по произношению звуки, не прислушиваются к речи окружающих, могут не откликаться на зов, но одновременно реагировать на отвлеченные шумы, отмечаю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холалии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зко нарушено слуховое внимание, хотя тембр речи и интонации не измене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ическом состоя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тмечаются признаки органического поражения головного мозга — нередко в сочетании с интеллектуальным недоразвитием в широком диапазоне (от легких парциальных задержек развития до олигофрени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 Light"/>
              </a:rPr>
              <a:t>Особенности психического развития детей с моторной алалие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0663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tabLst>
                <a:tab algn="l" pos="0"/>
                <a:tab algn="l" pos="264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у интеллектуальной недостаточности у детей с М.А. определяют три фактор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4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ое недоразвитие вербального интеллект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в несформированности рассуждений, снижении вербальной памяти, всех других умственных действий, опирающихся на дефектную речь 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4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дленные темпы психического разви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4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ирательная недостаточность отдельных психических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04920" y="3278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большинства детей отмечаю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ического инфантилизм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детскость поведения, эмоциональная незрелость, неспособность к волевому усил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иженная работоспособнос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истощаемо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нение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общая расторможенность, импульсивность, аффективные вспышки, выраженная неустойчивость произвольного внимания и резкое усиление непроизвольного внимания, медленное включение в задание, трудности переключения с одного действия на друг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рушения в эмоционально-волевой сфер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дети проявляют негативизм, отказываясь выполнять задания, вызывающие затруднения и требующие дополнительных усил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ижение импрессивной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ект формирования звуковых образов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йне сложное усвоение звуковой и слоговой струк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ности актуализации сл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ности формирования навыков словообразования, словоизменения и грамматической структуры пред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начительн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ержка появления предложе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1447920" y="372960"/>
            <a:ext cx="6248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latin typeface="+mj-lt"/>
              </a:rPr>
              <a:t>Речевые особенности детей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latin typeface="+mj-lt"/>
              </a:rPr>
              <a:t>с моторной алалией 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885960"/>
          <a:ext cx="8763120" cy="584964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изношение звуков у детей с алал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изношение звуков у детей с дизартр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Общая характеристика произношения зву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2880"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статочная сохранность моторной деятельности артикуляционного аппара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имущественно фонематические нарушения, проявляющиеся на знаковом уровне деятельности артикуляционного механизм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огие звуки, подверженные нарушениям (искажения, замены, пропуски), имеют одновременно правильное произношени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нотипные нарушения звукопроизнош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нарушении звукопроизношения доминируют замены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раженные нарушения артикуляционного механизм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имущественно характерны фонетические наруш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олированные звуки, подверженные нарушениям, не имеют одновременно и правильного произнош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типные нарушения произношения звука (только его искажение, замена или пропуск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нарушении произношения доминируют искажения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Искажения зву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8240"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ажение небольшого количества зву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ажение преимущественно сложных по артикуляции зву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я некоторых искажающихся зыков свойственно существование искаженной и правильной артикуляц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ажение большого количества звуков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ажение и сложных, и простых по артикуляции зву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я всех искажающихся звуков свойственно постоянное иска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Замены зву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560"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мены артикуляторно сложных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оянные замены зву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нообразные замены зву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заимозамены звуков сравнительно част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мены преимущественно артикуляторно сложных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оянные замены зву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образные замены зву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заимозамены звуков сравнительно ред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ропуски зву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остоянные пропус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пуски как артикуляторно сложных, так и простых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оянные пропус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пуски преимущественно артикуляторно сложных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 Light"/>
              </a:rPr>
              <a:t>Сравнительная характеристика произношения у детей с алалией и дизартриков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5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1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Комплексность медико-психолого-педагогического воздействия при  полном взаимодействии всех участников коррекционного процесс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спользование и интегрирование разных видов деятельности в планировании и проведении коррекционной работ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нцип опоры на сохранный анализатор с дальнейшим привлечение пострадавшег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Ранняя коррекция неречевых расстройств (психических процессов, особенностей личности, общей и мелкой моторик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5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Расположение речевого материала от простого к сложному, от восприятия и обозначения конкретного предмета, явления к абстрактному образу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6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каждого ребенка: специфики его речевого развития, степени выраженности речевого дефекта, возможностей восприятия коррекционного педагогического воздейств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457200" y="304920"/>
            <a:ext cx="8381880" cy="99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ПРИНЦИП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РЕКЦИОННОЙ РАБО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шана Сайфуллина</cp:lastModifiedBy>
  <dcterms:modified xsi:type="dcterms:W3CDTF">2023-06-24T20:52:44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