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889-D5B5-4EDB-B2A0-1BAC7367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74E-C728-45BE-976C-247D987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CEE-0334-4615-805C-C0779E91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7DE-B54E-447E-80DD-F3C027C9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B0F-7764-40F2-B5CB-048F325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A7A-6A1F-4E2D-B4A4-2DB1327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D92-2C86-4E1B-AA1E-361D566B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F8E-BE00-4BED-9258-54C7BF0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D21-0192-4E23-9A6E-1EE5452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635-56CB-4390-81C6-068A2AC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AF4-7F21-48E9-A85B-D60FB229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6F6-4283-4DF5-A8F0-17968AC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04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A3521-0710-439A-9A9F-6B4E95AE1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940360" cy="4221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50920" y="306360"/>
            <a:ext cx="871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Муниципальное бюджетное общеобразовательное учреждение Городского округа Балашиха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«Средняя общеобразовательная школа №3 имени И.А. Флёрова»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50920" y="835200"/>
            <a:ext cx="86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Ценность шахматных фигур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659280" y="501336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Руководитель: Алваров Л.Р.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27400" y="616572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гор. окр.  Балашиха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2022 г.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i?id=1592d38ae24ee0879e982b79bcd32994d8928fc7-4076875-images-thumbs&amp;n=13&amp;exp=1"/>
          <p:cNvPicPr/>
          <p:nvPr/>
        </p:nvPicPr>
        <p:blipFill>
          <a:blip r:embed="rId1"/>
          <a:stretch/>
        </p:blipFill>
        <p:spPr>
          <a:xfrm>
            <a:off x="684360" y="363600"/>
            <a:ext cx="871200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446200" y="333360"/>
            <a:ext cx="66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5" descr="shutterstock_193994300-scaled"/>
          <p:cNvPicPr/>
          <p:nvPr/>
        </p:nvPicPr>
        <p:blipFill>
          <a:blip r:embed="rId1"/>
          <a:stretch/>
        </p:blipFill>
        <p:spPr>
          <a:xfrm>
            <a:off x="911160" y="2708280"/>
            <a:ext cx="5792760" cy="385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хматная школа Кузьминки. Шахматные уроки. Шахматные уроки для учебной  группы 1-го года обучения"/>
          <p:cNvPicPr/>
          <p:nvPr/>
        </p:nvPicPr>
        <p:blipFill>
          <a:blip r:embed="rId2"/>
          <a:stretch/>
        </p:blipFill>
        <p:spPr>
          <a:xfrm>
            <a:off x="1763640" y="2865600"/>
            <a:ext cx="3009960" cy="35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647640" y="333360"/>
            <a:ext cx="849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оимость  (ценность)  фигур: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мость фигур – их сила по отношению друг к другу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мость измеряется в пешках.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Picture 15" descr="DSCF8502"/>
          <p:cNvPicPr/>
          <p:nvPr/>
        </p:nvPicPr>
        <p:blipFill>
          <a:blip r:embed="rId1"/>
          <a:srcRect l="93314" t="0" r="6609" b="0"/>
          <a:stretch/>
        </p:blipFill>
        <p:spPr>
          <a:xfrm>
            <a:off x="6846840" y="2852640"/>
            <a:ext cx="4680" cy="363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39d0515dfdd04730cb8ecefbe0d3b92d-800x"/>
          <p:cNvPicPr/>
          <p:nvPr/>
        </p:nvPicPr>
        <p:blipFill>
          <a:blip r:embed="rId2"/>
          <a:stretch/>
        </p:blipFill>
        <p:spPr>
          <a:xfrm>
            <a:off x="2195640" y="2637000"/>
            <a:ext cx="5246640" cy="39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ОБ ИЗМЕНЧИВОЙ ЦЕННОСТИ ФИГУР, О ШАХМАТНОМ БЕССТРАШИИ И РАЗУМНОСТИ РИСКА.  Книга о шахматах"/>
          <p:cNvPicPr/>
          <p:nvPr/>
        </p:nvPicPr>
        <p:blipFill>
          <a:blip r:embed="rId3"/>
          <a:stretch/>
        </p:blipFill>
        <p:spPr>
          <a:xfrm>
            <a:off x="2771640" y="3924360"/>
            <a:ext cx="16383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268360" y="0"/>
            <a:ext cx="453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оимость фигу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5328720"/>
            <a:ext cx="48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Picture 13" descr="word-image-3-e1554807167600"/>
          <p:cNvPicPr/>
          <p:nvPr/>
        </p:nvPicPr>
        <p:blipFill>
          <a:blip r:embed="rId1"/>
          <a:stretch/>
        </p:blipFill>
        <p:spPr>
          <a:xfrm>
            <a:off x="611280" y="907920"/>
            <a:ext cx="78850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Ценность шахматных фигур - презентация, доклад, проект скачать"/>
          <p:cNvPicPr/>
          <p:nvPr/>
        </p:nvPicPr>
        <p:blipFill>
          <a:blip r:embed="rId1"/>
          <a:stretch/>
        </p:blipFill>
        <p:spPr>
          <a:xfrm>
            <a:off x="468360" y="404640"/>
            <a:ext cx="81979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77164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оимос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оля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36480" y="400536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6" name="Picture 10" descr="1639507476_27-sportishka-com-p-ferz-v-shakhmatakh-krasivo-foto-28"/>
          <p:cNvPicPr/>
          <p:nvPr/>
        </p:nvPicPr>
        <p:blipFill>
          <a:blip r:embed="rId1"/>
          <a:stretch/>
        </p:blipFill>
        <p:spPr>
          <a:xfrm>
            <a:off x="1258920" y="907920"/>
            <a:ext cx="6815160" cy="4548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1191960" y="5589720"/>
            <a:ext cx="69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ороль бесценен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го гибель (мат) означает проигрыш партии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328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65280" y="1125360"/>
            <a:ext cx="32101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256760" y="40464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вноценный и неравноценный обмен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165640" y="3197160"/>
            <a:ext cx="33084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" name="Picture 7" descr="87ffab5ab742e371b8e5b27bf0a10b14"/>
          <p:cNvPicPr/>
          <p:nvPr/>
        </p:nvPicPr>
        <p:blipFill>
          <a:blip r:embed="rId1"/>
          <a:stretch/>
        </p:blipFill>
        <p:spPr>
          <a:xfrm>
            <a:off x="1403280" y="126828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324000" y="333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ой знак поставить между фигурами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7" descr="image_5e3475f1d8303"/>
          <p:cNvPicPr/>
          <p:nvPr/>
        </p:nvPicPr>
        <p:blipFill>
          <a:blip r:embed="rId1"/>
          <a:stretch/>
        </p:blipFill>
        <p:spPr>
          <a:xfrm>
            <a:off x="1692360" y="2060640"/>
            <a:ext cx="623880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те стоимость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th-review-2-ALT-TEXT-chess-set-piece"/>
          <p:cNvPicPr/>
          <p:nvPr/>
        </p:nvPicPr>
        <p:blipFill>
          <a:blip r:embed="rId1"/>
          <a:stretch/>
        </p:blipFill>
        <p:spPr>
          <a:xfrm>
            <a:off x="457200" y="1971720"/>
            <a:ext cx="8229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9:35:48Z</dcterms:created>
  <dc:creator>Admin</dc:creator>
  <dc:description/>
  <dc:language>en-US</dc:language>
  <cp:lastModifiedBy>user</cp:lastModifiedBy>
  <cp:lastPrinted>2019-03-19T20:03:21Z</cp:lastPrinted>
  <dcterms:modified xsi:type="dcterms:W3CDTF">2022-11-25T07:03:22Z</dcterms:modified>
  <cp:revision>64</cp:revision>
  <dc:subject/>
  <dc:title>Слайд 1</dc:title>
</cp:coreProperties>
</file>