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CE8-F7AD-4F9C-9415-AF75AC76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12B-35F1-468B-B9BE-DE52507F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3FE-12BD-4E6C-8212-8A26630A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1EF-C5CC-424C-B44A-2418B3A4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7A3-0CFE-49E8-A0CE-7B90D225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42EE-B2AC-4469-B728-6E4AC7D5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0FF-8E95-47E3-9EEF-7ACE1F76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A82-1A7F-4B2A-BD54-2C18F5EC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4D73-498F-4480-8B92-D49EB779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62AA-A56F-473D-8DA2-DBB8FE6D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7F35-2DE8-4413-91F4-7EA176D3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E93-9668-4B15-AA10-0F79766C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04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C5E61-3CB3-401B-B7EF-9D61A6C35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940360" cy="4221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50920" y="306360"/>
            <a:ext cx="871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3c6"/>
                </a:solidFill>
                <a:latin typeface="Times New Roman"/>
              </a:rPr>
              <a:t>Муниципальное бюджетное общеобразовательное учреждение Городского округа Балашиха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3c6"/>
                </a:solidFill>
                <a:latin typeface="Times New Roman"/>
              </a:rPr>
              <a:t>«Средняя общеобразовательная школа №3 имени И.А. Флёрова»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50920" y="835200"/>
            <a:ext cx="86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"/>
              </a:rPr>
              <a:t>Ценность шахматных фигур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6659280" y="5013360"/>
            <a:ext cx="24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3c6"/>
                </a:solidFill>
                <a:latin typeface="Times New Roman"/>
              </a:rPr>
              <a:t>Руководитель: Алваров Л.Р.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4127400" y="6165720"/>
            <a:ext cx="179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3c6"/>
                </a:solidFill>
                <a:latin typeface="Times New Roman"/>
              </a:rPr>
              <a:t>гор. окр.  Балашиха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3c6"/>
                </a:solidFill>
                <a:latin typeface="Times New Roman"/>
              </a:rPr>
              <a:t>2022 г.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i?id=1592d38ae24ee0879e982b79bcd32994d8928fc7-4076875-images-thumbs&amp;n=13&amp;exp=1"/>
          <p:cNvPicPr/>
          <p:nvPr/>
        </p:nvPicPr>
        <p:blipFill>
          <a:blip r:embed="rId1"/>
          <a:stretch/>
        </p:blipFill>
        <p:spPr>
          <a:xfrm>
            <a:off x="684360" y="363600"/>
            <a:ext cx="8712000" cy="65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4"/>
          <p:cNvSpPr/>
          <p:nvPr/>
        </p:nvSpPr>
        <p:spPr>
          <a:xfrm>
            <a:off x="2446200" y="333360"/>
            <a:ext cx="662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пасибо 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а 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нимание!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9" name="Picture 5" descr="shutterstock_193994300-scaled"/>
          <p:cNvPicPr/>
          <p:nvPr/>
        </p:nvPicPr>
        <p:blipFill>
          <a:blip r:embed="rId1"/>
          <a:stretch/>
        </p:blipFill>
        <p:spPr>
          <a:xfrm>
            <a:off x="911160" y="2708280"/>
            <a:ext cx="5792760" cy="385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Шахматная школа Кузьминки. Шахматные уроки. Шахматные уроки для учебной  группы 1-го года обучения"/>
          <p:cNvPicPr/>
          <p:nvPr/>
        </p:nvPicPr>
        <p:blipFill>
          <a:blip r:embed="rId2"/>
          <a:stretch/>
        </p:blipFill>
        <p:spPr>
          <a:xfrm>
            <a:off x="1763640" y="2865600"/>
            <a:ext cx="3009960" cy="35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647640" y="333360"/>
            <a:ext cx="84963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тоимость  (ценность)  фигур: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оимость фигур – их сила по отношению друг к другу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оимость измеряется в пешках.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7" name="Picture 15" descr="DSCF8502"/>
          <p:cNvPicPr/>
          <p:nvPr/>
        </p:nvPicPr>
        <p:blipFill>
          <a:blip r:embed="rId1"/>
          <a:srcRect l="93314" t="0" r="6609" b="0"/>
          <a:stretch/>
        </p:blipFill>
        <p:spPr>
          <a:xfrm>
            <a:off x="6846840" y="2852640"/>
            <a:ext cx="4680" cy="3638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39d0515dfdd04730cb8ecefbe0d3b92d-800x"/>
          <p:cNvPicPr/>
          <p:nvPr/>
        </p:nvPicPr>
        <p:blipFill>
          <a:blip r:embed="rId2"/>
          <a:stretch/>
        </p:blipFill>
        <p:spPr>
          <a:xfrm>
            <a:off x="2195640" y="2637000"/>
            <a:ext cx="5246640" cy="3935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ОБ ИЗМЕНЧИВОЙ ЦЕННОСТИ ФИГУР, О ШАХМАТНОМ БЕССТРАШИИ И РАЗУМНОСТИ РИСКА.  Книга о шахматах"/>
          <p:cNvPicPr/>
          <p:nvPr/>
        </p:nvPicPr>
        <p:blipFill>
          <a:blip r:embed="rId3"/>
          <a:stretch/>
        </p:blipFill>
        <p:spPr>
          <a:xfrm>
            <a:off x="2771640" y="3924360"/>
            <a:ext cx="163836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2268360" y="0"/>
            <a:ext cx="453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тоимость фигур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468360" y="5328720"/>
            <a:ext cx="48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2" name="Picture 13" descr="word-image-3-e1554807167600"/>
          <p:cNvPicPr/>
          <p:nvPr/>
        </p:nvPicPr>
        <p:blipFill>
          <a:blip r:embed="rId1"/>
          <a:stretch/>
        </p:blipFill>
        <p:spPr>
          <a:xfrm>
            <a:off x="611280" y="907920"/>
            <a:ext cx="78850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Ценность шахматных фигур - презентация, доклад, проект скачать"/>
          <p:cNvPicPr/>
          <p:nvPr/>
        </p:nvPicPr>
        <p:blipFill>
          <a:blip r:embed="rId1"/>
          <a:stretch/>
        </p:blipFill>
        <p:spPr>
          <a:xfrm>
            <a:off x="468360" y="404640"/>
            <a:ext cx="819792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77164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тоимость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роля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636480" y="4005360"/>
            <a:ext cx="78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6" name="Picture 10" descr="1639507476_27-sportishka-com-p-ferz-v-shakhmatakh-krasivo-foto-28"/>
          <p:cNvPicPr/>
          <p:nvPr/>
        </p:nvPicPr>
        <p:blipFill>
          <a:blip r:embed="rId1"/>
          <a:stretch/>
        </p:blipFill>
        <p:spPr>
          <a:xfrm>
            <a:off x="1258920" y="907920"/>
            <a:ext cx="6815160" cy="4548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1"/>
          <p:cNvSpPr/>
          <p:nvPr/>
        </p:nvSpPr>
        <p:spPr>
          <a:xfrm>
            <a:off x="1191960" y="5589720"/>
            <a:ext cx="69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Король бесценен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Его гибель (мат) означает проигрыш партии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73288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65280" y="1125360"/>
            <a:ext cx="321012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1256760" y="404640"/>
            <a:ext cx="73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вноценный и неравноценный обмен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5165640" y="3197160"/>
            <a:ext cx="33084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2" name="Picture 7" descr="87ffab5ab742e371b8e5b27bf0a10b14"/>
          <p:cNvPicPr/>
          <p:nvPr/>
        </p:nvPicPr>
        <p:blipFill>
          <a:blip r:embed="rId1"/>
          <a:stretch/>
        </p:blipFill>
        <p:spPr>
          <a:xfrm>
            <a:off x="1403280" y="1268280"/>
            <a:ext cx="6456600" cy="48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0"/>
          <p:cNvSpPr/>
          <p:nvPr/>
        </p:nvSpPr>
        <p:spPr>
          <a:xfrm>
            <a:off x="324000" y="333360"/>
            <a:ext cx="820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ой знак поставить между фигурами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7" descr="image_5e3475f1d8303"/>
          <p:cNvPicPr/>
          <p:nvPr/>
        </p:nvPicPr>
        <p:blipFill>
          <a:blip r:embed="rId1"/>
          <a:stretch/>
        </p:blipFill>
        <p:spPr>
          <a:xfrm>
            <a:off x="1692360" y="2060640"/>
            <a:ext cx="6238800" cy="31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те стоимость фиг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6th-review-2-ALT-TEXT-chess-set-piece"/>
          <p:cNvPicPr/>
          <p:nvPr/>
        </p:nvPicPr>
        <p:blipFill>
          <a:blip r:embed="rId1"/>
          <a:stretch/>
        </p:blipFill>
        <p:spPr>
          <a:xfrm>
            <a:off x="457200" y="1971720"/>
            <a:ext cx="82296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9:35:48Z</dcterms:created>
  <dc:creator>Admin</dc:creator>
  <dc:description/>
  <dc:language>en-US</dc:language>
  <cp:lastModifiedBy>user</cp:lastModifiedBy>
  <cp:lastPrinted>2019-03-19T20:03:21Z</cp:lastPrinted>
  <dcterms:modified xsi:type="dcterms:W3CDTF">2022-11-25T07:03:22Z</dcterms:modified>
  <cp:revision>64</cp:revision>
  <dc:subject/>
  <dc:title>Слайд 1</dc:title>
</cp:coreProperties>
</file>