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235-0748-43E1-9288-6A2AE342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AA4C-C813-4114-9063-2B8DAFF4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92D9B-0FEB-4C8F-80E1-2EF04FD7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05583-4D07-4B51-8D48-69016E72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3DD67-02A4-47B3-B3F6-4F7BD0AD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C39AA-F41D-45BE-9253-CD745878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B0544-1DAF-4403-BBE6-6A366B69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8A334-3358-4F87-B3FF-05C54123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1C3B2-1801-4261-BE28-FF837817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6A1A3-BEB2-4A32-A305-7F943BF2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A7110-3B4B-4D35-9F9B-9B62682A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1BEB0-F9D0-4592-91B7-1949107F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D4C-6A7D-417E-B30C-1340B47D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BD39D-2311-4F7A-8314-896FD0DE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04706-5362-4F56-9EE8-3D983823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E0BA9-C18A-4564-9780-226972C7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EA688-210E-4FF2-BB01-B60EF0B4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126A1-B906-4F1A-B687-835D178C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6D105-3532-4AA6-A49B-C0E45C97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07423-2581-4D66-96A9-A4470D90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1CE97-2B02-494B-8AC3-A89FF867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339DD-34E7-4A33-A38B-5EAAEBEB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95DB9-94A6-4C10-8B62-3828C500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904-8672-4916-99E4-BCFC62B7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B84D8-175D-40F6-A237-E1E29BD1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CE92E-7CE3-4525-88F4-EAD2172E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5EB01-86E3-4F3A-BEB7-9C5DEEC4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CB8B4-25CD-46E8-90D8-3844C9B9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2517A-57F3-4C16-BA10-1FF3E5B6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4CEEF-1232-4BA7-AE49-B4D9425A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1A8E7-00F3-44EA-B23E-C0EFF21F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D48F1-7B85-4426-857A-9CB92BC1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487C1-58B0-4ABA-A652-7002E043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BB93F-6064-4A20-BA07-1355B651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10A3-98AD-4F35-8D36-FC252B9F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4EA35-1FB2-458E-BA75-E62BD8E1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5D2B5-5C45-4300-816D-AD1434FB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E5C02-01DA-46EA-9221-0928E96F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B5798-F326-4267-82E0-49B02B57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BCD6A-6EB5-45D5-9F25-DD238147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DCD3A-8431-4580-8BB2-2706A8B6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B85B0-28F6-4D2B-92D4-2CAA3BEB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D333E-13E2-433D-89DC-2E43B800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B7593-4BFC-435E-A866-66ABE4FD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F1957-BBAB-4973-8BEB-6320E6AA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3762-6864-498C-99E5-387E5E2B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93478-0BF6-4113-B5F4-2FE6B087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EA979-B69B-4E41-9C57-5C0E7EEC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B4795-BD85-4BAE-B72E-8DD6513F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28009-EAA6-48D0-8FA2-04891BDD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00CC2-18ED-452A-A26E-A2F108AD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A1A6-126C-4ECB-843F-3E0ACAB7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B787-EA01-49A2-85EB-2C7705CB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37BB-8939-4DEB-B46C-A3A58F62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FBAB-F786-429D-A946-1F88F0F4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96F1-28F4-4F1F-80D6-187046BE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1D4-28FE-4061-A995-E19812B2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871A-E643-4529-B051-D9904D5B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8260-29F8-4CF7-8F9C-31159710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50A6-51F2-49F0-B417-FC0BE02C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E537-06AC-4BEB-9DD7-D2180BAA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113A-11B9-441D-8EA8-6D27225F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D2BD3-5558-4012-88F1-D6040ABE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97D9-F42A-4337-8BFA-CA1AF857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63C43-592A-4443-9327-CAC2FA54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5357-64B0-4DDE-B9D6-D3112C84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0BBFE-E962-4A96-BC44-94175E5C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923-3E48-4A34-BA22-A6625AF4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7F625-CF81-4417-A23D-87D2C7D4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CE16-AB04-4B4F-BD81-06AF6624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CC512-0ED9-49BB-8C30-22605415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05D1D-3DA5-4124-9711-D7B507F6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C5AB4-D708-4182-B1CC-414E395D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62119-85FB-46A8-8940-30301A14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FFE3-1F0E-4DA1-BD25-620F9D88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597D7-22E1-4A2A-8769-D81E2FC3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9CA25-19E6-40F5-8348-230F698D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83FC4-5F4D-496F-AF1D-9C1AC894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6E2-2EA7-40FF-91E4-11A8C4B6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01921-5BF1-42C2-859B-235FDCAE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45B94-AE56-46C0-82CF-38C86A31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98624-FE34-4F3F-8F72-C1C10F61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DBA5B-0631-4FA7-946E-BCBB73A4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3A8EC-DEFA-489B-A70E-DC2CF959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2D2B2-4EBC-440C-8E08-1D307209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0338E-F3BC-4E85-BFB9-2032FAED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2BB30-38DA-4923-A380-349B8CAF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576F7-FC2A-4A8C-90A6-32AB5F52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3CC1D-D7F5-4E6F-98A9-5C81F22C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F84-7AF5-4C50-A2F6-00CEED61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092E6-1982-46DE-AA3C-174C7D99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7F430-53A8-492A-97B4-8AFC82CD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A0078-11B0-4A44-B98F-5C6F7382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EFC6B-4B28-44F2-8B0C-BE5D1A07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8FAD0-A4E7-4DCC-A8E8-4501A1FB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FAECF-DA94-4035-9A26-83F605D3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5D53C-40CE-4F8F-A869-A6E905C2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53979-5E87-4BA4-8C8A-CD7CB9E9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D3864-644C-439F-AA51-9747F796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BDD19-CA0A-4AA4-89AE-ADA82BDC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BF9-0CAA-4F86-826E-B7F13901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30235-5506-489C-9253-EF7B470E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57B28-FBF2-422F-8E5F-49BB8E70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16F7F-F3DB-47E3-9DF1-88BECF59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4D5ED-F966-48CA-ADE7-6C243DF9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5075C-3DD6-4819-A5F4-087B8C80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C26FA-44A4-47DA-B2C8-CD2DA66D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B5022-4CE4-4F02-AA05-72E5B599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15FA7-68A7-4A83-BDF2-AFD2BD19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BB4D1-634C-4901-8488-334BFBCF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0AEC9-E4E8-4035-A2A8-7CA6710A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8EC-285A-429F-8916-A57A1786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AE4F6-DAE0-4944-90DE-84CB0556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EC131-793D-48F6-806B-87E15B39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55796-4B32-48A1-B469-4D3215F0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F78B9-8568-40DD-AFC0-3B21713A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C5EC1-F78B-4133-96AD-950AF235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50FAB-E94E-4E14-80F2-01C9BAC0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0A80F-DEE0-414D-B466-2652CE08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52828-F37B-4973-ADAD-3F840839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DC55E-0768-4718-A224-86063A4A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795BD-E610-4C3A-A21D-C95B6579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F4C-748D-4F20-8576-16927125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3EE63-526B-4F7D-933D-93B8C51A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21813-CC93-4AD6-802E-77FB0545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65A0F-40A7-41DA-B215-B6EDC18B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585BF-97C8-4998-83E7-AF890182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4EE86-8438-4390-9556-2543BFFA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06881-78EF-4AEC-B782-6425EA88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FDF29-877C-4B60-955D-3F1ECE51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E5586-5E30-4019-BAC0-CDAC796A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89F94-721C-4C16-89B9-9E41B708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859E0-0A74-4EED-989B-9CCF639E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046-A109-455F-9291-23CF3816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D617C-E70E-49AC-BC7C-C44594F2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288A8-1DA1-40AF-9B2F-EE96142A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356E6-CA14-4EC5-9CE0-4FD0DF5F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76450-FF17-4DA4-8773-0DCD1C9C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85DD1-DB87-4749-AA26-EBCDE700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33E74-9EE3-4AC4-86F3-80196535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E2926-9FD0-49EE-8133-0A7C048F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E3686-CF66-4ED4-8696-05108C31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76AB4-18F3-4640-88BE-24AC1B9D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E5C55-0F9E-40A8-9842-E9C00311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6F85-A194-4749-9637-FE68D2E3C75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D831-1DF2-4946-ADF2-06BD736AC9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6D61-C622-49CC-B620-A4BA153E45F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D108-B0A4-4309-B1EA-752088666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81B1-59D9-4334-BD5A-DC0AE8FC77A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F71F-8EFB-49FA-BA8C-7B620926C7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3462-F4C2-4EC5-9050-F0B8AD44B1B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9BCA-758D-48E6-8A49-2071D2164A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F058-555F-4F9C-9808-1F1D5C8A231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EE42-2069-4249-ADBD-97899BBA6F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1032-2A21-49BD-BA7F-B62DFC3F527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D9C3-B04A-4212-9F5B-FACB740899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38CF-0F7B-4C0A-8819-9B0C9FD3CD5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7AFD-82C9-4235-9CFF-5B7D5AA325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A84D-6C39-47A6-8DD1-8287B0C59AF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5946-D005-4727-9442-B5C6E9084D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2FE6-43AE-4305-8ED6-2C7B004B1B2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24D5-B0B2-4979-9FF2-B46A6563DE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7103-58F1-4540-893D-E24BF99A325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A716-3F10-4350-A96B-E5CC0E043C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196B-945C-4C58-A479-38758B8C45F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69DE-0112-4E99-9E23-1E97D27EC9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44FB-0EE1-467D-816B-96D676FF551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F9DA-5A41-4C07-BDC8-F33F9F94E7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New picture" descr=""/>
          <p:cNvPicPr/>
          <p:nvPr/>
        </p:nvPicPr>
        <p:blipFill>
          <a:blip r:embed="rId1"/>
          <a:stretch/>
        </p:blipFill>
        <p:spPr>
          <a:xfrm>
            <a:off x="1009800" y="425520"/>
            <a:ext cx="7124400" cy="60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New picture" descr=""/>
          <p:cNvPicPr/>
          <p:nvPr/>
        </p:nvPicPr>
        <p:blipFill>
          <a:blip r:embed="rId1"/>
          <a:stretch/>
        </p:blipFill>
        <p:spPr>
          <a:xfrm>
            <a:off x="1263600" y="425520"/>
            <a:ext cx="6616800" cy="60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New picture" descr=""/>
          <p:cNvPicPr/>
          <p:nvPr/>
        </p:nvPicPr>
        <p:blipFill>
          <a:blip r:embed="rId1"/>
          <a:stretch/>
        </p:blipFill>
        <p:spPr>
          <a:xfrm>
            <a:off x="1403280" y="425520"/>
            <a:ext cx="6337440" cy="60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New picture" descr=""/>
          <p:cNvPicPr/>
          <p:nvPr/>
        </p:nvPicPr>
        <p:blipFill>
          <a:blip r:embed="rId1"/>
          <a:stretch/>
        </p:blipFill>
        <p:spPr>
          <a:xfrm>
            <a:off x="1238400" y="425520"/>
            <a:ext cx="6667200" cy="600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25T05:06:24Z</dcterms:created>
  <dc:creator/>
  <dc:description/>
  <cp:keywords/>
  <dc:language>en-US</dc:language>
  <cp:lastModifiedBy>YUESP</cp:lastModifiedBy>
  <cp:lastPrinted>2023-06-25T05:06:24Z</cp:lastPrinted>
  <dcterms:modified xsi:type="dcterms:W3CDTF">2023-06-25T05:08:08Z</dcterms:modified>
  <cp:revision>2</cp:revision>
  <dc:subject/>
  <dc:title>Презентация PowerPoint</dc:title>
</cp:coreProperties>
</file>