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3CC-8102-4F95-BF2D-36CAC977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EF8-A4E5-4C3C-979F-C2187EE4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D45EB-0D05-4B92-AC77-D6EF974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A020C-5E0D-41B6-8A93-A451F0D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A6F21-4AFB-4913-90B3-582729FA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AADB9-7564-4C81-80CB-622FA70F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AEAA0-1A98-4A66-BCD4-41ABABB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7596D-E268-46A0-9114-75286DF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14B7B-4FA1-47F5-81E7-9CC277E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DF3CB-5524-48CD-80F0-E57FC652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BE88F-8765-45D0-8224-E666A41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58DA6-EF12-43EE-BC19-293CCD64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2E2-C40A-4255-A03A-E488D0E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64676-C39D-4BDE-9558-43519EC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1CA7F-53C1-49F1-A74F-79859CE5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5DE72-F2AA-4010-94B7-EAAACBC8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5C2B8-00FE-4E8F-9541-18E6781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CEB6A-4D51-483C-8BB7-9962D77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A3EC2-0213-4DB2-9AD9-165A8A0D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9C7A6-41C8-4C1E-A9A5-A0205BD2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39BA2-844B-4359-BFAE-C067742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34CCC-8F88-438B-BDD4-8BC3F30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9189C-241B-483B-82BE-4C330C1B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706-6FA2-4B1E-A396-E888DFB0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DB89D-2514-4F9B-A73C-D44E7340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90EC2-E23B-4A93-9ECA-A04E6670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D767B-8B7A-47C2-8DFC-92F4AAC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E5627-7122-4799-ABCD-C53D5251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5D0A-BC8F-4D2B-9EDF-3C8DA38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C6172-9610-49FD-A8BB-33DD4BB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897E4-6627-4B7B-AED1-6B020BD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8B61-9800-4424-A0D1-599994C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8F92B-D6AF-4CCA-8DC8-F323D7B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6CC7-1A5B-4ADB-B3AB-A107D3C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D2F-CA26-4D57-97D9-2E98956A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80119-EB57-4D17-A3FA-ADF2126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73842-FDD4-4134-962F-27980E8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CAEAD-8615-4576-8E4F-5F4A68BC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28F95-94C8-4734-A11C-7A109280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ED314-6E78-4308-9257-BEFE8419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5E61F-42D1-498F-9988-7CD1617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DD57D-2AA6-4F36-A97A-FA86416E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E8D6C-7834-4C40-91F3-8082EC4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A2655-EC3B-41B3-A48C-DB04FB5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F0459-A865-42FE-AE31-F4A38DB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0400-7856-4244-9631-3FDB338D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DAE7-F858-4E99-BDDE-E5E1B7D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0AF94-8298-4BF4-BE9B-312AD76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C5892-1B73-4BFB-AF46-16E92E32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EF454-C5B5-4C21-9E55-88809EDB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4C10-D66E-468A-9E1D-7030831C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5F9F-F2F3-4403-8A0C-22E95814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DD1-1F78-47E0-877A-0822975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9DF-8501-4391-858C-EBF3E185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745A-07E2-4831-AA88-459B62B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668-8575-46A0-9E68-1490FA3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197-55F5-431C-BDC3-A0D18E3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D48-5A38-4569-89B6-89C05D7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2116-1689-4233-9CAC-1BDC9A8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007B-9CAE-4F72-AD32-955B9EA3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47C-10AA-4308-8946-EE0E8C2F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750-3E11-40B7-9A70-55E7E432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EA3F-397D-4EB7-9EB9-F71BE247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921A-CA2B-4966-91FF-C156B7FE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A54B-DABA-4BDC-9292-23DEA141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7FEE-C16B-43B2-8741-5C4ADCE2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CA02-79C7-460A-B7CD-1E358EC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7FA-247E-46A4-A381-0A00BA93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DDD11-5576-4BAA-871C-739794A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543F-6D75-4A5B-A114-C1B2E39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EF6F-3270-4BA1-BE14-AEEF7D7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4CC5-F0FB-49D2-BAC9-5CCF1BD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89B1-4C30-4458-B754-3853A8F4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F2EE-1FAE-45B1-9968-375920D9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D2E6-61DF-4BF9-A4E3-ECB0013C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C5F2-F549-4635-8179-2A325166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6166-3603-42A5-94BA-15BC5C66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71A9-E27E-4C1B-940A-1D7A215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D8C-AB74-4B62-B378-0C7FBEA7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AFE3-34EC-4EA1-8FFF-EED44806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394A-D708-41B9-AFFD-AF4E5021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9AB3E-4EC6-406F-9329-DC54DB62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2DC2-35D7-447D-B2D5-5B4093C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E742-8064-4AE8-85A7-1E11BBC2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C4D6-AC87-4EEB-8444-A6D65FC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41E1-947D-4D74-AC6D-F9F7A056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2C65-1E15-47E5-9DDE-AE7AEDD4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E0F01-CEA9-4E89-98CF-47E10DEA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A737-EBB4-4261-9DC6-643272D5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53C-8E0C-4EF7-823C-8FE61C68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5755-CEBC-401B-80E1-16D30B7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F476-BF61-4666-BEF0-B9381D7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CA67-1061-4F3C-9D5A-77CB2A5D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A4BB-2C1E-43D9-8ABB-B9026A16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B18E-E68F-4840-BD52-F1B041DA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F2D6-75AA-4D76-B4EE-DA85D97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0E1E3-3723-4E5B-84C3-9F0A6CB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DDF5-0B26-487B-B8DD-DF71D7AF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D807-A333-4F46-83CB-6AC244C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87DE-C303-46EB-A60E-80204113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0D1-8B15-472E-A3E6-420ABF6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D374-66F8-4DAD-9B41-C9FABCD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D4430-7CB4-461D-9F94-F54869B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1C47-A85B-4A28-A30D-66748E5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7054-F956-40DF-901E-DCF38FA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60250-E765-4FBE-A9D8-E13D4D08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AF96-A6A0-4873-AB36-AEAB826A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D7B09-8035-4785-B6BB-7187BD1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5FF1-7DB0-4980-AE7C-19AC9A74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D2346-2D74-4654-A88B-1088D5A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B2C2-D33A-46B3-BF2A-285C8BF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ADC-049F-44B0-8EBA-665407F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6D21-3A64-49DC-B2A1-E17B4857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00C5-41E9-4630-8F79-41337734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CA35-8515-44FA-96F3-B33835BC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AC43-0A47-4591-93D9-62726EC1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24DAE-EA4C-40C4-9605-061D5CF4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FFF5-3E0F-47E3-B7F1-8320C96D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0F01-E431-456A-8A71-4B8C43B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781C-8EC9-4BE9-87C3-48E04CCC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B6E9-4ECE-407E-BEEF-097D54C7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E19D2-3EFC-4C84-8F37-B9B6E19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676-0533-4358-80E8-0F83D58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038D-5A18-474D-B2E7-BD57AB7A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E8B9-D46A-460B-886F-9BC13DC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0D170-1807-451E-91EB-EA0EB0A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37418-3693-40CC-9CD5-B2B99D80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C3C8C-D391-4A84-B856-D8344993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9C8E-10C5-427C-BCFF-4E43B3F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F546-C123-4B58-AAD3-D6651DB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E7CA9-D643-4D29-A78F-7D5C767C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1D369-D089-419A-B2A9-C9CBA15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EEEB-C215-46F5-9ACD-49BEF83D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3C4-A447-4E35-B251-B0532F0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B3BCC-1176-4380-825A-DDA50191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901F8-1FE6-4D92-86B8-1802635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95FF6-A8C6-41F6-A40C-4831965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954F8-0198-4B4A-BEED-088FB5D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9423-5EAD-4CF9-A83D-B5C6905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8C1F1-26F7-415B-83AD-1007C96F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13FF9-A208-4302-BDD0-0B1384EA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2DFB8-1640-4894-84B3-25ED4060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F302-FC43-48CE-988A-4277611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FBB9B-2CE7-49E3-A4B2-66BBF48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5E8-C848-4010-AB2F-637E120953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5BE-C62D-49C1-88C3-918B4A287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6523-E177-4EF5-9D67-9C85FF00E1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A91-0D87-4769-A9BB-A1F876B87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26A-EBB8-4F32-B174-120E4A85CD0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88A-2872-4CD6-A334-058294B8A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A5A-8ED3-4100-88B7-3BDC8C58A59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8122-8F9B-4706-BF18-76EDBFAB3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A9C8-2355-45BD-AD71-EF0A99694B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E13A-4F7D-4BD8-8B5C-44639280E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9BF-7057-4DEF-BD0C-917D792965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1D7-C271-4F46-A7F3-CE7CD8718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BAFE-92CB-49FB-8AE3-75B99AE1B8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4058-FFBB-4AD0-9C4F-35F5D0A15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A40-AD7B-474F-BA4D-3FA9D997484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5F7-B8EE-44FD-B814-CF03AE0FB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A15-EA61-447E-A5A6-1B697CD183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BEF-2E0E-4E41-BF7A-DAC7F49DE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507B-34D6-4DB3-83F9-51D4DF74FE3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C2C-CE87-4597-A6C1-235131C7E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98D-31B5-49DA-BDCE-D2B4C157C5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505-4F2A-4D8D-B09C-BF9AF4322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BEAF-B778-4FE7-A8BB-1069CBECCE0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027-5E09-4065-B1BF-169CAA6E3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New picture" descr=""/>
          <p:cNvPicPr/>
          <p:nvPr/>
        </p:nvPicPr>
        <p:blipFill>
          <a:blip r:embed="rId1"/>
          <a:stretch/>
        </p:blipFill>
        <p:spPr>
          <a:xfrm>
            <a:off x="1009800" y="425520"/>
            <a:ext cx="71244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New picture" descr=""/>
          <p:cNvPicPr/>
          <p:nvPr/>
        </p:nvPicPr>
        <p:blipFill>
          <a:blip r:embed="rId1"/>
          <a:stretch/>
        </p:blipFill>
        <p:spPr>
          <a:xfrm>
            <a:off x="1263600" y="425520"/>
            <a:ext cx="66168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ew picture" descr=""/>
          <p:cNvPicPr/>
          <p:nvPr/>
        </p:nvPicPr>
        <p:blipFill>
          <a:blip r:embed="rId1"/>
          <a:stretch/>
        </p:blipFill>
        <p:spPr>
          <a:xfrm>
            <a:off x="1403280" y="425520"/>
            <a:ext cx="633744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New picture" descr=""/>
          <p:cNvPicPr/>
          <p:nvPr/>
        </p:nvPicPr>
        <p:blipFill>
          <a:blip r:embed="rId1"/>
          <a:stretch/>
        </p:blipFill>
        <p:spPr>
          <a:xfrm>
            <a:off x="1238400" y="425520"/>
            <a:ext cx="66672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5T05:06:24Z</dcterms:created>
  <dc:creator/>
  <dc:description/>
  <cp:keywords/>
  <dc:language>en-US</dc:language>
  <cp:lastModifiedBy>YUESP</cp:lastModifiedBy>
  <cp:lastPrinted>2023-06-25T05:06:24Z</cp:lastPrinted>
  <dcterms:modified xsi:type="dcterms:W3CDTF">2023-06-25T05:08:08Z</dcterms:modified>
  <cp:revision>2</cp:revision>
  <dc:subject/>
  <dc:title>Презентация PowerPoint</dc:title>
</cp:coreProperties>
</file>