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DFF-E566-46FB-B870-9A9D1D42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E8D-9F65-462C-BD92-079FCEC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E541-8404-49CC-8586-E071EFC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24D0C-C069-4AAF-BC54-24F719E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37798-4C30-4ED5-9880-3BE753C1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BB4BC-D1D4-47B3-9A69-A46317A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DD619-A52B-448C-A65C-B69BA93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03CDB-520E-4BAD-A40E-AA6EC3E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E0F48-6D09-41CD-8C7B-68664286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CA366-17CC-46BC-BAF1-F2B539B1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467E3-F264-44E4-BF8D-1BF34F7F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50F2-35FD-4D1C-BE73-CEE69B48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FFF-9F9A-4936-B6FA-814E456C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C8AFE-6BB5-472A-B198-2EA9DEA7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2CCC0-F652-4A9B-BDDC-C94BDC90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C1375-8CAF-43AB-9B49-F07BD67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D9924-4D18-407F-AB48-FDF4BD0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B6235-6B74-4EAA-8A88-3EFC61C4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3CD1A-00DD-4B35-BC2E-54651E8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CBA88-C814-4989-86CE-59C1F00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A468-F01A-4704-84C6-D5A6A4B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98E5-204D-49B8-A834-2F5C0ABF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430C0-85FD-4B79-95A6-1223CFB4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21E-E33F-4B61-ACAD-42B89B74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30622-214F-40C9-A5C9-ADED91A8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9BD3-2146-40A0-8B6A-9CCC5509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099D1-B9A2-4383-80D1-B55DB8A9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9C67-3316-4B2E-BB8A-5D41DFA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86C10-4A3F-4794-A10E-034282AC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73E3-84F6-4931-98C6-6B2F04E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AE149-C2EC-4080-9D20-70441A9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CCE95-E1D0-4122-8F76-97424575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F8791-4642-4FC1-8DAF-570C9314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EBD6-2294-42CE-9315-00BBC74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0E39-4505-420E-8828-345C266E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20F77-EC49-4C38-B8F0-C804395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827FE-E6E5-445D-A393-C90B4FB5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94D06-424D-4961-888D-74AB02C1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B54C-B38E-450E-AE71-B9EA652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A1C04-2660-46E6-9100-70DBB7C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42BEF-368C-4E52-9E6F-404992E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677A5-BE51-4360-BA42-0CBFFB8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75C5D-8513-4F6F-8964-E10678D9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C227A-CFFB-4437-8F5F-1B2C89D1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23C6B-95D9-4EC9-A7B2-BDAFCE43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1083-F64E-46A1-AA1A-895149B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9DDA9-EBD0-48A8-B9F4-2BA1581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F0832-ACF9-41F8-BC3E-B1A3C43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E15E-6FD4-413F-9340-D5B57726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FBD31-A7C1-4734-8604-5ED313A3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6BBAE-D2EA-457E-AE94-A54B7A43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D42-A953-4DD9-ABEC-5C733F16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3143-6A85-4E81-8609-A91977A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4DC-659E-4A72-AD09-0EF74BF6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EB7-6ECC-4EFC-B346-2E9D33BA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C36-32C1-4E64-A4D3-CD2A9D9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CE2-FEB7-4CE1-879F-45654BAE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5E8-504C-4672-A5EC-EDC68B9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43A4-0BC9-42EF-A739-2AF9748F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4336-2A23-4C53-BCAA-A9E7777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A824-58A4-417F-A012-A5DF65AD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E36-A0AF-4526-B096-7D75A61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4836-0F54-4E68-A464-6B3528D5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8795-86C1-4585-8219-23CD074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B55D-00C8-45E5-A76D-656CFA64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56F1-3CEB-48F1-8DBC-7C4A221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D1B7-CC3F-4C77-90F0-2D410E2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52B-7B3C-4796-8DDF-E435939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80A7-313E-42DF-922D-BADE5F0E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8130-4E1E-4525-B38A-2342589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1E0F-7664-451D-A73A-16589CF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74E9-D6EC-4B44-A244-DF5875B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04B2-D565-4FD3-8CFB-92BBCF9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48EF-7BE3-410F-A533-0F34F50E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1973-4F09-4E09-B7EC-D583B0AB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3702-C501-4ADD-8D99-48D8C7B9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A0CB-76B6-4181-A4D0-54385FE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C307-0151-4196-BA1D-BE00411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A1A-6E30-4907-892B-9651E66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1A34-EDFA-4DD4-95B6-2D64617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5A63-2B8A-482A-91C5-4E9F0EC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CF788-DAC1-4A49-BCDE-DEB2F8A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BE8F-3737-4748-B1EE-0C6C763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1C1A-EE84-4F48-8FA3-32B5DD71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2674-9EC0-46F8-917A-3D7FE48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9CE7-6C10-4CAC-A7BA-5D0B5BC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295D-7ED2-4EEB-B940-61212B5E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B43B-0EC3-44CC-A343-2104E644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6508-C587-4DB3-A2C9-02619C05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185-77ED-4FB5-9D60-0D8378A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7243-D937-4177-9169-8D12CAF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E726-DE1B-453D-9383-6D98511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2C0E-3688-4322-BEDA-D0767962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99BE2-12EA-4025-BA2E-06F0383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FBD73-63FA-4C71-BE46-199C1464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18AF-5CC6-4AFF-BCE7-77EC87C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2092-DEC2-490C-95A6-5E90834F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26F9-D9B7-4272-8C3A-D5CFE5F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019BC-1048-4FBA-AE26-DA05562C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D1901-FD66-4065-B17B-6E3321D3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37C-12B7-4F82-BC25-939ED4F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7ED1-FCFE-490C-959D-33BB8B74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C60D-2B13-4C58-9012-FF706279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B702D-FBF1-4E09-ABDF-E5CA8BC3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08AE-8B02-4EBD-AACA-3EAA323D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43F7-9C90-48E8-BEF2-F712069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B1BFE-8D38-4FFB-9F66-4B5B5590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02B0-80C3-429B-BD6A-6A37B2B8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00ED-C759-422C-8A35-2B772AC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FF8E-BE28-4ABD-A16F-963E55D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7EC4-3A5B-4039-B4F9-70F715D5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67C-6CFD-4D43-9C58-B7D1B42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DA73-A216-421D-9025-F68EB5B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AC924-8471-4A74-B8E5-8E01DA16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19AE-407A-43BE-BAC2-47A34716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A176-9C8E-41EC-A2A3-459835FF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78634-39F0-439E-B0B4-027E94D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9736-BDAA-4D78-BF26-0690C1D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84A6C-CEF1-4576-A2BA-6859DC1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E0B27-C339-4E97-9B2C-4D6F21AC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4F87-7CA9-4086-BC06-3386F707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F618-7279-42DF-B88D-36351B7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9E8-629A-45CF-B10F-3024D9E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AA98A-0659-4B50-B216-97AC15A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9DC8A-EF4F-4116-940A-CB0E395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BFAE-079A-4CE2-A05B-F86AF41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C6BF-E220-4BE7-B0AD-86A6A1FA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ED40E-6A07-48F0-A233-41BE917D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91C9-9767-4801-A421-6AFE1342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EC3CA-7D14-47E1-B48D-7C02023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BBFF1-D686-4ECA-9646-382295FB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E117-DBA8-4D68-BF87-2B290EF1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C49C-FA03-4B8D-9974-CF767037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32B-CB77-40F8-B333-2D7E0CC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70695-E25D-4565-9EED-EC70DF1E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C843-4E3B-4FC3-B0F1-0C47528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1849-F1A5-45FF-AB5E-D52C161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A133-3D88-4122-9324-92E964F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9B69-C724-4769-959C-0C7975C0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2B91-C9E3-4B90-A480-711D9E73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7993-E013-4CE6-A8F4-4F652FCC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37548-4853-4A39-9AF1-0DBF121B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60FD-ED6C-4CAD-9FA2-BDC5CDF2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D2CDE-BF88-4A56-9483-4F9B09FC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394-3220-4053-B5EE-1B56E5F0A0F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6444-6235-4DBE-9FB5-421DDE8C0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971-7643-4CD5-9BDA-13C4AF3C08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DD0-78F6-45EF-B059-D587741EE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E2B9-7605-4336-999F-89EA6712BC2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7724-3FF3-4FE0-A0AE-79F2F17FF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BCE-674F-4E93-8AD0-91B918CC08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4AC-582E-46C8-B9F1-43C142DF3B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5B6-6D09-4F4B-B984-F3408A8355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12F-2653-4181-BB9C-02AA3DA26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D84-C629-48FA-8556-F05FA6CB4D2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7B2E-0AEA-4840-B383-04AD5DDC7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4360-9693-4CCE-97F6-E21E5BF4F85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397F-7909-4597-A9EA-AC42484D5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6FAE-5AA2-4203-BBA3-03ABBC663A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625-89F1-482C-9FF1-32536DE19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180D-AE8A-4E4A-AD7D-C14E0DDEBCD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764-A396-4088-9033-53F6008C3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0523-1C38-4EA6-A497-C2051079C1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5ED-2787-4F5B-AD1A-A8745A37E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13F5-C610-4492-904C-EED7455D38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BCE-663E-4EA9-ABF8-5546E496B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C0E-7932-40AB-9784-699132D4D3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A3B-435A-4187-931F-9F5E007C6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New picture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New picture" descr=""/>
          <p:cNvPicPr/>
          <p:nvPr/>
        </p:nvPicPr>
        <p:blipFill>
          <a:blip r:embed="rId1"/>
          <a:stretch/>
        </p:blipFill>
        <p:spPr>
          <a:xfrm>
            <a:off x="374760" y="127080"/>
            <a:ext cx="839448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ew picture" descr=""/>
          <p:cNvPicPr/>
          <p:nvPr/>
        </p:nvPicPr>
        <p:blipFill>
          <a:blip r:embed="rId1"/>
          <a:stretch/>
        </p:blipFill>
        <p:spPr>
          <a:xfrm>
            <a:off x="154944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New picture" descr=""/>
          <p:cNvPicPr/>
          <p:nvPr/>
        </p:nvPicPr>
        <p:blipFill>
          <a:blip r:embed="rId1"/>
          <a:stretch/>
        </p:blipFill>
        <p:spPr>
          <a:xfrm>
            <a:off x="1015920" y="127080"/>
            <a:ext cx="711216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New picture" descr=""/>
          <p:cNvPicPr/>
          <p:nvPr/>
        </p:nvPicPr>
        <p:blipFill>
          <a:blip r:embed="rId1"/>
          <a:stretch/>
        </p:blipFill>
        <p:spPr>
          <a:xfrm>
            <a:off x="1270080" y="38160"/>
            <a:ext cx="6603840" cy="678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5T05:42:13Z</dcterms:created>
  <dc:creator/>
  <dc:description/>
  <cp:keywords/>
  <dc:language>en-US</dc:language>
  <cp:lastModifiedBy>YUESP</cp:lastModifiedBy>
  <cp:lastPrinted>2023-06-25T05:42:13Z</cp:lastPrinted>
  <dcterms:modified xsi:type="dcterms:W3CDTF">2023-06-25T06:02:18Z</dcterms:modified>
  <cp:revision>2</cp:revision>
  <dc:subject/>
  <dc:title>Презентация PowerPoint</dc:title>
</cp:coreProperties>
</file>