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33A2-7CCF-409E-99A9-BAB18051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6B82-8B01-460E-BD25-B6C0E1E2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20BE3-5C04-4F99-B244-07C4FD0E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EAB2F-EEE9-4851-8663-459F6A63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12948-5F14-4630-8319-DC35D3E5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1C5F2-A354-486F-9245-414DA314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0B9F3-B507-4BBB-9E9F-22DE9829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8D7CC-EA62-43CE-95F6-C5040859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490DE-3FA9-41C9-8D77-193F49E8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6C6D9-A42B-499E-9184-ED5FC27A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F2DAA-FC72-46FD-850A-AEE8B660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E3B5F-23A8-47B1-A253-81E36BA6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3DB-AAD7-41A2-AA18-86275FB6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741F9-3200-4D96-B42E-D9395ED8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61411-ADC7-4262-9B1D-D77D7E0A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C45C5-1F50-4695-98F9-86060C2D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587AE-64E9-4C1E-B6E7-D8F41DE4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F5463-B023-4996-95F5-33B6806B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C21C8-A310-46A9-A14A-92D2EBF1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FAD04-815F-4AF5-9D68-1FA5198B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B2A10-A04C-498F-A553-B28958F5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FB579-70E6-473F-BA4C-D62CEE40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BFAD4-3970-4413-890C-749C069F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9A7-4EE0-4AC0-8F6C-77765C1F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B0039-72BD-48DB-A77C-7AE31B44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C0D95-CA4A-42BA-ABBE-07266777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1E8CE-5B53-48C4-B5C9-164D745C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B46A8-1A95-4512-8B46-43C58E59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FDA6B-2916-47DE-A430-EB697C36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86B79-618F-46A2-A262-D30DF38E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B7FC4-18CD-40BC-BE27-ECF89096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39781-468D-4CE6-B5B2-9E7141DA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89FB4-0166-452A-A393-56EA4956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774D0-F193-4323-B173-32240F81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7E8B-377C-4640-9CEF-99CDDEE5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8CCF5-A1ED-4227-9C96-329A6E19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A8B40-755B-4F6C-AFE2-BF1A334C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F1537-CBD3-48C1-B29F-259A8C3A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11541-AB19-4D44-B88E-5BB1C19D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841E2-CEF1-4C95-9D7B-6BBE795A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37E11-9841-4B29-873B-A40C4A0B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AE595-DC0F-4BCE-9729-7BCF259F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6F19C-5AB6-43FB-9A8B-904FEC88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19191-5C99-438D-BE88-6F1DB2B8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69016-103C-415C-B6E9-B539DE0B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FBAD-1AFB-4FD4-B5B4-626DB816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FE7D1-32BC-415B-BFC2-BCBDF2CD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929D6-6FD5-4084-A7B9-E1E4023D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79C86-79D1-47D7-9E2C-97AB77A5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F0ECA-D4D8-4D3B-9425-9B298866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F9768-CDF3-426E-B319-5F0F137E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718F-651D-4B5E-932A-674C080D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DCDC-FBE9-41E9-8842-9DF2B3DD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D083-54BF-45A9-9132-45D13A34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6A99-6A75-4D73-A69C-76427370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AB38-CE0E-42F3-89BD-BF7E5317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815-89A7-4BC1-A88C-2A0A52FC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579C-48E9-475B-9968-13337FA1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FAF3-1781-4E3E-ADDA-139A4C3B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5A60-E496-4BF4-81A6-8E432B45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D165-97D3-4A81-85CC-D5711E16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D93B-03BA-4B51-B392-DBFDEBE6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C9855-970D-4066-AE32-8AE81426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2A3CB-806F-4CC7-82F7-72C2FC27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F9B6A-9EBC-4B41-80A5-7CDE7CB8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A187F-7C9B-4703-8A18-1F6039E1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99478-53C5-4891-BF77-907760CA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3CE-C531-47A1-A208-5A30A134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3F528-BD52-4453-9476-AA10EDF3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3EF5A-5F6C-42CF-87E4-811FFAF5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B0F13-A5D1-4149-8995-830BB386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C3188-CBEE-49EC-A0E6-6D38D4B5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76839-2F91-4540-8D21-2CDB9BC4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661E1-97A4-4B47-9D02-00874511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16D3B-2CEC-43F7-9DFA-70405710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A18F9-1662-4BA3-8B4B-6017F246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C1EFF-885F-458D-AE63-C2BC632B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CEBCB-E9C7-4618-A03D-D8E60831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AD3-B5B5-4A8D-A299-42AFC769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0B1CF-68E6-4F3E-9D92-7E02D95D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AD0E5-421B-4CA9-91B0-1016D1D7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E9717-C7E6-49F8-B3CB-5AA92227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E6862-FFA7-46B0-AB78-67757A57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251EE-0D9B-43E3-B990-620E713A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8F0DF-42FF-41F0-94C9-B1884AD6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393D9-0671-4BC3-9228-A59500E0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48873-83B5-47AB-AAFC-6D94B012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048BA-9E3A-4794-9625-2C4C9DD6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0DF47-EE83-4CCE-9B73-CDE0593F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5A0F-A618-482C-9026-DF811A28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40BA0-CD7B-49BE-ABBF-F8B0359A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0F534-7346-4B10-84DD-D2FE9261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6C095-64F5-4F74-9E64-6EA88572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D8442-662A-499F-92CB-CA244B9C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58F51-0230-464E-8504-0C5BBBDD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3645B-29AF-4BD5-83E3-FCDE61C4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01FA9-A91F-4DA3-8409-DB62FD14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2A009-4828-4246-B783-884F97D6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60FFE-8B3F-49B6-A85D-FC40B403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71294-3951-41C6-8996-EB4D5BC6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E28-3545-4FDF-B6A1-5354E993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82B12-27B0-4DF6-940E-92B2718D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428F0-907A-47F7-8B6A-D03D2A31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9FFBC-62A3-40BB-A8E8-EAE455D7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0093F-F44F-4B7B-8D1F-8E941A28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1A856-12F0-488B-BEE9-51DB6887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4CDC4-1789-477C-8C81-46E614B0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14F21-E1D7-485B-B72A-6B2A5529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9EAA6-83B0-4C62-B2F1-10AAA008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8534D-8318-4DF0-9D4D-8CBB215F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3748C-6255-406A-8D6C-4DAD0FD6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C8E-B4CA-41AA-9F8C-16E4C531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A35CD-693B-4582-87FD-A72D311F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0B264-6646-4030-8C4A-C41DC1C3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9B896-4A9A-40DD-BA50-B744D7E6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D4949-DEAE-4AE4-8A85-6847C839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5B3AF-53DA-47DE-AA57-25413F56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DF37E-7791-4771-B3EE-24C707C3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62182-9B43-40CB-9566-5DD53618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EFD41-C348-4928-920A-E5DDC0AF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4323E-015F-498C-B75E-2DF7CBD6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9B001-D947-49F7-8B20-06538CFC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5BDB-BCF9-4A4C-99EF-1A591F82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468FA-95A2-4FB2-B415-E2350276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5EBFB-88C1-4994-A720-C1EDAD5E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1B5BE-8D77-4C2A-9843-72C74A73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5236A-0789-497D-A597-017AAC4F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2B76C-2F99-4EF0-8050-AEB43602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8B002-11DD-43D1-A97B-2A330375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212F4-E2AE-4A2B-9480-BFE1FA0C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71C31-C267-4ABE-ABDA-78855BE2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3C490-86F5-411E-AF28-E77FADCE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71323-3E89-4F92-A475-3130D4D2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CD1-AA67-4AD8-A62E-B8D6185E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335DE-F8EB-41B3-85B6-37B9552C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39C56-6275-4F29-9BEB-502BEE66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D6317-0600-47BE-9FCB-DD04A032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C7248-D071-4D4A-9542-5D1A3000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7C497-71AB-40E0-A5B6-CECEB16D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47409-D04F-4472-B804-C9AE12A3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AC2F9-F99A-4E08-9C43-7434F30A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4F60F-4170-4328-95D2-0BB1AF25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9469C-4686-459F-A420-FC6AF125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47EB6-394B-41A4-8D19-1A35F1E0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0D17-3C28-44B3-8ACA-394C55E467A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EB2F-0436-40FC-910E-2104AED1D0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36CE-18D4-4241-A077-A7578B3F0E4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40EA-78C3-411F-982F-503DDDB2B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CBB6-F91F-4442-A26B-47521AC3FDA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0537-4609-4360-87A9-064D60753C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BD8B-8BBA-4D59-A30F-EF8A6C8FD58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E6CA-8DB2-4930-9C57-15AC938E4F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2AB3-3865-461F-83DD-1CD7EC11C7E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35B2-5F88-4F90-8782-D374D6638F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695E-A97F-4218-B517-48D5B7A4435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35D0-B0F7-401E-9C6F-618A9529BD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BC2A-EA79-4F2E-B2B5-B4180668357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E8AE-B91B-4368-9AC2-FEDAF20F43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EF2E-2ED8-4E0B-BF69-8714EB38BFC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60E0-5CF0-4C0C-8409-07D80A84B2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3EA6-D988-4A00-B875-F704FA71517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7891-0BEC-4D76-B0AA-84422E2026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B077-1C66-411D-84B7-550E54DB29B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2F36-D18C-4716-B9C5-E04D020222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888A-D0FF-4A1B-95BB-A7DFB9005CE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FEEE-555A-4C2A-8B13-DB4124F4D4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8C55-BA23-4FB3-899B-08EBF6D4C24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EC4E-8131-4566-A48C-8817FEAD0A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New picture" descr=""/>
          <p:cNvPicPr/>
          <p:nvPr/>
        </p:nvPicPr>
        <p:blipFill>
          <a:blip r:embed="rId1"/>
          <a:stretch/>
        </p:blipFill>
        <p:spPr>
          <a:xfrm>
            <a:off x="0" y="514440"/>
            <a:ext cx="9144000" cy="58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New picture" descr=""/>
          <p:cNvPicPr/>
          <p:nvPr/>
        </p:nvPicPr>
        <p:blipFill>
          <a:blip r:embed="rId1"/>
          <a:stretch/>
        </p:blipFill>
        <p:spPr>
          <a:xfrm>
            <a:off x="374760" y="127080"/>
            <a:ext cx="8394480" cy="660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New picture" descr=""/>
          <p:cNvPicPr/>
          <p:nvPr/>
        </p:nvPicPr>
        <p:blipFill>
          <a:blip r:embed="rId1"/>
          <a:stretch/>
        </p:blipFill>
        <p:spPr>
          <a:xfrm>
            <a:off x="1549440" y="0"/>
            <a:ext cx="6045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New picture" descr=""/>
          <p:cNvPicPr/>
          <p:nvPr/>
        </p:nvPicPr>
        <p:blipFill>
          <a:blip r:embed="rId1"/>
          <a:stretch/>
        </p:blipFill>
        <p:spPr>
          <a:xfrm>
            <a:off x="1015920" y="127080"/>
            <a:ext cx="7112160" cy="660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New picture" descr=""/>
          <p:cNvPicPr/>
          <p:nvPr/>
        </p:nvPicPr>
        <p:blipFill>
          <a:blip r:embed="rId1"/>
          <a:stretch/>
        </p:blipFill>
        <p:spPr>
          <a:xfrm>
            <a:off x="1270080" y="38160"/>
            <a:ext cx="6603840" cy="678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25T05:42:13Z</dcterms:created>
  <dc:creator/>
  <dc:description/>
  <cp:keywords/>
  <dc:language>en-US</dc:language>
  <cp:lastModifiedBy>YUESP</cp:lastModifiedBy>
  <cp:lastPrinted>2023-06-25T05:42:13Z</cp:lastPrinted>
  <dcterms:modified xsi:type="dcterms:W3CDTF">2023-06-25T06:02:18Z</dcterms:modified>
  <cp:revision>2</cp:revision>
  <dc:subject/>
  <dc:title>Презентация PowerPoint</dc:title>
</cp:coreProperties>
</file>