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evelup.wav" ContentType="audio/x-wav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BumpBonusReceived.wav" ContentType="audio/x-wav"/>
  <Override PartName="/ppt/media/notic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A54-A8A3-49F2-A7EF-16F485B5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02F-F908-4870-8656-06F8351C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DD6-18F0-44AE-90E1-3C3F8F45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F6E-0FD9-47F9-ABD7-53E28DCC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ECED-A805-49A4-89FD-99F998C0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142D-7F8F-428A-8D3D-C49F9847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1C9E-B279-41BC-A813-39A6F36E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6975-F86E-46EB-A8BD-001330C8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C0D5-C79B-4DDF-AC80-387344DB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73E5-9373-4172-9970-6652B98A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6A82-B985-47A4-858A-F65A08C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952-2082-44B5-987C-9B5908CB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9666-5DC0-412B-8259-DF2CF56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B8C6-287D-4AA6-829B-7AB1DE98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BB33-FF5B-4683-A5AD-0D3CA50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7100-C936-4D44-B3DE-2AA1AC8B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84C0-1497-4763-ADDC-6ECAE181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989-C60C-4E25-A424-8C69BEE8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64B-DD58-4AB9-B8C7-DBA6F596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4DF-2C37-4354-8CCB-DC715161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30B-35B1-499B-A351-F3C88F7B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3A0-8841-4865-9991-0B4671F6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108-A4D5-4094-8F96-B22FB507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208-982F-4B5C-88CE-84FE7397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2ACF-BD03-468F-A676-AE693FF665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3BC9-825A-4B98-9873-EA338DAD2F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evelup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audio" Target="../media/levelup.wav"/><Relationship Id="rId9" Type="http://schemas.openxmlformats.org/officeDocument/2006/relationships/audio" Target="../media/BumpBonusReceived.wav"/><Relationship Id="rId10" Type="http://schemas.openxmlformats.org/officeDocument/2006/relationships/audio" Target="../media/notice.wav"/><Relationship Id="rId11" Type="http://schemas.openxmlformats.org/officeDocument/2006/relationships/audio" Target="../media/notice.wav"/><Relationship Id="rId12" Type="http://schemas.openxmlformats.org/officeDocument/2006/relationships/audio" Target="../media/notic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Arial"/>
              </a:rPr>
              <a:t>ТЕСТ</a:t>
            </a:r>
            <a:br>
              <a:rPr sz="6000"/>
            </a:br>
            <a:r>
              <a:rPr b="0" lang="ru-RU" sz="6000" spc="-1" strike="noStrike">
                <a:solidFill>
                  <a:srgbClr val="660066"/>
                </a:solidFill>
                <a:latin typeface="Arial"/>
              </a:rPr>
              <a:t>ЧАСТИ РЕ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levelup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9. Выбери  глагол  из  данных  слов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871560" y="22766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560840" y="2260440"/>
            <a:ext cx="3667320" cy="116856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74" h="21600">
                <a:moveTo>
                  <a:pt x="0" y="0"/>
                </a:moveTo>
                <a:lnTo>
                  <a:pt x="67774" y="0"/>
                </a:lnTo>
                <a:lnTo>
                  <a:pt x="67774" y="21600"/>
                </a:lnTo>
                <a:lnTo>
                  <a:pt x="0" y="21600"/>
                </a:lnTo>
                <a:close/>
              </a:path>
              <a:path fill="lightenLess" w="67774" h="21600">
                <a:moveTo>
                  <a:pt x="0" y="0"/>
                </a:moveTo>
                <a:lnTo>
                  <a:pt x="67774" y="0"/>
                </a:lnTo>
                <a:lnTo>
                  <a:pt x="66374" y="1400"/>
                </a:lnTo>
                <a:lnTo>
                  <a:pt x="1400" y="1400"/>
                </a:lnTo>
                <a:close/>
              </a:path>
              <a:path fill="darken" w="67774" h="21600">
                <a:moveTo>
                  <a:pt x="67774" y="0"/>
                </a:moveTo>
                <a:lnTo>
                  <a:pt x="67774" y="21600"/>
                </a:lnTo>
                <a:lnTo>
                  <a:pt x="66374" y="20200"/>
                </a:lnTo>
                <a:lnTo>
                  <a:pt x="66374" y="1400"/>
                </a:lnTo>
                <a:close/>
              </a:path>
              <a:path fill="darkenLess" w="67774" h="21600">
                <a:moveTo>
                  <a:pt x="6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74" y="20200"/>
                </a:lnTo>
                <a:close/>
              </a:path>
              <a:path fill="lighten" w="6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4859280" y="4146480"/>
            <a:ext cx="3816360" cy="136836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60232" h="21600">
                <a:moveTo>
                  <a:pt x="0" y="0"/>
                </a:moveTo>
                <a:lnTo>
                  <a:pt x="60232" y="0"/>
                </a:lnTo>
                <a:lnTo>
                  <a:pt x="60232" y="21600"/>
                </a:lnTo>
                <a:lnTo>
                  <a:pt x="0" y="21600"/>
                </a:lnTo>
                <a:close/>
              </a:path>
              <a:path fill="lightenLess" w="60232" h="21600">
                <a:moveTo>
                  <a:pt x="0" y="0"/>
                </a:moveTo>
                <a:lnTo>
                  <a:pt x="60232" y="0"/>
                </a:lnTo>
                <a:lnTo>
                  <a:pt x="58832" y="1400"/>
                </a:lnTo>
                <a:lnTo>
                  <a:pt x="1400" y="1400"/>
                </a:lnTo>
                <a:close/>
              </a:path>
              <a:path fill="darken" w="60232" h="21600">
                <a:moveTo>
                  <a:pt x="60232" y="0"/>
                </a:moveTo>
                <a:lnTo>
                  <a:pt x="60232" y="21600"/>
                </a:lnTo>
                <a:lnTo>
                  <a:pt x="58832" y="20200"/>
                </a:lnTo>
                <a:lnTo>
                  <a:pt x="58832" y="1400"/>
                </a:lnTo>
                <a:close/>
              </a:path>
              <a:path fill="darkenLess" w="60232" h="21600">
                <a:moveTo>
                  <a:pt x="60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32" y="20200"/>
                </a:lnTo>
                <a:close/>
              </a:path>
              <a:path fill="lighten" w="60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760320" y="4221000"/>
            <a:ext cx="3748320" cy="1293840"/>
          </a:xfrm>
          <a:custGeom>
            <a:avLst/>
            <a:gdLst>
              <a:gd name="textAreaLeft" fmla="*/ 83520 w 3748320"/>
              <a:gd name="textAreaRight" fmla="*/ 3664800 w 3748320"/>
              <a:gd name="textAreaTop" fmla="*/ 83520 h 1293840"/>
              <a:gd name="textAreaBottom" fmla="*/ 1210320 h 1293840"/>
            </a:gdLst>
            <a:ahLst/>
            <a:rect l="textAreaLeft" t="textAreaTop" r="textAreaRight" b="textAreaBottom"/>
            <a:pathLst>
              <a:path w="62565" h="21600">
                <a:moveTo>
                  <a:pt x="0" y="0"/>
                </a:moveTo>
                <a:lnTo>
                  <a:pt x="62565" y="0"/>
                </a:lnTo>
                <a:lnTo>
                  <a:pt x="62565" y="21600"/>
                </a:lnTo>
                <a:lnTo>
                  <a:pt x="0" y="21600"/>
                </a:lnTo>
                <a:close/>
              </a:path>
              <a:path fill="lightenLess" w="62565" h="21600">
                <a:moveTo>
                  <a:pt x="0" y="0"/>
                </a:moveTo>
                <a:lnTo>
                  <a:pt x="62565" y="0"/>
                </a:lnTo>
                <a:lnTo>
                  <a:pt x="61165" y="1400"/>
                </a:lnTo>
                <a:lnTo>
                  <a:pt x="1400" y="1400"/>
                </a:lnTo>
                <a:close/>
              </a:path>
              <a:path fill="darken" w="62565" h="21600">
                <a:moveTo>
                  <a:pt x="62565" y="0"/>
                </a:moveTo>
                <a:lnTo>
                  <a:pt x="62565" y="21600"/>
                </a:lnTo>
                <a:lnTo>
                  <a:pt x="61165" y="20200"/>
                </a:lnTo>
                <a:lnTo>
                  <a:pt x="61165" y="1400"/>
                </a:lnTo>
                <a:close/>
              </a:path>
              <a:path fill="darkenLess" w="62565" h="21600">
                <a:moveTo>
                  <a:pt x="6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65" y="20200"/>
                </a:lnTo>
                <a:close/>
              </a:path>
              <a:path fill="lighten" w="6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ЕН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9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0. Слова ВАРЕНЬЕ, РАКЕТА, КАРТИНА, ФЕВРАЛЬ -  это  …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828720" y="425448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СУЩЕСТВ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560840" y="2260440"/>
            <a:ext cx="3667320" cy="116856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74" h="21600">
                <a:moveTo>
                  <a:pt x="0" y="0"/>
                </a:moveTo>
                <a:lnTo>
                  <a:pt x="67774" y="0"/>
                </a:lnTo>
                <a:lnTo>
                  <a:pt x="67774" y="21600"/>
                </a:lnTo>
                <a:lnTo>
                  <a:pt x="0" y="21600"/>
                </a:lnTo>
                <a:close/>
              </a:path>
              <a:path fill="lightenLess" w="67774" h="21600">
                <a:moveTo>
                  <a:pt x="0" y="0"/>
                </a:moveTo>
                <a:lnTo>
                  <a:pt x="67774" y="0"/>
                </a:lnTo>
                <a:lnTo>
                  <a:pt x="66374" y="1400"/>
                </a:lnTo>
                <a:lnTo>
                  <a:pt x="1400" y="1400"/>
                </a:lnTo>
                <a:close/>
              </a:path>
              <a:path fill="darken" w="67774" h="21600">
                <a:moveTo>
                  <a:pt x="67774" y="0"/>
                </a:moveTo>
                <a:lnTo>
                  <a:pt x="67774" y="21600"/>
                </a:lnTo>
                <a:lnTo>
                  <a:pt x="66374" y="20200"/>
                </a:lnTo>
                <a:lnTo>
                  <a:pt x="66374" y="1400"/>
                </a:lnTo>
                <a:close/>
              </a:path>
              <a:path fill="darkenLess" w="67774" h="21600">
                <a:moveTo>
                  <a:pt x="6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74" y="20200"/>
                </a:lnTo>
                <a:close/>
              </a:path>
              <a:path fill="lighten" w="6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ГЛАГ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859280" y="4146480"/>
            <a:ext cx="3816360" cy="136836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60232" h="21600">
                <a:moveTo>
                  <a:pt x="0" y="0"/>
                </a:moveTo>
                <a:lnTo>
                  <a:pt x="60232" y="0"/>
                </a:lnTo>
                <a:lnTo>
                  <a:pt x="60232" y="21600"/>
                </a:lnTo>
                <a:lnTo>
                  <a:pt x="0" y="21600"/>
                </a:lnTo>
                <a:close/>
              </a:path>
              <a:path fill="lightenLess" w="60232" h="21600">
                <a:moveTo>
                  <a:pt x="0" y="0"/>
                </a:moveTo>
                <a:lnTo>
                  <a:pt x="60232" y="0"/>
                </a:lnTo>
                <a:lnTo>
                  <a:pt x="58832" y="1400"/>
                </a:lnTo>
                <a:lnTo>
                  <a:pt x="1400" y="1400"/>
                </a:lnTo>
                <a:close/>
              </a:path>
              <a:path fill="darken" w="60232" h="21600">
                <a:moveTo>
                  <a:pt x="60232" y="0"/>
                </a:moveTo>
                <a:lnTo>
                  <a:pt x="60232" y="21600"/>
                </a:lnTo>
                <a:lnTo>
                  <a:pt x="58832" y="20200"/>
                </a:lnTo>
                <a:lnTo>
                  <a:pt x="58832" y="1400"/>
                </a:lnTo>
                <a:close/>
              </a:path>
              <a:path fill="darkenLess" w="60232" h="21600">
                <a:moveTo>
                  <a:pt x="60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32" y="20200"/>
                </a:lnTo>
                <a:close/>
              </a:path>
              <a:path fill="lighten" w="60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711360" y="2117880"/>
            <a:ext cx="3747960" cy="1293480"/>
          </a:xfrm>
          <a:custGeom>
            <a:avLst/>
            <a:gdLst>
              <a:gd name="textAreaLeft" fmla="*/ 83520 w 3747960"/>
              <a:gd name="textAreaRight" fmla="*/ 3664440 w 374796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76" h="21600">
                <a:moveTo>
                  <a:pt x="0" y="0"/>
                </a:moveTo>
                <a:lnTo>
                  <a:pt x="62576" y="0"/>
                </a:lnTo>
                <a:lnTo>
                  <a:pt x="62576" y="21600"/>
                </a:lnTo>
                <a:lnTo>
                  <a:pt x="0" y="21600"/>
                </a:lnTo>
                <a:close/>
              </a:path>
              <a:path fill="lightenLess" w="62576" h="21600">
                <a:moveTo>
                  <a:pt x="0" y="0"/>
                </a:moveTo>
                <a:lnTo>
                  <a:pt x="62576" y="0"/>
                </a:lnTo>
                <a:lnTo>
                  <a:pt x="61176" y="1400"/>
                </a:lnTo>
                <a:lnTo>
                  <a:pt x="1400" y="1400"/>
                </a:lnTo>
                <a:close/>
              </a:path>
              <a:path fill="darken" w="62576" h="21600">
                <a:moveTo>
                  <a:pt x="62576" y="0"/>
                </a:moveTo>
                <a:lnTo>
                  <a:pt x="62576" y="21600"/>
                </a:lnTo>
                <a:lnTo>
                  <a:pt x="61176" y="20200"/>
                </a:lnTo>
                <a:lnTo>
                  <a:pt x="61176" y="1400"/>
                </a:lnTo>
                <a:close/>
              </a:path>
              <a:path fill="darkenLess" w="62576" h="21600">
                <a:moveTo>
                  <a:pt x="6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76" y="20200"/>
                </a:lnTo>
                <a:close/>
              </a:path>
              <a:path fill="lighten" w="6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ЛА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559" dur="indefinite" restart="never" nodeType="tmRoot">
          <p:childTnLst>
            <p:seq>
              <p:cTn id="56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74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9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6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1. Слова ТИХАЯ,  СИНЕЕ,  ВЕЛИКИЙ,  СИЛЬНЫЙ</a:t>
            </a:r>
            <a:r>
              <a:rPr b="1" lang="ru-RU" sz="2900" spc="-1" strike="noStrike">
                <a:solidFill>
                  <a:srgbClr val="660066"/>
                </a:solidFill>
                <a:latin typeface="Garamond"/>
              </a:rPr>
              <a:t>  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-  это  …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5076720" y="433548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ПРИЛАГ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699080" y="2117880"/>
            <a:ext cx="3666960" cy="11667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6760"/>
              <a:gd name="textAreaBottom" fmla="*/ 1091160 h 1166760"/>
            </a:gdLst>
            <a:ahLst/>
            <a:rect l="textAreaLeft" t="textAreaTop" r="textAreaRight" b="textAreaBottom"/>
            <a:pathLst>
              <a:path w="67871" h="21600">
                <a:moveTo>
                  <a:pt x="0" y="0"/>
                </a:moveTo>
                <a:lnTo>
                  <a:pt x="67871" y="0"/>
                </a:lnTo>
                <a:lnTo>
                  <a:pt x="67871" y="21600"/>
                </a:lnTo>
                <a:lnTo>
                  <a:pt x="0" y="21600"/>
                </a:lnTo>
                <a:close/>
              </a:path>
              <a:path fill="lightenLess" w="67871" h="21600">
                <a:moveTo>
                  <a:pt x="0" y="0"/>
                </a:moveTo>
                <a:lnTo>
                  <a:pt x="67871" y="0"/>
                </a:lnTo>
                <a:lnTo>
                  <a:pt x="66472" y="1400"/>
                </a:lnTo>
                <a:lnTo>
                  <a:pt x="1400" y="1400"/>
                </a:lnTo>
                <a:close/>
              </a:path>
              <a:path fill="darken" w="67871" h="21600">
                <a:moveTo>
                  <a:pt x="67871" y="0"/>
                </a:moveTo>
                <a:lnTo>
                  <a:pt x="67871" y="21600"/>
                </a:lnTo>
                <a:lnTo>
                  <a:pt x="66472" y="20200"/>
                </a:lnTo>
                <a:lnTo>
                  <a:pt x="66472" y="1400"/>
                </a:lnTo>
                <a:close/>
              </a:path>
              <a:path fill="darkenLess" w="67871" h="21600">
                <a:moveTo>
                  <a:pt x="67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2" y="20200"/>
                </a:lnTo>
                <a:close/>
              </a:path>
              <a:path fill="lighten" w="67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ГЛАГ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19200" y="4146480"/>
            <a:ext cx="3817800" cy="1368360"/>
          </a:xfrm>
          <a:custGeom>
            <a:avLst/>
            <a:gdLst>
              <a:gd name="textAreaLeft" fmla="*/ 88560 w 3817800"/>
              <a:gd name="textAreaRight" fmla="*/ 3729240 w 38178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60255" h="21600">
                <a:moveTo>
                  <a:pt x="0" y="0"/>
                </a:moveTo>
                <a:lnTo>
                  <a:pt x="60255" y="0"/>
                </a:lnTo>
                <a:lnTo>
                  <a:pt x="60255" y="21600"/>
                </a:lnTo>
                <a:lnTo>
                  <a:pt x="0" y="21600"/>
                </a:lnTo>
                <a:close/>
              </a:path>
              <a:path fill="lightenLess" w="60255" h="21600">
                <a:moveTo>
                  <a:pt x="0" y="0"/>
                </a:moveTo>
                <a:lnTo>
                  <a:pt x="60255" y="0"/>
                </a:lnTo>
                <a:lnTo>
                  <a:pt x="58855" y="1400"/>
                </a:lnTo>
                <a:lnTo>
                  <a:pt x="1400" y="1400"/>
                </a:lnTo>
                <a:close/>
              </a:path>
              <a:path fill="darken" w="60255" h="21600">
                <a:moveTo>
                  <a:pt x="60255" y="0"/>
                </a:moveTo>
                <a:lnTo>
                  <a:pt x="60255" y="21600"/>
                </a:lnTo>
                <a:lnTo>
                  <a:pt x="58855" y="20200"/>
                </a:lnTo>
                <a:lnTo>
                  <a:pt x="58855" y="1400"/>
                </a:lnTo>
                <a:close/>
              </a:path>
              <a:path fill="darkenLess" w="60255" h="21600">
                <a:moveTo>
                  <a:pt x="60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55" y="20200"/>
                </a:lnTo>
                <a:close/>
              </a:path>
              <a:path fill="lighten" w="60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ПРЕДЛ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711360" y="2117880"/>
            <a:ext cx="3747960" cy="1293480"/>
          </a:xfrm>
          <a:custGeom>
            <a:avLst/>
            <a:gdLst>
              <a:gd name="textAreaLeft" fmla="*/ 83520 w 3747960"/>
              <a:gd name="textAreaRight" fmla="*/ 3664440 w 374796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76" h="21600">
                <a:moveTo>
                  <a:pt x="0" y="0"/>
                </a:moveTo>
                <a:lnTo>
                  <a:pt x="62576" y="0"/>
                </a:lnTo>
                <a:lnTo>
                  <a:pt x="62576" y="21600"/>
                </a:lnTo>
                <a:lnTo>
                  <a:pt x="0" y="21600"/>
                </a:lnTo>
                <a:close/>
              </a:path>
              <a:path fill="lightenLess" w="62576" h="21600">
                <a:moveTo>
                  <a:pt x="0" y="0"/>
                </a:moveTo>
                <a:lnTo>
                  <a:pt x="62576" y="0"/>
                </a:lnTo>
                <a:lnTo>
                  <a:pt x="61176" y="1400"/>
                </a:lnTo>
                <a:lnTo>
                  <a:pt x="1400" y="1400"/>
                </a:lnTo>
                <a:close/>
              </a:path>
              <a:path fill="darken" w="62576" h="21600">
                <a:moveTo>
                  <a:pt x="62576" y="0"/>
                </a:moveTo>
                <a:lnTo>
                  <a:pt x="62576" y="21600"/>
                </a:lnTo>
                <a:lnTo>
                  <a:pt x="61176" y="20200"/>
                </a:lnTo>
                <a:lnTo>
                  <a:pt x="61176" y="1400"/>
                </a:lnTo>
                <a:close/>
              </a:path>
              <a:path fill="darkenLess" w="62576" h="21600">
                <a:moveTo>
                  <a:pt x="6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76" y="20200"/>
                </a:lnTo>
                <a:close/>
              </a:path>
              <a:path fill="lighten" w="6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СУЩЕСТВ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621" dur="indefinite" restart="never" nodeType="tmRoot">
          <p:childTnLst>
            <p:seq>
              <p:cTn id="62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3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5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68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2. Слова БЕЖАТЬ,  ПРИШЛА,  СВЕТИЛО, ВЫПАЛ  -  это  …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82872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699080" y="2117880"/>
            <a:ext cx="3666960" cy="11667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6760"/>
              <a:gd name="textAreaBottom" fmla="*/ 1091160 h 1166760"/>
            </a:gdLst>
            <a:ahLst/>
            <a:rect l="textAreaLeft" t="textAreaTop" r="textAreaRight" b="textAreaBottom"/>
            <a:pathLst>
              <a:path w="67871" h="21600">
                <a:moveTo>
                  <a:pt x="0" y="0"/>
                </a:moveTo>
                <a:lnTo>
                  <a:pt x="67871" y="0"/>
                </a:lnTo>
                <a:lnTo>
                  <a:pt x="67871" y="21600"/>
                </a:lnTo>
                <a:lnTo>
                  <a:pt x="0" y="21600"/>
                </a:lnTo>
                <a:close/>
              </a:path>
              <a:path fill="lightenLess" w="67871" h="21600">
                <a:moveTo>
                  <a:pt x="0" y="0"/>
                </a:moveTo>
                <a:lnTo>
                  <a:pt x="67871" y="0"/>
                </a:lnTo>
                <a:lnTo>
                  <a:pt x="66472" y="1400"/>
                </a:lnTo>
                <a:lnTo>
                  <a:pt x="1400" y="1400"/>
                </a:lnTo>
                <a:close/>
              </a:path>
              <a:path fill="darken" w="67871" h="21600">
                <a:moveTo>
                  <a:pt x="67871" y="0"/>
                </a:moveTo>
                <a:lnTo>
                  <a:pt x="67871" y="21600"/>
                </a:lnTo>
                <a:lnTo>
                  <a:pt x="66472" y="20200"/>
                </a:lnTo>
                <a:lnTo>
                  <a:pt x="66472" y="1400"/>
                </a:lnTo>
                <a:close/>
              </a:path>
              <a:path fill="darkenLess" w="67871" h="21600">
                <a:moveTo>
                  <a:pt x="67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2" y="20200"/>
                </a:lnTo>
                <a:close/>
              </a:path>
              <a:path fill="lighten" w="67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ЛА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5003640" y="4165560"/>
            <a:ext cx="2953080" cy="1208160"/>
          </a:xfrm>
          <a:custGeom>
            <a:avLst/>
            <a:gdLst>
              <a:gd name="textAreaLeft" fmla="*/ 78120 w 2953080"/>
              <a:gd name="textAreaRight" fmla="*/ 2874960 w 2953080"/>
              <a:gd name="textAreaTop" fmla="*/ 78120 h 1208160"/>
              <a:gd name="textAreaBottom" fmla="*/ 1130040 h 120816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711360" y="2117880"/>
            <a:ext cx="3747960" cy="1293480"/>
          </a:xfrm>
          <a:custGeom>
            <a:avLst/>
            <a:gdLst>
              <a:gd name="textAreaLeft" fmla="*/ 83520 w 3747960"/>
              <a:gd name="textAreaRight" fmla="*/ 3664440 w 374796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76" h="21600">
                <a:moveTo>
                  <a:pt x="0" y="0"/>
                </a:moveTo>
                <a:lnTo>
                  <a:pt x="62576" y="0"/>
                </a:lnTo>
                <a:lnTo>
                  <a:pt x="62576" y="21600"/>
                </a:lnTo>
                <a:lnTo>
                  <a:pt x="0" y="21600"/>
                </a:lnTo>
                <a:close/>
              </a:path>
              <a:path fill="lightenLess" w="62576" h="21600">
                <a:moveTo>
                  <a:pt x="0" y="0"/>
                </a:moveTo>
                <a:lnTo>
                  <a:pt x="62576" y="0"/>
                </a:lnTo>
                <a:lnTo>
                  <a:pt x="61176" y="1400"/>
                </a:lnTo>
                <a:lnTo>
                  <a:pt x="1400" y="1400"/>
                </a:lnTo>
                <a:close/>
              </a:path>
              <a:path fill="darken" w="62576" h="21600">
                <a:moveTo>
                  <a:pt x="62576" y="0"/>
                </a:moveTo>
                <a:lnTo>
                  <a:pt x="62576" y="21600"/>
                </a:lnTo>
                <a:lnTo>
                  <a:pt x="61176" y="20200"/>
                </a:lnTo>
                <a:lnTo>
                  <a:pt x="61176" y="1400"/>
                </a:lnTo>
                <a:close/>
              </a:path>
              <a:path fill="darkenLess" w="62576" h="21600">
                <a:moveTo>
                  <a:pt x="6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76" y="20200"/>
                </a:lnTo>
                <a:close/>
              </a:path>
              <a:path fill="lighten" w="6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СУЩЕСТВ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683" dur="indefinite" restart="never" nodeType="tmRoot">
          <p:childTnLst>
            <p:seq>
              <p:cTn id="6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69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604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3. Неодушевлённые  существительные отвечают  на вопрос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82872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788000" y="4390920"/>
            <a:ext cx="3666960" cy="11685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67" h="21600">
                <a:moveTo>
                  <a:pt x="0" y="0"/>
                </a:moveTo>
                <a:lnTo>
                  <a:pt x="67767" y="0"/>
                </a:lnTo>
                <a:lnTo>
                  <a:pt x="67767" y="21600"/>
                </a:lnTo>
                <a:lnTo>
                  <a:pt x="0" y="21600"/>
                </a:lnTo>
                <a:close/>
              </a:path>
              <a:path fill="lightenLess" w="67767" h="21600">
                <a:moveTo>
                  <a:pt x="0" y="0"/>
                </a:moveTo>
                <a:lnTo>
                  <a:pt x="67767" y="0"/>
                </a:lnTo>
                <a:lnTo>
                  <a:pt x="66367" y="1400"/>
                </a:lnTo>
                <a:lnTo>
                  <a:pt x="1400" y="1400"/>
                </a:lnTo>
                <a:close/>
              </a:path>
              <a:path fill="darken" w="67767" h="21600">
                <a:moveTo>
                  <a:pt x="67767" y="0"/>
                </a:moveTo>
                <a:lnTo>
                  <a:pt x="67767" y="21600"/>
                </a:lnTo>
                <a:lnTo>
                  <a:pt x="66367" y="20200"/>
                </a:lnTo>
                <a:lnTo>
                  <a:pt x="66367" y="1400"/>
                </a:lnTo>
                <a:close/>
              </a:path>
              <a:path fill="darkenLess" w="67767" h="21600">
                <a:moveTo>
                  <a:pt x="67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67" y="20200"/>
                </a:lnTo>
                <a:close/>
              </a:path>
              <a:path fill="lighten" w="67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056200" y="2100240"/>
            <a:ext cx="2952720" cy="1208160"/>
          </a:xfrm>
          <a:custGeom>
            <a:avLst/>
            <a:gdLst>
              <a:gd name="textAreaLeft" fmla="*/ 78120 w 2952720"/>
              <a:gd name="textAreaRight" fmla="*/ 2874600 w 2952720"/>
              <a:gd name="textAreaTop" fmla="*/ 78120 h 1208160"/>
              <a:gd name="textAreaBottom" fmla="*/ 1130040 h 1208160"/>
            </a:gdLst>
            <a:ahLst/>
            <a:rect l="textAreaLeft" t="textAreaTop" r="textAreaRight" b="textAreaBottom"/>
            <a:pathLst>
              <a:path w="52781" h="21600">
                <a:moveTo>
                  <a:pt x="0" y="0"/>
                </a:moveTo>
                <a:lnTo>
                  <a:pt x="52781" y="0"/>
                </a:lnTo>
                <a:lnTo>
                  <a:pt x="52781" y="21600"/>
                </a:lnTo>
                <a:lnTo>
                  <a:pt x="0" y="21600"/>
                </a:lnTo>
                <a:close/>
              </a:path>
              <a:path fill="lightenLess" w="52781" h="21600">
                <a:moveTo>
                  <a:pt x="0" y="0"/>
                </a:moveTo>
                <a:lnTo>
                  <a:pt x="52781" y="0"/>
                </a:lnTo>
                <a:lnTo>
                  <a:pt x="51381" y="1400"/>
                </a:lnTo>
                <a:lnTo>
                  <a:pt x="1400" y="1400"/>
                </a:lnTo>
                <a:close/>
              </a:path>
              <a:path fill="darken" w="52781" h="21600">
                <a:moveTo>
                  <a:pt x="52781" y="0"/>
                </a:moveTo>
                <a:lnTo>
                  <a:pt x="52781" y="21600"/>
                </a:lnTo>
                <a:lnTo>
                  <a:pt x="51381" y="20200"/>
                </a:lnTo>
                <a:lnTo>
                  <a:pt x="51381" y="1400"/>
                </a:lnTo>
                <a:close/>
              </a:path>
              <a:path fill="darkenLess" w="52781" h="21600">
                <a:moveTo>
                  <a:pt x="52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1" y="20200"/>
                </a:lnTo>
                <a:close/>
              </a:path>
              <a:path fill="lighten" w="52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711360" y="2117880"/>
            <a:ext cx="3747960" cy="1293480"/>
          </a:xfrm>
          <a:custGeom>
            <a:avLst/>
            <a:gdLst>
              <a:gd name="textAreaLeft" fmla="*/ 83520 w 3747960"/>
              <a:gd name="textAreaRight" fmla="*/ 3664440 w 374796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76" h="21600">
                <a:moveTo>
                  <a:pt x="0" y="0"/>
                </a:moveTo>
                <a:lnTo>
                  <a:pt x="62576" y="0"/>
                </a:lnTo>
                <a:lnTo>
                  <a:pt x="62576" y="21600"/>
                </a:lnTo>
                <a:lnTo>
                  <a:pt x="0" y="21600"/>
                </a:lnTo>
                <a:close/>
              </a:path>
              <a:path fill="lightenLess" w="62576" h="21600">
                <a:moveTo>
                  <a:pt x="0" y="0"/>
                </a:moveTo>
                <a:lnTo>
                  <a:pt x="62576" y="0"/>
                </a:lnTo>
                <a:lnTo>
                  <a:pt x="61176" y="1400"/>
                </a:lnTo>
                <a:lnTo>
                  <a:pt x="1400" y="1400"/>
                </a:lnTo>
                <a:close/>
              </a:path>
              <a:path fill="darken" w="62576" h="21600">
                <a:moveTo>
                  <a:pt x="62576" y="0"/>
                </a:moveTo>
                <a:lnTo>
                  <a:pt x="62576" y="21600"/>
                </a:lnTo>
                <a:lnTo>
                  <a:pt x="61176" y="20200"/>
                </a:lnTo>
                <a:lnTo>
                  <a:pt x="61176" y="1400"/>
                </a:lnTo>
                <a:close/>
              </a:path>
              <a:path fill="darkenLess" w="62576" h="21600">
                <a:moveTo>
                  <a:pt x="6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76" y="20200"/>
                </a:lnTo>
                <a:close/>
              </a:path>
              <a:path fill="lighten" w="6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745" dur="indefinite" restart="never" nodeType="tmRoot">
          <p:childTnLst>
            <p:seq>
              <p:cTn id="74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47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776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792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604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4. Одушевлённые  существительные отвечают  на вопрос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82872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К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788000" y="4390920"/>
            <a:ext cx="3666960" cy="11685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67" h="21600">
                <a:moveTo>
                  <a:pt x="0" y="0"/>
                </a:moveTo>
                <a:lnTo>
                  <a:pt x="67767" y="0"/>
                </a:lnTo>
                <a:lnTo>
                  <a:pt x="67767" y="21600"/>
                </a:lnTo>
                <a:lnTo>
                  <a:pt x="0" y="21600"/>
                </a:lnTo>
                <a:close/>
              </a:path>
              <a:path fill="lightenLess" w="67767" h="21600">
                <a:moveTo>
                  <a:pt x="0" y="0"/>
                </a:moveTo>
                <a:lnTo>
                  <a:pt x="67767" y="0"/>
                </a:lnTo>
                <a:lnTo>
                  <a:pt x="66367" y="1400"/>
                </a:lnTo>
                <a:lnTo>
                  <a:pt x="1400" y="1400"/>
                </a:lnTo>
                <a:close/>
              </a:path>
              <a:path fill="darken" w="67767" h="21600">
                <a:moveTo>
                  <a:pt x="67767" y="0"/>
                </a:moveTo>
                <a:lnTo>
                  <a:pt x="67767" y="21600"/>
                </a:lnTo>
                <a:lnTo>
                  <a:pt x="66367" y="20200"/>
                </a:lnTo>
                <a:lnTo>
                  <a:pt x="66367" y="1400"/>
                </a:lnTo>
                <a:close/>
              </a:path>
              <a:path fill="darkenLess" w="67767" h="21600">
                <a:moveTo>
                  <a:pt x="67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67" y="20200"/>
                </a:lnTo>
                <a:close/>
              </a:path>
              <a:path fill="lighten" w="67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008000" y="2209680"/>
            <a:ext cx="2952720" cy="1208160"/>
          </a:xfrm>
          <a:custGeom>
            <a:avLst/>
            <a:gdLst>
              <a:gd name="textAreaLeft" fmla="*/ 78120 w 2952720"/>
              <a:gd name="textAreaRight" fmla="*/ 2874600 w 2952720"/>
              <a:gd name="textAreaTop" fmla="*/ 78120 h 1208160"/>
              <a:gd name="textAreaBottom" fmla="*/ 1130040 h 1208160"/>
            </a:gdLst>
            <a:ahLst/>
            <a:rect l="textAreaLeft" t="textAreaTop" r="textAreaRight" b="textAreaBottom"/>
            <a:pathLst>
              <a:path w="52781" h="21600">
                <a:moveTo>
                  <a:pt x="0" y="0"/>
                </a:moveTo>
                <a:lnTo>
                  <a:pt x="52781" y="0"/>
                </a:lnTo>
                <a:lnTo>
                  <a:pt x="52781" y="21600"/>
                </a:lnTo>
                <a:lnTo>
                  <a:pt x="0" y="21600"/>
                </a:lnTo>
                <a:close/>
              </a:path>
              <a:path fill="lightenLess" w="52781" h="21600">
                <a:moveTo>
                  <a:pt x="0" y="0"/>
                </a:moveTo>
                <a:lnTo>
                  <a:pt x="52781" y="0"/>
                </a:lnTo>
                <a:lnTo>
                  <a:pt x="51381" y="1400"/>
                </a:lnTo>
                <a:lnTo>
                  <a:pt x="1400" y="1400"/>
                </a:lnTo>
                <a:close/>
              </a:path>
              <a:path fill="darken" w="52781" h="21600">
                <a:moveTo>
                  <a:pt x="52781" y="0"/>
                </a:moveTo>
                <a:lnTo>
                  <a:pt x="52781" y="21600"/>
                </a:lnTo>
                <a:lnTo>
                  <a:pt x="51381" y="20200"/>
                </a:lnTo>
                <a:lnTo>
                  <a:pt x="51381" y="1400"/>
                </a:lnTo>
                <a:close/>
              </a:path>
              <a:path fill="darkenLess" w="52781" h="21600">
                <a:moveTo>
                  <a:pt x="52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1" y="20200"/>
                </a:lnTo>
                <a:close/>
              </a:path>
              <a:path fill="lighten" w="52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659480" y="1989000"/>
            <a:ext cx="3746160" cy="1293840"/>
          </a:xfrm>
          <a:custGeom>
            <a:avLst/>
            <a:gdLst>
              <a:gd name="textAreaLeft" fmla="*/ 83520 w 3746160"/>
              <a:gd name="textAreaRight" fmla="*/ 3662640 w 3746160"/>
              <a:gd name="textAreaTop" fmla="*/ 83520 h 1293840"/>
              <a:gd name="textAreaBottom" fmla="*/ 1210320 h 1293840"/>
            </a:gdLst>
            <a:ahLst/>
            <a:rect l="textAreaLeft" t="textAreaTop" r="textAreaRight" b="textAreaBottom"/>
            <a:pathLst>
              <a:path w="62529" h="21600">
                <a:moveTo>
                  <a:pt x="0" y="0"/>
                </a:moveTo>
                <a:lnTo>
                  <a:pt x="62529" y="0"/>
                </a:lnTo>
                <a:lnTo>
                  <a:pt x="62529" y="21600"/>
                </a:lnTo>
                <a:lnTo>
                  <a:pt x="0" y="21600"/>
                </a:lnTo>
                <a:close/>
              </a:path>
              <a:path fill="lightenLess" w="62529" h="21600">
                <a:moveTo>
                  <a:pt x="0" y="0"/>
                </a:moveTo>
                <a:lnTo>
                  <a:pt x="62529" y="0"/>
                </a:lnTo>
                <a:lnTo>
                  <a:pt x="61129" y="1400"/>
                </a:lnTo>
                <a:lnTo>
                  <a:pt x="1400" y="1400"/>
                </a:lnTo>
                <a:close/>
              </a:path>
              <a:path fill="darken" w="62529" h="21600">
                <a:moveTo>
                  <a:pt x="62529" y="0"/>
                </a:moveTo>
                <a:lnTo>
                  <a:pt x="62529" y="21600"/>
                </a:lnTo>
                <a:lnTo>
                  <a:pt x="61129" y="20200"/>
                </a:lnTo>
                <a:lnTo>
                  <a:pt x="61129" y="1400"/>
                </a:lnTo>
                <a:close/>
              </a:path>
              <a:path fill="darkenLess" w="62529" h="21600">
                <a:moveTo>
                  <a:pt x="62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29" y="20200"/>
                </a:lnTo>
                <a:close/>
              </a:path>
              <a:path fill="lighten" w="62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807" dur="indefinite" restart="never" nodeType="tmRoot">
          <p:childTnLst>
            <p:seq>
              <p:cTn id="80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22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38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54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0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66"/>
                </a:solidFill>
                <a:latin typeface="Arial Black"/>
              </a:rPr>
              <a:t>15. Выбери  карточку, где записаны  только имена  существительные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1042920" y="234936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Д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ОБ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788000" y="4390920"/>
            <a:ext cx="3666960" cy="1168560"/>
          </a:xfrm>
          <a:custGeom>
            <a:avLst/>
            <a:gdLst>
              <a:gd name="textAreaLeft" fmla="*/ 75600 w 3666960"/>
              <a:gd name="textAreaRight" fmla="*/ 3591360 w 3666960"/>
              <a:gd name="textAreaTop" fmla="*/ 75600 h 1168560"/>
              <a:gd name="textAreaBottom" fmla="*/ 1092960 h 1168560"/>
            </a:gdLst>
            <a:ahLst/>
            <a:rect l="textAreaLeft" t="textAreaTop" r="textAreaRight" b="textAreaBottom"/>
            <a:pathLst>
              <a:path w="67767" h="21600">
                <a:moveTo>
                  <a:pt x="0" y="0"/>
                </a:moveTo>
                <a:lnTo>
                  <a:pt x="67767" y="0"/>
                </a:lnTo>
                <a:lnTo>
                  <a:pt x="67767" y="21600"/>
                </a:lnTo>
                <a:lnTo>
                  <a:pt x="0" y="21600"/>
                </a:lnTo>
                <a:close/>
              </a:path>
              <a:path fill="lightenLess" w="67767" h="21600">
                <a:moveTo>
                  <a:pt x="0" y="0"/>
                </a:moveTo>
                <a:lnTo>
                  <a:pt x="67767" y="0"/>
                </a:lnTo>
                <a:lnTo>
                  <a:pt x="66367" y="1400"/>
                </a:lnTo>
                <a:lnTo>
                  <a:pt x="1400" y="1400"/>
                </a:lnTo>
                <a:close/>
              </a:path>
              <a:path fill="darken" w="67767" h="21600">
                <a:moveTo>
                  <a:pt x="67767" y="0"/>
                </a:moveTo>
                <a:lnTo>
                  <a:pt x="67767" y="21600"/>
                </a:lnTo>
                <a:lnTo>
                  <a:pt x="66367" y="20200"/>
                </a:lnTo>
                <a:lnTo>
                  <a:pt x="66367" y="1400"/>
                </a:lnTo>
                <a:close/>
              </a:path>
              <a:path fill="darkenLess" w="67767" h="21600">
                <a:moveTo>
                  <a:pt x="67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67" y="20200"/>
                </a:lnTo>
                <a:close/>
              </a:path>
              <a:path fill="lighten" w="67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КНИ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826920" y="4365720"/>
            <a:ext cx="2953080" cy="1208160"/>
          </a:xfrm>
          <a:custGeom>
            <a:avLst/>
            <a:gdLst>
              <a:gd name="textAreaLeft" fmla="*/ 78120 w 2953080"/>
              <a:gd name="textAreaRight" fmla="*/ 2874960 w 2953080"/>
              <a:gd name="textAreaTop" fmla="*/ 78120 h 1208160"/>
              <a:gd name="textAreaBottom" fmla="*/ 1130040 h 120816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ИГ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ИГ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643280" y="2276640"/>
            <a:ext cx="3746520" cy="1293480"/>
          </a:xfrm>
          <a:custGeom>
            <a:avLst/>
            <a:gdLst>
              <a:gd name="textAreaLeft" fmla="*/ 83520 w 3746520"/>
              <a:gd name="textAreaRight" fmla="*/ 3663000 w 3746520"/>
              <a:gd name="textAreaTop" fmla="*/ 83520 h 1293480"/>
              <a:gd name="textAreaBottom" fmla="*/ 1209960 h 1293480"/>
            </a:gdLst>
            <a:ahLst/>
            <a:rect l="textAreaLeft" t="textAreaTop" r="textAreaRight" b="textAreaBottom"/>
            <a:pathLst>
              <a:path w="62552" h="21600">
                <a:moveTo>
                  <a:pt x="0" y="0"/>
                </a:moveTo>
                <a:lnTo>
                  <a:pt x="62552" y="0"/>
                </a:lnTo>
                <a:lnTo>
                  <a:pt x="62552" y="21600"/>
                </a:lnTo>
                <a:lnTo>
                  <a:pt x="0" y="21600"/>
                </a:lnTo>
                <a:close/>
              </a:path>
              <a:path fill="lightenLess" w="62552" h="21600">
                <a:moveTo>
                  <a:pt x="0" y="0"/>
                </a:moveTo>
                <a:lnTo>
                  <a:pt x="62552" y="0"/>
                </a:lnTo>
                <a:lnTo>
                  <a:pt x="61152" y="1400"/>
                </a:lnTo>
                <a:lnTo>
                  <a:pt x="1400" y="1400"/>
                </a:lnTo>
                <a:close/>
              </a:path>
              <a:path fill="darken" w="62552" h="21600">
                <a:moveTo>
                  <a:pt x="62552" y="0"/>
                </a:moveTo>
                <a:lnTo>
                  <a:pt x="62552" y="21600"/>
                </a:lnTo>
                <a:lnTo>
                  <a:pt x="61152" y="20200"/>
                </a:lnTo>
                <a:lnTo>
                  <a:pt x="61152" y="1400"/>
                </a:lnTo>
                <a:close/>
              </a:path>
              <a:path fill="darkenLess" w="62552" h="21600">
                <a:moveTo>
                  <a:pt x="62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52" y="20200"/>
                </a:lnTo>
                <a:close/>
              </a:path>
              <a:path fill="lighten" w="62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ЛЕС, Л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ошибка2"/>
          <p:cNvPicPr/>
          <p:nvPr/>
        </p:nvPicPr>
        <p:blipFill>
          <a:blip r:embed="rId6"/>
          <a:stretch/>
        </p:blipFill>
        <p:spPr>
          <a:xfrm>
            <a:off x="2527200" y="3417840"/>
            <a:ext cx="3961080" cy="97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869" dur="indefinite" restart="never" nodeType="tmRoot">
          <p:childTnLst>
            <p:seq>
              <p:cTn id="87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87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16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4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1. Имя  существительное  обозначает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755640" y="436572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900000" y="2492280"/>
            <a:ext cx="3456000" cy="1152720"/>
          </a:xfrm>
          <a:custGeom>
            <a:avLst/>
            <a:gdLst>
              <a:gd name="textAreaLeft" fmla="*/ 74520 w 3456000"/>
              <a:gd name="textAreaRight" fmla="*/ 3381480 w 3456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Й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5005440" y="2384280"/>
            <a:ext cx="3527280" cy="1368720"/>
          </a:xfrm>
          <a:custGeom>
            <a:avLst/>
            <a:gdLst>
              <a:gd name="textAreaLeft" fmla="*/ 88560 w 3527280"/>
              <a:gd name="textAreaRight" fmla="*/ 3438720 w 352728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55656" h="21600">
                <a:moveTo>
                  <a:pt x="0" y="0"/>
                </a:moveTo>
                <a:lnTo>
                  <a:pt x="55656" y="0"/>
                </a:lnTo>
                <a:lnTo>
                  <a:pt x="55656" y="21600"/>
                </a:lnTo>
                <a:lnTo>
                  <a:pt x="0" y="21600"/>
                </a:lnTo>
                <a:close/>
              </a:path>
              <a:path fill="lightenLess" w="55656" h="21600">
                <a:moveTo>
                  <a:pt x="0" y="0"/>
                </a:moveTo>
                <a:lnTo>
                  <a:pt x="55656" y="0"/>
                </a:lnTo>
                <a:lnTo>
                  <a:pt x="54256" y="1400"/>
                </a:lnTo>
                <a:lnTo>
                  <a:pt x="1400" y="1400"/>
                </a:lnTo>
                <a:close/>
              </a:path>
              <a:path fill="darken" w="55656" h="21600">
                <a:moveTo>
                  <a:pt x="55656" y="0"/>
                </a:moveTo>
                <a:lnTo>
                  <a:pt x="55656" y="21600"/>
                </a:lnTo>
                <a:lnTo>
                  <a:pt x="54256" y="20200"/>
                </a:lnTo>
                <a:lnTo>
                  <a:pt x="54256" y="1400"/>
                </a:lnTo>
                <a:close/>
              </a:path>
              <a:path fill="darkenLess" w="55656" h="21600">
                <a:moveTo>
                  <a:pt x="55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56" y="20200"/>
                </a:lnTo>
                <a:close/>
              </a:path>
              <a:path fill="lighten" w="55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5005440" y="42926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2. Имя прилагательное  обозначает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5033880" y="24242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900000" y="2492280"/>
            <a:ext cx="3456000" cy="1152720"/>
          </a:xfrm>
          <a:custGeom>
            <a:avLst/>
            <a:gdLst>
              <a:gd name="textAreaLeft" fmla="*/ 74520 w 3456000"/>
              <a:gd name="textAreaRight" fmla="*/ 3381480 w 3456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Й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720720" y="4184640"/>
            <a:ext cx="3527280" cy="1368360"/>
          </a:xfrm>
          <a:custGeom>
            <a:avLst/>
            <a:gdLst>
              <a:gd name="textAreaLeft" fmla="*/ 88560 w 3527280"/>
              <a:gd name="textAreaRight" fmla="*/ 3438720 w 35272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55670" h="21600">
                <a:moveTo>
                  <a:pt x="0" y="0"/>
                </a:moveTo>
                <a:lnTo>
                  <a:pt x="55670" y="0"/>
                </a:lnTo>
                <a:lnTo>
                  <a:pt x="55670" y="21600"/>
                </a:lnTo>
                <a:lnTo>
                  <a:pt x="0" y="21600"/>
                </a:lnTo>
                <a:close/>
              </a:path>
              <a:path fill="lightenLess" w="55670" h="21600">
                <a:moveTo>
                  <a:pt x="0" y="0"/>
                </a:moveTo>
                <a:lnTo>
                  <a:pt x="55670" y="0"/>
                </a:lnTo>
                <a:lnTo>
                  <a:pt x="54270" y="1400"/>
                </a:lnTo>
                <a:lnTo>
                  <a:pt x="1400" y="1400"/>
                </a:lnTo>
                <a:close/>
              </a:path>
              <a:path fill="darken" w="55670" h="21600">
                <a:moveTo>
                  <a:pt x="55670" y="0"/>
                </a:moveTo>
                <a:lnTo>
                  <a:pt x="55670" y="21600"/>
                </a:lnTo>
                <a:lnTo>
                  <a:pt x="54270" y="20200"/>
                </a:lnTo>
                <a:lnTo>
                  <a:pt x="54270" y="1400"/>
                </a:lnTo>
                <a:close/>
              </a:path>
              <a:path fill="darkenLess" w="55670" h="21600">
                <a:moveTo>
                  <a:pt x="55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70" y="20200"/>
                </a:lnTo>
                <a:close/>
              </a:path>
              <a:path fill="lighten" w="55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ПРЕД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5005440" y="42926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3.Глагол  обозначает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5033880" y="24242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00000" y="2492280"/>
            <a:ext cx="3456000" cy="1152720"/>
          </a:xfrm>
          <a:custGeom>
            <a:avLst/>
            <a:gdLst>
              <a:gd name="textAreaLeft" fmla="*/ 74520 w 3456000"/>
              <a:gd name="textAreaRight" fmla="*/ 3381480 w 3456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ИЗН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720720" y="4184640"/>
            <a:ext cx="3527280" cy="1368360"/>
          </a:xfrm>
          <a:custGeom>
            <a:avLst/>
            <a:gdLst>
              <a:gd name="textAreaLeft" fmla="*/ 88560 w 3527280"/>
              <a:gd name="textAreaRight" fmla="*/ 3438720 w 35272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55670" h="21600">
                <a:moveTo>
                  <a:pt x="0" y="0"/>
                </a:moveTo>
                <a:lnTo>
                  <a:pt x="55670" y="0"/>
                </a:lnTo>
                <a:lnTo>
                  <a:pt x="55670" y="21600"/>
                </a:lnTo>
                <a:lnTo>
                  <a:pt x="0" y="21600"/>
                </a:lnTo>
                <a:close/>
              </a:path>
              <a:path fill="lightenLess" w="55670" h="21600">
                <a:moveTo>
                  <a:pt x="0" y="0"/>
                </a:moveTo>
                <a:lnTo>
                  <a:pt x="55670" y="0"/>
                </a:lnTo>
                <a:lnTo>
                  <a:pt x="54270" y="1400"/>
                </a:lnTo>
                <a:lnTo>
                  <a:pt x="1400" y="1400"/>
                </a:lnTo>
                <a:close/>
              </a:path>
              <a:path fill="darken" w="55670" h="21600">
                <a:moveTo>
                  <a:pt x="55670" y="0"/>
                </a:moveTo>
                <a:lnTo>
                  <a:pt x="55670" y="21600"/>
                </a:lnTo>
                <a:lnTo>
                  <a:pt x="54270" y="20200"/>
                </a:lnTo>
                <a:lnTo>
                  <a:pt x="54270" y="1400"/>
                </a:lnTo>
                <a:close/>
              </a:path>
              <a:path fill="darkenLess" w="55670" h="21600">
                <a:moveTo>
                  <a:pt x="556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70" y="20200"/>
                </a:lnTo>
                <a:close/>
              </a:path>
              <a:path fill="lighten" w="556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005440" y="429264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4. Имя  существительное  отвечает  на  вопросы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755640" y="436572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716360" y="2384280"/>
            <a:ext cx="3816360" cy="136872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60216" h="21600">
                <a:moveTo>
                  <a:pt x="0" y="0"/>
                </a:moveTo>
                <a:lnTo>
                  <a:pt x="60216" y="0"/>
                </a:lnTo>
                <a:lnTo>
                  <a:pt x="60216" y="21600"/>
                </a:lnTo>
                <a:lnTo>
                  <a:pt x="0" y="21600"/>
                </a:lnTo>
                <a:close/>
              </a:path>
              <a:path fill="lightenLess" w="60216" h="21600">
                <a:moveTo>
                  <a:pt x="0" y="0"/>
                </a:moveTo>
                <a:lnTo>
                  <a:pt x="60216" y="0"/>
                </a:lnTo>
                <a:lnTo>
                  <a:pt x="58817" y="1400"/>
                </a:lnTo>
                <a:lnTo>
                  <a:pt x="1400" y="1400"/>
                </a:lnTo>
                <a:close/>
              </a:path>
              <a:path fill="darken" w="60216" h="21600">
                <a:moveTo>
                  <a:pt x="60216" y="0"/>
                </a:moveTo>
                <a:lnTo>
                  <a:pt x="60216" y="21600"/>
                </a:lnTo>
                <a:lnTo>
                  <a:pt x="58817" y="20200"/>
                </a:lnTo>
                <a:lnTo>
                  <a:pt x="58817" y="1400"/>
                </a:lnTo>
                <a:close/>
              </a:path>
              <a:path fill="darkenLess" w="60216" h="21600">
                <a:moveTo>
                  <a:pt x="60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17" y="20200"/>
                </a:lnTo>
                <a:close/>
              </a:path>
              <a:path fill="lighten" w="60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Ч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Л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496872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Garamond"/>
              </a:rPr>
              <a:t>5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. Имя прилагательное  отвечает  на  вопросы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148360" y="4473720"/>
            <a:ext cx="3311280" cy="1152360"/>
          </a:xfrm>
          <a:custGeom>
            <a:avLst/>
            <a:gdLst>
              <a:gd name="textAreaLeft" fmla="*/ 74520 w 3311280"/>
              <a:gd name="textAreaRight" fmla="*/ 3236760 w 3311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54" h="21600">
                <a:moveTo>
                  <a:pt x="0" y="0"/>
                </a:moveTo>
                <a:lnTo>
                  <a:pt x="62054" y="0"/>
                </a:lnTo>
                <a:lnTo>
                  <a:pt x="62054" y="21600"/>
                </a:lnTo>
                <a:lnTo>
                  <a:pt x="0" y="21600"/>
                </a:lnTo>
                <a:close/>
              </a:path>
              <a:path fill="lightenLess" w="62054" h="21600">
                <a:moveTo>
                  <a:pt x="0" y="0"/>
                </a:moveTo>
                <a:lnTo>
                  <a:pt x="62054" y="0"/>
                </a:lnTo>
                <a:lnTo>
                  <a:pt x="60655" y="1400"/>
                </a:lnTo>
                <a:lnTo>
                  <a:pt x="1400" y="1400"/>
                </a:lnTo>
                <a:close/>
              </a:path>
              <a:path fill="darken" w="62054" h="21600">
                <a:moveTo>
                  <a:pt x="62054" y="0"/>
                </a:moveTo>
                <a:lnTo>
                  <a:pt x="62054" y="21600"/>
                </a:lnTo>
                <a:lnTo>
                  <a:pt x="60655" y="20200"/>
                </a:lnTo>
                <a:lnTo>
                  <a:pt x="60655" y="1400"/>
                </a:lnTo>
                <a:close/>
              </a:path>
              <a:path fill="darkenLess" w="62054" h="21600">
                <a:moveTo>
                  <a:pt x="62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55" y="20200"/>
                </a:lnTo>
                <a:close/>
              </a:path>
              <a:path fill="lighten" w="62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716360" y="2384280"/>
            <a:ext cx="3816360" cy="136872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60216" h="21600">
                <a:moveTo>
                  <a:pt x="0" y="0"/>
                </a:moveTo>
                <a:lnTo>
                  <a:pt x="60216" y="0"/>
                </a:lnTo>
                <a:lnTo>
                  <a:pt x="60216" y="21600"/>
                </a:lnTo>
                <a:lnTo>
                  <a:pt x="0" y="21600"/>
                </a:lnTo>
                <a:close/>
              </a:path>
              <a:path fill="lightenLess" w="60216" h="21600">
                <a:moveTo>
                  <a:pt x="0" y="0"/>
                </a:moveTo>
                <a:lnTo>
                  <a:pt x="60216" y="0"/>
                </a:lnTo>
                <a:lnTo>
                  <a:pt x="58817" y="1400"/>
                </a:lnTo>
                <a:lnTo>
                  <a:pt x="1400" y="1400"/>
                </a:lnTo>
                <a:close/>
              </a:path>
              <a:path fill="darken" w="60216" h="21600">
                <a:moveTo>
                  <a:pt x="60216" y="0"/>
                </a:moveTo>
                <a:lnTo>
                  <a:pt x="60216" y="21600"/>
                </a:lnTo>
                <a:lnTo>
                  <a:pt x="58817" y="20200"/>
                </a:lnTo>
                <a:lnTo>
                  <a:pt x="58817" y="1400"/>
                </a:lnTo>
                <a:close/>
              </a:path>
              <a:path fill="darkenLess" w="60216" h="21600">
                <a:moveTo>
                  <a:pt x="60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17" y="20200"/>
                </a:lnTo>
                <a:close/>
              </a:path>
              <a:path fill="lighten" w="60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Ч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Л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00000" y="4221000"/>
            <a:ext cx="3311640" cy="115272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62042" h="21600">
                <a:moveTo>
                  <a:pt x="0" y="0"/>
                </a:moveTo>
                <a:lnTo>
                  <a:pt x="62042" y="0"/>
                </a:lnTo>
                <a:lnTo>
                  <a:pt x="62042" y="21600"/>
                </a:lnTo>
                <a:lnTo>
                  <a:pt x="0" y="21600"/>
                </a:lnTo>
                <a:close/>
              </a:path>
              <a:path fill="lightenLess" w="62042" h="21600">
                <a:moveTo>
                  <a:pt x="0" y="0"/>
                </a:moveTo>
                <a:lnTo>
                  <a:pt x="62042" y="0"/>
                </a:lnTo>
                <a:lnTo>
                  <a:pt x="60642" y="1400"/>
                </a:lnTo>
                <a:lnTo>
                  <a:pt x="1400" y="1400"/>
                </a:lnTo>
                <a:close/>
              </a:path>
              <a:path fill="darken" w="62042" h="21600">
                <a:moveTo>
                  <a:pt x="62042" y="0"/>
                </a:moveTo>
                <a:lnTo>
                  <a:pt x="62042" y="21600"/>
                </a:lnTo>
                <a:lnTo>
                  <a:pt x="60642" y="20200"/>
                </a:lnTo>
                <a:lnTo>
                  <a:pt x="60642" y="1400"/>
                </a:lnTo>
                <a:close/>
              </a:path>
              <a:path fill="darkenLess" w="62042" h="21600">
                <a:moveTo>
                  <a:pt x="62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42" y="20200"/>
                </a:lnTo>
                <a:close/>
              </a:path>
              <a:path fill="lighten" w="62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Garamond"/>
              </a:rPr>
              <a:t>6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. Глагол отвечает  на  вопросы  …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38160" y="447372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Ч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ДЕЛ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716360" y="2384280"/>
            <a:ext cx="3816360" cy="136872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60216" h="21600">
                <a:moveTo>
                  <a:pt x="0" y="0"/>
                </a:moveTo>
                <a:lnTo>
                  <a:pt x="60216" y="0"/>
                </a:lnTo>
                <a:lnTo>
                  <a:pt x="60216" y="21600"/>
                </a:lnTo>
                <a:lnTo>
                  <a:pt x="0" y="21600"/>
                </a:lnTo>
                <a:close/>
              </a:path>
              <a:path fill="lightenLess" w="60216" h="21600">
                <a:moveTo>
                  <a:pt x="0" y="0"/>
                </a:moveTo>
                <a:lnTo>
                  <a:pt x="60216" y="0"/>
                </a:lnTo>
                <a:lnTo>
                  <a:pt x="58817" y="1400"/>
                </a:lnTo>
                <a:lnTo>
                  <a:pt x="1400" y="1400"/>
                </a:lnTo>
                <a:close/>
              </a:path>
              <a:path fill="darken" w="60216" h="21600">
                <a:moveTo>
                  <a:pt x="60216" y="0"/>
                </a:moveTo>
                <a:lnTo>
                  <a:pt x="60216" y="21600"/>
                </a:lnTo>
                <a:lnTo>
                  <a:pt x="58817" y="20200"/>
                </a:lnTo>
                <a:lnTo>
                  <a:pt x="58817" y="1400"/>
                </a:lnTo>
                <a:close/>
              </a:path>
              <a:path fill="darkenLess" w="60216" h="21600">
                <a:moveTo>
                  <a:pt x="60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17" y="20200"/>
                </a:lnTo>
                <a:close/>
              </a:path>
              <a:path fill="lighten" w="60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О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5148360" y="4357800"/>
            <a:ext cx="3311280" cy="1152360"/>
          </a:xfrm>
          <a:custGeom>
            <a:avLst/>
            <a:gdLst>
              <a:gd name="textAreaLeft" fmla="*/ 74520 w 3311280"/>
              <a:gd name="textAreaRight" fmla="*/ 3236760 w 3311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54" h="21600">
                <a:moveTo>
                  <a:pt x="0" y="0"/>
                </a:moveTo>
                <a:lnTo>
                  <a:pt x="62054" y="0"/>
                </a:lnTo>
                <a:lnTo>
                  <a:pt x="62054" y="21600"/>
                </a:lnTo>
                <a:lnTo>
                  <a:pt x="0" y="21600"/>
                </a:lnTo>
                <a:close/>
              </a:path>
              <a:path fill="lightenLess" w="62054" h="21600">
                <a:moveTo>
                  <a:pt x="0" y="0"/>
                </a:moveTo>
                <a:lnTo>
                  <a:pt x="62054" y="0"/>
                </a:lnTo>
                <a:lnTo>
                  <a:pt x="60655" y="1400"/>
                </a:lnTo>
                <a:lnTo>
                  <a:pt x="1400" y="1400"/>
                </a:lnTo>
                <a:close/>
              </a:path>
              <a:path fill="darken" w="62054" h="21600">
                <a:moveTo>
                  <a:pt x="62054" y="0"/>
                </a:moveTo>
                <a:lnTo>
                  <a:pt x="62054" y="21600"/>
                </a:lnTo>
                <a:lnTo>
                  <a:pt x="60655" y="20200"/>
                </a:lnTo>
                <a:lnTo>
                  <a:pt x="60655" y="1400"/>
                </a:lnTo>
                <a:close/>
              </a:path>
              <a:path fill="darkenLess" w="62054" h="21600">
                <a:moveTo>
                  <a:pt x="62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55" y="20200"/>
                </a:lnTo>
                <a:close/>
              </a:path>
              <a:path fill="lighten" w="62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8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Garamond"/>
              </a:rPr>
              <a:t>7</a:t>
            </a: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. Выбери  имя  существительное  из  данных  слов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968720" y="436248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716360" y="2384280"/>
            <a:ext cx="3816360" cy="136872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720"/>
              <a:gd name="textAreaBottom" fmla="*/ 1280160 h 1368720"/>
            </a:gdLst>
            <a:ahLst/>
            <a:rect l="textAreaLeft" t="textAreaTop" r="textAreaRight" b="textAreaBottom"/>
            <a:pathLst>
              <a:path w="60216" h="21600">
                <a:moveTo>
                  <a:pt x="0" y="0"/>
                </a:moveTo>
                <a:lnTo>
                  <a:pt x="60216" y="0"/>
                </a:lnTo>
                <a:lnTo>
                  <a:pt x="60216" y="21600"/>
                </a:lnTo>
                <a:lnTo>
                  <a:pt x="0" y="21600"/>
                </a:lnTo>
                <a:close/>
              </a:path>
              <a:path fill="lightenLess" w="60216" h="21600">
                <a:moveTo>
                  <a:pt x="0" y="0"/>
                </a:moveTo>
                <a:lnTo>
                  <a:pt x="60216" y="0"/>
                </a:lnTo>
                <a:lnTo>
                  <a:pt x="58817" y="1400"/>
                </a:lnTo>
                <a:lnTo>
                  <a:pt x="1400" y="1400"/>
                </a:lnTo>
                <a:close/>
              </a:path>
              <a:path fill="darken" w="60216" h="21600">
                <a:moveTo>
                  <a:pt x="60216" y="0"/>
                </a:moveTo>
                <a:lnTo>
                  <a:pt x="60216" y="21600"/>
                </a:lnTo>
                <a:lnTo>
                  <a:pt x="58817" y="20200"/>
                </a:lnTo>
                <a:lnTo>
                  <a:pt x="58817" y="1400"/>
                </a:lnTo>
                <a:close/>
              </a:path>
              <a:path fill="darkenLess" w="60216" h="21600">
                <a:moveTo>
                  <a:pt x="60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17" y="20200"/>
                </a:lnTo>
                <a:close/>
              </a:path>
              <a:path fill="lighten" w="60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60320" y="4221000"/>
            <a:ext cx="3748320" cy="1293840"/>
          </a:xfrm>
          <a:custGeom>
            <a:avLst/>
            <a:gdLst>
              <a:gd name="textAreaLeft" fmla="*/ 83520 w 3748320"/>
              <a:gd name="textAreaRight" fmla="*/ 3664800 w 3748320"/>
              <a:gd name="textAreaTop" fmla="*/ 83520 h 1293840"/>
              <a:gd name="textAreaBottom" fmla="*/ 1210320 h 1293840"/>
            </a:gdLst>
            <a:ahLst/>
            <a:rect l="textAreaLeft" t="textAreaTop" r="textAreaRight" b="textAreaBottom"/>
            <a:pathLst>
              <a:path w="62565" h="21600">
                <a:moveTo>
                  <a:pt x="0" y="0"/>
                </a:moveTo>
                <a:lnTo>
                  <a:pt x="62565" y="0"/>
                </a:lnTo>
                <a:lnTo>
                  <a:pt x="62565" y="21600"/>
                </a:lnTo>
                <a:lnTo>
                  <a:pt x="0" y="21600"/>
                </a:lnTo>
                <a:close/>
              </a:path>
              <a:path fill="lightenLess" w="62565" h="21600">
                <a:moveTo>
                  <a:pt x="0" y="0"/>
                </a:moveTo>
                <a:lnTo>
                  <a:pt x="62565" y="0"/>
                </a:lnTo>
                <a:lnTo>
                  <a:pt x="61165" y="1400"/>
                </a:lnTo>
                <a:lnTo>
                  <a:pt x="1400" y="1400"/>
                </a:lnTo>
                <a:close/>
              </a:path>
              <a:path fill="darken" w="62565" h="21600">
                <a:moveTo>
                  <a:pt x="62565" y="0"/>
                </a:moveTo>
                <a:lnTo>
                  <a:pt x="62565" y="21600"/>
                </a:lnTo>
                <a:lnTo>
                  <a:pt x="61165" y="20200"/>
                </a:lnTo>
                <a:lnTo>
                  <a:pt x="61165" y="1400"/>
                </a:lnTo>
                <a:close/>
              </a:path>
              <a:path fill="darkenLess" w="62565" h="21600">
                <a:moveTo>
                  <a:pt x="6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65" y="20200"/>
                </a:lnTo>
                <a:close/>
              </a:path>
              <a:path fill="lighten" w="6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ЕН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88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66"/>
                </a:solidFill>
                <a:latin typeface="Arial Black"/>
              </a:rPr>
              <a:t>8. Выбери  имя  прилагательное  из  данных  слов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886280" y="2421000"/>
            <a:ext cx="3311640" cy="1152360"/>
          </a:xfrm>
          <a:custGeom>
            <a:avLst/>
            <a:gdLst>
              <a:gd name="textAreaLeft" fmla="*/ 74520 w 3311640"/>
              <a:gd name="textAreaRight" fmla="*/ 3237120 w 3311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62061" h="21600">
                <a:moveTo>
                  <a:pt x="0" y="0"/>
                </a:moveTo>
                <a:lnTo>
                  <a:pt x="62061" y="0"/>
                </a:lnTo>
                <a:lnTo>
                  <a:pt x="62061" y="21600"/>
                </a:lnTo>
                <a:lnTo>
                  <a:pt x="0" y="21600"/>
                </a:lnTo>
                <a:close/>
              </a:path>
              <a:path fill="lightenLess" w="62061" h="21600">
                <a:moveTo>
                  <a:pt x="0" y="0"/>
                </a:moveTo>
                <a:lnTo>
                  <a:pt x="62061" y="0"/>
                </a:lnTo>
                <a:lnTo>
                  <a:pt x="60661" y="1400"/>
                </a:lnTo>
                <a:lnTo>
                  <a:pt x="1400" y="1400"/>
                </a:lnTo>
                <a:close/>
              </a:path>
              <a:path fill="darken" w="62061" h="21600">
                <a:moveTo>
                  <a:pt x="62061" y="0"/>
                </a:moveTo>
                <a:lnTo>
                  <a:pt x="62061" y="21600"/>
                </a:lnTo>
                <a:lnTo>
                  <a:pt x="60661" y="20200"/>
                </a:lnTo>
                <a:lnTo>
                  <a:pt x="60661" y="1400"/>
                </a:lnTo>
                <a:close/>
              </a:path>
              <a:path fill="darkenLess" w="62061" h="21600">
                <a:moveTo>
                  <a:pt x="6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61" y="20200"/>
                </a:lnTo>
                <a:close/>
              </a:path>
              <a:path fill="lighten" w="6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760320" y="2405160"/>
            <a:ext cx="3667320" cy="1168200"/>
          </a:xfrm>
          <a:custGeom>
            <a:avLst/>
            <a:gdLst>
              <a:gd name="textAreaLeft" fmla="*/ 75600 w 3667320"/>
              <a:gd name="textAreaRight" fmla="*/ 3591720 w 36673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67794" h="21600">
                <a:moveTo>
                  <a:pt x="0" y="0"/>
                </a:moveTo>
                <a:lnTo>
                  <a:pt x="67794" y="0"/>
                </a:lnTo>
                <a:lnTo>
                  <a:pt x="67794" y="21600"/>
                </a:lnTo>
                <a:lnTo>
                  <a:pt x="0" y="21600"/>
                </a:lnTo>
                <a:close/>
              </a:path>
              <a:path fill="lightenLess" w="67794" h="21600">
                <a:moveTo>
                  <a:pt x="0" y="0"/>
                </a:moveTo>
                <a:lnTo>
                  <a:pt x="67794" y="0"/>
                </a:lnTo>
                <a:lnTo>
                  <a:pt x="66395" y="1400"/>
                </a:lnTo>
                <a:lnTo>
                  <a:pt x="1400" y="1400"/>
                </a:lnTo>
                <a:close/>
              </a:path>
              <a:path fill="darken" w="67794" h="21600">
                <a:moveTo>
                  <a:pt x="67794" y="0"/>
                </a:moveTo>
                <a:lnTo>
                  <a:pt x="67794" y="21600"/>
                </a:lnTo>
                <a:lnTo>
                  <a:pt x="66395" y="20200"/>
                </a:lnTo>
                <a:lnTo>
                  <a:pt x="66395" y="1400"/>
                </a:lnTo>
                <a:close/>
              </a:path>
              <a:path fill="darkenLess" w="67794" h="21600">
                <a:moveTo>
                  <a:pt x="6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395" y="20200"/>
                </a:lnTo>
                <a:close/>
              </a:path>
              <a:path fill="lighten" w="6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859280" y="4146480"/>
            <a:ext cx="3816360" cy="1368360"/>
          </a:xfrm>
          <a:custGeom>
            <a:avLst/>
            <a:gdLst>
              <a:gd name="textAreaLeft" fmla="*/ 88560 w 3816360"/>
              <a:gd name="textAreaRight" fmla="*/ 3727800 w 381636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60232" h="21600">
                <a:moveTo>
                  <a:pt x="0" y="0"/>
                </a:moveTo>
                <a:lnTo>
                  <a:pt x="60232" y="0"/>
                </a:lnTo>
                <a:lnTo>
                  <a:pt x="60232" y="21600"/>
                </a:lnTo>
                <a:lnTo>
                  <a:pt x="0" y="21600"/>
                </a:lnTo>
                <a:close/>
              </a:path>
              <a:path fill="lightenLess" w="60232" h="21600">
                <a:moveTo>
                  <a:pt x="0" y="0"/>
                </a:moveTo>
                <a:lnTo>
                  <a:pt x="60232" y="0"/>
                </a:lnTo>
                <a:lnTo>
                  <a:pt x="58832" y="1400"/>
                </a:lnTo>
                <a:lnTo>
                  <a:pt x="1400" y="1400"/>
                </a:lnTo>
                <a:close/>
              </a:path>
              <a:path fill="darken" w="60232" h="21600">
                <a:moveTo>
                  <a:pt x="60232" y="0"/>
                </a:moveTo>
                <a:lnTo>
                  <a:pt x="60232" y="21600"/>
                </a:lnTo>
                <a:lnTo>
                  <a:pt x="58832" y="20200"/>
                </a:lnTo>
                <a:lnTo>
                  <a:pt x="58832" y="1400"/>
                </a:lnTo>
                <a:close/>
              </a:path>
              <a:path fill="darkenLess" w="60232" h="21600">
                <a:moveTo>
                  <a:pt x="60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832" y="20200"/>
                </a:lnTo>
                <a:close/>
              </a:path>
              <a:path fill="lighten" w="60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760320" y="4221000"/>
            <a:ext cx="3748320" cy="1293840"/>
          </a:xfrm>
          <a:custGeom>
            <a:avLst/>
            <a:gdLst>
              <a:gd name="textAreaLeft" fmla="*/ 83520 w 3748320"/>
              <a:gd name="textAreaRight" fmla="*/ 3664800 w 3748320"/>
              <a:gd name="textAreaTop" fmla="*/ 83520 h 1293840"/>
              <a:gd name="textAreaBottom" fmla="*/ 1210320 h 1293840"/>
            </a:gdLst>
            <a:ahLst/>
            <a:rect l="textAreaLeft" t="textAreaTop" r="textAreaRight" b="textAreaBottom"/>
            <a:pathLst>
              <a:path w="62565" h="21600">
                <a:moveTo>
                  <a:pt x="0" y="0"/>
                </a:moveTo>
                <a:lnTo>
                  <a:pt x="62565" y="0"/>
                </a:lnTo>
                <a:lnTo>
                  <a:pt x="62565" y="21600"/>
                </a:lnTo>
                <a:lnTo>
                  <a:pt x="0" y="21600"/>
                </a:lnTo>
                <a:close/>
              </a:path>
              <a:path fill="lightenLess" w="62565" h="21600">
                <a:moveTo>
                  <a:pt x="0" y="0"/>
                </a:moveTo>
                <a:lnTo>
                  <a:pt x="62565" y="0"/>
                </a:lnTo>
                <a:lnTo>
                  <a:pt x="61165" y="1400"/>
                </a:lnTo>
                <a:lnTo>
                  <a:pt x="1400" y="1400"/>
                </a:lnTo>
                <a:close/>
              </a:path>
              <a:path fill="darken" w="62565" h="21600">
                <a:moveTo>
                  <a:pt x="62565" y="0"/>
                </a:moveTo>
                <a:lnTo>
                  <a:pt x="62565" y="21600"/>
                </a:lnTo>
                <a:lnTo>
                  <a:pt x="61165" y="20200"/>
                </a:lnTo>
                <a:lnTo>
                  <a:pt x="61165" y="1400"/>
                </a:lnTo>
                <a:close/>
              </a:path>
              <a:path fill="darkenLess" w="62565" h="21600">
                <a:moveTo>
                  <a:pt x="6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65" y="20200"/>
                </a:lnTo>
                <a:close/>
              </a:path>
              <a:path fill="lighten" w="6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Е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дальше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708360" y="5373720"/>
            <a:ext cx="1657440" cy="82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ошибка2"/>
          <p:cNvPicPr/>
          <p:nvPr/>
        </p:nvPicPr>
        <p:blipFill>
          <a:blip r:embed="rId6"/>
          <a:stretch/>
        </p:blipFill>
        <p:spPr>
          <a:xfrm>
            <a:off x="2556000" y="3500280"/>
            <a:ext cx="3960720" cy="97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верно"/>
          <p:cNvPicPr/>
          <p:nvPr/>
        </p:nvPicPr>
        <p:blipFill>
          <a:blip r:embed="rId7"/>
          <a:stretch/>
        </p:blipFill>
        <p:spPr>
          <a:xfrm>
            <a:off x="2484360" y="3573360"/>
            <a:ext cx="4048200" cy="81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8" name="levelup.wav"/>
      </p:stSnd>
    </p:sndAc>
  </p:transition>
  <p:timing>
    <p:tnLst>
      <p:par>
        <p:cTn id="435" dur="indefinite" restart="never" nodeType="tmRoot">
          <p:childTnLst>
            <p:seq>
              <p:cTn id="43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37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mpBonusReceiv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50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82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08:32:27Z</dcterms:created>
  <dc:creator>Администратор</dc:creator>
  <dc:description/>
  <dc:language>en-US</dc:language>
  <cp:lastModifiedBy>user</cp:lastModifiedBy>
  <dcterms:modified xsi:type="dcterms:W3CDTF">2020-10-15T18:34:43Z</dcterms:modified>
  <cp:revision>32</cp:revision>
  <dc:subject/>
  <dc:title>Слайд 1</dc:title>
</cp:coreProperties>
</file>