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levelup.wav" ContentType="audio/x-wav"/>
  <Override PartName="/ppt/media/image1.png" ContentType="image/png"/>
  <Override PartName="/ppt/media/image2.gif" ContentType="image/gif"/>
  <Override PartName="/ppt/media/image3.gif" ContentType="image/gif"/>
  <Override PartName="/ppt/media/image4.gif" ContentType="image/gif"/>
  <Override PartName="/ppt/media/BumpBonusReceived.wav" ContentType="audio/x-wav"/>
  <Override PartName="/ppt/media/notic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01B6-E446-4E3A-BAA1-DDE0585C0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F1F8-C9FE-46E4-9685-40806DADD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C514-13F9-4756-974E-7F351F7E2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ECBF-17BE-45FF-8BC0-8C037E995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ADEA0-FB25-4BA4-B1EE-CD982C27C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083FC-DF21-4F4A-9991-4EAAC630D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B7C23-1101-4E3A-A46B-540AFBEAA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CC9A9-7F17-428F-A6A4-7F8A7546D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FD167-8A87-4AFA-ABDD-7033CA7DA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99327-2D07-444A-8F99-574C89FAF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82347-205E-4027-B022-80A84FB3F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E25A-0F5B-430F-B07F-DEBDADD68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9E83A-48DE-4ED2-AA4B-20EECF207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B0ED5-24D4-4B54-9FCE-E1EBD0A9D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3D96D-4885-443A-8123-4552F08A2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27247-7858-496C-ABB9-CE0D23FE4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CB76B-BF0E-4C65-9E8A-C602E67E6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D303-0B3F-49BA-B0C7-23DED23BE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DAC0-3853-4635-ACE8-ABDA5B99E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33FF-0C74-4715-AC56-F58F47597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F505-9CE7-442B-B4CC-A8595CBC5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2EC7-C9E9-4C7F-A577-8B47C4F6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137D-7669-4834-90C9-6B214E22D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4513-02B3-4815-8A7C-DEA95A7C1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22ED6-09EC-4111-A82B-2F233259ED4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95D29-627C-4384-B1A8-327FB414081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levelup.wav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gif"/><Relationship Id="rId6" Type="http://schemas.openxmlformats.org/officeDocument/2006/relationships/image" Target="../media/image3.gif"/><Relationship Id="rId7" Type="http://schemas.openxmlformats.org/officeDocument/2006/relationships/image" Target="../media/image4.gif"/><Relationship Id="rId8" Type="http://schemas.openxmlformats.org/officeDocument/2006/relationships/audio" Target="../media/levelup.wav"/><Relationship Id="rId9" Type="http://schemas.openxmlformats.org/officeDocument/2006/relationships/audio" Target="../media/BumpBonusReceived.wav"/><Relationship Id="rId10" Type="http://schemas.openxmlformats.org/officeDocument/2006/relationships/audio" Target="../media/notice.wav"/><Relationship Id="rId11" Type="http://schemas.openxmlformats.org/officeDocument/2006/relationships/audio" Target="../media/notice.wav"/><Relationship Id="rId12" Type="http://schemas.openxmlformats.org/officeDocument/2006/relationships/audio" Target="../media/notice.wav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gif"/><Relationship Id="rId6" Type="http://schemas.openxmlformats.org/officeDocument/2006/relationships/image" Target="../media/image3.gif"/><Relationship Id="rId7" Type="http://schemas.openxmlformats.org/officeDocument/2006/relationships/image" Target="../media/image4.gif"/><Relationship Id="rId8" Type="http://schemas.openxmlformats.org/officeDocument/2006/relationships/audio" Target="../media/levelup.wav"/><Relationship Id="rId9" Type="http://schemas.openxmlformats.org/officeDocument/2006/relationships/audio" Target="../media/BumpBonusReceived.wav"/><Relationship Id="rId10" Type="http://schemas.openxmlformats.org/officeDocument/2006/relationships/audio" Target="../media/notice.wav"/><Relationship Id="rId11" Type="http://schemas.openxmlformats.org/officeDocument/2006/relationships/audio" Target="../media/notice.wav"/><Relationship Id="rId12" Type="http://schemas.openxmlformats.org/officeDocument/2006/relationships/audio" Target="../media/notice.wav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gif"/><Relationship Id="rId6" Type="http://schemas.openxmlformats.org/officeDocument/2006/relationships/image" Target="../media/image3.gif"/><Relationship Id="rId7" Type="http://schemas.openxmlformats.org/officeDocument/2006/relationships/image" Target="../media/image4.gif"/><Relationship Id="rId8" Type="http://schemas.openxmlformats.org/officeDocument/2006/relationships/audio" Target="../media/levelup.wav"/><Relationship Id="rId9" Type="http://schemas.openxmlformats.org/officeDocument/2006/relationships/audio" Target="../media/BumpBonusReceived.wav"/><Relationship Id="rId10" Type="http://schemas.openxmlformats.org/officeDocument/2006/relationships/audio" Target="../media/notice.wav"/><Relationship Id="rId11" Type="http://schemas.openxmlformats.org/officeDocument/2006/relationships/audio" Target="../media/notice.wav"/><Relationship Id="rId12" Type="http://schemas.openxmlformats.org/officeDocument/2006/relationships/audio" Target="../media/notice.wav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gif"/><Relationship Id="rId6" Type="http://schemas.openxmlformats.org/officeDocument/2006/relationships/image" Target="../media/image3.gif"/><Relationship Id="rId7" Type="http://schemas.openxmlformats.org/officeDocument/2006/relationships/image" Target="../media/image4.gif"/><Relationship Id="rId8" Type="http://schemas.openxmlformats.org/officeDocument/2006/relationships/audio" Target="../media/levelup.wav"/><Relationship Id="rId9" Type="http://schemas.openxmlformats.org/officeDocument/2006/relationships/audio" Target="../media/BumpBonusReceived.wav"/><Relationship Id="rId10" Type="http://schemas.openxmlformats.org/officeDocument/2006/relationships/audio" Target="../media/notice.wav"/><Relationship Id="rId11" Type="http://schemas.openxmlformats.org/officeDocument/2006/relationships/audio" Target="../media/notice.wav"/><Relationship Id="rId12" Type="http://schemas.openxmlformats.org/officeDocument/2006/relationships/audio" Target="../media/notice.wav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gif"/><Relationship Id="rId6" Type="http://schemas.openxmlformats.org/officeDocument/2006/relationships/image" Target="../media/image3.gif"/><Relationship Id="rId7" Type="http://schemas.openxmlformats.org/officeDocument/2006/relationships/image" Target="../media/image4.gif"/><Relationship Id="rId8" Type="http://schemas.openxmlformats.org/officeDocument/2006/relationships/audio" Target="../media/levelup.wav"/><Relationship Id="rId9" Type="http://schemas.openxmlformats.org/officeDocument/2006/relationships/audio" Target="../media/BumpBonusReceived.wav"/><Relationship Id="rId10" Type="http://schemas.openxmlformats.org/officeDocument/2006/relationships/audio" Target="../media/notice.wav"/><Relationship Id="rId11" Type="http://schemas.openxmlformats.org/officeDocument/2006/relationships/audio" Target="../media/notice.wav"/><Relationship Id="rId12" Type="http://schemas.openxmlformats.org/officeDocument/2006/relationships/audio" Target="../media/notice.wav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gif"/><Relationship Id="rId6" Type="http://schemas.openxmlformats.org/officeDocument/2006/relationships/image" Target="../media/image3.gif"/><Relationship Id="rId7" Type="http://schemas.openxmlformats.org/officeDocument/2006/relationships/image" Target="../media/image4.gif"/><Relationship Id="rId8" Type="http://schemas.openxmlformats.org/officeDocument/2006/relationships/audio" Target="../media/levelup.wav"/><Relationship Id="rId9" Type="http://schemas.openxmlformats.org/officeDocument/2006/relationships/audio" Target="../media/BumpBonusReceived.wav"/><Relationship Id="rId10" Type="http://schemas.openxmlformats.org/officeDocument/2006/relationships/audio" Target="../media/notice.wav"/><Relationship Id="rId11" Type="http://schemas.openxmlformats.org/officeDocument/2006/relationships/audio" Target="../media/notice.wav"/><Relationship Id="rId12" Type="http://schemas.openxmlformats.org/officeDocument/2006/relationships/audio" Target="../media/notice.wav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gif"/><Relationship Id="rId6" Type="http://schemas.openxmlformats.org/officeDocument/2006/relationships/image" Target="../media/image3.gif"/><Relationship Id="rId7" Type="http://schemas.openxmlformats.org/officeDocument/2006/relationships/image" Target="../media/image4.gif"/><Relationship Id="rId8" Type="http://schemas.openxmlformats.org/officeDocument/2006/relationships/audio" Target="../media/levelup.wav"/><Relationship Id="rId9" Type="http://schemas.openxmlformats.org/officeDocument/2006/relationships/audio" Target="../media/BumpBonusReceived.wav"/><Relationship Id="rId10" Type="http://schemas.openxmlformats.org/officeDocument/2006/relationships/audio" Target="../media/notice.wav"/><Relationship Id="rId11" Type="http://schemas.openxmlformats.org/officeDocument/2006/relationships/audio" Target="../media/notice.wav"/><Relationship Id="rId12" Type="http://schemas.openxmlformats.org/officeDocument/2006/relationships/audio" Target="../media/notice.wav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gif"/><Relationship Id="rId6" Type="http://schemas.openxmlformats.org/officeDocument/2006/relationships/image" Target="../media/image3.gif"/><Relationship Id="rId7" Type="http://schemas.openxmlformats.org/officeDocument/2006/relationships/image" Target="../media/image4.gif"/><Relationship Id="rId8" Type="http://schemas.openxmlformats.org/officeDocument/2006/relationships/audio" Target="../media/levelup.wav"/><Relationship Id="rId9" Type="http://schemas.openxmlformats.org/officeDocument/2006/relationships/audio" Target="../media/BumpBonusReceived.wav"/><Relationship Id="rId10" Type="http://schemas.openxmlformats.org/officeDocument/2006/relationships/audio" Target="../media/notice.wav"/><Relationship Id="rId11" Type="http://schemas.openxmlformats.org/officeDocument/2006/relationships/audio" Target="../media/notice.wav"/><Relationship Id="rId12" Type="http://schemas.openxmlformats.org/officeDocument/2006/relationships/audio" Target="../media/notice.wav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gif"/><Relationship Id="rId6" Type="http://schemas.openxmlformats.org/officeDocument/2006/relationships/image" Target="../media/image3.gif"/><Relationship Id="rId7" Type="http://schemas.openxmlformats.org/officeDocument/2006/relationships/image" Target="../media/image4.gif"/><Relationship Id="rId8" Type="http://schemas.openxmlformats.org/officeDocument/2006/relationships/audio" Target="../media/levelup.wav"/><Relationship Id="rId9" Type="http://schemas.openxmlformats.org/officeDocument/2006/relationships/audio" Target="../media/BumpBonusReceived.wav"/><Relationship Id="rId10" Type="http://schemas.openxmlformats.org/officeDocument/2006/relationships/audio" Target="../media/notice.wav"/><Relationship Id="rId11" Type="http://schemas.openxmlformats.org/officeDocument/2006/relationships/audio" Target="../media/notice.wav"/><Relationship Id="rId12" Type="http://schemas.openxmlformats.org/officeDocument/2006/relationships/audio" Target="../media/notice.wav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gif"/><Relationship Id="rId6" Type="http://schemas.openxmlformats.org/officeDocument/2006/relationships/image" Target="../media/image3.gif"/><Relationship Id="rId7" Type="http://schemas.openxmlformats.org/officeDocument/2006/relationships/image" Target="../media/image4.gif"/><Relationship Id="rId8" Type="http://schemas.openxmlformats.org/officeDocument/2006/relationships/audio" Target="../media/levelup.wav"/><Relationship Id="rId9" Type="http://schemas.openxmlformats.org/officeDocument/2006/relationships/audio" Target="../media/BumpBonusReceived.wav"/><Relationship Id="rId10" Type="http://schemas.openxmlformats.org/officeDocument/2006/relationships/audio" Target="../media/notice.wav"/><Relationship Id="rId11" Type="http://schemas.openxmlformats.org/officeDocument/2006/relationships/audio" Target="../media/notice.wav"/><Relationship Id="rId12" Type="http://schemas.openxmlformats.org/officeDocument/2006/relationships/audio" Target="../media/notice.wav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gif"/><Relationship Id="rId6" Type="http://schemas.openxmlformats.org/officeDocument/2006/relationships/image" Target="../media/image3.gif"/><Relationship Id="rId7" Type="http://schemas.openxmlformats.org/officeDocument/2006/relationships/image" Target="../media/image4.gif"/><Relationship Id="rId8" Type="http://schemas.openxmlformats.org/officeDocument/2006/relationships/audio" Target="../media/levelup.wav"/><Relationship Id="rId9" Type="http://schemas.openxmlformats.org/officeDocument/2006/relationships/audio" Target="../media/BumpBonusReceived.wav"/><Relationship Id="rId10" Type="http://schemas.openxmlformats.org/officeDocument/2006/relationships/audio" Target="../media/notice.wav"/><Relationship Id="rId11" Type="http://schemas.openxmlformats.org/officeDocument/2006/relationships/audio" Target="../media/notice.wav"/><Relationship Id="rId12" Type="http://schemas.openxmlformats.org/officeDocument/2006/relationships/audio" Target="../media/notice.wav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gif"/><Relationship Id="rId6" Type="http://schemas.openxmlformats.org/officeDocument/2006/relationships/image" Target="../media/image3.gif"/><Relationship Id="rId7" Type="http://schemas.openxmlformats.org/officeDocument/2006/relationships/image" Target="../media/image4.gif"/><Relationship Id="rId8" Type="http://schemas.openxmlformats.org/officeDocument/2006/relationships/audio" Target="../media/levelup.wav"/><Relationship Id="rId9" Type="http://schemas.openxmlformats.org/officeDocument/2006/relationships/audio" Target="../media/BumpBonusReceived.wav"/><Relationship Id="rId10" Type="http://schemas.openxmlformats.org/officeDocument/2006/relationships/audio" Target="../media/notice.wav"/><Relationship Id="rId11" Type="http://schemas.openxmlformats.org/officeDocument/2006/relationships/audio" Target="../media/notice.wav"/><Relationship Id="rId12" Type="http://schemas.openxmlformats.org/officeDocument/2006/relationships/audio" Target="../media/notice.wav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gif"/><Relationship Id="rId6" Type="http://schemas.openxmlformats.org/officeDocument/2006/relationships/image" Target="../media/image3.gif"/><Relationship Id="rId7" Type="http://schemas.openxmlformats.org/officeDocument/2006/relationships/image" Target="../media/image4.gif"/><Relationship Id="rId8" Type="http://schemas.openxmlformats.org/officeDocument/2006/relationships/audio" Target="../media/levelup.wav"/><Relationship Id="rId9" Type="http://schemas.openxmlformats.org/officeDocument/2006/relationships/audio" Target="../media/BumpBonusReceived.wav"/><Relationship Id="rId10" Type="http://schemas.openxmlformats.org/officeDocument/2006/relationships/audio" Target="../media/notice.wav"/><Relationship Id="rId11" Type="http://schemas.openxmlformats.org/officeDocument/2006/relationships/audio" Target="../media/notice.wav"/><Relationship Id="rId12" Type="http://schemas.openxmlformats.org/officeDocument/2006/relationships/audio" Target="../media/notice.wav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gif"/><Relationship Id="rId6" Type="http://schemas.openxmlformats.org/officeDocument/2006/relationships/image" Target="../media/image3.gif"/><Relationship Id="rId7" Type="http://schemas.openxmlformats.org/officeDocument/2006/relationships/image" Target="../media/image4.gif"/><Relationship Id="rId8" Type="http://schemas.openxmlformats.org/officeDocument/2006/relationships/audio" Target="../media/levelup.wav"/><Relationship Id="rId9" Type="http://schemas.openxmlformats.org/officeDocument/2006/relationships/audio" Target="../media/BumpBonusReceived.wav"/><Relationship Id="rId10" Type="http://schemas.openxmlformats.org/officeDocument/2006/relationships/audio" Target="../media/notice.wav"/><Relationship Id="rId11" Type="http://schemas.openxmlformats.org/officeDocument/2006/relationships/audio" Target="../media/notice.wav"/><Relationship Id="rId12" Type="http://schemas.openxmlformats.org/officeDocument/2006/relationships/audio" Target="../media/notice.wav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gif"/><Relationship Id="rId6" Type="http://schemas.openxmlformats.org/officeDocument/2006/relationships/image" Target="../media/image3.gif"/><Relationship Id="rId7" Type="http://schemas.openxmlformats.org/officeDocument/2006/relationships/image" Target="../media/image4.gif"/><Relationship Id="rId8" Type="http://schemas.openxmlformats.org/officeDocument/2006/relationships/audio" Target="../media/levelup.wav"/><Relationship Id="rId9" Type="http://schemas.openxmlformats.org/officeDocument/2006/relationships/audio" Target="../media/BumpBonusReceived.wav"/><Relationship Id="rId10" Type="http://schemas.openxmlformats.org/officeDocument/2006/relationships/audio" Target="../media/notice.wav"/><Relationship Id="rId11" Type="http://schemas.openxmlformats.org/officeDocument/2006/relationships/audio" Target="../media/notice.wav"/><Relationship Id="rId12" Type="http://schemas.openxmlformats.org/officeDocument/2006/relationships/audio" Target="../media/notice.wav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660066"/>
                </a:solidFill>
                <a:latin typeface="Arial"/>
              </a:rPr>
              <a:t>ТЕСТ</a:t>
            </a:r>
            <a:br>
              <a:rPr sz="6000"/>
            </a:br>
            <a:r>
              <a:rPr b="0" lang="ru-RU" sz="6000" spc="-1" strike="noStrike">
                <a:solidFill>
                  <a:srgbClr val="660066"/>
                </a:solidFill>
                <a:latin typeface="Arial"/>
              </a:rPr>
              <a:t>ЧАСТИ РЕЧ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  <p:sndAc>
      <p:stSnd>
        <p:snd r:embed="rId1" name="levelup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28036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660066"/>
                </a:solidFill>
                <a:latin typeface="Arial Black"/>
              </a:rPr>
              <a:t>9. Выбери  глагол  из  данных  слов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AutoShape 3"/>
          <p:cNvSpPr/>
          <p:nvPr/>
        </p:nvSpPr>
        <p:spPr>
          <a:xfrm>
            <a:off x="871560" y="2276640"/>
            <a:ext cx="3311640" cy="1152360"/>
          </a:xfrm>
          <a:custGeom>
            <a:avLst/>
            <a:gdLst>
              <a:gd name="textAreaLeft" fmla="*/ 74520 w 3311640"/>
              <a:gd name="textAreaRight" fmla="*/ 3237120 w 331164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62061" h="21600">
                <a:moveTo>
                  <a:pt x="0" y="0"/>
                </a:moveTo>
                <a:lnTo>
                  <a:pt x="62061" y="0"/>
                </a:lnTo>
                <a:lnTo>
                  <a:pt x="62061" y="21600"/>
                </a:lnTo>
                <a:lnTo>
                  <a:pt x="0" y="21600"/>
                </a:lnTo>
                <a:close/>
              </a:path>
              <a:path fill="lightenLess" w="62061" h="21600">
                <a:moveTo>
                  <a:pt x="0" y="0"/>
                </a:moveTo>
                <a:lnTo>
                  <a:pt x="62061" y="0"/>
                </a:lnTo>
                <a:lnTo>
                  <a:pt x="60661" y="1400"/>
                </a:lnTo>
                <a:lnTo>
                  <a:pt x="1400" y="1400"/>
                </a:lnTo>
                <a:close/>
              </a:path>
              <a:path fill="darken" w="62061" h="21600">
                <a:moveTo>
                  <a:pt x="62061" y="0"/>
                </a:moveTo>
                <a:lnTo>
                  <a:pt x="62061" y="21600"/>
                </a:lnTo>
                <a:lnTo>
                  <a:pt x="60661" y="20200"/>
                </a:lnTo>
                <a:lnTo>
                  <a:pt x="60661" y="1400"/>
                </a:lnTo>
                <a:close/>
              </a:path>
              <a:path fill="darkenLess" w="62061" h="21600">
                <a:moveTo>
                  <a:pt x="620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661" y="20200"/>
                </a:lnTo>
                <a:close/>
              </a:path>
              <a:path fill="lighten" w="620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Arial Black"/>
              </a:rPr>
              <a:t>БЕЛИ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4560840" y="2260440"/>
            <a:ext cx="3667320" cy="1168560"/>
          </a:xfrm>
          <a:custGeom>
            <a:avLst/>
            <a:gdLst>
              <a:gd name="textAreaLeft" fmla="*/ 75600 w 3667320"/>
              <a:gd name="textAreaRight" fmla="*/ 3591720 w 3667320"/>
              <a:gd name="textAreaTop" fmla="*/ 75600 h 1168560"/>
              <a:gd name="textAreaBottom" fmla="*/ 1092960 h 1168560"/>
            </a:gdLst>
            <a:ahLst/>
            <a:rect l="textAreaLeft" t="textAreaTop" r="textAreaRight" b="textAreaBottom"/>
            <a:pathLst>
              <a:path w="67774" h="21600">
                <a:moveTo>
                  <a:pt x="0" y="0"/>
                </a:moveTo>
                <a:lnTo>
                  <a:pt x="67774" y="0"/>
                </a:lnTo>
                <a:lnTo>
                  <a:pt x="67774" y="21600"/>
                </a:lnTo>
                <a:lnTo>
                  <a:pt x="0" y="21600"/>
                </a:lnTo>
                <a:close/>
              </a:path>
              <a:path fill="lightenLess" w="67774" h="21600">
                <a:moveTo>
                  <a:pt x="0" y="0"/>
                </a:moveTo>
                <a:lnTo>
                  <a:pt x="67774" y="0"/>
                </a:lnTo>
                <a:lnTo>
                  <a:pt x="66374" y="1400"/>
                </a:lnTo>
                <a:lnTo>
                  <a:pt x="1400" y="1400"/>
                </a:lnTo>
                <a:close/>
              </a:path>
              <a:path fill="darken" w="67774" h="21600">
                <a:moveTo>
                  <a:pt x="67774" y="0"/>
                </a:moveTo>
                <a:lnTo>
                  <a:pt x="67774" y="21600"/>
                </a:lnTo>
                <a:lnTo>
                  <a:pt x="66374" y="20200"/>
                </a:lnTo>
                <a:lnTo>
                  <a:pt x="66374" y="1400"/>
                </a:lnTo>
                <a:close/>
              </a:path>
              <a:path fill="darkenLess" w="67774" h="21600">
                <a:moveTo>
                  <a:pt x="677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374" y="20200"/>
                </a:lnTo>
                <a:close/>
              </a:path>
              <a:path fill="lighten" w="677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Arial Black"/>
              </a:rPr>
              <a:t>БЕЛ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5"/>
          <p:cNvSpPr/>
          <p:nvPr/>
        </p:nvSpPr>
        <p:spPr>
          <a:xfrm>
            <a:off x="4859280" y="4146480"/>
            <a:ext cx="3816360" cy="1368360"/>
          </a:xfrm>
          <a:custGeom>
            <a:avLst/>
            <a:gdLst>
              <a:gd name="textAreaLeft" fmla="*/ 88560 w 3816360"/>
              <a:gd name="textAreaRight" fmla="*/ 3727800 w 3816360"/>
              <a:gd name="textAreaTop" fmla="*/ 88560 h 1368360"/>
              <a:gd name="textAreaBottom" fmla="*/ 1279800 h 1368360"/>
            </a:gdLst>
            <a:ahLst/>
            <a:rect l="textAreaLeft" t="textAreaTop" r="textAreaRight" b="textAreaBottom"/>
            <a:pathLst>
              <a:path w="60232" h="21600">
                <a:moveTo>
                  <a:pt x="0" y="0"/>
                </a:moveTo>
                <a:lnTo>
                  <a:pt x="60232" y="0"/>
                </a:lnTo>
                <a:lnTo>
                  <a:pt x="60232" y="21600"/>
                </a:lnTo>
                <a:lnTo>
                  <a:pt x="0" y="21600"/>
                </a:lnTo>
                <a:close/>
              </a:path>
              <a:path fill="lightenLess" w="60232" h="21600">
                <a:moveTo>
                  <a:pt x="0" y="0"/>
                </a:moveTo>
                <a:lnTo>
                  <a:pt x="60232" y="0"/>
                </a:lnTo>
                <a:lnTo>
                  <a:pt x="58832" y="1400"/>
                </a:lnTo>
                <a:lnTo>
                  <a:pt x="1400" y="1400"/>
                </a:lnTo>
                <a:close/>
              </a:path>
              <a:path fill="darken" w="60232" h="21600">
                <a:moveTo>
                  <a:pt x="60232" y="0"/>
                </a:moveTo>
                <a:lnTo>
                  <a:pt x="60232" y="21600"/>
                </a:lnTo>
                <a:lnTo>
                  <a:pt x="58832" y="20200"/>
                </a:lnTo>
                <a:lnTo>
                  <a:pt x="58832" y="1400"/>
                </a:lnTo>
                <a:close/>
              </a:path>
              <a:path fill="darkenLess" w="60232" h="21600">
                <a:moveTo>
                  <a:pt x="602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832" y="20200"/>
                </a:lnTo>
                <a:close/>
              </a:path>
              <a:path fill="lighten" w="602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Arial Black"/>
              </a:rPr>
              <a:t>БЕЛ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6"/>
          <p:cNvSpPr/>
          <p:nvPr/>
        </p:nvSpPr>
        <p:spPr>
          <a:xfrm>
            <a:off x="760320" y="4221000"/>
            <a:ext cx="3748320" cy="1293840"/>
          </a:xfrm>
          <a:custGeom>
            <a:avLst/>
            <a:gdLst>
              <a:gd name="textAreaLeft" fmla="*/ 83520 w 3748320"/>
              <a:gd name="textAreaRight" fmla="*/ 3664800 w 3748320"/>
              <a:gd name="textAreaTop" fmla="*/ 83520 h 1293840"/>
              <a:gd name="textAreaBottom" fmla="*/ 1210320 h 1293840"/>
            </a:gdLst>
            <a:ahLst/>
            <a:rect l="textAreaLeft" t="textAreaTop" r="textAreaRight" b="textAreaBottom"/>
            <a:pathLst>
              <a:path w="62565" h="21600">
                <a:moveTo>
                  <a:pt x="0" y="0"/>
                </a:moveTo>
                <a:lnTo>
                  <a:pt x="62565" y="0"/>
                </a:lnTo>
                <a:lnTo>
                  <a:pt x="62565" y="21600"/>
                </a:lnTo>
                <a:lnTo>
                  <a:pt x="0" y="21600"/>
                </a:lnTo>
                <a:close/>
              </a:path>
              <a:path fill="lightenLess" w="62565" h="21600">
                <a:moveTo>
                  <a:pt x="0" y="0"/>
                </a:moveTo>
                <a:lnTo>
                  <a:pt x="62565" y="0"/>
                </a:lnTo>
                <a:lnTo>
                  <a:pt x="61165" y="1400"/>
                </a:lnTo>
                <a:lnTo>
                  <a:pt x="1400" y="1400"/>
                </a:lnTo>
                <a:close/>
              </a:path>
              <a:path fill="darken" w="62565" h="21600">
                <a:moveTo>
                  <a:pt x="62565" y="0"/>
                </a:moveTo>
                <a:lnTo>
                  <a:pt x="62565" y="21600"/>
                </a:lnTo>
                <a:lnTo>
                  <a:pt x="61165" y="20200"/>
                </a:lnTo>
                <a:lnTo>
                  <a:pt x="61165" y="1400"/>
                </a:lnTo>
                <a:close/>
              </a:path>
              <a:path fill="darkenLess" w="62565" h="21600">
                <a:moveTo>
                  <a:pt x="62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165" y="20200"/>
                </a:lnTo>
                <a:close/>
              </a:path>
              <a:path fill="lighten" w="62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Arial Black"/>
              </a:rPr>
              <a:t>БЕЛЕНЬ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7" descr="дальше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3708360" y="5373720"/>
            <a:ext cx="1657440" cy="8254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ошибка2"/>
          <p:cNvPicPr/>
          <p:nvPr/>
        </p:nvPicPr>
        <p:blipFill>
          <a:blip r:embed="rId6"/>
          <a:stretch/>
        </p:blipFill>
        <p:spPr>
          <a:xfrm>
            <a:off x="2527200" y="3417840"/>
            <a:ext cx="3961080" cy="9730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верно"/>
          <p:cNvPicPr/>
          <p:nvPr/>
        </p:nvPicPr>
        <p:blipFill>
          <a:blip r:embed="rId7"/>
          <a:stretch/>
        </p:blipFill>
        <p:spPr>
          <a:xfrm>
            <a:off x="2484360" y="3573360"/>
            <a:ext cx="4048200" cy="8175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  <p:sndAc>
      <p:stSnd>
        <p:snd r:embed="rId8" name="levelup.wav"/>
      </p:stSnd>
    </p:sndAc>
  </p:transition>
  <p:timing>
    <p:tnLst>
      <p:par>
        <p:cTn id="497" dur="indefinite" restart="never" nodeType="tmRoot">
          <p:childTnLst>
            <p:seq>
              <p:cTn id="498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499" nodeType="clickEffect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umpBonusReceive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1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512" nodeType="clickEffect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noti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4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4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2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7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528" nodeType="clickEffect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noti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4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4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8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3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544" nodeType="clickEffect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noti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4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4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4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28036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660066"/>
                </a:solidFill>
                <a:latin typeface="Arial Black"/>
              </a:rPr>
              <a:t>10. Слова ВАРЕНЬЕ, РАКЕТА, КАРТИНА, ФЕВРАЛЬ -  это  … 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828720" y="4254480"/>
            <a:ext cx="3311640" cy="1152720"/>
          </a:xfrm>
          <a:custGeom>
            <a:avLst/>
            <a:gdLst>
              <a:gd name="textAreaLeft" fmla="*/ 74520 w 3311640"/>
              <a:gd name="textAreaRight" fmla="*/ 3237120 w 331164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62042" h="21600">
                <a:moveTo>
                  <a:pt x="0" y="0"/>
                </a:moveTo>
                <a:lnTo>
                  <a:pt x="62042" y="0"/>
                </a:lnTo>
                <a:lnTo>
                  <a:pt x="62042" y="21600"/>
                </a:lnTo>
                <a:lnTo>
                  <a:pt x="0" y="21600"/>
                </a:lnTo>
                <a:close/>
              </a:path>
              <a:path fill="lightenLess" w="62042" h="21600">
                <a:moveTo>
                  <a:pt x="0" y="0"/>
                </a:moveTo>
                <a:lnTo>
                  <a:pt x="62042" y="0"/>
                </a:lnTo>
                <a:lnTo>
                  <a:pt x="60642" y="1400"/>
                </a:lnTo>
                <a:lnTo>
                  <a:pt x="1400" y="1400"/>
                </a:lnTo>
                <a:close/>
              </a:path>
              <a:path fill="darken" w="62042" h="21600">
                <a:moveTo>
                  <a:pt x="62042" y="0"/>
                </a:moveTo>
                <a:lnTo>
                  <a:pt x="62042" y="21600"/>
                </a:lnTo>
                <a:lnTo>
                  <a:pt x="60642" y="20200"/>
                </a:lnTo>
                <a:lnTo>
                  <a:pt x="60642" y="1400"/>
                </a:lnTo>
                <a:close/>
              </a:path>
              <a:path fill="darkenLess" w="62042" h="21600">
                <a:moveTo>
                  <a:pt x="62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642" y="20200"/>
                </a:lnTo>
                <a:close/>
              </a:path>
              <a:path fill="lighten" w="62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 Black"/>
              </a:rPr>
              <a:t>СУЩЕСТВИ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 Black"/>
              </a:rPr>
              <a:t>ТЕ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4560840" y="2260440"/>
            <a:ext cx="3667320" cy="1168560"/>
          </a:xfrm>
          <a:custGeom>
            <a:avLst/>
            <a:gdLst>
              <a:gd name="textAreaLeft" fmla="*/ 75600 w 3667320"/>
              <a:gd name="textAreaRight" fmla="*/ 3591720 w 3667320"/>
              <a:gd name="textAreaTop" fmla="*/ 75600 h 1168560"/>
              <a:gd name="textAreaBottom" fmla="*/ 1092960 h 1168560"/>
            </a:gdLst>
            <a:ahLst/>
            <a:rect l="textAreaLeft" t="textAreaTop" r="textAreaRight" b="textAreaBottom"/>
            <a:pathLst>
              <a:path w="67774" h="21600">
                <a:moveTo>
                  <a:pt x="0" y="0"/>
                </a:moveTo>
                <a:lnTo>
                  <a:pt x="67774" y="0"/>
                </a:lnTo>
                <a:lnTo>
                  <a:pt x="67774" y="21600"/>
                </a:lnTo>
                <a:lnTo>
                  <a:pt x="0" y="21600"/>
                </a:lnTo>
                <a:close/>
              </a:path>
              <a:path fill="lightenLess" w="67774" h="21600">
                <a:moveTo>
                  <a:pt x="0" y="0"/>
                </a:moveTo>
                <a:lnTo>
                  <a:pt x="67774" y="0"/>
                </a:lnTo>
                <a:lnTo>
                  <a:pt x="66374" y="1400"/>
                </a:lnTo>
                <a:lnTo>
                  <a:pt x="1400" y="1400"/>
                </a:lnTo>
                <a:close/>
              </a:path>
              <a:path fill="darken" w="67774" h="21600">
                <a:moveTo>
                  <a:pt x="67774" y="0"/>
                </a:moveTo>
                <a:lnTo>
                  <a:pt x="67774" y="21600"/>
                </a:lnTo>
                <a:lnTo>
                  <a:pt x="66374" y="20200"/>
                </a:lnTo>
                <a:lnTo>
                  <a:pt x="66374" y="1400"/>
                </a:lnTo>
                <a:close/>
              </a:path>
              <a:path fill="darkenLess" w="67774" h="21600">
                <a:moveTo>
                  <a:pt x="677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374" y="20200"/>
                </a:lnTo>
                <a:close/>
              </a:path>
              <a:path fill="lighten" w="677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 Black"/>
              </a:rPr>
              <a:t>ГЛАГО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5"/>
          <p:cNvSpPr/>
          <p:nvPr/>
        </p:nvSpPr>
        <p:spPr>
          <a:xfrm>
            <a:off x="4859280" y="4146480"/>
            <a:ext cx="3816360" cy="1368360"/>
          </a:xfrm>
          <a:custGeom>
            <a:avLst/>
            <a:gdLst>
              <a:gd name="textAreaLeft" fmla="*/ 88560 w 3816360"/>
              <a:gd name="textAreaRight" fmla="*/ 3727800 w 3816360"/>
              <a:gd name="textAreaTop" fmla="*/ 88560 h 1368360"/>
              <a:gd name="textAreaBottom" fmla="*/ 1279800 h 1368360"/>
            </a:gdLst>
            <a:ahLst/>
            <a:rect l="textAreaLeft" t="textAreaTop" r="textAreaRight" b="textAreaBottom"/>
            <a:pathLst>
              <a:path w="60232" h="21600">
                <a:moveTo>
                  <a:pt x="0" y="0"/>
                </a:moveTo>
                <a:lnTo>
                  <a:pt x="60232" y="0"/>
                </a:lnTo>
                <a:lnTo>
                  <a:pt x="60232" y="21600"/>
                </a:lnTo>
                <a:lnTo>
                  <a:pt x="0" y="21600"/>
                </a:lnTo>
                <a:close/>
              </a:path>
              <a:path fill="lightenLess" w="60232" h="21600">
                <a:moveTo>
                  <a:pt x="0" y="0"/>
                </a:moveTo>
                <a:lnTo>
                  <a:pt x="60232" y="0"/>
                </a:lnTo>
                <a:lnTo>
                  <a:pt x="58832" y="1400"/>
                </a:lnTo>
                <a:lnTo>
                  <a:pt x="1400" y="1400"/>
                </a:lnTo>
                <a:close/>
              </a:path>
              <a:path fill="darken" w="60232" h="21600">
                <a:moveTo>
                  <a:pt x="60232" y="0"/>
                </a:moveTo>
                <a:lnTo>
                  <a:pt x="60232" y="21600"/>
                </a:lnTo>
                <a:lnTo>
                  <a:pt x="58832" y="20200"/>
                </a:lnTo>
                <a:lnTo>
                  <a:pt x="58832" y="1400"/>
                </a:lnTo>
                <a:close/>
              </a:path>
              <a:path fill="darkenLess" w="60232" h="21600">
                <a:moveTo>
                  <a:pt x="602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832" y="20200"/>
                </a:lnTo>
                <a:close/>
              </a:path>
              <a:path fill="lighten" w="602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 Black"/>
              </a:rPr>
              <a:t>ПРЕДЛО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6"/>
          <p:cNvSpPr/>
          <p:nvPr/>
        </p:nvSpPr>
        <p:spPr>
          <a:xfrm>
            <a:off x="711360" y="2117880"/>
            <a:ext cx="3747960" cy="1293480"/>
          </a:xfrm>
          <a:custGeom>
            <a:avLst/>
            <a:gdLst>
              <a:gd name="textAreaLeft" fmla="*/ 83520 w 3747960"/>
              <a:gd name="textAreaRight" fmla="*/ 3664440 w 3747960"/>
              <a:gd name="textAreaTop" fmla="*/ 83520 h 1293480"/>
              <a:gd name="textAreaBottom" fmla="*/ 1209960 h 1293480"/>
            </a:gdLst>
            <a:ahLst/>
            <a:rect l="textAreaLeft" t="textAreaTop" r="textAreaRight" b="textAreaBottom"/>
            <a:pathLst>
              <a:path w="62576" h="21600">
                <a:moveTo>
                  <a:pt x="0" y="0"/>
                </a:moveTo>
                <a:lnTo>
                  <a:pt x="62576" y="0"/>
                </a:lnTo>
                <a:lnTo>
                  <a:pt x="62576" y="21600"/>
                </a:lnTo>
                <a:lnTo>
                  <a:pt x="0" y="21600"/>
                </a:lnTo>
                <a:close/>
              </a:path>
              <a:path fill="lightenLess" w="62576" h="21600">
                <a:moveTo>
                  <a:pt x="0" y="0"/>
                </a:moveTo>
                <a:lnTo>
                  <a:pt x="62576" y="0"/>
                </a:lnTo>
                <a:lnTo>
                  <a:pt x="61176" y="1400"/>
                </a:lnTo>
                <a:lnTo>
                  <a:pt x="1400" y="1400"/>
                </a:lnTo>
                <a:close/>
              </a:path>
              <a:path fill="darken" w="62576" h="21600">
                <a:moveTo>
                  <a:pt x="62576" y="0"/>
                </a:moveTo>
                <a:lnTo>
                  <a:pt x="62576" y="21600"/>
                </a:lnTo>
                <a:lnTo>
                  <a:pt x="61176" y="20200"/>
                </a:lnTo>
                <a:lnTo>
                  <a:pt x="61176" y="1400"/>
                </a:lnTo>
                <a:close/>
              </a:path>
              <a:path fill="darkenLess" w="62576" h="21600">
                <a:moveTo>
                  <a:pt x="6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176" y="20200"/>
                </a:lnTo>
                <a:close/>
              </a:path>
              <a:path fill="lighten" w="6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 Black"/>
              </a:rPr>
              <a:t>ПРИЛАГА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 Black"/>
              </a:rPr>
              <a:t>ТЕ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7" descr="дальше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3708360" y="5373720"/>
            <a:ext cx="1657440" cy="8254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ошибка2"/>
          <p:cNvPicPr/>
          <p:nvPr/>
        </p:nvPicPr>
        <p:blipFill>
          <a:blip r:embed="rId6"/>
          <a:stretch/>
        </p:blipFill>
        <p:spPr>
          <a:xfrm>
            <a:off x="2527200" y="3417840"/>
            <a:ext cx="3961080" cy="9730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верно"/>
          <p:cNvPicPr/>
          <p:nvPr/>
        </p:nvPicPr>
        <p:blipFill>
          <a:blip r:embed="rId7"/>
          <a:stretch/>
        </p:blipFill>
        <p:spPr>
          <a:xfrm>
            <a:off x="2484360" y="3573360"/>
            <a:ext cx="4048200" cy="8175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  <p:sndAc>
      <p:stSnd>
        <p:snd r:embed="rId8" name="levelup.wav"/>
      </p:stSnd>
    </p:sndAc>
  </p:transition>
  <p:timing>
    <p:tnLst>
      <p:par>
        <p:cTn id="559" dur="indefinite" restart="never" nodeType="tmRoot">
          <p:childTnLst>
            <p:seq>
              <p:cTn id="560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561" nodeType="clickEffect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umpBonusReceive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3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574" nodeType="clickEffect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noti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1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4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4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4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9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590" nodeType="clickEffect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noti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1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4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4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nodeType="with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5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606" nodeType="clickEffect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noti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1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4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4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6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28036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660066"/>
                </a:solidFill>
                <a:latin typeface="Arial Black"/>
              </a:rPr>
              <a:t>11. Слова ТИХАЯ,  СИНЕЕ,  ВЕЛИКИЙ,  СИЛЬНЫЙ</a:t>
            </a:r>
            <a:r>
              <a:rPr b="1" lang="ru-RU" sz="2900" spc="-1" strike="noStrike">
                <a:solidFill>
                  <a:srgbClr val="660066"/>
                </a:solidFill>
                <a:latin typeface="Garamond"/>
              </a:rPr>
              <a:t>  </a:t>
            </a:r>
            <a:r>
              <a:rPr b="1" lang="ru-RU" sz="2900" spc="-1" strike="noStrike">
                <a:solidFill>
                  <a:srgbClr val="660066"/>
                </a:solidFill>
                <a:latin typeface="Arial Black"/>
              </a:rPr>
              <a:t>-  это  … 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" name="AutoShape 3"/>
          <p:cNvSpPr/>
          <p:nvPr/>
        </p:nvSpPr>
        <p:spPr>
          <a:xfrm>
            <a:off x="5076720" y="4335480"/>
            <a:ext cx="3311640" cy="1152360"/>
          </a:xfrm>
          <a:custGeom>
            <a:avLst/>
            <a:gdLst>
              <a:gd name="textAreaLeft" fmla="*/ 74520 w 3311640"/>
              <a:gd name="textAreaRight" fmla="*/ 3237120 w 331164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62061" h="21600">
                <a:moveTo>
                  <a:pt x="0" y="0"/>
                </a:moveTo>
                <a:lnTo>
                  <a:pt x="62061" y="0"/>
                </a:lnTo>
                <a:lnTo>
                  <a:pt x="62061" y="21600"/>
                </a:lnTo>
                <a:lnTo>
                  <a:pt x="0" y="21600"/>
                </a:lnTo>
                <a:close/>
              </a:path>
              <a:path fill="lightenLess" w="62061" h="21600">
                <a:moveTo>
                  <a:pt x="0" y="0"/>
                </a:moveTo>
                <a:lnTo>
                  <a:pt x="62061" y="0"/>
                </a:lnTo>
                <a:lnTo>
                  <a:pt x="60661" y="1400"/>
                </a:lnTo>
                <a:lnTo>
                  <a:pt x="1400" y="1400"/>
                </a:lnTo>
                <a:close/>
              </a:path>
              <a:path fill="darken" w="62061" h="21600">
                <a:moveTo>
                  <a:pt x="62061" y="0"/>
                </a:moveTo>
                <a:lnTo>
                  <a:pt x="62061" y="21600"/>
                </a:lnTo>
                <a:lnTo>
                  <a:pt x="60661" y="20200"/>
                </a:lnTo>
                <a:lnTo>
                  <a:pt x="60661" y="1400"/>
                </a:lnTo>
                <a:close/>
              </a:path>
              <a:path fill="darkenLess" w="62061" h="21600">
                <a:moveTo>
                  <a:pt x="620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661" y="20200"/>
                </a:lnTo>
                <a:close/>
              </a:path>
              <a:path fill="lighten" w="620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 Black"/>
              </a:rPr>
              <a:t>ПРИЛАГА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 Black"/>
              </a:rPr>
              <a:t>ТЕ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4"/>
          <p:cNvSpPr/>
          <p:nvPr/>
        </p:nvSpPr>
        <p:spPr>
          <a:xfrm>
            <a:off x="4699080" y="2117880"/>
            <a:ext cx="3666960" cy="1166760"/>
          </a:xfrm>
          <a:custGeom>
            <a:avLst/>
            <a:gdLst>
              <a:gd name="textAreaLeft" fmla="*/ 75600 w 3666960"/>
              <a:gd name="textAreaRight" fmla="*/ 3591360 w 3666960"/>
              <a:gd name="textAreaTop" fmla="*/ 75600 h 1166760"/>
              <a:gd name="textAreaBottom" fmla="*/ 1091160 h 1166760"/>
            </a:gdLst>
            <a:ahLst/>
            <a:rect l="textAreaLeft" t="textAreaTop" r="textAreaRight" b="textAreaBottom"/>
            <a:pathLst>
              <a:path w="67871" h="21600">
                <a:moveTo>
                  <a:pt x="0" y="0"/>
                </a:moveTo>
                <a:lnTo>
                  <a:pt x="67871" y="0"/>
                </a:lnTo>
                <a:lnTo>
                  <a:pt x="67871" y="21600"/>
                </a:lnTo>
                <a:lnTo>
                  <a:pt x="0" y="21600"/>
                </a:lnTo>
                <a:close/>
              </a:path>
              <a:path fill="lightenLess" w="67871" h="21600">
                <a:moveTo>
                  <a:pt x="0" y="0"/>
                </a:moveTo>
                <a:lnTo>
                  <a:pt x="67871" y="0"/>
                </a:lnTo>
                <a:lnTo>
                  <a:pt x="66472" y="1400"/>
                </a:lnTo>
                <a:lnTo>
                  <a:pt x="1400" y="1400"/>
                </a:lnTo>
                <a:close/>
              </a:path>
              <a:path fill="darken" w="67871" h="21600">
                <a:moveTo>
                  <a:pt x="67871" y="0"/>
                </a:moveTo>
                <a:lnTo>
                  <a:pt x="67871" y="21600"/>
                </a:lnTo>
                <a:lnTo>
                  <a:pt x="66472" y="20200"/>
                </a:lnTo>
                <a:lnTo>
                  <a:pt x="66472" y="1400"/>
                </a:lnTo>
                <a:close/>
              </a:path>
              <a:path fill="darkenLess" w="67871" h="21600">
                <a:moveTo>
                  <a:pt x="678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472" y="20200"/>
                </a:lnTo>
                <a:close/>
              </a:path>
              <a:path fill="lighten" w="678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Arial Black"/>
              </a:rPr>
              <a:t>ГЛАГО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5"/>
          <p:cNvSpPr/>
          <p:nvPr/>
        </p:nvSpPr>
        <p:spPr>
          <a:xfrm>
            <a:off x="619200" y="4146480"/>
            <a:ext cx="3817800" cy="1368360"/>
          </a:xfrm>
          <a:custGeom>
            <a:avLst/>
            <a:gdLst>
              <a:gd name="textAreaLeft" fmla="*/ 88560 w 3817800"/>
              <a:gd name="textAreaRight" fmla="*/ 3729240 w 3817800"/>
              <a:gd name="textAreaTop" fmla="*/ 88560 h 1368360"/>
              <a:gd name="textAreaBottom" fmla="*/ 1279800 h 1368360"/>
            </a:gdLst>
            <a:ahLst/>
            <a:rect l="textAreaLeft" t="textAreaTop" r="textAreaRight" b="textAreaBottom"/>
            <a:pathLst>
              <a:path w="60255" h="21600">
                <a:moveTo>
                  <a:pt x="0" y="0"/>
                </a:moveTo>
                <a:lnTo>
                  <a:pt x="60255" y="0"/>
                </a:lnTo>
                <a:lnTo>
                  <a:pt x="60255" y="21600"/>
                </a:lnTo>
                <a:lnTo>
                  <a:pt x="0" y="21600"/>
                </a:lnTo>
                <a:close/>
              </a:path>
              <a:path fill="lightenLess" w="60255" h="21600">
                <a:moveTo>
                  <a:pt x="0" y="0"/>
                </a:moveTo>
                <a:lnTo>
                  <a:pt x="60255" y="0"/>
                </a:lnTo>
                <a:lnTo>
                  <a:pt x="58855" y="1400"/>
                </a:lnTo>
                <a:lnTo>
                  <a:pt x="1400" y="1400"/>
                </a:lnTo>
                <a:close/>
              </a:path>
              <a:path fill="darken" w="60255" h="21600">
                <a:moveTo>
                  <a:pt x="60255" y="0"/>
                </a:moveTo>
                <a:lnTo>
                  <a:pt x="60255" y="21600"/>
                </a:lnTo>
                <a:lnTo>
                  <a:pt x="58855" y="20200"/>
                </a:lnTo>
                <a:lnTo>
                  <a:pt x="58855" y="1400"/>
                </a:lnTo>
                <a:close/>
              </a:path>
              <a:path fill="darkenLess" w="60255" h="21600">
                <a:moveTo>
                  <a:pt x="602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855" y="20200"/>
                </a:lnTo>
                <a:close/>
              </a:path>
              <a:path fill="lighten" w="602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Arial Black"/>
              </a:rPr>
              <a:t>ПРЕДЛОГ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6"/>
          <p:cNvSpPr/>
          <p:nvPr/>
        </p:nvSpPr>
        <p:spPr>
          <a:xfrm>
            <a:off x="711360" y="2117880"/>
            <a:ext cx="3747960" cy="1293480"/>
          </a:xfrm>
          <a:custGeom>
            <a:avLst/>
            <a:gdLst>
              <a:gd name="textAreaLeft" fmla="*/ 83520 w 3747960"/>
              <a:gd name="textAreaRight" fmla="*/ 3664440 w 3747960"/>
              <a:gd name="textAreaTop" fmla="*/ 83520 h 1293480"/>
              <a:gd name="textAreaBottom" fmla="*/ 1209960 h 1293480"/>
            </a:gdLst>
            <a:ahLst/>
            <a:rect l="textAreaLeft" t="textAreaTop" r="textAreaRight" b="textAreaBottom"/>
            <a:pathLst>
              <a:path w="62576" h="21600">
                <a:moveTo>
                  <a:pt x="0" y="0"/>
                </a:moveTo>
                <a:lnTo>
                  <a:pt x="62576" y="0"/>
                </a:lnTo>
                <a:lnTo>
                  <a:pt x="62576" y="21600"/>
                </a:lnTo>
                <a:lnTo>
                  <a:pt x="0" y="21600"/>
                </a:lnTo>
                <a:close/>
              </a:path>
              <a:path fill="lightenLess" w="62576" h="21600">
                <a:moveTo>
                  <a:pt x="0" y="0"/>
                </a:moveTo>
                <a:lnTo>
                  <a:pt x="62576" y="0"/>
                </a:lnTo>
                <a:lnTo>
                  <a:pt x="61176" y="1400"/>
                </a:lnTo>
                <a:lnTo>
                  <a:pt x="1400" y="1400"/>
                </a:lnTo>
                <a:close/>
              </a:path>
              <a:path fill="darken" w="62576" h="21600">
                <a:moveTo>
                  <a:pt x="62576" y="0"/>
                </a:moveTo>
                <a:lnTo>
                  <a:pt x="62576" y="21600"/>
                </a:lnTo>
                <a:lnTo>
                  <a:pt x="61176" y="20200"/>
                </a:lnTo>
                <a:lnTo>
                  <a:pt x="61176" y="1400"/>
                </a:lnTo>
                <a:close/>
              </a:path>
              <a:path fill="darkenLess" w="62576" h="21600">
                <a:moveTo>
                  <a:pt x="6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176" y="20200"/>
                </a:lnTo>
                <a:close/>
              </a:path>
              <a:path fill="lighten" w="6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 Black"/>
              </a:rPr>
              <a:t>СУЩЕСТВИ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 Black"/>
              </a:rPr>
              <a:t>ТЕ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7" descr="дальше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3708360" y="5373720"/>
            <a:ext cx="1657440" cy="8254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ошибка2"/>
          <p:cNvPicPr/>
          <p:nvPr/>
        </p:nvPicPr>
        <p:blipFill>
          <a:blip r:embed="rId6"/>
          <a:stretch/>
        </p:blipFill>
        <p:spPr>
          <a:xfrm>
            <a:off x="2527200" y="3417840"/>
            <a:ext cx="3961080" cy="9730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9" descr="верно"/>
          <p:cNvPicPr/>
          <p:nvPr/>
        </p:nvPicPr>
        <p:blipFill>
          <a:blip r:embed="rId7"/>
          <a:stretch/>
        </p:blipFill>
        <p:spPr>
          <a:xfrm>
            <a:off x="2484360" y="3573360"/>
            <a:ext cx="4048200" cy="8175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  <p:sndAc>
      <p:stSnd>
        <p:snd r:embed="rId8" name="levelup.wav"/>
      </p:stSnd>
    </p:sndAc>
  </p:transition>
  <p:timing>
    <p:tnLst>
      <p:par>
        <p:cTn id="621" dur="indefinite" restart="never" nodeType="tmRoot">
          <p:childTnLst>
            <p:seq>
              <p:cTn id="622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623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umpBonusReceive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5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636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noti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1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4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4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6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1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652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noti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1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4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4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1" nodeType="with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2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7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668" nodeType="clickEffect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noti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1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3" dur="4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4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8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8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28036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660066"/>
                </a:solidFill>
                <a:latin typeface="Arial Black"/>
              </a:rPr>
              <a:t>12. Слова БЕЖАТЬ,  ПРИШЛА,  СВЕТИЛО, ВЫПАЛ  -  это  … 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6" name="AutoShape 3"/>
          <p:cNvSpPr/>
          <p:nvPr/>
        </p:nvSpPr>
        <p:spPr>
          <a:xfrm>
            <a:off x="828720" y="4221000"/>
            <a:ext cx="3311640" cy="1152720"/>
          </a:xfrm>
          <a:custGeom>
            <a:avLst/>
            <a:gdLst>
              <a:gd name="textAreaLeft" fmla="*/ 74520 w 3311640"/>
              <a:gd name="textAreaRight" fmla="*/ 3237120 w 331164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62042" h="21600">
                <a:moveTo>
                  <a:pt x="0" y="0"/>
                </a:moveTo>
                <a:lnTo>
                  <a:pt x="62042" y="0"/>
                </a:lnTo>
                <a:lnTo>
                  <a:pt x="62042" y="21600"/>
                </a:lnTo>
                <a:lnTo>
                  <a:pt x="0" y="21600"/>
                </a:lnTo>
                <a:close/>
              </a:path>
              <a:path fill="lightenLess" w="62042" h="21600">
                <a:moveTo>
                  <a:pt x="0" y="0"/>
                </a:moveTo>
                <a:lnTo>
                  <a:pt x="62042" y="0"/>
                </a:lnTo>
                <a:lnTo>
                  <a:pt x="60642" y="1400"/>
                </a:lnTo>
                <a:lnTo>
                  <a:pt x="1400" y="1400"/>
                </a:lnTo>
                <a:close/>
              </a:path>
              <a:path fill="darken" w="62042" h="21600">
                <a:moveTo>
                  <a:pt x="62042" y="0"/>
                </a:moveTo>
                <a:lnTo>
                  <a:pt x="62042" y="21600"/>
                </a:lnTo>
                <a:lnTo>
                  <a:pt x="60642" y="20200"/>
                </a:lnTo>
                <a:lnTo>
                  <a:pt x="60642" y="1400"/>
                </a:lnTo>
                <a:close/>
              </a:path>
              <a:path fill="darkenLess" w="62042" h="21600">
                <a:moveTo>
                  <a:pt x="62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642" y="20200"/>
                </a:lnTo>
                <a:close/>
              </a:path>
              <a:path fill="lighten" w="62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 Black"/>
              </a:rPr>
              <a:t>ГЛАГО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4"/>
          <p:cNvSpPr/>
          <p:nvPr/>
        </p:nvSpPr>
        <p:spPr>
          <a:xfrm>
            <a:off x="4699080" y="2117880"/>
            <a:ext cx="3666960" cy="1166760"/>
          </a:xfrm>
          <a:custGeom>
            <a:avLst/>
            <a:gdLst>
              <a:gd name="textAreaLeft" fmla="*/ 75600 w 3666960"/>
              <a:gd name="textAreaRight" fmla="*/ 3591360 w 3666960"/>
              <a:gd name="textAreaTop" fmla="*/ 75600 h 1166760"/>
              <a:gd name="textAreaBottom" fmla="*/ 1091160 h 1166760"/>
            </a:gdLst>
            <a:ahLst/>
            <a:rect l="textAreaLeft" t="textAreaTop" r="textAreaRight" b="textAreaBottom"/>
            <a:pathLst>
              <a:path w="67871" h="21600">
                <a:moveTo>
                  <a:pt x="0" y="0"/>
                </a:moveTo>
                <a:lnTo>
                  <a:pt x="67871" y="0"/>
                </a:lnTo>
                <a:lnTo>
                  <a:pt x="67871" y="21600"/>
                </a:lnTo>
                <a:lnTo>
                  <a:pt x="0" y="21600"/>
                </a:lnTo>
                <a:close/>
              </a:path>
              <a:path fill="lightenLess" w="67871" h="21600">
                <a:moveTo>
                  <a:pt x="0" y="0"/>
                </a:moveTo>
                <a:lnTo>
                  <a:pt x="67871" y="0"/>
                </a:lnTo>
                <a:lnTo>
                  <a:pt x="66472" y="1400"/>
                </a:lnTo>
                <a:lnTo>
                  <a:pt x="1400" y="1400"/>
                </a:lnTo>
                <a:close/>
              </a:path>
              <a:path fill="darken" w="67871" h="21600">
                <a:moveTo>
                  <a:pt x="67871" y="0"/>
                </a:moveTo>
                <a:lnTo>
                  <a:pt x="67871" y="21600"/>
                </a:lnTo>
                <a:lnTo>
                  <a:pt x="66472" y="20200"/>
                </a:lnTo>
                <a:lnTo>
                  <a:pt x="66472" y="1400"/>
                </a:lnTo>
                <a:close/>
              </a:path>
              <a:path fill="darkenLess" w="67871" h="21600">
                <a:moveTo>
                  <a:pt x="678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472" y="20200"/>
                </a:lnTo>
                <a:close/>
              </a:path>
              <a:path fill="lighten" w="678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 Black"/>
              </a:rPr>
              <a:t>ПРИЛАГА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 Black"/>
              </a:rPr>
              <a:t>ТЕ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5"/>
          <p:cNvSpPr/>
          <p:nvPr/>
        </p:nvSpPr>
        <p:spPr>
          <a:xfrm>
            <a:off x="5003640" y="4165560"/>
            <a:ext cx="2953080" cy="1208160"/>
          </a:xfrm>
          <a:custGeom>
            <a:avLst/>
            <a:gdLst>
              <a:gd name="textAreaLeft" fmla="*/ 78120 w 2953080"/>
              <a:gd name="textAreaRight" fmla="*/ 2874960 w 2953080"/>
              <a:gd name="textAreaTop" fmla="*/ 78120 h 1208160"/>
              <a:gd name="textAreaBottom" fmla="*/ 1130040 h 1208160"/>
            </a:gdLst>
            <a:ahLst/>
            <a:rect l="textAreaLeft" t="textAreaTop" r="textAreaRight" b="textAreaBottom"/>
            <a:pathLst>
              <a:path w="52787" h="21600">
                <a:moveTo>
                  <a:pt x="0" y="0"/>
                </a:moveTo>
                <a:lnTo>
                  <a:pt x="52787" y="0"/>
                </a:lnTo>
                <a:lnTo>
                  <a:pt x="52787" y="21600"/>
                </a:lnTo>
                <a:lnTo>
                  <a:pt x="0" y="21600"/>
                </a:lnTo>
                <a:close/>
              </a:path>
              <a:path fill="lightenLess" w="52787" h="21600">
                <a:moveTo>
                  <a:pt x="0" y="0"/>
                </a:moveTo>
                <a:lnTo>
                  <a:pt x="52787" y="0"/>
                </a:lnTo>
                <a:lnTo>
                  <a:pt x="51387" y="1400"/>
                </a:lnTo>
                <a:lnTo>
                  <a:pt x="1400" y="1400"/>
                </a:lnTo>
                <a:close/>
              </a:path>
              <a:path fill="darken" w="52787" h="21600">
                <a:moveTo>
                  <a:pt x="52787" y="0"/>
                </a:moveTo>
                <a:lnTo>
                  <a:pt x="52787" y="21600"/>
                </a:lnTo>
                <a:lnTo>
                  <a:pt x="51387" y="20200"/>
                </a:lnTo>
                <a:lnTo>
                  <a:pt x="51387" y="1400"/>
                </a:lnTo>
                <a:close/>
              </a:path>
              <a:path fill="darkenLess" w="52787" h="21600">
                <a:moveTo>
                  <a:pt x="527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387" y="20200"/>
                </a:lnTo>
                <a:close/>
              </a:path>
              <a:path fill="lighten" w="527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 Black"/>
              </a:rPr>
              <a:t>ПРЕДЛО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6"/>
          <p:cNvSpPr/>
          <p:nvPr/>
        </p:nvSpPr>
        <p:spPr>
          <a:xfrm>
            <a:off x="711360" y="2117880"/>
            <a:ext cx="3747960" cy="1293480"/>
          </a:xfrm>
          <a:custGeom>
            <a:avLst/>
            <a:gdLst>
              <a:gd name="textAreaLeft" fmla="*/ 83520 w 3747960"/>
              <a:gd name="textAreaRight" fmla="*/ 3664440 w 3747960"/>
              <a:gd name="textAreaTop" fmla="*/ 83520 h 1293480"/>
              <a:gd name="textAreaBottom" fmla="*/ 1209960 h 1293480"/>
            </a:gdLst>
            <a:ahLst/>
            <a:rect l="textAreaLeft" t="textAreaTop" r="textAreaRight" b="textAreaBottom"/>
            <a:pathLst>
              <a:path w="62576" h="21600">
                <a:moveTo>
                  <a:pt x="0" y="0"/>
                </a:moveTo>
                <a:lnTo>
                  <a:pt x="62576" y="0"/>
                </a:lnTo>
                <a:lnTo>
                  <a:pt x="62576" y="21600"/>
                </a:lnTo>
                <a:lnTo>
                  <a:pt x="0" y="21600"/>
                </a:lnTo>
                <a:close/>
              </a:path>
              <a:path fill="lightenLess" w="62576" h="21600">
                <a:moveTo>
                  <a:pt x="0" y="0"/>
                </a:moveTo>
                <a:lnTo>
                  <a:pt x="62576" y="0"/>
                </a:lnTo>
                <a:lnTo>
                  <a:pt x="61176" y="1400"/>
                </a:lnTo>
                <a:lnTo>
                  <a:pt x="1400" y="1400"/>
                </a:lnTo>
                <a:close/>
              </a:path>
              <a:path fill="darken" w="62576" h="21600">
                <a:moveTo>
                  <a:pt x="62576" y="0"/>
                </a:moveTo>
                <a:lnTo>
                  <a:pt x="62576" y="21600"/>
                </a:lnTo>
                <a:lnTo>
                  <a:pt x="61176" y="20200"/>
                </a:lnTo>
                <a:lnTo>
                  <a:pt x="61176" y="1400"/>
                </a:lnTo>
                <a:close/>
              </a:path>
              <a:path fill="darkenLess" w="62576" h="21600">
                <a:moveTo>
                  <a:pt x="6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176" y="20200"/>
                </a:lnTo>
                <a:close/>
              </a:path>
              <a:path fill="lighten" w="6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 Black"/>
              </a:rPr>
              <a:t>СУЩЕСТВИ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 Black"/>
              </a:rPr>
              <a:t>ТЕ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7" descr="дальше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3708360" y="5373720"/>
            <a:ext cx="1657440" cy="8254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ошибка2"/>
          <p:cNvPicPr/>
          <p:nvPr/>
        </p:nvPicPr>
        <p:blipFill>
          <a:blip r:embed="rId6"/>
          <a:stretch/>
        </p:blipFill>
        <p:spPr>
          <a:xfrm>
            <a:off x="2527200" y="3417840"/>
            <a:ext cx="3961080" cy="9730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верно"/>
          <p:cNvPicPr/>
          <p:nvPr/>
        </p:nvPicPr>
        <p:blipFill>
          <a:blip r:embed="rId7"/>
          <a:stretch/>
        </p:blipFill>
        <p:spPr>
          <a:xfrm>
            <a:off x="2484360" y="3573360"/>
            <a:ext cx="4048200" cy="8175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  <p:sndAc>
      <p:stSnd>
        <p:snd r:embed="rId8" name="levelup.wav"/>
      </p:stSnd>
    </p:sndAc>
  </p:transition>
  <p:timing>
    <p:tnLst>
      <p:par>
        <p:cTn id="683" dur="indefinite" restart="never" nodeType="tmRoot">
          <p:childTnLst>
            <p:seq>
              <p:cTn id="684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685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umpBonusReceive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9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7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698" nodeType="clickEffect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noti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1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3" dur="4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4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8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3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714" nodeType="clickEffect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noti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1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9" dur="4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4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3" nodeType="with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4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9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730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noti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1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5" dur="4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4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0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60436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660066"/>
                </a:solidFill>
                <a:latin typeface="Arial Black"/>
              </a:rPr>
              <a:t>13. Неодушевлённые  существительные отвечают  на вопрос  …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4" name="AutoShape 3"/>
          <p:cNvSpPr/>
          <p:nvPr/>
        </p:nvSpPr>
        <p:spPr>
          <a:xfrm>
            <a:off x="828720" y="4221000"/>
            <a:ext cx="3311640" cy="1152720"/>
          </a:xfrm>
          <a:custGeom>
            <a:avLst/>
            <a:gdLst>
              <a:gd name="textAreaLeft" fmla="*/ 74520 w 3311640"/>
              <a:gd name="textAreaRight" fmla="*/ 3237120 w 331164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62042" h="21600">
                <a:moveTo>
                  <a:pt x="0" y="0"/>
                </a:moveTo>
                <a:lnTo>
                  <a:pt x="62042" y="0"/>
                </a:lnTo>
                <a:lnTo>
                  <a:pt x="62042" y="21600"/>
                </a:lnTo>
                <a:lnTo>
                  <a:pt x="0" y="21600"/>
                </a:lnTo>
                <a:close/>
              </a:path>
              <a:path fill="lightenLess" w="62042" h="21600">
                <a:moveTo>
                  <a:pt x="0" y="0"/>
                </a:moveTo>
                <a:lnTo>
                  <a:pt x="62042" y="0"/>
                </a:lnTo>
                <a:lnTo>
                  <a:pt x="60642" y="1400"/>
                </a:lnTo>
                <a:lnTo>
                  <a:pt x="1400" y="1400"/>
                </a:lnTo>
                <a:close/>
              </a:path>
              <a:path fill="darken" w="62042" h="21600">
                <a:moveTo>
                  <a:pt x="62042" y="0"/>
                </a:moveTo>
                <a:lnTo>
                  <a:pt x="62042" y="21600"/>
                </a:lnTo>
                <a:lnTo>
                  <a:pt x="60642" y="20200"/>
                </a:lnTo>
                <a:lnTo>
                  <a:pt x="60642" y="1400"/>
                </a:lnTo>
                <a:close/>
              </a:path>
              <a:path fill="darkenLess" w="62042" h="21600">
                <a:moveTo>
                  <a:pt x="62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642" y="20200"/>
                </a:lnTo>
                <a:close/>
              </a:path>
              <a:path fill="lighten" w="62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 Black"/>
              </a:rPr>
              <a:t>ЧТ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4"/>
          <p:cNvSpPr/>
          <p:nvPr/>
        </p:nvSpPr>
        <p:spPr>
          <a:xfrm>
            <a:off x="4788000" y="4390920"/>
            <a:ext cx="3666960" cy="1168560"/>
          </a:xfrm>
          <a:custGeom>
            <a:avLst/>
            <a:gdLst>
              <a:gd name="textAreaLeft" fmla="*/ 75600 w 3666960"/>
              <a:gd name="textAreaRight" fmla="*/ 3591360 w 3666960"/>
              <a:gd name="textAreaTop" fmla="*/ 75600 h 1168560"/>
              <a:gd name="textAreaBottom" fmla="*/ 1092960 h 1168560"/>
            </a:gdLst>
            <a:ahLst/>
            <a:rect l="textAreaLeft" t="textAreaTop" r="textAreaRight" b="textAreaBottom"/>
            <a:pathLst>
              <a:path w="67767" h="21600">
                <a:moveTo>
                  <a:pt x="0" y="0"/>
                </a:moveTo>
                <a:lnTo>
                  <a:pt x="67767" y="0"/>
                </a:lnTo>
                <a:lnTo>
                  <a:pt x="67767" y="21600"/>
                </a:lnTo>
                <a:lnTo>
                  <a:pt x="0" y="21600"/>
                </a:lnTo>
                <a:close/>
              </a:path>
              <a:path fill="lightenLess" w="67767" h="21600">
                <a:moveTo>
                  <a:pt x="0" y="0"/>
                </a:moveTo>
                <a:lnTo>
                  <a:pt x="67767" y="0"/>
                </a:lnTo>
                <a:lnTo>
                  <a:pt x="66367" y="1400"/>
                </a:lnTo>
                <a:lnTo>
                  <a:pt x="1400" y="1400"/>
                </a:lnTo>
                <a:close/>
              </a:path>
              <a:path fill="darken" w="67767" h="21600">
                <a:moveTo>
                  <a:pt x="67767" y="0"/>
                </a:moveTo>
                <a:lnTo>
                  <a:pt x="67767" y="21600"/>
                </a:lnTo>
                <a:lnTo>
                  <a:pt x="66367" y="20200"/>
                </a:lnTo>
                <a:lnTo>
                  <a:pt x="66367" y="1400"/>
                </a:lnTo>
                <a:close/>
              </a:path>
              <a:path fill="darkenLess" w="67767" h="21600">
                <a:moveTo>
                  <a:pt x="677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367" y="20200"/>
                </a:lnTo>
                <a:close/>
              </a:path>
              <a:path fill="lighten" w="677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 Black"/>
              </a:rPr>
              <a:t>КА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5"/>
          <p:cNvSpPr/>
          <p:nvPr/>
        </p:nvSpPr>
        <p:spPr>
          <a:xfrm>
            <a:off x="5056200" y="2100240"/>
            <a:ext cx="2952720" cy="1208160"/>
          </a:xfrm>
          <a:custGeom>
            <a:avLst/>
            <a:gdLst>
              <a:gd name="textAreaLeft" fmla="*/ 78120 w 2952720"/>
              <a:gd name="textAreaRight" fmla="*/ 2874600 w 2952720"/>
              <a:gd name="textAreaTop" fmla="*/ 78120 h 1208160"/>
              <a:gd name="textAreaBottom" fmla="*/ 1130040 h 1208160"/>
            </a:gdLst>
            <a:ahLst/>
            <a:rect l="textAreaLeft" t="textAreaTop" r="textAreaRight" b="textAreaBottom"/>
            <a:pathLst>
              <a:path w="52781" h="21600">
                <a:moveTo>
                  <a:pt x="0" y="0"/>
                </a:moveTo>
                <a:lnTo>
                  <a:pt x="52781" y="0"/>
                </a:lnTo>
                <a:lnTo>
                  <a:pt x="52781" y="21600"/>
                </a:lnTo>
                <a:lnTo>
                  <a:pt x="0" y="21600"/>
                </a:lnTo>
                <a:close/>
              </a:path>
              <a:path fill="lightenLess" w="52781" h="21600">
                <a:moveTo>
                  <a:pt x="0" y="0"/>
                </a:moveTo>
                <a:lnTo>
                  <a:pt x="52781" y="0"/>
                </a:lnTo>
                <a:lnTo>
                  <a:pt x="51381" y="1400"/>
                </a:lnTo>
                <a:lnTo>
                  <a:pt x="1400" y="1400"/>
                </a:lnTo>
                <a:close/>
              </a:path>
              <a:path fill="darken" w="52781" h="21600">
                <a:moveTo>
                  <a:pt x="52781" y="0"/>
                </a:moveTo>
                <a:lnTo>
                  <a:pt x="52781" y="21600"/>
                </a:lnTo>
                <a:lnTo>
                  <a:pt x="51381" y="20200"/>
                </a:lnTo>
                <a:lnTo>
                  <a:pt x="51381" y="1400"/>
                </a:lnTo>
                <a:close/>
              </a:path>
              <a:path fill="darkenLess" w="52781" h="21600">
                <a:moveTo>
                  <a:pt x="527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381" y="20200"/>
                </a:lnTo>
                <a:close/>
              </a:path>
              <a:path fill="lighten" w="527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 Black"/>
              </a:rPr>
              <a:t>К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6"/>
          <p:cNvSpPr/>
          <p:nvPr/>
        </p:nvSpPr>
        <p:spPr>
          <a:xfrm>
            <a:off x="711360" y="2117880"/>
            <a:ext cx="3747960" cy="1293480"/>
          </a:xfrm>
          <a:custGeom>
            <a:avLst/>
            <a:gdLst>
              <a:gd name="textAreaLeft" fmla="*/ 83520 w 3747960"/>
              <a:gd name="textAreaRight" fmla="*/ 3664440 w 3747960"/>
              <a:gd name="textAreaTop" fmla="*/ 83520 h 1293480"/>
              <a:gd name="textAreaBottom" fmla="*/ 1209960 h 1293480"/>
            </a:gdLst>
            <a:ahLst/>
            <a:rect l="textAreaLeft" t="textAreaTop" r="textAreaRight" b="textAreaBottom"/>
            <a:pathLst>
              <a:path w="62576" h="21600">
                <a:moveTo>
                  <a:pt x="0" y="0"/>
                </a:moveTo>
                <a:lnTo>
                  <a:pt x="62576" y="0"/>
                </a:lnTo>
                <a:lnTo>
                  <a:pt x="62576" y="21600"/>
                </a:lnTo>
                <a:lnTo>
                  <a:pt x="0" y="21600"/>
                </a:lnTo>
                <a:close/>
              </a:path>
              <a:path fill="lightenLess" w="62576" h="21600">
                <a:moveTo>
                  <a:pt x="0" y="0"/>
                </a:moveTo>
                <a:lnTo>
                  <a:pt x="62576" y="0"/>
                </a:lnTo>
                <a:lnTo>
                  <a:pt x="61176" y="1400"/>
                </a:lnTo>
                <a:lnTo>
                  <a:pt x="1400" y="1400"/>
                </a:lnTo>
                <a:close/>
              </a:path>
              <a:path fill="darken" w="62576" h="21600">
                <a:moveTo>
                  <a:pt x="62576" y="0"/>
                </a:moveTo>
                <a:lnTo>
                  <a:pt x="62576" y="21600"/>
                </a:lnTo>
                <a:lnTo>
                  <a:pt x="61176" y="20200"/>
                </a:lnTo>
                <a:lnTo>
                  <a:pt x="61176" y="1400"/>
                </a:lnTo>
                <a:close/>
              </a:path>
              <a:path fill="darkenLess" w="62576" h="21600">
                <a:moveTo>
                  <a:pt x="6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176" y="20200"/>
                </a:lnTo>
                <a:close/>
              </a:path>
              <a:path fill="lighten" w="6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 Black"/>
              </a:rPr>
              <a:t>КАКА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7" descr="дальше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3708360" y="5373720"/>
            <a:ext cx="1657440" cy="8254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8" descr="ошибка2"/>
          <p:cNvPicPr/>
          <p:nvPr/>
        </p:nvPicPr>
        <p:blipFill>
          <a:blip r:embed="rId6"/>
          <a:stretch/>
        </p:blipFill>
        <p:spPr>
          <a:xfrm>
            <a:off x="2527200" y="3417840"/>
            <a:ext cx="3961080" cy="9730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9" descr="верно"/>
          <p:cNvPicPr/>
          <p:nvPr/>
        </p:nvPicPr>
        <p:blipFill>
          <a:blip r:embed="rId7"/>
          <a:stretch/>
        </p:blipFill>
        <p:spPr>
          <a:xfrm>
            <a:off x="2484360" y="3573360"/>
            <a:ext cx="4048200" cy="8175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  <p:sndAc>
      <p:stSnd>
        <p:snd r:embed="rId8" name="levelup.wav"/>
      </p:stSnd>
    </p:sndAc>
  </p:transition>
  <p:timing>
    <p:tnLst>
      <p:par>
        <p:cTn id="745" dur="indefinite" restart="never" nodeType="tmRoot">
          <p:childTnLst>
            <p:seq>
              <p:cTn id="746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747" nodeType="clickEffect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umpBonusReceive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5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9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760" nodeType="clickEffect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noti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1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4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4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0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5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776" nodeType="clickEffect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noti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1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1" dur="4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4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5" nodeType="with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6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1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792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noti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1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4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4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2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60436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660066"/>
                </a:solidFill>
                <a:latin typeface="Arial Black"/>
              </a:rPr>
              <a:t>14. Одушевлённые  существительные отвечают  на вопрос  …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2" name="AutoShape 3"/>
          <p:cNvSpPr/>
          <p:nvPr/>
        </p:nvSpPr>
        <p:spPr>
          <a:xfrm>
            <a:off x="828720" y="4221000"/>
            <a:ext cx="3311640" cy="1152720"/>
          </a:xfrm>
          <a:custGeom>
            <a:avLst/>
            <a:gdLst>
              <a:gd name="textAreaLeft" fmla="*/ 74520 w 3311640"/>
              <a:gd name="textAreaRight" fmla="*/ 3237120 w 331164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62042" h="21600">
                <a:moveTo>
                  <a:pt x="0" y="0"/>
                </a:moveTo>
                <a:lnTo>
                  <a:pt x="62042" y="0"/>
                </a:lnTo>
                <a:lnTo>
                  <a:pt x="62042" y="21600"/>
                </a:lnTo>
                <a:lnTo>
                  <a:pt x="0" y="21600"/>
                </a:lnTo>
                <a:close/>
              </a:path>
              <a:path fill="lightenLess" w="62042" h="21600">
                <a:moveTo>
                  <a:pt x="0" y="0"/>
                </a:moveTo>
                <a:lnTo>
                  <a:pt x="62042" y="0"/>
                </a:lnTo>
                <a:lnTo>
                  <a:pt x="60642" y="1400"/>
                </a:lnTo>
                <a:lnTo>
                  <a:pt x="1400" y="1400"/>
                </a:lnTo>
                <a:close/>
              </a:path>
              <a:path fill="darken" w="62042" h="21600">
                <a:moveTo>
                  <a:pt x="62042" y="0"/>
                </a:moveTo>
                <a:lnTo>
                  <a:pt x="62042" y="21600"/>
                </a:lnTo>
                <a:lnTo>
                  <a:pt x="60642" y="20200"/>
                </a:lnTo>
                <a:lnTo>
                  <a:pt x="60642" y="1400"/>
                </a:lnTo>
                <a:close/>
              </a:path>
              <a:path fill="darkenLess" w="62042" h="21600">
                <a:moveTo>
                  <a:pt x="62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642" y="20200"/>
                </a:lnTo>
                <a:close/>
              </a:path>
              <a:path fill="lighten" w="62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 Black"/>
              </a:rPr>
              <a:t>КТ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4"/>
          <p:cNvSpPr/>
          <p:nvPr/>
        </p:nvSpPr>
        <p:spPr>
          <a:xfrm>
            <a:off x="4788000" y="4390920"/>
            <a:ext cx="3666960" cy="1168560"/>
          </a:xfrm>
          <a:custGeom>
            <a:avLst/>
            <a:gdLst>
              <a:gd name="textAreaLeft" fmla="*/ 75600 w 3666960"/>
              <a:gd name="textAreaRight" fmla="*/ 3591360 w 3666960"/>
              <a:gd name="textAreaTop" fmla="*/ 75600 h 1168560"/>
              <a:gd name="textAreaBottom" fmla="*/ 1092960 h 1168560"/>
            </a:gdLst>
            <a:ahLst/>
            <a:rect l="textAreaLeft" t="textAreaTop" r="textAreaRight" b="textAreaBottom"/>
            <a:pathLst>
              <a:path w="67767" h="21600">
                <a:moveTo>
                  <a:pt x="0" y="0"/>
                </a:moveTo>
                <a:lnTo>
                  <a:pt x="67767" y="0"/>
                </a:lnTo>
                <a:lnTo>
                  <a:pt x="67767" y="21600"/>
                </a:lnTo>
                <a:lnTo>
                  <a:pt x="0" y="21600"/>
                </a:lnTo>
                <a:close/>
              </a:path>
              <a:path fill="lightenLess" w="67767" h="21600">
                <a:moveTo>
                  <a:pt x="0" y="0"/>
                </a:moveTo>
                <a:lnTo>
                  <a:pt x="67767" y="0"/>
                </a:lnTo>
                <a:lnTo>
                  <a:pt x="66367" y="1400"/>
                </a:lnTo>
                <a:lnTo>
                  <a:pt x="1400" y="1400"/>
                </a:lnTo>
                <a:close/>
              </a:path>
              <a:path fill="darken" w="67767" h="21600">
                <a:moveTo>
                  <a:pt x="67767" y="0"/>
                </a:moveTo>
                <a:lnTo>
                  <a:pt x="67767" y="21600"/>
                </a:lnTo>
                <a:lnTo>
                  <a:pt x="66367" y="20200"/>
                </a:lnTo>
                <a:lnTo>
                  <a:pt x="66367" y="1400"/>
                </a:lnTo>
                <a:close/>
              </a:path>
              <a:path fill="darkenLess" w="67767" h="21600">
                <a:moveTo>
                  <a:pt x="677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367" y="20200"/>
                </a:lnTo>
                <a:close/>
              </a:path>
              <a:path fill="lighten" w="677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 Black"/>
              </a:rPr>
              <a:t>КА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5"/>
          <p:cNvSpPr/>
          <p:nvPr/>
        </p:nvSpPr>
        <p:spPr>
          <a:xfrm>
            <a:off x="1008000" y="2209680"/>
            <a:ext cx="2952720" cy="1208160"/>
          </a:xfrm>
          <a:custGeom>
            <a:avLst/>
            <a:gdLst>
              <a:gd name="textAreaLeft" fmla="*/ 78120 w 2952720"/>
              <a:gd name="textAreaRight" fmla="*/ 2874600 w 2952720"/>
              <a:gd name="textAreaTop" fmla="*/ 78120 h 1208160"/>
              <a:gd name="textAreaBottom" fmla="*/ 1130040 h 1208160"/>
            </a:gdLst>
            <a:ahLst/>
            <a:rect l="textAreaLeft" t="textAreaTop" r="textAreaRight" b="textAreaBottom"/>
            <a:pathLst>
              <a:path w="52781" h="21600">
                <a:moveTo>
                  <a:pt x="0" y="0"/>
                </a:moveTo>
                <a:lnTo>
                  <a:pt x="52781" y="0"/>
                </a:lnTo>
                <a:lnTo>
                  <a:pt x="52781" y="21600"/>
                </a:lnTo>
                <a:lnTo>
                  <a:pt x="0" y="21600"/>
                </a:lnTo>
                <a:close/>
              </a:path>
              <a:path fill="lightenLess" w="52781" h="21600">
                <a:moveTo>
                  <a:pt x="0" y="0"/>
                </a:moveTo>
                <a:lnTo>
                  <a:pt x="52781" y="0"/>
                </a:lnTo>
                <a:lnTo>
                  <a:pt x="51381" y="1400"/>
                </a:lnTo>
                <a:lnTo>
                  <a:pt x="1400" y="1400"/>
                </a:lnTo>
                <a:close/>
              </a:path>
              <a:path fill="darken" w="52781" h="21600">
                <a:moveTo>
                  <a:pt x="52781" y="0"/>
                </a:moveTo>
                <a:lnTo>
                  <a:pt x="52781" y="21600"/>
                </a:lnTo>
                <a:lnTo>
                  <a:pt x="51381" y="20200"/>
                </a:lnTo>
                <a:lnTo>
                  <a:pt x="51381" y="1400"/>
                </a:lnTo>
                <a:close/>
              </a:path>
              <a:path fill="darkenLess" w="52781" h="21600">
                <a:moveTo>
                  <a:pt x="527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381" y="20200"/>
                </a:lnTo>
                <a:close/>
              </a:path>
              <a:path fill="lighten" w="527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 Black"/>
              </a:rPr>
              <a:t>Ч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6"/>
          <p:cNvSpPr/>
          <p:nvPr/>
        </p:nvSpPr>
        <p:spPr>
          <a:xfrm>
            <a:off x="4659480" y="1989000"/>
            <a:ext cx="3746160" cy="1293840"/>
          </a:xfrm>
          <a:custGeom>
            <a:avLst/>
            <a:gdLst>
              <a:gd name="textAreaLeft" fmla="*/ 83520 w 3746160"/>
              <a:gd name="textAreaRight" fmla="*/ 3662640 w 3746160"/>
              <a:gd name="textAreaTop" fmla="*/ 83520 h 1293840"/>
              <a:gd name="textAreaBottom" fmla="*/ 1210320 h 1293840"/>
            </a:gdLst>
            <a:ahLst/>
            <a:rect l="textAreaLeft" t="textAreaTop" r="textAreaRight" b="textAreaBottom"/>
            <a:pathLst>
              <a:path w="62529" h="21600">
                <a:moveTo>
                  <a:pt x="0" y="0"/>
                </a:moveTo>
                <a:lnTo>
                  <a:pt x="62529" y="0"/>
                </a:lnTo>
                <a:lnTo>
                  <a:pt x="62529" y="21600"/>
                </a:lnTo>
                <a:lnTo>
                  <a:pt x="0" y="21600"/>
                </a:lnTo>
                <a:close/>
              </a:path>
              <a:path fill="lightenLess" w="62529" h="21600">
                <a:moveTo>
                  <a:pt x="0" y="0"/>
                </a:moveTo>
                <a:lnTo>
                  <a:pt x="62529" y="0"/>
                </a:lnTo>
                <a:lnTo>
                  <a:pt x="61129" y="1400"/>
                </a:lnTo>
                <a:lnTo>
                  <a:pt x="1400" y="1400"/>
                </a:lnTo>
                <a:close/>
              </a:path>
              <a:path fill="darken" w="62529" h="21600">
                <a:moveTo>
                  <a:pt x="62529" y="0"/>
                </a:moveTo>
                <a:lnTo>
                  <a:pt x="62529" y="21600"/>
                </a:lnTo>
                <a:lnTo>
                  <a:pt x="61129" y="20200"/>
                </a:lnTo>
                <a:lnTo>
                  <a:pt x="61129" y="1400"/>
                </a:lnTo>
                <a:close/>
              </a:path>
              <a:path fill="darkenLess" w="62529" h="21600">
                <a:moveTo>
                  <a:pt x="625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129" y="20200"/>
                </a:lnTo>
                <a:close/>
              </a:path>
              <a:path fill="lighten" w="625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 Black"/>
              </a:rPr>
              <a:t>КАКА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7" descr="дальше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3708360" y="5373720"/>
            <a:ext cx="1657440" cy="8254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8" descr="ошибка2"/>
          <p:cNvPicPr/>
          <p:nvPr/>
        </p:nvPicPr>
        <p:blipFill>
          <a:blip r:embed="rId6"/>
          <a:stretch/>
        </p:blipFill>
        <p:spPr>
          <a:xfrm>
            <a:off x="2527200" y="3417840"/>
            <a:ext cx="3961080" cy="9730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9" descr="верно"/>
          <p:cNvPicPr/>
          <p:nvPr/>
        </p:nvPicPr>
        <p:blipFill>
          <a:blip r:embed="rId7"/>
          <a:stretch/>
        </p:blipFill>
        <p:spPr>
          <a:xfrm>
            <a:off x="2484360" y="3573360"/>
            <a:ext cx="4048200" cy="8175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  <p:sndAc>
      <p:stSnd>
        <p:snd r:embed="rId8" name="levelup.wav"/>
      </p:stSnd>
    </p:sndAc>
  </p:transition>
  <p:timing>
    <p:tnLst>
      <p:par>
        <p:cTn id="807" dur="indefinite" restart="never" nodeType="tmRoot">
          <p:childTnLst>
            <p:seq>
              <p:cTn id="808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809" nodeType="clickEffect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umpBonusReceive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8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1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822" nodeType="clickEffect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noti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1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7" dur="4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4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2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7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838" nodeType="clickEffect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noti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1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3" dur="4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4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7" nodeType="with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8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3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854" nodeType="clickEffect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noti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8" dur="1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9" dur="4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4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4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040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60066"/>
                </a:solidFill>
                <a:latin typeface="Arial Black"/>
              </a:rPr>
              <a:t>15. Выбери  карточку, где записаны  только имена  существительные</a:t>
            </a:r>
            <a:r>
              <a:rPr b="1" lang="ru-RU" sz="2900" spc="-1" strike="noStrike">
                <a:solidFill>
                  <a:srgbClr val="660066"/>
                </a:solidFill>
                <a:latin typeface="Arial Black"/>
              </a:rPr>
              <a:t> 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0" name="AutoShape 3"/>
          <p:cNvSpPr/>
          <p:nvPr/>
        </p:nvSpPr>
        <p:spPr>
          <a:xfrm>
            <a:off x="1042920" y="2349360"/>
            <a:ext cx="3311640" cy="1152720"/>
          </a:xfrm>
          <a:custGeom>
            <a:avLst/>
            <a:gdLst>
              <a:gd name="textAreaLeft" fmla="*/ 74520 w 3311640"/>
              <a:gd name="textAreaRight" fmla="*/ 3237120 w 331164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62042" h="21600">
                <a:moveTo>
                  <a:pt x="0" y="0"/>
                </a:moveTo>
                <a:lnTo>
                  <a:pt x="62042" y="0"/>
                </a:lnTo>
                <a:lnTo>
                  <a:pt x="62042" y="21600"/>
                </a:lnTo>
                <a:lnTo>
                  <a:pt x="0" y="21600"/>
                </a:lnTo>
                <a:close/>
              </a:path>
              <a:path fill="lightenLess" w="62042" h="21600">
                <a:moveTo>
                  <a:pt x="0" y="0"/>
                </a:moveTo>
                <a:lnTo>
                  <a:pt x="62042" y="0"/>
                </a:lnTo>
                <a:lnTo>
                  <a:pt x="60642" y="1400"/>
                </a:lnTo>
                <a:lnTo>
                  <a:pt x="1400" y="1400"/>
                </a:lnTo>
                <a:close/>
              </a:path>
              <a:path fill="darken" w="62042" h="21600">
                <a:moveTo>
                  <a:pt x="62042" y="0"/>
                </a:moveTo>
                <a:lnTo>
                  <a:pt x="62042" y="21600"/>
                </a:lnTo>
                <a:lnTo>
                  <a:pt x="60642" y="20200"/>
                </a:lnTo>
                <a:lnTo>
                  <a:pt x="60642" y="1400"/>
                </a:lnTo>
                <a:close/>
              </a:path>
              <a:path fill="darkenLess" w="62042" h="21600">
                <a:moveTo>
                  <a:pt x="62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642" y="20200"/>
                </a:lnTo>
                <a:close/>
              </a:path>
              <a:path fill="lighten" w="62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 Black"/>
              </a:rPr>
              <a:t>ДО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 Black"/>
              </a:rPr>
              <a:t>ОБЛА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4"/>
          <p:cNvSpPr/>
          <p:nvPr/>
        </p:nvSpPr>
        <p:spPr>
          <a:xfrm>
            <a:off x="4788000" y="4390920"/>
            <a:ext cx="3666960" cy="1168560"/>
          </a:xfrm>
          <a:custGeom>
            <a:avLst/>
            <a:gdLst>
              <a:gd name="textAreaLeft" fmla="*/ 75600 w 3666960"/>
              <a:gd name="textAreaRight" fmla="*/ 3591360 w 3666960"/>
              <a:gd name="textAreaTop" fmla="*/ 75600 h 1168560"/>
              <a:gd name="textAreaBottom" fmla="*/ 1092960 h 1168560"/>
            </a:gdLst>
            <a:ahLst/>
            <a:rect l="textAreaLeft" t="textAreaTop" r="textAreaRight" b="textAreaBottom"/>
            <a:pathLst>
              <a:path w="67767" h="21600">
                <a:moveTo>
                  <a:pt x="0" y="0"/>
                </a:moveTo>
                <a:lnTo>
                  <a:pt x="67767" y="0"/>
                </a:lnTo>
                <a:lnTo>
                  <a:pt x="67767" y="21600"/>
                </a:lnTo>
                <a:lnTo>
                  <a:pt x="0" y="21600"/>
                </a:lnTo>
                <a:close/>
              </a:path>
              <a:path fill="lightenLess" w="67767" h="21600">
                <a:moveTo>
                  <a:pt x="0" y="0"/>
                </a:moveTo>
                <a:lnTo>
                  <a:pt x="67767" y="0"/>
                </a:lnTo>
                <a:lnTo>
                  <a:pt x="66367" y="1400"/>
                </a:lnTo>
                <a:lnTo>
                  <a:pt x="1400" y="1400"/>
                </a:lnTo>
                <a:close/>
              </a:path>
              <a:path fill="darken" w="67767" h="21600">
                <a:moveTo>
                  <a:pt x="67767" y="0"/>
                </a:moveTo>
                <a:lnTo>
                  <a:pt x="67767" y="21600"/>
                </a:lnTo>
                <a:lnTo>
                  <a:pt x="66367" y="20200"/>
                </a:lnTo>
                <a:lnTo>
                  <a:pt x="66367" y="1400"/>
                </a:lnTo>
                <a:close/>
              </a:path>
              <a:path fill="darkenLess" w="67767" h="21600">
                <a:moveTo>
                  <a:pt x="677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367" y="20200"/>
                </a:lnTo>
                <a:close/>
              </a:path>
              <a:path fill="lighten" w="677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 Black"/>
              </a:rPr>
              <a:t>КНИ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0" lang="ru-RU" sz="3200" spc="-1" strike="noStrike">
                <a:solidFill>
                  <a:srgbClr val="660066"/>
                </a:solidFill>
                <a:latin typeface="Arial Black"/>
              </a:rPr>
              <a:t>ЧИТ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5"/>
          <p:cNvSpPr/>
          <p:nvPr/>
        </p:nvSpPr>
        <p:spPr>
          <a:xfrm>
            <a:off x="826920" y="4365720"/>
            <a:ext cx="2953080" cy="1208160"/>
          </a:xfrm>
          <a:custGeom>
            <a:avLst/>
            <a:gdLst>
              <a:gd name="textAreaLeft" fmla="*/ 78120 w 2953080"/>
              <a:gd name="textAreaRight" fmla="*/ 2874960 w 2953080"/>
              <a:gd name="textAreaTop" fmla="*/ 78120 h 1208160"/>
              <a:gd name="textAreaBottom" fmla="*/ 1130040 h 1208160"/>
            </a:gdLst>
            <a:ahLst/>
            <a:rect l="textAreaLeft" t="textAreaTop" r="textAreaRight" b="textAreaBottom"/>
            <a:pathLst>
              <a:path w="52787" h="21600">
                <a:moveTo>
                  <a:pt x="0" y="0"/>
                </a:moveTo>
                <a:lnTo>
                  <a:pt x="52787" y="0"/>
                </a:lnTo>
                <a:lnTo>
                  <a:pt x="52787" y="21600"/>
                </a:lnTo>
                <a:lnTo>
                  <a:pt x="0" y="21600"/>
                </a:lnTo>
                <a:close/>
              </a:path>
              <a:path fill="lightenLess" w="52787" h="21600">
                <a:moveTo>
                  <a:pt x="0" y="0"/>
                </a:moveTo>
                <a:lnTo>
                  <a:pt x="52787" y="0"/>
                </a:lnTo>
                <a:lnTo>
                  <a:pt x="51387" y="1400"/>
                </a:lnTo>
                <a:lnTo>
                  <a:pt x="1400" y="1400"/>
                </a:lnTo>
                <a:close/>
              </a:path>
              <a:path fill="darken" w="52787" h="21600">
                <a:moveTo>
                  <a:pt x="52787" y="0"/>
                </a:moveTo>
                <a:lnTo>
                  <a:pt x="52787" y="21600"/>
                </a:lnTo>
                <a:lnTo>
                  <a:pt x="51387" y="20200"/>
                </a:lnTo>
                <a:lnTo>
                  <a:pt x="51387" y="1400"/>
                </a:lnTo>
                <a:close/>
              </a:path>
              <a:path fill="darkenLess" w="52787" h="21600">
                <a:moveTo>
                  <a:pt x="527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387" y="20200"/>
                </a:lnTo>
                <a:close/>
              </a:path>
              <a:path fill="lighten" w="527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 Black"/>
              </a:rPr>
              <a:t>ИГР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 Black"/>
              </a:rPr>
              <a:t>ИГР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6"/>
          <p:cNvSpPr/>
          <p:nvPr/>
        </p:nvSpPr>
        <p:spPr>
          <a:xfrm>
            <a:off x="4643280" y="2276640"/>
            <a:ext cx="3746520" cy="1293480"/>
          </a:xfrm>
          <a:custGeom>
            <a:avLst/>
            <a:gdLst>
              <a:gd name="textAreaLeft" fmla="*/ 83520 w 3746520"/>
              <a:gd name="textAreaRight" fmla="*/ 3663000 w 3746520"/>
              <a:gd name="textAreaTop" fmla="*/ 83520 h 1293480"/>
              <a:gd name="textAreaBottom" fmla="*/ 1209960 h 1293480"/>
            </a:gdLst>
            <a:ahLst/>
            <a:rect l="textAreaLeft" t="textAreaTop" r="textAreaRight" b="textAreaBottom"/>
            <a:pathLst>
              <a:path w="62552" h="21600">
                <a:moveTo>
                  <a:pt x="0" y="0"/>
                </a:moveTo>
                <a:lnTo>
                  <a:pt x="62552" y="0"/>
                </a:lnTo>
                <a:lnTo>
                  <a:pt x="62552" y="21600"/>
                </a:lnTo>
                <a:lnTo>
                  <a:pt x="0" y="21600"/>
                </a:lnTo>
                <a:close/>
              </a:path>
              <a:path fill="lightenLess" w="62552" h="21600">
                <a:moveTo>
                  <a:pt x="0" y="0"/>
                </a:moveTo>
                <a:lnTo>
                  <a:pt x="62552" y="0"/>
                </a:lnTo>
                <a:lnTo>
                  <a:pt x="61152" y="1400"/>
                </a:lnTo>
                <a:lnTo>
                  <a:pt x="1400" y="1400"/>
                </a:lnTo>
                <a:close/>
              </a:path>
              <a:path fill="darken" w="62552" h="21600">
                <a:moveTo>
                  <a:pt x="62552" y="0"/>
                </a:moveTo>
                <a:lnTo>
                  <a:pt x="62552" y="21600"/>
                </a:lnTo>
                <a:lnTo>
                  <a:pt x="61152" y="20200"/>
                </a:lnTo>
                <a:lnTo>
                  <a:pt x="61152" y="1400"/>
                </a:lnTo>
                <a:close/>
              </a:path>
              <a:path fill="darkenLess" w="62552" h="21600">
                <a:moveTo>
                  <a:pt x="62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152" y="20200"/>
                </a:lnTo>
                <a:close/>
              </a:path>
              <a:path fill="lighten" w="62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 Black"/>
              </a:rPr>
              <a:t>ЛЕС, ЛЕС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7" descr="дальше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3708360" y="5373720"/>
            <a:ext cx="1657440" cy="8254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" descr="ошибка2"/>
          <p:cNvPicPr/>
          <p:nvPr/>
        </p:nvPicPr>
        <p:blipFill>
          <a:blip r:embed="rId6"/>
          <a:stretch/>
        </p:blipFill>
        <p:spPr>
          <a:xfrm>
            <a:off x="2527200" y="3417840"/>
            <a:ext cx="3961080" cy="9730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9" descr="верно"/>
          <p:cNvPicPr/>
          <p:nvPr/>
        </p:nvPicPr>
        <p:blipFill>
          <a:blip r:embed="rId7"/>
          <a:stretch/>
        </p:blipFill>
        <p:spPr>
          <a:xfrm>
            <a:off x="2484360" y="3573360"/>
            <a:ext cx="4048200" cy="8175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  <p:sndAc>
      <p:stSnd>
        <p:snd r:embed="rId8" name="levelup.wav"/>
      </p:stSnd>
    </p:sndAc>
  </p:transition>
  <p:timing>
    <p:tnLst>
      <p:par>
        <p:cTn id="869" dur="indefinite" restart="never" nodeType="tmRoot">
          <p:childTnLst>
            <p:seq>
              <p:cTn id="870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871" nodeType="clickEffect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umpBonusReceive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77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3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884" nodeType="clickEffect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noti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1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9" dur="4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4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4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9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9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900" nodeType="clickEffect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noti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1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5" dur="4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4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9" nodeType="with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0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5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916" nodeType="clickEffect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noti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0" dur="1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1" dur="4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4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6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84872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660066"/>
                </a:solidFill>
                <a:latin typeface="Arial Black"/>
              </a:rPr>
              <a:t>1. Имя  существительное  обозначает  …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AutoShape 3"/>
          <p:cNvSpPr/>
          <p:nvPr/>
        </p:nvSpPr>
        <p:spPr>
          <a:xfrm>
            <a:off x="755640" y="4365720"/>
            <a:ext cx="3311640" cy="1152360"/>
          </a:xfrm>
          <a:custGeom>
            <a:avLst/>
            <a:gdLst>
              <a:gd name="textAreaLeft" fmla="*/ 74520 w 3311640"/>
              <a:gd name="textAreaRight" fmla="*/ 3237120 w 331164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62061" h="21600">
                <a:moveTo>
                  <a:pt x="0" y="0"/>
                </a:moveTo>
                <a:lnTo>
                  <a:pt x="62061" y="0"/>
                </a:lnTo>
                <a:lnTo>
                  <a:pt x="62061" y="21600"/>
                </a:lnTo>
                <a:lnTo>
                  <a:pt x="0" y="21600"/>
                </a:lnTo>
                <a:close/>
              </a:path>
              <a:path fill="lightenLess" w="62061" h="21600">
                <a:moveTo>
                  <a:pt x="0" y="0"/>
                </a:moveTo>
                <a:lnTo>
                  <a:pt x="62061" y="0"/>
                </a:lnTo>
                <a:lnTo>
                  <a:pt x="60661" y="1400"/>
                </a:lnTo>
                <a:lnTo>
                  <a:pt x="1400" y="1400"/>
                </a:lnTo>
                <a:close/>
              </a:path>
              <a:path fill="darken" w="62061" h="21600">
                <a:moveTo>
                  <a:pt x="62061" y="0"/>
                </a:moveTo>
                <a:lnTo>
                  <a:pt x="62061" y="21600"/>
                </a:lnTo>
                <a:lnTo>
                  <a:pt x="60661" y="20200"/>
                </a:lnTo>
                <a:lnTo>
                  <a:pt x="60661" y="1400"/>
                </a:lnTo>
                <a:close/>
              </a:path>
              <a:path fill="darkenLess" w="62061" h="21600">
                <a:moveTo>
                  <a:pt x="620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661" y="20200"/>
                </a:lnTo>
                <a:close/>
              </a:path>
              <a:path fill="lighten" w="620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Arial Black"/>
              </a:rPr>
              <a:t>ПРЕДМ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4"/>
          <p:cNvSpPr/>
          <p:nvPr/>
        </p:nvSpPr>
        <p:spPr>
          <a:xfrm>
            <a:off x="900000" y="2492280"/>
            <a:ext cx="3456000" cy="1152720"/>
          </a:xfrm>
          <a:custGeom>
            <a:avLst/>
            <a:gdLst>
              <a:gd name="textAreaLeft" fmla="*/ 74520 w 3456000"/>
              <a:gd name="textAreaRight" fmla="*/ 3381480 w 345600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64746" h="21600">
                <a:moveTo>
                  <a:pt x="0" y="0"/>
                </a:moveTo>
                <a:lnTo>
                  <a:pt x="64746" y="0"/>
                </a:lnTo>
                <a:lnTo>
                  <a:pt x="64746" y="21600"/>
                </a:lnTo>
                <a:lnTo>
                  <a:pt x="0" y="21600"/>
                </a:lnTo>
                <a:close/>
              </a:path>
              <a:path fill="lightenLess" w="64746" h="21600">
                <a:moveTo>
                  <a:pt x="0" y="0"/>
                </a:moveTo>
                <a:lnTo>
                  <a:pt x="64746" y="0"/>
                </a:lnTo>
                <a:lnTo>
                  <a:pt x="63346" y="1400"/>
                </a:lnTo>
                <a:lnTo>
                  <a:pt x="1400" y="1400"/>
                </a:lnTo>
                <a:close/>
              </a:path>
              <a:path fill="darken" w="64746" h="21600">
                <a:moveTo>
                  <a:pt x="64746" y="0"/>
                </a:moveTo>
                <a:lnTo>
                  <a:pt x="64746" y="21600"/>
                </a:lnTo>
                <a:lnTo>
                  <a:pt x="63346" y="20200"/>
                </a:lnTo>
                <a:lnTo>
                  <a:pt x="63346" y="1400"/>
                </a:lnTo>
                <a:close/>
              </a:path>
              <a:path fill="darkenLess" w="64746" h="21600">
                <a:moveTo>
                  <a:pt x="647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46" y="20200"/>
                </a:lnTo>
                <a:close/>
              </a:path>
              <a:path fill="lighten" w="647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Arial Black"/>
              </a:rPr>
              <a:t>ДЕЙСТВ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5"/>
          <p:cNvSpPr/>
          <p:nvPr/>
        </p:nvSpPr>
        <p:spPr>
          <a:xfrm>
            <a:off x="5005440" y="2384280"/>
            <a:ext cx="3527280" cy="1368720"/>
          </a:xfrm>
          <a:custGeom>
            <a:avLst/>
            <a:gdLst>
              <a:gd name="textAreaLeft" fmla="*/ 88560 w 3527280"/>
              <a:gd name="textAreaRight" fmla="*/ 3438720 w 3527280"/>
              <a:gd name="textAreaTop" fmla="*/ 88560 h 1368720"/>
              <a:gd name="textAreaBottom" fmla="*/ 1280160 h 1368720"/>
            </a:gdLst>
            <a:ahLst/>
            <a:rect l="textAreaLeft" t="textAreaTop" r="textAreaRight" b="textAreaBottom"/>
            <a:pathLst>
              <a:path w="55656" h="21600">
                <a:moveTo>
                  <a:pt x="0" y="0"/>
                </a:moveTo>
                <a:lnTo>
                  <a:pt x="55656" y="0"/>
                </a:lnTo>
                <a:lnTo>
                  <a:pt x="55656" y="21600"/>
                </a:lnTo>
                <a:lnTo>
                  <a:pt x="0" y="21600"/>
                </a:lnTo>
                <a:close/>
              </a:path>
              <a:path fill="lightenLess" w="55656" h="21600">
                <a:moveTo>
                  <a:pt x="0" y="0"/>
                </a:moveTo>
                <a:lnTo>
                  <a:pt x="55656" y="0"/>
                </a:lnTo>
                <a:lnTo>
                  <a:pt x="54256" y="1400"/>
                </a:lnTo>
                <a:lnTo>
                  <a:pt x="1400" y="1400"/>
                </a:lnTo>
                <a:close/>
              </a:path>
              <a:path fill="darken" w="55656" h="21600">
                <a:moveTo>
                  <a:pt x="55656" y="0"/>
                </a:moveTo>
                <a:lnTo>
                  <a:pt x="55656" y="21600"/>
                </a:lnTo>
                <a:lnTo>
                  <a:pt x="54256" y="20200"/>
                </a:lnTo>
                <a:lnTo>
                  <a:pt x="54256" y="1400"/>
                </a:lnTo>
                <a:close/>
              </a:path>
              <a:path fill="darkenLess" w="55656" h="21600">
                <a:moveTo>
                  <a:pt x="556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256" y="20200"/>
                </a:lnTo>
                <a:close/>
              </a:path>
              <a:path fill="lighten" w="556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 Black"/>
              </a:rPr>
              <a:t>ПРИЗН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0" lang="ru-RU" sz="3200" spc="-1" strike="noStrike">
                <a:solidFill>
                  <a:srgbClr val="660066"/>
                </a:solidFill>
                <a:latin typeface="Arial Black"/>
              </a:rPr>
              <a:t>ПРЕДМ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5005440" y="4292640"/>
            <a:ext cx="3311640" cy="1152360"/>
          </a:xfrm>
          <a:custGeom>
            <a:avLst/>
            <a:gdLst>
              <a:gd name="textAreaLeft" fmla="*/ 74520 w 3311640"/>
              <a:gd name="textAreaRight" fmla="*/ 3237120 w 331164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62061" h="21600">
                <a:moveTo>
                  <a:pt x="0" y="0"/>
                </a:moveTo>
                <a:lnTo>
                  <a:pt x="62061" y="0"/>
                </a:lnTo>
                <a:lnTo>
                  <a:pt x="62061" y="21600"/>
                </a:lnTo>
                <a:lnTo>
                  <a:pt x="0" y="21600"/>
                </a:lnTo>
                <a:close/>
              </a:path>
              <a:path fill="lightenLess" w="62061" h="21600">
                <a:moveTo>
                  <a:pt x="0" y="0"/>
                </a:moveTo>
                <a:lnTo>
                  <a:pt x="62061" y="0"/>
                </a:lnTo>
                <a:lnTo>
                  <a:pt x="60661" y="1400"/>
                </a:lnTo>
                <a:lnTo>
                  <a:pt x="1400" y="1400"/>
                </a:lnTo>
                <a:close/>
              </a:path>
              <a:path fill="darken" w="62061" h="21600">
                <a:moveTo>
                  <a:pt x="62061" y="0"/>
                </a:moveTo>
                <a:lnTo>
                  <a:pt x="62061" y="21600"/>
                </a:lnTo>
                <a:lnTo>
                  <a:pt x="60661" y="20200"/>
                </a:lnTo>
                <a:lnTo>
                  <a:pt x="60661" y="1400"/>
                </a:lnTo>
                <a:close/>
              </a:path>
              <a:path fill="darkenLess" w="62061" h="21600">
                <a:moveTo>
                  <a:pt x="620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661" y="20200"/>
                </a:lnTo>
                <a:close/>
              </a:path>
              <a:path fill="lighten" w="620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Arial Black"/>
              </a:rPr>
              <a:t>ВРЕМ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дальше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3708360" y="5373720"/>
            <a:ext cx="1657440" cy="825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ошибка2"/>
          <p:cNvPicPr/>
          <p:nvPr/>
        </p:nvPicPr>
        <p:blipFill>
          <a:blip r:embed="rId6"/>
          <a:stretch/>
        </p:blipFill>
        <p:spPr>
          <a:xfrm>
            <a:off x="2556000" y="3500280"/>
            <a:ext cx="3960720" cy="973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верно"/>
          <p:cNvPicPr/>
          <p:nvPr/>
        </p:nvPicPr>
        <p:blipFill>
          <a:blip r:embed="rId7"/>
          <a:stretch/>
        </p:blipFill>
        <p:spPr>
          <a:xfrm>
            <a:off x="2484360" y="3573360"/>
            <a:ext cx="4048200" cy="8175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  <p:sndAc>
      <p:stSnd>
        <p:snd r:embed="rId8" name="levelup.wav"/>
      </p:stSnd>
    </p:sndAc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umpBonusReceive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6" nodeType="clickEffect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noti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4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4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32" nodeType="clickEffect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noti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4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4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48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noti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4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4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84872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660066"/>
                </a:solidFill>
                <a:latin typeface="Arial Black"/>
              </a:rPr>
              <a:t>2. Имя прилагательное  обозначает  …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5033880" y="2424240"/>
            <a:ext cx="3311640" cy="1152360"/>
          </a:xfrm>
          <a:custGeom>
            <a:avLst/>
            <a:gdLst>
              <a:gd name="textAreaLeft" fmla="*/ 74520 w 3311640"/>
              <a:gd name="textAreaRight" fmla="*/ 3237120 w 331164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62061" h="21600">
                <a:moveTo>
                  <a:pt x="0" y="0"/>
                </a:moveTo>
                <a:lnTo>
                  <a:pt x="62061" y="0"/>
                </a:lnTo>
                <a:lnTo>
                  <a:pt x="62061" y="21600"/>
                </a:lnTo>
                <a:lnTo>
                  <a:pt x="0" y="21600"/>
                </a:lnTo>
                <a:close/>
              </a:path>
              <a:path fill="lightenLess" w="62061" h="21600">
                <a:moveTo>
                  <a:pt x="0" y="0"/>
                </a:moveTo>
                <a:lnTo>
                  <a:pt x="62061" y="0"/>
                </a:lnTo>
                <a:lnTo>
                  <a:pt x="60661" y="1400"/>
                </a:lnTo>
                <a:lnTo>
                  <a:pt x="1400" y="1400"/>
                </a:lnTo>
                <a:close/>
              </a:path>
              <a:path fill="darken" w="62061" h="21600">
                <a:moveTo>
                  <a:pt x="62061" y="0"/>
                </a:moveTo>
                <a:lnTo>
                  <a:pt x="62061" y="21600"/>
                </a:lnTo>
                <a:lnTo>
                  <a:pt x="60661" y="20200"/>
                </a:lnTo>
                <a:lnTo>
                  <a:pt x="60661" y="1400"/>
                </a:lnTo>
                <a:close/>
              </a:path>
              <a:path fill="darkenLess" w="62061" h="21600">
                <a:moveTo>
                  <a:pt x="620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661" y="20200"/>
                </a:lnTo>
                <a:close/>
              </a:path>
              <a:path fill="lighten" w="620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 Black"/>
              </a:rPr>
              <a:t>ПРИЗН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 Black"/>
              </a:rPr>
              <a:t>ПРЕДМ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4"/>
          <p:cNvSpPr/>
          <p:nvPr/>
        </p:nvSpPr>
        <p:spPr>
          <a:xfrm>
            <a:off x="900000" y="2492280"/>
            <a:ext cx="3456000" cy="1152720"/>
          </a:xfrm>
          <a:custGeom>
            <a:avLst/>
            <a:gdLst>
              <a:gd name="textAreaLeft" fmla="*/ 74520 w 3456000"/>
              <a:gd name="textAreaRight" fmla="*/ 3381480 w 345600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64746" h="21600">
                <a:moveTo>
                  <a:pt x="0" y="0"/>
                </a:moveTo>
                <a:lnTo>
                  <a:pt x="64746" y="0"/>
                </a:lnTo>
                <a:lnTo>
                  <a:pt x="64746" y="21600"/>
                </a:lnTo>
                <a:lnTo>
                  <a:pt x="0" y="21600"/>
                </a:lnTo>
                <a:close/>
              </a:path>
              <a:path fill="lightenLess" w="64746" h="21600">
                <a:moveTo>
                  <a:pt x="0" y="0"/>
                </a:moveTo>
                <a:lnTo>
                  <a:pt x="64746" y="0"/>
                </a:lnTo>
                <a:lnTo>
                  <a:pt x="63346" y="1400"/>
                </a:lnTo>
                <a:lnTo>
                  <a:pt x="1400" y="1400"/>
                </a:lnTo>
                <a:close/>
              </a:path>
              <a:path fill="darken" w="64746" h="21600">
                <a:moveTo>
                  <a:pt x="64746" y="0"/>
                </a:moveTo>
                <a:lnTo>
                  <a:pt x="64746" y="21600"/>
                </a:lnTo>
                <a:lnTo>
                  <a:pt x="63346" y="20200"/>
                </a:lnTo>
                <a:lnTo>
                  <a:pt x="63346" y="1400"/>
                </a:lnTo>
                <a:close/>
              </a:path>
              <a:path fill="darkenLess" w="64746" h="21600">
                <a:moveTo>
                  <a:pt x="647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46" y="20200"/>
                </a:lnTo>
                <a:close/>
              </a:path>
              <a:path fill="lighten" w="647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Arial Black"/>
              </a:rPr>
              <a:t>ДЕЙСТВ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5"/>
          <p:cNvSpPr/>
          <p:nvPr/>
        </p:nvSpPr>
        <p:spPr>
          <a:xfrm>
            <a:off x="720720" y="4184640"/>
            <a:ext cx="3527280" cy="1368360"/>
          </a:xfrm>
          <a:custGeom>
            <a:avLst/>
            <a:gdLst>
              <a:gd name="textAreaLeft" fmla="*/ 88560 w 3527280"/>
              <a:gd name="textAreaRight" fmla="*/ 3438720 w 3527280"/>
              <a:gd name="textAreaTop" fmla="*/ 88560 h 1368360"/>
              <a:gd name="textAreaBottom" fmla="*/ 1279800 h 1368360"/>
            </a:gdLst>
            <a:ahLst/>
            <a:rect l="textAreaLeft" t="textAreaTop" r="textAreaRight" b="textAreaBottom"/>
            <a:pathLst>
              <a:path w="55670" h="21600">
                <a:moveTo>
                  <a:pt x="0" y="0"/>
                </a:moveTo>
                <a:lnTo>
                  <a:pt x="55670" y="0"/>
                </a:lnTo>
                <a:lnTo>
                  <a:pt x="55670" y="21600"/>
                </a:lnTo>
                <a:lnTo>
                  <a:pt x="0" y="21600"/>
                </a:lnTo>
                <a:close/>
              </a:path>
              <a:path fill="lightenLess" w="55670" h="21600">
                <a:moveTo>
                  <a:pt x="0" y="0"/>
                </a:moveTo>
                <a:lnTo>
                  <a:pt x="55670" y="0"/>
                </a:lnTo>
                <a:lnTo>
                  <a:pt x="54270" y="1400"/>
                </a:lnTo>
                <a:lnTo>
                  <a:pt x="1400" y="1400"/>
                </a:lnTo>
                <a:close/>
              </a:path>
              <a:path fill="darken" w="55670" h="21600">
                <a:moveTo>
                  <a:pt x="55670" y="0"/>
                </a:moveTo>
                <a:lnTo>
                  <a:pt x="55670" y="21600"/>
                </a:lnTo>
                <a:lnTo>
                  <a:pt x="54270" y="20200"/>
                </a:lnTo>
                <a:lnTo>
                  <a:pt x="54270" y="1400"/>
                </a:lnTo>
                <a:close/>
              </a:path>
              <a:path fill="darkenLess" w="55670" h="21600">
                <a:moveTo>
                  <a:pt x="556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270" y="20200"/>
                </a:lnTo>
                <a:close/>
              </a:path>
              <a:path fill="lighten" w="556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Arial Black"/>
              </a:rPr>
              <a:t>ПРЕДМ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5005440" y="4292640"/>
            <a:ext cx="3311640" cy="1152360"/>
          </a:xfrm>
          <a:custGeom>
            <a:avLst/>
            <a:gdLst>
              <a:gd name="textAreaLeft" fmla="*/ 74520 w 3311640"/>
              <a:gd name="textAreaRight" fmla="*/ 3237120 w 331164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62061" h="21600">
                <a:moveTo>
                  <a:pt x="0" y="0"/>
                </a:moveTo>
                <a:lnTo>
                  <a:pt x="62061" y="0"/>
                </a:lnTo>
                <a:lnTo>
                  <a:pt x="62061" y="21600"/>
                </a:lnTo>
                <a:lnTo>
                  <a:pt x="0" y="21600"/>
                </a:lnTo>
                <a:close/>
              </a:path>
              <a:path fill="lightenLess" w="62061" h="21600">
                <a:moveTo>
                  <a:pt x="0" y="0"/>
                </a:moveTo>
                <a:lnTo>
                  <a:pt x="62061" y="0"/>
                </a:lnTo>
                <a:lnTo>
                  <a:pt x="60661" y="1400"/>
                </a:lnTo>
                <a:lnTo>
                  <a:pt x="1400" y="1400"/>
                </a:lnTo>
                <a:close/>
              </a:path>
              <a:path fill="darken" w="62061" h="21600">
                <a:moveTo>
                  <a:pt x="62061" y="0"/>
                </a:moveTo>
                <a:lnTo>
                  <a:pt x="62061" y="21600"/>
                </a:lnTo>
                <a:lnTo>
                  <a:pt x="60661" y="20200"/>
                </a:lnTo>
                <a:lnTo>
                  <a:pt x="60661" y="1400"/>
                </a:lnTo>
                <a:close/>
              </a:path>
              <a:path fill="darkenLess" w="62061" h="21600">
                <a:moveTo>
                  <a:pt x="620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661" y="20200"/>
                </a:lnTo>
                <a:close/>
              </a:path>
              <a:path fill="lighten" w="620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Arial Black"/>
              </a:rPr>
              <a:t>ВРЕМ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дальше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3708360" y="5373720"/>
            <a:ext cx="1657440" cy="8254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ошибка2"/>
          <p:cNvPicPr/>
          <p:nvPr/>
        </p:nvPicPr>
        <p:blipFill>
          <a:blip r:embed="rId6"/>
          <a:stretch/>
        </p:blipFill>
        <p:spPr>
          <a:xfrm>
            <a:off x="2556000" y="3500280"/>
            <a:ext cx="3960720" cy="973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верно"/>
          <p:cNvPicPr/>
          <p:nvPr/>
        </p:nvPicPr>
        <p:blipFill>
          <a:blip r:embed="rId7"/>
          <a:stretch/>
        </p:blipFill>
        <p:spPr>
          <a:xfrm>
            <a:off x="2484360" y="3573360"/>
            <a:ext cx="4048200" cy="8175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  <p:sndAc>
      <p:stSnd>
        <p:snd r:embed="rId8" name="levelup.wav"/>
      </p:stSnd>
    </p:sndAc>
  </p:transition>
  <p:timing>
    <p:tnLst>
      <p:par>
        <p:cTn id="63" dur="indefinite" restart="never" nodeType="tmRoot">
          <p:childTnLst>
            <p:seq>
              <p:cTn id="64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65" nodeType="clickEffect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umpBonusReceive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78" nodeType="clickEffect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noti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4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4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94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noti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4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4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10" nodeType="clickEffect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noti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4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4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84872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660066"/>
                </a:solidFill>
                <a:latin typeface="Arial Black"/>
              </a:rPr>
              <a:t>3.Глагол  обозначает  …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AutoShape 3"/>
          <p:cNvSpPr/>
          <p:nvPr/>
        </p:nvSpPr>
        <p:spPr>
          <a:xfrm>
            <a:off x="5033880" y="2424240"/>
            <a:ext cx="3311640" cy="1152360"/>
          </a:xfrm>
          <a:custGeom>
            <a:avLst/>
            <a:gdLst>
              <a:gd name="textAreaLeft" fmla="*/ 74520 w 3311640"/>
              <a:gd name="textAreaRight" fmla="*/ 3237120 w 331164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62061" h="21600">
                <a:moveTo>
                  <a:pt x="0" y="0"/>
                </a:moveTo>
                <a:lnTo>
                  <a:pt x="62061" y="0"/>
                </a:lnTo>
                <a:lnTo>
                  <a:pt x="62061" y="21600"/>
                </a:lnTo>
                <a:lnTo>
                  <a:pt x="0" y="21600"/>
                </a:lnTo>
                <a:close/>
              </a:path>
              <a:path fill="lightenLess" w="62061" h="21600">
                <a:moveTo>
                  <a:pt x="0" y="0"/>
                </a:moveTo>
                <a:lnTo>
                  <a:pt x="62061" y="0"/>
                </a:lnTo>
                <a:lnTo>
                  <a:pt x="60661" y="1400"/>
                </a:lnTo>
                <a:lnTo>
                  <a:pt x="1400" y="1400"/>
                </a:lnTo>
                <a:close/>
              </a:path>
              <a:path fill="darken" w="62061" h="21600">
                <a:moveTo>
                  <a:pt x="62061" y="0"/>
                </a:moveTo>
                <a:lnTo>
                  <a:pt x="62061" y="21600"/>
                </a:lnTo>
                <a:lnTo>
                  <a:pt x="60661" y="20200"/>
                </a:lnTo>
                <a:lnTo>
                  <a:pt x="60661" y="1400"/>
                </a:lnTo>
                <a:close/>
              </a:path>
              <a:path fill="darkenLess" w="62061" h="21600">
                <a:moveTo>
                  <a:pt x="620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661" y="20200"/>
                </a:lnTo>
                <a:close/>
              </a:path>
              <a:path fill="lighten" w="620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 Black"/>
              </a:rPr>
              <a:t>ДЕЙСТВ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4"/>
          <p:cNvSpPr/>
          <p:nvPr/>
        </p:nvSpPr>
        <p:spPr>
          <a:xfrm>
            <a:off x="900000" y="2492280"/>
            <a:ext cx="3456000" cy="1152720"/>
          </a:xfrm>
          <a:custGeom>
            <a:avLst/>
            <a:gdLst>
              <a:gd name="textAreaLeft" fmla="*/ 74520 w 3456000"/>
              <a:gd name="textAreaRight" fmla="*/ 3381480 w 345600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64746" h="21600">
                <a:moveTo>
                  <a:pt x="0" y="0"/>
                </a:moveTo>
                <a:lnTo>
                  <a:pt x="64746" y="0"/>
                </a:lnTo>
                <a:lnTo>
                  <a:pt x="64746" y="21600"/>
                </a:lnTo>
                <a:lnTo>
                  <a:pt x="0" y="21600"/>
                </a:lnTo>
                <a:close/>
              </a:path>
              <a:path fill="lightenLess" w="64746" h="21600">
                <a:moveTo>
                  <a:pt x="0" y="0"/>
                </a:moveTo>
                <a:lnTo>
                  <a:pt x="64746" y="0"/>
                </a:lnTo>
                <a:lnTo>
                  <a:pt x="63346" y="1400"/>
                </a:lnTo>
                <a:lnTo>
                  <a:pt x="1400" y="1400"/>
                </a:lnTo>
                <a:close/>
              </a:path>
              <a:path fill="darken" w="64746" h="21600">
                <a:moveTo>
                  <a:pt x="64746" y="0"/>
                </a:moveTo>
                <a:lnTo>
                  <a:pt x="64746" y="21600"/>
                </a:lnTo>
                <a:lnTo>
                  <a:pt x="63346" y="20200"/>
                </a:lnTo>
                <a:lnTo>
                  <a:pt x="63346" y="1400"/>
                </a:lnTo>
                <a:close/>
              </a:path>
              <a:path fill="darkenLess" w="64746" h="21600">
                <a:moveTo>
                  <a:pt x="647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46" y="20200"/>
                </a:lnTo>
                <a:close/>
              </a:path>
              <a:path fill="lighten" w="647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 Black"/>
              </a:rPr>
              <a:t>ПРИЗНА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 Black"/>
              </a:rPr>
              <a:t>ПРЕДМ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5"/>
          <p:cNvSpPr/>
          <p:nvPr/>
        </p:nvSpPr>
        <p:spPr>
          <a:xfrm>
            <a:off x="720720" y="4184640"/>
            <a:ext cx="3527280" cy="1368360"/>
          </a:xfrm>
          <a:custGeom>
            <a:avLst/>
            <a:gdLst>
              <a:gd name="textAreaLeft" fmla="*/ 88560 w 3527280"/>
              <a:gd name="textAreaRight" fmla="*/ 3438720 w 3527280"/>
              <a:gd name="textAreaTop" fmla="*/ 88560 h 1368360"/>
              <a:gd name="textAreaBottom" fmla="*/ 1279800 h 1368360"/>
            </a:gdLst>
            <a:ahLst/>
            <a:rect l="textAreaLeft" t="textAreaTop" r="textAreaRight" b="textAreaBottom"/>
            <a:pathLst>
              <a:path w="55670" h="21600">
                <a:moveTo>
                  <a:pt x="0" y="0"/>
                </a:moveTo>
                <a:lnTo>
                  <a:pt x="55670" y="0"/>
                </a:lnTo>
                <a:lnTo>
                  <a:pt x="55670" y="21600"/>
                </a:lnTo>
                <a:lnTo>
                  <a:pt x="0" y="21600"/>
                </a:lnTo>
                <a:close/>
              </a:path>
              <a:path fill="lightenLess" w="55670" h="21600">
                <a:moveTo>
                  <a:pt x="0" y="0"/>
                </a:moveTo>
                <a:lnTo>
                  <a:pt x="55670" y="0"/>
                </a:lnTo>
                <a:lnTo>
                  <a:pt x="54270" y="1400"/>
                </a:lnTo>
                <a:lnTo>
                  <a:pt x="1400" y="1400"/>
                </a:lnTo>
                <a:close/>
              </a:path>
              <a:path fill="darken" w="55670" h="21600">
                <a:moveTo>
                  <a:pt x="55670" y="0"/>
                </a:moveTo>
                <a:lnTo>
                  <a:pt x="55670" y="21600"/>
                </a:lnTo>
                <a:lnTo>
                  <a:pt x="54270" y="20200"/>
                </a:lnTo>
                <a:lnTo>
                  <a:pt x="54270" y="1400"/>
                </a:lnTo>
                <a:close/>
              </a:path>
              <a:path fill="darkenLess" w="55670" h="21600">
                <a:moveTo>
                  <a:pt x="556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270" y="20200"/>
                </a:lnTo>
                <a:close/>
              </a:path>
              <a:path fill="lighten" w="556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 Black"/>
              </a:rPr>
              <a:t>ПРЕДМ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6"/>
          <p:cNvSpPr/>
          <p:nvPr/>
        </p:nvSpPr>
        <p:spPr>
          <a:xfrm>
            <a:off x="5005440" y="4292640"/>
            <a:ext cx="3311640" cy="1152360"/>
          </a:xfrm>
          <a:custGeom>
            <a:avLst/>
            <a:gdLst>
              <a:gd name="textAreaLeft" fmla="*/ 74520 w 3311640"/>
              <a:gd name="textAreaRight" fmla="*/ 3237120 w 331164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62061" h="21600">
                <a:moveTo>
                  <a:pt x="0" y="0"/>
                </a:moveTo>
                <a:lnTo>
                  <a:pt x="62061" y="0"/>
                </a:lnTo>
                <a:lnTo>
                  <a:pt x="62061" y="21600"/>
                </a:lnTo>
                <a:lnTo>
                  <a:pt x="0" y="21600"/>
                </a:lnTo>
                <a:close/>
              </a:path>
              <a:path fill="lightenLess" w="62061" h="21600">
                <a:moveTo>
                  <a:pt x="0" y="0"/>
                </a:moveTo>
                <a:lnTo>
                  <a:pt x="62061" y="0"/>
                </a:lnTo>
                <a:lnTo>
                  <a:pt x="60661" y="1400"/>
                </a:lnTo>
                <a:lnTo>
                  <a:pt x="1400" y="1400"/>
                </a:lnTo>
                <a:close/>
              </a:path>
              <a:path fill="darken" w="62061" h="21600">
                <a:moveTo>
                  <a:pt x="62061" y="0"/>
                </a:moveTo>
                <a:lnTo>
                  <a:pt x="62061" y="21600"/>
                </a:lnTo>
                <a:lnTo>
                  <a:pt x="60661" y="20200"/>
                </a:lnTo>
                <a:lnTo>
                  <a:pt x="60661" y="1400"/>
                </a:lnTo>
                <a:close/>
              </a:path>
              <a:path fill="darkenLess" w="62061" h="21600">
                <a:moveTo>
                  <a:pt x="620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661" y="20200"/>
                </a:lnTo>
                <a:close/>
              </a:path>
              <a:path fill="lighten" w="620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 Black"/>
              </a:rPr>
              <a:t>В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дальше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3708360" y="5373720"/>
            <a:ext cx="1657440" cy="8254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ошибка2"/>
          <p:cNvPicPr/>
          <p:nvPr/>
        </p:nvPicPr>
        <p:blipFill>
          <a:blip r:embed="rId6"/>
          <a:stretch/>
        </p:blipFill>
        <p:spPr>
          <a:xfrm>
            <a:off x="2556000" y="3500280"/>
            <a:ext cx="3960720" cy="973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верно"/>
          <p:cNvPicPr/>
          <p:nvPr/>
        </p:nvPicPr>
        <p:blipFill>
          <a:blip r:embed="rId7"/>
          <a:stretch/>
        </p:blipFill>
        <p:spPr>
          <a:xfrm>
            <a:off x="2484360" y="3573360"/>
            <a:ext cx="4048200" cy="8175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  <p:sndAc>
      <p:stSnd>
        <p:snd r:embed="rId8" name="levelup.wav"/>
      </p:stSnd>
    </p:sndAc>
  </p:transition>
  <p:timing>
    <p:tnLst>
      <p:par>
        <p:cTn id="125" dur="indefinite" restart="never" nodeType="tmRoot">
          <p:childTnLst>
            <p:seq>
              <p:cTn id="126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27" nodeType="clickEffect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umpBonusReceive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40" nodeType="clickEffect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noti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4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4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156" nodeType="clickEffect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noti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4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4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72" nodeType="clickEffect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noti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4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4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84872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660066"/>
                </a:solidFill>
                <a:latin typeface="Arial Black"/>
              </a:rPr>
              <a:t>4. Имя  существительное  отвечает  на  вопросы  …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AutoShape 3"/>
          <p:cNvSpPr/>
          <p:nvPr/>
        </p:nvSpPr>
        <p:spPr>
          <a:xfrm>
            <a:off x="755640" y="4365720"/>
            <a:ext cx="3311640" cy="1152360"/>
          </a:xfrm>
          <a:custGeom>
            <a:avLst/>
            <a:gdLst>
              <a:gd name="textAreaLeft" fmla="*/ 74520 w 3311640"/>
              <a:gd name="textAreaRight" fmla="*/ 3237120 w 331164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62061" h="21600">
                <a:moveTo>
                  <a:pt x="0" y="0"/>
                </a:moveTo>
                <a:lnTo>
                  <a:pt x="62061" y="0"/>
                </a:lnTo>
                <a:lnTo>
                  <a:pt x="62061" y="21600"/>
                </a:lnTo>
                <a:lnTo>
                  <a:pt x="0" y="21600"/>
                </a:lnTo>
                <a:close/>
              </a:path>
              <a:path fill="lightenLess" w="62061" h="21600">
                <a:moveTo>
                  <a:pt x="0" y="0"/>
                </a:moveTo>
                <a:lnTo>
                  <a:pt x="62061" y="0"/>
                </a:lnTo>
                <a:lnTo>
                  <a:pt x="60661" y="1400"/>
                </a:lnTo>
                <a:lnTo>
                  <a:pt x="1400" y="1400"/>
                </a:lnTo>
                <a:close/>
              </a:path>
              <a:path fill="darken" w="62061" h="21600">
                <a:moveTo>
                  <a:pt x="62061" y="0"/>
                </a:moveTo>
                <a:lnTo>
                  <a:pt x="62061" y="21600"/>
                </a:lnTo>
                <a:lnTo>
                  <a:pt x="60661" y="20200"/>
                </a:lnTo>
                <a:lnTo>
                  <a:pt x="60661" y="1400"/>
                </a:lnTo>
                <a:close/>
              </a:path>
              <a:path fill="darkenLess" w="62061" h="21600">
                <a:moveTo>
                  <a:pt x="620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661" y="20200"/>
                </a:lnTo>
                <a:close/>
              </a:path>
              <a:path fill="lighten" w="620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Arial Black"/>
              </a:rPr>
              <a:t>КТО? ЧТ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4"/>
          <p:cNvSpPr/>
          <p:nvPr/>
        </p:nvSpPr>
        <p:spPr>
          <a:xfrm>
            <a:off x="760320" y="2405160"/>
            <a:ext cx="3667320" cy="1168200"/>
          </a:xfrm>
          <a:custGeom>
            <a:avLst/>
            <a:gdLst>
              <a:gd name="textAreaLeft" fmla="*/ 75600 w 3667320"/>
              <a:gd name="textAreaRight" fmla="*/ 3591720 w 3667320"/>
              <a:gd name="textAreaTop" fmla="*/ 75600 h 1168200"/>
              <a:gd name="textAreaBottom" fmla="*/ 1092600 h 1168200"/>
            </a:gdLst>
            <a:ahLst/>
            <a:rect l="textAreaLeft" t="textAreaTop" r="textAreaRight" b="textAreaBottom"/>
            <a:pathLst>
              <a:path w="67794" h="21600">
                <a:moveTo>
                  <a:pt x="0" y="0"/>
                </a:moveTo>
                <a:lnTo>
                  <a:pt x="67794" y="0"/>
                </a:lnTo>
                <a:lnTo>
                  <a:pt x="67794" y="21600"/>
                </a:lnTo>
                <a:lnTo>
                  <a:pt x="0" y="21600"/>
                </a:lnTo>
                <a:close/>
              </a:path>
              <a:path fill="lightenLess" w="67794" h="21600">
                <a:moveTo>
                  <a:pt x="0" y="0"/>
                </a:moveTo>
                <a:lnTo>
                  <a:pt x="67794" y="0"/>
                </a:lnTo>
                <a:lnTo>
                  <a:pt x="66395" y="1400"/>
                </a:lnTo>
                <a:lnTo>
                  <a:pt x="1400" y="1400"/>
                </a:lnTo>
                <a:close/>
              </a:path>
              <a:path fill="darken" w="67794" h="21600">
                <a:moveTo>
                  <a:pt x="67794" y="0"/>
                </a:moveTo>
                <a:lnTo>
                  <a:pt x="67794" y="21600"/>
                </a:lnTo>
                <a:lnTo>
                  <a:pt x="66395" y="20200"/>
                </a:lnTo>
                <a:lnTo>
                  <a:pt x="66395" y="1400"/>
                </a:lnTo>
                <a:close/>
              </a:path>
              <a:path fill="darkenLess" w="67794" h="21600">
                <a:moveTo>
                  <a:pt x="6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395" y="20200"/>
                </a:lnTo>
                <a:close/>
              </a:path>
              <a:path fill="lighten" w="6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Arial Black"/>
              </a:rPr>
              <a:t>КАКА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Arial Black"/>
              </a:rPr>
              <a:t>КАКО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4716360" y="2384280"/>
            <a:ext cx="3816360" cy="1368720"/>
          </a:xfrm>
          <a:custGeom>
            <a:avLst/>
            <a:gdLst>
              <a:gd name="textAreaLeft" fmla="*/ 88560 w 3816360"/>
              <a:gd name="textAreaRight" fmla="*/ 3727800 w 3816360"/>
              <a:gd name="textAreaTop" fmla="*/ 88560 h 1368720"/>
              <a:gd name="textAreaBottom" fmla="*/ 1280160 h 1368720"/>
            </a:gdLst>
            <a:ahLst/>
            <a:rect l="textAreaLeft" t="textAreaTop" r="textAreaRight" b="textAreaBottom"/>
            <a:pathLst>
              <a:path w="60216" h="21600">
                <a:moveTo>
                  <a:pt x="0" y="0"/>
                </a:moveTo>
                <a:lnTo>
                  <a:pt x="60216" y="0"/>
                </a:lnTo>
                <a:lnTo>
                  <a:pt x="60216" y="21600"/>
                </a:lnTo>
                <a:lnTo>
                  <a:pt x="0" y="21600"/>
                </a:lnTo>
                <a:close/>
              </a:path>
              <a:path fill="lightenLess" w="60216" h="21600">
                <a:moveTo>
                  <a:pt x="0" y="0"/>
                </a:moveTo>
                <a:lnTo>
                  <a:pt x="60216" y="0"/>
                </a:lnTo>
                <a:lnTo>
                  <a:pt x="58817" y="1400"/>
                </a:lnTo>
                <a:lnTo>
                  <a:pt x="1400" y="1400"/>
                </a:lnTo>
                <a:close/>
              </a:path>
              <a:path fill="darken" w="60216" h="21600">
                <a:moveTo>
                  <a:pt x="60216" y="0"/>
                </a:moveTo>
                <a:lnTo>
                  <a:pt x="60216" y="21600"/>
                </a:lnTo>
                <a:lnTo>
                  <a:pt x="58817" y="20200"/>
                </a:lnTo>
                <a:lnTo>
                  <a:pt x="58817" y="1400"/>
                </a:lnTo>
                <a:close/>
              </a:path>
              <a:path fill="darkenLess" w="60216" h="21600">
                <a:moveTo>
                  <a:pt x="602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817" y="20200"/>
                </a:lnTo>
                <a:close/>
              </a:path>
              <a:path fill="lighten" w="602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Arial Black"/>
              </a:rPr>
              <a:t>ЧТ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Arial Black"/>
              </a:rPr>
              <a:t>ДЕЛАЕ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6"/>
          <p:cNvSpPr/>
          <p:nvPr/>
        </p:nvSpPr>
        <p:spPr>
          <a:xfrm>
            <a:off x="4968720" y="4221000"/>
            <a:ext cx="3311640" cy="1152720"/>
          </a:xfrm>
          <a:custGeom>
            <a:avLst/>
            <a:gdLst>
              <a:gd name="textAreaLeft" fmla="*/ 74520 w 3311640"/>
              <a:gd name="textAreaRight" fmla="*/ 3237120 w 331164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62042" h="21600">
                <a:moveTo>
                  <a:pt x="0" y="0"/>
                </a:moveTo>
                <a:lnTo>
                  <a:pt x="62042" y="0"/>
                </a:lnTo>
                <a:lnTo>
                  <a:pt x="62042" y="21600"/>
                </a:lnTo>
                <a:lnTo>
                  <a:pt x="0" y="21600"/>
                </a:lnTo>
                <a:close/>
              </a:path>
              <a:path fill="lightenLess" w="62042" h="21600">
                <a:moveTo>
                  <a:pt x="0" y="0"/>
                </a:moveTo>
                <a:lnTo>
                  <a:pt x="62042" y="0"/>
                </a:lnTo>
                <a:lnTo>
                  <a:pt x="60642" y="1400"/>
                </a:lnTo>
                <a:lnTo>
                  <a:pt x="1400" y="1400"/>
                </a:lnTo>
                <a:close/>
              </a:path>
              <a:path fill="darken" w="62042" h="21600">
                <a:moveTo>
                  <a:pt x="62042" y="0"/>
                </a:moveTo>
                <a:lnTo>
                  <a:pt x="62042" y="21600"/>
                </a:lnTo>
                <a:lnTo>
                  <a:pt x="60642" y="20200"/>
                </a:lnTo>
                <a:lnTo>
                  <a:pt x="60642" y="1400"/>
                </a:lnTo>
                <a:close/>
              </a:path>
              <a:path fill="darkenLess" w="62042" h="21600">
                <a:moveTo>
                  <a:pt x="62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642" y="20200"/>
                </a:lnTo>
                <a:close/>
              </a:path>
              <a:path fill="lighten" w="62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Arial Black"/>
              </a:rPr>
              <a:t>КАК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дальше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3708360" y="5373720"/>
            <a:ext cx="1657440" cy="8254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ошибка2"/>
          <p:cNvPicPr/>
          <p:nvPr/>
        </p:nvPicPr>
        <p:blipFill>
          <a:blip r:embed="rId6"/>
          <a:stretch/>
        </p:blipFill>
        <p:spPr>
          <a:xfrm>
            <a:off x="2556000" y="3500280"/>
            <a:ext cx="3960720" cy="9734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верно"/>
          <p:cNvPicPr/>
          <p:nvPr/>
        </p:nvPicPr>
        <p:blipFill>
          <a:blip r:embed="rId7"/>
          <a:stretch/>
        </p:blipFill>
        <p:spPr>
          <a:xfrm>
            <a:off x="2484360" y="3573360"/>
            <a:ext cx="4048200" cy="8175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  <p:sndAc>
      <p:stSnd>
        <p:snd r:embed="rId8" name="levelup.wav"/>
      </p:stSnd>
    </p:sndAc>
  </p:transition>
  <p:timing>
    <p:tnLst>
      <p:par>
        <p:cTn id="187" dur="indefinite" restart="never" nodeType="tmRoot">
          <p:childTnLst>
            <p:seq>
              <p:cTn id="188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189" nodeType="clickEffect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umpBonusReceive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202" nodeType="clickEffect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noti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4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4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2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18" nodeType="clickEffect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noti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4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4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234" nodeType="clickEffect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noti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4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4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84872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660066"/>
                </a:solidFill>
                <a:latin typeface="Garamond"/>
              </a:rPr>
              <a:t>5</a:t>
            </a:r>
            <a:r>
              <a:rPr b="1" lang="ru-RU" sz="2900" spc="-1" strike="noStrike">
                <a:solidFill>
                  <a:srgbClr val="660066"/>
                </a:solidFill>
                <a:latin typeface="Arial Black"/>
              </a:rPr>
              <a:t>. Имя прилагательное  отвечает  на  вопросы  …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AutoShape 3"/>
          <p:cNvSpPr/>
          <p:nvPr/>
        </p:nvSpPr>
        <p:spPr>
          <a:xfrm>
            <a:off x="5148360" y="4473720"/>
            <a:ext cx="3311280" cy="1152360"/>
          </a:xfrm>
          <a:custGeom>
            <a:avLst/>
            <a:gdLst>
              <a:gd name="textAreaLeft" fmla="*/ 74520 w 3311280"/>
              <a:gd name="textAreaRight" fmla="*/ 3236760 w 331128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62054" h="21600">
                <a:moveTo>
                  <a:pt x="0" y="0"/>
                </a:moveTo>
                <a:lnTo>
                  <a:pt x="62054" y="0"/>
                </a:lnTo>
                <a:lnTo>
                  <a:pt x="62054" y="21600"/>
                </a:lnTo>
                <a:lnTo>
                  <a:pt x="0" y="21600"/>
                </a:lnTo>
                <a:close/>
              </a:path>
              <a:path fill="lightenLess" w="62054" h="21600">
                <a:moveTo>
                  <a:pt x="0" y="0"/>
                </a:moveTo>
                <a:lnTo>
                  <a:pt x="62054" y="0"/>
                </a:lnTo>
                <a:lnTo>
                  <a:pt x="60655" y="1400"/>
                </a:lnTo>
                <a:lnTo>
                  <a:pt x="1400" y="1400"/>
                </a:lnTo>
                <a:close/>
              </a:path>
              <a:path fill="darken" w="62054" h="21600">
                <a:moveTo>
                  <a:pt x="62054" y="0"/>
                </a:moveTo>
                <a:lnTo>
                  <a:pt x="62054" y="21600"/>
                </a:lnTo>
                <a:lnTo>
                  <a:pt x="60655" y="20200"/>
                </a:lnTo>
                <a:lnTo>
                  <a:pt x="60655" y="1400"/>
                </a:lnTo>
                <a:close/>
              </a:path>
              <a:path fill="darkenLess" w="62054" h="21600">
                <a:moveTo>
                  <a:pt x="62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655" y="20200"/>
                </a:lnTo>
                <a:close/>
              </a:path>
              <a:path fill="lighten" w="62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Arial Black"/>
              </a:rPr>
              <a:t>КАКА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Arial Black"/>
              </a:rPr>
              <a:t>КАКО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4"/>
          <p:cNvSpPr/>
          <p:nvPr/>
        </p:nvSpPr>
        <p:spPr>
          <a:xfrm>
            <a:off x="760320" y="2405160"/>
            <a:ext cx="3667320" cy="1168200"/>
          </a:xfrm>
          <a:custGeom>
            <a:avLst/>
            <a:gdLst>
              <a:gd name="textAreaLeft" fmla="*/ 75600 w 3667320"/>
              <a:gd name="textAreaRight" fmla="*/ 3591720 w 3667320"/>
              <a:gd name="textAreaTop" fmla="*/ 75600 h 1168200"/>
              <a:gd name="textAreaBottom" fmla="*/ 1092600 h 1168200"/>
            </a:gdLst>
            <a:ahLst/>
            <a:rect l="textAreaLeft" t="textAreaTop" r="textAreaRight" b="textAreaBottom"/>
            <a:pathLst>
              <a:path w="67794" h="21600">
                <a:moveTo>
                  <a:pt x="0" y="0"/>
                </a:moveTo>
                <a:lnTo>
                  <a:pt x="67794" y="0"/>
                </a:lnTo>
                <a:lnTo>
                  <a:pt x="67794" y="21600"/>
                </a:lnTo>
                <a:lnTo>
                  <a:pt x="0" y="21600"/>
                </a:lnTo>
                <a:close/>
              </a:path>
              <a:path fill="lightenLess" w="67794" h="21600">
                <a:moveTo>
                  <a:pt x="0" y="0"/>
                </a:moveTo>
                <a:lnTo>
                  <a:pt x="67794" y="0"/>
                </a:lnTo>
                <a:lnTo>
                  <a:pt x="66395" y="1400"/>
                </a:lnTo>
                <a:lnTo>
                  <a:pt x="1400" y="1400"/>
                </a:lnTo>
                <a:close/>
              </a:path>
              <a:path fill="darken" w="67794" h="21600">
                <a:moveTo>
                  <a:pt x="67794" y="0"/>
                </a:moveTo>
                <a:lnTo>
                  <a:pt x="67794" y="21600"/>
                </a:lnTo>
                <a:lnTo>
                  <a:pt x="66395" y="20200"/>
                </a:lnTo>
                <a:lnTo>
                  <a:pt x="66395" y="1400"/>
                </a:lnTo>
                <a:close/>
              </a:path>
              <a:path fill="darkenLess" w="67794" h="21600">
                <a:moveTo>
                  <a:pt x="6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395" y="20200"/>
                </a:lnTo>
                <a:close/>
              </a:path>
              <a:path fill="lighten" w="6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Arial Black"/>
              </a:rPr>
              <a:t>КТО? ЧТ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5"/>
          <p:cNvSpPr/>
          <p:nvPr/>
        </p:nvSpPr>
        <p:spPr>
          <a:xfrm>
            <a:off x="4716360" y="2384280"/>
            <a:ext cx="3816360" cy="1368720"/>
          </a:xfrm>
          <a:custGeom>
            <a:avLst/>
            <a:gdLst>
              <a:gd name="textAreaLeft" fmla="*/ 88560 w 3816360"/>
              <a:gd name="textAreaRight" fmla="*/ 3727800 w 3816360"/>
              <a:gd name="textAreaTop" fmla="*/ 88560 h 1368720"/>
              <a:gd name="textAreaBottom" fmla="*/ 1280160 h 1368720"/>
            </a:gdLst>
            <a:ahLst/>
            <a:rect l="textAreaLeft" t="textAreaTop" r="textAreaRight" b="textAreaBottom"/>
            <a:pathLst>
              <a:path w="60216" h="21600">
                <a:moveTo>
                  <a:pt x="0" y="0"/>
                </a:moveTo>
                <a:lnTo>
                  <a:pt x="60216" y="0"/>
                </a:lnTo>
                <a:lnTo>
                  <a:pt x="60216" y="21600"/>
                </a:lnTo>
                <a:lnTo>
                  <a:pt x="0" y="21600"/>
                </a:lnTo>
                <a:close/>
              </a:path>
              <a:path fill="lightenLess" w="60216" h="21600">
                <a:moveTo>
                  <a:pt x="0" y="0"/>
                </a:moveTo>
                <a:lnTo>
                  <a:pt x="60216" y="0"/>
                </a:lnTo>
                <a:lnTo>
                  <a:pt x="58817" y="1400"/>
                </a:lnTo>
                <a:lnTo>
                  <a:pt x="1400" y="1400"/>
                </a:lnTo>
                <a:close/>
              </a:path>
              <a:path fill="darken" w="60216" h="21600">
                <a:moveTo>
                  <a:pt x="60216" y="0"/>
                </a:moveTo>
                <a:lnTo>
                  <a:pt x="60216" y="21600"/>
                </a:lnTo>
                <a:lnTo>
                  <a:pt x="58817" y="20200"/>
                </a:lnTo>
                <a:lnTo>
                  <a:pt x="58817" y="1400"/>
                </a:lnTo>
                <a:close/>
              </a:path>
              <a:path fill="darkenLess" w="60216" h="21600">
                <a:moveTo>
                  <a:pt x="602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817" y="20200"/>
                </a:lnTo>
                <a:close/>
              </a:path>
              <a:path fill="lighten" w="602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Arial Black"/>
              </a:rPr>
              <a:t>ЧТ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Arial Black"/>
              </a:rPr>
              <a:t>ДЕЛАЕ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6"/>
          <p:cNvSpPr/>
          <p:nvPr/>
        </p:nvSpPr>
        <p:spPr>
          <a:xfrm>
            <a:off x="900000" y="4221000"/>
            <a:ext cx="3311640" cy="1152720"/>
          </a:xfrm>
          <a:custGeom>
            <a:avLst/>
            <a:gdLst>
              <a:gd name="textAreaLeft" fmla="*/ 74520 w 3311640"/>
              <a:gd name="textAreaRight" fmla="*/ 3237120 w 331164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62042" h="21600">
                <a:moveTo>
                  <a:pt x="0" y="0"/>
                </a:moveTo>
                <a:lnTo>
                  <a:pt x="62042" y="0"/>
                </a:lnTo>
                <a:lnTo>
                  <a:pt x="62042" y="21600"/>
                </a:lnTo>
                <a:lnTo>
                  <a:pt x="0" y="21600"/>
                </a:lnTo>
                <a:close/>
              </a:path>
              <a:path fill="lightenLess" w="62042" h="21600">
                <a:moveTo>
                  <a:pt x="0" y="0"/>
                </a:moveTo>
                <a:lnTo>
                  <a:pt x="62042" y="0"/>
                </a:lnTo>
                <a:lnTo>
                  <a:pt x="60642" y="1400"/>
                </a:lnTo>
                <a:lnTo>
                  <a:pt x="1400" y="1400"/>
                </a:lnTo>
                <a:close/>
              </a:path>
              <a:path fill="darken" w="62042" h="21600">
                <a:moveTo>
                  <a:pt x="62042" y="0"/>
                </a:moveTo>
                <a:lnTo>
                  <a:pt x="62042" y="21600"/>
                </a:lnTo>
                <a:lnTo>
                  <a:pt x="60642" y="20200"/>
                </a:lnTo>
                <a:lnTo>
                  <a:pt x="60642" y="1400"/>
                </a:lnTo>
                <a:close/>
              </a:path>
              <a:path fill="darkenLess" w="62042" h="21600">
                <a:moveTo>
                  <a:pt x="62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642" y="20200"/>
                </a:lnTo>
                <a:close/>
              </a:path>
              <a:path fill="lighten" w="62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Arial Black"/>
              </a:rPr>
              <a:t>КАК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дальше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3708360" y="5373720"/>
            <a:ext cx="1657440" cy="8254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ошибка2"/>
          <p:cNvPicPr/>
          <p:nvPr/>
        </p:nvPicPr>
        <p:blipFill>
          <a:blip r:embed="rId6"/>
          <a:stretch/>
        </p:blipFill>
        <p:spPr>
          <a:xfrm>
            <a:off x="2556000" y="3500280"/>
            <a:ext cx="3960720" cy="9734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верно"/>
          <p:cNvPicPr/>
          <p:nvPr/>
        </p:nvPicPr>
        <p:blipFill>
          <a:blip r:embed="rId7"/>
          <a:stretch/>
        </p:blipFill>
        <p:spPr>
          <a:xfrm>
            <a:off x="2484360" y="3573360"/>
            <a:ext cx="4048200" cy="8175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  <p:sndAc>
      <p:stSnd>
        <p:snd r:embed="rId8" name="levelup.wav"/>
      </p:stSnd>
    </p:sndAc>
  </p:transition>
  <p:timing>
    <p:tnLst>
      <p:par>
        <p:cTn id="249" dur="indefinite" restart="never" nodeType="tmRoot">
          <p:childTnLst>
            <p:seq>
              <p:cTn id="250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251" nodeType="clickEffect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umpBonusReceive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3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264" nodeType="clickEffect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noti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4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4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4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9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280" nodeType="clickEffect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noti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4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4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5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296" nodeType="clickEffect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noti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4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4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84872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660066"/>
                </a:solidFill>
                <a:latin typeface="Garamond"/>
              </a:rPr>
              <a:t>6</a:t>
            </a:r>
            <a:r>
              <a:rPr b="1" lang="ru-RU" sz="2900" spc="-1" strike="noStrike">
                <a:solidFill>
                  <a:srgbClr val="660066"/>
                </a:solidFill>
                <a:latin typeface="Arial Black"/>
              </a:rPr>
              <a:t>. Глагол отвечает  на  вопросы  …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AutoShape 3"/>
          <p:cNvSpPr/>
          <p:nvPr/>
        </p:nvSpPr>
        <p:spPr>
          <a:xfrm>
            <a:off x="938160" y="4473720"/>
            <a:ext cx="3311640" cy="1152360"/>
          </a:xfrm>
          <a:custGeom>
            <a:avLst/>
            <a:gdLst>
              <a:gd name="textAreaLeft" fmla="*/ 74520 w 3311640"/>
              <a:gd name="textAreaRight" fmla="*/ 3237120 w 331164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62061" h="21600">
                <a:moveTo>
                  <a:pt x="0" y="0"/>
                </a:moveTo>
                <a:lnTo>
                  <a:pt x="62061" y="0"/>
                </a:lnTo>
                <a:lnTo>
                  <a:pt x="62061" y="21600"/>
                </a:lnTo>
                <a:lnTo>
                  <a:pt x="0" y="21600"/>
                </a:lnTo>
                <a:close/>
              </a:path>
              <a:path fill="lightenLess" w="62061" h="21600">
                <a:moveTo>
                  <a:pt x="0" y="0"/>
                </a:moveTo>
                <a:lnTo>
                  <a:pt x="62061" y="0"/>
                </a:lnTo>
                <a:lnTo>
                  <a:pt x="60661" y="1400"/>
                </a:lnTo>
                <a:lnTo>
                  <a:pt x="1400" y="1400"/>
                </a:lnTo>
                <a:close/>
              </a:path>
              <a:path fill="darken" w="62061" h="21600">
                <a:moveTo>
                  <a:pt x="62061" y="0"/>
                </a:moveTo>
                <a:lnTo>
                  <a:pt x="62061" y="21600"/>
                </a:lnTo>
                <a:lnTo>
                  <a:pt x="60661" y="20200"/>
                </a:lnTo>
                <a:lnTo>
                  <a:pt x="60661" y="1400"/>
                </a:lnTo>
                <a:close/>
              </a:path>
              <a:path fill="darkenLess" w="62061" h="21600">
                <a:moveTo>
                  <a:pt x="620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661" y="20200"/>
                </a:lnTo>
                <a:close/>
              </a:path>
              <a:path fill="lighten" w="620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Arial Black"/>
              </a:rPr>
              <a:t>ЧТ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660066"/>
                </a:solidFill>
                <a:latin typeface="Arial Black"/>
              </a:rPr>
              <a:t>ДЕЛАЕ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4"/>
          <p:cNvSpPr/>
          <p:nvPr/>
        </p:nvSpPr>
        <p:spPr>
          <a:xfrm>
            <a:off x="760320" y="2405160"/>
            <a:ext cx="3667320" cy="1168200"/>
          </a:xfrm>
          <a:custGeom>
            <a:avLst/>
            <a:gdLst>
              <a:gd name="textAreaLeft" fmla="*/ 75600 w 3667320"/>
              <a:gd name="textAreaRight" fmla="*/ 3591720 w 3667320"/>
              <a:gd name="textAreaTop" fmla="*/ 75600 h 1168200"/>
              <a:gd name="textAreaBottom" fmla="*/ 1092600 h 1168200"/>
            </a:gdLst>
            <a:ahLst/>
            <a:rect l="textAreaLeft" t="textAreaTop" r="textAreaRight" b="textAreaBottom"/>
            <a:pathLst>
              <a:path w="67794" h="21600">
                <a:moveTo>
                  <a:pt x="0" y="0"/>
                </a:moveTo>
                <a:lnTo>
                  <a:pt x="67794" y="0"/>
                </a:lnTo>
                <a:lnTo>
                  <a:pt x="67794" y="21600"/>
                </a:lnTo>
                <a:lnTo>
                  <a:pt x="0" y="21600"/>
                </a:lnTo>
                <a:close/>
              </a:path>
              <a:path fill="lightenLess" w="67794" h="21600">
                <a:moveTo>
                  <a:pt x="0" y="0"/>
                </a:moveTo>
                <a:lnTo>
                  <a:pt x="67794" y="0"/>
                </a:lnTo>
                <a:lnTo>
                  <a:pt x="66395" y="1400"/>
                </a:lnTo>
                <a:lnTo>
                  <a:pt x="1400" y="1400"/>
                </a:lnTo>
                <a:close/>
              </a:path>
              <a:path fill="darken" w="67794" h="21600">
                <a:moveTo>
                  <a:pt x="67794" y="0"/>
                </a:moveTo>
                <a:lnTo>
                  <a:pt x="67794" y="21600"/>
                </a:lnTo>
                <a:lnTo>
                  <a:pt x="66395" y="20200"/>
                </a:lnTo>
                <a:lnTo>
                  <a:pt x="66395" y="1400"/>
                </a:lnTo>
                <a:close/>
              </a:path>
              <a:path fill="darkenLess" w="67794" h="21600">
                <a:moveTo>
                  <a:pt x="6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395" y="20200"/>
                </a:lnTo>
                <a:close/>
              </a:path>
              <a:path fill="lighten" w="6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Arial Black"/>
              </a:rPr>
              <a:t>КТО? ЧТ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4716360" y="2384280"/>
            <a:ext cx="3816360" cy="1368720"/>
          </a:xfrm>
          <a:custGeom>
            <a:avLst/>
            <a:gdLst>
              <a:gd name="textAreaLeft" fmla="*/ 88560 w 3816360"/>
              <a:gd name="textAreaRight" fmla="*/ 3727800 w 3816360"/>
              <a:gd name="textAreaTop" fmla="*/ 88560 h 1368720"/>
              <a:gd name="textAreaBottom" fmla="*/ 1280160 h 1368720"/>
            </a:gdLst>
            <a:ahLst/>
            <a:rect l="textAreaLeft" t="textAreaTop" r="textAreaRight" b="textAreaBottom"/>
            <a:pathLst>
              <a:path w="60216" h="21600">
                <a:moveTo>
                  <a:pt x="0" y="0"/>
                </a:moveTo>
                <a:lnTo>
                  <a:pt x="60216" y="0"/>
                </a:lnTo>
                <a:lnTo>
                  <a:pt x="60216" y="21600"/>
                </a:lnTo>
                <a:lnTo>
                  <a:pt x="0" y="21600"/>
                </a:lnTo>
                <a:close/>
              </a:path>
              <a:path fill="lightenLess" w="60216" h="21600">
                <a:moveTo>
                  <a:pt x="0" y="0"/>
                </a:moveTo>
                <a:lnTo>
                  <a:pt x="60216" y="0"/>
                </a:lnTo>
                <a:lnTo>
                  <a:pt x="58817" y="1400"/>
                </a:lnTo>
                <a:lnTo>
                  <a:pt x="1400" y="1400"/>
                </a:lnTo>
                <a:close/>
              </a:path>
              <a:path fill="darken" w="60216" h="21600">
                <a:moveTo>
                  <a:pt x="60216" y="0"/>
                </a:moveTo>
                <a:lnTo>
                  <a:pt x="60216" y="21600"/>
                </a:lnTo>
                <a:lnTo>
                  <a:pt x="58817" y="20200"/>
                </a:lnTo>
                <a:lnTo>
                  <a:pt x="58817" y="1400"/>
                </a:lnTo>
                <a:close/>
              </a:path>
              <a:path fill="darkenLess" w="60216" h="21600">
                <a:moveTo>
                  <a:pt x="602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817" y="20200"/>
                </a:lnTo>
                <a:close/>
              </a:path>
              <a:path fill="lighten" w="602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Arial Black"/>
              </a:rPr>
              <a:t>КАКА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660066"/>
                </a:solidFill>
                <a:latin typeface="Arial Black"/>
              </a:rPr>
              <a:t>КАКО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6"/>
          <p:cNvSpPr/>
          <p:nvPr/>
        </p:nvSpPr>
        <p:spPr>
          <a:xfrm>
            <a:off x="5148360" y="4357800"/>
            <a:ext cx="3311280" cy="1152360"/>
          </a:xfrm>
          <a:custGeom>
            <a:avLst/>
            <a:gdLst>
              <a:gd name="textAreaLeft" fmla="*/ 74520 w 3311280"/>
              <a:gd name="textAreaRight" fmla="*/ 3236760 w 331128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62054" h="21600">
                <a:moveTo>
                  <a:pt x="0" y="0"/>
                </a:moveTo>
                <a:lnTo>
                  <a:pt x="62054" y="0"/>
                </a:lnTo>
                <a:lnTo>
                  <a:pt x="62054" y="21600"/>
                </a:lnTo>
                <a:lnTo>
                  <a:pt x="0" y="21600"/>
                </a:lnTo>
                <a:close/>
              </a:path>
              <a:path fill="lightenLess" w="62054" h="21600">
                <a:moveTo>
                  <a:pt x="0" y="0"/>
                </a:moveTo>
                <a:lnTo>
                  <a:pt x="62054" y="0"/>
                </a:lnTo>
                <a:lnTo>
                  <a:pt x="60655" y="1400"/>
                </a:lnTo>
                <a:lnTo>
                  <a:pt x="1400" y="1400"/>
                </a:lnTo>
                <a:close/>
              </a:path>
              <a:path fill="darken" w="62054" h="21600">
                <a:moveTo>
                  <a:pt x="62054" y="0"/>
                </a:moveTo>
                <a:lnTo>
                  <a:pt x="62054" y="21600"/>
                </a:lnTo>
                <a:lnTo>
                  <a:pt x="60655" y="20200"/>
                </a:lnTo>
                <a:lnTo>
                  <a:pt x="60655" y="1400"/>
                </a:lnTo>
                <a:close/>
              </a:path>
              <a:path fill="darkenLess" w="62054" h="21600">
                <a:moveTo>
                  <a:pt x="62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655" y="20200"/>
                </a:lnTo>
                <a:close/>
              </a:path>
              <a:path fill="lighten" w="62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Arial Black"/>
              </a:rPr>
              <a:t>КАК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7" descr="дальше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3708360" y="5373720"/>
            <a:ext cx="1657440" cy="8254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ошибка2"/>
          <p:cNvPicPr/>
          <p:nvPr/>
        </p:nvPicPr>
        <p:blipFill>
          <a:blip r:embed="rId6"/>
          <a:stretch/>
        </p:blipFill>
        <p:spPr>
          <a:xfrm>
            <a:off x="2556000" y="3500280"/>
            <a:ext cx="3960720" cy="9734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верно"/>
          <p:cNvPicPr/>
          <p:nvPr/>
        </p:nvPicPr>
        <p:blipFill>
          <a:blip r:embed="rId7"/>
          <a:stretch/>
        </p:blipFill>
        <p:spPr>
          <a:xfrm>
            <a:off x="2484360" y="3573360"/>
            <a:ext cx="4048200" cy="8175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  <p:sndAc>
      <p:stSnd>
        <p:snd r:embed="rId8" name="levelup.wav"/>
      </p:stSnd>
    </p:sndAc>
  </p:transition>
  <p:timing>
    <p:tnLst>
      <p:par>
        <p:cTn id="311" dur="indefinite" restart="never" nodeType="tmRoot">
          <p:childTnLst>
            <p:seq>
              <p:cTn id="312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313" nodeType="clickEffect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umpBonusReceive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5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326" nodeType="clickEffect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noti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4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4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1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342" nodeType="clickEffect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noti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4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4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2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7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358" nodeType="clickEffect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noti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4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4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8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28036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660066"/>
                </a:solidFill>
                <a:latin typeface="Garamond"/>
              </a:rPr>
              <a:t>7</a:t>
            </a:r>
            <a:r>
              <a:rPr b="1" lang="ru-RU" sz="2900" spc="-1" strike="noStrike">
                <a:solidFill>
                  <a:srgbClr val="660066"/>
                </a:solidFill>
                <a:latin typeface="Arial Black"/>
              </a:rPr>
              <a:t>. Выбери  имя  существительное  из  данных  слов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4968720" y="4362480"/>
            <a:ext cx="3311640" cy="1152360"/>
          </a:xfrm>
          <a:custGeom>
            <a:avLst/>
            <a:gdLst>
              <a:gd name="textAreaLeft" fmla="*/ 74520 w 3311640"/>
              <a:gd name="textAreaRight" fmla="*/ 3237120 w 331164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62061" h="21600">
                <a:moveTo>
                  <a:pt x="0" y="0"/>
                </a:moveTo>
                <a:lnTo>
                  <a:pt x="62061" y="0"/>
                </a:lnTo>
                <a:lnTo>
                  <a:pt x="62061" y="21600"/>
                </a:lnTo>
                <a:lnTo>
                  <a:pt x="0" y="21600"/>
                </a:lnTo>
                <a:close/>
              </a:path>
              <a:path fill="lightenLess" w="62061" h="21600">
                <a:moveTo>
                  <a:pt x="0" y="0"/>
                </a:moveTo>
                <a:lnTo>
                  <a:pt x="62061" y="0"/>
                </a:lnTo>
                <a:lnTo>
                  <a:pt x="60661" y="1400"/>
                </a:lnTo>
                <a:lnTo>
                  <a:pt x="1400" y="1400"/>
                </a:lnTo>
                <a:close/>
              </a:path>
              <a:path fill="darken" w="62061" h="21600">
                <a:moveTo>
                  <a:pt x="62061" y="0"/>
                </a:moveTo>
                <a:lnTo>
                  <a:pt x="62061" y="21600"/>
                </a:lnTo>
                <a:lnTo>
                  <a:pt x="60661" y="20200"/>
                </a:lnTo>
                <a:lnTo>
                  <a:pt x="60661" y="1400"/>
                </a:lnTo>
                <a:close/>
              </a:path>
              <a:path fill="darkenLess" w="62061" h="21600">
                <a:moveTo>
                  <a:pt x="620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661" y="20200"/>
                </a:lnTo>
                <a:close/>
              </a:path>
              <a:path fill="lighten" w="620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Arial Black"/>
              </a:rPr>
              <a:t>БЕЛ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760320" y="2405160"/>
            <a:ext cx="3667320" cy="1168200"/>
          </a:xfrm>
          <a:custGeom>
            <a:avLst/>
            <a:gdLst>
              <a:gd name="textAreaLeft" fmla="*/ 75600 w 3667320"/>
              <a:gd name="textAreaRight" fmla="*/ 3591720 w 3667320"/>
              <a:gd name="textAreaTop" fmla="*/ 75600 h 1168200"/>
              <a:gd name="textAreaBottom" fmla="*/ 1092600 h 1168200"/>
            </a:gdLst>
            <a:ahLst/>
            <a:rect l="textAreaLeft" t="textAreaTop" r="textAreaRight" b="textAreaBottom"/>
            <a:pathLst>
              <a:path w="67794" h="21600">
                <a:moveTo>
                  <a:pt x="0" y="0"/>
                </a:moveTo>
                <a:lnTo>
                  <a:pt x="67794" y="0"/>
                </a:lnTo>
                <a:lnTo>
                  <a:pt x="67794" y="21600"/>
                </a:lnTo>
                <a:lnTo>
                  <a:pt x="0" y="21600"/>
                </a:lnTo>
                <a:close/>
              </a:path>
              <a:path fill="lightenLess" w="67794" h="21600">
                <a:moveTo>
                  <a:pt x="0" y="0"/>
                </a:moveTo>
                <a:lnTo>
                  <a:pt x="67794" y="0"/>
                </a:lnTo>
                <a:lnTo>
                  <a:pt x="66395" y="1400"/>
                </a:lnTo>
                <a:lnTo>
                  <a:pt x="1400" y="1400"/>
                </a:lnTo>
                <a:close/>
              </a:path>
              <a:path fill="darken" w="67794" h="21600">
                <a:moveTo>
                  <a:pt x="67794" y="0"/>
                </a:moveTo>
                <a:lnTo>
                  <a:pt x="67794" y="21600"/>
                </a:lnTo>
                <a:lnTo>
                  <a:pt x="66395" y="20200"/>
                </a:lnTo>
                <a:lnTo>
                  <a:pt x="66395" y="1400"/>
                </a:lnTo>
                <a:close/>
              </a:path>
              <a:path fill="darkenLess" w="67794" h="21600">
                <a:moveTo>
                  <a:pt x="6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395" y="20200"/>
                </a:lnTo>
                <a:close/>
              </a:path>
              <a:path fill="lighten" w="6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Arial Black"/>
              </a:rPr>
              <a:t>БЕЛИ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5"/>
          <p:cNvSpPr/>
          <p:nvPr/>
        </p:nvSpPr>
        <p:spPr>
          <a:xfrm>
            <a:off x="4716360" y="2384280"/>
            <a:ext cx="3816360" cy="1368720"/>
          </a:xfrm>
          <a:custGeom>
            <a:avLst/>
            <a:gdLst>
              <a:gd name="textAreaLeft" fmla="*/ 88560 w 3816360"/>
              <a:gd name="textAreaRight" fmla="*/ 3727800 w 3816360"/>
              <a:gd name="textAreaTop" fmla="*/ 88560 h 1368720"/>
              <a:gd name="textAreaBottom" fmla="*/ 1280160 h 1368720"/>
            </a:gdLst>
            <a:ahLst/>
            <a:rect l="textAreaLeft" t="textAreaTop" r="textAreaRight" b="textAreaBottom"/>
            <a:pathLst>
              <a:path w="60216" h="21600">
                <a:moveTo>
                  <a:pt x="0" y="0"/>
                </a:moveTo>
                <a:lnTo>
                  <a:pt x="60216" y="0"/>
                </a:lnTo>
                <a:lnTo>
                  <a:pt x="60216" y="21600"/>
                </a:lnTo>
                <a:lnTo>
                  <a:pt x="0" y="21600"/>
                </a:lnTo>
                <a:close/>
              </a:path>
              <a:path fill="lightenLess" w="60216" h="21600">
                <a:moveTo>
                  <a:pt x="0" y="0"/>
                </a:moveTo>
                <a:lnTo>
                  <a:pt x="60216" y="0"/>
                </a:lnTo>
                <a:lnTo>
                  <a:pt x="58817" y="1400"/>
                </a:lnTo>
                <a:lnTo>
                  <a:pt x="1400" y="1400"/>
                </a:lnTo>
                <a:close/>
              </a:path>
              <a:path fill="darken" w="60216" h="21600">
                <a:moveTo>
                  <a:pt x="60216" y="0"/>
                </a:moveTo>
                <a:lnTo>
                  <a:pt x="60216" y="21600"/>
                </a:lnTo>
                <a:lnTo>
                  <a:pt x="58817" y="20200"/>
                </a:lnTo>
                <a:lnTo>
                  <a:pt x="58817" y="1400"/>
                </a:lnTo>
                <a:close/>
              </a:path>
              <a:path fill="darkenLess" w="60216" h="21600">
                <a:moveTo>
                  <a:pt x="602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817" y="20200"/>
                </a:lnTo>
                <a:close/>
              </a:path>
              <a:path fill="lighten" w="602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Arial Black"/>
              </a:rPr>
              <a:t>БЕЛ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6"/>
          <p:cNvSpPr/>
          <p:nvPr/>
        </p:nvSpPr>
        <p:spPr>
          <a:xfrm>
            <a:off x="760320" y="4221000"/>
            <a:ext cx="3748320" cy="1293840"/>
          </a:xfrm>
          <a:custGeom>
            <a:avLst/>
            <a:gdLst>
              <a:gd name="textAreaLeft" fmla="*/ 83520 w 3748320"/>
              <a:gd name="textAreaRight" fmla="*/ 3664800 w 3748320"/>
              <a:gd name="textAreaTop" fmla="*/ 83520 h 1293840"/>
              <a:gd name="textAreaBottom" fmla="*/ 1210320 h 1293840"/>
            </a:gdLst>
            <a:ahLst/>
            <a:rect l="textAreaLeft" t="textAreaTop" r="textAreaRight" b="textAreaBottom"/>
            <a:pathLst>
              <a:path w="62565" h="21600">
                <a:moveTo>
                  <a:pt x="0" y="0"/>
                </a:moveTo>
                <a:lnTo>
                  <a:pt x="62565" y="0"/>
                </a:lnTo>
                <a:lnTo>
                  <a:pt x="62565" y="21600"/>
                </a:lnTo>
                <a:lnTo>
                  <a:pt x="0" y="21600"/>
                </a:lnTo>
                <a:close/>
              </a:path>
              <a:path fill="lightenLess" w="62565" h="21600">
                <a:moveTo>
                  <a:pt x="0" y="0"/>
                </a:moveTo>
                <a:lnTo>
                  <a:pt x="62565" y="0"/>
                </a:lnTo>
                <a:lnTo>
                  <a:pt x="61165" y="1400"/>
                </a:lnTo>
                <a:lnTo>
                  <a:pt x="1400" y="1400"/>
                </a:lnTo>
                <a:close/>
              </a:path>
              <a:path fill="darken" w="62565" h="21600">
                <a:moveTo>
                  <a:pt x="62565" y="0"/>
                </a:moveTo>
                <a:lnTo>
                  <a:pt x="62565" y="21600"/>
                </a:lnTo>
                <a:lnTo>
                  <a:pt x="61165" y="20200"/>
                </a:lnTo>
                <a:lnTo>
                  <a:pt x="61165" y="1400"/>
                </a:lnTo>
                <a:close/>
              </a:path>
              <a:path fill="darkenLess" w="62565" h="21600">
                <a:moveTo>
                  <a:pt x="62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165" y="20200"/>
                </a:lnTo>
                <a:close/>
              </a:path>
              <a:path fill="lighten" w="62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Arial Black"/>
              </a:rPr>
              <a:t>БЕЛЕНЬ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" descr="дальше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3708360" y="5373720"/>
            <a:ext cx="1657440" cy="8254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ошибка2"/>
          <p:cNvPicPr/>
          <p:nvPr/>
        </p:nvPicPr>
        <p:blipFill>
          <a:blip r:embed="rId6"/>
          <a:stretch/>
        </p:blipFill>
        <p:spPr>
          <a:xfrm>
            <a:off x="2556000" y="3500280"/>
            <a:ext cx="3960720" cy="9734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верно"/>
          <p:cNvPicPr/>
          <p:nvPr/>
        </p:nvPicPr>
        <p:blipFill>
          <a:blip r:embed="rId7"/>
          <a:stretch/>
        </p:blipFill>
        <p:spPr>
          <a:xfrm>
            <a:off x="2484360" y="3573360"/>
            <a:ext cx="4048200" cy="8175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  <p:sndAc>
      <p:stSnd>
        <p:snd r:embed="rId8" name="levelup.wav"/>
      </p:stSnd>
    </p:sndAc>
  </p:transition>
  <p:timing>
    <p:tnLst>
      <p:par>
        <p:cTn id="373" dur="indefinite" restart="never" nodeType="tmRoot">
          <p:childTnLst>
            <p:seq>
              <p:cTn id="374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375" nodeType="clickEffect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umpBonusReceive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7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388" nodeType="clickEffect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noti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4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4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8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3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404" nodeType="clickEffect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noti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4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4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4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9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420" nodeType="clickEffect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noti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4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4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0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28036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660066"/>
                </a:solidFill>
                <a:latin typeface="Arial Black"/>
              </a:rPr>
              <a:t>8. Выбери  имя  прилагательное  из  данных  слов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AutoShape 3"/>
          <p:cNvSpPr/>
          <p:nvPr/>
        </p:nvSpPr>
        <p:spPr>
          <a:xfrm>
            <a:off x="4886280" y="2421000"/>
            <a:ext cx="3311640" cy="1152360"/>
          </a:xfrm>
          <a:custGeom>
            <a:avLst/>
            <a:gdLst>
              <a:gd name="textAreaLeft" fmla="*/ 74520 w 3311640"/>
              <a:gd name="textAreaRight" fmla="*/ 3237120 w 331164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62061" h="21600">
                <a:moveTo>
                  <a:pt x="0" y="0"/>
                </a:moveTo>
                <a:lnTo>
                  <a:pt x="62061" y="0"/>
                </a:lnTo>
                <a:lnTo>
                  <a:pt x="62061" y="21600"/>
                </a:lnTo>
                <a:lnTo>
                  <a:pt x="0" y="21600"/>
                </a:lnTo>
                <a:close/>
              </a:path>
              <a:path fill="lightenLess" w="62061" h="21600">
                <a:moveTo>
                  <a:pt x="0" y="0"/>
                </a:moveTo>
                <a:lnTo>
                  <a:pt x="62061" y="0"/>
                </a:lnTo>
                <a:lnTo>
                  <a:pt x="60661" y="1400"/>
                </a:lnTo>
                <a:lnTo>
                  <a:pt x="1400" y="1400"/>
                </a:lnTo>
                <a:close/>
              </a:path>
              <a:path fill="darken" w="62061" h="21600">
                <a:moveTo>
                  <a:pt x="62061" y="0"/>
                </a:moveTo>
                <a:lnTo>
                  <a:pt x="62061" y="21600"/>
                </a:lnTo>
                <a:lnTo>
                  <a:pt x="60661" y="20200"/>
                </a:lnTo>
                <a:lnTo>
                  <a:pt x="60661" y="1400"/>
                </a:lnTo>
                <a:close/>
              </a:path>
              <a:path fill="darkenLess" w="62061" h="21600">
                <a:moveTo>
                  <a:pt x="620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661" y="20200"/>
                </a:lnTo>
                <a:close/>
              </a:path>
              <a:path fill="lighten" w="620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Arial Black"/>
              </a:rPr>
              <a:t>БЕЛ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4"/>
          <p:cNvSpPr/>
          <p:nvPr/>
        </p:nvSpPr>
        <p:spPr>
          <a:xfrm>
            <a:off x="760320" y="2405160"/>
            <a:ext cx="3667320" cy="1168200"/>
          </a:xfrm>
          <a:custGeom>
            <a:avLst/>
            <a:gdLst>
              <a:gd name="textAreaLeft" fmla="*/ 75600 w 3667320"/>
              <a:gd name="textAreaRight" fmla="*/ 3591720 w 3667320"/>
              <a:gd name="textAreaTop" fmla="*/ 75600 h 1168200"/>
              <a:gd name="textAreaBottom" fmla="*/ 1092600 h 1168200"/>
            </a:gdLst>
            <a:ahLst/>
            <a:rect l="textAreaLeft" t="textAreaTop" r="textAreaRight" b="textAreaBottom"/>
            <a:pathLst>
              <a:path w="67794" h="21600">
                <a:moveTo>
                  <a:pt x="0" y="0"/>
                </a:moveTo>
                <a:lnTo>
                  <a:pt x="67794" y="0"/>
                </a:lnTo>
                <a:lnTo>
                  <a:pt x="67794" y="21600"/>
                </a:lnTo>
                <a:lnTo>
                  <a:pt x="0" y="21600"/>
                </a:lnTo>
                <a:close/>
              </a:path>
              <a:path fill="lightenLess" w="67794" h="21600">
                <a:moveTo>
                  <a:pt x="0" y="0"/>
                </a:moveTo>
                <a:lnTo>
                  <a:pt x="67794" y="0"/>
                </a:lnTo>
                <a:lnTo>
                  <a:pt x="66395" y="1400"/>
                </a:lnTo>
                <a:lnTo>
                  <a:pt x="1400" y="1400"/>
                </a:lnTo>
                <a:close/>
              </a:path>
              <a:path fill="darken" w="67794" h="21600">
                <a:moveTo>
                  <a:pt x="67794" y="0"/>
                </a:moveTo>
                <a:lnTo>
                  <a:pt x="67794" y="21600"/>
                </a:lnTo>
                <a:lnTo>
                  <a:pt x="66395" y="20200"/>
                </a:lnTo>
                <a:lnTo>
                  <a:pt x="66395" y="1400"/>
                </a:lnTo>
                <a:close/>
              </a:path>
              <a:path fill="darkenLess" w="67794" h="21600">
                <a:moveTo>
                  <a:pt x="6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395" y="20200"/>
                </a:lnTo>
                <a:close/>
              </a:path>
              <a:path fill="lighten" w="6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Arial Black"/>
              </a:rPr>
              <a:t>БЕЛИ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5"/>
          <p:cNvSpPr/>
          <p:nvPr/>
        </p:nvSpPr>
        <p:spPr>
          <a:xfrm>
            <a:off x="4859280" y="4146480"/>
            <a:ext cx="3816360" cy="1368360"/>
          </a:xfrm>
          <a:custGeom>
            <a:avLst/>
            <a:gdLst>
              <a:gd name="textAreaLeft" fmla="*/ 88560 w 3816360"/>
              <a:gd name="textAreaRight" fmla="*/ 3727800 w 3816360"/>
              <a:gd name="textAreaTop" fmla="*/ 88560 h 1368360"/>
              <a:gd name="textAreaBottom" fmla="*/ 1279800 h 1368360"/>
            </a:gdLst>
            <a:ahLst/>
            <a:rect l="textAreaLeft" t="textAreaTop" r="textAreaRight" b="textAreaBottom"/>
            <a:pathLst>
              <a:path w="60232" h="21600">
                <a:moveTo>
                  <a:pt x="0" y="0"/>
                </a:moveTo>
                <a:lnTo>
                  <a:pt x="60232" y="0"/>
                </a:lnTo>
                <a:lnTo>
                  <a:pt x="60232" y="21600"/>
                </a:lnTo>
                <a:lnTo>
                  <a:pt x="0" y="21600"/>
                </a:lnTo>
                <a:close/>
              </a:path>
              <a:path fill="lightenLess" w="60232" h="21600">
                <a:moveTo>
                  <a:pt x="0" y="0"/>
                </a:moveTo>
                <a:lnTo>
                  <a:pt x="60232" y="0"/>
                </a:lnTo>
                <a:lnTo>
                  <a:pt x="58832" y="1400"/>
                </a:lnTo>
                <a:lnTo>
                  <a:pt x="1400" y="1400"/>
                </a:lnTo>
                <a:close/>
              </a:path>
              <a:path fill="darken" w="60232" h="21600">
                <a:moveTo>
                  <a:pt x="60232" y="0"/>
                </a:moveTo>
                <a:lnTo>
                  <a:pt x="60232" y="21600"/>
                </a:lnTo>
                <a:lnTo>
                  <a:pt x="58832" y="20200"/>
                </a:lnTo>
                <a:lnTo>
                  <a:pt x="58832" y="1400"/>
                </a:lnTo>
                <a:close/>
              </a:path>
              <a:path fill="darkenLess" w="60232" h="21600">
                <a:moveTo>
                  <a:pt x="602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832" y="20200"/>
                </a:lnTo>
                <a:close/>
              </a:path>
              <a:path fill="lighten" w="602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Arial Black"/>
              </a:rPr>
              <a:t>БЕЛ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6"/>
          <p:cNvSpPr/>
          <p:nvPr/>
        </p:nvSpPr>
        <p:spPr>
          <a:xfrm>
            <a:off x="760320" y="4221000"/>
            <a:ext cx="3748320" cy="1293840"/>
          </a:xfrm>
          <a:custGeom>
            <a:avLst/>
            <a:gdLst>
              <a:gd name="textAreaLeft" fmla="*/ 83520 w 3748320"/>
              <a:gd name="textAreaRight" fmla="*/ 3664800 w 3748320"/>
              <a:gd name="textAreaTop" fmla="*/ 83520 h 1293840"/>
              <a:gd name="textAreaBottom" fmla="*/ 1210320 h 1293840"/>
            </a:gdLst>
            <a:ahLst/>
            <a:rect l="textAreaLeft" t="textAreaTop" r="textAreaRight" b="textAreaBottom"/>
            <a:pathLst>
              <a:path w="62565" h="21600">
                <a:moveTo>
                  <a:pt x="0" y="0"/>
                </a:moveTo>
                <a:lnTo>
                  <a:pt x="62565" y="0"/>
                </a:lnTo>
                <a:lnTo>
                  <a:pt x="62565" y="21600"/>
                </a:lnTo>
                <a:lnTo>
                  <a:pt x="0" y="21600"/>
                </a:lnTo>
                <a:close/>
              </a:path>
              <a:path fill="lightenLess" w="62565" h="21600">
                <a:moveTo>
                  <a:pt x="0" y="0"/>
                </a:moveTo>
                <a:lnTo>
                  <a:pt x="62565" y="0"/>
                </a:lnTo>
                <a:lnTo>
                  <a:pt x="61165" y="1400"/>
                </a:lnTo>
                <a:lnTo>
                  <a:pt x="1400" y="1400"/>
                </a:lnTo>
                <a:close/>
              </a:path>
              <a:path fill="darken" w="62565" h="21600">
                <a:moveTo>
                  <a:pt x="62565" y="0"/>
                </a:moveTo>
                <a:lnTo>
                  <a:pt x="62565" y="21600"/>
                </a:lnTo>
                <a:lnTo>
                  <a:pt x="61165" y="20200"/>
                </a:lnTo>
                <a:lnTo>
                  <a:pt x="61165" y="1400"/>
                </a:lnTo>
                <a:close/>
              </a:path>
              <a:path fill="darkenLess" w="62565" h="21600">
                <a:moveTo>
                  <a:pt x="62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165" y="20200"/>
                </a:lnTo>
                <a:close/>
              </a:path>
              <a:path fill="lighten" w="62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Arial Black"/>
              </a:rPr>
              <a:t>БЕЛ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7" descr="дальше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3708360" y="5373720"/>
            <a:ext cx="1657440" cy="8254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ошибка2"/>
          <p:cNvPicPr/>
          <p:nvPr/>
        </p:nvPicPr>
        <p:blipFill>
          <a:blip r:embed="rId6"/>
          <a:stretch/>
        </p:blipFill>
        <p:spPr>
          <a:xfrm>
            <a:off x="2556000" y="3500280"/>
            <a:ext cx="3960720" cy="9734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верно"/>
          <p:cNvPicPr/>
          <p:nvPr/>
        </p:nvPicPr>
        <p:blipFill>
          <a:blip r:embed="rId7"/>
          <a:stretch/>
        </p:blipFill>
        <p:spPr>
          <a:xfrm>
            <a:off x="2484360" y="3573360"/>
            <a:ext cx="4048200" cy="8175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  <p:sndAc>
      <p:stSnd>
        <p:snd r:embed="rId8" name="levelup.wav"/>
      </p:stSnd>
    </p:sndAc>
  </p:transition>
  <p:timing>
    <p:tnLst>
      <p:par>
        <p:cTn id="435" dur="indefinite" restart="never" nodeType="tmRoot">
          <p:childTnLst>
            <p:seq>
              <p:cTn id="436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437" nodeType="clickEffect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umpBonusReceive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9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450" nodeType="clickEffect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noti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4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4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0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5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466" nodeType="clickEffect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noti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4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4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6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1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482" nodeType="clickEffect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noti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4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4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2T08:32:27Z</dcterms:created>
  <dc:creator>Администратор</dc:creator>
  <dc:description/>
  <dc:language>en-US</dc:language>
  <cp:lastModifiedBy>user</cp:lastModifiedBy>
  <dcterms:modified xsi:type="dcterms:W3CDTF">2020-10-15T18:34:43Z</dcterms:modified>
  <cp:revision>32</cp:revision>
  <dc:subject/>
  <dc:title>Слайд 1</dc:title>
</cp:coreProperties>
</file>