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png" ContentType="image/png"/>
  <Override PartName="/ppt/media/image13.png" ContentType="image/png"/>
  <Override PartName="/ppt/media/image8.wmf" ContentType="image/x-wm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15.gif" ContentType="image/gif"/>
  <Override PartName="/ppt/media/image1.png" ContentType="image/png"/>
  <Override PartName="/ppt/media/image5.gif" ContentType="image/gif"/>
  <Override PartName="/ppt/media/image9.png" ContentType="image/png"/>
  <Override PartName="/ppt/media/image14.wmf" ContentType="image/x-wmf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B839-E766-452F-B888-2D857537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A9D3-0A2C-4BEB-A392-B2080DC1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0351-FD06-479A-8317-14FB01B4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A30C-3610-4C1C-B944-92F89146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32A0-B5EC-4AD7-A145-2F990611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7807-5968-4AE6-BE54-1B0B725E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49B6-C3BA-475B-A599-F9B2CD93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28DD-089C-4987-AA7F-0420010D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4C24-81EF-4E0B-8DAE-7BC07760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8380-4631-480C-A6AA-DC8D60FF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9188-4257-40BA-8ACE-02F97DB1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40ED-5F3F-4512-AEA2-11D888E1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D96F-C26F-40C7-8608-ACA9ADC840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42920" y="1267920"/>
            <a:ext cx="5600520" cy="12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egoe Script"/>
              </a:rPr>
              <a:t>Родительское собрание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2842920" y="2781000"/>
            <a:ext cx="5646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Segoe Script"/>
              </a:rPr>
              <a:t>«Адаптация первоклассника к школе»</a:t>
            </a:r>
            <a:endParaRPr b="0" lang="en-US" sz="27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197" name="Picture 5" descr="b54"/>
          <p:cNvPicPr/>
          <p:nvPr/>
        </p:nvPicPr>
        <p:blipFill>
          <a:blip r:embed="rId1"/>
          <a:stretch/>
        </p:blipFill>
        <p:spPr>
          <a:xfrm>
            <a:off x="6516720" y="3789360"/>
            <a:ext cx="2627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ED00019_"/>
          <p:cNvPicPr/>
          <p:nvPr/>
        </p:nvPicPr>
        <p:blipFill>
          <a:blip r:embed="rId1"/>
          <a:stretch/>
        </p:blipFill>
        <p:spPr>
          <a:xfrm>
            <a:off x="0" y="0"/>
            <a:ext cx="2031840" cy="17827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Comic Sans MS"/>
              </a:rPr>
              <a:t>Взаимоотношения с ребёнком в семье.</a:t>
            </a:r>
            <a:endParaRPr b="0" lang="en-US" sz="1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Шкала общения родителей с ребёнком: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ложительные эмоции    отрицательные эмоции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хвалили                                   -упрекали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поощряли                                -подавляли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одобряли                                 -унижали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целовали                                 -обвиняли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обнимали                                -осуждали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ласкали                                   -отвергали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сопереживали                         -позорили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улыбались                               -читали нотации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восхищались                           -лишали чего-то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делали подарки                      -ставили  в угол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218" name="Picture 5" descr="AG00315_"/>
          <p:cNvPicPr/>
          <p:nvPr/>
        </p:nvPicPr>
        <p:blipFill>
          <a:blip r:embed="rId2"/>
          <a:stretch/>
        </p:blipFill>
        <p:spPr>
          <a:xfrm>
            <a:off x="2590920" y="2590920"/>
            <a:ext cx="1485720" cy="16761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AG00316_"/>
          <p:cNvPicPr/>
          <p:nvPr/>
        </p:nvPicPr>
        <p:blipFill>
          <a:blip r:embed="rId3"/>
          <a:stretch/>
        </p:blipFill>
        <p:spPr>
          <a:xfrm>
            <a:off x="6781680" y="1752480"/>
            <a:ext cx="1519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84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636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784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936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28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128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236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3480"/>
                            </p:stCondLst>
                            <p:childTnLst>
                              <p:par>
                                <p:cTn id="1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Не рекомендуемые фразы для общения: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Я тысячу раз говорил тебе, что</a:t>
            </a:r>
            <a:r>
              <a:rPr b="1" lang="ru-RU" sz="3200" spc="-1" strike="noStrike">
                <a:solidFill>
                  <a:srgbClr val="000000"/>
                </a:solidFill>
                <a:latin typeface="Segoe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Сколько раз надо повторять</a:t>
            </a:r>
            <a:r>
              <a:rPr b="1" lang="ru-RU" sz="3200" spc="-1" strike="noStrike">
                <a:solidFill>
                  <a:srgbClr val="000000"/>
                </a:solidFill>
                <a:latin typeface="Segoe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О чём ты только думаешь</a:t>
            </a:r>
            <a:r>
              <a:rPr b="1" lang="ru-RU" sz="3200" spc="-1" strike="noStrike">
                <a:solidFill>
                  <a:srgbClr val="000000"/>
                </a:solidFill>
                <a:latin typeface="Segoe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Неужели тебе трудно запомнить, что</a:t>
            </a:r>
            <a:r>
              <a:rPr b="1" lang="ru-RU" sz="3200" spc="-1" strike="noStrike">
                <a:solidFill>
                  <a:srgbClr val="000000"/>
                </a:solidFill>
                <a:latin typeface="Segoe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Ты становишься</a:t>
            </a:r>
            <a:r>
              <a:rPr b="1" lang="ru-RU" sz="3200" spc="-1" strike="noStrike">
                <a:solidFill>
                  <a:srgbClr val="000000"/>
                </a:solidFill>
                <a:latin typeface="Segoe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Ты такой же как,</a:t>
            </a:r>
            <a:r>
              <a:rPr b="1" lang="ru-RU" sz="3200" spc="-1" strike="noStrike">
                <a:solidFill>
                  <a:srgbClr val="000000"/>
                </a:solidFill>
                <a:latin typeface="Segoe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Отстань, некогда мне</a:t>
            </a:r>
            <a:r>
              <a:rPr b="1" lang="ru-RU" sz="3200" spc="-1" strike="noStrike">
                <a:solidFill>
                  <a:srgbClr val="000000"/>
                </a:solidFill>
                <a:latin typeface="Segoe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Почему Лена(Настя, Вася и т.д.) такая, а ты - нет</a:t>
            </a:r>
            <a:r>
              <a:rPr b="1" lang="ru-RU" sz="3200" spc="-1" strike="noStrike">
                <a:solidFill>
                  <a:srgbClr val="000000"/>
                </a:solidFill>
                <a:latin typeface="Segoe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221" name="Picture 3" descr="AG00317_"/>
          <p:cNvPicPr/>
          <p:nvPr/>
        </p:nvPicPr>
        <p:blipFill>
          <a:blip r:embed="rId1"/>
          <a:stretch/>
        </p:blipFill>
        <p:spPr>
          <a:xfrm>
            <a:off x="7599240" y="4876920"/>
            <a:ext cx="154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32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64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628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92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776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9480"/>
                            </p:stCondLst>
                            <p:childTnLst>
                              <p:par>
                                <p:cTn id="2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Рекомендуемые фразы для общения: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Ты у меня умный, красивый(и т.д.).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Как хорошо, что  у меня есть ты.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Ты у меня молодец.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Я тебя очень люблю.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Как хорошо ты это сделал, научи и меня этому.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Спасибо тебе, я тебе очень благодарна.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Если бы не ты, я бы никогда с этим не справился.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223" name="Picture 3" descr="KIDS01"/>
          <p:cNvPicPr/>
          <p:nvPr/>
        </p:nvPicPr>
        <p:blipFill>
          <a:blip r:embed="rId1"/>
          <a:stretch/>
        </p:blipFill>
        <p:spPr>
          <a:xfrm>
            <a:off x="3809880" y="4800600"/>
            <a:ext cx="2971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52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4920"/>
                            </p:stCondLst>
                            <p:childTnLst>
                              <p:par>
                                <p:cTn id="2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6480"/>
                            </p:stCondLst>
                            <p:childTnLst>
                              <p:par>
                                <p:cTn id="2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2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9480"/>
                            </p:stCondLst>
                            <p:childTnLst>
                              <p:par>
                                <p:cTn id="2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Placeholder 5" descr="111111.jpg"/>
          <p:cNvPicPr/>
          <p:nvPr/>
        </p:nvPicPr>
        <p:blipFill>
          <a:blip r:embed="rId1"/>
          <a:stretch/>
        </p:blipFill>
        <p:spPr>
          <a:xfrm>
            <a:off x="1987560" y="749160"/>
            <a:ext cx="6181560" cy="44816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2268360" y="1268280"/>
            <a:ext cx="5399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аптация - приспособление организма к новым услов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адаптации зависит успешность овладения учебной деятельностью, комфортность пребывания в школе, здоровье ребенка, его отношение к школе и уч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8390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Условия адаптации:</a:t>
            </a:r>
            <a:endParaRPr b="0" lang="en-US" sz="3600" spc="-1" strike="noStrike">
              <a:solidFill>
                <a:srgbClr val="000000"/>
              </a:solidFill>
              <a:latin typeface="Segoe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Физиологические           Психологические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зменение режима дня                           -психологический климат в семье</a:t>
            </a:r>
            <a:endParaRPr b="0" lang="en-US" sz="16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обходимость игры                              - самооценка ребёнка</a:t>
            </a:r>
            <a:endParaRPr b="0" lang="en-US" sz="16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авильная посадка                               - самоценность ребёнка для родителей</a:t>
            </a:r>
            <a:endParaRPr b="0" lang="en-US" sz="16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рганизация правильного питания       - формирование интереса к школе</a:t>
            </a:r>
            <a:endParaRPr b="0" lang="en-US" sz="16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азвитие двигательной активности       - дружеское общение с одноклассниками</a:t>
            </a:r>
            <a:endParaRPr b="0" lang="en-US" sz="16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оспитание самостоятельности и         - недопустимость физического воздействия</a:t>
            </a:r>
            <a:endParaRPr b="0" lang="en-US" sz="16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тветственности                                          - предоставление самостоятельности</a:t>
            </a:r>
            <a:endParaRPr b="0" lang="en-US" sz="16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учёт темперамента ребёнка</a:t>
            </a:r>
            <a:endParaRPr b="0" lang="en-US" sz="16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организация контроля за учёбой</a:t>
            </a:r>
            <a:endParaRPr b="0" lang="en-US" sz="16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поощрение за успехи и достижения</a:t>
            </a:r>
            <a:endParaRPr b="0" lang="en-US" sz="16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моральное стимулирование</a:t>
            </a:r>
            <a:endParaRPr b="0" lang="en-US" sz="1600" spc="-1" strike="noStrike">
              <a:solidFill>
                <a:srgbClr val="000000"/>
              </a:solidFill>
              <a:latin typeface="Sego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развитие самоконтроля и самооценки</a:t>
            </a:r>
            <a:endParaRPr b="0" lang="en-US" sz="16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201" name="Picture 3" descr="j0355131"/>
          <p:cNvPicPr/>
          <p:nvPr/>
        </p:nvPicPr>
        <p:blipFill>
          <a:blip r:embed="rId1"/>
          <a:stretch/>
        </p:blipFill>
        <p:spPr>
          <a:xfrm>
            <a:off x="2209680" y="4572000"/>
            <a:ext cx="1233720" cy="1811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AN00790_"/>
          <p:cNvPicPr/>
          <p:nvPr/>
        </p:nvPicPr>
        <p:blipFill>
          <a:blip r:embed="rId2"/>
          <a:stretch/>
        </p:blipFill>
        <p:spPr>
          <a:xfrm>
            <a:off x="7462800" y="0"/>
            <a:ext cx="1535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624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2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2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2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2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2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740"/>
                            </p:stCondLst>
                            <p:childTnLst>
                              <p:par>
                                <p:cTn id="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8740"/>
                            </p:stCondLst>
                            <p:childTnLst>
                              <p:par>
                                <p:cTn id="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Placeholder 5" descr="1111.jpg"/>
          <p:cNvPicPr/>
          <p:nvPr/>
        </p:nvPicPr>
        <p:blipFill>
          <a:blip r:embed="rId1"/>
          <a:stretch/>
        </p:blipFill>
        <p:spPr>
          <a:xfrm>
            <a:off x="701640" y="706320"/>
            <a:ext cx="8028000" cy="4919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560" y="1197000"/>
            <a:ext cx="7704360" cy="36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Segoe Script"/>
              </a:rPr>
              <a:t>Высокий уровень адаптации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Segoe Script"/>
              </a:rPr>
              <a:t>Ребенок любит школу, рад тому обстоятельству, что теперь он – ученик. Он легко учится, с интересом получает новые знания и радостно ими делится с окружающими, прилежно выполняет задания в школе и дома (причем без особого внешнего контроля и «нажима»), внимательно слушает учителя на уроке, способен что-то выучить или подготовить по своей инициативе, «сверх программы», добросовестно выполняет «общественные поручения», легко сходится с одноклассниками. </a:t>
            </a:r>
            <a:endParaRPr b="0" lang="en-US" sz="22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Placeholder 5" descr="1111.jpg"/>
          <p:cNvPicPr/>
          <p:nvPr/>
        </p:nvPicPr>
        <p:blipFill>
          <a:blip r:embed="rId1"/>
          <a:stretch/>
        </p:blipFill>
        <p:spPr>
          <a:xfrm>
            <a:off x="420840" y="426960"/>
            <a:ext cx="8302320" cy="5192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209080" cy="42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Segoe Script"/>
              </a:rPr>
              <a:t>Средний уровень адаптации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Segoe Script"/>
              </a:rPr>
              <a:t>Ребенок вроде бы не прочь посещать школу, негатива и отторжения уроки у него не вызывают, он в хороших отношениях с одноклассниками и учителем, но предпочитает работать под контролем взрослого и по его указаниям. Самостоятельная работа у такого ребенка «не идет». Для него важно в школе не познание, а сам статус ученика. Таким детям нужен постоянный контроль, инициативы в получении знаний они не проявляют, у них слабо развита самостоятельность в тех делах, которые не представляют для ребят непосредственного интереса. </a:t>
            </a:r>
            <a:endParaRPr b="0" lang="en-US" sz="22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Placeholder 5" descr="1111.jpg"/>
          <p:cNvPicPr/>
          <p:nvPr/>
        </p:nvPicPr>
        <p:blipFill>
          <a:blip r:embed="rId1"/>
          <a:stretch/>
        </p:blipFill>
        <p:spPr>
          <a:xfrm>
            <a:off x="701640" y="706320"/>
            <a:ext cx="8028000" cy="49197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000" y="1197000"/>
            <a:ext cx="7848360" cy="36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Segoe Script"/>
              </a:rPr>
              <a:t>Низкий уровень адаптации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Segoe Script"/>
              </a:rPr>
              <a:t>Такие дети к школе относятся негативно либо просто равнодушно, на уроках подавлены, «отсутствуют». Или, наоборот, нередко нарушают дисциплину, учебный материал усваивают не полностью, самостоятельно работают с трудом и без интереса, домашние задания выполняют не всегда. Для усвоения материала им нужна помощь взрослых: неоднократные объяснения и повторения, больше времени, чем остальным. Общественные поручения эти дети выполняют без особой охоты, нередко не имеют в классе друзей. </a:t>
            </a:r>
            <a:endParaRPr b="0" lang="en-US" sz="22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Placeholder 5" descr="111111.jpg"/>
          <p:cNvPicPr/>
          <p:nvPr/>
        </p:nvPicPr>
        <p:blipFill>
          <a:blip r:embed="rId1"/>
          <a:stretch/>
        </p:blipFill>
        <p:spPr>
          <a:xfrm>
            <a:off x="596880" y="103320"/>
            <a:ext cx="7523280" cy="58831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1042920" y="765000"/>
            <a:ext cx="6481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ы дезадапт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иль воспит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бенка в семье ДО школы. Если у него не заложены навыки самостоятельности, умения налаживать контакты и работать «в команде», если у его не сформирован интерес к познанию – в школе такому ребенку будет труд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обучения первоклашек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ем младше ребенок, тем тяжелее ему приспособиться к таким суровым реалиям, вдруг свалившимся на его голову, – поэтому наиболее уязвимы те, кто пошел в школу ближе к 6, а не к 7 го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абая подгот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школе, недостаток знаний, слабая память и вним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Placeholder 5" descr="111111.jpg"/>
          <p:cNvPicPr/>
          <p:nvPr/>
        </p:nvPicPr>
        <p:blipFill>
          <a:blip r:embed="rId1"/>
          <a:stretch/>
        </p:blipFill>
        <p:spPr>
          <a:xfrm>
            <a:off x="811080" y="628560"/>
            <a:ext cx="7521840" cy="4851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1403280" y="1413000"/>
            <a:ext cx="640872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ы дезадапт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алость, переутомление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ерегрузка как нервной системы, так и иммунной. Если ребенок слабенький, не привык к нагрузкам – в школе ему придется нелегко даже при отличных способностях и хорошей коммуникаб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ишком высокая тревож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мнительность самого ребенка, чрезмерно сильное пережи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махов как в учебе, так и в отношен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Placeholder 5" descr="111111.jpg"/>
          <p:cNvPicPr/>
          <p:nvPr/>
        </p:nvPicPr>
        <p:blipFill>
          <a:blip r:embed="rId1"/>
          <a:stretch/>
        </p:blipFill>
        <p:spPr>
          <a:xfrm>
            <a:off x="628560" y="347760"/>
            <a:ext cx="7886880" cy="56563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3"/>
          <p:cNvSpPr/>
          <p:nvPr/>
        </p:nvSpPr>
        <p:spPr>
          <a:xfrm>
            <a:off x="1042920" y="765000"/>
            <a:ext cx="705816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дел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Бессмысленно и совсем не полезно паниковать, ругать и обвинять самого ребенка. Ребенок нуждается в помощи, а не в оценке и тем более не в порица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остарайтесь в беседах с ним выявить его «слабое место» – то, что именно является причиной дезадаптации: недостаток ли самостоятельности, неумение налаживать контакты с детьми или взрослыми, отсутствие мотивации, слабое развитие – и постарайтесь его устран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опробовать создать у ребенка сильную мотивацию, заинтересовать его чем-то в учебном процессе или хотя бы вне его, чтобы малыш воспринимал школу не как бессмысленное несчастье, обрушившееся на его голову, а как что-то полезное и интересн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05:25:54Z</dcterms:created>
  <dc:creator>Учитель</dc:creator>
  <dc:description>Корпорация Майкрософт</dc:description>
  <cp:keywords>Фотоальбом</cp:keywords>
  <dc:language>en-US</dc:language>
  <cp:lastModifiedBy>Элемент</cp:lastModifiedBy>
  <dcterms:modified xsi:type="dcterms:W3CDTF">2015-11-23T12:17:51Z</dcterms:modified>
  <cp:revision>19</cp:revision>
  <dc:subject>Фотоальбом</dc:subject>
  <dc:title>Фотоальбо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54091049</vt:lpwstr>
  </property>
</Properties>
</file>