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04F-28F7-4669-B880-3D33B7ED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3DE-061D-4D66-80F1-EDAE852E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26D-75B9-4B97-AC45-F7517256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3D2-2B82-41DC-8634-7DF93C0C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10E-EF42-47B1-888A-0D84EC18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CA8-6352-4D19-A0DF-8EB83E5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26B-DA3E-450D-8354-B8B9E8A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B7E-354C-44B2-9059-A9DF3AD1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C85-FB15-4615-AB5E-082D6A1C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883-2BAB-42F6-9F22-E3CE8531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059-3267-4C3C-8C80-BABA4DA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40C-DE3F-4C93-B04F-DB8DFC7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5610-DFF2-4C49-B253-463291B645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74880" y="1628640"/>
            <a:ext cx="818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Технология исследовательской деятельности в ДО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65120" y="76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униципальное бюджетное дошкольное образовательное учреждение «Центр развития ребёнка – детский сад «Ладошки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О «Барышский район» Ульянов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40160" y="587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Мусаткина Вероника Иван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mbdou3nov.ucoz.ru/colnyshko/1372844.gif"/>
          <p:cNvPicPr/>
          <p:nvPr/>
        </p:nvPicPr>
        <p:blipFill>
          <a:blip r:embed="rId1"/>
          <a:stretch/>
        </p:blipFill>
        <p:spPr>
          <a:xfrm>
            <a:off x="6753240" y="3645000"/>
            <a:ext cx="2141640" cy="28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сурин\Desktop\сова.jpg"/>
          <p:cNvPicPr/>
          <p:nvPr/>
        </p:nvPicPr>
        <p:blipFill>
          <a:blip r:embed="rId2"/>
          <a:stretch/>
        </p:blipFill>
        <p:spPr>
          <a:xfrm>
            <a:off x="1154160" y="765000"/>
            <a:ext cx="1498680" cy="19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920880" y="476280"/>
            <a:ext cx="842472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иф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 детском экспериментир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но найти и сформулировать проблему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е исследование требует больших ресурсных и временных зат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8520" y="836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асскажи – и я забуду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покажи – и я запомню,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ай попробовать – и я пойму”.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Китайская пословиц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5024520" y="3789360"/>
            <a:ext cx="3808440" cy="2303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920880" y="549360"/>
            <a:ext cx="83455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ехнология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ает детя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ьные представления о различных сторонах изучаемого объекта, о его взаимоотношениях с другими объектами и средой обитания. Эта технология предоставляет ребёнку возможность самому найти ответы на все интересующие его вопросы, позволяет почувствовать себя исследовател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сурин\Desktop\biolog.jpg"/>
          <p:cNvPicPr/>
          <p:nvPr/>
        </p:nvPicPr>
        <p:blipFill>
          <a:blip r:embed="rId2"/>
          <a:stretch/>
        </p:blipFill>
        <p:spPr>
          <a:xfrm>
            <a:off x="1136520" y="3860640"/>
            <a:ext cx="2117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819000" y="479520"/>
            <a:ext cx="834552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ль исследовательской деятельности  -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дачи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Расширить и систематизировать элементарные естественнонаучные и экологические представления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Формировать навыки постановки элементарных опытов и умения делать выводы на основе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Развивать стремление к поисков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Способствовать овладению приемами практического взаимодействия с окружающими предмет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Развивать мыслительную активность, умение наблюдать, анализировать, делать вы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Воспитывать интерес к познанию окружающего ми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Стимулировать желание детей экспериментиро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9800" y="549360"/>
            <a:ext cx="8502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Методы и прием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организации исследовательской деятель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я и опы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ация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с правил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Основным методом детской исследовательской деятельности является экспериментирование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 достоинство этого метода – контакт ребенка с предметами или материалами, что дает детям реальное представление об объекте, его свойствах, качеств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1130400" y="836640"/>
            <a:ext cx="7878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руктура детского эксперимент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проблемы, которую необходимо разреши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полагание (что нужно сделать для решения проблем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вижение гипотез (поиск возможных путей реше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ка гипотез (сбор данных, реализация в действиях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олученного результата (подтвердилось или не подтвердилось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С ребятами проводили различные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пы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3" descr="IMG_20230208_160323.jpg"/>
          <p:cNvPicPr/>
          <p:nvPr/>
        </p:nvPicPr>
        <p:blipFill>
          <a:blip r:embed="rId1"/>
          <a:stretch/>
        </p:blipFill>
        <p:spPr>
          <a:xfrm>
            <a:off x="992160" y="1484280"/>
            <a:ext cx="343224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IMG_20230208_155935.jpg"/>
          <p:cNvPicPr/>
          <p:nvPr/>
        </p:nvPicPr>
        <p:blipFill>
          <a:blip r:embed="rId2"/>
          <a:stretch/>
        </p:blipFill>
        <p:spPr>
          <a:xfrm>
            <a:off x="5240160" y="1484280"/>
            <a:ext cx="3440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IMG_20230208_155445.jpg"/>
          <p:cNvPicPr/>
          <p:nvPr/>
        </p:nvPicPr>
        <p:blipFill>
          <a:blip r:embed="rId1"/>
          <a:stretch/>
        </p:blipFill>
        <p:spPr>
          <a:xfrm>
            <a:off x="1568520" y="1484280"/>
            <a:ext cx="343224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IMG_20230208_155745.jpg"/>
          <p:cNvPicPr/>
          <p:nvPr/>
        </p:nvPicPr>
        <p:blipFill>
          <a:blip r:embed="rId2"/>
          <a:stretch/>
        </p:blipFill>
        <p:spPr>
          <a:xfrm>
            <a:off x="5313240" y="1076400"/>
            <a:ext cx="36799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281240" y="1268280"/>
            <a:ext cx="34318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2"/>
          <a:stretch/>
        </p:blipFill>
        <p:spPr>
          <a:xfrm>
            <a:off x="5240160" y="1243080"/>
            <a:ext cx="35370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1" descr=""/>
          <p:cNvPicPr/>
          <p:nvPr/>
        </p:nvPicPr>
        <p:blipFill>
          <a:blip r:embed="rId1"/>
          <a:stretch/>
        </p:blipFill>
        <p:spPr>
          <a:xfrm>
            <a:off x="1496880" y="1197000"/>
            <a:ext cx="34322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294160" y="1158840"/>
            <a:ext cx="3440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musat</cp:lastModifiedBy>
  <dcterms:modified xsi:type="dcterms:W3CDTF">2023-03-13T11:41:08Z</dcterms:modified>
  <cp:revision>41</cp:revision>
  <dc:subject/>
  <dc:title>Слайд 1</dc:title>
</cp:coreProperties>
</file>