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1B9-D765-4A6B-AFE3-18CD435A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A73-DB23-44EC-9BB0-CC3F3854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792-7788-4D55-980F-B117EF13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1B8-A641-46D1-9E06-6DDC1ACD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593-B419-41E0-8773-35ECA5CC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C2E-D85B-4287-94B6-26A656CC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AD4-8FCE-4D61-AB11-058B6A4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CD2-4708-4FDB-90DE-FF51BCC5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ADD-6B2E-4B9C-899F-D1C931D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A89-965E-40BF-A276-277398E6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EC6-B573-4528-B5E2-5A2747FA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9D7-F1AC-4568-9CB8-21D07135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E0CF-B042-466C-9576-922D90B174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74880" y="1628640"/>
            <a:ext cx="8189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00000"/>
                </a:solidFill>
                <a:latin typeface="Times New Roman"/>
              </a:rPr>
              <a:t>Технология исследовательской деятельности в ДО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365120" y="765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униципальное бюджетное дошкольное образовательное учреждение «Центр развития ребёнка – детский сад «Ладошки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О «Барышский район» Ульянов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440160" y="587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Мусаткина Вероника Иван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ttp://mbdou3nov.ucoz.ru/colnyshko/1372844.gif"/>
          <p:cNvPicPr/>
          <p:nvPr/>
        </p:nvPicPr>
        <p:blipFill>
          <a:blip r:embed="rId1"/>
          <a:stretch/>
        </p:blipFill>
        <p:spPr>
          <a:xfrm>
            <a:off x="6753240" y="3645000"/>
            <a:ext cx="2141640" cy="288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сурин\Desktop\сова.jpg"/>
          <p:cNvPicPr/>
          <p:nvPr/>
        </p:nvPicPr>
        <p:blipFill>
          <a:blip r:embed="rId2"/>
          <a:stretch/>
        </p:blipFill>
        <p:spPr>
          <a:xfrm>
            <a:off x="1154160" y="765000"/>
            <a:ext cx="1498680" cy="1995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920880" y="476280"/>
            <a:ext cx="842472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иф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 детском экспериментиров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но найти и сформулировать проблему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е исследование требует больших ресурсных и временных затр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8520" y="836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“</a:t>
            </a: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Расскажи – и я забуду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покажи – и я запомню,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дай попробовать – и я пойму”.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(Китайская пословиц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5024520" y="3789360"/>
            <a:ext cx="3808440" cy="23036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2"/>
          <p:cNvSpPr/>
          <p:nvPr/>
        </p:nvSpPr>
        <p:spPr>
          <a:xfrm>
            <a:off x="920880" y="549360"/>
            <a:ext cx="83455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ехнология исследовательск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ает детя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ьные представления о различных сторонах изучаемого объекта, о его взаимоотношениях с другими объектами и средой обитания. Эта технология предоставляет ребёнку возможность самому найти ответы на все интересующие его вопросы, позволяет почувствовать себя исследовател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C:\Users\сурин\Desktop\biolog.jpg"/>
          <p:cNvPicPr/>
          <p:nvPr/>
        </p:nvPicPr>
        <p:blipFill>
          <a:blip r:embed="rId2"/>
          <a:stretch/>
        </p:blipFill>
        <p:spPr>
          <a:xfrm>
            <a:off x="1136520" y="3860640"/>
            <a:ext cx="2117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819000" y="479520"/>
            <a:ext cx="834552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Цель исследовательской деятельности  -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дачи исследовательской деятельнос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Расширить и систематизировать элементарные естественнонаучные и экологические представления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Формировать навыки постановки элементарных опытов и умения делать выводы на основе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Развивать стремление к поисков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Способствовать овладению приемами практического взаимодействия с окружающими предмет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Развивать мыслительную активность, умение наблюдать, анализировать, делать вы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Воспитывать интерес к познанию окружающего ми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*Стимулировать желание детей экспериментиров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39800" y="549360"/>
            <a:ext cx="8502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Методы и прием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организации исследовательской деятель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я и опы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ров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ация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ы с правил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Основным методом детской исследовательской деятельности является экспериментирование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е достоинство этого метода – контакт ребенка с предметами или материалами, что дает детям реальное представление об объекте, его свойствах, качеств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1130400" y="836640"/>
            <a:ext cx="7878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труктура детского эксперимент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новка проблемы, которую необходимо разреши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полагание (что нужно сделать для решения проблем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вижение гипотез (поиск возможных путей реше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рка гипотез (сбор данных, реализация в действиях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полученного результата (подтвердилось или не подтвердилось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ирование выв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С ребятами проводили различные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пы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3" descr="IMG_20230208_160323.jpg"/>
          <p:cNvPicPr/>
          <p:nvPr/>
        </p:nvPicPr>
        <p:blipFill>
          <a:blip r:embed="rId1"/>
          <a:stretch/>
        </p:blipFill>
        <p:spPr>
          <a:xfrm>
            <a:off x="992160" y="1484280"/>
            <a:ext cx="343224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IMG_20230208_155935.jpg"/>
          <p:cNvPicPr/>
          <p:nvPr/>
        </p:nvPicPr>
        <p:blipFill>
          <a:blip r:embed="rId2"/>
          <a:stretch/>
        </p:blipFill>
        <p:spPr>
          <a:xfrm>
            <a:off x="5240160" y="1484280"/>
            <a:ext cx="3440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IMG_20230208_155445.jpg"/>
          <p:cNvPicPr/>
          <p:nvPr/>
        </p:nvPicPr>
        <p:blipFill>
          <a:blip r:embed="rId1"/>
          <a:stretch/>
        </p:blipFill>
        <p:spPr>
          <a:xfrm>
            <a:off x="1568520" y="1484280"/>
            <a:ext cx="343224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IMG_20230208_155745.jpg"/>
          <p:cNvPicPr/>
          <p:nvPr/>
        </p:nvPicPr>
        <p:blipFill>
          <a:blip r:embed="rId2"/>
          <a:stretch/>
        </p:blipFill>
        <p:spPr>
          <a:xfrm>
            <a:off x="5313240" y="1076400"/>
            <a:ext cx="36799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4" descr=""/>
          <p:cNvPicPr/>
          <p:nvPr/>
        </p:nvPicPr>
        <p:blipFill>
          <a:blip r:embed="rId1"/>
          <a:stretch/>
        </p:blipFill>
        <p:spPr>
          <a:xfrm>
            <a:off x="1281240" y="1268280"/>
            <a:ext cx="34318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"/>
          <p:cNvPicPr/>
          <p:nvPr/>
        </p:nvPicPr>
        <p:blipFill>
          <a:blip r:embed="rId2"/>
          <a:stretch/>
        </p:blipFill>
        <p:spPr>
          <a:xfrm>
            <a:off x="5240160" y="1243080"/>
            <a:ext cx="35370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1" descr=""/>
          <p:cNvPicPr/>
          <p:nvPr/>
        </p:nvPicPr>
        <p:blipFill>
          <a:blip r:embed="rId1"/>
          <a:stretch/>
        </p:blipFill>
        <p:spPr>
          <a:xfrm>
            <a:off x="1496880" y="1197000"/>
            <a:ext cx="343224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2"/>
          <a:stretch/>
        </p:blipFill>
        <p:spPr>
          <a:xfrm>
            <a:off x="5294160" y="1158840"/>
            <a:ext cx="34401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musat</cp:lastModifiedBy>
  <dcterms:modified xsi:type="dcterms:W3CDTF">2023-03-13T11:41:08Z</dcterms:modified>
  <cp:revision>41</cp:revision>
  <dc:subject/>
  <dc:title>Слайд 1</dc:title>
</cp:coreProperties>
</file>